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A30-8CBB-4685-A665-1EAC098A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16E-AE99-462B-A347-D88E8406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9FE-D454-4334-9194-456B4305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9C18-1700-48BC-9504-BA6FAFC1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444D-501F-45B9-8BB7-0D4C70FA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CFD-AA12-4CB6-9F65-26B18B21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D56-3CC0-4DEF-A6B1-5511E6F5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6D0-7A68-4AC7-BA32-4115B238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8B9D-FDB2-49F1-AF43-D9962E0D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65A-EBE2-4370-9B15-38761C5F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1D73-5996-49C7-85A6-CFEEEB2B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E5C4-AC52-434C-BAF7-AAAB1A5F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67EA-9786-4B12-9999-0229E9C7A7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Georgia"/>
              </a:rPr>
              <a:t>Простые и сложные предлож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рок русского языка в 5 кла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Georgia"/>
              </a:rPr>
              <a:t>Закрепление материал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2571840"/>
            <a:ext cx="9144000" cy="3000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428760" y="1428840"/>
            <a:ext cx="84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alibri"/>
              </a:rPr>
              <a:t>Выпишите только сложные предложения, работая по алгоритму, расставьте знаки препин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33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Georgia"/>
              </a:rPr>
              <a:t>Задание №2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57200" y="1714680"/>
            <a:ext cx="8229600" cy="335736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785880" y="500076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Спишите предложения, расставьте знаки препинания, подчеркните однородные чле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229600" cy="4357440"/>
          </a:xfrm>
          <a:prstGeom prst="rect">
            <a:avLst/>
          </a:prstGeom>
          <a:ln w="0">
            <a:noFill/>
          </a:ln>
        </p:spPr>
      </p:pic>
      <p:sp>
        <p:nvSpPr>
          <p:cNvPr id="96" name="Заголовок 1"/>
          <p:cNvSpPr/>
          <p:nvPr/>
        </p:nvSpPr>
        <p:spPr>
          <a:xfrm>
            <a:off x="5716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Georgia"/>
              </a:rPr>
              <a:t>Задание №3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Georgia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33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Georgia"/>
              </a:rPr>
              <a:t>Синтаксис – это раздел науки о языке, изучающий предложение, словосочетание и текс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33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Georgia"/>
              </a:rPr>
              <a:t>По наличию грамматических основ предложение делится на простое и сложно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33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00"/>
                </a:solidFill>
                <a:latin typeface="Georgia"/>
              </a:rPr>
              <a:t>В простом предложении перед союзом И, соединяющим однородные члены, запятая не ставится, а в сложном предложении перед союзом И мы будем всегда ставить запятую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424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флексия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Чему я научился сегодня на уроке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Что я узнал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Что мне нужно повторить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Georgia"/>
              </a:rPr>
              <a:t>Цели и задач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помнить основные изученные термины по разделу «Синтаксис»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яснить, в чем же разница между сложным и простым предложения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ть отличать на письме сложное предложение от простого и использовать сложное предложение в собственной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Georgia"/>
              </a:rPr>
              <a:t>Блиц-опрос «Кто быстре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амая маленькая синтаксическая единица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ловосочетание, предложение изучает раздел науки..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ложение «Напишите правильно!» по цели..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длежащее и сказуемое – это..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предложении «Лесной запах усиливался» грамматической основой будет …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ложение, которое содержит в себе сообщение о чем-либо по цели высказывания является ..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просительное предложение содержит в себе..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Прямоугольник 3" descr=""/>
          <p:cNvPicPr/>
          <p:nvPr/>
        </p:nvPicPr>
        <p:blipFill>
          <a:blip r:embed="rId1"/>
          <a:stretch/>
        </p:blipFill>
        <p:spPr>
          <a:xfrm>
            <a:off x="2200320" y="1633680"/>
            <a:ext cx="3840120" cy="10490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4" descr=""/>
          <p:cNvPicPr/>
          <p:nvPr/>
        </p:nvPicPr>
        <p:blipFill>
          <a:blip r:embed="rId2"/>
          <a:stretch/>
        </p:blipFill>
        <p:spPr>
          <a:xfrm>
            <a:off x="3986280" y="1847880"/>
            <a:ext cx="2597040" cy="10476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3"/>
          <a:stretch/>
        </p:blipFill>
        <p:spPr>
          <a:xfrm>
            <a:off x="1554120" y="2706840"/>
            <a:ext cx="3621240" cy="104760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6" descr=""/>
          <p:cNvPicPr/>
          <p:nvPr/>
        </p:nvPicPr>
        <p:blipFill>
          <a:blip r:embed="rId4"/>
          <a:stretch/>
        </p:blipFill>
        <p:spPr>
          <a:xfrm>
            <a:off x="2779560" y="3060720"/>
            <a:ext cx="5870880" cy="105408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7" descr=""/>
          <p:cNvPicPr/>
          <p:nvPr/>
        </p:nvPicPr>
        <p:blipFill>
          <a:blip r:embed="rId5"/>
          <a:stretch/>
        </p:blipFill>
        <p:spPr>
          <a:xfrm>
            <a:off x="2494080" y="4059360"/>
            <a:ext cx="586872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8" descr=""/>
          <p:cNvPicPr/>
          <p:nvPr/>
        </p:nvPicPr>
        <p:blipFill>
          <a:blip r:embed="rId6"/>
          <a:stretch/>
        </p:blipFill>
        <p:spPr>
          <a:xfrm>
            <a:off x="2706840" y="4632480"/>
            <a:ext cx="5870520" cy="10490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9" descr=""/>
          <p:cNvPicPr/>
          <p:nvPr/>
        </p:nvPicPr>
        <p:blipFill>
          <a:blip r:embed="rId7"/>
          <a:stretch/>
        </p:blipFill>
        <p:spPr>
          <a:xfrm>
            <a:off x="1352520" y="5772240"/>
            <a:ext cx="58705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Georgia"/>
              </a:rPr>
              <a:t>Развиваем внимание 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Georgia"/>
              </a:rPr>
              <a:t>Играем в сл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71680" y="1571760"/>
            <a:ext cx="8229600" cy="1476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285840" y="321480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714240" y="3286080"/>
            <a:ext cx="5362560" cy="527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714240" y="3857760"/>
            <a:ext cx="6072480" cy="4888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7" descr=""/>
          <p:cNvPicPr/>
          <p:nvPr/>
        </p:nvPicPr>
        <p:blipFill>
          <a:blip r:embed="rId4"/>
          <a:stretch/>
        </p:blipFill>
        <p:spPr>
          <a:xfrm>
            <a:off x="176040" y="4170240"/>
            <a:ext cx="4767480" cy="145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5"/>
          <a:stretch/>
        </p:blipFill>
        <p:spPr>
          <a:xfrm>
            <a:off x="357120" y="1500120"/>
            <a:ext cx="8667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Georgia"/>
              </a:rPr>
              <a:t>У</a:t>
            </a:r>
            <a:r>
              <a:rPr b="1" lang="ru-RU" sz="4000" spc="-1" strike="noStrike">
                <a:solidFill>
                  <a:srgbClr val="00b050"/>
                </a:solidFill>
                <a:latin typeface="Georgia"/>
              </a:rPr>
              <a:t>стная синтаксическая минут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5305320" cy="185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571680" y="3000240"/>
            <a:ext cx="6786360" cy="128592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5" descr=""/>
          <p:cNvPicPr/>
          <p:nvPr/>
        </p:nvPicPr>
        <p:blipFill>
          <a:blip r:embed="rId3"/>
          <a:stretch/>
        </p:blipFill>
        <p:spPr>
          <a:xfrm>
            <a:off x="-365040" y="1646280"/>
            <a:ext cx="1298520" cy="113976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6" descr=""/>
          <p:cNvPicPr/>
          <p:nvPr/>
        </p:nvPicPr>
        <p:blipFill>
          <a:blip r:embed="rId4"/>
          <a:stretch/>
        </p:blipFill>
        <p:spPr>
          <a:xfrm>
            <a:off x="-365040" y="3005280"/>
            <a:ext cx="1298520" cy="1139760"/>
          </a:xfrm>
          <a:prstGeom prst="rect">
            <a:avLst/>
          </a:prstGeom>
          <a:ln w="0">
            <a:noFill/>
          </a:ln>
        </p:spPr>
      </p:pic>
      <p:sp>
        <p:nvSpPr>
          <p:cNvPr id="66" name="TextBox 8"/>
          <p:cNvSpPr/>
          <p:nvPr/>
        </p:nvSpPr>
        <p:spPr>
          <a:xfrm>
            <a:off x="428760" y="4500720"/>
            <a:ext cx="8358120" cy="228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сяду на камень </a:t>
            </a: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слушаю иволги пла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еверный ветер несет свинцовые облака</a:t>
            </a:r>
            <a:r>
              <a:rPr b="1" lang="ru-RU" sz="2800" spc="-1" strike="noStrike">
                <a:solidFill>
                  <a:srgbClr val="003300"/>
                </a:solidFill>
                <a:latin typeface="Georgia"/>
              </a:rPr>
              <a:t>, 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в воздухе появляются белые снежин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4572000" y="4929120"/>
            <a:ext cx="1357200" cy="1800"/>
          </a:xfrm>
          <a:prstGeom prst="line">
            <a:avLst/>
          </a:prstGeom>
          <a:ln w="442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11"/>
          <p:cNvSpPr/>
          <p:nvPr/>
        </p:nvSpPr>
        <p:spPr>
          <a:xfrm>
            <a:off x="4572000" y="5072040"/>
            <a:ext cx="1357200" cy="1440"/>
          </a:xfrm>
          <a:prstGeom prst="line">
            <a:avLst/>
          </a:prstGeom>
          <a:ln w="442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ая соединительная линия 13"/>
          <p:cNvSpPr/>
          <p:nvPr/>
        </p:nvSpPr>
        <p:spPr>
          <a:xfrm>
            <a:off x="1071720" y="5000760"/>
            <a:ext cx="1357200" cy="1440"/>
          </a:xfrm>
          <a:prstGeom prst="line">
            <a:avLst/>
          </a:prstGeom>
          <a:ln w="442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ая соединительная линия 14"/>
          <p:cNvSpPr/>
          <p:nvPr/>
        </p:nvSpPr>
        <p:spPr>
          <a:xfrm>
            <a:off x="1071720" y="5143680"/>
            <a:ext cx="1357200" cy="1440"/>
          </a:xfrm>
          <a:prstGeom prst="line">
            <a:avLst/>
          </a:prstGeom>
          <a:ln w="442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ая соединительная линия 15"/>
          <p:cNvSpPr/>
          <p:nvPr/>
        </p:nvSpPr>
        <p:spPr>
          <a:xfrm>
            <a:off x="2714760" y="5786280"/>
            <a:ext cx="928440" cy="1800"/>
          </a:xfrm>
          <a:prstGeom prst="line">
            <a:avLst/>
          </a:prstGeom>
          <a:ln w="442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17"/>
          <p:cNvSpPr/>
          <p:nvPr/>
        </p:nvSpPr>
        <p:spPr>
          <a:xfrm>
            <a:off x="3786120" y="5786280"/>
            <a:ext cx="928800" cy="1800"/>
          </a:xfrm>
          <a:prstGeom prst="line">
            <a:avLst/>
          </a:prstGeom>
          <a:ln w="442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9"/>
          <p:cNvSpPr/>
          <p:nvPr/>
        </p:nvSpPr>
        <p:spPr>
          <a:xfrm>
            <a:off x="3786120" y="5857920"/>
            <a:ext cx="928800" cy="1440"/>
          </a:xfrm>
          <a:prstGeom prst="line">
            <a:avLst/>
          </a:prstGeom>
          <a:ln w="442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20"/>
          <p:cNvSpPr/>
          <p:nvPr/>
        </p:nvSpPr>
        <p:spPr>
          <a:xfrm>
            <a:off x="2428920" y="6215040"/>
            <a:ext cx="1928880" cy="1440"/>
          </a:xfrm>
          <a:prstGeom prst="line">
            <a:avLst/>
          </a:prstGeom>
          <a:ln w="442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22"/>
          <p:cNvSpPr/>
          <p:nvPr/>
        </p:nvSpPr>
        <p:spPr>
          <a:xfrm>
            <a:off x="2428920" y="6357960"/>
            <a:ext cx="2000160" cy="1440"/>
          </a:xfrm>
          <a:prstGeom prst="line">
            <a:avLst/>
          </a:prstGeom>
          <a:ln w="442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24"/>
          <p:cNvSpPr/>
          <p:nvPr/>
        </p:nvSpPr>
        <p:spPr>
          <a:xfrm>
            <a:off x="5500800" y="6215040"/>
            <a:ext cx="1643040" cy="1440"/>
          </a:xfrm>
          <a:prstGeom prst="line">
            <a:avLst/>
          </a:prstGeom>
          <a:ln w="442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Georgia"/>
              </a:rPr>
              <a:t>Вывод по заданию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вое предложение простое, так как в нем </a:t>
            </a:r>
            <a:r>
              <a:rPr b="1" lang="ru-RU" sz="3000" spc="-1" strike="noStrike" u="sng">
                <a:solidFill>
                  <a:srgbClr val="003300"/>
                </a:solidFill>
                <a:uFillTx/>
                <a:latin typeface="Calibri"/>
              </a:rPr>
              <a:t>1 грамматическая основ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торое предложение сложное, так как состоит </a:t>
            </a:r>
            <a:r>
              <a:rPr b="1" lang="ru-RU" sz="3000" spc="-1" strike="noStrike" u="sng">
                <a:solidFill>
                  <a:srgbClr val="003300"/>
                </a:solidFill>
                <a:uFillTx/>
                <a:latin typeface="Calibri"/>
              </a:rPr>
              <a:t>из двух грамматических основ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объединенных союзом 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ервом предложении перед союзом И </a:t>
            </a:r>
            <a:r>
              <a:rPr b="1" lang="ru-RU" sz="3000" spc="-1" strike="noStrike">
                <a:solidFill>
                  <a:srgbClr val="003300"/>
                </a:solidFill>
                <a:latin typeface="Calibri"/>
              </a:rPr>
              <a:t>запятая не ставитс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так как он объединяет однородные сказуемые. А во втором </a:t>
            </a:r>
            <a:r>
              <a:rPr b="1" lang="ru-RU" sz="3000" spc="-1" strike="noStrike">
                <a:solidFill>
                  <a:srgbClr val="003300"/>
                </a:solidFill>
                <a:latin typeface="Calibri"/>
              </a:rPr>
              <a:t>ставится, так как там союз соединяет простые предложения в составе сложного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1000080" y="1428840"/>
            <a:ext cx="714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  <a:ea typeface="Arial"/>
              </a:rPr>
              <a:t>Физминут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Georgia"/>
              </a:rPr>
              <a:t>Теоретическая ба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Calibri"/>
              </a:rPr>
              <a:t>Простое предложение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это предложение, в котором одна грамматическая осно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00"/>
                </a:solidFill>
                <a:latin typeface="Calibri"/>
              </a:rPr>
              <a:t>Сложное предложение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это предложение, в котором не менее двух грамматических осн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стые предложения в составе сложного могут между собой объединяться при помощи союза – это </a:t>
            </a:r>
            <a:r>
              <a:rPr b="1" lang="ru-RU" sz="3000" spc="-1" strike="noStrike">
                <a:solidFill>
                  <a:srgbClr val="003300"/>
                </a:solidFill>
                <a:latin typeface="Calibri"/>
              </a:rPr>
              <a:t>союзно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сложное предложение. А могут объединяться без союза, то есть по смыслу – это </a:t>
            </a:r>
            <a:r>
              <a:rPr b="1" lang="ru-RU" sz="3000" spc="-1" strike="noStrike">
                <a:solidFill>
                  <a:srgbClr val="003300"/>
                </a:solidFill>
                <a:latin typeface="Calibri"/>
              </a:rPr>
              <a:t>бессоюзно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предлож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Calibri"/>
              </a:rPr>
              <a:t>Алгоритм работы над предложени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0004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ходим в предложении все главные чле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яем количество грамматических ос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перед нами сложное предложение, то ищем союз и делаем вывод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юзное оно или бессоюзно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трелка вниз 3"/>
          <p:cNvSpPr/>
          <p:nvPr/>
        </p:nvSpPr>
        <p:spPr>
          <a:xfrm>
            <a:off x="3571920" y="1928880"/>
            <a:ext cx="785880" cy="10713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трелка вниз 4"/>
          <p:cNvSpPr/>
          <p:nvPr/>
        </p:nvSpPr>
        <p:spPr>
          <a:xfrm>
            <a:off x="3571920" y="3571920"/>
            <a:ext cx="785880" cy="10713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трелка вниз 5"/>
          <p:cNvSpPr/>
          <p:nvPr/>
        </p:nvSpPr>
        <p:spPr>
          <a:xfrm>
            <a:off x="1357200" y="5643720"/>
            <a:ext cx="357480" cy="6429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трелка вниз 6"/>
          <p:cNvSpPr/>
          <p:nvPr/>
        </p:nvSpPr>
        <p:spPr>
          <a:xfrm>
            <a:off x="4786200" y="5643720"/>
            <a:ext cx="42876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ша</dc:creator>
  <dc:description/>
  <dc:language>en-US</dc:language>
  <cp:lastModifiedBy>Наташа</cp:lastModifiedBy>
  <dcterms:modified xsi:type="dcterms:W3CDTF">2018-12-02T12:57:43Z</dcterms:modified>
  <cp:revision>16</cp:revision>
  <dc:subject/>
  <dc:title>Простые и сложные предложения</dc:title>
</cp:coreProperties>
</file>