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79D-5386-45DA-A492-AF21CCE9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582-14F9-4E89-8271-18E536A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56C-B94B-4902-8CD2-5318189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C09-37AD-4E51-BE1B-932CD40B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FB9-68F1-4F7B-84F7-2FC1F6E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965-971A-4CF8-AD63-CF1C1C8C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058-0DDE-41C0-979A-AEF907BA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A82-1351-4DA6-81A6-3B9F3A5C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EAA-22A2-4B9B-B8EE-7EBDB44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3DC-B46F-47E4-8E8B-C68A5E9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74A-BD91-4B5B-A2B1-91BC1715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EA0-7837-4DC8-86A9-3FC6871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576-37E0-404A-A2FB-67789702E1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Простые и сложные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рок русского языка в 5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Закрепление материа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28760" y="14288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Выпишите только сложные предложения, работая по алгоритму, расставьте знаки препи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Задание №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57200" y="1714680"/>
            <a:ext cx="8229600" cy="3357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785880" y="50007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Спишите предложения, расставьте знаки препинания, подчеркните однородные чл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3574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Задание №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Синтаксис – это раздел науки о языке, изучающий предложение, словосочетание и тек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По наличию грамматических основ предложение делится на простое и сложн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В простом предложении перед союзом И, соединяющим однородные члены, запятая не ставится, а в сложном предложении перед союзом И мы будем всегда ставить запяту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Чему я научился сегодня на урок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я узнал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мне нужно повторить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 основные изученные термины по разделу «Синтаксис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в чем же разница между сложным и простым предлож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ть отличать на письме сложное предложение от простого и использовать сложное предложение в собствен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Блиц-опрос «Кто быстре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ая маленькая синтаксическая единиц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овосочетание, предложение изучает раздел науки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ложение «Напишите правильно!» по цели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лежащее и сказуемое – это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редложении «Лесной запах усиливался» грамматической основой будет …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ложение, которое содержит в себе сообщение о чем-либо по цели высказывания является 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просительное предложение содержит в себе..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2200320" y="1633680"/>
            <a:ext cx="3840120" cy="1049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3986280" y="1847880"/>
            <a:ext cx="25970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554120" y="2706840"/>
            <a:ext cx="362124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2779560" y="3060720"/>
            <a:ext cx="5870880" cy="1054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5"/>
          <a:stretch/>
        </p:blipFill>
        <p:spPr>
          <a:xfrm>
            <a:off x="2494080" y="4059360"/>
            <a:ext cx="58687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" descr=""/>
          <p:cNvPicPr/>
          <p:nvPr/>
        </p:nvPicPr>
        <p:blipFill>
          <a:blip r:embed="rId6"/>
          <a:stretch/>
        </p:blipFill>
        <p:spPr>
          <a:xfrm>
            <a:off x="2706840" y="4632480"/>
            <a:ext cx="5870520" cy="1049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7"/>
          <a:stretch/>
        </p:blipFill>
        <p:spPr>
          <a:xfrm>
            <a:off x="1352520" y="5772240"/>
            <a:ext cx="5870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Развиваем внимание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Играем в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822960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85840" y="32148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536256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714240" y="3857760"/>
            <a:ext cx="6072480" cy="488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176040" y="4170240"/>
            <a:ext cx="4767480" cy="14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357120" y="1500120"/>
            <a:ext cx="8667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Georgi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стная синтаксическая мину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5305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71680" y="3000240"/>
            <a:ext cx="678636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-365040" y="1646280"/>
            <a:ext cx="1298520" cy="11397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4"/>
          <a:stretch/>
        </p:blipFill>
        <p:spPr>
          <a:xfrm>
            <a:off x="-365040" y="3005280"/>
            <a:ext cx="1298520" cy="1139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428760" y="4500720"/>
            <a:ext cx="8358120" cy="228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яду на камень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ушаю иволги пл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верный ветер несет свинцовые облака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, 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оздухе появляются белые снежи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4572000" y="4929120"/>
            <a:ext cx="135720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>
            <a:off x="4572000" y="507204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3"/>
          <p:cNvSpPr/>
          <p:nvPr/>
        </p:nvSpPr>
        <p:spPr>
          <a:xfrm>
            <a:off x="1071720" y="500076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1071720" y="514368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15"/>
          <p:cNvSpPr/>
          <p:nvPr/>
        </p:nvSpPr>
        <p:spPr>
          <a:xfrm>
            <a:off x="2714760" y="5786280"/>
            <a:ext cx="92844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7"/>
          <p:cNvSpPr/>
          <p:nvPr/>
        </p:nvSpPr>
        <p:spPr>
          <a:xfrm>
            <a:off x="3786120" y="5786280"/>
            <a:ext cx="92880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9"/>
          <p:cNvSpPr/>
          <p:nvPr/>
        </p:nvSpPr>
        <p:spPr>
          <a:xfrm>
            <a:off x="3786120" y="5857920"/>
            <a:ext cx="9288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20"/>
          <p:cNvSpPr/>
          <p:nvPr/>
        </p:nvSpPr>
        <p:spPr>
          <a:xfrm>
            <a:off x="2428920" y="6215040"/>
            <a:ext cx="192888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22"/>
          <p:cNvSpPr/>
          <p:nvPr/>
        </p:nvSpPr>
        <p:spPr>
          <a:xfrm>
            <a:off x="2428920" y="6357960"/>
            <a:ext cx="200016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4"/>
          <p:cNvSpPr/>
          <p:nvPr/>
        </p:nvSpPr>
        <p:spPr>
          <a:xfrm>
            <a:off x="5500800" y="6215040"/>
            <a:ext cx="164304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Вывод по заданию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е предложение простое, так как в нем </a:t>
            </a:r>
            <a:r>
              <a:rPr b="1" lang="ru-RU" sz="3000" spc="-1" strike="noStrike" u="sng">
                <a:solidFill>
                  <a:srgbClr val="003300"/>
                </a:solidFill>
                <a:uFillTx/>
                <a:latin typeface="Calibri"/>
              </a:rPr>
              <a:t>1 грамматическая осно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ое предложение сложное, так как состоит </a:t>
            </a:r>
            <a:r>
              <a:rPr b="1" lang="ru-RU" sz="3000" spc="-1" strike="noStrike" u="sng">
                <a:solidFill>
                  <a:srgbClr val="003300"/>
                </a:solidFill>
                <a:uFillTx/>
                <a:latin typeface="Calibri"/>
              </a:rPr>
              <a:t>из двух грамматических осно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объединенных союзом 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ом предложении перед союзом И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запятая не стави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ак как он объединяет однородные сказуемые. А во втором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тавится, так как там союз соединяет простые предложения в составе сложног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000080" y="14288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Теоретическ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Простое предлож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предложение, в котором одна грамматическая осн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ложное предлож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предложение, в котором не менее двух грамматических ос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тые предложения в составе сложного могут между собой объединяться при помощи союза – это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оюзно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ложное предложение. А могут объединяться без союза, то есть по смыслу – это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бессоюзно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едлож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alibri"/>
              </a:rPr>
              <a:t>Алгоритм работы над предло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м в предложении все главные чл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м количество грамматических ос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еред нами сложное предложение, то ищем союз и делаем вывод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юзное оно или бессоюзно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3"/>
          <p:cNvSpPr/>
          <p:nvPr/>
        </p:nvSpPr>
        <p:spPr>
          <a:xfrm>
            <a:off x="3571920" y="1928880"/>
            <a:ext cx="785880" cy="1071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низ 4"/>
          <p:cNvSpPr/>
          <p:nvPr/>
        </p:nvSpPr>
        <p:spPr>
          <a:xfrm>
            <a:off x="3571920" y="3571920"/>
            <a:ext cx="785880" cy="1071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низ 5"/>
          <p:cNvSpPr/>
          <p:nvPr/>
        </p:nvSpPr>
        <p:spPr>
          <a:xfrm>
            <a:off x="1357200" y="564372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низ 6"/>
          <p:cNvSpPr/>
          <p:nvPr/>
        </p:nvSpPr>
        <p:spPr>
          <a:xfrm>
            <a:off x="4786200" y="564372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8-12-02T12:57:43Z</dcterms:modified>
  <cp:revision>16</cp:revision>
  <dc:subject/>
  <dc:title>Простые и сложные предложения</dc:title>
</cp:coreProperties>
</file>