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812-6632-4C6E-8F49-322071EC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84C-E81C-4816-8101-2D5CA60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9BA-82C2-4362-94F6-F9CC6FAC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B01-20F0-4512-A98B-1072A20A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FFBF-5A12-4876-9BB4-639145B2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D1FC-53BA-4755-B394-FBD9B225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BFAD-1960-41EA-8353-9DB56302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AA39-0E28-406C-8C39-A6630E72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0DAF-AB9C-4159-BC92-06F89CB0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4E05-66F7-4DA8-B2F2-A66AA8B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94A4-4ECB-4A33-8660-9B79B60F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520-F0EE-411C-A822-9C7781FB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D260-9B49-464C-A14A-21BD9E3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0272-7B72-411A-A52D-84E4CABA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E62D-281E-4334-A280-78DC59D8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ABAD-FA55-4113-912E-FBB914EF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292C-B68C-4D3E-913A-00B6CD96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E82-A325-4F52-86AC-C599DD33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0BC-EAD8-4DCC-AC59-ABB6FB88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61B-3988-4B28-9FDE-C86597BB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687-4978-4BA2-B221-E9974C3F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72C-2524-4105-9D58-668E3365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423-7C22-4531-8A3C-647C3FCD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B9C-6E4D-43BA-AA9D-F72C2C66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7529-343A-493A-A921-2FD34FF8BA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8213-9A2F-4F16-A30D-5914BF8C6C7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ЛАТОНОВ Андрей Платонович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(1899-195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латонов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Климентов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ндрей Платонович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4" descr="0b7e72de03e640cc8cb0ec37377e2ae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big"/>
          <p:cNvPicPr/>
          <p:nvPr/>
        </p:nvPicPr>
        <p:blipFill>
          <a:blip r:embed="rId1"/>
          <a:stretch/>
        </p:blipFill>
        <p:spPr>
          <a:xfrm>
            <a:off x="6443640" y="2060640"/>
            <a:ext cx="2881440" cy="4219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?id=24634395&amp;tov=2"/>
          <p:cNvPicPr/>
          <p:nvPr/>
        </p:nvPicPr>
        <p:blipFill>
          <a:blip r:embed="rId2"/>
          <a:stretch/>
        </p:blipFill>
        <p:spPr>
          <a:xfrm>
            <a:off x="3348000" y="260280"/>
            <a:ext cx="2266920" cy="285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in01_s"/>
          <p:cNvPicPr/>
          <p:nvPr/>
        </p:nvPicPr>
        <p:blipFill>
          <a:blip r:embed="rId3"/>
          <a:stretch/>
        </p:blipFill>
        <p:spPr>
          <a:xfrm>
            <a:off x="0" y="-316080"/>
            <a:ext cx="3147840" cy="494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0b7e72de03e640cc8cb0ec37377e2ae1_full"/>
          <p:cNvPicPr/>
          <p:nvPr/>
        </p:nvPicPr>
        <p:blipFill>
          <a:blip r:embed="rId4"/>
          <a:stretch/>
        </p:blipFill>
        <p:spPr>
          <a:xfrm>
            <a:off x="2556000" y="3475080"/>
            <a:ext cx="3479760" cy="3382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Начало пути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ился в многодетной семье слесаря железнодорожных мастерских. Учился в церковно-приходской школе, затем в городской. С 14 лет начинает овладение рабочими профессиями (слесаря, литейщика, помощника машиниста паровоза) — нужно было поддерживать семью. Мотив паровоза прошел через все его творчество, а трудное детство описано в рассказах о детях. Рано проявляет интерес к техническому изобретательству и одновременно — к литературе. Первая проба пера — юношеские стихи, вошедшие в его поэтический сборник «Голубая глубина» (1922). В 1918-1921 годах активно занимается журналистикой, совмещая ее с работой на железной дороге и учебой в Воронежском политехническом институт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61680" y="404640"/>
            <a:ext cx="848196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усский писатель. В прозе Платонова мир предстает как противоречивая, часто трагическая целостность человеческого и природного бытия: повести «Епифанские шлюзы» (1927), «Город Градов» (1928), «Река Потудань» (1937). В романах «Чевенгур» (опубликован в 1972, в России — 1988), «Счастливая Москва» (не окончен, опубликован в 1991), повести «Котлован» (опубликована в 1969), «Ювенильное море» (опубликована в 1979; в России обе — в 1987), «Джан» (опубликована в 1964) — неприятие навязываемых форм социалистического переустройства жизни. Своеобразие стиля Платонова определяют «косноязычие», «шероховатость» языка, сопрягающиеся в ткани повествования с отвлеченными понятиями и метафорическими образам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Рабочий-интеллигент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181440" y="907920"/>
            <a:ext cx="932508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оронеж.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22-1926 годах Платонов работает мелиоратором в Воронежской губернии и на строительстве электростанции. Он увлечен делом преобразования хозяйства, однако упорно продолжает заниматься литературой. Печатает публицистические статьи, рассказы и стихи в воронежских газетах и журналах и даже в московском журнале «Кузница». В публицистике Платонов этих лет — мечтатель-максималист, борец со стихийными силами в природе и жизни, призывающий к скорейшему превращению России «в страну мысли и металла», к подавлению влечений пола как препятствию на пути ко всеобщему братству. Вместе с тем, напряженные философско-этические искания Платонова этих лет (на него оказали влияния идеи А. Богданова, К. Э. Циолковского, Н. Ф. Федорова, В. В. Розанова) не позволяют ему слиться с пролетарской литературой. Пишет рассказы на темы деревенской жизни («В звездной пустыне», 1921, «Чульдик и Епишка», 1920), а также научно-фантастические рассказы и повести («Потомки солнца», 1922, «Маркун», 1922, «Лунная бомба», 1926), в которых вера в технический прогресс соединяется с утопическим идеализмом ремесленника-изобрета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т «дела» к «слову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27 году Платонов оставляет службу и перебирается с семьей в Москву: писатель в Платонове победил инженера. Вскоре появляется повесть «Епифанские шлюзы», давшая название сборнику рассказов (1927)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этой повести в экспрессивно-сгущенной символике сюжета и языка дана острая метафора трагического и жестокого облика России, обреченность в ней рациональных начинаний. Платонов подвергает в это время критической ревизии не только свои социальные утопические воззрения, но и радикализм в сфере пол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сатирической утопии-памфлете «Антисексус» (1928) высмеивается идея отказа от плотской любви в пользу общественной деятельности, а также документально-монтажная литература левы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этот период кристаллизуется поэтика Платонова: спрямленность в выражении идеи уступает место двойственности авторской позиции; устремленность в будущее сменяется поисками глубинных смыслов жизни — «вещества существования»; герои — одинокие изобретатели, странники, раздумчивые чудаки. Складывается неповторимая языковая фактура: стиль мастера основан на поэтических приемах и словообразовательном механизме языка, выявляющем скрытое, первичное значение слова. Выразительное косноязычие Платонова не имеет прецедентов в русской литературе, отчасти опираясь на традиции символизма, а также перерабатывая опыт авангарда и газетную лексику своего времен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овая поэтика нашла свое выражение в повестях «Ямская слобода» (1927), в которой Платонов продолжил деревенскую тему ранней прозы, «Город Градов» (1928) — сатире на советскую бюрократию, «Сокровенный человек» (1928) о приключениях «размышляющего пролетария» в годы гражданской войны. В этой прозе Платонов уходит от декларативно-иллюстративного представления утопической идеи к напряженному поиску алгоритма существования, подчиненного многоуровневому единству человека и извечных проблем бытия. Граница между внутренним миром человека и внешней средой, между живой и неживой природой становится проницаемой, понятия и вещи сближаются, а суть жизни проявляется на грани ее исчезновени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Андрей Платонов с дочерь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5581080" y="18900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дрей Платонов с дочерью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Андрей Платонов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platonov1923"/>
          <p:cNvPicPr/>
          <p:nvPr/>
        </p:nvPicPr>
        <p:blipFill>
          <a:blip r:embed="rId2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1260360" y="630864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дрей Платонов 1923 го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Андрей Платонов"/>
          <p:cNvPicPr/>
          <p:nvPr/>
        </p:nvPicPr>
        <p:blipFill>
          <a:blip r:embed="rId1"/>
          <a:stretch/>
        </p:blipFill>
        <p:spPr>
          <a:xfrm>
            <a:off x="20509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Героика ветхост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тканные из парадоксов угловатые герои, язык, сюжеты Платонова с трудом обретали признание современников. Успех публикаций в журналах «Красная новь», «Новый мир» вскоре сменяется критическими отзывами, редакторскими купюрами и отказами. Положение Платонова усугубляется бытовыми неурядицами: семья долго скитается по временным квартирам, пока в 1931 не поселяется во флигеле особняка на Тверском бульваре (ныне Литературный институт им.Герцена). 1929 год, год «великого перелома», принесший ужесточения в области литературной политики, сделал атмосферу вокруг Платонова еще более отчужденной. После публикации очерка «Че-Че-О» и особенно рассказа «Усомнившийся Макар» (1929) Платонов был обвинен в анархо-индивидуализме. Писателя перестают печатать — не помогает даже обращение к Горьком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6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28 Платонов завершает работу над романом «Чевенгур», однако целиком он увидел свет лишь в 1972 в Париже. Роман представляет собой многоплановое повествование, в котором лирика и сатира переплетены с философскими построениями и политическими аллюзиями. В основе сюжета — описание возникновения и гибели города-коммуны Чевенгур, куда приезжают после ряда приключений герои романа, сын утопившегося рыбака Саша Дванов и Дон Кихот революции Копенкин. В Чевенгурской коммуне «кончилась история» — очистив город от буржуев и «остаточной сволочи», уничтожив хозяйство, люди питаются дарами земли и солнца. Напавшие на город солдаты приносят окончательную гибель обитателям города. Роман пронизан двойственностью: коммуна — и идеал, и предмет осмеяния; федоровские воззвания к братству людей, воскрешению предков, предосудительности проявлений пола, которым Платонов был привержен в молодости, здесь иронически остраняются. Поэтика в «Чевенгуре» получает дальнейшее развитие: сюжет выражен неявно, речь персонажей и рассказчика не различаются; язык «корявый и афористически изысканный» (Е. Яблоков). Мерцание смыслов создает особую экспрессивно-вязкую среду неразрешенного трагического конфликта как основы существования. Этот конфликт универсален и не сводим лишь к разрыву между идеалом и практическим устройством жизни, к политическим и историческим реалиям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ридцатые год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тридцатые годы с наибольшей силой проявляется талант Платонова. В 1930 он создает один из своих главных шедевров — повесть «Котлован» (впервые опубликована в СССР в 1987) — социальную антиутопию на темы индустриализации, трагико-гротескное описание краха идей коммунизма (вместо дворца выстроена коллективная могила). Платонов «подчинил себя языку эпохи» (И. Бродский), напряженная фактура которого определила тему разрыва идеала с действительностью, мотива истончения существования, щемяще-трагической отчужденности каждого живого существ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днако социальная атмосфера накалялась. На публикацию «бедняцкой хроники» «Впрок» (1931) — иронического описания коллективизации — следует резкая реакция Сталина, и Платонова перестают печатать. Даже рассказ на антифашистскую тему «Мусорный ветер» (1934) был осужден за гротеск и «ирреальность содержания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середине 1930-х Платонов — писатель, пишущий главным образом в стол. Вместе с тем, обилие замыслов переполняет писателя. Он напряженно работает. В это время им были написаны роман «Счастливая Москва», пьеса «Голос отца», статьи о литературе (о Пушкине, Ахматовой, Хемингуэе, Чапеке, Грине, Паустовском). После создания близкой по проблематике к «Чевенгуру» и «Котловану» повести «Ювенильное море» (опубликована в 1986) и пьесы «Шарманка» писатель постепенно удаляется от масштабных социальных полотен в мир душевных переживаний и любовных драм (рассказы «Река Потудань», «Фро», «Афродита», «Глиняный дом в уездном саду»), в которых усиливается психологическая моделировка персонажей; ироническое отношение к любви уступает место глубине психологического прочтения. Замечательны рассказы о детях («Семен», 1936) — в них сопрягаются героика «отдельного существования» с состраданием к сиротству человечеств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33-1935 после поездки в Туркмению Платонов создает повесть «Джан». Ее герой, ведомый прометеевской страстью спасти свой вымирающий в пустыне народ, хочет научить людей счастливой жизни в коммуне, но терпит неудачу. Лирический и социально-утопический пласты соединились здесь в единое целое. Яркость фразы и слова, звукопись и ритм делают прозу Платонова 1930-х годов экспрессивно-насыщенно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37 Платонову удается опубликовать сборник рассказов «Река Потудань», который подвергся уничтожительной критике, Платонов снова в опале, его положение отягощается еще одним событием — в 1938 по сфабрикованному делу был арестован единственный сын Платонова, пятнадцатилетний подросток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Рисунок Платонова 40-е го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050520" y="630864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 Платонова 40-е год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ойна и послевоенное творчество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годы войны Платонов был фронтовым корреспондентом газеты «Красная звезда». В созданных им рассказах о войне сохраняется присущая Платонову неоднозначность оценок, атмосфера парадоксальности бытия, внутреннего конфликта человека и мира. Рассказ «Семья Ивановых» («Возвращение») вызвал резкую критику за «клеветничество» в адрес советской семь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Рисунок Куприянова к книге Платонова &quot;Июльская гроза&quot;"/>
          <p:cNvPicPr/>
          <p:nvPr/>
        </p:nvPicPr>
        <p:blipFill>
          <a:blip r:embed="rId1"/>
          <a:stretch/>
        </p:blipFill>
        <p:spPr>
          <a:xfrm>
            <a:off x="1908000" y="0"/>
            <a:ext cx="57596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349440" y="62164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. В. Куприянова к книге Платонов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"Июльская гроз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famil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-5040" y="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. А. Платонова, А. П. Платонов с дочерью Машей Зима 1950-51 г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последние годы жизни писатель, на которого обрушивается новая волна нападок, вынужден искать обходных путей — он пишет вариации русских и башкирских народных сказок, работает над сатирической пьесой на тему американской действительности (с аллюзиями на СССР) «Ноев ковчег» (не закончена). Однако приспособиться к послевоенному террору Платонову было не дано: он вскоре умер от туберкулеза, которым заразился от сына, выпущенного из лагер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Пред нами солнце, и в нас рассвет,</a:t>
            </a:r>
            <a:br>
              <a:rPr sz="3200"/>
            </a:b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Все реки светлые до дна,</a:t>
            </a:r>
            <a:br>
              <a:rPr sz="3200"/>
            </a:b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И в нас восходит светлевший свет,</a:t>
            </a:r>
            <a:br>
              <a:rPr sz="3200"/>
            </a:b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Ничья не будет душа одна.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Это строчки из стихотворения «Мысль» из сборника стихов «Голубая глубина» 1922 года - поэтического сборника Андрея Платоновича Климентова, известного в русской литературе как Андрей Платонов. Книга была замечена В. Брюсовым, выразившим надежду, что «прекрасные обещания молодого пролетарского поэта дадут в будущем достойное осуществление»…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 1980-х годов яркая самобытность мастера вызвала огромную волну интереса во всем мире. Большая часть произведений Платонова все еще находится в рукописях. Платонов — художник победившей музы: «темная воля к творчеству» и сокрушительная мощь слова многократно перекрыли узость времени и идей, которым он был предан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7" descr="vrn-plt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 (303x448, 86Kb)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2880" y="47242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ронеж памятник Андрею Платонову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Picture 7" descr="платонов 1 (293x448, 6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Не без иронии в анкете Всероссийского съезда пролетарских писателей в 1920 году Андрей Платонов, отвечая на вопрос — какие писатели оказали на вас влияние, напишет: «никакие», а на вопрос - к каким литературным направлениям сочувствует или принадлежите, ответит: «никаким, имею свое»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В 2004 году исполнилось 105 лет со дня рождения русского писателя, вольнодумца Андрея Платонова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латонов - автор двух романов («Чевенгур», «Счастливая Москва»), девяти повестей, среди которых такие шедевры, как «Сокровенный человек», «Котлован», «Джан», сатирических рассказов («Усомнившийся Макар»), новелл о любви («Фро», «Река Потудань») и детях («Корова», «Июльская гроза»), автор четырех книг рассказов о войне, написанных на фронте, и двух книг сказок, драматург, работавший в жанре лирической комедии («Шарманка») и трагедии («14 Красных Избушек»), киносценарист, оригинальный литературный критик, создавший одну из странных и парадоксальных историй русской и западноевропейской литературы (книга статей «Размышления читателя»), Андрей Платонов стал по-настоящему известным для российского читателя только в 60-ые годы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4000" cy="478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 105-летию со дня рождения Андрея Платонова телеканал «Культура» показал: 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авторский фильм Андрея Битова «Преодоление зла». Жизнь Андрея Платонова была недолгой и нелегкой, а слава пришла к нему лишь после смерти (смотрите 1 сентября 2004 года в 21.10);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художественный фильм «Одинокий голос человека» по мотивам произведений Андрея Платонова «Река Потудань» и «Происхождение мастера».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Режиссер Александр Сокуров. Сценарий Юрий Арабов. Этот фильм - первый опыт Александра Сокурова в игровом кино. Картина Сокурова не была засчитана руководством института (ВГИКа) в качестве диплома. Фильм получил приз жюри "Бронзовый леопард" МКФ в Локарно-87. Сокуров сказал о работе над этим фильмом: "Не могу не вспомнить то ощущение счастья, которое испытал, посмотрев рабочий материал фильма "Одинокий голос человека» (1 сентября 2004 года в 22.05). </a:t>
            </a:r>
            <a:br>
              <a:rPr sz="2400"/>
            </a:b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Андрей Платонов"/>
          <p:cNvPicPr/>
          <p:nvPr/>
        </p:nvPicPr>
        <p:blipFill>
          <a:blip r:embed="rId1"/>
          <a:stretch/>
        </p:blipFill>
        <p:spPr>
          <a:xfrm>
            <a:off x="183528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41ba497db7a4485c6ec6804d494b2415"/>
          <p:cNvPicPr/>
          <p:nvPr/>
        </p:nvPicPr>
        <p:blipFill>
          <a:blip r:embed="rId1"/>
          <a:stretch/>
        </p:blipFill>
        <p:spPr>
          <a:xfrm>
            <a:off x="155520" y="46080"/>
            <a:ext cx="355284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77076"/>
          <p:cNvPicPr/>
          <p:nvPr/>
        </p:nvPicPr>
        <p:blipFill>
          <a:blip r:embed="rId2"/>
          <a:stretch/>
        </p:blipFill>
        <p:spPr>
          <a:xfrm>
            <a:off x="6156360" y="-387360"/>
            <a:ext cx="2700360" cy="446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1000476333"/>
          <p:cNvPicPr/>
          <p:nvPr/>
        </p:nvPicPr>
        <p:blipFill>
          <a:blip r:embed="rId3"/>
          <a:stretch/>
        </p:blipFill>
        <p:spPr>
          <a:xfrm>
            <a:off x="3419640" y="3141720"/>
            <a:ext cx="2592360" cy="371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3345"/>
          <p:cNvPicPr/>
          <p:nvPr/>
        </p:nvPicPr>
        <p:blipFill>
          <a:blip r:embed="rId4"/>
          <a:stretch/>
        </p:blipFill>
        <p:spPr>
          <a:xfrm>
            <a:off x="6588000" y="4192560"/>
            <a:ext cx="2306880" cy="266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Е. Замятин, А. Платонов Е. Замятин. Уездное. Мы. А. Платонов. Ювенильное море. Котлован"/>
          <p:cNvPicPr/>
          <p:nvPr/>
        </p:nvPicPr>
        <p:blipFill>
          <a:blip r:embed="rId5"/>
          <a:stretch/>
        </p:blipFill>
        <p:spPr>
          <a:xfrm>
            <a:off x="4067280" y="0"/>
            <a:ext cx="1944720" cy="297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schastlivaya_moskva"/>
          <p:cNvPicPr/>
          <p:nvPr/>
        </p:nvPicPr>
        <p:blipFill>
          <a:blip r:embed="rId6"/>
          <a:stretch/>
        </p:blipFill>
        <p:spPr>
          <a:xfrm>
            <a:off x="0" y="2708280"/>
            <a:ext cx="3132000" cy="414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" descr="Club_91084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Nazare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1:11:50Z</dcterms:created>
  <dc:creator>Алёна</dc:creator>
  <dc:description/>
  <dc:language>en-US</dc:language>
  <cp:lastModifiedBy>Наташа</cp:lastModifiedBy>
  <dcterms:modified xsi:type="dcterms:W3CDTF">2017-04-26T15:43:16Z</dcterms:modified>
  <cp:revision>8</cp:revision>
  <dc:subject/>
  <dc:title>ПЛАТОНОВ Андрей Платонович (1899-1951),</dc:title>
</cp:coreProperties>
</file>