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jpeg" ContentType="image/jpeg"/>
  <Override PartName="/ppt/media/drumroll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C04-1C38-4A55-A635-253A20E2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B72-E31B-4F8E-9ED0-99BADD0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9AA-9E8F-4AA9-8EF2-5FD1753E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840-D893-4B47-A1EE-E18DBB1E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6F16-8B8B-42B0-AA5E-9BC6FC3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F80-4869-4848-B7D9-0ED1D6D4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5B08-E0B1-481D-9BBA-84E9079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AB3-897B-4F1D-B677-8AA957BF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3608-D483-453F-9FE1-11EEEC59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6870-4969-46CE-B4CA-C912B21E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DFE-9E76-4012-84CD-8FE810AE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6D5-5588-42EE-84E8-7FAD545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209C-7F9A-49EE-A52E-119628AE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11B8-1DB1-4FC2-913F-3F7AC7E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89A5-76C5-4A3B-B907-EFA8A36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4AA1-76F5-40F8-A5FA-C9C9FF3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C1F0-CDDF-4FEA-9F56-D038245A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DD9-B5D0-44DA-A4D7-604ED6B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127-3C1C-457E-BDD1-F4915E5A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CC2-F008-4527-BFA1-D5525B8B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6A0-6E7C-404E-9F5D-1791475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296-BC4F-442F-B5A2-FB41F6F6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41C-61FD-45E7-BD8E-CCF571A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FDF-3FA7-40B6-B649-07FBC1A2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6E07-F4E6-4B60-B2C7-48F5A84C06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4BA1-27CB-42F9-B12F-28708692BA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8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9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0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1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0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680000" cy="4079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ревнем Риме их называли «невиданно вкусные оранжевые армянские яблоки. Что это за раст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1" dur="60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60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0"/>
                            </p:stCondLst>
                            <p:childTnLst>
                              <p:par>
                                <p:cTn id="5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лся жёлтый бок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я не колобо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з мягкого я тест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ти – не тронусь с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7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40"/>
          <p:cNvSpPr/>
          <p:nvPr/>
        </p:nvSpPr>
        <p:spPr>
          <a:xfrm>
            <a:off x="684360" y="6093000"/>
            <a:ext cx="5759280" cy="43164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1" descr="C:\Users\Пользователь\Desktop\ALTIN-RENGI-SALGAM-TOHUMU-500-TOHUM__77832817_0.jpg"/>
          <p:cNvPicPr/>
          <p:nvPr/>
        </p:nvPicPr>
        <p:blipFill>
          <a:blip r:embed="rId26"/>
          <a:stretch/>
        </p:blipFill>
        <p:spPr>
          <a:xfrm>
            <a:off x="2050920" y="2600280"/>
            <a:ext cx="2737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4" dur="60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40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41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60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шнурочке-стебелёч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адких ягод гру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ое блюд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1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40"/>
          <p:cNvSpPr/>
          <p:nvPr/>
        </p:nvSpPr>
        <p:spPr>
          <a:xfrm>
            <a:off x="826920" y="5516640"/>
            <a:ext cx="5759640" cy="720720"/>
          </a:xfrm>
          <a:prstGeom prst="wedgeRectCallout">
            <a:avLst>
              <a:gd name="adj1" fmla="val -43745"/>
              <a:gd name="adj2" fmla="val 654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1" descr="C:\Users\Пользователь\Desktop\prodam-sazhency-vinograda-zelenye--7c5c-1334816235069077-1-big.jpg"/>
          <p:cNvPicPr/>
          <p:nvPr/>
        </p:nvPicPr>
        <p:blipFill>
          <a:blip r:embed="rId26"/>
          <a:stretch/>
        </p:blipFill>
        <p:spPr>
          <a:xfrm>
            <a:off x="1258920" y="2349360"/>
            <a:ext cx="48099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2" dur="6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78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79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60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орвали край рубашки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з посыпались стекля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7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755640" y="5661000"/>
            <a:ext cx="5759640" cy="647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42" descr="C:\Users\Пользователь\Desktop\4tB0iCunJ74.jpg"/>
          <p:cNvPicPr/>
          <p:nvPr/>
        </p:nvPicPr>
        <p:blipFill>
          <a:blip r:embed="rId26"/>
          <a:stretch/>
        </p:blipFill>
        <p:spPr>
          <a:xfrm>
            <a:off x="1187280" y="1916280"/>
            <a:ext cx="45370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10" dur="60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616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17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60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0"/>
                            </p:stCondLst>
                            <p:childTnLst>
                              <p:par>
                                <p:cTn id="6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ое поле (автор неизвесте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eti-online.com/zagadki/zagadki-ovoschi-frukt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kidwelcome.ru/zagadki-dlya-detei/pro-fruk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му нужно есть овощи и фрук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55640" y="5516640"/>
            <a:ext cx="5759640" cy="107928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в них содержатся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1" descr="C:\Users\Пользователь\Desktop\74664041_pitat_vesch.jpg"/>
          <p:cNvPicPr/>
          <p:nvPr/>
        </p:nvPicPr>
        <p:blipFill>
          <a:blip r:embed="rId26"/>
          <a:stretch/>
        </p:blipFill>
        <p:spPr>
          <a:xfrm>
            <a:off x="1187280" y="1916280"/>
            <a:ext cx="4865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5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01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02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витамин защищает от простудных заболева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684360" y="5445000"/>
            <a:ext cx="575928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1" descr="C:\Users\Пользователь\Desktop\i.jpg"/>
          <p:cNvPicPr/>
          <p:nvPr/>
        </p:nvPicPr>
        <p:blipFill>
          <a:blip r:embed="rId26"/>
          <a:stretch/>
        </p:blipFill>
        <p:spPr>
          <a:xfrm>
            <a:off x="2195640" y="1984320"/>
            <a:ext cx="2520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3" dur="60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9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4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го витамина много в морко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55640" y="5373720"/>
            <a:ext cx="5759640" cy="64764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а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1" descr="mork08"/>
          <p:cNvPicPr/>
          <p:nvPr/>
        </p:nvPicPr>
        <p:blipFill>
          <a:blip r:embed="rId26"/>
          <a:stretch/>
        </p:blipFill>
        <p:spPr>
          <a:xfrm>
            <a:off x="1979640" y="1773360"/>
            <a:ext cx="32925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7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78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означает 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0"/>
          <p:cNvSpPr/>
          <p:nvPr/>
        </p:nvSpPr>
        <p:spPr>
          <a:xfrm>
            <a:off x="755640" y="4149720"/>
            <a:ext cx="5759640" cy="2158920"/>
          </a:xfrm>
          <a:prstGeom prst="wedgeRectCallout">
            <a:avLst>
              <a:gd name="adj1" fmla="val -43745"/>
              <a:gd name="adj2" fmla="val 613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2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08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09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60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учках висят пл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инели от жа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0"/>
          <p:cNvSpPr/>
          <p:nvPr/>
        </p:nvSpPr>
        <p:spPr>
          <a:xfrm>
            <a:off x="755640" y="5445000"/>
            <a:ext cx="575964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1" descr="C:\Users\Пользователь\Desktop\sliva_0.jpg"/>
          <p:cNvPicPr/>
          <p:nvPr/>
        </p:nvPicPr>
        <p:blipFill>
          <a:blip r:embed="rId26"/>
          <a:stretch/>
        </p:blipFill>
        <p:spPr>
          <a:xfrm>
            <a:off x="1908000" y="1916280"/>
            <a:ext cx="3673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40" dur="60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6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7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лые, сочные, разноцветн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илавках всем заметны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23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45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46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40"/>
          <p:cNvSpPr/>
          <p:nvPr/>
        </p:nvSpPr>
        <p:spPr>
          <a:xfrm>
            <a:off x="684360" y="4941720"/>
            <a:ext cx="5759280" cy="1368720"/>
          </a:xfrm>
          <a:prstGeom prst="wedgeRectCallout">
            <a:avLst>
              <a:gd name="adj1" fmla="val -43745"/>
              <a:gd name="adj2" fmla="val 940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у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0" descr="C:\Users\Пользователь\Desktop\fadf26a29a59.jpg"/>
          <p:cNvPicPr/>
          <p:nvPr/>
        </p:nvPicPr>
        <p:blipFill>
          <a:blip r:embed="rId26"/>
          <a:stretch/>
        </p:blipFill>
        <p:spPr>
          <a:xfrm>
            <a:off x="1332000" y="2133720"/>
            <a:ext cx="40082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4" dur="60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90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91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60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отличить  фрукты от овощ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2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84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85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0"/>
          <p:cNvSpPr/>
          <p:nvPr/>
        </p:nvSpPr>
        <p:spPr>
          <a:xfrm>
            <a:off x="539640" y="4508640"/>
            <a:ext cx="5759640" cy="1224000"/>
          </a:xfrm>
          <a:prstGeom prst="wedgeRectCallout">
            <a:avLst>
              <a:gd name="adj1" fmla="val -43745"/>
              <a:gd name="adj2" fmla="val 1110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укты обычно растут в саду, обычно сладкие, кроме ли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41" descr="C:\Users\Пользователь\Desktop\fruite-tree.jpg"/>
          <p:cNvPicPr/>
          <p:nvPr/>
        </p:nvPicPr>
        <p:blipFill>
          <a:blip r:embed="rId26"/>
          <a:stretch/>
        </p:blipFill>
        <p:spPr>
          <a:xfrm>
            <a:off x="1547640" y="1700280"/>
            <a:ext cx="3648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5" dur="60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21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22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60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000080"/>
            <a:ext cx="627552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Какие продукты необходимы для роста и делают кости крепки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2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40"/>
          <p:cNvSpPr/>
          <p:nvPr/>
        </p:nvSpPr>
        <p:spPr>
          <a:xfrm>
            <a:off x="755640" y="5157720"/>
            <a:ext cx="5759640" cy="86364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о и молочные проду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42" descr="C:\Users\Пользователь\Desktop\lapte-shutterstock.jpg"/>
          <p:cNvPicPr/>
          <p:nvPr/>
        </p:nvPicPr>
        <p:blipFill>
          <a:blip r:embed="rId26"/>
          <a:stretch/>
        </p:blipFill>
        <p:spPr>
          <a:xfrm>
            <a:off x="1476360" y="22050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3" dur="60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59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60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60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0"/>
                            </p:stCondLst>
                            <p:childTnLst>
                              <p:par>
                                <p:cTn id="4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Пользователь</cp:lastModifiedBy>
  <dcterms:modified xsi:type="dcterms:W3CDTF">2014-11-22T15:52:25Z</dcterms:modified>
  <cp:revision>14</cp:revision>
  <dc:subject/>
  <dc:title>Слайд 1</dc:title>
</cp:coreProperties>
</file>