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3.jpeg" ContentType="image/jpeg"/>
  <Override PartName="/ppt/media/drumroll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A32-3B79-4C86-99F2-67D3B0AA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838-8FFE-48DE-8B08-0E414EDC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2CB-0FDB-42CB-A152-6AAE43DB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9A7-FE47-402B-8107-79AF343F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4297-3B50-4339-A124-CC2D3705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7AE-B88C-46C6-BC9E-F0181650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4F4E-3513-42D0-B82A-9C877F6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0D42-E362-4283-8B98-8B99B71A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DB9-249F-471B-942C-02A81BF8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D998-3C6D-4C49-BE78-19ECD94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E64-26CD-4969-AA91-90B3C63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AA5-5B51-4F9D-A217-7316E5A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3A4-2CDC-41B2-93C5-239D90AF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A9EB-ABDB-4D9A-AB21-65F4C67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7EAA-C297-443C-B359-42870C3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BE8-8C68-4714-B7F3-54824210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5A52-19D4-4C3E-97A1-81725450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D4D-66D6-45A1-93F3-7EBC00B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E93-703F-4B6E-8F1C-69DA3BA4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CB8-01D5-430E-B719-41D8045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544-10A5-4A2A-8FA6-928237FE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5F9-0570-424F-B0C2-3BC0087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DB8-DAB3-4A14-911B-3552800C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C3A-23CD-438F-959B-E75B964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9B4-CAE9-46FC-A9A8-2932CC5C0F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A947-98A3-47C2-9115-936A3ADDC5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3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4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5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6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7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audio" Target="../media/drumroll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8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9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0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11.jpeg"/><Relationship Id="rId27" Type="http://schemas.openxmlformats.org/officeDocument/2006/relationships/audio" Target="../media/drumroll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2" descr="Рисунок2"/>
          <p:cNvPicPr/>
          <p:nvPr/>
        </p:nvPicPr>
        <p:blipFill>
          <a:blip r:embed="rId1"/>
          <a:stretch/>
        </p:blipFill>
        <p:spPr>
          <a:xfrm>
            <a:off x="324000" y="476280"/>
            <a:ext cx="5973480" cy="597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3" descr="Рисунок4"/>
          <p:cNvPicPr/>
          <p:nvPr/>
        </p:nvPicPr>
        <p:blipFill>
          <a:blip r:embed="rId2"/>
          <a:stretch/>
        </p:blipFill>
        <p:spPr>
          <a:xfrm>
            <a:off x="1258920" y="1413000"/>
            <a:ext cx="4164120" cy="4151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4"/>
          <p:cNvSpPr/>
          <p:nvPr/>
        </p:nvSpPr>
        <p:spPr>
          <a:xfrm>
            <a:off x="234000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5"/>
          <p:cNvSpPr/>
          <p:nvPr/>
        </p:nvSpPr>
        <p:spPr>
          <a:xfrm>
            <a:off x="471636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86"/>
          <p:cNvSpPr/>
          <p:nvPr/>
        </p:nvSpPr>
        <p:spPr>
          <a:xfrm>
            <a:off x="1187280" y="4797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7"/>
          <p:cNvSpPr/>
          <p:nvPr/>
        </p:nvSpPr>
        <p:spPr>
          <a:xfrm>
            <a:off x="5364000" y="371628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88"/>
          <p:cNvSpPr/>
          <p:nvPr/>
        </p:nvSpPr>
        <p:spPr>
          <a:xfrm>
            <a:off x="363528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9"/>
          <p:cNvSpPr/>
          <p:nvPr/>
        </p:nvSpPr>
        <p:spPr>
          <a:xfrm>
            <a:off x="611280" y="249228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90"/>
          <p:cNvSpPr/>
          <p:nvPr/>
        </p:nvSpPr>
        <p:spPr>
          <a:xfrm>
            <a:off x="4788000" y="4797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1"/>
          <p:cNvSpPr/>
          <p:nvPr/>
        </p:nvSpPr>
        <p:spPr>
          <a:xfrm>
            <a:off x="611280" y="378936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92"/>
          <p:cNvSpPr/>
          <p:nvPr/>
        </p:nvSpPr>
        <p:spPr>
          <a:xfrm>
            <a:off x="1332000" y="141300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93"/>
          <p:cNvSpPr/>
          <p:nvPr/>
        </p:nvSpPr>
        <p:spPr>
          <a:xfrm>
            <a:off x="2340000" y="765000"/>
            <a:ext cx="64764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94"/>
          <p:cNvSpPr/>
          <p:nvPr/>
        </p:nvSpPr>
        <p:spPr>
          <a:xfrm>
            <a:off x="5364000" y="2565360"/>
            <a:ext cx="648000" cy="64944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5"/>
          <p:cNvSpPr/>
          <p:nvPr/>
        </p:nvSpPr>
        <p:spPr>
          <a:xfrm>
            <a:off x="3708360" y="5516640"/>
            <a:ext cx="647640" cy="649080"/>
          </a:xfrm>
          <a:prstGeom prst="flowChartSummingJunction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77080" y="333360"/>
          <a:ext cx="2050920" cy="6048360"/>
        </p:xfrm>
        <a:graphic>
          <a:graphicData uri="http://schemas.openxmlformats.org/drawingml/2006/table">
            <a:tbl>
              <a:tblPr/>
              <a:tblGrid>
                <a:gridCol w="1025640"/>
                <a:gridCol w="102528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142"/>
          <p:cNvSpPr/>
          <p:nvPr/>
        </p:nvSpPr>
        <p:spPr>
          <a:xfrm>
            <a:off x="6877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44"/>
          <p:cNvSpPr/>
          <p:nvPr/>
        </p:nvSpPr>
        <p:spPr>
          <a:xfrm>
            <a:off x="6877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45"/>
          <p:cNvSpPr/>
          <p:nvPr/>
        </p:nvSpPr>
        <p:spPr>
          <a:xfrm>
            <a:off x="6877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49"/>
          <p:cNvSpPr/>
          <p:nvPr/>
        </p:nvSpPr>
        <p:spPr>
          <a:xfrm>
            <a:off x="7885080" y="333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50"/>
          <p:cNvSpPr/>
          <p:nvPr/>
        </p:nvSpPr>
        <p:spPr>
          <a:xfrm>
            <a:off x="6877080" y="3357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1"/>
          <p:cNvSpPr/>
          <p:nvPr/>
        </p:nvSpPr>
        <p:spPr>
          <a:xfrm>
            <a:off x="687708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2"/>
          <p:cNvSpPr/>
          <p:nvPr/>
        </p:nvSpPr>
        <p:spPr>
          <a:xfrm>
            <a:off x="6877080" y="5373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3"/>
          <p:cNvSpPr/>
          <p:nvPr/>
        </p:nvSpPr>
        <p:spPr>
          <a:xfrm>
            <a:off x="7885080" y="1341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4"/>
          <p:cNvSpPr/>
          <p:nvPr/>
        </p:nvSpPr>
        <p:spPr>
          <a:xfrm>
            <a:off x="7885080" y="234936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55"/>
          <p:cNvSpPr/>
          <p:nvPr/>
        </p:nvSpPr>
        <p:spPr>
          <a:xfrm>
            <a:off x="7885080" y="3357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56"/>
          <p:cNvSpPr/>
          <p:nvPr/>
        </p:nvSpPr>
        <p:spPr>
          <a:xfrm>
            <a:off x="7885080" y="4365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57"/>
          <p:cNvSpPr/>
          <p:nvPr/>
        </p:nvSpPr>
        <p:spPr>
          <a:xfrm>
            <a:off x="7885080" y="537372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0">
                                      <p:cBhvr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700000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6700000">
                                      <p:cBhvr>
                                        <p:cTn id="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9400000">
                                      <p:cBhvr>
                                        <p:cTn id="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00">
                                      <p:cBhvr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2400000">
                                      <p:cBhvr>
                                        <p:cTn id="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9200000">
                                      <p:cBhvr>
                                        <p:cTn id="6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800000">
                                      <p:cBhvr>
                                        <p:cTn id="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3600000"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0">
                                      <p:cBhvr>
                                        <p:cTn id="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0">
                                      <p:cBhvr>
                                        <p:cTn id="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26" dur="5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6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47" dur="50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54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7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68" dur="5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0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4680000" cy="4079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ревнем Риме их называли «невиданно вкусные оранжевые армянские яблоки. Что это за расте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4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6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6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40"/>
          <p:cNvSpPr/>
          <p:nvPr/>
        </p:nvSpPr>
        <p:spPr>
          <a:xfrm>
            <a:off x="755640" y="5300640"/>
            <a:ext cx="5759640" cy="100800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91" dur="60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60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0"/>
                            </p:stCondLst>
                            <p:childTnLst>
                              <p:par>
                                <p:cTn id="5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лся жёлтый бок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ько я не колобо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из мягкого я тест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ти – не тронусь с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7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0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0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40"/>
          <p:cNvSpPr/>
          <p:nvPr/>
        </p:nvSpPr>
        <p:spPr>
          <a:xfrm>
            <a:off x="684360" y="6093000"/>
            <a:ext cx="5759280" cy="431640"/>
          </a:xfrm>
          <a:prstGeom prst="wedgeRectCallout">
            <a:avLst>
              <a:gd name="adj1" fmla="val -43745"/>
              <a:gd name="adj2" fmla="val 742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41" descr="C:\Users\Пользователь\Desktop\ALTIN-RENGI-SALGAM-TOHUMU-500-TOHUM__77832817_0.jpg"/>
          <p:cNvPicPr/>
          <p:nvPr/>
        </p:nvPicPr>
        <p:blipFill>
          <a:blip r:embed="rId26"/>
          <a:stretch/>
        </p:blipFill>
        <p:spPr>
          <a:xfrm>
            <a:off x="2050920" y="2600280"/>
            <a:ext cx="2737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34" dur="60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40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41" dur="2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60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шнурочке-стебелёчк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адких ягод гру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большое блюдо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1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4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4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40"/>
          <p:cNvSpPr/>
          <p:nvPr/>
        </p:nvSpPr>
        <p:spPr>
          <a:xfrm>
            <a:off x="826920" y="5516640"/>
            <a:ext cx="5759640" cy="720720"/>
          </a:xfrm>
          <a:prstGeom prst="wedgeRectCallout">
            <a:avLst>
              <a:gd name="adj1" fmla="val -43745"/>
              <a:gd name="adj2" fmla="val 654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1" descr="C:\Users\Пользователь\Desktop\prodam-sazhency-vinograda-zelenye--7c5c-1334816235069077-1-big.jpg"/>
          <p:cNvPicPr/>
          <p:nvPr/>
        </p:nvPicPr>
        <p:blipFill>
          <a:blip r:embed="rId26"/>
          <a:stretch/>
        </p:blipFill>
        <p:spPr>
          <a:xfrm>
            <a:off x="1258920" y="2349360"/>
            <a:ext cx="48099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2" dur="6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578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579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60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орвали край рубашки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з посыпались стекля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55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57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58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40"/>
          <p:cNvSpPr/>
          <p:nvPr/>
        </p:nvSpPr>
        <p:spPr>
          <a:xfrm>
            <a:off x="755640" y="5661000"/>
            <a:ext cx="5759640" cy="647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42" descr="C:\Users\Пользователь\Desktop\4tB0iCunJ74.jpg"/>
          <p:cNvPicPr/>
          <p:nvPr/>
        </p:nvPicPr>
        <p:blipFill>
          <a:blip r:embed="rId26"/>
          <a:stretch/>
        </p:blipFill>
        <p:spPr>
          <a:xfrm>
            <a:off x="1187280" y="1916280"/>
            <a:ext cx="45370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10" dur="60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616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617" dur="2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60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60000"/>
                            </p:stCondLst>
                            <p:childTnLst>
                              <p:par>
                                <p:cTn id="6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гровое поле (автор неизвесте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eti-online.com/zagadki/zagadki-ovoschi-frukt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kidwelcome.ru/zagadki-dlya-detei/pro-fruk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му нужно есть овощи и фрукт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29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51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52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0"/>
          <p:cNvSpPr/>
          <p:nvPr/>
        </p:nvSpPr>
        <p:spPr>
          <a:xfrm>
            <a:off x="755640" y="5516640"/>
            <a:ext cx="5759640" cy="1079280"/>
          </a:xfrm>
          <a:prstGeom prst="wedgeRectCallout">
            <a:avLst>
              <a:gd name="adj1" fmla="val -43745"/>
              <a:gd name="adj2" fmla="val 55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в них содержатся витам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1" descr="C:\Users\Пользователь\Desktop\74664041_pitat_vesch.jpg"/>
          <p:cNvPicPr/>
          <p:nvPr/>
        </p:nvPicPr>
        <p:blipFill>
          <a:blip r:embed="rId26"/>
          <a:stretch/>
        </p:blipFill>
        <p:spPr>
          <a:xfrm>
            <a:off x="1187280" y="1916280"/>
            <a:ext cx="4865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5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01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02" dur="2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60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й витамин защищает от простудных заболева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168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190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191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684360" y="5445000"/>
            <a:ext cx="575928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1" descr="C:\Users\Пользователь\Desktop\i.jpg"/>
          <p:cNvPicPr/>
          <p:nvPr/>
        </p:nvPicPr>
        <p:blipFill>
          <a:blip r:embed="rId26"/>
          <a:stretch/>
        </p:blipFill>
        <p:spPr>
          <a:xfrm>
            <a:off x="2195640" y="1984320"/>
            <a:ext cx="2520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3" dur="60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39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4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60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го витамина много в морков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07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29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30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40"/>
          <p:cNvSpPr/>
          <p:nvPr/>
        </p:nvSpPr>
        <p:spPr>
          <a:xfrm>
            <a:off x="755640" y="5373720"/>
            <a:ext cx="5759640" cy="647640"/>
          </a:xfrm>
          <a:prstGeom prst="wedgeRectCallout">
            <a:avLst>
              <a:gd name="adj1" fmla="val -43745"/>
              <a:gd name="adj2" fmla="val 13210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амина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1" descr="mork08"/>
          <p:cNvPicPr/>
          <p:nvPr/>
        </p:nvPicPr>
        <p:blipFill>
          <a:blip r:embed="rId26"/>
          <a:stretch/>
        </p:blipFill>
        <p:spPr>
          <a:xfrm>
            <a:off x="1979640" y="1773360"/>
            <a:ext cx="32925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60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277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278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6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означает 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46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268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269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0"/>
          <p:cNvSpPr/>
          <p:nvPr/>
        </p:nvSpPr>
        <p:spPr>
          <a:xfrm>
            <a:off x="755640" y="4149720"/>
            <a:ext cx="5759640" cy="2158920"/>
          </a:xfrm>
          <a:prstGeom prst="wedgeRectCallout">
            <a:avLst>
              <a:gd name="adj1" fmla="val -43745"/>
              <a:gd name="adj2" fmla="val 6132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2" dur="60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08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09" dur="2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60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учках висят плод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инели от жа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284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06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07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9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3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0"/>
          <p:cNvSpPr/>
          <p:nvPr/>
        </p:nvSpPr>
        <p:spPr>
          <a:xfrm>
            <a:off x="755640" y="5445000"/>
            <a:ext cx="5759640" cy="863640"/>
          </a:xfrm>
          <a:prstGeom prst="wedgeRectCallout">
            <a:avLst>
              <a:gd name="adj1" fmla="val -43745"/>
              <a:gd name="adj2" fmla="val 7831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1" descr="C:\Users\Пользователь\Desktop\sliva_0.jpg"/>
          <p:cNvPicPr/>
          <p:nvPr/>
        </p:nvPicPr>
        <p:blipFill>
          <a:blip r:embed="rId26"/>
          <a:stretch/>
        </p:blipFill>
        <p:spPr>
          <a:xfrm>
            <a:off x="1908000" y="1916280"/>
            <a:ext cx="3673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40" dur="60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46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47" dur="2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0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лые, сочные, разноцветн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илавках всем заметны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23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45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46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40"/>
          <p:cNvSpPr/>
          <p:nvPr/>
        </p:nvSpPr>
        <p:spPr>
          <a:xfrm>
            <a:off x="684360" y="4941720"/>
            <a:ext cx="5759280" cy="1368720"/>
          </a:xfrm>
          <a:prstGeom prst="wedgeRectCallout">
            <a:avLst>
              <a:gd name="adj1" fmla="val -43745"/>
              <a:gd name="adj2" fmla="val 9408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у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0" descr="C:\Users\Пользователь\Desktop\fadf26a29a59.jpg"/>
          <p:cNvPicPr/>
          <p:nvPr/>
        </p:nvPicPr>
        <p:blipFill>
          <a:blip r:embed="rId26"/>
          <a:stretch/>
        </p:blipFill>
        <p:spPr>
          <a:xfrm>
            <a:off x="1332000" y="2133720"/>
            <a:ext cx="40082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84" dur="60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390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391" dur="2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7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60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000080"/>
            <a:ext cx="6257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как отличить  фрукты от овощ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362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384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385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40"/>
          <p:cNvSpPr/>
          <p:nvPr/>
        </p:nvSpPr>
        <p:spPr>
          <a:xfrm>
            <a:off x="539640" y="4508640"/>
            <a:ext cx="5759640" cy="1224000"/>
          </a:xfrm>
          <a:prstGeom prst="wedgeRectCallout">
            <a:avLst>
              <a:gd name="adj1" fmla="val -43745"/>
              <a:gd name="adj2" fmla="val 1110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укты обычно растут в саду, обычно сладкие, кроме лим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41" descr="C:\Users\Пользователь\Desktop\fruite-tree.jpg"/>
          <p:cNvPicPr/>
          <p:nvPr/>
        </p:nvPicPr>
        <p:blipFill>
          <a:blip r:embed="rId26"/>
          <a:stretch/>
        </p:blipFill>
        <p:spPr>
          <a:xfrm>
            <a:off x="1547640" y="1700280"/>
            <a:ext cx="3648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5" dur="60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21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22" dur="2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60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000080"/>
            <a:ext cx="627552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Какие продукты необходимы для роста и делают кости крепки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14720" y="1599840"/>
            <a:ext cx="197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05"/>
          <p:cNvGrpSpPr/>
          <p:nvPr/>
        </p:nvGrpSpPr>
        <p:grpSpPr>
          <a:xfrm>
            <a:off x="7669080" y="4653000"/>
            <a:ext cx="215640" cy="844560"/>
            <a:chOff x="7669080" y="4653000"/>
            <a:chExt cx="215640" cy="844560"/>
          </a:xfrm>
        </p:grpSpPr>
        <p:sp>
          <p:nvSpPr>
            <p:cNvPr id="401" name="AutoShape 106"/>
            <p:cNvSpPr/>
            <p:nvPr/>
          </p:nvSpPr>
          <p:spPr>
            <a:xfrm>
              <a:off x="7669080" y="4718520"/>
              <a:ext cx="58680" cy="49680"/>
            </a:xfrm>
            <a:prstGeom prst="flowChartConnec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AutoShape 107"/>
            <p:cNvSpPr/>
            <p:nvPr/>
          </p:nvSpPr>
          <p:spPr>
            <a:xfrm>
              <a:off x="7746840" y="4785840"/>
              <a:ext cx="58680" cy="4968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AutoShape 108"/>
            <p:cNvSpPr/>
            <p:nvPr/>
          </p:nvSpPr>
          <p:spPr>
            <a:xfrm>
              <a:off x="7669080" y="4851720"/>
              <a:ext cx="58680" cy="4968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AutoShape 109"/>
            <p:cNvSpPr/>
            <p:nvPr/>
          </p:nvSpPr>
          <p:spPr>
            <a:xfrm>
              <a:off x="7746840" y="4917240"/>
              <a:ext cx="58680" cy="4968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10"/>
            <p:cNvSpPr/>
            <p:nvPr/>
          </p:nvSpPr>
          <p:spPr>
            <a:xfrm>
              <a:off x="7824600" y="4851720"/>
              <a:ext cx="58680" cy="4968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11"/>
            <p:cNvSpPr/>
            <p:nvPr/>
          </p:nvSpPr>
          <p:spPr>
            <a:xfrm>
              <a:off x="7824600" y="4718520"/>
              <a:ext cx="58680" cy="4968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112"/>
            <p:cNvSpPr/>
            <p:nvPr/>
          </p:nvSpPr>
          <p:spPr>
            <a:xfrm>
              <a:off x="7746840" y="4653000"/>
              <a:ext cx="58680" cy="4968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AutoShape 113"/>
            <p:cNvSpPr/>
            <p:nvPr/>
          </p:nvSpPr>
          <p:spPr>
            <a:xfrm>
              <a:off x="7826040" y="4984560"/>
              <a:ext cx="58680" cy="4968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14"/>
            <p:cNvSpPr/>
            <p:nvPr/>
          </p:nvSpPr>
          <p:spPr>
            <a:xfrm>
              <a:off x="7669080" y="4984560"/>
              <a:ext cx="58680" cy="4968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115"/>
            <p:cNvSpPr/>
            <p:nvPr/>
          </p:nvSpPr>
          <p:spPr>
            <a:xfrm>
              <a:off x="7826040" y="5050080"/>
              <a:ext cx="58680" cy="4968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116"/>
            <p:cNvSpPr/>
            <p:nvPr/>
          </p:nvSpPr>
          <p:spPr>
            <a:xfrm>
              <a:off x="7746840" y="5050080"/>
              <a:ext cx="58680" cy="4968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AutoShape 117"/>
            <p:cNvSpPr/>
            <p:nvPr/>
          </p:nvSpPr>
          <p:spPr>
            <a:xfrm>
              <a:off x="7669080" y="5117400"/>
              <a:ext cx="58680" cy="4968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118"/>
            <p:cNvSpPr/>
            <p:nvPr/>
          </p:nvSpPr>
          <p:spPr>
            <a:xfrm>
              <a:off x="7826040" y="5183280"/>
              <a:ext cx="58680" cy="4968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AutoShape 119"/>
            <p:cNvSpPr/>
            <p:nvPr/>
          </p:nvSpPr>
          <p:spPr>
            <a:xfrm>
              <a:off x="7746840" y="5183280"/>
              <a:ext cx="58680" cy="49680"/>
            </a:xfrm>
            <a:prstGeom prst="flowChartConnector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AutoShape 120"/>
            <p:cNvSpPr/>
            <p:nvPr/>
          </p:nvSpPr>
          <p:spPr>
            <a:xfrm>
              <a:off x="7746840" y="5248800"/>
              <a:ext cx="58680" cy="49680"/>
            </a:xfrm>
            <a:prstGeom prst="flowChartConnector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AutoShape 121"/>
            <p:cNvSpPr/>
            <p:nvPr/>
          </p:nvSpPr>
          <p:spPr>
            <a:xfrm>
              <a:off x="7669080" y="5248800"/>
              <a:ext cx="58680" cy="49680"/>
            </a:xfrm>
            <a:prstGeom prst="flowChartConnector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AutoShape 122"/>
            <p:cNvSpPr/>
            <p:nvPr/>
          </p:nvSpPr>
          <p:spPr>
            <a:xfrm>
              <a:off x="7826040" y="5316120"/>
              <a:ext cx="58680" cy="49680"/>
            </a:xfrm>
            <a:prstGeom prst="flowChartConnector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123"/>
            <p:cNvSpPr/>
            <p:nvPr/>
          </p:nvSpPr>
          <p:spPr>
            <a:xfrm>
              <a:off x="7746840" y="5381640"/>
              <a:ext cx="58680" cy="49680"/>
            </a:xfrm>
            <a:prstGeom prst="flowChartConnector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24"/>
            <p:cNvSpPr/>
            <p:nvPr/>
          </p:nvSpPr>
          <p:spPr>
            <a:xfrm>
              <a:off x="7669080" y="5316120"/>
              <a:ext cx="58680" cy="49680"/>
            </a:xfrm>
            <a:prstGeom prst="flowChartConnector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125"/>
            <p:cNvSpPr/>
            <p:nvPr/>
          </p:nvSpPr>
          <p:spPr>
            <a:xfrm>
              <a:off x="7669080" y="5447880"/>
              <a:ext cx="58680" cy="49680"/>
            </a:xfrm>
            <a:prstGeom prst="flowChartConnector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126"/>
            <p:cNvSpPr/>
            <p:nvPr/>
          </p:nvSpPr>
          <p:spPr>
            <a:xfrm>
              <a:off x="7746840" y="5447880"/>
              <a:ext cx="58680" cy="49680"/>
            </a:xfrm>
            <a:prstGeom prst="flowChartConnector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127"/>
          <p:cNvGrpSpPr/>
          <p:nvPr/>
        </p:nvGrpSpPr>
        <p:grpSpPr>
          <a:xfrm>
            <a:off x="6948360" y="3429000"/>
            <a:ext cx="1727280" cy="2393640"/>
            <a:chOff x="6948360" y="3429000"/>
            <a:chExt cx="1727280" cy="2393640"/>
          </a:xfrm>
        </p:grpSpPr>
        <p:grpSp>
          <p:nvGrpSpPr>
            <p:cNvPr id="423" name="Group 128"/>
            <p:cNvGrpSpPr/>
            <p:nvPr/>
          </p:nvGrpSpPr>
          <p:grpSpPr>
            <a:xfrm>
              <a:off x="7256880" y="3553200"/>
              <a:ext cx="1030320" cy="2172600"/>
              <a:chOff x="7256880" y="3553200"/>
              <a:chExt cx="1030320" cy="2172600"/>
            </a:xfrm>
          </p:grpSpPr>
          <p:sp>
            <p:nvSpPr>
              <p:cNvPr id="424" name="AutoShape 129"/>
              <p:cNvSpPr/>
              <p:nvPr/>
            </p:nvSpPr>
            <p:spPr>
              <a:xfrm>
                <a:off x="7256880" y="465156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AutoShape 130"/>
              <p:cNvSpPr/>
              <p:nvPr/>
            </p:nvSpPr>
            <p:spPr>
              <a:xfrm>
                <a:off x="7256880" y="3553200"/>
                <a:ext cx="1030320" cy="1074240"/>
              </a:xfrm>
              <a:prstGeom prst="octagon">
                <a:avLst>
                  <a:gd name="adj" fmla="val 35069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AutoShape 131"/>
            <p:cNvSpPr/>
            <p:nvPr/>
          </p:nvSpPr>
          <p:spPr>
            <a:xfrm>
              <a:off x="6948360" y="3429000"/>
              <a:ext cx="1727280" cy="264960"/>
            </a:xfrm>
            <a:prstGeom prst="flowChartTerminator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132"/>
            <p:cNvSpPr/>
            <p:nvPr/>
          </p:nvSpPr>
          <p:spPr>
            <a:xfrm>
              <a:off x="6948360" y="5557680"/>
              <a:ext cx="1727280" cy="264960"/>
            </a:xfrm>
            <a:prstGeom prst="flowChartTerminator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33"/>
            <p:cNvSpPr/>
            <p:nvPr/>
          </p:nvSpPr>
          <p:spPr>
            <a:xfrm>
              <a:off x="849060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34"/>
            <p:cNvSpPr/>
            <p:nvPr/>
          </p:nvSpPr>
          <p:spPr>
            <a:xfrm>
              <a:off x="7071840" y="3678840"/>
              <a:ext cx="0" cy="1878480"/>
            </a:xfrm>
            <a:prstGeom prst="line">
              <a:avLst/>
            </a:prstGeom>
            <a:ln w="76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Freeform 135"/>
          <p:cNvSpPr/>
          <p:nvPr/>
        </p:nvSpPr>
        <p:spPr>
          <a:xfrm>
            <a:off x="7269120" y="4043520"/>
            <a:ext cx="1009800" cy="625320"/>
          </a:xfrm>
          <a:custGeom>
            <a:avLst/>
            <a:gdLst/>
            <a:ahLst/>
            <a:rect l="l" t="t" r="r" b="b"/>
            <a:pathLst>
              <a:path w="636" h="394">
                <a:moveTo>
                  <a:pt x="224" y="358"/>
                </a:moveTo>
                <a:cubicBezTo>
                  <a:pt x="264" y="361"/>
                  <a:pt x="304" y="355"/>
                  <a:pt x="340" y="361"/>
                </a:cubicBezTo>
                <a:cubicBezTo>
                  <a:pt x="366" y="362"/>
                  <a:pt x="407" y="357"/>
                  <a:pt x="416" y="355"/>
                </a:cubicBezTo>
                <a:cubicBezTo>
                  <a:pt x="425" y="353"/>
                  <a:pt x="399" y="351"/>
                  <a:pt x="394" y="351"/>
                </a:cubicBezTo>
                <a:cubicBezTo>
                  <a:pt x="389" y="351"/>
                  <a:pt x="380" y="354"/>
                  <a:pt x="383" y="355"/>
                </a:cubicBezTo>
                <a:cubicBezTo>
                  <a:pt x="387" y="356"/>
                  <a:pt x="410" y="358"/>
                  <a:pt x="414" y="358"/>
                </a:cubicBezTo>
                <a:cubicBezTo>
                  <a:pt x="419" y="358"/>
                  <a:pt x="374" y="394"/>
                  <a:pt x="411" y="357"/>
                </a:cubicBezTo>
                <a:lnTo>
                  <a:pt x="633" y="133"/>
                </a:lnTo>
                <a:lnTo>
                  <a:pt x="636" y="0"/>
                </a:lnTo>
                <a:lnTo>
                  <a:pt x="4" y="11"/>
                </a:lnTo>
                <a:lnTo>
                  <a:pt x="0" y="133"/>
                </a:lnTo>
                <a:lnTo>
                  <a:pt x="224" y="358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36"/>
          <p:cNvSpPr/>
          <p:nvPr/>
        </p:nvSpPr>
        <p:spPr>
          <a:xfrm>
            <a:off x="7278840" y="5086440"/>
            <a:ext cx="993600" cy="471240"/>
          </a:xfrm>
          <a:custGeom>
            <a:avLst/>
            <a:gdLst>
              <a:gd name="textAreaLeft" fmla="*/ 0 w 993600"/>
              <a:gd name="textAreaRight" fmla="*/ 993960 w 99360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626" h="297">
                <a:moveTo>
                  <a:pt x="120" y="292"/>
                </a:moveTo>
                <a:cubicBezTo>
                  <a:pt x="161" y="294"/>
                  <a:pt x="305" y="291"/>
                  <a:pt x="342" y="296"/>
                </a:cubicBezTo>
                <a:cubicBezTo>
                  <a:pt x="367" y="297"/>
                  <a:pt x="468" y="297"/>
                  <a:pt x="494" y="296"/>
                </a:cubicBezTo>
                <a:cubicBezTo>
                  <a:pt x="520" y="295"/>
                  <a:pt x="492" y="294"/>
                  <a:pt x="496" y="292"/>
                </a:cubicBezTo>
                <a:cubicBezTo>
                  <a:pt x="500" y="290"/>
                  <a:pt x="519" y="283"/>
                  <a:pt x="520" y="282"/>
                </a:cubicBezTo>
                <a:cubicBezTo>
                  <a:pt x="521" y="281"/>
                  <a:pt x="503" y="286"/>
                  <a:pt x="504" y="284"/>
                </a:cubicBezTo>
                <a:cubicBezTo>
                  <a:pt x="505" y="282"/>
                  <a:pt x="507" y="290"/>
                  <a:pt x="526" y="272"/>
                </a:cubicBezTo>
                <a:lnTo>
                  <a:pt x="622" y="172"/>
                </a:lnTo>
                <a:lnTo>
                  <a:pt x="622" y="164"/>
                </a:lnTo>
                <a:lnTo>
                  <a:pt x="626" y="0"/>
                </a:lnTo>
                <a:lnTo>
                  <a:pt x="0" y="4"/>
                </a:lnTo>
                <a:lnTo>
                  <a:pt x="1" y="169"/>
                </a:lnTo>
                <a:lnTo>
                  <a:pt x="120" y="292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41">
            <a:hlinkClick r:id="" action="ppaction://hlinkshowjump?jump=first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10800" y="4994"/>
                </a:moveTo>
                <a:lnTo>
                  <a:pt x="13376" y="7605"/>
                </a:ln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lnTo>
                  <a:pt x="17763" y="11957"/>
                </a:lnTo>
                <a:lnTo>
                  <a:pt x="16109" y="11957"/>
                </a:lnTo>
                <a:lnTo>
                  <a:pt x="16109" y="19146"/>
                </a:lnTo>
                <a:lnTo>
                  <a:pt x="5491" y="19146"/>
                </a:lnTo>
                <a:lnTo>
                  <a:pt x="5491" y="11957"/>
                </a:lnTo>
                <a:lnTo>
                  <a:pt x="3837" y="11957"/>
                </a:lnTo>
                <a:close/>
              </a:path>
              <a:path fill="darkenLess" w="21600" h="23914">
                <a:moveTo>
                  <a:pt x="13376" y="7605"/>
                </a:moveTo>
                <a:lnTo>
                  <a:pt x="13376" y="5865"/>
                </a:lnTo>
                <a:lnTo>
                  <a:pt x="15152" y="5865"/>
                </a:lnTo>
                <a:lnTo>
                  <a:pt x="15152" y="9381"/>
                </a:lnTo>
                <a:close/>
              </a:path>
              <a:path fill="darkenLess" w="21600" h="23914">
                <a:moveTo>
                  <a:pt x="9877" y="15456"/>
                </a:moveTo>
                <a:lnTo>
                  <a:pt x="11723" y="15456"/>
                </a:lnTo>
                <a:lnTo>
                  <a:pt x="11723" y="19146"/>
                </a:lnTo>
                <a:lnTo>
                  <a:pt x="16109" y="19146"/>
                </a:lnTo>
                <a:lnTo>
                  <a:pt x="16109" y="11957"/>
                </a:lnTo>
                <a:lnTo>
                  <a:pt x="5491" y="11957"/>
                </a:lnTo>
                <a:lnTo>
                  <a:pt x="5491" y="19146"/>
                </a:lnTo>
                <a:lnTo>
                  <a:pt x="9877" y="1914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39"/>
          <p:cNvSpPr/>
          <p:nvPr/>
        </p:nvSpPr>
        <p:spPr>
          <a:xfrm>
            <a:off x="6786720" y="1773360"/>
            <a:ext cx="2106360" cy="934920"/>
          </a:xfrm>
          <a:custGeom>
            <a:avLst/>
            <a:gdLst>
              <a:gd name="textAreaLeft" fmla="*/ 526320 w 2106360"/>
              <a:gd name="textAreaRight" fmla="*/ 1580040 w 2106360"/>
              <a:gd name="textAreaTop" fmla="*/ 11664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40"/>
          <p:cNvSpPr/>
          <p:nvPr/>
        </p:nvSpPr>
        <p:spPr>
          <a:xfrm>
            <a:off x="755640" y="5157720"/>
            <a:ext cx="5759640" cy="863640"/>
          </a:xfrm>
          <a:prstGeom prst="wedgeRectCallout">
            <a:avLst>
              <a:gd name="adj1" fmla="val -43745"/>
              <a:gd name="adj2" fmla="val 11157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о и молочные проду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42" descr="C:\Users\Пользователь\Desktop\lapte-shutterstock.jpg"/>
          <p:cNvPicPr/>
          <p:nvPr/>
        </p:nvPicPr>
        <p:blipFill>
          <a:blip r:embed="rId26"/>
          <a:stretch/>
        </p:blipFill>
        <p:spPr>
          <a:xfrm>
            <a:off x="1476360" y="22050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remove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53" dur="60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2" repeatCount="3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459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460" dur="2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remove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60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0"/>
                            </p:stCondLst>
                            <p:childTnLst>
                              <p:par>
                                <p:cTn id="4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57:36Z</dcterms:created>
  <dc:creator>User</dc:creator>
  <dc:description/>
  <dc:language>en-US</dc:language>
  <cp:lastModifiedBy>Пользователь</cp:lastModifiedBy>
  <dcterms:modified xsi:type="dcterms:W3CDTF">2014-11-22T15:52:25Z</dcterms:modified>
  <cp:revision>14</cp:revision>
  <dc:subject/>
  <dc:title>Слайд 1</dc:title>
</cp:coreProperties>
</file>