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gif" ContentType="image/gif"/>
  <Override PartName="/ppt/media/image30.jpeg" ContentType="image/jpeg"/>
  <Override PartName="/ppt/media/image6.wmf" ContentType="image/x-wmf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3.wmf" ContentType="image/x-wmf"/>
  <Override PartName="/ppt/media/image52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3.jpeg" ContentType="image/jpeg"/>
  <Override PartName="/ppt/media/image51.gif" ContentType="image/gif"/>
  <Override PartName="/ppt/media/image76.jpeg" ContentType="image/jpeg"/>
  <Override PartName="/ppt/media/image40.jpeg" ContentType="image/jpeg"/>
  <Override PartName="/ppt/media/image13.wmf" ContentType="image/x-wmf"/>
  <Override PartName="/ppt/media/image37.jpeg" ContentType="image/jpeg"/>
  <Override PartName="/ppt/media/image41.jpeg" ContentType="image/jpeg"/>
  <Override PartName="/ppt/media/image14.jpeg" ContentType="image/jpeg"/>
  <Override PartName="/ppt/media/image45.jpeg" ContentType="image/jpeg"/>
  <Override PartName="/ppt/media/image15.jpeg" ContentType="image/jpeg"/>
  <Override PartName="/ppt/media/image25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69.wmf" ContentType="image/x-wmf"/>
  <Override PartName="/ppt/media/image27.png" ContentType="image/png"/>
  <Override PartName="/ppt/media/image33.jpeg" ContentType="image/jpeg"/>
  <Override PartName="/ppt/media/image75.wmf" ContentType="image/x-wmf"/>
  <Override PartName="/ppt/media/image70.jpeg" ContentType="image/jpeg"/>
  <Override PartName="/ppt/media/image74.jpeg" ContentType="image/jpeg"/>
  <Override PartName="/ppt/media/image7.jpeg" ContentType="image/jpeg"/>
  <Override PartName="/ppt/media/image62.wmf" ContentType="image/x-wmf"/>
  <Override PartName="/ppt/media/image68.jpeg" ContentType="image/jpeg"/>
  <Override PartName="/ppt/media/image29.wmf" ContentType="image/x-wmf"/>
  <Override PartName="/ppt/media/image67.jpeg" ContentType="image/jpeg"/>
  <Override PartName="/ppt/media/image64.jpeg" ContentType="image/jpeg"/>
  <Override PartName="/ppt/media/image61.wmf" ContentType="image/x-wmf"/>
  <Override PartName="/ppt/media/image71.jpeg" ContentType="image/jpeg"/>
  <Override PartName="/ppt/media/image65.wmf" ContentType="image/x-wmf"/>
  <Override PartName="/ppt/media/image19.jpeg" ContentType="image/jpeg"/>
  <Override PartName="/ppt/media/image16.wmf" ContentType="image/x-wmf"/>
  <Override PartName="/ppt/media/image66.jpeg" ContentType="image/jpeg"/>
  <Override PartName="/ppt/media/image9.jpeg" ContentType="image/jpeg"/>
  <Override PartName="/ppt/media/image24.wmf" ContentType="image/x-wmf"/>
  <Override PartName="/ppt/media/image42.jpeg" ContentType="image/jpeg"/>
  <Override PartName="/ppt/media/image59.jpeg" ContentType="image/jpeg"/>
  <Override PartName="/ppt/media/image73.gif" ContentType="image/gif"/>
  <Override PartName="/ppt/media/image60.jpeg" ContentType="image/jpeg"/>
  <Override PartName="/ppt/media/image7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3.png" ContentType="image/png"/>
  <Override PartName="/ppt/media/image56.jpeg" ContentType="image/jpeg"/>
  <Override PartName="/ppt/media/image4.jpeg" ContentType="image/jpeg"/>
  <Override PartName="/ppt/media/image72.wmf" ContentType="image/x-wmf"/>
  <Override PartName="/ppt/media/image26.jpeg" ContentType="image/jpeg"/>
  <Override PartName="/ppt/media/image5.jpeg" ContentType="image/jpeg"/>
  <Override PartName="/ppt/media/image50.png" ContentType="image/png"/>
  <Override PartName="/ppt/media/image11.gif" ContentType="image/gif"/>
  <Override PartName="/ppt/media/image44.wmf" ContentType="image/x-wmf"/>
  <Override PartName="/ppt/media/image28.jpeg" ContentType="image/jpeg"/>
  <Override PartName="/ppt/media/image12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1.jpeg" ContentType="image/jpeg"/>
  <Override PartName="/ppt/media/image47.wmf" ContentType="image/x-wmf"/>
  <Override PartName="/ppt/media/image32.jpeg" ContentType="image/jpeg"/>
  <Override PartName="/ppt/media/image34.wmf" ContentType="image/x-wmf"/>
  <Override PartName="/ppt/media/image1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E14C-82D0-455E-9B0D-2AAA9C297FF1}" type="slidenum">
              <a:rPr b="0" lang="ru-RU" sz="1200" spc="-1" strike="noStrike">
                <a:solidFill>
                  <a:srgbClr val="000000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10F5-0B96-40C7-99DC-3ADA18AAD2AE}" type="slidenum"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715-63C8-43E9-A1EF-8CCB3F9E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709-96BD-40E8-9BAA-FC7E09B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02C-4F01-4A8E-94A0-3E09D20A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AE7-51F8-457F-AE61-DA10B58C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2EDB-2231-4C18-B571-84CD7AD3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413A-741C-4571-83ED-FFCB7B91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00CD-00E1-4BA2-88D8-C9B04AE5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FC93-EA40-4F96-8BF3-A5AC08B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4B91-9DB2-4974-9087-CC96DC32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BA4B-802E-4833-AAF7-1A7E874F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9781-65CB-4A79-B85E-E529DD0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A03-CB52-486B-AFF2-74402460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465A-211D-4BA5-AF3B-9B1EF582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CD86-B867-4233-85CE-F3F2896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DA10-99F6-419A-BC83-BE33074C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CA2B-A253-42F4-AEB0-2D471AE0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CCFD-2706-4808-A3BC-F97927A2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8FAA-742D-4C8C-9B6B-AE51E3AE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03BB-A793-4332-8F88-0836505A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643E-3099-421D-BFF7-0DA8B030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246B-19FA-49E7-BDCD-313CDA7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E9BC-3955-47A0-8526-AA1B525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870-AD7E-465D-9C6F-4743F23E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509A-E5A3-4C42-B3B8-B7EAEFBB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A51BE-F35C-42D4-8417-6B09B41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80E7-B69E-4752-B1AE-60B5ED4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36D2-24F4-418B-9B73-CD205F8D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DD75-61B5-4741-AAF8-0AB368BB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D61F-F9C8-48D9-914D-19984E9D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0EA4-AF5C-4DC0-9A1E-DDC76063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3F4-2659-453F-94FD-9745DF7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C81-7E58-4D7A-A162-CC4349A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F3E-CECE-4FF7-A8F1-0E094242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A2E-1A4B-43C5-B844-A8C906C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D5C-3E7D-40DD-8526-A81E6E08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AC7-6EDC-4D95-86B9-FEF04DD7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EE61-F214-4610-95C8-44F797E3EA1E}" type="slidenum">
              <a:rPr b="0" lang="ru-RU" sz="1200" spc="-1" strike="noStrike">
                <a:solidFill>
                  <a:srgbClr val="898989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4978-1B2E-4F6F-9F0F-C3A6B5F731EF}" type="slidenum">
              <a:rPr b="0" lang="ru-RU" sz="1200" spc="-1" strike="noStrike">
                <a:solidFill>
                  <a:srgbClr val="898989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Wingdings 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41B8-3CE6-4D45-8D1E-D61F4E4CEA75}" type="slidenum">
              <a:rPr b="0" lang="ru-RU" sz="1200" spc="-1" strike="noStrike">
                <a:solidFill>
                  <a:srgbClr val="898989"/>
                </a:solidFill>
                <a:latin typeface="Wingdings 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wmf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gif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wmf"/><Relationship Id="rId6" Type="http://schemas.openxmlformats.org/officeDocument/2006/relationships/image" Target="../media/image66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11.gif"/><Relationship Id="rId4" Type="http://schemas.openxmlformats.org/officeDocument/2006/relationships/image" Target="../media/image69.wmf"/><Relationship Id="rId5" Type="http://schemas.openxmlformats.org/officeDocument/2006/relationships/image" Target="../media/image7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gif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1908000" y="1844640"/>
            <a:ext cx="561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31" name="Picture 9" descr="K:\чертежные инструменты\compasses_web.jpg"/>
          <p:cNvPicPr/>
          <p:nvPr/>
        </p:nvPicPr>
        <p:blipFill>
          <a:blip r:embed="rId1"/>
          <a:srcRect l="0" t="0" r="0" b="8209"/>
          <a:stretch/>
        </p:blipFill>
        <p:spPr>
          <a:xfrm>
            <a:off x="214200" y="1676520"/>
            <a:ext cx="3853080" cy="5038560"/>
          </a:xfrm>
          <a:prstGeom prst="rect">
            <a:avLst/>
          </a:prstGeom>
          <a:ln w="19080">
            <a:solidFill>
              <a:srgbClr val="7e005d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48000" y="259920"/>
            <a:ext cx="5500800" cy="2708280"/>
          </a:xfrm>
          <a:prstGeom prst="rect">
            <a:avLst/>
          </a:prstGeom>
          <a:solidFill>
            <a:srgbClr val="000000"/>
          </a:solidFill>
          <a:ln w="19080">
            <a:solidFill>
              <a:srgbClr val="b0008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00082"/>
                </a:solidFill>
                <a:latin typeface="Calibri Light"/>
              </a:rPr>
              <a:t>«</a:t>
            </a:r>
            <a:r>
              <a:rPr b="0" lang="ru-RU" sz="3200" spc="-1" strike="noStrike">
                <a:solidFill>
                  <a:srgbClr val="b00082"/>
                </a:solidFill>
                <a:latin typeface="Times New Roman"/>
                <a:ea typeface="Times New Roman"/>
              </a:rPr>
              <a:t>ИНСТРУМЕНТЫ И ПРИНАДЛЕЖНОСТИ ДЛЯ ВЫПОЛНЕНИЯ ЧЕРТЕЖЕЙ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5016600" y="3645000"/>
            <a:ext cx="33908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чева Валентина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фаиловна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32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Текст 8"/>
          <p:cNvSpPr/>
          <p:nvPr/>
        </p:nvSpPr>
        <p:spPr>
          <a:xfrm>
            <a:off x="214200" y="2428920"/>
            <a:ext cx="3786480" cy="4286160"/>
          </a:xfrm>
          <a:prstGeom prst="rect">
            <a:avLst/>
          </a:prstGeom>
          <a:solidFill>
            <a:srgbClr val="474747"/>
          </a:solidFill>
          <a:ln w="9360">
            <a:solidFill>
              <a:srgbClr val="ff96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ью  чертежной линейки  является  </a:t>
            </a:r>
            <a:r>
              <a:rPr b="1" lang="ru-RU" sz="16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рейсшин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аются рейсшины шести номеров, длиной, мм: 1-й- 1320,2-й- 1000. 3-й- 900, 4-й -800, 5-й -750 и 6-й – 560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йсшины обычно изготовляют с поперечной головкой на одном конце. Выпускают рейсшины и на роликах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рчении  рейсшину прижимают головкой к торцу чертежной доски, что позволяет проводить параллельные лини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82" name="Picture 11" descr="K:\чертежные инструменты\250px-Efremov_kulman.jpg"/>
          <p:cNvPicPr/>
          <p:nvPr/>
        </p:nvPicPr>
        <p:blipFill>
          <a:blip r:embed="rId5"/>
          <a:stretch/>
        </p:blipFill>
        <p:spPr>
          <a:xfrm>
            <a:off x="6567480" y="349200"/>
            <a:ext cx="2214720" cy="1665360"/>
          </a:xfrm>
          <a:prstGeom prst="rect">
            <a:avLst/>
          </a:prstGeom>
          <a:ln w="9360">
            <a:solidFill>
              <a:srgbClr val="ffaf79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928520" y="213840"/>
            <a:ext cx="378612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964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64f"/>
                </a:solidFill>
                <a:latin typeface="Times New Roman"/>
                <a:ea typeface="Times New Roman"/>
              </a:rPr>
              <a:t>РЕЙСШИ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3" descr="M:\Картинки для офиса\Образование\BS01073_.WMF"/>
          <p:cNvPicPr/>
          <p:nvPr/>
        </p:nvPicPr>
        <p:blipFill>
          <a:blip r:embed="rId6"/>
          <a:stretch/>
        </p:blipFill>
        <p:spPr>
          <a:xfrm flipH="1">
            <a:off x="285840" y="785880"/>
            <a:ext cx="1877760" cy="1643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K:\чертежные инструменты\рейсшина с роликами2.jpg"/>
          <p:cNvPicPr/>
          <p:nvPr/>
        </p:nvPicPr>
        <p:blipFill>
          <a:blip r:embed="rId7"/>
          <a:stretch/>
        </p:blipFill>
        <p:spPr>
          <a:xfrm>
            <a:off x="4643280" y="4118040"/>
            <a:ext cx="3854520" cy="1974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K:\чертежные инструменты\доска5.jpg"/>
          <p:cNvPicPr/>
          <p:nvPr/>
        </p:nvPicPr>
        <p:blipFill>
          <a:blip r:embed="rId8"/>
          <a:stretch/>
        </p:blipFill>
        <p:spPr>
          <a:xfrm>
            <a:off x="4332240" y="167148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Текст 8"/>
          <p:cNvSpPr/>
          <p:nvPr/>
        </p:nvSpPr>
        <p:spPr>
          <a:xfrm>
            <a:off x="857160" y="285840"/>
            <a:ext cx="44290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ТРАНСПОРТИР</a:t>
            </a:r>
            <a:r>
              <a:rPr b="0" lang="ru-RU" sz="3600" spc="-1" strike="noStrike">
                <a:solidFill>
                  <a:srgbClr val="ff964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14200" y="2233800"/>
            <a:ext cx="4214880" cy="3351960"/>
          </a:xfrm>
          <a:prstGeom prst="rect">
            <a:avLst/>
          </a:prstGeom>
          <a:solidFill>
            <a:srgbClr val="474747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 для измерения и построения углов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мерении угла его вершину совмещают с центром транспортира, а одну из сторон угла - с диаметром транспортира. Тогда направление другой стороны угла будет указывать на транспортире деление, равное величине угла в градусах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ым образом с помощью транспортира можно построить необходимый угол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 измерение углов более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180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обнее производить с помощью круглого транспортир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89" name="Picture 2" descr="K:\чертежные инструменты\транспартир4.jpg"/>
          <p:cNvPicPr/>
          <p:nvPr/>
        </p:nvPicPr>
        <p:blipFill>
          <a:blip r:embed="rId1"/>
          <a:stretch/>
        </p:blipFill>
        <p:spPr>
          <a:xfrm>
            <a:off x="5429160" y="214200"/>
            <a:ext cx="3505320" cy="227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0" name="Picture 4" descr="K:\чертежные инструменты\транспортир.jpg"/>
          <p:cNvPicPr/>
          <p:nvPr/>
        </p:nvPicPr>
        <p:blipFill>
          <a:blip r:embed="rId2"/>
          <a:stretch/>
        </p:blipFill>
        <p:spPr>
          <a:xfrm>
            <a:off x="5635800" y="3349800"/>
            <a:ext cx="3039840" cy="28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Picture 5" descr="M:\Картинки для офиса\Образование\BD05097_.WMF"/>
          <p:cNvPicPr/>
          <p:nvPr/>
        </p:nvPicPr>
        <p:blipFill>
          <a:blip r:embed="rId3"/>
          <a:stretch/>
        </p:blipFill>
        <p:spPr>
          <a:xfrm>
            <a:off x="4429080" y="2421000"/>
            <a:ext cx="1805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Текст 8"/>
          <p:cNvSpPr/>
          <p:nvPr/>
        </p:nvSpPr>
        <p:spPr>
          <a:xfrm>
            <a:off x="428760" y="285840"/>
            <a:ext cx="77864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ШАБЛОНЫ И ТРАФАРЕТЫ</a:t>
            </a:r>
            <a:r>
              <a:rPr b="0" lang="ru-RU" sz="3600" spc="-1" strike="noStrike">
                <a:solidFill>
                  <a:srgbClr val="ff964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93" name="Picture 2" descr="K:\чертежные инструменты\шаблон эллипсы.jpg"/>
          <p:cNvPicPr/>
          <p:nvPr/>
        </p:nvPicPr>
        <p:blipFill>
          <a:blip r:embed="rId1"/>
          <a:stretch/>
        </p:blipFill>
        <p:spPr>
          <a:xfrm>
            <a:off x="4572000" y="4929120"/>
            <a:ext cx="398304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3" descr="K:\чертежные инструменты\шаблон окружности.jpg"/>
          <p:cNvPicPr/>
          <p:nvPr/>
        </p:nvPicPr>
        <p:blipFill>
          <a:blip r:embed="rId2"/>
          <a:stretch/>
        </p:blipFill>
        <p:spPr>
          <a:xfrm>
            <a:off x="4768920" y="3429000"/>
            <a:ext cx="401796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4" descr="K:\чертежные инструменты\трафарет.jpg"/>
          <p:cNvPicPr/>
          <p:nvPr/>
        </p:nvPicPr>
        <p:blipFill>
          <a:blip r:embed="rId3"/>
          <a:stretch/>
        </p:blipFill>
        <p:spPr>
          <a:xfrm>
            <a:off x="2252520" y="3903840"/>
            <a:ext cx="210672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"/>
          <p:cNvSpPr/>
          <p:nvPr/>
        </p:nvSpPr>
        <p:spPr>
          <a:xfrm>
            <a:off x="214200" y="1447200"/>
            <a:ext cx="6143760" cy="1615680"/>
          </a:xfrm>
          <a:prstGeom prst="rect">
            <a:avLst/>
          </a:prstGeom>
          <a:solidFill>
            <a:srgbClr val="474747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ая пластинка с разными  прорезанными в ней вырезами, знаками, рисунками подлежащими  воспроизведению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фареты облегчают работу над чертежами  и сокращают время, затраченное на их выполнение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97" name="Picture 7" descr="K:\чертежные инструменты\шаблон радиусник.jpg"/>
          <p:cNvPicPr/>
          <p:nvPr/>
        </p:nvPicPr>
        <p:blipFill>
          <a:blip r:embed="rId6"/>
          <a:stretch/>
        </p:blipFill>
        <p:spPr>
          <a:xfrm>
            <a:off x="6500880" y="1285920"/>
            <a:ext cx="245088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Picture 10" descr="K:\чертежные инструменты\lomus.jpg"/>
          <p:cNvPicPr/>
          <p:nvPr/>
        </p:nvPicPr>
        <p:blipFill>
          <a:blip r:embed="rId7"/>
          <a:srcRect l="6071" t="0" r="5836" b="0"/>
          <a:stretch/>
        </p:blipFill>
        <p:spPr>
          <a:xfrm>
            <a:off x="365040" y="4937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K:\чертежные инструменты\logcher.jpg"/>
          <p:cNvPicPr/>
          <p:nvPr/>
        </p:nvPicPr>
        <p:blipFill>
          <a:blip r:embed="rId8"/>
          <a:stretch/>
        </p:blipFill>
        <p:spPr>
          <a:xfrm>
            <a:off x="214200" y="3429000"/>
            <a:ext cx="17226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35816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1" name="Picture 3" descr="K:\чертежные инструменты\карандаши2.jpg"/>
          <p:cNvPicPr/>
          <p:nvPr/>
        </p:nvPicPr>
        <p:blipFill>
          <a:blip r:embed="rId1"/>
          <a:stretch/>
        </p:blipFill>
        <p:spPr>
          <a:xfrm>
            <a:off x="285840" y="1071720"/>
            <a:ext cx="157320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Picture 7" descr="K:\чертежные инструменты\карандаши4.jpg"/>
          <p:cNvPicPr/>
          <p:nvPr/>
        </p:nvPicPr>
        <p:blipFill>
          <a:blip r:embed="rId2"/>
          <a:srcRect l="3918" t="19615" r="3918" b="3918"/>
          <a:stretch/>
        </p:blipFill>
        <p:spPr>
          <a:xfrm>
            <a:off x="285840" y="3929040"/>
            <a:ext cx="335736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Прямоугольник 16"/>
          <p:cNvSpPr/>
          <p:nvPr/>
        </p:nvSpPr>
        <p:spPr>
          <a:xfrm>
            <a:off x="3929040" y="357120"/>
            <a:ext cx="4714920" cy="547884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a05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черный пишущий стержень, вставленный в деревянную оправу круглого или шестигранного сечения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щий стержень обычно называ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феле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е (простые) стержни изготавливают из смеси графита и белой глины. Чем меньше глины, тем мягче пишущий стержень и тем меньше требуется усилий, чтобы начертить линию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даши, в зависимости от характера назначения выполняемых чертежных работ и сорта бумаги, подбираются с соответствующей твердостью графит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е карандаши обозначаются буквой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Т"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ие -буквой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М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еред буквой стоит цифра, указывающа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пень тверд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ягкости) грифеля. С увеличением цифры возрастает твердость или мягкость грифеля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04" name="Picture 10" descr="M:\Картинки для офиса\Учителя учинеки\Рисунок35.emf"/>
          <p:cNvPicPr/>
          <p:nvPr/>
        </p:nvPicPr>
        <p:blipFill>
          <a:blip r:embed="rId3"/>
          <a:stretch/>
        </p:blipFill>
        <p:spPr>
          <a:xfrm>
            <a:off x="1785960" y="1000080"/>
            <a:ext cx="213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K:\чертежные инструменты\карандаши12.jpg"/>
          <p:cNvPicPr/>
          <p:nvPr/>
        </p:nvPicPr>
        <p:blipFill>
          <a:blip r:embed="rId1"/>
          <a:stretch/>
        </p:blipFill>
        <p:spPr>
          <a:xfrm>
            <a:off x="4743360" y="189000"/>
            <a:ext cx="328464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Прямоугольник 7"/>
          <p:cNvSpPr/>
          <p:nvPr/>
        </p:nvSpPr>
        <p:spPr>
          <a:xfrm>
            <a:off x="3214800" y="2571840"/>
            <a:ext cx="5500440" cy="426204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промышленность выпускает чертежные карандаши следующих марок: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Картограф", "Конструктор", "Политехник", "Топограф"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надцати степеней твердости (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обыкновенных карандашей выпускаются еще и автоматические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рубежных марок карандашей наиболее известны карандаши фир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H-I-NOOR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ость и мягкость зарубежных карандашей обозначается латинскими буквами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ые 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гкие от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мягкие карандаши обозначаютс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07" name="Picture 2" descr="K:\чертежные инструменты\карандаши3.jpg"/>
          <p:cNvPicPr/>
          <p:nvPr/>
        </p:nvPicPr>
        <p:blipFill>
          <a:blip r:embed="rId2"/>
          <a:stretch/>
        </p:blipFill>
        <p:spPr>
          <a:xfrm>
            <a:off x="142920" y="3786120"/>
            <a:ext cx="292896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Picture 5" descr="M:\Картинки для офиса\Образование\BS01096_.WMF"/>
          <p:cNvPicPr/>
          <p:nvPr/>
        </p:nvPicPr>
        <p:blipFill>
          <a:blip r:embed="rId3"/>
          <a:stretch/>
        </p:blipFill>
        <p:spPr>
          <a:xfrm>
            <a:off x="674640" y="1595520"/>
            <a:ext cx="1865520" cy="1357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35816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КАРАНДАШ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4"/>
          <p:cNvSpPr/>
          <p:nvPr/>
        </p:nvSpPr>
        <p:spPr>
          <a:xfrm>
            <a:off x="214200" y="1289160"/>
            <a:ext cx="5143680" cy="523548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ычерчивании работ используют карандаши только хорошего качества. Они должны обладать следующими свойствами: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тачиваться без поломок;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ерчивать тонкие, четкие линии;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царапать бумагу;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нии, проведенные карандашом, не должны выцветать и терять со временем густоту окраски и должны легко стираться резинкой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атачиваю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андаши ножом - резаком, а окончательно шлифуют на мелкой наждачной бумаге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чинять карандаши следуе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на кону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ой д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8 м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 конца, свободного от маркиров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огда для прочерчивания прямых линий по линейке грифель у карандашей очиняют в ви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лопаточ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47800" y="285480"/>
            <a:ext cx="35812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2" name="Picture 3" descr="K:\чертежные инструменты\карандаши11.jpg"/>
          <p:cNvPicPr/>
          <p:nvPr/>
        </p:nvPicPr>
        <p:blipFill>
          <a:blip r:embed="rId1"/>
          <a:stretch/>
        </p:blipFill>
        <p:spPr>
          <a:xfrm>
            <a:off x="5143680" y="214200"/>
            <a:ext cx="186516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8" descr="ss11r14"/>
          <p:cNvPicPr/>
          <p:nvPr/>
        </p:nvPicPr>
        <p:blipFill>
          <a:blip r:embed="rId2"/>
          <a:srcRect l="0" t="0" r="33373" b="0"/>
          <a:stretch/>
        </p:blipFill>
        <p:spPr>
          <a:xfrm>
            <a:off x="5572080" y="1285920"/>
            <a:ext cx="1654200" cy="3143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1"/>
          <p:cNvSpPr/>
          <p:nvPr/>
        </p:nvSpPr>
        <p:spPr>
          <a:xfrm>
            <a:off x="5929200" y="1571760"/>
            <a:ext cx="13575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Т , ТМ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15" name="Picture 9" descr="as14"/>
          <p:cNvPicPr/>
          <p:nvPr/>
        </p:nvPicPr>
        <p:blipFill>
          <a:blip r:embed="rId3"/>
          <a:srcRect l="37899" t="37145" r="0" b="0"/>
          <a:stretch/>
        </p:blipFill>
        <p:spPr>
          <a:xfrm>
            <a:off x="5500800" y="4572000"/>
            <a:ext cx="2786040" cy="1843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2"/>
          <p:cNvSpPr/>
          <p:nvPr/>
        </p:nvSpPr>
        <p:spPr>
          <a:xfrm>
            <a:off x="5873760" y="4714920"/>
            <a:ext cx="912960" cy="10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Impact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7215120" y="4786200"/>
            <a:ext cx="157176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М – 4М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18" name="Picture 19" descr="M:\Анимашки\Школа\AG00006_.GIF"/>
          <p:cNvPicPr/>
          <p:nvPr/>
        </p:nvPicPr>
        <p:blipFill>
          <a:blip r:embed="rId4"/>
          <a:stretch/>
        </p:blipFill>
        <p:spPr>
          <a:xfrm>
            <a:off x="7072200" y="2714760"/>
            <a:ext cx="1859040" cy="1347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K:\чертежные инструменты\карандаши.jpg"/>
          <p:cNvPicPr/>
          <p:nvPr/>
        </p:nvPicPr>
        <p:blipFill>
          <a:blip r:embed="rId5"/>
          <a:srcRect l="0" t="2234" r="0" b="2234"/>
          <a:stretch/>
        </p:blipFill>
        <p:spPr>
          <a:xfrm>
            <a:off x="7572240" y="214200"/>
            <a:ext cx="140508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6357960" cy="8953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НКА (Ласти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429080" y="2071800"/>
            <a:ext cx="4214880" cy="421488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abaff"/>
                </a:solidFill>
                <a:latin typeface="Times New Roman"/>
                <a:ea typeface="Times New Roman"/>
              </a:rPr>
              <a:t>Немаловажная вещь в черчении  - ластик.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авливают ластики (резинки)  из специальных сортов резины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небольшой кусочек винила или каучук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для удаления с чертежа карандашных линий, а также для чистки полей готового чертеж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ртежных работ используют те резинки, на которых изображен карандаш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приобретать резинки фирм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KOH-I-NOOR"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отечественные карандашные резин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22" name="Picture 12" descr="M:\Картинки для офиса\Образование\J0079074.WMF"/>
          <p:cNvPicPr/>
          <p:nvPr/>
        </p:nvPicPr>
        <p:blipFill>
          <a:blip r:embed="rId1"/>
          <a:stretch/>
        </p:blipFill>
        <p:spPr>
          <a:xfrm>
            <a:off x="6786720" y="428760"/>
            <a:ext cx="2071440" cy="150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K:\чертежные инструменты\ластики.jpg"/>
          <p:cNvPicPr/>
          <p:nvPr/>
        </p:nvPicPr>
        <p:blipFill>
          <a:blip r:embed="rId2"/>
          <a:stretch/>
        </p:blipFill>
        <p:spPr>
          <a:xfrm>
            <a:off x="214200" y="4081320"/>
            <a:ext cx="2949840" cy="25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4" descr="K:\чертежные инструменты\ластик5.gif"/>
          <p:cNvPicPr/>
          <p:nvPr/>
        </p:nvPicPr>
        <p:blipFill>
          <a:blip r:embed="rId3"/>
          <a:stretch/>
        </p:blipFill>
        <p:spPr>
          <a:xfrm>
            <a:off x="1187280" y="1347840"/>
            <a:ext cx="25718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6000840" cy="7527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НКА (Ластик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14200" y="1071720"/>
            <a:ext cx="5572080" cy="564336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резинка должна быть мягкой и снимать с бумаги карандашные линии, удалять грязь, не оставлять на бумаге пятен и не лохматить ее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черчения не рекомендуется часто пользоваться резинкой, поэтому лучше не проводить лишних линий (особенно лишних </a:t>
            </a:r>
            <a:r>
              <a:rPr b="1" lang="ru-RU" sz="1400" spc="-1" strike="noStrike">
                <a:solidFill>
                  <a:srgbClr val="babaff"/>
                </a:solidFill>
                <a:latin typeface="Times New Roman"/>
                <a:ea typeface="Times New Roman"/>
              </a:rPr>
              <a:t>жирных</a:t>
            </a:r>
            <a:r>
              <a:rPr b="1" lang="ru-RU" sz="1400" spc="-1" strike="noStrike">
                <a:solidFill>
                  <a:srgbClr val="7575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й). Только когда чертеж будет полностью готов, его следует почистить ластико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обства резинку лучше разрезать по диагонали и стирать острыми гранями с легким нажимом в одном направлени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ильном нажиме и быстром стирании резинка разогревается от трения и размазывает графит, втирая его в бумагу. Такие пятна трудно удаляются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нка должна быть всегда чистой, перед началом работы ее пробуют на клочке бумаг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baba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нка, долго лежавшая в сухом месте, покрывается твердой коркой, поэтому хранить резинки длительное время не рекомендуется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27" name="Picture 2" descr="K:\чертежные инструменты\ластик2.jpg"/>
          <p:cNvPicPr/>
          <p:nvPr/>
        </p:nvPicPr>
        <p:blipFill>
          <a:blip r:embed="rId1"/>
          <a:stretch/>
        </p:blipFill>
        <p:spPr>
          <a:xfrm>
            <a:off x="6286680" y="1165320"/>
            <a:ext cx="235728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Picture 5" descr="K:\чертежные инструменты\бумага7.jpg"/>
          <p:cNvPicPr/>
          <p:nvPr/>
        </p:nvPicPr>
        <p:blipFill>
          <a:blip r:embed="rId2"/>
          <a:srcRect l="0" t="0" r="0" b="13002"/>
          <a:stretch/>
        </p:blipFill>
        <p:spPr>
          <a:xfrm>
            <a:off x="6072120" y="4365720"/>
            <a:ext cx="25718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9" name="Picture 18" descr="M:\Анимашки\Школа\Карандаш.gif"/>
          <p:cNvPicPr/>
          <p:nvPr/>
        </p:nvPicPr>
        <p:blipFill>
          <a:blip r:embed="rId3"/>
          <a:stretch/>
        </p:blipFill>
        <p:spPr>
          <a:xfrm>
            <a:off x="6630840" y="2913120"/>
            <a:ext cx="1454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K:\чертежные инструменты\готовальня3.jpg"/>
          <p:cNvPicPr/>
          <p:nvPr/>
        </p:nvPicPr>
        <p:blipFill>
          <a:blip r:embed="rId1"/>
          <a:stretch/>
        </p:blipFill>
        <p:spPr>
          <a:xfrm>
            <a:off x="3890880" y="4460760"/>
            <a:ext cx="3273480" cy="21942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31" name="Прямоугольник 6"/>
          <p:cNvSpPr/>
          <p:nvPr/>
        </p:nvSpPr>
        <p:spPr>
          <a:xfrm>
            <a:off x="2500200" y="285840"/>
            <a:ext cx="6000840" cy="3747240"/>
          </a:xfrm>
          <a:prstGeom prst="rect">
            <a:avLst/>
          </a:prstGeom>
          <a:solidFill>
            <a:srgbClr val="474747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тдельных чертежных инструментов комплектуют наборы – готовальн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готовален, кроме </a:t>
            </a:r>
            <a:r>
              <a:rPr b="1" lang="ru-RU" sz="1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чертежного циркуля, кронциркуля, разметочного и микроциркул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т удлинитель к кронциркулю, вставки карандашные и игольные, ручки, пенал, отвертк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альни в зависимости от вида и количества входящих в них чертежных принадлежностей выпускают следующих марок: универсальные - У9, У10, У11, У14, У15, У24, У32 (цифра указывает количество инструментов в наборе); конструкторские - большая КБ из 14 предметов и малая КМ из 13; портативная П из 5 предметов и школьная Ш из 7 предметов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яют также готовальни специального назначения: копировочные - из 13 предметов, топографические - из 7, картографические - из   11.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642960" cy="6429600"/>
          </a:xfrm>
          <a:prstGeom prst="rect">
            <a:avLst/>
          </a:prstGeom>
          <a:solidFill>
            <a:srgbClr val="000000"/>
          </a:solidFill>
          <a:ln w="28440">
            <a:solidFill>
              <a:srgbClr val="99ff3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Г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О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Т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О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В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А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Л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Ь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Н</a:t>
            </a:r>
            <a:br>
              <a:rPr sz="3600"/>
            </a:br>
            <a:r>
              <a:rPr b="1" lang="ru-RU" sz="40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3" name="Picture 7" descr="K:\чертежные инструменты\готовальня...jpg"/>
          <p:cNvPicPr/>
          <p:nvPr/>
        </p:nvPicPr>
        <p:blipFill>
          <a:blip r:embed="rId2"/>
          <a:srcRect l="29255" t="1440" r="28008" b="2370"/>
          <a:stretch/>
        </p:blipFill>
        <p:spPr>
          <a:xfrm>
            <a:off x="896760" y="4079880"/>
            <a:ext cx="1143000" cy="257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9" descr="M:\Картинки для офиса\Образование\BD05102_.WMF"/>
          <p:cNvPicPr/>
          <p:nvPr/>
        </p:nvPicPr>
        <p:blipFill>
          <a:blip r:embed="rId3"/>
          <a:stretch/>
        </p:blipFill>
        <p:spPr>
          <a:xfrm>
            <a:off x="857160" y="428760"/>
            <a:ext cx="16430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7429320" cy="843120"/>
          </a:xfrm>
          <a:prstGeom prst="rect">
            <a:avLst/>
          </a:prstGeom>
          <a:solidFill>
            <a:srgbClr val="000000"/>
          </a:solidFill>
          <a:ln w="28440">
            <a:solidFill>
              <a:srgbClr val="33ac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ЦИРКУЛЬ - ИЗМЕРИТЕЛЬ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6" name="Picture 14" descr="K:\чертежные инструменты\линейки6_.jpg"/>
          <p:cNvPicPr/>
          <p:nvPr/>
        </p:nvPicPr>
        <p:blipFill>
          <a:blip r:embed="rId1"/>
          <a:srcRect l="0" t="26961" r="0" b="49683"/>
          <a:stretch/>
        </p:blipFill>
        <p:spPr>
          <a:xfrm>
            <a:off x="2365200" y="5786280"/>
            <a:ext cx="6350040" cy="9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M:\Картинки для офиса\Образование\ED00106_.WMF"/>
          <p:cNvPicPr/>
          <p:nvPr/>
        </p:nvPicPr>
        <p:blipFill>
          <a:blip r:embed="rId2"/>
          <a:stretch/>
        </p:blipFill>
        <p:spPr>
          <a:xfrm>
            <a:off x="2567160" y="3357720"/>
            <a:ext cx="1357200" cy="2643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K:\чертежные инструменты\циркуль - измеритель3.jpg"/>
          <p:cNvPicPr/>
          <p:nvPr/>
        </p:nvPicPr>
        <p:blipFill>
          <a:blip r:embed="rId3"/>
          <a:stretch/>
        </p:blipFill>
        <p:spPr>
          <a:xfrm>
            <a:off x="5148360" y="1171440"/>
            <a:ext cx="3286080" cy="16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7" descr="K:\чертежные инструменты\циркуль измеритель.jpg"/>
          <p:cNvPicPr/>
          <p:nvPr/>
        </p:nvPicPr>
        <p:blipFill>
          <a:blip r:embed="rId4"/>
          <a:stretch/>
        </p:blipFill>
        <p:spPr>
          <a:xfrm>
            <a:off x="109440" y="2214720"/>
            <a:ext cx="2357640" cy="33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9" descr="M:\Картинки для офиса\Образование\BS01143_.WMF"/>
          <p:cNvPicPr/>
          <p:nvPr/>
        </p:nvPicPr>
        <p:blipFill>
          <a:blip r:embed="rId5"/>
          <a:stretch/>
        </p:blipFill>
        <p:spPr>
          <a:xfrm>
            <a:off x="19080" y="71280"/>
            <a:ext cx="1766880" cy="1857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K:\чертежные инструменты\циркуль - измеритель4.jpg"/>
          <p:cNvPicPr/>
          <p:nvPr/>
        </p:nvPicPr>
        <p:blipFill>
          <a:blip r:embed="rId6"/>
          <a:stretch/>
        </p:blipFill>
        <p:spPr>
          <a:xfrm>
            <a:off x="2835360" y="1143000"/>
            <a:ext cx="2022480" cy="21430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0"/>
          <p:cNvSpPr/>
          <p:nvPr/>
        </p:nvSpPr>
        <p:spPr>
          <a:xfrm>
            <a:off x="4143240" y="2924280"/>
            <a:ext cx="4572000" cy="2801880"/>
          </a:xfrm>
          <a:prstGeom prst="rect">
            <a:avLst/>
          </a:prstGeom>
          <a:solidFill>
            <a:srgbClr val="000000"/>
          </a:solidFill>
          <a:ln w="9360">
            <a:solidFill>
              <a:srgbClr val="33a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ь – измеритель или </a:t>
            </a:r>
            <a:r>
              <a:rPr b="1" lang="ru-RU" sz="1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разметочный цирку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ужит для измерения и для откладывания на плане отрезков прямых линий, а также для деления отрезков и дуг окружностей на равные част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стоит из двух </a:t>
            </a:r>
            <a:r>
              <a:rPr b="1" lang="ru-RU" sz="1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ноже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ных шарниром. Концы ножек снабжены винтами, которые закрепляют сменные </a:t>
            </a:r>
            <a:r>
              <a:rPr b="1" lang="ru-RU" sz="1600" spc="-1" strike="noStrike">
                <a:solidFill>
                  <a:srgbClr val="33acff"/>
                </a:solidFill>
                <a:latin typeface="Times New Roman"/>
                <a:ea typeface="Times New Roman"/>
              </a:rPr>
              <a:t>иголк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33a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781200"/>
            <a:ext cx="5643720" cy="2071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 Light"/>
              </a:rPr>
              <a:t>Что мы должны сегодня узнать и запомнить</a:t>
            </a:r>
            <a:r>
              <a:rPr b="1" lang="ru-RU" sz="4400" spc="-1" strike="noStrike">
                <a:solidFill>
                  <a:srgbClr val="ffc000"/>
                </a:solidFill>
                <a:latin typeface="Calibri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285840" y="3290760"/>
            <a:ext cx="5294160" cy="2659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струменты и принадлежности 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пользования ими и рациональные приемы работы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рабочего места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работы со справочной и специальной литературой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36" name="Picture 8" descr="M:\Картинки для офиса\Образование\BD05091_.WMF"/>
          <p:cNvPicPr/>
          <p:nvPr/>
        </p:nvPicPr>
        <p:blipFill>
          <a:blip r:embed="rId1"/>
          <a:stretch/>
        </p:blipFill>
        <p:spPr>
          <a:xfrm>
            <a:off x="5607000" y="2857680"/>
            <a:ext cx="339408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259920"/>
            <a:ext cx="5286600" cy="9860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ЦИРКУЛЬ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5000760" y="1762200"/>
            <a:ext cx="3643200" cy="3987720"/>
          </a:xfrm>
          <a:prstGeom prst="rect">
            <a:avLst/>
          </a:prstGeom>
          <a:solidFill>
            <a:srgbClr val="47474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кроциркуль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еточный кронцирку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 для измерения и для откладывания на плане небольших отрезков  и деления линий на равные части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набжен микрометрическим винтом, который позволяет длительное время сохранять величину взятого раствор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ая величина раствора разметочного кронциркуля небольшая и зависит от длины микрометрического винт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45" name="Picture 7" descr="K:\чертежные инструменты\циркуль микроциркуль7.jpg"/>
          <p:cNvPicPr/>
          <p:nvPr/>
        </p:nvPicPr>
        <p:blipFill>
          <a:blip r:embed="rId1"/>
          <a:stretch/>
        </p:blipFill>
        <p:spPr>
          <a:xfrm>
            <a:off x="142920" y="4714920"/>
            <a:ext cx="1857240" cy="18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6" name="Picture 10" descr="K:\чертежные инструменты\циркуль микроциркуль10.jpg"/>
          <p:cNvPicPr/>
          <p:nvPr/>
        </p:nvPicPr>
        <p:blipFill>
          <a:blip r:embed="rId2"/>
          <a:stretch/>
        </p:blipFill>
        <p:spPr>
          <a:xfrm>
            <a:off x="142920" y="2276640"/>
            <a:ext cx="1857240" cy="139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7" name="Picture 5" descr="M:\Анимашки\Символы кнопки\AG00090_.GIF"/>
          <p:cNvPicPr/>
          <p:nvPr/>
        </p:nvPicPr>
        <p:blipFill>
          <a:blip r:embed="rId3"/>
          <a:stretch/>
        </p:blipFill>
        <p:spPr>
          <a:xfrm>
            <a:off x="714240" y="4429080"/>
            <a:ext cx="681120" cy="701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M:\Картинки для офиса\Образование\BS01044_.WMF"/>
          <p:cNvPicPr/>
          <p:nvPr/>
        </p:nvPicPr>
        <p:blipFill>
          <a:blip r:embed="rId4"/>
          <a:stretch/>
        </p:blipFill>
        <p:spPr>
          <a:xfrm>
            <a:off x="6535800" y="263520"/>
            <a:ext cx="1590480" cy="1500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K:\чертежные инструменты\готовальня3.jpg"/>
          <p:cNvPicPr/>
          <p:nvPr/>
        </p:nvPicPr>
        <p:blipFill>
          <a:blip r:embed="rId5"/>
          <a:stretch/>
        </p:blipFill>
        <p:spPr>
          <a:xfrm>
            <a:off x="2571840" y="2786040"/>
            <a:ext cx="2381040" cy="3552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M:\Анимашки\Символы кнопки\AG00090_.GIF"/>
          <p:cNvPicPr/>
          <p:nvPr/>
        </p:nvPicPr>
        <p:blipFill>
          <a:blip r:embed="rId6"/>
          <a:stretch/>
        </p:blipFill>
        <p:spPr>
          <a:xfrm>
            <a:off x="4000680" y="2428920"/>
            <a:ext cx="6807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6383520" cy="6285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УГОВОЙ  ЦИРКУЛЬ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52" name="Picture 15" descr="K:\чертежные инструменты\циркуль чертежный2.jpg"/>
          <p:cNvPicPr/>
          <p:nvPr/>
        </p:nvPicPr>
        <p:blipFill>
          <a:blip r:embed="rId1"/>
          <a:srcRect l="23804" t="7323" r="31500" b="7227"/>
          <a:stretch/>
        </p:blipFill>
        <p:spPr>
          <a:xfrm>
            <a:off x="5156280" y="2637000"/>
            <a:ext cx="2428920" cy="348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9" descr="M:\Картинки для офиса\Образование\Циркуль1.wmf"/>
          <p:cNvPicPr/>
          <p:nvPr/>
        </p:nvPicPr>
        <p:blipFill>
          <a:blip r:embed="rId2"/>
          <a:stretch/>
        </p:blipFill>
        <p:spPr>
          <a:xfrm>
            <a:off x="7256520" y="328680"/>
            <a:ext cx="1488960" cy="2206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K:\чертежные инструменты\22445514.jpg"/>
          <p:cNvPicPr/>
          <p:nvPr/>
        </p:nvPicPr>
        <p:blipFill>
          <a:blip r:embed="rId3"/>
          <a:stretch/>
        </p:blipFill>
        <p:spPr>
          <a:xfrm>
            <a:off x="5722920" y="110160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9"/>
          <p:cNvSpPr/>
          <p:nvPr/>
        </p:nvSpPr>
        <p:spPr>
          <a:xfrm>
            <a:off x="214200" y="1071720"/>
            <a:ext cx="4786560" cy="544788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ртежный циркуль или круговой цирку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для вычерчивания окружностей диаметром более 5 мм и от циркуля-измерителя отличается тем, что в одну из его ножек можно вставлять муфточку-держатель с графитом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добства вычерчивания ножка с графитом может сгибаться. При вычерчивании окружностей больших радиусов в ножку кругового циркуля   вставляют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линитель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ке чертежного цирку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аботе необходимо выполнять общие требования и следить, чтобы: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тель грифеля, или удлинительная приставка плотно входили бы в наконечник и не шатались в нем после закрепления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а находилась бы против середины створок рейсфедера и была бы немного длиннее их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фель в держателе был бы хорошо заточен и установлен несколько выше конца иглы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00320" y="213840"/>
            <a:ext cx="44290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6a0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a05"/>
                </a:solidFill>
                <a:latin typeface="Calibri Light"/>
              </a:rPr>
              <a:t>КРОНЦИРКУЛ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4643280" y="1135080"/>
            <a:ext cx="4071960" cy="4782600"/>
          </a:xfrm>
          <a:prstGeom prst="rect">
            <a:avLst/>
          </a:prstGeom>
          <a:solidFill>
            <a:srgbClr val="474747"/>
          </a:solidFill>
          <a:ln w="936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нциркуль служит для вычерчивания окружностей радиусом до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7 м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едставляет собой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цилиндрическую втул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нутри которой свободно вращается и двигается вверх и вниз стальной тонк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стержень,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ного конца которого прикреплена шляпка, а другой конец остро заточен в виде иглы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тулке на гибкой пластинке прикреплена муфточка с грифеле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расстояния между острием стержня и концом рейсфедера, а так же установка нужного радиуса окружности, производитс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микрометрическим винто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этого винта пластина может приближаться и удаляться от цилиндрической втулки, что и дает возможность вычерчивать окружности малых размеров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buClr>
                <a:srgbClr val="ff6a0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58" name="Рисунок 7" descr="kronv5.jpg (4686 bytes)"/>
          <p:cNvPicPr/>
          <p:nvPr/>
        </p:nvPicPr>
        <p:blipFill>
          <a:blip r:embed="rId1"/>
          <a:srcRect l="1935" t="6507" r="3669" b="8476"/>
          <a:stretch/>
        </p:blipFill>
        <p:spPr>
          <a:xfrm>
            <a:off x="285840" y="1071720"/>
            <a:ext cx="3627360" cy="96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59" name="Picture 16" descr="K:\чертежные инструменты\готовальня3.jpg"/>
          <p:cNvPicPr/>
          <p:nvPr/>
        </p:nvPicPr>
        <p:blipFill>
          <a:blip r:embed="rId2"/>
          <a:srcRect l="4082" t="2888" r="4082" b="8208"/>
          <a:stretch/>
        </p:blipFill>
        <p:spPr>
          <a:xfrm>
            <a:off x="838080" y="2852640"/>
            <a:ext cx="2522520" cy="3643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M:\Анимашки\Символы кнопки\AG00090_.GIF"/>
          <p:cNvPicPr/>
          <p:nvPr/>
        </p:nvPicPr>
        <p:blipFill>
          <a:blip r:embed="rId3"/>
          <a:stretch/>
        </p:blipFill>
        <p:spPr>
          <a:xfrm>
            <a:off x="1803240" y="2421000"/>
            <a:ext cx="681120" cy="701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:\Анимашки\Символы кнопки\AG00090_.GIF"/>
          <p:cNvPicPr/>
          <p:nvPr/>
        </p:nvPicPr>
        <p:blipFill>
          <a:blip r:embed="rId4"/>
          <a:stretch/>
        </p:blipFill>
        <p:spPr>
          <a:xfrm>
            <a:off x="2000160" y="428760"/>
            <a:ext cx="681120" cy="701640"/>
          </a:xfrm>
          <a:prstGeom prst="rect">
            <a:avLst/>
          </a:prstGeom>
          <a:ln w="0">
            <a:noFill/>
          </a:ln>
        </p:spPr>
      </p:pic>
      <p:sp>
        <p:nvSpPr>
          <p:cNvPr id="262" name="Заголовок 1"/>
          <p:cNvSpPr/>
          <p:nvPr/>
        </p:nvSpPr>
        <p:spPr>
          <a:xfrm>
            <a:off x="4000680" y="214200"/>
            <a:ext cx="442908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КРОНЦИРКУЛЬ</a:t>
            </a:r>
            <a:endParaRPr b="0" lang="en-US" sz="3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2811600" cy="843120"/>
          </a:xfrm>
          <a:prstGeom prst="rect">
            <a:avLst/>
          </a:prstGeom>
          <a:solidFill>
            <a:srgbClr val="000000"/>
          </a:solidFill>
          <a:ln w="28440">
            <a:solidFill>
              <a:srgbClr val="f8cba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cbad"/>
                </a:solidFill>
                <a:latin typeface="Calibri Light"/>
              </a:rPr>
              <a:t>КЕЙ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4" name="Picture 3" descr="M:\Картинки для офиса\Образование\BS01078_.WMF"/>
          <p:cNvPicPr/>
          <p:nvPr/>
        </p:nvPicPr>
        <p:blipFill>
          <a:blip r:embed="rId1"/>
          <a:stretch/>
        </p:blipFill>
        <p:spPr>
          <a:xfrm>
            <a:off x="395280" y="5105520"/>
            <a:ext cx="1500120" cy="1377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K:\чертежные инструменты\кейс1.jpg"/>
          <p:cNvPicPr/>
          <p:nvPr/>
        </p:nvPicPr>
        <p:blipFill>
          <a:blip r:embed="rId2"/>
          <a:stretch/>
        </p:blipFill>
        <p:spPr>
          <a:xfrm>
            <a:off x="395280" y="1700280"/>
            <a:ext cx="394812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Прямоугольник 7"/>
          <p:cNvSpPr/>
          <p:nvPr/>
        </p:nvSpPr>
        <p:spPr>
          <a:xfrm>
            <a:off x="2660760" y="5192640"/>
            <a:ext cx="6000480" cy="824040"/>
          </a:xfrm>
          <a:prstGeom prst="rect">
            <a:avLst/>
          </a:prstGeom>
          <a:solidFill>
            <a:srgbClr val="474747"/>
          </a:solidFill>
          <a:ln w="9360">
            <a:solidFill>
              <a:srgbClr val="f8cb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8cbad"/>
                </a:solidFill>
                <a:latin typeface="Times New Roman"/>
                <a:ea typeface="Times New Roman"/>
              </a:rPr>
              <a:t>Кейсы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пки служат для переноса и хранения чертежно-художественных работ различного формата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267" name="Picture 6" descr="K:\чертежные инструменты\кейс для инструментов.jpg"/>
          <p:cNvPicPr/>
          <p:nvPr/>
        </p:nvPicPr>
        <p:blipFill>
          <a:blip r:embed="rId3"/>
          <a:stretch/>
        </p:blipFill>
        <p:spPr>
          <a:xfrm>
            <a:off x="4859280" y="474840"/>
            <a:ext cx="3287880" cy="43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8429760" cy="2879640"/>
          </a:xfrm>
          <a:prstGeom prst="rect">
            <a:avLst/>
          </a:prstGeom>
          <a:solidFill>
            <a:srgbClr val="343434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нструменты и принадлежности для выполнения чертеж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вила пользования чертежными инструмен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циональные приемы работы чертежными инструмен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рганизация рабочего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642960" y="285840"/>
            <a:ext cx="7500960" cy="16430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a05"/>
                </a:solidFill>
                <a:latin typeface="Calibri Light"/>
              </a:rPr>
              <a:t> </a:t>
            </a:r>
            <a:r>
              <a:rPr b="1" lang="ru-RU" sz="40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Это нужно 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a05"/>
                </a:solidFill>
                <a:latin typeface="Times New Roman"/>
                <a:ea typeface="Times New Roman"/>
              </a:rPr>
              <a:t>ВЫУЧИТЬ и ЗНАТЬ:</a:t>
            </a:r>
            <a:endParaRPr b="0" lang="en-US" sz="40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K:\чертежные инструменты\owal.gif"/>
          <p:cNvPicPr/>
          <p:nvPr/>
        </p:nvPicPr>
        <p:blipFill>
          <a:blip r:embed="rId1"/>
          <a:stretch/>
        </p:blipFill>
        <p:spPr>
          <a:xfrm>
            <a:off x="3286080" y="1278000"/>
            <a:ext cx="5000760" cy="3436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8" name="Rectangle 9"/>
          <p:cNvSpPr/>
          <p:nvPr/>
        </p:nvSpPr>
        <p:spPr>
          <a:xfrm>
            <a:off x="142920" y="214200"/>
            <a:ext cx="8858160" cy="785880"/>
          </a:xfrm>
          <a:prstGeom prst="rect">
            <a:avLst/>
          </a:prstGeom>
          <a:solidFill>
            <a:srgbClr val="47474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Ы,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ТЕРИАЛЫ,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99ff"/>
                </a:solidFill>
                <a:latin typeface="Times New Roman"/>
                <a:ea typeface="Times New Roman"/>
              </a:rPr>
              <a:t>ПРИСПОСОБЛЕНИЯ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ПРИЕМЫ  РАБОТЫ  С  НИМИ</a:t>
            </a:r>
            <a:endParaRPr b="0" lang="en-US" sz="2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39" name="Picture 7" descr="K:\чертежные инструменты\0000831754-preview.jpg"/>
          <p:cNvPicPr/>
          <p:nvPr/>
        </p:nvPicPr>
        <p:blipFill>
          <a:blip r:embed="rId2"/>
          <a:srcRect l="2606" t="3464" r="2606" b="17144"/>
          <a:stretch/>
        </p:blipFill>
        <p:spPr>
          <a:xfrm>
            <a:off x="173160" y="2352600"/>
            <a:ext cx="1822320" cy="12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0" name="Picture 7" descr="D:\Documents\Desktop\1\Рисунок4.jpg"/>
          <p:cNvPicPr/>
          <p:nvPr/>
        </p:nvPicPr>
        <p:blipFill>
          <a:blip r:embed="rId3"/>
          <a:stretch/>
        </p:blipFill>
        <p:spPr>
          <a:xfrm>
            <a:off x="142920" y="5194440"/>
            <a:ext cx="85327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Текст 8"/>
          <p:cNvSpPr/>
          <p:nvPr/>
        </p:nvSpPr>
        <p:spPr>
          <a:xfrm>
            <a:off x="2428920" y="214200"/>
            <a:ext cx="600084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96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64f"/>
                </a:solidFill>
                <a:latin typeface="Calibri"/>
              </a:rPr>
              <a:t>ЧЕРТЕЖНАЯ ДОСКА</a:t>
            </a:r>
            <a:endParaRPr b="0" lang="en-US" sz="44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42" name="Текст 8"/>
          <p:cNvSpPr/>
          <p:nvPr/>
        </p:nvSpPr>
        <p:spPr>
          <a:xfrm>
            <a:off x="142920" y="1500120"/>
            <a:ext cx="4429080" cy="5214960"/>
          </a:xfrm>
          <a:prstGeom prst="rect">
            <a:avLst/>
          </a:prstGeom>
          <a:solidFill>
            <a:srgbClr val="474747"/>
          </a:solidFill>
          <a:ln w="9360">
            <a:solidFill>
              <a:srgbClr val="ff6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ще, слава изобретателя чертежной доски принадлежит немцу Вальтеру Хебелю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ные доски выпускаются разных форматов, они соответствуют чертежным листам бумаг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ные доски больших размеров называются кульманами. </a:t>
            </a:r>
            <a:r>
              <a:rPr b="1" lang="ru-RU" sz="1400" spc="-1" strike="noStrike">
                <a:solidFill>
                  <a:srgbClr val="ff781d"/>
                </a:solidFill>
                <a:latin typeface="Times New Roman"/>
                <a:ea typeface="Times New Roman"/>
              </a:rPr>
              <a:t>Кульман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доски форматов А2 и А1 на специальной подставке — как правило, используются в конструкторских бюро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тежные доски изготавливаются из мягких пород  деревьев, таких как липа, ольха или берез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выпускают доски из прочного небьющегося пластика, выдерживающего давление иглы циркуля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 algn="just">
              <a:lnSpc>
                <a:spcPct val="100000"/>
              </a:lnSpc>
              <a:spcBef>
                <a:spcPts val="349"/>
              </a:spcBef>
              <a:buClr>
                <a:srgbClr val="ff6a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доски должна быть ровной и совершенно гладкой. Зажимы должны крепко фиксировать бумагу, а рейсшина — гладко скользить      по поверхности листа.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43" name="Picture 8" descr="M:\Картинки для офиса\Образование\BS01027_.WMF"/>
          <p:cNvPicPr/>
          <p:nvPr/>
        </p:nvPicPr>
        <p:blipFill>
          <a:blip r:embed="rId1"/>
          <a:stretch/>
        </p:blipFill>
        <p:spPr>
          <a:xfrm>
            <a:off x="214200" y="0"/>
            <a:ext cx="1970280" cy="1428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K:\чертежные инструменты\чертежная доска11.jpg"/>
          <p:cNvPicPr/>
          <p:nvPr/>
        </p:nvPicPr>
        <p:blipFill>
          <a:blip r:embed="rId2"/>
          <a:srcRect l="0" t="6667" r="0" b="8890"/>
          <a:stretch/>
        </p:blipFill>
        <p:spPr>
          <a:xfrm>
            <a:off x="5076720" y="3262320"/>
            <a:ext cx="2971800" cy="337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11" descr="K:\чертежные инструменты\чертежная доска1.jpg"/>
          <p:cNvPicPr/>
          <p:nvPr/>
        </p:nvPicPr>
        <p:blipFill>
          <a:blip r:embed="rId3"/>
          <a:srcRect l="3578" t="9879" r="0" b="10006"/>
          <a:stretch/>
        </p:blipFill>
        <p:spPr>
          <a:xfrm>
            <a:off x="5506920" y="1166760"/>
            <a:ext cx="2903760" cy="190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7680" y="228600"/>
            <a:ext cx="6286320" cy="1325520"/>
          </a:xfrm>
          <a:prstGeom prst="rect">
            <a:avLst/>
          </a:prstGeom>
          <a:solidFill>
            <a:srgbClr val="000000"/>
          </a:solidFill>
          <a:ln w="28440">
            <a:solidFill>
              <a:srgbClr val="99ff3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Бумага чертежная</a:t>
            </a:r>
            <a:br>
              <a:rPr sz="3600"/>
            </a:b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формат 210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×</a:t>
            </a:r>
            <a:r>
              <a:rPr b="1" lang="ru-RU" sz="36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297 мм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Picture 8" descr="K:\чертежные инструменты\бумага1.jpg"/>
          <p:cNvPicPr/>
          <p:nvPr/>
        </p:nvPicPr>
        <p:blipFill>
          <a:blip r:embed="rId1"/>
          <a:stretch/>
        </p:blipFill>
        <p:spPr>
          <a:xfrm>
            <a:off x="5581800" y="1785960"/>
            <a:ext cx="1942920" cy="27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Текст 8"/>
          <p:cNvSpPr/>
          <p:nvPr/>
        </p:nvSpPr>
        <p:spPr>
          <a:xfrm>
            <a:off x="142920" y="1785960"/>
            <a:ext cx="3857760" cy="4929120"/>
          </a:xfrm>
          <a:prstGeom prst="rect">
            <a:avLst/>
          </a:prstGeom>
          <a:solidFill>
            <a:srgbClr val="474747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ая бумага выпускается рулонами и отдельными листами. Листы имеют определенные размеры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обозначений различных форматов положен формат </a:t>
            </a:r>
            <a:r>
              <a:rPr b="1" lang="ru-RU" sz="1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А4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форматы получаются путем увеличения размеров листа в 2, 4, 8, 16 раз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й чертежной бумагой считается </a:t>
            </a:r>
            <a:r>
              <a:rPr b="1" lang="ru-RU" sz="1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ватман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рошо проклеен, не ломается на сгибах и под действием солнечных лучей долго не теряет своей белизны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атман хорошо ложится карандаш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 indent="182520">
              <a:lnSpc>
                <a:spcPct val="10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га этого сорта выдерживает до 25 – 30  стираний  ластиком по одному и тому же месту, не теряя при этом своего качества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49" name="Picture 6" descr="K:\чертежные инструменты\бумага2.png"/>
          <p:cNvPicPr/>
          <p:nvPr/>
        </p:nvPicPr>
        <p:blipFill>
          <a:blip r:embed="rId2"/>
          <a:srcRect l="1559" t="51354" r="1559" b="12709"/>
          <a:stretch/>
        </p:blipFill>
        <p:spPr>
          <a:xfrm>
            <a:off x="4143240" y="5000760"/>
            <a:ext cx="4429440" cy="1643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K:\чертежные инструменты\бумага2.png"/>
          <p:cNvPicPr/>
          <p:nvPr/>
        </p:nvPicPr>
        <p:blipFill>
          <a:blip r:embed="rId3"/>
          <a:srcRect l="71882" t="3126" r="3126" b="60945"/>
          <a:stretch/>
        </p:blipFill>
        <p:spPr>
          <a:xfrm>
            <a:off x="7643880" y="4071960"/>
            <a:ext cx="114300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5" descr="M:\Анимашки\Символы кнопки\AG00090_.GIF"/>
          <p:cNvPicPr/>
          <p:nvPr/>
        </p:nvPicPr>
        <p:blipFill>
          <a:blip r:embed="rId4"/>
          <a:stretch/>
        </p:blipFill>
        <p:spPr>
          <a:xfrm>
            <a:off x="5786280" y="4714920"/>
            <a:ext cx="681120" cy="701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K:\чертежные инструменты\бумага6.jpg"/>
          <p:cNvPicPr/>
          <p:nvPr/>
        </p:nvPicPr>
        <p:blipFill>
          <a:blip r:embed="rId5"/>
          <a:srcRect l="4243" t="0" r="2549" b="0"/>
          <a:stretch/>
        </p:blipFill>
        <p:spPr>
          <a:xfrm>
            <a:off x="4143240" y="1571760"/>
            <a:ext cx="1143000" cy="3714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M:\Картинки для офиса\Образование\BS00135_.WMF"/>
          <p:cNvPicPr/>
          <p:nvPr/>
        </p:nvPicPr>
        <p:blipFill>
          <a:blip r:embed="rId6"/>
          <a:stretch/>
        </p:blipFill>
        <p:spPr>
          <a:xfrm>
            <a:off x="357120" y="214200"/>
            <a:ext cx="2000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0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ЛЛИМИТРОВАЯ БУМАГ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142920" y="1146240"/>
            <a:ext cx="4429080" cy="4143240"/>
          </a:xfrm>
          <a:prstGeom prst="rect">
            <a:avLst/>
          </a:prstGeom>
          <a:solidFill>
            <a:srgbClr val="474747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иметровая бумаг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ма по себе являющаяся миллиметровой шкалой линейки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й отпечатаны тонкими линиями клетки со сторон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олее толстыми - со сторон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иболее толстыми линиями обозначены клетки со сторон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см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иметровая (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но-координатн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мага применяется для составления эскизных чертежей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нии миллиметровки выполнены в одном цвете. Это может быть любой цвет кроме черного - обычно синий, оранжевый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ся это для того, чтобы линии чертежа не сливались с миллиметровыми делениями </a:t>
            </a: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56" name="Picture 2" descr="K:\чертежные инструменты\мм  бумага1.jpg"/>
          <p:cNvPicPr/>
          <p:nvPr/>
        </p:nvPicPr>
        <p:blipFill>
          <a:blip r:embed="rId1"/>
          <a:srcRect l="0" t="4175" r="0" b="0"/>
          <a:stretch/>
        </p:blipFill>
        <p:spPr>
          <a:xfrm>
            <a:off x="6672240" y="2276640"/>
            <a:ext cx="207504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3" descr="K:\чертежные инструменты\мм бумага3.jpg"/>
          <p:cNvPicPr/>
          <p:nvPr/>
        </p:nvPicPr>
        <p:blipFill>
          <a:blip r:embed="rId2"/>
          <a:stretch/>
        </p:blipFill>
        <p:spPr>
          <a:xfrm>
            <a:off x="4788000" y="4178160"/>
            <a:ext cx="2243160" cy="24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6" descr="M:\Картинки для офиса\Учителя учинеки\PE01903_.WMF"/>
          <p:cNvPicPr/>
          <p:nvPr/>
        </p:nvPicPr>
        <p:blipFill>
          <a:blip r:embed="rId3"/>
          <a:stretch/>
        </p:blipFill>
        <p:spPr>
          <a:xfrm>
            <a:off x="4637160" y="1195560"/>
            <a:ext cx="23526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600" y="428760"/>
            <a:ext cx="3429000" cy="985680"/>
          </a:xfrm>
          <a:prstGeom prst="rect">
            <a:avLst/>
          </a:prstGeom>
          <a:solidFill>
            <a:srgbClr val="000000"/>
          </a:solidFill>
          <a:ln w="28440">
            <a:solidFill>
              <a:srgbClr val="cc99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КАЛЬК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4200" y="1928520"/>
            <a:ext cx="5857920" cy="4714920"/>
          </a:xfrm>
          <a:prstGeom prst="rect">
            <a:avLst/>
          </a:prstGeom>
          <a:solidFill>
            <a:srgbClr val="474747"/>
          </a:solidFill>
          <a:ln w="9360">
            <a:solidFill>
              <a:srgbClr val="cc99ff"/>
            </a:solidFill>
            <a:miter/>
          </a:ln>
        </p:spPr>
        <p:txBody>
          <a:bodyPr anchor="t">
            <a:normAutofit/>
          </a:bodyPr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Кальк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прозрачная (вощеная) бумага. Применяется для копирования чертеж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ществовала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полотняная каль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а изготавливалась из батиста и обладала лучшим качеством и большей прочностью, чем бумажн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ыпускают только бумажную кальку – так называему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восков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вает двух вид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Собственно кальк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ее мягкая и тонкая, лощеная с одной стороны - она пригодна для работы тушь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2080" indent="-262080">
              <a:lnSpc>
                <a:spcPct val="90000"/>
              </a:lnSpc>
              <a:buClr>
                <a:srgbClr val="cc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99ff"/>
                </a:solidFill>
                <a:latin typeface="Times New Roman"/>
                <a:ea typeface="Times New Roman"/>
              </a:rPr>
              <a:t>Карандашная кальк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ую ошибочно называют пергаментом - она более плотная, матовая с обеих сторон, часто имеет голубоватый оттен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M:\Картинки для офиса\Образование\SO00629_.WMF"/>
          <p:cNvPicPr/>
          <p:nvPr/>
        </p:nvPicPr>
        <p:blipFill>
          <a:blip r:embed="rId1"/>
          <a:stretch/>
        </p:blipFill>
        <p:spPr>
          <a:xfrm flipH="1">
            <a:off x="4571640" y="2858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K:\чертежные инструменты\калька1.jpg"/>
          <p:cNvPicPr/>
          <p:nvPr/>
        </p:nvPicPr>
        <p:blipFill>
          <a:blip r:embed="rId2"/>
          <a:srcRect l="0" t="2910" r="0" b="0"/>
          <a:stretch/>
        </p:blipFill>
        <p:spPr>
          <a:xfrm>
            <a:off x="6178680" y="2852640"/>
            <a:ext cx="2573280" cy="317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7" descr="K:\чертежные инструменты\бумага9.jpg"/>
          <p:cNvPicPr/>
          <p:nvPr/>
        </p:nvPicPr>
        <p:blipFill>
          <a:blip r:embed="rId3"/>
          <a:srcRect l="0" t="0" r="0" b="13002"/>
          <a:stretch/>
        </p:blipFill>
        <p:spPr>
          <a:xfrm>
            <a:off x="6500880" y="500040"/>
            <a:ext cx="192888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2" descr="K:\чертежные инструменты\треугольник6.jpg"/>
          <p:cNvPicPr/>
          <p:nvPr/>
        </p:nvPicPr>
        <p:blipFill>
          <a:blip r:embed="rId1"/>
          <a:stretch/>
        </p:blipFill>
        <p:spPr>
          <a:xfrm>
            <a:off x="5776920" y="285840"/>
            <a:ext cx="2162160" cy="1000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K:\чертежные инструменты\треугольники1.jpg"/>
          <p:cNvPicPr/>
          <p:nvPr/>
        </p:nvPicPr>
        <p:blipFill>
          <a:blip r:embed="rId2"/>
          <a:stretch/>
        </p:blipFill>
        <p:spPr>
          <a:xfrm>
            <a:off x="214200" y="1285920"/>
            <a:ext cx="2610000" cy="2786040"/>
          </a:xfrm>
          <a:prstGeom prst="rect">
            <a:avLst/>
          </a:prstGeom>
          <a:ln w="9360">
            <a:solidFill>
              <a:srgbClr val="515151"/>
            </a:solidFill>
            <a:miter/>
          </a:ln>
        </p:spPr>
      </p:pic>
      <p:pic>
        <p:nvPicPr>
          <p:cNvPr id="166" name="Picture 16" descr="K:\чертежные инструменты\треугольники.jpg"/>
          <p:cNvPicPr/>
          <p:nvPr/>
        </p:nvPicPr>
        <p:blipFill>
          <a:blip r:embed="rId3"/>
          <a:srcRect l="0" t="2617" r="3575" b="2973"/>
          <a:stretch/>
        </p:blipFill>
        <p:spPr>
          <a:xfrm>
            <a:off x="3714840" y="1500120"/>
            <a:ext cx="3214440" cy="2571840"/>
          </a:xfrm>
          <a:prstGeom prst="rect">
            <a:avLst/>
          </a:prstGeom>
          <a:ln w="9360">
            <a:solidFill>
              <a:srgbClr val="515151"/>
            </a:solidFill>
            <a:miter/>
          </a:ln>
        </p:spPr>
      </p:pic>
      <p:sp>
        <p:nvSpPr>
          <p:cNvPr id="167" name="Text Box 16"/>
          <p:cNvSpPr/>
          <p:nvPr/>
        </p:nvSpPr>
        <p:spPr>
          <a:xfrm>
            <a:off x="3786120" y="128592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3786120" y="364320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858000" y="3643200"/>
            <a:ext cx="8571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42920" y="107172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280" y="3643200"/>
            <a:ext cx="78588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714760" y="3643200"/>
            <a:ext cx="7761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Wingdings 2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4786200" cy="785880"/>
          </a:xfrm>
          <a:prstGeom prst="rect">
            <a:avLst/>
          </a:prstGeom>
          <a:solidFill>
            <a:srgbClr val="000000"/>
          </a:solidFill>
          <a:ln w="28440">
            <a:solidFill>
              <a:srgbClr val="99cc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357720" y="4227480"/>
            <a:ext cx="5357520" cy="2416320"/>
          </a:xfrm>
          <a:prstGeom prst="rect">
            <a:avLst/>
          </a:prstGeom>
          <a:solidFill>
            <a:srgbClr val="515151"/>
          </a:solidFill>
          <a:ln w="9360">
            <a:solidFill>
              <a:srgbClr val="3d4c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предназначены для быстрого вычерчивания углов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треугольников  определяют величину углов и линейные размеры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d4c5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служат для непосредственного измерения и черчения вертикальных, горизонтальных, наклонных линий, а также для нанесения штриховки. 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  <p:pic>
        <p:nvPicPr>
          <p:cNvPr id="175" name="Picture 19" descr="K:\чертежные инструменты\угольник-трансформер.jpg"/>
          <p:cNvPicPr/>
          <p:nvPr/>
        </p:nvPicPr>
        <p:blipFill>
          <a:blip r:embed="rId4"/>
          <a:srcRect l="0" t="13001" r="0" b="2993"/>
          <a:stretch/>
        </p:blipFill>
        <p:spPr>
          <a:xfrm>
            <a:off x="333360" y="4643280"/>
            <a:ext cx="2381400" cy="2000520"/>
          </a:xfrm>
          <a:prstGeom prst="rect">
            <a:avLst/>
          </a:prstGeom>
          <a:ln w="28440">
            <a:solidFill>
              <a:srgbClr val="474747"/>
            </a:solidFill>
            <a:miter/>
          </a:ln>
        </p:spPr>
      </p:pic>
      <p:pic>
        <p:nvPicPr>
          <p:cNvPr id="176" name="Picture 22" descr="M:\Картинки для офиса\Образование\BD05095_.WMF"/>
          <p:cNvPicPr/>
          <p:nvPr/>
        </p:nvPicPr>
        <p:blipFill>
          <a:blip r:embed="rId5"/>
          <a:stretch/>
        </p:blipFill>
        <p:spPr>
          <a:xfrm flipH="1">
            <a:off x="6981840" y="1571760"/>
            <a:ext cx="1946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99760" y="228600"/>
            <a:ext cx="7311960" cy="1325520"/>
          </a:xfrm>
          <a:prstGeom prst="rect">
            <a:avLst/>
          </a:prstGeom>
          <a:solidFill>
            <a:srgbClr val="000000"/>
          </a:solidFill>
          <a:ln w="28440">
            <a:solidFill>
              <a:srgbClr val="99ff9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Линейка – измерительная </a:t>
            </a:r>
            <a:br>
              <a:rPr sz="3600"/>
            </a:br>
            <a:r>
              <a:rPr b="1" lang="ru-RU" sz="36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не менее 200 мм</a:t>
            </a:r>
            <a:r>
              <a:rPr b="1" lang="ru-RU" sz="4000" spc="-1" strike="noStrike">
                <a:solidFill>
                  <a:srgbClr val="99ff99"/>
                </a:solidFill>
                <a:latin typeface="Calibri Ligh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8" name="Picture 5" descr="M:\Картинки для офиса\Образование\BS00175_.WMF"/>
          <p:cNvPicPr/>
          <p:nvPr/>
        </p:nvPicPr>
        <p:blipFill>
          <a:blip r:embed="rId1"/>
          <a:stretch/>
        </p:blipFill>
        <p:spPr>
          <a:xfrm>
            <a:off x="0" y="785880"/>
            <a:ext cx="2643120" cy="164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K:\чертежные инструменты\линейки6_.jpg"/>
          <p:cNvPicPr/>
          <p:nvPr/>
        </p:nvPicPr>
        <p:blipFill>
          <a:blip r:embed="rId2"/>
          <a:stretch/>
        </p:blipFill>
        <p:spPr>
          <a:xfrm>
            <a:off x="3714840" y="2414520"/>
            <a:ext cx="502128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Прямоугольник 16"/>
          <p:cNvSpPr/>
          <p:nvPr/>
        </p:nvSpPr>
        <p:spPr>
          <a:xfrm>
            <a:off x="142920" y="2500200"/>
            <a:ext cx="3429000" cy="3531960"/>
          </a:xfrm>
          <a:prstGeom prst="rect">
            <a:avLst/>
          </a:prstGeom>
          <a:solidFill>
            <a:srgbClr val="474747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a05"/>
                </a:solidFill>
                <a:latin typeface="Tahom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ейки по назначению бывают чертежные, канцелярские, масштабные, конструкторские, логарифмические и др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тельные инструменты – линейки -  изготовляют из древесины твердых лиственных пород (груши, яблони, клена, каштана, граба) или пластических масс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линейки определяют линейные размеры, чертят прямые и наклонные линии.</a:t>
            </a:r>
            <a:endParaRPr b="0" lang="en-US" sz="1600" spc="-1" strike="noStrike">
              <a:solidFill>
                <a:srgbClr val="000000"/>
              </a:solidFill>
              <a:latin typeface="Wingdings 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3:59:42Z</dcterms:created>
  <dc:creator>Квазимода</dc:creator>
  <dc:description/>
  <dc:language>en-US</dc:language>
  <cp:lastModifiedBy>mentor</cp:lastModifiedBy>
  <dcterms:modified xsi:type="dcterms:W3CDTF">2020-11-05T10:28:21Z</dcterms:modified>
  <cp:revision>208</cp:revision>
  <dc:subject/>
  <dc:title>Слайд 1</dc:title>
</cp:coreProperties>
</file>