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4AA-C70C-4C53-B5FD-F0701C1F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E40-9FFE-477B-B41F-508BBECB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9EE-462F-4AD2-8486-7A156649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694-3888-4EF9-882B-F5CD3DDB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6595-BE2B-4883-B740-CD269D11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8411-B804-4AA8-8CCA-047B65A6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C823-DDAA-445E-BCFD-5FC0FB31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7ABB-581C-455A-A894-CF6D13C6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B086-7678-40DC-88EB-CD3C88CB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8F53-1C82-4EE5-833D-22FAF465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C213-EE78-4CD7-A0B5-6C406525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1D3-51F8-445B-9138-C46DE63C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A805-B4ED-4217-9C8A-EF719C94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64D0-8AE7-4AD8-85BF-734A87E4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52E7-97A4-4FEC-91AB-6DA5F8B7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FC53-EDEC-4B16-B9EE-93ACAE7D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F82F-485E-493E-A291-0E1C282A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C12-60B3-4FA9-8E2A-BC116DA3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155-6238-4644-844F-849EEB12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A01-20D3-4F83-B300-DFE311BC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B39-9830-40A6-8381-E54C2AE7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98A-F5AA-4FAB-98CD-3EF62B1D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407-3857-40B9-BF2D-BD369C22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3D5-6F32-48AB-9865-BAA9965E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DE5A-1ABA-4FED-BF2A-EC44D800EB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2734-2994-4A89-A256-091937E79B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568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</a:rPr>
              <a:t>Семинар – практикум для родителей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не дарят подарки, ес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меня день рож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получаю пятёр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празд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й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ошо себя веду, слушаю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жу в шко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вно меня не ви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не дарят деньги, ес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хот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ош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еня день ро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езжает бабу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подар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могаю род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еня какой-нибудь праз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 что-нибудь купить, накопить для че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не дарят день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не разрешают ____ , если ____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лять на улице, если буду слушаться (приду рано, после школы, сделаю доброе дело, будет светло, сделаю домашнюю работу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ть на компьютере, если я выполню утренний режим дня (помогу по дому, уберусь, сделал домашнее задание, принесу домой «5», захочу, есть 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одить в цирк, если у мамы есть день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разрешают, если н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отреть мультфильм, если буду лазить в под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оспитывать ребёнка – нелёгкое дело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0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всех трудных ситуаций, в которые дети нередко ставят своих родителей, нужно стараться выйти с уважением к их человеческому достоинству, без применения физических наказаний или словесных оскорбл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сные наказания и битьё детей абсолютно неприемлемы. Ребёнок, которого бьют, чувствует себя оскорблённым и униженным, он чувствует глубокую неприязнь к самому себе и окружающим. Его последующее поведение может быть продиктовано жаждой мести. Кроме того, его непрерывно мучает страх, что может оказаться губительным для е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28800" y="13572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ёнку трудно осознать, что он подвергся телесному наказанию из-за своего неверного поведения. Для него гораздо естественнее считать, чт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акое наказ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явление гнева или нелюбви со стороны того, кто его нач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нужно заметить, чт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весные оскорб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идные замечания, грубые слова, постоянные придирки, насмеш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огут оказаться не менее унизительными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особны причинить не меньший вред, чем рукоприкла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ой принцип наказ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казание допустимо и оправдано, если оно логически вытекает из поступков ребёнка. Оно должно быть разумным и прямо связанным с содержанием поступ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казание будет эффективно тогда, когда есть поощ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сновные принципы поощрени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мотри на своего ребенка как на самостоятельную личност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. Говори с ним о некоторых планах, касающихся домашнего хозяйства, например, что купить, что поправить, что сэкономить, чтобы ребенок чувствовал себя членом семейного коллектив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3. Все время доказывай своим поведением, что умеешь держать слов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4. Держи себя так, чтобы ребенок не боялся идти к тебе с любым вопросом, даже и тогда, когда чувствует, что вопрос деликатны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5. Раньше, чем пристыдить или наказать ребенка, постарайся понять, по каким побуждениям он совершил свой поступок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6. Не обращайся с ним все время как с маленьким ребенко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7. Не балуй его и не делай за него то, что он мог бы сделать сам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ак хвалить, чтобы сохранить способность ребёнка радоваться самому делу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чёркивать радость ребёнка от преодоления трудно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Ты можешь! Сегодня ты сумел подняться над собственной ленью, пассив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сумел, ты стал ещё сильнее, ты преодолел, ты победил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подмечать любые, даже самые незначительные успехи ребёнка на пути к самосовершенствов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лова поддерж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Зная тебя, я был уверен, что ты сделаешь хорош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тебя есть некоторые соображения по этому поводу, готов ли ты нач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ерьёзный вызов, но я уверен, что ты готов к н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ть можно и нужно все стороны поведения ребёнка. Особое внимание необходимо уделять похвале за совершённое ребёнком усилие. Очень хорошо, если поощрение подчёркивает и способность ребёнк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 усилиям по достиже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ли, и радость о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стигнутого успех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53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 употребляй слова: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я тысячу раз говорил тебе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сколько раз надо повторять..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о чем ты только думаешь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неужели трудно запомнить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ты становишься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ты такой же, как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отстань, некогда мне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почему Лена (Катя, и т.д.) такая, а ты – н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потребляй чаще: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ты у меня самый умный, (красивый и т.д.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как хорошо, что у меня есть т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ты у меня молодец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я тебя очень люблю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спасибо тебе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без тебя я бы не справился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Georgia"/>
              </a:rPr>
              <a:t>Помните! Воспитывая ребенка, оба родителя и остальные родственники должны действовать согласова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280" y="1916280"/>
            <a:ext cx="4427640" cy="18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аказание - это причинение вреда причиняющему вр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хвала - педагогический домк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                           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. Г. Кро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j0316862"/>
          <p:cNvPicPr/>
          <p:nvPr/>
        </p:nvPicPr>
        <p:blipFill>
          <a:blip r:embed="rId2"/>
          <a:stretch/>
        </p:blipFill>
        <p:spPr>
          <a:xfrm>
            <a:off x="285840" y="3929040"/>
            <a:ext cx="3240000" cy="208908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102" name="Text Box 5"/>
          <p:cNvSpPr/>
          <p:nvPr/>
        </p:nvSpPr>
        <p:spPr>
          <a:xfrm>
            <a:off x="3762000" y="4076640"/>
            <a:ext cx="5344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Мать – теплица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тец – открыватель возмо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ердце матери – это бездна, в глуб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оторой всегда найдётся прощение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.Бальз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j0185174"/>
          <p:cNvPicPr/>
          <p:nvPr/>
        </p:nvPicPr>
        <p:blipFill>
          <a:blip r:embed="rId3"/>
          <a:stretch/>
        </p:blipFill>
        <p:spPr>
          <a:xfrm>
            <a:off x="5219640" y="1773360"/>
            <a:ext cx="2879640" cy="2106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85716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ема: «Поощрение и наказание в семье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280" y="357120"/>
            <a:ext cx="7689960" cy="60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Bonzai"/>
              </a:rPr>
              <a:t>Помните</a:t>
            </a:r>
            <a:r>
              <a:rPr b="0" lang="ru-RU" sz="7200" spc="-1" strike="noStrike">
                <a:solidFill>
                  <a:srgbClr val="990000"/>
                </a:solidFill>
                <a:latin typeface="Bonzai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ше внимание, любовь и ласка, дружеское участие и расположение могут сделать для вашего ребенка больше, чем самый дорогой подарок! Раны унижения и издевательства не заживают годами, шрамы безразличия и игнорирования остаются на всю жизн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5000760" y="4000680"/>
            <a:ext cx="3238200" cy="249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ветую прочита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57160" y="1999800"/>
            <a:ext cx="77724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Спиваковская «Как быть родителями» из серии «Педагогика – родителя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8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пасибо за сотрудничество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6" name="Picture 4" descr="img14"/>
          <p:cNvPicPr/>
          <p:nvPr/>
        </p:nvPicPr>
        <p:blipFill>
          <a:blip r:embed="rId2"/>
          <a:stretch/>
        </p:blipFill>
        <p:spPr>
          <a:xfrm>
            <a:off x="611280" y="1484280"/>
            <a:ext cx="7921440" cy="491508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и собр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57160" y="2071440"/>
            <a:ext cx="777240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удить  проблему поощрения и наказания ребёнка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у родителей культуру поощрения и наказания ребёнка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be96d263-3695-4dc4-b8d9-27517a0d72f2"/>
          <p:cNvPicPr/>
          <p:nvPr/>
        </p:nvPicPr>
        <p:blipFill>
          <a:blip r:embed="rId2"/>
          <a:stretch/>
        </p:blipFill>
        <p:spPr>
          <a:xfrm>
            <a:off x="5292720" y="1125360"/>
            <a:ext cx="3382920" cy="3240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7160" y="713880"/>
            <a:ext cx="78710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0000"/>
                </a:solidFill>
                <a:latin typeface="DS Down Cyr"/>
              </a:rPr>
              <a:t>поощрения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761832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Одобрен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хвал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овер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ощрять ребенка надо не за сам факт выполнения обязанностей, а за то, с каким старанием и прилежанием он выполнил эту работу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0000"/>
                </a:solidFill>
                <a:latin typeface="DS Down Cyr"/>
              </a:rPr>
              <a:t>       </a:t>
            </a:r>
            <a:r>
              <a:rPr b="1" lang="ru-RU" sz="5000" spc="-1" strike="noStrike">
                <a:solidFill>
                  <a:srgbClr val="990000"/>
                </a:solidFill>
                <a:latin typeface="DS Down Cyr"/>
              </a:rPr>
              <a:t>наказания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5280" y="1125000"/>
            <a:ext cx="4465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наказан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зическое наказание и подра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шение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аз или отсрочка удоволь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анны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й из распространенных негативных форм наказания является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физическое наказ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основанное на страхе перед боль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74560" y="5010120"/>
            <a:ext cx="856944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ак считают психологи, они способствуют развитию лжи, лицемерия, трусости, возбуждают злобу и ненависть к старшим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abuso-sexual-infantil"/>
          <p:cNvPicPr/>
          <p:nvPr/>
        </p:nvPicPr>
        <p:blipFill>
          <a:blip r:embed="rId2"/>
          <a:stretch/>
        </p:blipFill>
        <p:spPr>
          <a:xfrm>
            <a:off x="755640" y="1557360"/>
            <a:ext cx="2521080" cy="33116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ндивидуаль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родителям: поделить лист на две части и написать в одной из них слова, которыми вы поощряете , хвалите своих детей, а в другой – которыми руга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39045"/>
          <p:cNvPicPr/>
          <p:nvPr/>
        </p:nvPicPr>
        <p:blipFill>
          <a:blip r:embed="rId2"/>
          <a:stretch/>
        </p:blipFill>
        <p:spPr>
          <a:xfrm>
            <a:off x="785880" y="3857760"/>
            <a:ext cx="3311280" cy="26841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21" name="Picture 5" descr="kids_money_88060700"/>
          <p:cNvPicPr/>
          <p:nvPr/>
        </p:nvPicPr>
        <p:blipFill>
          <a:blip r:embed="rId3"/>
          <a:stretch/>
        </p:blipFill>
        <p:spPr>
          <a:xfrm>
            <a:off x="4857840" y="3857760"/>
            <a:ext cx="3571920" cy="26622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000" y="0"/>
            <a:ext cx="8172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ЧТО ГОВОРЯТ ДЕТИ О НАКАЗАНИ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Если бы я был волшебником, я бы запретил выпускать фабрикам ремни. Когда детей бьют ремнем, это очень больно. И тогда дети плачут. Мне их жалк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Если бы я был волшебником, я бы делал дома без углов. Детей часто ставят в угол. Я это знаю. Ведь я — волшебни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Однажды я разбила вазу. Она была очень красивая. Я очень плакала, мама со мной долго не разговаривала. Мне было очень обидно. Это плохо, когда не разговариваю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Однажды я видел, как мама била мальчика по лицу. Он плакал. Ему было стыдно. Если бы я был волшебником, я бы дал детям возможность менять родителе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то думают наши дети о наказания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аказание  несправедливое, когда на меня крич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согласен с тем, что меня бьют ремнём за дво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еня ставят в угол за дело, я понимаю за что и стараюсь этого больше не дел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еня очень часто наказывают, но я почему- то не могу исправиться. Обманываю, потому что боюсь наказ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Говорят наши дети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(о поощрениях, которые получают от родителей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 хвалят, если я принесу домой пятёр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 хвалят, если я помогаю дома (хожу в магазин, прибираю в комнате, помогаю маме на кухне, мою посуду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 хвалят, если я сделаю уроки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1:42:11Z</dcterms:created>
  <dc:creator>www.PHILka.RU</dc:creator>
  <dc:description/>
  <dc:language>en-US</dc:language>
  <cp:lastModifiedBy>user</cp:lastModifiedBy>
  <dcterms:modified xsi:type="dcterms:W3CDTF">2016-04-05T08:40:50Z</dcterms:modified>
  <cp:revision>12</cp:revision>
  <dc:subject/>
  <dc:title>Поощрение и наказание в семье</dc:title>
</cp:coreProperties>
</file>