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F520-B8AE-42A8-A435-6AA318E9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CBB8-1EDB-4292-8960-0543E057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A1A0-FB42-4455-86CF-58B802303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BD63-66C8-40C1-8768-FD457AAA8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5237-EFF6-43E5-B6A7-E61AF6C12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B6C4-29E0-44D9-BA6F-529959F4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2B6C-4B1E-45F5-BA5E-0D943D3D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A245-30B9-4305-9969-BDA64B58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655A-303C-4F25-BF20-C275F629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4E78-8C11-4E64-ACA0-C46D574A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A5D6-DE02-4379-87C7-0454082C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80B2-C373-440D-838C-4D2B61F9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8D70-308C-40F0-8DB9-0E083AAF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5FAD-1D06-4AA6-BF97-90C5C480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23B6-F574-4929-A4E2-A371B7DC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89BE-25F8-4026-BB1A-42B735F7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6C4C-3541-45FC-A9EB-EDF396C69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7280-F56E-4447-ABA5-7717E6C3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FF1B-CB58-4145-877C-AA399182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C478-3ACA-46B9-95D4-D894C1A7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3952-3019-4CF2-A59E-879ED7CA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1171-B7E1-439D-B7D2-10772979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8AB6-C000-4865-82B0-ADD65928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B99C-D134-4A2D-98C2-F0B298EA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1D72-52C6-4A1E-948F-9E31704B932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5C42-9117-4FA0-8107-736AE7BA115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D:\БЕНКЕ\Красивые фоны для презентаций\ФОН ДЛЯ ПРЕЗЕНТАЦИИ\фон\рамки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568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</a:rPr>
              <a:t>Семинар – практикум для родителей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D:\БЕНКЕ\Красивые фоны для презентаций\ФОН ДЛЯ ПРЕЗЕНТАЦИИ\фон\рамки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Мне дарят подарки, есл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меня день рож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получаю пятёр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празд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ый г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рошо себя веду, слушаюс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жу в школ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вно меня не виде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8" descr="D:\БЕНКЕ\Красивые фоны для презентаций\ФОН ДЛЯ ПРЕЗЕНТАЦИИ\фон\рамки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Мне дарят деньги, есл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хотя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рош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еня день рожд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езжает бабуш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подар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помогаю род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еня какой-нибудь празд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о что-нибудь купить, накопить для чего-нибуд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е не дарят деньг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8" descr="D:\БЕНКЕ\Красивые фоны для презентаций\ФОН ДЛЯ ПРЕЗЕНТАЦИИ\фон\рамки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Мне разрешают ____ , если ____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улять на улице, если буду слушаться (приду рано, после школы, сделаю доброе дело, будет светло, сделаю домашнюю работу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ать на компьютере, если я выполню утренний режим дня (помогу по дому, уберусь, сделал домашнее задание, принесу домой «5», захочу, есть врем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одить в цирк, если у мамы есть день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е разрешают, если на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отреть мультфильм, если буду лазить в подп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8" descr="D:\БЕНКЕ\Красивые фоны для презентаций\ФОН ДЛЯ ПРЕЗЕНТАЦИИ\фон\рамки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Воспитывать ребёнка – нелёгкое дело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05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всех трудных ситуаций, в которые дети нередко ставят своих родителей, нужно стараться выйти с уважением к их человеческому достоинству, без применения физических наказаний или словесных оскорбл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есные наказания и битьё детей абсолютно неприемлемы. Ребёнок, которого бьют, чувствует себя оскорблённым и униженным, он чувствует глубокую неприязнь к самому себе и окружающим. Его последующее поведение может быть продиктовано жаждой мести. Кроме того, его непрерывно мучает страх, что может оказаться губительным для е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8" descr="D:\БЕНКЕ\Красивые фоны для презентаций\ФОН ДЛЯ ПРЕЗЕНТАЦИИ\фон\рамки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28800" y="135720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ёнку трудно осознать, что он подвергся телесному наказанию из-за своего неверного поведения. Для него гораздо естественнее считать, чт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акое наказ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явление гнева или нелюбви со стороны того, кто его нача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нужно заметить, чт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овесные оскорбл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бидные замечания, грубые слова, постоянные придирки, насмеш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огут оказаться не менее унизительными 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пособны причинить не меньший вред, чем рукоприклад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8" descr="D:\БЕНКЕ\Красивые фоны для презентаций\ФОН ДЛЯ ПРЕЗЕНТАЦИИ\фон\рамки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сновной принцип наказа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казание допустимо и оправдано, если оно логически вытекает из поступков ребёнка. Оно должно быть разумным и прямо связанным с содержанием поступ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казание будет эффективно тогда, когда есть поощр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8" descr="D:\БЕНКЕ\Красивые фоны для презентаций\ФОН ДЛЯ ПРЕЗЕНТАЦИИ\фон\рамки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Основные принципы поощрения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мотри на своего ребенка как на самостоятельную личность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. Говори с ним о некоторых планах, касающихся домашнего хозяйства, например, что купить, что поправить, что сэкономить, чтобы ребенок чувствовал себя членом семейного коллектив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3. Все время доказывай своим поведением, что умеешь держать слово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4. Держи себя так, чтобы ребенок не боялся идти к тебе с любым вопросом, даже и тогда, когда чувствует, что вопрос деликатный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5. Раньше, чем пристыдить или наказать ребенка, постарайся понять, по каким побуждениям он совершил свой поступок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6. Не обращайся с ним все время как с маленьким ребенком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7. Не балуй его и не делай за него то, что он мог бы сделать сам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8" descr="D:\БЕНКЕ\Красивые фоны для презентаций\ФОН ДЛЯ ПРЕЗЕНТАЦИИ\фон\рамки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Как хвалить, чтобы сохранить способность ребёнка радоваться самому делу?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20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чёркивать радость ребёнка от преодоления трудност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 Ты можешь! Сегодня ты сумел подняться над собственной ленью, пассивност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 сумел, ты стал ещё сильнее, ты преодолел, ты победил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 подмечать любые, даже самые незначительные успехи ребёнка на пути к самосовершенствов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8" descr="D:\БЕНКЕ\Красивые фоны для презентаций\ФОН ДЛЯ ПРЕЗЕНТАЦИИ\фон\рамки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лова поддерж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Зная тебя, я был уверен, что ты сделаешь хорош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тебя есть некоторые соображения по этому поводу, готов ли ты нача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ерьёзный вызов, но я уверен, что ты готов к н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ощрять можно и нужно все стороны поведения ребёнка. Особое внимание необходимо уделять похвале за совершённое ребёнком усилие. Очень хорошо, если поощрение подчёркивает и способность ребёнк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 усилиям по достижен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ели, и радость о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остигнутого успех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8" descr="D:\БЕНКЕ\Красивые фоны для презентаций\ФОН ДЛЯ ПРЕЗЕНТАЦИИ\фон\рамки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11280" y="0"/>
            <a:ext cx="8532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е употребляй слова: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я тысячу раз говорил тебе…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- сколько раз надо повторять..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- о чем ты только думаешь…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- неужели трудно запомнить…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- ты становишься…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- ты такой же, как…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- отстань, некогда мне…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- почему Лена (Катя, и т.д.) такая, а ты – не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потребляй чаще: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-ты у меня самый умный, (красивый и т.д.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- как хорошо, что у меня есть ты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- ты у меня молодец…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- я тебя очень люблю…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- спасибо тебе…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- без тебя я бы не справился…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Georgia"/>
              </a:rPr>
              <a:t>Помните! Воспитывая ребенка, оба родителя и остальные родственники должны действовать согласован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8" descr="D:\БЕНКЕ\Красивые фоны для презентаций\ФОН ДЛЯ ПРЕЗЕНТАЦИИ\фон\рамки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9280" y="1916280"/>
            <a:ext cx="4427640" cy="186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аказание - это причинение вреда причиняющему вре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охвала - педагогический домкр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                           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. Г. Кро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j0316862"/>
          <p:cNvPicPr/>
          <p:nvPr/>
        </p:nvPicPr>
        <p:blipFill>
          <a:blip r:embed="rId2"/>
          <a:stretch/>
        </p:blipFill>
        <p:spPr>
          <a:xfrm>
            <a:off x="285840" y="3929040"/>
            <a:ext cx="3240000" cy="208908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sp>
        <p:nvSpPr>
          <p:cNvPr id="102" name="Text Box 5"/>
          <p:cNvSpPr/>
          <p:nvPr/>
        </p:nvSpPr>
        <p:spPr>
          <a:xfrm>
            <a:off x="3762000" y="4076640"/>
            <a:ext cx="5344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Мать – теплица люб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Отец – открыватель возмож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ердце матери – это бездна, в глуб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которой всегда найдётся прощение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О.Бальз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j0185174"/>
          <p:cNvPicPr/>
          <p:nvPr/>
        </p:nvPicPr>
        <p:blipFill>
          <a:blip r:embed="rId3"/>
          <a:stretch/>
        </p:blipFill>
        <p:spPr>
          <a:xfrm>
            <a:off x="5219640" y="1773360"/>
            <a:ext cx="2879640" cy="210636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85716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ема: «Поощрение и наказание в семье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8" descr="D:\БЕНКЕ\Красивые фоны для презентаций\ФОН ДЛЯ ПРЕЗЕНТАЦИИ\фон\рамки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39280" y="357120"/>
            <a:ext cx="7689960" cy="60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0000"/>
                </a:solidFill>
                <a:latin typeface="Bonzai"/>
              </a:rPr>
              <a:t>Помните</a:t>
            </a:r>
            <a:r>
              <a:rPr b="0" lang="ru-RU" sz="7200" spc="-1" strike="noStrike">
                <a:solidFill>
                  <a:srgbClr val="990000"/>
                </a:solidFill>
                <a:latin typeface="Bonzai"/>
              </a:rPr>
              <a:t>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аше внимание, любовь и ласка, дружеское участие и расположение могут сделать для вашего ребенка больше, чем самый дорогой подарок! Раны унижения и издевательства не заживают годами, шрамы безразличия и игнорирования остаются на всю жизн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5000760" y="4000680"/>
            <a:ext cx="3238200" cy="249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D:\БЕНКЕ\Красивые фоны для презентаций\ФОН ДЛЯ ПРЕЗЕНТАЦИИ\фон\рамки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оветую прочитат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57160" y="1999800"/>
            <a:ext cx="777240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С. Спиваковская «Как быть родителями» из серии «Педагогика – родителя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8" descr="D:\БЕНКЕ\Красивые фоны для презентаций\ФОН ДЛЯ ПРЕЗЕНТАЦИИ\фон\рамки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8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пасибо за сотрудничество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6" name="Picture 4" descr="img14"/>
          <p:cNvPicPr/>
          <p:nvPr/>
        </p:nvPicPr>
        <p:blipFill>
          <a:blip r:embed="rId2"/>
          <a:stretch/>
        </p:blipFill>
        <p:spPr>
          <a:xfrm>
            <a:off x="611280" y="1484280"/>
            <a:ext cx="7921440" cy="491508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8" descr="D:\БЕНКЕ\Красивые фоны для презентаций\ФОН ДЛЯ ПРЕЗЕНТАЦИИ\фон\рамки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Цели собра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57160" y="2071440"/>
            <a:ext cx="7772400" cy="27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судить  проблему поощрения и наказания ребёнка в сем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ть у родителей культуру поощрения и наказания ребёнка в сем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D:\БЕНКЕ\Красивые фоны для презентаций\ФОН ДЛЯ ПРЕЗЕНТАЦИИ\фон\рамки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be96d263-3695-4dc4-b8d9-27517a0d72f2"/>
          <p:cNvPicPr/>
          <p:nvPr/>
        </p:nvPicPr>
        <p:blipFill>
          <a:blip r:embed="rId2"/>
          <a:stretch/>
        </p:blipFill>
        <p:spPr>
          <a:xfrm>
            <a:off x="5292720" y="1125360"/>
            <a:ext cx="3382920" cy="32403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57160" y="713880"/>
            <a:ext cx="78710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0000"/>
                </a:solidFill>
                <a:latin typeface="DS Down Cyr"/>
              </a:rPr>
              <a:t>поощрения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2420640"/>
            <a:ext cx="7618320" cy="35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Одобрение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Похвал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Доверие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оощрять ребенка надо не за сам факт выполнения обязанностей, а за то, с каким старанием и прилежанием он выполнил эту работу.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8" descr="D:\БЕНКЕ\Красивые фоны для презентаций\ФОН ДЛЯ ПРЕЗЕНТАЦИИ\фон\рамки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0000"/>
                </a:solidFill>
                <a:latin typeface="DS Down Cyr"/>
              </a:rPr>
              <a:t>       </a:t>
            </a:r>
            <a:r>
              <a:rPr b="1" lang="ru-RU" sz="5000" spc="-1" strike="noStrike">
                <a:solidFill>
                  <a:srgbClr val="990000"/>
                </a:solidFill>
                <a:latin typeface="DS Down Cyr"/>
              </a:rPr>
              <a:t>наказания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95280" y="1125000"/>
            <a:ext cx="44658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ды наказани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зическое наказание и подра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шение люб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каз или отсрочка удоволь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ранные 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ной из распространенных негативных форм наказания является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физическое наказа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основанное на страхе перед болью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74560" y="5010120"/>
            <a:ext cx="8569440" cy="20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ак считают психологи, они способствуют развитию лжи, лицемерия, трусости, возбуждают злобу и ненависть к старшим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abuso-sexual-infantil"/>
          <p:cNvPicPr/>
          <p:nvPr/>
        </p:nvPicPr>
        <p:blipFill>
          <a:blip r:embed="rId2"/>
          <a:stretch/>
        </p:blipFill>
        <p:spPr>
          <a:xfrm>
            <a:off x="755640" y="1557360"/>
            <a:ext cx="2521080" cy="331164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8" descr="D:\БЕНКЕ\Красивые фоны для презентаций\ФОН ДЛЯ ПРЕЗЕНТАЦИИ\фон\рамки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ндивидуальная рабо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 родителям: поделить лист на две части и написать в одной из них слова, которыми вы поощряете , хвалите своих детей, а в другой – которыми руга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39045"/>
          <p:cNvPicPr/>
          <p:nvPr/>
        </p:nvPicPr>
        <p:blipFill>
          <a:blip r:embed="rId2"/>
          <a:stretch/>
        </p:blipFill>
        <p:spPr>
          <a:xfrm>
            <a:off x="785880" y="3857760"/>
            <a:ext cx="3311280" cy="268416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121" name="Picture 5" descr="kids_money_88060700"/>
          <p:cNvPicPr/>
          <p:nvPr/>
        </p:nvPicPr>
        <p:blipFill>
          <a:blip r:embed="rId3"/>
          <a:stretch/>
        </p:blipFill>
        <p:spPr>
          <a:xfrm>
            <a:off x="4857840" y="3857760"/>
            <a:ext cx="3571920" cy="26622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8" descr="D:\БЕНКЕ\Красивые фоны для презентаций\ФОН ДЛЯ ПРЕЗЕНТАЦИИ\фон\рамки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000" y="0"/>
            <a:ext cx="8172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ЧТО ГОВОРЯТ ДЕТИ О НАКАЗАНИ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Если бы я был волшебником, я бы запретил выпускать фабрикам ремни. Когда детей бьют ремнем, это очень больно. И тогда дети плачут. Мне их жалк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Если бы я был волшебником, я бы делал дома без углов. Детей часто ставят в угол. Я это знаю. Ведь я — волшебник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Однажды я разбила вазу. Она была очень красивая. Я очень плакала, мама со мной долго не разговаривала. Мне было очень обидно. Это плохо, когда не разговариваю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Однажды я видел, как мама била мальчика по лицу. Он плакал. Ему было стыдно. Если бы я был волшебником, я бы дал детям возможность менять родителей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D:\БЕНКЕ\Красивые фоны для презентаций\ФОН ДЛЯ ПРЕЗЕНТАЦИИ\фон\рамки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Что думают наши дети о наказаниях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00000" y="134136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Наказание  несправедливое, когда на меня крич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Не согласен с тем, что меня бьют ремнём за двой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Меня ставят в угол за дело, я понимаю за что и стараюсь этого больше не дел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Меня очень часто наказывают, но я почему- то не могу исправиться. Обманываю, потому что боюсь наказ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D:\БЕНКЕ\Красивые фоны для презентаций\ФОН ДЛЯ ПРЕЗЕНТАЦИИ\фон\рамки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7756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Говорят наши дети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(о поощрениях, которые получают от родителей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я хвалят, если я принесу домой пятёр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я хвалят, если я помогаю дома (хожу в магазин, прибираю в комнате, помогаю маме на кухне, мою посуду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я хвалят, если я сделаю уроки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01:42:11Z</dcterms:created>
  <dc:creator>www.PHILka.RU</dc:creator>
  <dc:description/>
  <dc:language>en-US</dc:language>
  <cp:lastModifiedBy>user</cp:lastModifiedBy>
  <dcterms:modified xsi:type="dcterms:W3CDTF">2016-04-05T08:40:50Z</dcterms:modified>
  <cp:revision>12</cp:revision>
  <dc:subject/>
  <dc:title>Поощрение и наказание в семье</dc:title>
</cp:coreProperties>
</file>