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FE76-5907-49C8-823A-CF89B6385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7897-1071-43AD-AFE5-47259624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09ED-B858-4C02-9A69-83F9F163C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C0B6-8AB4-4721-BEDE-FD5F5861A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696E-D114-4144-A99B-A803BE79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3E73-FD55-43EA-9B73-FF42E3AA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2D2F-5EE7-433C-92B6-22E2EB9B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E253-45BC-4F33-8E79-9ADF0CBC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C7AF-657E-4368-ADE1-F2DA3FA5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600C-18AD-4415-B6AF-28985366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588C-F032-4CAD-99C4-075421DE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90E9-2F41-4ED3-BF7B-98CD4C16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EAF6-48F6-459A-A88D-7A3F8FF0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EE24-A3F5-42C3-9D8E-75C7E631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F10D-AE8B-4FA4-BB2E-68FBA119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7095-9D76-478A-AC48-30E49020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E52F-C4F3-44D1-9926-B2FFC629C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F547C-260B-4967-809C-74616A368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0501B-2701-4825-9738-FF3BCA42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547B0-4501-4F03-B9AC-F63661A0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CD13A-A732-4273-8706-71DE03E4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C0D0C-824C-47C3-945C-88E29769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EF6E-EDD3-43A4-B868-F44FF91B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165C3-0D9D-489E-9097-718E5080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E71C8-E325-4713-A7A9-E4959813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8B262-1534-45AE-AA68-958BE255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2C3BB-6221-417C-88C6-6B1D06CB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7681D-305C-4278-B066-55D5F85C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430E5-591E-4379-BBA3-77D263BDC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590D7-25EE-4CDE-A143-FCCA1FA70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8026C-1923-47EB-BB0D-CDFFD7182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8C70B-0C02-4B75-9294-77485065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F34FE-85D8-4DCF-BB81-211488CB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87E0-DCFF-40C0-8F0C-6B614269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3DC73-0C94-402D-8253-E79443A5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5A8B4-AB3D-4BA4-8E1F-E9EDF106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646A9-6D9C-41A2-A46E-60A4EB45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60EB7-C144-4A99-94CF-454AD9A7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1510F-3634-4D90-BD0F-86EDC9EC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B1E02-3310-45B7-ADD1-691854E2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CCC94-0083-4554-9600-0939F1EF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D95B7-1ECB-401B-9DCB-085074EEF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8A952-8787-4EDF-B3C0-7B3F220CC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1CA25-5A6E-48FD-B2CA-04BFA21C0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74DE-3F71-43F4-B6DB-813F52E3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03661-A2A8-4E40-BB68-1ABB3087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16E5E-C531-4725-BC53-14D198A3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354AE-D9C8-45E0-B493-E2A10FCD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BF5DA-2924-4852-953E-E9EDD111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441AE-18CE-4F0C-9770-95EABC19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91B40-2BDE-49CA-853D-AE54BF5D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96050-0A44-4953-AFFD-1EF1B9A0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61642-EA83-4669-90F8-7AE3D9A5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EFC0E-099F-4C37-92F2-83954676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92350-6F51-4240-88FF-36EACA2FE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8FD6-95FD-4AE3-8856-B8FECC1F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CDB2B-CF31-4233-BF72-4A47151CA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F8F27-2028-4CD5-83D3-1C21E9109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192F9-94BA-4580-BDA5-A4404974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43786-2357-41AD-A88A-00010D1A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E3873-FA5C-4401-9270-A612A19C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ADC7B-2EEE-48AB-B37C-0C64C8EF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8EC1F-84A5-4996-8624-8DA38558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8ED61-6AD1-464E-8FA0-F9B5CFC6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EF445-C6EE-414A-B0B1-2BC28183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88B69-AD95-4A79-8490-CC341697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F734-B1AA-4713-AF49-58E4973F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D1250-900A-484A-AE20-17B6E2D1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F14A3-1F31-49CA-B209-35395C72F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9D7F1-93C0-4F2B-B087-850734CBC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623CC-E4B2-4AA7-883F-8324EADDC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CF7A8-33CC-45EC-8728-DDE8A015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A5D2E-DA42-458A-BFCA-E9EA1D8C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FC4EA-950B-4ABB-B2D8-9D0DE7D1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E10DF-A3D6-44E8-8F02-31A1985B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A4E24-91B7-4E57-B655-59711F16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5EDB0-BDC4-4FA9-BC30-FC66C0D7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7C5D-99B9-4C64-A479-73158022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483EE-E1EB-48DE-88C1-CD3FEDE8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71B4F-0EEB-4B34-B5EB-F87B404B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3E78A-3A14-4EC0-971F-0F7DBC66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0E6CD-51DF-44DA-A674-21D4C2CF5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40373-47AE-45E2-BB56-94A86FD87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5DBB-FB38-4AA1-B7FD-3C4ED54A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DA9C-8CAC-4A6D-88B3-2606BD166EDD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CCBE-46A4-4EC2-B0CA-5C74D8F8B5BC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6B0F-14EC-4821-9A84-19D3A0733FBC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7989-1BBF-494B-8CAE-8C56A4747414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6B70-3806-4CE7-BC82-AFBB376A80F6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20C4-2C2F-4847-99D5-4A945D362000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C57E-3B10-4C97-B8BF-04A9E7AEFC72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pushkiniada.ru/" TargetMode="External"/><Relationship Id="rId3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utchev.com/images/tutchev/mama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utchev.com/images/tutchev/otezc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  </a:t>
            </a: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Этапы биографии и  творчества  Федора Ивановича Тютчева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Автор: учитель русского языка и  литературы Ралдугина Н.Н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0" name="Содержимое 5" descr="http://t2.gstatic.com/images?q=tbn:ANd9GcSjHmnUgliAKyW1aok2zy7G_U0V1yGke59BtUQBma2uR2xDeonOgA"/>
          <p:cNvPicPr/>
          <p:nvPr/>
        </p:nvPicPr>
        <p:blipFill>
          <a:blip r:embed="rId1"/>
          <a:stretch/>
        </p:blipFill>
        <p:spPr>
          <a:xfrm>
            <a:off x="571680" y="1571760"/>
            <a:ext cx="36432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Любов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3" name="Содержимое 7" descr="http://t2.gstatic.com/images?q=tbn:ANd9GcQ08cp1QBlrT1XRlPRdnhuiG6BcRDgJDv9IZFJywr2RR9aX7piWxw"/>
          <p:cNvPicPr/>
          <p:nvPr/>
        </p:nvPicPr>
        <p:blipFill>
          <a:blip r:embed="rId1"/>
          <a:stretch/>
        </p:blipFill>
        <p:spPr>
          <a:xfrm>
            <a:off x="500040" y="1500120"/>
            <a:ext cx="3786120" cy="45007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Они познакомились во второй половине 1823 года, когда двадцатилетний Фёдор Тютчев уже освоил свои немногочисленные служебные обязанности и стал чаще появляться в свете. Пятью годами моложе его была Амалия Лерхенфельд. Пятнадцатилетняя красавица взяла под своё покровительство превосходно воспитанного, чуть застенчивого русского дипломата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 </a:t>
            </a: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Одной из центральных тем в лирике Тютчева стала тема любви.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6" name="Содержимое 4" descr="http://t2.gstatic.com/images?q=tbn:ANd9GcR5f8zrrDvWBWN7QVtGn0oXT32RXTz34RXyons0LI7THhL16qa7"/>
          <p:cNvPicPr/>
          <p:nvPr/>
        </p:nvPicPr>
        <p:blipFill>
          <a:blip r:embed="rId1"/>
          <a:stretch/>
        </p:blipFill>
        <p:spPr>
          <a:xfrm>
            <a:off x="214200" y="2071800"/>
            <a:ext cx="4143600" cy="38574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357800" y="1857240"/>
            <a:ext cx="449568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74040" indent="-3117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Теодор (как звали Фёдора Ивановича) и Амалия совершали частые прогулки по зелёным, дышащим стариной предместьям. Спустя годы он напишет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Я встретил вас - и всё былое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В отжившем сердце ожило;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Я вспомнил время золотое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И сердцу стало так тепло…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Рисунок 4" descr="http://t1.gstatic.com/images?q=tbn:ANd9GcQQt96TKperhlpdpaLp37qMIYKBMnLhwIRv3Z7hJdkynp67OEF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Прямоугольник 9"/>
          <p:cNvSpPr/>
          <p:nvPr/>
        </p:nvSpPr>
        <p:spPr>
          <a:xfrm>
            <a:off x="928800" y="822240"/>
            <a:ext cx="6786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Я помню время золотое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Я помню сердцу милый край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День вечерел; мы были двое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Внизу, в тени, шумел Дунай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За год их знакомства, того самого «времени золотого», Тютчев был настолько очарован своей юной избранницей, что стал всерьёз подумывать о женитьбе. Фёдор Иванович решился просить руки Амалии. Но русский дворянин показался её родителям не такой уж выгодной партией для их дочери, и они предпочли ему барона Крюденера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С годами Тютчев и Амалия встречались всё реже и реже. И всё-таки судьба им подарила ещё дважды дружеские свидания, ставшие достойным эпилогом их многолетней привязанности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Брак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01" name="Содержимое 6" descr="http://t2.gstatic.com/images?q=tbn:ANd9GcSyrcd47kzUaF4DT7PeeckIOceefZ-39fUOtimC5TEwUs6tQ-C76w"/>
          <p:cNvPicPr/>
          <p:nvPr/>
        </p:nvPicPr>
        <p:blipFill>
          <a:blip r:embed="rId1"/>
          <a:stretch/>
        </p:blipFill>
        <p:spPr>
          <a:xfrm>
            <a:off x="357120" y="1285920"/>
            <a:ext cx="4143600" cy="528624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Элеонора Феодоровна Тютчева - первая жена поэта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Содержимое 4" descr="http://t2.gstatic.com/images?q=tbn:ANd9GcR9XeRVtryn_eYUJozSVYrn77V1bvKyf8NvOzkAF9cEweZBDBrh0g"/>
          <p:cNvPicPr/>
          <p:nvPr/>
        </p:nvPicPr>
        <p:blipFill>
          <a:blip r:embed="rId1"/>
          <a:stretch/>
        </p:blipFill>
        <p:spPr>
          <a:xfrm>
            <a:off x="500040" y="857160"/>
            <a:ext cx="3929040" cy="50007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656240" y="571320"/>
            <a:ext cx="4038480" cy="57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Тютчев женится на Элеоноре Петерсон, урождённой графине Ботмер. Тютчеву было всего 22, а графиня совсем недавно овдовела и имела четырех сыновей в возрасте от одного до семи лет, более того, избранница Тютчева была старше его на четыре года, поэтому венчание решили провести тайно. Тютчев прожил с Элеонорой 12 лет. От этого союза у него родились три дочери: Анна, Дарья, Екатерин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Содержимое 6" descr="http://t2.gstatic.com/images?q=tbn:ANd9GcSPISb-PEwLrw83bg1HlgirAppYPgBzVl_KmCQNRn18taTs5v4dGg"/>
          <p:cNvPicPr/>
          <p:nvPr/>
        </p:nvPicPr>
        <p:blipFill>
          <a:blip r:embed="rId1"/>
          <a:stretch/>
        </p:blipFill>
        <p:spPr>
          <a:xfrm>
            <a:off x="500040" y="1357200"/>
            <a:ext cx="4071960" cy="4929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Эрнестина Федоровна Тютчева - вторая жена поэта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285480"/>
            <a:ext cx="8229600" cy="64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Через два года поэт женится на Эрнестине Дернберг, которая удочерила его дочерей. В последствии Эрнестина родит Тютчеву ещё двух сыновей: Дмитрия и Ивана. Вторая женитьба стоила Тютчеву карьеры - для венчания поэт был вынужден самовольно выехать в Швейцарию, что было строжайше запрещено. Тютчев подал в отставку и снова переехал в Мюнхен, где прожил еще пять лет, настойчиво пытаясь вернуться на службу в Министерство.</a:t>
            </a: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2920" y="5000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В Европе и в Росси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10" name="Содержимое 4" descr="http://t2.gstatic.com/images?q=tbn:ANd9GcTGEOhBrqHFlE5H6fC4K_RTMSEFg2WHAxq46kPty8NUDIUE51Kxyg"/>
          <p:cNvPicPr/>
          <p:nvPr/>
        </p:nvPicPr>
        <p:blipFill>
          <a:blip r:embed="rId1"/>
          <a:stretch/>
        </p:blipFill>
        <p:spPr>
          <a:xfrm>
            <a:off x="428760" y="1357200"/>
            <a:ext cx="4000320" cy="55008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648320" y="1285920"/>
            <a:ext cx="40384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Тютчев был образованным и остроумным человеком, поэтому пользовался большим успехом (как позднее в России) в среде мюнхенской интеллигенции и аристократии, дружил с Шеллингом, Гейне (Тютчев стал первым переводчиком Гейне на русский язык).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В 1844 году Тютчев вернулся в Россию, был восстановлен в правах и званиях.</a:t>
            </a: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В 1848 году вновь вернулся на дипломатическую службу в качестве старшего цензора Министерства иностранных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Снова влюблен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071600" y="1285560"/>
            <a:ext cx="461484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В 1850 году  избранницей Тютчева  становится Е.А. Денисьева - классная дама в институте где обучались его дочери. Как и прежде Тютчев разрывается между двумя любимыми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Елена Александровна беззаветно любила Тютчева. Дети, рожденные Еленой Александровной (дочь Елена и сын Федор) были записаны как Тютчевы, но они были обречены на печальную в те времена судьбу «незаконнорожденных»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Rectangle 1"/>
          <p:cNvSpPr/>
          <p:nvPr/>
        </p:nvSpPr>
        <p:spPr>
          <a:xfrm>
            <a:off x="0" y="28440"/>
            <a:ext cx="4000680" cy="56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Елена Александровна Денисьева  с дочерью Еленой.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5" name="Содержимое 6" descr="http://img0.liveinternet.ru/images/attach/c/2/65/534/65534432_ece7e7bee325.jpg"/>
          <p:cNvPicPr/>
          <p:nvPr/>
        </p:nvPicPr>
        <p:blipFill>
          <a:blip r:embed="rId1"/>
          <a:stretch/>
        </p:blipFill>
        <p:spPr>
          <a:xfrm>
            <a:off x="642960" y="1285920"/>
            <a:ext cx="3071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82320" indent="-31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Тютчев … создал речи, которым не суждено  умереть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          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И.С. Тургенев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     … </a:t>
            </a: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для Тютчева жить- значит мыслить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            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Corbel"/>
              </a:rPr>
              <a:t>И.С.Аксаков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17" name="Содержимое 6" descr="http://900igr.net/datas/literatura/Tjutchev/0043-043-E.A.-Deniseva.jpg"/>
          <p:cNvPicPr/>
          <p:nvPr/>
        </p:nvPicPr>
        <p:blipFill>
          <a:blip r:embed="rId1"/>
          <a:stretch/>
        </p:blipFill>
        <p:spPr>
          <a:xfrm>
            <a:off x="642960" y="428760"/>
            <a:ext cx="80722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оследняя любов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Любовная лирика отразила его личную жизнь, полную страстей и страданий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Любовь для поэта – и «блаженство», и «безнадёжность», и напряжённое чувство, несущее человеку страдание и счастье, «поединок роковой» двух сердец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 особым драматизмом тема любви раскрылась в стихах, посвящённых Е.А.Денисьевой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«…О ты, последняя любовь!»</a:t>
            </a: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213840" y="1599840"/>
            <a:ext cx="5000760" cy="49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следняя любовь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О, как на склоне наших лет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Нежней мы любим и суеверней…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ияй, сияй, прощальный свет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Любви последней, зари вечерней!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22" name="Содержимое 5" descr="http://t2.gstatic.com/images?q=tbn:ANd9GcSGiYPU1Zksxee1G-vmkRUlbGnfMxOtfqaWaT6ta4oexZB-NDKt"/>
          <p:cNvPicPr/>
          <p:nvPr/>
        </p:nvPicPr>
        <p:blipFill>
          <a:blip r:embed="rId1"/>
          <a:stretch/>
        </p:blipFill>
        <p:spPr>
          <a:xfrm>
            <a:off x="5338800" y="1857240"/>
            <a:ext cx="3591000" cy="28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евец природ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24" name="Содержимое 4" descr="http://t2.gstatic.com/images?q=tbn:ANd9GcRK4Hm5Z5IDeQLHIU_08Nuje-HnvXMXe-ZfnSvK36zAW3Z3JJ5G"/>
          <p:cNvPicPr/>
          <p:nvPr/>
        </p:nvPicPr>
        <p:blipFill>
          <a:blip r:embed="rId1"/>
          <a:stretch/>
        </p:blipFill>
        <p:spPr>
          <a:xfrm>
            <a:off x="214200" y="1285920"/>
            <a:ext cx="4643640" cy="46432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656240" y="1214280"/>
            <a:ext cx="403848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Поэзию Тютчева нельзя представить без лирики природы.  Некрасов отметил его необыкновенную способность улавливать «именно те черты, по которым в воображении читателя может возникнуть и дорисоваться сама собою данная картина»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Содержимое 4" descr="http://t2.gstatic.com/images?q=tbn:ANd9GcSgljCsSTbz6q0mkywdBTWDEguy6n4X7m2qMipf4K06d8GESc3j"/>
          <p:cNvPicPr/>
          <p:nvPr/>
        </p:nvPicPr>
        <p:blipFill>
          <a:blip r:embed="rId1"/>
          <a:stretch/>
        </p:blipFill>
        <p:spPr>
          <a:xfrm>
            <a:off x="0" y="1071720"/>
            <a:ext cx="5072040" cy="43574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4929120" y="1071720"/>
            <a:ext cx="375768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69720" indent="-3081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Картины природы в лирике Тютчева воплощают глубокие, напряжённые трагические раздумья поэта о жизни и смерти, о человечестве и мироздании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Тютчев неповторимо запечатлел в своих стихотворениях все четыре времени года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Весн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29" name="Содержимое 4" descr="фотография Весна, март фото"/>
          <p:cNvPicPr/>
          <p:nvPr/>
        </p:nvPicPr>
        <p:blipFill>
          <a:blip r:embed="rId1"/>
          <a:stretch/>
        </p:blipFill>
        <p:spPr>
          <a:xfrm>
            <a:off x="285840" y="1500120"/>
            <a:ext cx="4643280" cy="40006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4929120" y="1571400"/>
            <a:ext cx="375768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65760" indent="-3049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Более всего поэта привлекала весна, как торжество жизни над увяданием, как символ обновления мира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Ещё в полях белеет снег, 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А воды уж весной шумят –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Бегут и будят сонный брег,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Бегут и блещут и гласят…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Они гласят во все концы: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«Весна идёт, весна идёт!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Мы молодой весны гонцы..»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Рисунок 4" descr="http://img1.liveinternet.ru/images/attach/c/1/55/941/55941431_VesnaS.jpg"/>
          <p:cNvPicPr/>
          <p:nvPr/>
        </p:nvPicPr>
        <p:blipFill>
          <a:blip r:embed="rId1"/>
          <a:stretch/>
        </p:blipFill>
        <p:spPr>
          <a:xfrm>
            <a:off x="714240" y="428760"/>
            <a:ext cx="792972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Тютчевское лето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33" name="Содержимое 4" descr="http://t0.gstatic.com/images?q=tbn:ANd9GcSfGUWmnEv-Les6dsJVClEoZN9rF42Uia1cNJMPIJWPeYO8Nxab"/>
          <p:cNvPicPr/>
          <p:nvPr/>
        </p:nvPicPr>
        <p:blipFill>
          <a:blip r:embed="rId1"/>
          <a:stretch/>
        </p:blipFill>
        <p:spPr>
          <a:xfrm>
            <a:off x="142920" y="1285920"/>
            <a:ext cx="4857840" cy="392904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5214960" y="1071720"/>
            <a:ext cx="347184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Тютчевское лето часто грозовое. Место действия – земля и небо, они же – главные персонажи, гроза – это их сложные и противоречивые отношения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Содержимое 4" descr="http://t0.gstatic.com/images?q=tbn:ANd9GcQRE2sXtpCMbyFo9nSxd5qKpjKlSEFDy-2DfmWCWVVCFYsGEpkW_Q"/>
          <p:cNvPicPr/>
          <p:nvPr/>
        </p:nvPicPr>
        <p:blipFill>
          <a:blip r:embed="rId1"/>
          <a:stretch/>
        </p:blipFill>
        <p:spPr>
          <a:xfrm>
            <a:off x="571680" y="1000080"/>
            <a:ext cx="4000320" cy="485784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4656240" y="857160"/>
            <a:ext cx="4038480" cy="54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78000" indent="-315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Неохотно и несмело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олнце всходит на поля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Чу, за тучей прогремело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ринахмурилась земля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Ветры тёплого порывы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Дальний гром и дождь порой…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Зеленеющие нивы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Зеленее под грозой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Вот пробилось из-за туч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иней молнии струя –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ламень белый и летучий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Окаймил её поля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Рисунок 4" descr="http://www.belygorod.ru/img2/RusskieKartinki/Used/81_KuindzhiAI_Raduga.jpg"/>
          <p:cNvPicPr/>
          <p:nvPr/>
        </p:nvPicPr>
        <p:blipFill>
          <a:blip r:embed="rId1"/>
          <a:stretch/>
        </p:blipFill>
        <p:spPr>
          <a:xfrm>
            <a:off x="714240" y="357120"/>
            <a:ext cx="77868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Цели урока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914400" y="1143000"/>
            <a:ext cx="7772400" cy="52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74040" indent="-31176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3100" spc="-1" strike="noStrike">
                <a:solidFill>
                  <a:srgbClr val="ffffff"/>
                </a:solidFill>
                <a:latin typeface="Corbel"/>
              </a:rPr>
              <a:t>Познакомить  с  этапами  биографии  и творчеством Ф.И.Тютчева </a:t>
            </a: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3100" spc="-1" strike="noStrike">
                <a:solidFill>
                  <a:srgbClr val="ffffff"/>
                </a:solidFill>
                <a:latin typeface="Corbel"/>
              </a:rPr>
              <a:t>Раскрыть  основные темы и мотивы лирики Ф.И.Тютчева, их отображение в  его поэтических произведениях</a:t>
            </a: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rbel"/>
              </a:rPr>
              <a:t>Совершенствовать умения отыскивать характерные темы, образы, художественные  приемы</a:t>
            </a: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rbel"/>
              </a:rPr>
              <a:t>Формировать у учащихся умения слушать и анализировать  стихотворения </a:t>
            </a: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rbel"/>
              </a:rPr>
              <a:t>Воспитывать через поэзию Ф.И.Тютчева нравственные качества учащихся </a:t>
            </a: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7200" y="292860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Есть в осени первоначальной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Короткая, но дивная пора –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есь день стоит как бы хрустальный,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И лучезарны вечера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0" name="Рисунок 4" descr="http://www.tutchev.ru/wcmfiles/tutchev_pic_02.jpg"/>
          <p:cNvPicPr/>
          <p:nvPr/>
        </p:nvPicPr>
        <p:blipFill>
          <a:blip r:embed="rId1"/>
          <a:stretch/>
        </p:blipFill>
        <p:spPr>
          <a:xfrm>
            <a:off x="500040" y="285840"/>
            <a:ext cx="8143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4857480" y="999720"/>
            <a:ext cx="4143240" cy="52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Есть в светлости осенних вечеров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Умильная, таинственная прелесть: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Зловещий блеск и пестрота дерев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Багряных листьев томный, лёгкий шелест…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2" name="Содержимое 4" descr="http://t0.gstatic.com/images?q=tbn:ANd9GcTu9ubYm50cmjmUi4DIYB8wJYwthadOM8kuuaFa9VmYvqVbpYPr"/>
          <p:cNvPicPr/>
          <p:nvPr/>
        </p:nvPicPr>
        <p:blipFill>
          <a:blip r:embed="rId1"/>
          <a:stretch/>
        </p:blipFill>
        <p:spPr>
          <a:xfrm>
            <a:off x="214200" y="1000080"/>
            <a:ext cx="45720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4656240" y="1071720"/>
            <a:ext cx="4038480" cy="52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86280" indent="-321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Чародейкою Зимо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Околдован, лес стоит –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И под снежной бахромою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Неподвижною, немою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Чудной жизнью он блестит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И стоит он, околдован, –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Не мертвец и не живой –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ном волшебным очарован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Весь опутан, весь окован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Лёгкой цепью пуховой…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4" name="Содержимое 4" descr="http://gim710.ru/uploaded/image/1351.jpg"/>
          <p:cNvPicPr/>
          <p:nvPr/>
        </p:nvPicPr>
        <p:blipFill>
          <a:blip r:embed="rId1"/>
          <a:stretch/>
        </p:blipFill>
        <p:spPr>
          <a:xfrm>
            <a:off x="0" y="1143000"/>
            <a:ext cx="47149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Творческое наследие поэт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46" name="Содержимое 4" descr="http://t3.gstatic.com/images?q=tbn:ANd9GcR6VMluZHKbvSV_QMhr4z9xsoBScRaMMcEqIHDrp4hqHne1Sp11-w"/>
          <p:cNvPicPr/>
          <p:nvPr/>
        </p:nvPicPr>
        <p:blipFill>
          <a:blip r:embed="rId1"/>
          <a:stretch/>
        </p:blipFill>
        <p:spPr>
          <a:xfrm>
            <a:off x="500040" y="1500120"/>
            <a:ext cx="3929040" cy="500076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4648320" y="1428840"/>
            <a:ext cx="403848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В 1819 году опубликовал своё вольное переложение из Горация. Печатался нечасто, в малоизвестных альманахах, в период 1837-1847 годов поэзией почти не занимался, не особо заботясь о становлении себя как поэта. 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Впервые стихи Тютчева обратили на себя внимание после того как </a:t>
            </a:r>
            <a:r>
              <a:rPr b="0" lang="ru-RU" sz="1400" spc="-1" strike="noStrike" u="sng">
                <a:solidFill>
                  <a:srgbClr val="eb8803"/>
                </a:solidFill>
                <a:uFillTx/>
                <a:latin typeface="Corbel"/>
                <a:hlinkClick r:id="rId2"/>
              </a:rPr>
              <a:t>А.С. Пушкин</a:t>
            </a: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 опубликовал 16 из них в «Современнике» в 1836-1837 годах. 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В 1850 году Некрасов публикует в "Современнике" статью о Тютчеве. 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В 1854 Тургенев издает первый сборник стихотворений Тютчева.</a:t>
            </a:r>
            <a:r>
              <a:rPr b="1" lang="ru-RU" sz="1400" spc="-1" strike="noStrike">
                <a:solidFill>
                  <a:srgbClr val="ffffff"/>
                </a:solidFill>
                <a:latin typeface="Corbel"/>
              </a:rPr>
              <a:t> </a:t>
            </a: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Тем не менее Тютчев был малоизвестен в широких массах, о его таланте знал лишь ограниченный круг литераторов. Всеобщую известность Тютчев получит лишь с конца XIX века.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Содержимое 4" descr="http://t2.gstatic.com/images?q=tbn:ANd9GcSjHmnUgliAKyW1aok2zy7G_U0V1yGke59BtUQBma2uR2xDeonOgA"/>
          <p:cNvPicPr/>
          <p:nvPr/>
        </p:nvPicPr>
        <p:blipFill>
          <a:blip r:embed="rId1"/>
          <a:stretch/>
        </p:blipFill>
        <p:spPr>
          <a:xfrm>
            <a:off x="642960" y="857160"/>
            <a:ext cx="3857760" cy="507204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4648320" y="1071720"/>
            <a:ext cx="403848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     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 1858 года Тютчев возглавил Комитет иностранной цензуры.  Последние годы жизни поэта омрачены тяжелыми утратами: умирают его старший сын, брат, дочь Мария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Гражданская лири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За свою долгую жизнь Тютчев был свидетелем многих «роковых минут» истории: Отечественная война 1812 года, восстание декабристов, революционные события в Европе 1830 и 1848 годов, реформа 1861 года… Все эти события не могли не волновать Тютчева и как поэта, и как гражданина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214520" y="1600200"/>
            <a:ext cx="478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частлив, кто посетил сей мир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В его минуты роковые!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Его призвали всеблагие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Как собеседника на пир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Он их высоких зрелищ зритель…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77724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Философские размышления о судьбе Росси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Умом Россию не понять, 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Аршином общим не измерить: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У ней особенная стать –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 Россию можно только верить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55" name="Рисунок 4" descr="http://www.tutchev.com/images/top.jpg"/>
          <p:cNvPicPr/>
          <p:nvPr/>
        </p:nvPicPr>
        <p:blipFill>
          <a:blip r:embed="rId1"/>
          <a:stretch/>
        </p:blipFill>
        <p:spPr>
          <a:xfrm>
            <a:off x="857160" y="3857760"/>
            <a:ext cx="792972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15 июля 1873 год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57" name="Содержимое 4" descr="http://tutchev.ru/wcmfiles/tut4ev_1.jpg"/>
          <p:cNvPicPr/>
          <p:nvPr/>
        </p:nvPicPr>
        <p:blipFill>
          <a:blip r:embed="rId1"/>
          <a:stretch/>
        </p:blipFill>
        <p:spPr>
          <a:xfrm>
            <a:off x="900000" y="1770120"/>
            <a:ext cx="3168720" cy="452592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1 января 1873 года Тютчев не слушая никаких предостережений вышел из дома прогуляться, заглянуть в гости к друзьям. Вскоре его привезли назад парализованным на левую сторону. Эрнестина не отходила от постели Тютчева, ухаживая за ним. Тютчев прожил ещё пол года и 15 июля скончался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Творческое наследие поэт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Тютчева оставил всего около 300 стихотворений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61" name="Содержимое 5" descr="http://t0.gstatic.com/images?q=tbn:ANd9GcTvaO58EOlSKBgs5IDtYADbw0x1B_IFt8A56E1lWc0wQahFNWE1"/>
          <p:cNvPicPr/>
          <p:nvPr/>
        </p:nvPicPr>
        <p:blipFill>
          <a:blip r:embed="rId1"/>
          <a:stretch/>
        </p:blipFill>
        <p:spPr>
          <a:xfrm rot="21166200">
            <a:off x="4643280" y="1356840"/>
            <a:ext cx="4000680" cy="5072040"/>
          </a:xfrm>
          <a:prstGeom prst="rect">
            <a:avLst/>
          </a:prstGeom>
          <a:ln w="0">
            <a:noFill/>
          </a:ln>
        </p:spPr>
      </p:pic>
      <p:pic>
        <p:nvPicPr>
          <p:cNvPr id="462" name="Рисунок 4" descr="http://t3.gstatic.com/images?q=tbn:ANd9GcSXehqJz76spgPhkI9B2UnOAviy2Vt4PaRyLXSP5eBswL2QrIjF"/>
          <p:cNvPicPr/>
          <p:nvPr/>
        </p:nvPicPr>
        <p:blipFill>
          <a:blip r:embed="rId2"/>
          <a:stretch/>
        </p:blipFill>
        <p:spPr>
          <a:xfrm rot="20391000">
            <a:off x="483840" y="3476160"/>
            <a:ext cx="2751120" cy="2716200"/>
          </a:xfrm>
          <a:prstGeom prst="rect">
            <a:avLst/>
          </a:prstGeom>
          <a:ln w="0">
            <a:noFill/>
          </a:ln>
        </p:spPr>
      </p:pic>
      <p:pic>
        <p:nvPicPr>
          <p:cNvPr id="463" name="Рисунок 6" descr="http://t0.gstatic.com/images?q=tbn:ANd9GcTgWC8d6lf6WuQc3IVAX6j524ZVQprSoBDTLhL4_jX-Nrrdb4q0"/>
          <p:cNvPicPr/>
          <p:nvPr/>
        </p:nvPicPr>
        <p:blipFill>
          <a:blip r:embed="rId3"/>
          <a:stretch/>
        </p:blipFill>
        <p:spPr>
          <a:xfrm>
            <a:off x="3000240" y="3429000"/>
            <a:ext cx="2714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Содержимое 4" descr="http://upload.wikimedia.org/wikipedia/commons/thumb/1/18/MonumentTutchev.JPG/220px-MonumentTutchev.JPG"/>
          <p:cNvPicPr/>
          <p:nvPr/>
        </p:nvPicPr>
        <p:blipFill>
          <a:blip r:embed="rId1"/>
          <a:stretch/>
        </p:blipFill>
        <p:spPr>
          <a:xfrm>
            <a:off x="357120" y="1071720"/>
            <a:ext cx="4143600" cy="507204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Это один из многих памятников Ф.И.Тютчеву в селе Овстуг на Брянщине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285732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Тютчев Фёдор Иванович (1803, село Овстуг Орловской губернии — 1873, Царское Село, близ Петербурга) — известный поэт, один из самых выдающихся представителей философской и политической лирики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Рисунок 4" descr="http://www.tutchev.com/images/top.jpg"/>
          <p:cNvPicPr/>
          <p:nvPr/>
        </p:nvPicPr>
        <p:blipFill>
          <a:blip r:embed="rId1"/>
          <a:stretch/>
        </p:blipFill>
        <p:spPr>
          <a:xfrm>
            <a:off x="500040" y="285840"/>
            <a:ext cx="821520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Родовое имение в с. Овстуг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67" name="Содержимое 6" descr="http://t2.gstatic.com/images?q=tbn:ANd9GcSK8cS8wYL3_ucsfu4FGgFHsGwDF7XXeZX1uqFAdvZV5EbAw66eMQ"/>
          <p:cNvPicPr/>
          <p:nvPr/>
        </p:nvPicPr>
        <p:blipFill>
          <a:blip r:embed="rId1"/>
          <a:stretch/>
        </p:blipFill>
        <p:spPr>
          <a:xfrm>
            <a:off x="928800" y="1500120"/>
            <a:ext cx="72151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1eeff"/>
                </a:solidFill>
                <a:latin typeface="Consolas"/>
              </a:rPr>
              <a:t>Вопросы и задания:</a:t>
            </a: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92844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1. Где и когда родился Ф.И.Тютчев?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2. Поэт, критик, переводчик – наставник Тютчева?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3. Сколько лет провёл поэт за границей? Где именно?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4. Назовите основные темы лирики Тютчева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5. «История любви» Тютчева. Назовите имена его «муз»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6.  Кому посвящено стихотворение «Я встретил вас – и всё былое…»?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7. Кому посвящено стихотворение «О, как убийственно мы любим…»?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8. Тютчев любил сопоставлять то или иное явление природы с душевным состоянием человека. Найдите подтверждение или опровержение этой мысли в лирике поэта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9. Какие художественные средства являются для Тютчева ведущими, предпочтительными при создании облика природы?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10. Как личная жизнь поэта связана с его творчеством?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Федор Иванович Тютчев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9" name="Содержимое 6" descr="http://t3.gstatic.com/images?q=tbn:ANd9GcRUfORjCARNjH1Ua0pULvTYx4WvQkYi-k5wZmp1PdCWG2by2JrhmQ"/>
          <p:cNvPicPr/>
          <p:nvPr/>
        </p:nvPicPr>
        <p:blipFill>
          <a:blip r:embed="rId1"/>
          <a:stretch/>
        </p:blipFill>
        <p:spPr>
          <a:xfrm>
            <a:off x="714240" y="1285920"/>
            <a:ext cx="3357720" cy="471492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4648320" y="1214280"/>
            <a:ext cx="4038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Недалеко от города Брянска, в селе Овстуг, расположенном у реки Десны, 23 ноября 1803 года родился Фёдор Иванович Тютчев в родовитой дворянской семье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Родители поэт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2" name="Содержимое 4" descr="Тютчева Е.Л. - мать Тютчев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680" y="1428840"/>
            <a:ext cx="3357360" cy="45720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Тютчева Е.Л. - мать Тютчева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1776-1866 Неизвестный художник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Родители поэт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5" name="Содержимое 4" descr="Тютчев И.Н., отец поэта Тютчев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1428840"/>
            <a:ext cx="4214880" cy="50004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orbel"/>
              </a:rPr>
              <a:t>Тютчев И.Н., отец поэта Тютчева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1768-1846 С портрета Ф. Кюнеля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Ко дню рождения отца,13 ноября, будущий поэт написал стихотворение, и называлось оно «Любезному папеньке». Юному стихотворцу тогда ещё не исполнилось одиннадцати лет, и чтение стихотворения всегда вызывало слёзы восторга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Детство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Федор Иванович происходил из старинного, но небогатого дворянского рода. Как и было принято в дворянских семьях, получил блестящее домашнее образование с гуманитарно-литературным уклоном. Воспитателем его был С.Е. Раич (родной брат московского митрополита Филарета)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В 11 лет посвятил стихи своему  отцу: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« В сей день счастливый нежность сына</a:t>
            </a:r>
            <a:br>
              <a:rPr sz="2300"/>
            </a:b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Какой бы дар принесть смогла! </a:t>
            </a:r>
            <a:br>
              <a:rPr sz="2300"/>
            </a:b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Букет цветов? – но флора отцвела,</a:t>
            </a:r>
            <a:br>
              <a:rPr sz="2300"/>
            </a:b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И луг поблёкнул и долина…»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В 14 лет Тютчев становится сотрудником "Общества любителей российской словесности".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71680" y="4287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Юност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0" name="Содержимое 4" descr="http://t0.gstatic.com/images?q=tbn:ANd9GcSVlC4iyMY101lztDmIMQwgiEsbwXSJLdyMi9Qfgi2UMulXF-DVyg"/>
          <p:cNvPicPr/>
          <p:nvPr/>
        </p:nvPicPr>
        <p:blipFill>
          <a:blip r:embed="rId1"/>
          <a:stretch/>
        </p:blipFill>
        <p:spPr>
          <a:xfrm>
            <a:off x="500040" y="1428840"/>
            <a:ext cx="3643200" cy="51433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 1819 по 1821 год Тютчев проходит обучение на словесном отделении Московского университета. Закончив курс, Ф.И. Тютчев поступает на службу в Коллегию иностранных дел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В 1822 году Тютчева перевели на службу в российское посольство в Мюнхене (Германия). Где служил с 1822 по 1837 год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12:49:41Z</dcterms:created>
  <dc:creator>User</dc:creator>
  <dc:description/>
  <dc:language>en-US</dc:language>
  <cp:lastModifiedBy>Наташа</cp:lastModifiedBy>
  <dcterms:modified xsi:type="dcterms:W3CDTF">2016-12-20T16:02:44Z</dcterms:modified>
  <cp:revision>30</cp:revision>
  <dc:subject/>
  <dc:title>Слайд 1</dc:title>
</cp:coreProperties>
</file>