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A7D-4D04-47E9-A53B-4BC7F60D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181-FB72-4194-99AE-CD0228A4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944-A45A-4EC7-BA25-9727CCEF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826-C278-444B-8FD3-C67DE7B5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78F2-D4AF-4CA6-8F82-CA6DD12E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31E3-4E9E-4EE6-A307-F22D0C9E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E460-3C46-43BA-B6DA-ECD84FD8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5F62-5F8A-426C-9A28-8464CFAA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A6D4-2FB4-4704-AF38-2FFEB500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C38B-0F4E-4C92-89DA-5C0B94EC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4F2C-7413-41D6-BCA8-56992743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A0D-D3DA-40BE-A64F-5B7C1A2F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A85F-24C8-4CDA-ACDB-D6FBF732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615B-EC48-478E-9C37-E80B95D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051E-A7F6-4168-9580-BFD72D9E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181B-2757-47B3-9DB9-4A5E7F76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593F-AC11-4055-98AA-13D36BBB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8B08-8DA5-4313-AAF4-03325E25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02E0-7B11-46B7-BE4F-EBD9137E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97FD8-8DD8-40E2-99E4-A8C66970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BCBC0-3D6A-4AEC-8B6C-BB71E503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E6A38-72E5-44C2-8045-39C0DFF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C58-2A72-4D6B-9C1D-EBF67BA1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0E9E-D3DF-449B-9468-981BABED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3495-6D3E-45AF-A4B4-AA43EE84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98F9-05DC-4296-B02B-26114C01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E17D-719F-4A4B-8D48-6A39B31E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F778-A8A9-46AA-AE4A-D9FDECC7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9D0C-80EF-4863-90E6-275A22A8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F91E-9A2F-40F5-9B4D-B8E13CB2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8041-5A5C-4CA0-8F38-28D4A6BE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5730B-725D-4FF9-BC6D-220CCDCA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F967B-0960-4C7E-B8A7-460182D2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84F-10C6-4D9B-8A83-AC91F4AC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E788D-9E65-458D-B579-F1D85D62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C46C1-A08F-4039-823B-47699AA6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0EE5F-DE06-41E2-B837-3372BB3A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6981A-A90C-4C2C-9A98-E597F0FF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EF373-F21A-4CAF-9861-8BDB4BE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D9DC6-4DF7-4709-8EBD-57977DB7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086FA-8A84-42C6-822E-ABB88DE7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2F2B-1B43-4B80-B808-18E51347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7CA7E-BA96-4B26-B618-47E2033E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F7FB8-EF2E-49B0-BC24-7DDFA491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0CC-7D86-4CF3-BC36-B9C00ABA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A3F0B-E1F7-4E56-8E86-903A7D38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F2857-85E3-4699-95AC-560AA4A6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BCD7-2807-4CE2-9A5D-1920AA49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690C8-11FC-4A0F-BED2-D4EBA1D1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DE900-89AB-445A-9159-067B73A5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7BC47-5284-46F5-9C17-112C9CD6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92245-A3D0-48B4-8367-A82081A3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8613A-8A49-4905-880A-D7C4BA3A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AB23E-C433-4604-B64E-1C107C23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BB7F9-1AB9-4D30-9186-F53CFE23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680-CA1F-4589-8E45-BC0A3F14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0E2A-869C-4CFC-BD40-72947455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6C268-376D-46A7-A8AD-B192D26C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67C1A-3A7F-4397-9899-43CE2164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577D4-143C-44DB-A4B7-7A29CB43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C351D-F936-4155-BE65-6DDA7B63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3D23C-8780-4A74-86EE-D02DBC35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C05DA-E96B-4EBA-B520-9D687E54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8BDB3-EFA9-4DDB-B061-2B19330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C6280-59F4-4B40-8049-230692BC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C7616-1E93-44C5-91F6-7A674708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7D4-9D36-42ED-AFA7-001FBFD4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5AE8C-ABEB-433B-AF6D-922AD344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54477-FE4F-4EC2-822F-DC101C48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54454-DF09-401A-A467-66D975E0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EC1E4-B068-4655-89F9-2FA1374C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FA464-AB2A-440E-B4B0-8D9C1193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E5952-BEE7-40CE-9FA9-12542E2A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5EF40-CEDC-4176-B06E-B6A658D5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151E2-C3E4-4CFF-B9BA-60BD1C43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EEF5D-D1F4-4A35-ACD9-0DEC6BAD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D6A46-88A8-4191-A4FE-239B5FB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384-18AA-4696-B3DC-5EB0BE7B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850B9-DE3D-4B0B-ADB2-63E153FD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B943-A17E-45D6-B261-42B28BFB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D080-25A4-4CB7-91D8-FE9B6639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6E9A4-8A13-49ED-BABD-7F8C0EB8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0579D-DF82-47C6-917C-68D7279C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D49-A336-476F-A84A-1751A67C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CCBE-89A7-4106-B0BD-825E66ECFE5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763D-1CB5-4494-9BF9-DADC5D1A597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86B8-75C2-4071-972A-15967BD3924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F62D-21E7-4CBB-A348-1DF14F27D30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EF8D-BB5A-4E89-BD82-685FBEE5286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287F-F737-4927-8ECB-9AC17CC63AF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2EC2-21D6-4259-B518-9C7668C5B4E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pushkiniada.ru/" TargetMode="External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utchev.com/images/tutchev/mam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utchev.com/images/tutchev/otezc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 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Этапы биографии и  творчества  Федора Ивановича Тютчева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втор: учитель русского языка и  литературы Ралдугина Н.Н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Содержимое 5" descr="http://t2.gstatic.com/images?q=tbn:ANd9GcSjHmnUgliAKyW1aok2zy7G_U0V1yGke59BtUQBma2uR2xDeonOgA"/>
          <p:cNvPicPr/>
          <p:nvPr/>
        </p:nvPicPr>
        <p:blipFill>
          <a:blip r:embed="rId1"/>
          <a:stretch/>
        </p:blipFill>
        <p:spPr>
          <a:xfrm>
            <a:off x="571680" y="1571760"/>
            <a:ext cx="3643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юбов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Содержимое 7" descr="http://t2.gstatic.com/images?q=tbn:ANd9GcQ08cp1QBlrT1XRlPRdnhuiG6BcRDgJDv9IZFJywr2RR9aX7piWxw"/>
          <p:cNvPicPr/>
          <p:nvPr/>
        </p:nvPicPr>
        <p:blipFill>
          <a:blip r:embed="rId1"/>
          <a:stretch/>
        </p:blipFill>
        <p:spPr>
          <a:xfrm>
            <a:off x="500040" y="1500120"/>
            <a:ext cx="3786120" cy="45007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ни познакомились во второй половине 1823 года, когда двадцатилетний Фёдор Тютчев уже освоил свои немногочисленные служебные обязанности и стал чаще появляться в свете. Пятью годами моложе его была Амалия Лерхенфельд. Пятнадцатилетняя красавица взяла под своё покровительство превосходно воспитанного, чуть застенчивого русского дипломата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 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Одной из центральных тем в лирике Тютчева стала тема любви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6" name="Содержимое 4" descr="http://t2.gstatic.com/images?q=tbn:ANd9GcR5f8zrrDvWBWN7QVtGn0oXT32RXTz34RXyons0LI7THhL16qa7"/>
          <p:cNvPicPr/>
          <p:nvPr/>
        </p:nvPicPr>
        <p:blipFill>
          <a:blip r:embed="rId1"/>
          <a:stretch/>
        </p:blipFill>
        <p:spPr>
          <a:xfrm>
            <a:off x="214200" y="2071800"/>
            <a:ext cx="4143600" cy="38574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357800" y="1857240"/>
            <a:ext cx="44956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Теодор (как звали Фёдора Ивановича) и Амалия совершали частые прогулки по зелёным, дышащим стариной предместьям. Спустя годы он напишет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Я встретил вас - и всё былое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 отжившем сердце ожило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Я вспомнил время золотое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И сердцу стало так тепло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4" descr="http://t1.gstatic.com/images?q=tbn:ANd9GcQQt96TKperhlpdpaLp37qMIYKBMnLhwIRv3Z7hJdkynp67OEF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9"/>
          <p:cNvSpPr/>
          <p:nvPr/>
        </p:nvSpPr>
        <p:spPr>
          <a:xfrm>
            <a:off x="928800" y="822240"/>
            <a:ext cx="678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Я помню время золото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Я помню сердцу милый кра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нь вечерел; мы были двое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Внизу, в тени, шумел Дунай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За год их знакомства, того самого «времени золотого», Тютчев был настолько очарован своей юной избранницей, что стал всерьёз подумывать о женитьбе. Фёдор Иванович решился просить руки Амалии. Но русский дворянин показался её родителям не такой уж выгодной партией для их дочери, и они предпочли ему барона Крюденер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 годами Тютчев и Амалия встречались всё реже и реже. И всё-таки судьба им подарила ещё дважды дружеские свидания, ставшие достойным эпилогом их многолетней привязанности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Брак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1" name="Содержимое 6" descr="http://t2.gstatic.com/images?q=tbn:ANd9GcSyrcd47kzUaF4DT7PeeckIOceefZ-39fUOtimC5TEwUs6tQ-C76w"/>
          <p:cNvPicPr/>
          <p:nvPr/>
        </p:nvPicPr>
        <p:blipFill>
          <a:blip r:embed="rId1"/>
          <a:stretch/>
        </p:blipFill>
        <p:spPr>
          <a:xfrm>
            <a:off x="357120" y="1285920"/>
            <a:ext cx="4143600" cy="5286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Элеонора Феодоровна Тютчева - первая жена поэт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4" descr="http://t2.gstatic.com/images?q=tbn:ANd9GcR9XeRVtryn_eYUJozSVYrn77V1bvKyf8NvOzkAF9cEweZBDBrh0g"/>
          <p:cNvPicPr/>
          <p:nvPr/>
        </p:nvPicPr>
        <p:blipFill>
          <a:blip r:embed="rId1"/>
          <a:stretch/>
        </p:blipFill>
        <p:spPr>
          <a:xfrm>
            <a:off x="500040" y="857160"/>
            <a:ext cx="3929040" cy="5000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656240" y="571320"/>
            <a:ext cx="4038480" cy="57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ютчев женится на Элеоноре Петерсон, урождённой графине Ботмер. Тютчеву было всего 22, а графиня совсем недавно овдовела и имела четырех сыновей в возрасте от одного до семи лет, более того, избранница Тютчева была старше его на четыре года, поэтому венчание решили провести тайно. Тютчев прожил с Элеонорой 12 лет. От этого союза у него родились три дочери: Анна, Дарья, Екатери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Содержимое 6" descr="http://t2.gstatic.com/images?q=tbn:ANd9GcSPISb-PEwLrw83bg1HlgirAppYPgBzVl_KmCQNRn18taTs5v4dGg"/>
          <p:cNvPicPr/>
          <p:nvPr/>
        </p:nvPicPr>
        <p:blipFill>
          <a:blip r:embed="rId1"/>
          <a:stretch/>
        </p:blipFill>
        <p:spPr>
          <a:xfrm>
            <a:off x="500040" y="1357200"/>
            <a:ext cx="4071960" cy="4929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Эрнестина Федоровна Тютчева - вторая жена поэт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8548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ерез два года поэт женится на Эрнестине Дернберг, которая удочерила его дочерей. В последствии Эрнестина родит Тютчеву ещё двух сыновей: Дмитрия и Ивана. Вторая женитьба стоила Тютчеву карьеры - для венчания поэт был вынужден самовольно выехать в Швейцарию, что было строжайше запрещено. Тютчев подал в отставку и снова переехал в Мюнхен, где прожил еще пять лет, настойчиво пытаясь вернуться на службу в Министерство.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920" y="5000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 Европе и в Росс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0" name="Содержимое 4" descr="http://t2.gstatic.com/images?q=tbn:ANd9GcTGEOhBrqHFlE5H6fC4K_RTMSEFg2WHAxq46kPty8NUDIUE51Kxyg"/>
          <p:cNvPicPr/>
          <p:nvPr/>
        </p:nvPicPr>
        <p:blipFill>
          <a:blip r:embed="rId1"/>
          <a:stretch/>
        </p:blipFill>
        <p:spPr>
          <a:xfrm>
            <a:off x="428760" y="1357200"/>
            <a:ext cx="4000320" cy="5500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648320" y="128592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ютчев был образованным и остроумным человеком, поэтому пользовался большим успехом (как позднее в России) в среде мюнхенской интеллигенции и аристократии, дружил с Шеллингом, Гейне (Тютчев стал первым переводчиком Гейне на русский язык)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 1844 году Тютчев вернулся в Россию, был восстановлен в правах и званиях.</a:t>
            </a: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 1848 году вновь вернулся на дипломатическую службу в качестве старшего цензора Министерства иностранных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нова влюбле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071600" y="1285560"/>
            <a:ext cx="46148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В 1850 году  избранницей Тютчева  становится Е.А. Денисьева - классная дама в институте где обучались его дочери. Как и прежде Тютчев разрывается между двумя любимыми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Елена Александровна беззаветно любила Тютчева. Дети, рожденные Еленой Александровной (дочь Елена и сын Федор) были записаны как Тютчевы, но они были обречены на печальную в те времена судьбу «незаконнорожденных»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Rectangle 1"/>
          <p:cNvSpPr/>
          <p:nvPr/>
        </p:nvSpPr>
        <p:spPr>
          <a:xfrm>
            <a:off x="0" y="28440"/>
            <a:ext cx="400068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Елена Александровна Денисьева  с дочерью Еленой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5" name="Содержимое 6" descr="http://img0.liveinternet.ru/images/attach/c/2/65/534/65534432_ece7e7bee325.jpg"/>
          <p:cNvPicPr/>
          <p:nvPr/>
        </p:nvPicPr>
        <p:blipFill>
          <a:blip r:embed="rId1"/>
          <a:stretch/>
        </p:blipFill>
        <p:spPr>
          <a:xfrm>
            <a:off x="642960" y="1285920"/>
            <a:ext cx="3071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Тютчев … создал речи, которым не суждено  умереть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И.С. Тургенев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    …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для Тютчева жить- значит мыслить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И.С.Аксаков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7" name="Содержимое 6" descr="http://900igr.net/datas/literatura/Tjutchev/0043-043-E.A.-Deniseva.jpg"/>
          <p:cNvPicPr/>
          <p:nvPr/>
        </p:nvPicPr>
        <p:blipFill>
          <a:blip r:embed="rId1"/>
          <a:stretch/>
        </p:blipFill>
        <p:spPr>
          <a:xfrm>
            <a:off x="642960" y="428760"/>
            <a:ext cx="80722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следняя любов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юбовная лирика отразила его личную жизнь, полную страстей и страдани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юбовь для поэта – и «блаженство», и «безнадёжность», и напряжённое чувство, несущее человеку страдание и счастье, «поединок роковой» двух сердец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 особым драматизмом тема любви раскрылась в стихах, посвящённых Е.А.Денисьев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«…О ты, последняя любовь!»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13840" y="1599840"/>
            <a:ext cx="500076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ледняя любовь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, как на склоне наших ле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жней мы любим и суеверней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ияй, сияй, прощальный све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Любви последней, зари вечерней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2" name="Содержимое 5" descr="http://t2.gstatic.com/images?q=tbn:ANd9GcSGiYPU1Zksxee1G-vmkRUlbGnfMxOtfqaWaT6ta4oexZB-NDKt"/>
          <p:cNvPicPr/>
          <p:nvPr/>
        </p:nvPicPr>
        <p:blipFill>
          <a:blip r:embed="rId1"/>
          <a:stretch/>
        </p:blipFill>
        <p:spPr>
          <a:xfrm>
            <a:off x="5338800" y="1857240"/>
            <a:ext cx="359100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евец природ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4" name="Содержимое 4" descr="http://t2.gstatic.com/images?q=tbn:ANd9GcRK4Hm5Z5IDeQLHIU_08Nuje-HnvXMXe-ZfnSvK36zAW3Z3JJ5G"/>
          <p:cNvPicPr/>
          <p:nvPr/>
        </p:nvPicPr>
        <p:blipFill>
          <a:blip r:embed="rId1"/>
          <a:stretch/>
        </p:blipFill>
        <p:spPr>
          <a:xfrm>
            <a:off x="214200" y="1285920"/>
            <a:ext cx="4643640" cy="4643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656240" y="1214280"/>
            <a:ext cx="40384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оэзию Тютчева нельзя представить без лирики природы.  Некрасов отметил его необыкновенную способность улавливать «именно те черты, по которым в воображении читателя может возникнуть и дорисоваться сама собою данная картина»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Содержимое 4" descr="http://t2.gstatic.com/images?q=tbn:ANd9GcSgljCsSTbz6q0mkywdBTWDEguy6n4X7m2qMipf4K06d8GESc3j"/>
          <p:cNvPicPr/>
          <p:nvPr/>
        </p:nvPicPr>
        <p:blipFill>
          <a:blip r:embed="rId1"/>
          <a:stretch/>
        </p:blipFill>
        <p:spPr>
          <a:xfrm>
            <a:off x="0" y="1071720"/>
            <a:ext cx="5072040" cy="43574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929120" y="1071720"/>
            <a:ext cx="37576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Картины природы в лирике Тютчева воплощают глубокие, напряжённые трагические раздумья поэта о жизни и смерти, о человечестве и мироздан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Тютчев неповторимо запечатлел в своих стихотворениях все четыре времени года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ес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9" name="Содержимое 4" descr="фотография Весна, март фото"/>
          <p:cNvPicPr/>
          <p:nvPr/>
        </p:nvPicPr>
        <p:blipFill>
          <a:blip r:embed="rId1"/>
          <a:stretch/>
        </p:blipFill>
        <p:spPr>
          <a:xfrm>
            <a:off x="285840" y="1500120"/>
            <a:ext cx="4643280" cy="40006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929120" y="1571400"/>
            <a:ext cx="37576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65760" indent="-304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олее всего поэта привлекала весна, как торжество жизни над увяданием, как символ обновления мира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Ещё в полях белеет снег, 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А воды уж весной шумят –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егут и будят сонный брег,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егут и блещут и гласят…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ни гласят во все концы: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«Весна идёт, весна идёт!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Мы молодой весны гонцы..»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Рисунок 4" descr="http://img1.liveinternet.ru/images/attach/c/1/55/941/55941431_VesnaS.jpg"/>
          <p:cNvPicPr/>
          <p:nvPr/>
        </p:nvPicPr>
        <p:blipFill>
          <a:blip r:embed="rId1"/>
          <a:stretch/>
        </p:blipFill>
        <p:spPr>
          <a:xfrm>
            <a:off x="714240" y="428760"/>
            <a:ext cx="79297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ютчевское лето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3" name="Содержимое 4" descr="http://t0.gstatic.com/images?q=tbn:ANd9GcSfGUWmnEv-Les6dsJVClEoZN9rF42Uia1cNJMPIJWPeYO8Nxab"/>
          <p:cNvPicPr/>
          <p:nvPr/>
        </p:nvPicPr>
        <p:blipFill>
          <a:blip r:embed="rId1"/>
          <a:stretch/>
        </p:blipFill>
        <p:spPr>
          <a:xfrm>
            <a:off x="142920" y="1285920"/>
            <a:ext cx="4857840" cy="39290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5214960" y="1071720"/>
            <a:ext cx="347184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ютчевское лето часто грозовое. Место действия – земля и небо, они же – главные персонажи, гроза – это их сложные и противоречивые отнош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4" descr="http://t0.gstatic.com/images?q=tbn:ANd9GcQRE2sXtpCMbyFo9nSxd5qKpjKlSEFDy-2DfmWCWVVCFYsGEpkW_Q"/>
          <p:cNvPicPr/>
          <p:nvPr/>
        </p:nvPicPr>
        <p:blipFill>
          <a:blip r:embed="rId1"/>
          <a:stretch/>
        </p:blipFill>
        <p:spPr>
          <a:xfrm>
            <a:off x="571680" y="1000080"/>
            <a:ext cx="4000320" cy="4857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656240" y="857160"/>
            <a:ext cx="403848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охотно и несмело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олнце всходит на пол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у, за тучей прогремело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инахмурилась земл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етры тёплого порыв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Дальний гром и дождь порой…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Зеленеющие нив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Зеленее под грозо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т пробилось из-за туч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иней молнии струя –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ламень белый и летучи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каймил её поля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4" descr="http://www.belygorod.ru/img2/RusskieKartinki/Used/81_KuindzhiAI_Raduga.jpg"/>
          <p:cNvPicPr/>
          <p:nvPr/>
        </p:nvPicPr>
        <p:blipFill>
          <a:blip r:embed="rId1"/>
          <a:stretch/>
        </p:blipFill>
        <p:spPr>
          <a:xfrm>
            <a:off x="714240" y="357120"/>
            <a:ext cx="77868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Цели урока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Познакомить  с  этапами  биографии  и творчеством Ф.И.Тютчева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Раскрыть  основные темы и мотивы лирики Ф.И.Тютчева, их отображение в  его поэтических произведениях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Совершенствовать умения отыскивать характерные темы, образы, художественные  приемы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Формировать у учащихся умения слушать и анализировать  стихотворения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Воспитывать через поэзию Ф.И.Тютчева нравственные качества учащихся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Есть в осени первоначальной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ороткая, но дивная пора –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есь день стоит как бы хрустальный,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 лучезарны вечера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0" name="Рисунок 4" descr="http://www.tutchev.ru/wcmfiles/tutchev_pic_02.jpg"/>
          <p:cNvPicPr/>
          <p:nvPr/>
        </p:nvPicPr>
        <p:blipFill>
          <a:blip r:embed="rId1"/>
          <a:stretch/>
        </p:blipFill>
        <p:spPr>
          <a:xfrm>
            <a:off x="500040" y="285840"/>
            <a:ext cx="8143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857480" y="999720"/>
            <a:ext cx="414324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Есть в светлости осенних вечер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мильная, таинственная прелесть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ловещий блеск и пестрота дерев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агряных листьев томный, лёгкий шелест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2" name="Содержимое 4" descr="http://t0.gstatic.com/images?q=tbn:ANd9GcTu9ubYm50cmjmUi4DIYB8wJYwthadOM8kuuaFa9VmYvqVbpYPr"/>
          <p:cNvPicPr/>
          <p:nvPr/>
        </p:nvPicPr>
        <p:blipFill>
          <a:blip r:embed="rId1"/>
          <a:stretch/>
        </p:blipFill>
        <p:spPr>
          <a:xfrm>
            <a:off x="214200" y="1000080"/>
            <a:ext cx="4572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656240" y="1071720"/>
            <a:ext cx="4038480" cy="52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ародейкою Зимо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колдован, лес стоит –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 под снежной бахромо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подвижною, немо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удной жизнью он блести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 стоит он, околдован, –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 мертвец и не живой –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ном волшебным очарован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есь опутан, весь окован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Лёгкой цепью пуховой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4" name="Содержимое 4" descr="http://gim710.ru/uploaded/image/1351.jpg"/>
          <p:cNvPicPr/>
          <p:nvPr/>
        </p:nvPicPr>
        <p:blipFill>
          <a:blip r:embed="rId1"/>
          <a:stretch/>
        </p:blipFill>
        <p:spPr>
          <a:xfrm>
            <a:off x="0" y="1143000"/>
            <a:ext cx="4714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ворческое наследие поэ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46" name="Содержимое 4" descr="http://t3.gstatic.com/images?q=tbn:ANd9GcR6VMluZHKbvSV_QMhr4z9xsoBScRaMMcEqIHDrp4hqHne1Sp11-w"/>
          <p:cNvPicPr/>
          <p:nvPr/>
        </p:nvPicPr>
        <p:blipFill>
          <a:blip r:embed="rId1"/>
          <a:stretch/>
        </p:blipFill>
        <p:spPr>
          <a:xfrm>
            <a:off x="500040" y="1500120"/>
            <a:ext cx="3929040" cy="5000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648320" y="1428840"/>
            <a:ext cx="403848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 1819 году опубликовал своё вольное переложение из Горация. Печатался нечасто, в малоизвестных альманахах, в период 1837-1847 годов поэзией почти не занимался, не особо заботясь о становлении себя как поэта.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первые стихи Тютчева обратили на себя внимание после того как </a:t>
            </a:r>
            <a:r>
              <a:rPr b="0" lang="ru-RU" sz="14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А.С. Пушкин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 опубликовал 16 из них в «Современнике» в 1836-1837 годах.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 1850 году Некрасов публикует в "Современнике" статью о Тютчеве.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 1854 Тургенев издает первый сборник стихотворений Тютчева.</a:t>
            </a: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Тем не менее Тютчев был малоизвестен в широких массах, о его таланте знал лишь ограниченный круг литераторов. Всеобщую известность Тютчев получит лишь с конца XIX века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Содержимое 4" descr="http://t2.gstatic.com/images?q=tbn:ANd9GcSjHmnUgliAKyW1aok2zy7G_U0V1yGke59BtUQBma2uR2xDeonOgA"/>
          <p:cNvPicPr/>
          <p:nvPr/>
        </p:nvPicPr>
        <p:blipFill>
          <a:blip r:embed="rId1"/>
          <a:stretch/>
        </p:blipFill>
        <p:spPr>
          <a:xfrm>
            <a:off x="642960" y="857160"/>
            <a:ext cx="3857760" cy="50720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 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 1858 года Тютчев возглавил Комитет иностранной цензуры.  Последние годы жизни поэта омрачены тяжелыми утратами: умирают его старший сын, брат, дочь Мар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Гражданская лир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За свою долгую жизнь Тютчев был свидетелем многих «роковых минут» истории: Отечественная война 1812 года, восстание декабристов, революционные события в Европе 1830 и 1848 годов, реформа 1861 года… Все эти события не могли не волновать Тютчева и как поэта, и как гражданин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4520" y="160020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частлив, кто посетил сей мир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его минуты роковы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Его призвали всеблаги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ак собеседника на пир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н их высоких зрелищ зритель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илософские размышления о судьбе Росс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мом Россию не понять, 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ршином общим не измерить: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 ней особенная стать –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Россию можно только верит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5" name="Рисунок 4" descr="http://www.tutchev.com/images/top.jpg"/>
          <p:cNvPicPr/>
          <p:nvPr/>
        </p:nvPicPr>
        <p:blipFill>
          <a:blip r:embed="rId1"/>
          <a:stretch/>
        </p:blipFill>
        <p:spPr>
          <a:xfrm>
            <a:off x="857160" y="3857760"/>
            <a:ext cx="79297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15 июля 1873 год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7" name="Содержимое 4" descr="http://tutchev.ru/wcmfiles/tut4ev_1.jpg"/>
          <p:cNvPicPr/>
          <p:nvPr/>
        </p:nvPicPr>
        <p:blipFill>
          <a:blip r:embed="rId1"/>
          <a:stretch/>
        </p:blipFill>
        <p:spPr>
          <a:xfrm>
            <a:off x="900000" y="1770120"/>
            <a:ext cx="3168720" cy="45259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1 января 1873 года Тютчев не слушая никаких предостережений вышел из дома прогуляться, заглянуть в гости к друзьям. Вскоре его привезли назад парализованным на левую сторону. Эрнестина не отходила от постели Тютчева, ухаживая за ним. Тютчев прожил ещё пол года и 15 июля скончался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ворческое наследие поэ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ютчева оставил всего около 300 стихотворений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1" name="Содержимое 5" descr="http://t0.gstatic.com/images?q=tbn:ANd9GcTvaO58EOlSKBgs5IDtYADbw0x1B_IFt8A56E1lWc0wQahFNWE1"/>
          <p:cNvPicPr/>
          <p:nvPr/>
        </p:nvPicPr>
        <p:blipFill>
          <a:blip r:embed="rId1"/>
          <a:stretch/>
        </p:blipFill>
        <p:spPr>
          <a:xfrm rot="21166200">
            <a:off x="4643280" y="1356840"/>
            <a:ext cx="4000680" cy="507204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4" descr="http://t3.gstatic.com/images?q=tbn:ANd9GcSXehqJz76spgPhkI9B2UnOAviy2Vt4PaRyLXSP5eBswL2QrIjF"/>
          <p:cNvPicPr/>
          <p:nvPr/>
        </p:nvPicPr>
        <p:blipFill>
          <a:blip r:embed="rId2"/>
          <a:stretch/>
        </p:blipFill>
        <p:spPr>
          <a:xfrm rot="20391000">
            <a:off x="483840" y="3476160"/>
            <a:ext cx="2751120" cy="271620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6" descr="http://t0.gstatic.com/images?q=tbn:ANd9GcTgWC8d6lf6WuQc3IVAX6j524ZVQprSoBDTLhL4_jX-Nrrdb4q0"/>
          <p:cNvPicPr/>
          <p:nvPr/>
        </p:nvPicPr>
        <p:blipFill>
          <a:blip r:embed="rId3"/>
          <a:stretch/>
        </p:blipFill>
        <p:spPr>
          <a:xfrm>
            <a:off x="3000240" y="3429000"/>
            <a:ext cx="2714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Содержимое 4" descr="http://upload.wikimedia.org/wikipedia/commons/thumb/1/18/MonumentTutchev.JPG/220px-MonumentTutchev.JPG"/>
          <p:cNvPicPr/>
          <p:nvPr/>
        </p:nvPicPr>
        <p:blipFill>
          <a:blip r:embed="rId1"/>
          <a:stretch/>
        </p:blipFill>
        <p:spPr>
          <a:xfrm>
            <a:off x="357120" y="1071720"/>
            <a:ext cx="4143600" cy="50720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Это один из многих памятников Ф.И.Тютчеву в селе Овстуг на Брянщин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ютчев Фёдор Иванович (1803, село Овстуг Орловской губернии — 1873, Царское Село, близ Петербурга) — известный поэт, один из самых выдающихся представителей философской и политической лирик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Рисунок 4" descr="http://www.tutchev.com/images/top.jpg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одовое имение в с. Овсту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7" name="Содержимое 6" descr="http://t2.gstatic.com/images?q=tbn:ANd9GcSK8cS8wYL3_ucsfu4FGgFHsGwDF7XXeZX1uqFAdvZV5EbAw66eMQ"/>
          <p:cNvPicPr/>
          <p:nvPr/>
        </p:nvPicPr>
        <p:blipFill>
          <a:blip r:embed="rId1"/>
          <a:stretch/>
        </p:blipFill>
        <p:spPr>
          <a:xfrm>
            <a:off x="928800" y="1500120"/>
            <a:ext cx="7215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Вопросы и задания: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92844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1. Где и когда родился Ф.И.Тютчев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2. Поэт, критик, переводчик – наставник Тютчева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3. Сколько лет провёл поэт за границей? Где именно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4. Назовите основные темы лирики Тютчев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5. «История любви» Тютчева. Назовите имена его «муз»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6.  Кому посвящено стихотворение «Я встретил вас – и всё былое…»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7. Кому посвящено стихотворение «О, как убийственно мы любим…»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8. Тютчев любил сопоставлять то или иное явление природы с душевным состоянием человека. Найдите подтверждение или опровержение этой мысли в лирике поэт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9. Какие художественные средства являются для Тютчева ведущими, предпочтительными при создании облика природы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10. Как личная жизнь поэта связана с его творчеством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едор Иванович Тютче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6" descr="http://t3.gstatic.com/images?q=tbn:ANd9GcRUfORjCARNjH1Ua0pULvTYx4WvQkYi-k5wZmp1PdCWG2by2JrhmQ"/>
          <p:cNvPicPr/>
          <p:nvPr/>
        </p:nvPicPr>
        <p:blipFill>
          <a:blip r:embed="rId1"/>
          <a:stretch/>
        </p:blipFill>
        <p:spPr>
          <a:xfrm>
            <a:off x="714240" y="1285920"/>
            <a:ext cx="3357720" cy="47149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далеко от города Брянска, в селе Овстуг, расположенном у реки Десны, 23 ноября 1803 года родился Фёдор Иванович Тютчев в родовитой дворянской семь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одители поэ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4" descr="Тютчева Е.Л. - мать Тютчев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1428840"/>
            <a:ext cx="335736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Тютчева Е.Л. - мать Тютчев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776-1866 Неизвестный художник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одители поэ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Содержимое 4" descr="Тютчев И.Н., отец поэта Тютчев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428840"/>
            <a:ext cx="4214880" cy="50004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Тютчев И.Н., отец поэта Тютчева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1768-1846 С портрета Ф. Кюнеля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Ко дню рождения отца,13 ноября, будущий поэт написал стихотворение, и называлось оно «Любезному папеньке». Юному стихотворцу тогда ещё не исполнилось одиннадцати лет, и чтение стихотворения всегда вызывало слёзы восторг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т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Федор Иванович происходил из старинного, но небогатого дворянского рода. Как и было принято в дворянских семьях, получил блестящее домашнее образование с гуманитарно-литературным уклоном. Воспитателем его был С.Е. Раич (родной брат московского митрополита Филарета)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11 лет посвятил стихи своему  отцу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« В сей день счастливый нежность сына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акой бы дар принесть смогла! 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Букет цветов? – но флора отцвела,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 луг поблёкнул и долина…»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14 лет Тютчев становится сотрудником "Общества любителей российской словесности"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Юност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Содержимое 4" descr="http://t0.gstatic.com/images?q=tbn:ANd9GcSVlC4iyMY101lztDmIMQwgiEsbwXSJLdyMi9Qfgi2UMulXF-DVyg"/>
          <p:cNvPicPr/>
          <p:nvPr/>
        </p:nvPicPr>
        <p:blipFill>
          <a:blip r:embed="rId1"/>
          <a:stretch/>
        </p:blipFill>
        <p:spPr>
          <a:xfrm>
            <a:off x="500040" y="1428840"/>
            <a:ext cx="3643200" cy="51433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 1819 по 1821 год Тютчев проходит обучение на словесном отделении Московского университета. Закончив курс, Ф.И. Тютчев поступает на службу в Коллегию иностранных дел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1822 году Тютчева перевели на службу в российское посольство в Мюнхене (Германия). Где служил с 1822 по 1837 год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2:49:41Z</dcterms:created>
  <dc:creator>User</dc:creator>
  <dc:description/>
  <dc:language>en-US</dc:language>
  <cp:lastModifiedBy>Наташа</cp:lastModifiedBy>
  <dcterms:modified xsi:type="dcterms:W3CDTF">2016-12-20T16:02:44Z</dcterms:modified>
  <cp:revision>30</cp:revision>
  <dc:subject/>
  <dc:title>Слайд 1</dc:title>
</cp:coreProperties>
</file>