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click.wav" ContentType="audio/x-wav"/>
  <Override PartName="/ppt/media/image16.jpeg" ContentType="image/jpeg"/>
  <Override PartName="/ppt/media/image15.jpeg" ContentType="image/jpeg"/>
  <Override PartName="/ppt/media/camera.wav" ContentType="audio/x-wav"/>
  <Override PartName="/ppt/media/image14.jpeg" ContentType="image/jpeg"/>
  <Override PartName="/ppt/media/image1.png" ContentType="image/png"/>
  <Override PartName="/ppt/media/image3.jpeg" ContentType="image/jpeg"/>
  <Override PartName="/ppt/media/arrow.wav" ContentType="audio/x-wav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569-FC63-4A2F-ADF1-0692218D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81D-6E53-4D5C-AE72-8253845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F0F-5F97-444E-AEC0-EE353D22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839-46EA-42D6-80D7-0CDD62F5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4ED2-9C9B-42C0-9CFF-DDA3502C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3710-9C4D-45A8-90DC-D58CB28C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4145-EE3D-4D38-B040-A23E973A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816A-9C8E-435A-8471-4C2351A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4635-71FF-48EB-A759-75C89861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B0E0-0B2E-43C8-8A9F-F639C532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7D98-4D1F-4F90-A9E5-1F95ED4B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1FC-1EDF-43C4-952C-53B6F162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BF8-2702-47D3-B33B-13B8E37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2E0D-5216-4796-8583-70F56776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BE74-A283-4701-9D59-0F5185E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CA3B-2D2B-4A38-B63F-2D1E6A4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6A0-99B1-4FD3-9D16-127936C7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1F42-94AD-4326-8DB4-6A715C48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F718-134C-49DC-A5CB-8CC882EB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7CED6-41BE-490D-B39D-B7C2FE9F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F3CE-9A57-42DB-879A-495D65A8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70440-737D-4F25-A7B5-F3F9834C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A640-5621-4DBA-B313-AE2306F0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6E88-0787-4F22-A838-B87E9510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84C8-27D0-4E3B-AB85-A4E4BB2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A05C-7AD6-46F6-AEFA-B2BBD39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5BD8-F40C-410D-800B-7E2725F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31AB-ACCF-47C5-8F08-98487935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B78C-6455-4D7D-9A8F-8B680669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E07F-7AF5-4C61-B322-97A6D99A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FF16-8FBF-4B60-9AE4-79557C62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7B51-3CF7-4961-8A9E-3ED4DA2F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1232-3792-4118-99CB-D0B30F2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C68-97BC-48B7-8B29-DDD7C648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5450-AF57-4156-B6BC-C09A812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37DC-F978-42EF-AFB1-8E70C406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39AD2-25D2-4962-9626-0B5F9F31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1953-B7E8-4325-950E-86A6E43B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2FB7-7C9B-44A8-8BA7-640A299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024F-4647-4D60-AC9A-9D2BA69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9FA8F-9ECF-4460-88FA-E663551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FAF97-7F4B-40EB-B887-DADEFAE7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D332-976A-4DA3-9D83-1BCFB3FC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06039-2B63-4796-B751-D60820FF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35C-2D58-4756-A2D7-DC4A98C0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8B05-719B-42A2-B818-FA51D0B6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EC5B-C2C2-4D4E-A207-A7578FD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6745-5FA2-497E-8DED-579BCFC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64ECF-CDA8-4933-A830-3B1C652F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DB0C8-9112-4253-A9D6-FBB727E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C4B7-BD74-427E-AFF7-FB9BEADE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FE81-FE1F-440A-8E71-8193CF0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E71E-EB21-47AF-AB0E-F5D262D1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AF8C-2C0D-4C35-A053-2F85B39F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E9EE-AD8D-4C25-A85F-DD78C4B3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654-4DFC-4AE4-9063-351B571B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C08C-2612-4E99-8CCD-D765BB1F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A8C2-85F4-4824-8A5A-F8E73C1F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3CFB-2004-43A6-BF99-A1BE468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B0112-4593-4E9F-AFB9-F7B950A9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A752-E1DD-44BA-B089-FFC7094D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80849-C078-406D-BB88-B50AFB90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7B66-D3A7-47A0-8193-F5CBDCAA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31C87-AD3A-4995-B62B-D4D9DC3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DFACF-45C8-4852-9D8E-43778773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73944-9A8C-4495-B2CF-AF1E4D03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2DC-DEB8-4A44-9E24-123039C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6C34-9973-46ED-BD1F-56C8DA5E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E1D4-2EC0-404C-9262-45E61883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6F13F-35BE-421E-82DC-EE475D8B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8AAD-A89C-4975-8B3E-3F00140D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0A03-52C2-4F1B-89F2-DFACD25C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0C92B-87FC-4F36-9DF9-F3CBEA45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6C52-6267-464D-82A5-7CC1F396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FF78E-A02A-41A9-AACC-ED5FE661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A67C6-1B18-4F1C-B94A-D87D1202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EEC94-1066-452C-B706-DA38A218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515-5F75-4F25-9FEB-16A88FBD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5CB3-4C3D-49A2-AE0B-8DC31A54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0A1E-165E-4FA2-B68D-3CA4446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BDC70-284D-4239-9457-5BF1AE5B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01F79-82FD-46F7-8FF8-2EB32443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54A58-3C55-482C-923F-7DF3A576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236-1A21-4DA7-B658-EBF67BC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6E6-B850-44C8-BFFF-30A96CA232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3048-6E95-4639-AB58-B761FD98080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75FF-E6B9-4513-8142-B397AD9EF0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18E-805F-42AC-9B5A-FC36B13DD2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73E7-EE06-4107-9FD5-2A2EC41A41B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9E1C-A05C-45FC-998E-950ECCF10C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DD5E-78FC-463F-9D5A-310012373C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ГБДОУ № 60 Детский сад</a:t>
            </a:r>
            <a:br>
              <a:rPr sz="4000"/>
            </a:br>
            <a:r>
              <a:rPr b="0" lang="ru-RU" sz="5300" spc="-1" strike="noStrike">
                <a:solidFill>
                  <a:srgbClr val="ffffff"/>
                </a:solidFill>
                <a:latin typeface="Candara"/>
              </a:rPr>
              <a:t>Воздушный транспорт </a:t>
            </a:r>
            <a:endParaRPr b="0" lang="en-US" sz="5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648320" y="525780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Воспитатель: Морозова Е.Г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4" descr="AIRC004 П 1"/>
          <p:cNvPicPr/>
          <p:nvPr/>
        </p:nvPicPr>
        <p:blipFill>
          <a:blip r:embed="rId1"/>
          <a:stretch/>
        </p:blipFill>
        <p:spPr>
          <a:xfrm>
            <a:off x="257040" y="839880"/>
            <a:ext cx="5112000" cy="5111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helicop1 П"/>
          <p:cNvPicPr/>
          <p:nvPr/>
        </p:nvPicPr>
        <p:blipFill>
          <a:blip r:embed="rId2"/>
          <a:stretch/>
        </p:blipFill>
        <p:spPr>
          <a:xfrm>
            <a:off x="5842080" y="20988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ircle/>
    <p:sndAc>
      <p:stSnd>
        <p:snd r:embed="rId3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1_2_"/>
          <p:cNvPicPr/>
          <p:nvPr/>
        </p:nvPicPr>
        <p:blipFill>
          <a:blip r:embed="rId1"/>
          <a:stretch/>
        </p:blipFill>
        <p:spPr>
          <a:xfrm>
            <a:off x="1523880" y="91440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80880" y="46483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илот включает мотор, начинают вращаться вот эти лопасти и вертолет взлетает прямо с мес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7000">
    <p:fad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f558d0c18b5b25f9d53c51d596ad163c"/>
          <p:cNvPicPr/>
          <p:nvPr/>
        </p:nvPicPr>
        <p:blipFill>
          <a:blip r:embed="rId1"/>
          <a:srcRect l="0" t="17656" r="0" b="0"/>
          <a:stretch/>
        </p:blipFill>
        <p:spPr>
          <a:xfrm>
            <a:off x="3652920" y="762120"/>
            <a:ext cx="5262480" cy="2842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AIR_AW139_Civilian_lg"/>
          <p:cNvPicPr/>
          <p:nvPr/>
        </p:nvPicPr>
        <p:blipFill>
          <a:blip r:embed="rId2"/>
          <a:srcRect l="0" t="0" r="0" b="19447"/>
          <a:stretch/>
        </p:blipFill>
        <p:spPr>
          <a:xfrm>
            <a:off x="3652920" y="3276720"/>
            <a:ext cx="4653000" cy="3352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2312_165_big"/>
          <p:cNvPicPr/>
          <p:nvPr/>
        </p:nvPicPr>
        <p:blipFill>
          <a:blip r:embed="rId3"/>
          <a:srcRect l="22917" t="0" r="22917" b="5556"/>
          <a:stretch/>
        </p:blipFill>
        <p:spPr>
          <a:xfrm>
            <a:off x="914400" y="380880"/>
            <a:ext cx="2738520" cy="35816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9"/>
          <p:cNvSpPr/>
          <p:nvPr/>
        </p:nvSpPr>
        <p:spPr>
          <a:xfrm>
            <a:off x="152280" y="3429000"/>
            <a:ext cx="426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анспорт, который передвигается по воздуху – называется воздушны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30492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 можно назвать одним словом и самолет, и воздушный шар, и                   вертолет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circle/>
    <p:sndAc>
      <p:stSnd>
        <p:snd r:embed="rId4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02228967"/>
          <p:cNvPicPr/>
          <p:nvPr/>
        </p:nvPicPr>
        <p:blipFill>
          <a:blip r:embed="rId1"/>
          <a:srcRect l="0" t="0" r="0" b="40000"/>
          <a:stretch/>
        </p:blipFill>
        <p:spPr>
          <a:xfrm>
            <a:off x="685800" y="609480"/>
            <a:ext cx="6095880" cy="2514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летящей-птицы"/>
          <p:cNvPicPr/>
          <p:nvPr/>
        </p:nvPicPr>
        <p:blipFill>
          <a:blip r:embed="rId2"/>
          <a:srcRect l="0" t="10909" r="0" b="14551"/>
          <a:stretch/>
        </p:blipFill>
        <p:spPr>
          <a:xfrm>
            <a:off x="4267080" y="3122640"/>
            <a:ext cx="447696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"/>
          <p:cNvSpPr/>
          <p:nvPr/>
        </p:nvSpPr>
        <p:spPr>
          <a:xfrm>
            <a:off x="228600" y="312408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вным-давно древние люди смотрели на птиц и мечтали летать как они. Но прошло много времени, прежде чем это случилось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7778-0-5ea8233f82-fullsize"/>
          <p:cNvPicPr/>
          <p:nvPr/>
        </p:nvPicPr>
        <p:blipFill>
          <a:blip r:embed="rId1"/>
          <a:stretch/>
        </p:blipFill>
        <p:spPr>
          <a:xfrm>
            <a:off x="762120" y="533520"/>
            <a:ext cx="6476760" cy="48574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304920" y="45720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ете ли вы что это? Сначала  люди научились подниматься в воздух на воздушном шар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04920" y="472428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Шар наполняли дымом от костра, газом, который легче окружающего воздух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Но шар летит туда, куда дует ветер. А человек хотел сам выбирать куда ему лететь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4" descr="09"/>
          <p:cNvPicPr/>
          <p:nvPr/>
        </p:nvPicPr>
        <p:blipFill>
          <a:blip r:embed="rId1"/>
          <a:stretch/>
        </p:blipFill>
        <p:spPr>
          <a:xfrm>
            <a:off x="1447920" y="2286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1" descr="Extra_ea300s_g-iiui_arp.jpg"/>
          <p:cNvPicPr/>
          <p:nvPr/>
        </p:nvPicPr>
        <p:blipFill>
          <a:blip r:embed="rId1"/>
          <a:stretch/>
        </p:blipFill>
        <p:spPr>
          <a:xfrm>
            <a:off x="609480" y="457200"/>
            <a:ext cx="4803840" cy="3602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125-990x660"/>
          <p:cNvPicPr/>
          <p:nvPr/>
        </p:nvPicPr>
        <p:blipFill>
          <a:blip r:embed="rId2"/>
          <a:srcRect l="20237" t="16074" r="8334" b="16074"/>
          <a:stretch/>
        </p:blipFill>
        <p:spPr>
          <a:xfrm>
            <a:off x="4114800" y="3124080"/>
            <a:ext cx="4648320" cy="2943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"/>
          <p:cNvSpPr/>
          <p:nvPr/>
        </p:nvSpPr>
        <p:spPr>
          <a:xfrm>
            <a:off x="646200" y="4024440"/>
            <a:ext cx="438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шло время прежде чем был изобретен самол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4" descr="016hgygp"/>
          <p:cNvPicPr/>
          <p:nvPr/>
        </p:nvPicPr>
        <p:blipFill>
          <a:blip r:embed="rId1"/>
          <a:stretch/>
        </p:blipFill>
        <p:spPr>
          <a:xfrm>
            <a:off x="2084400" y="969840"/>
            <a:ext cx="6781680" cy="47451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5"/>
          <p:cNvSpPr/>
          <p:nvPr/>
        </p:nvSpPr>
        <p:spPr>
          <a:xfrm>
            <a:off x="76320" y="1967040"/>
            <a:ext cx="198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молет летит туда, куда направ-ляет его пило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66c13cc8126f"/>
          <p:cNvPicPr/>
          <p:nvPr/>
        </p:nvPicPr>
        <p:blipFill>
          <a:blip r:embed="rId1"/>
          <a:stretch/>
        </p:blipFill>
        <p:spPr>
          <a:xfrm>
            <a:off x="1295280" y="533520"/>
            <a:ext cx="7162920" cy="50814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457200" y="56149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емляются и отлетают самолеты с аэродром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airplanes_003"/>
          <p:cNvPicPr/>
          <p:nvPr/>
        </p:nvPicPr>
        <p:blipFill>
          <a:blip r:embed="rId1"/>
          <a:srcRect l="0" t="7346" r="0" b="0"/>
          <a:stretch/>
        </p:blipFill>
        <p:spPr>
          <a:xfrm>
            <a:off x="1066680" y="152280"/>
            <a:ext cx="7162920" cy="411480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0" y="4419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того, чтобы оторваться от земли и подняться в воздух, самолет должен сначала промчаться на большой скорости по земле. Для этого нужно много места и специально построенная дорога – взлетная полос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AIR_AW139_Civilian_lg"/>
          <p:cNvPicPr/>
          <p:nvPr/>
        </p:nvPicPr>
        <p:blipFill>
          <a:blip r:embed="rId1"/>
          <a:stretch/>
        </p:blipFill>
        <p:spPr>
          <a:xfrm>
            <a:off x="1219320" y="762120"/>
            <a:ext cx="4064040" cy="3216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000212154210"/>
          <p:cNvPicPr/>
          <p:nvPr/>
        </p:nvPicPr>
        <p:blipFill>
          <a:blip r:embed="rId2"/>
          <a:stretch/>
        </p:blipFill>
        <p:spPr>
          <a:xfrm>
            <a:off x="4343400" y="3200400"/>
            <a:ext cx="4343400" cy="30463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6"/>
          <p:cNvSpPr/>
          <p:nvPr/>
        </p:nvSpPr>
        <p:spPr>
          <a:xfrm>
            <a:off x="152280" y="335268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ртолетом тоже управляет пилот. Но для взлета и посадки вертолету не нужно ни много места, ни взлетная полос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ечка</cp:lastModifiedBy>
  <dcterms:modified xsi:type="dcterms:W3CDTF">2020-11-08T09:28:1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