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click.wav" ContentType="audio/x-wav"/>
  <Override PartName="/ppt/media/image16.jpeg" ContentType="image/jpeg"/>
  <Override PartName="/ppt/media/image15.jpeg" ContentType="image/jpeg"/>
  <Override PartName="/ppt/media/camera.wav" ContentType="audio/x-wav"/>
  <Override PartName="/ppt/media/image14.jpeg" ContentType="image/jpeg"/>
  <Override PartName="/ppt/media/image1.png" ContentType="image/png"/>
  <Override PartName="/ppt/media/image3.jpeg" ContentType="image/jpeg"/>
  <Override PartName="/ppt/media/arrow.wav" ContentType="audio/x-wav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829-D491-4725-8C74-29E98D25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65B-CF7B-4DBB-875C-93CE3E96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5F7-E16B-4F79-B079-6F008946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D4B-0E7E-4D16-A8F8-E67C94E9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58AA-7A88-4F29-A93B-C4594842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3C6-2A08-4D6A-8506-819A7AA7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32E0-01DD-4B9B-B190-CD496B88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4CBF-BE74-4A5B-9381-AAE7CA7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7FA-F524-475A-A66B-11AB7259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6549-CFDF-4ECA-BAB2-5BC7A0F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260-DBF1-4C75-B229-990034E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C55-14E3-4558-BF38-8E70929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54F-4C52-4D08-B71A-9CAE9FD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6120-F666-4480-B703-4049351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E83F-0E8E-42B1-88F3-034F35F7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5AE7-D033-410C-B48C-540B484E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FCDE-3D96-49FF-AFB9-BAE4E53A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D3D0-6B96-4DED-9CBB-7F989DF8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0F60-ED8F-4955-885B-D8EFEF3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D30E7-6088-4623-A408-887F3EA5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5583-C2C7-498E-842F-666EFD20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EF61-0002-4F54-9FAE-DD52DA4A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B8E-9ABF-43C3-B4C5-49A358C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C1EE-C53D-4979-820A-97CECB9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2572-581B-464E-81EE-60DEAD1E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1EB5-C5D2-4C9A-B6FF-7A64E50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98CA-51B0-43EF-B11A-86ED212C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1E10-9CDE-4B81-AB40-9401AC1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287E-0668-476C-A9A6-9EE2C129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0C87-7E4E-4A96-9BC3-B2F2DBC3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0202-EC87-4F39-9427-9C4AAAC7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37F2-FEA5-4D90-AD27-F786324B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B365-6C68-42DD-83F7-1AD60D6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16D-4A40-42E3-9578-B3EE3846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640E-7500-4F39-B098-DBE1FE8D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6D6E-E92D-4C2A-8E0B-187166DA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80D5-1434-42BD-8038-9B79D65F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5CC1-DF7A-415B-A67E-610C322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3726-2FFC-4B04-8D75-B2BF075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1F4E-120D-4EF9-B389-3466F3D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914D5-B892-4C48-89AA-53AEEA65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4725-22E3-485B-B32C-91062FE7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5D34-F476-4E6E-ADC0-B97D4895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D178-65F9-4E0B-8FDC-2CE44235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9CF-9B6B-4322-8479-A66D24B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2BFD-6C3E-46FA-9C19-C37EA31F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EEA3-5F3D-4519-B311-8589C39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18083-B423-4FA3-B9A3-C2D156EB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28F4-192A-49F5-83B0-A79A9F3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E5B3-954A-4643-A606-7BAE98D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78C7-2C3F-4152-B7D1-6A510D6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53C15-18A3-418C-8F22-47D3E839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8BEB-E910-44C7-A22C-3A346F7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6D5D1-367F-41B0-8CD8-7632D5E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3501-590E-46E1-B0AA-991229C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51E-9AC5-4BDF-B699-D93ED9C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D716-5564-4F85-8994-599CD189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367B-02EF-48BA-9A3C-AC39E863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339B-F19F-4D66-A592-E1E31B11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713CF-C767-484E-B960-B1FD1B2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EF03-C20E-428F-AF00-17BA9BBF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29573-5A61-479B-999F-94ECC4C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0632-A058-4CCD-BF47-D01ED4C8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0DA4-3BEB-4824-8A5C-9EEA2AE4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1B44-0320-4722-96B0-DDDBF9A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21A75-1E64-449F-87D9-9213C294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ACD-4DA0-43F5-9264-62FC961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8DDC-6906-43C1-908B-D2062770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9C60-D501-47D0-AC2C-3734A5F6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6459-0388-4453-8349-EF029A56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6D54-B9D7-4979-8EC0-8E492A11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06223-09A0-49DA-A454-BB2F11D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29B4-BA11-4AE9-8770-829AECD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7007-DBE0-4515-AA72-30257CF2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4854-0512-422F-A8F9-D62791E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6C17-50B0-480F-A2E2-7979BC8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4C950-7E01-4695-B98C-4C01B6E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9ED-3BCA-4BFB-A135-3ADEE9BD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C360-16A9-46CD-8610-FBF85F6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C53EC-0BE0-403D-A0E4-781D454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A3A59-D6BC-4F91-AB43-66193A9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2221-3B8D-489B-9B14-2E760036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4CEB-CBB1-4A17-B9AB-D68DB76E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5F3-1FD4-4B76-B6E7-9311E9B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CB1E-C704-41E4-825A-CE2113244F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022-3701-46D7-8894-AB4B5A775A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67C-15BC-401D-80DE-3B209E89FC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3B8-B39A-4C94-9923-7A8C09F532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01DE-E808-4CDF-A162-27ABC2245BA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E295-8BFF-454F-8842-7D4A84C45E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A672-EEC5-4F0E-A2D0-604CFEC392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ГБДОУ № 60 Детский сад</a:t>
            </a:r>
            <a:br>
              <a:rPr sz="4000"/>
            </a:br>
            <a:r>
              <a:rPr b="0" lang="ru-RU" sz="5300" spc="-1" strike="noStrike">
                <a:solidFill>
                  <a:srgbClr val="ffffff"/>
                </a:solidFill>
                <a:latin typeface="Candara"/>
              </a:rPr>
              <a:t>Воздушный транспорт 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48320" y="52578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оспитатель: Морозова Е.Г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4" descr="AIRC004 П 1"/>
          <p:cNvPicPr/>
          <p:nvPr/>
        </p:nvPicPr>
        <p:blipFill>
          <a:blip r:embed="rId1"/>
          <a:stretch/>
        </p:blipFill>
        <p:spPr>
          <a:xfrm>
            <a:off x="257040" y="839880"/>
            <a:ext cx="5112000" cy="511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helicop1 П"/>
          <p:cNvPicPr/>
          <p:nvPr/>
        </p:nvPicPr>
        <p:blipFill>
          <a:blip r:embed="rId2"/>
          <a:stretch/>
        </p:blipFill>
        <p:spPr>
          <a:xfrm>
            <a:off x="5842080" y="20988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  <p:sndAc>
      <p:stSnd>
        <p:snd r:embed="rId3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1_2_"/>
          <p:cNvPicPr/>
          <p:nvPr/>
        </p:nvPicPr>
        <p:blipFill>
          <a:blip r:embed="rId1"/>
          <a:stretch/>
        </p:blipFill>
        <p:spPr>
          <a:xfrm>
            <a:off x="1523880" y="9144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80880" y="4648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лот включает мотор, начинают вращаться вот эти лопасти и вертолет взлетает прямо с ме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fad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f558d0c18b5b25f9d53c51d596ad163c"/>
          <p:cNvPicPr/>
          <p:nvPr/>
        </p:nvPicPr>
        <p:blipFill>
          <a:blip r:embed="rId1"/>
          <a:srcRect l="0" t="17656" r="0" b="0"/>
          <a:stretch/>
        </p:blipFill>
        <p:spPr>
          <a:xfrm>
            <a:off x="3652920" y="762120"/>
            <a:ext cx="5262480" cy="2842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AIR_AW139_Civilian_lg"/>
          <p:cNvPicPr/>
          <p:nvPr/>
        </p:nvPicPr>
        <p:blipFill>
          <a:blip r:embed="rId2"/>
          <a:srcRect l="0" t="0" r="0" b="19447"/>
          <a:stretch/>
        </p:blipFill>
        <p:spPr>
          <a:xfrm>
            <a:off x="3652920" y="3276720"/>
            <a:ext cx="4653000" cy="3352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2312_165_big"/>
          <p:cNvPicPr/>
          <p:nvPr/>
        </p:nvPicPr>
        <p:blipFill>
          <a:blip r:embed="rId3"/>
          <a:srcRect l="22917" t="0" r="22917" b="5556"/>
          <a:stretch/>
        </p:blipFill>
        <p:spPr>
          <a:xfrm>
            <a:off x="914400" y="380880"/>
            <a:ext cx="2738520" cy="35816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152280" y="3429000"/>
            <a:ext cx="426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анспорт, который передвигается по воздуху – называется воздушны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30492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можно назвать одним словом и самолет, и воздушный шар, и                   вертолет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circle/>
    <p:sndAc>
      <p:stSnd>
        <p:snd r:embed="rId4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02228967"/>
          <p:cNvPicPr/>
          <p:nvPr/>
        </p:nvPicPr>
        <p:blipFill>
          <a:blip r:embed="rId1"/>
          <a:srcRect l="0" t="0" r="0" b="40000"/>
          <a:stretch/>
        </p:blipFill>
        <p:spPr>
          <a:xfrm>
            <a:off x="685800" y="609480"/>
            <a:ext cx="6095880" cy="2514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летящей-птицы"/>
          <p:cNvPicPr/>
          <p:nvPr/>
        </p:nvPicPr>
        <p:blipFill>
          <a:blip r:embed="rId2"/>
          <a:srcRect l="0" t="10909" r="0" b="14551"/>
          <a:stretch/>
        </p:blipFill>
        <p:spPr>
          <a:xfrm>
            <a:off x="4267080" y="3122640"/>
            <a:ext cx="447696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228600" y="312408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вным-давно древние люди смотрели на птиц и мечтали летать как они. Но прошло много времени, прежде чем это случилось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7778-0-5ea8233f82-fullsize"/>
          <p:cNvPicPr/>
          <p:nvPr/>
        </p:nvPicPr>
        <p:blipFill>
          <a:blip r:embed="rId1"/>
          <a:stretch/>
        </p:blipFill>
        <p:spPr>
          <a:xfrm>
            <a:off x="762120" y="533520"/>
            <a:ext cx="6476760" cy="4857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304920" y="45720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ете ли вы что это? Сначала  люди научились подниматься в воздух на воздушном шар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04920" y="472428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Шар наполняли дымом от костра, газом, который легче окружающего воздух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Но шар летит туда, куда дует ветер. А человек хотел сам выбирать куда ему летет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4" descr="09"/>
          <p:cNvPicPr/>
          <p:nvPr/>
        </p:nvPicPr>
        <p:blipFill>
          <a:blip r:embed="rId1"/>
          <a:stretch/>
        </p:blipFill>
        <p:spPr>
          <a:xfrm>
            <a:off x="1447920" y="2286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1" descr="Extra_ea300s_g-iiui_arp.jpg"/>
          <p:cNvPicPr/>
          <p:nvPr/>
        </p:nvPicPr>
        <p:blipFill>
          <a:blip r:embed="rId1"/>
          <a:stretch/>
        </p:blipFill>
        <p:spPr>
          <a:xfrm>
            <a:off x="609480" y="457200"/>
            <a:ext cx="4803840" cy="3602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125-990x660"/>
          <p:cNvPicPr/>
          <p:nvPr/>
        </p:nvPicPr>
        <p:blipFill>
          <a:blip r:embed="rId2"/>
          <a:srcRect l="20237" t="16074" r="8334" b="16074"/>
          <a:stretch/>
        </p:blipFill>
        <p:spPr>
          <a:xfrm>
            <a:off x="4114800" y="31240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646200" y="4024440"/>
            <a:ext cx="438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шло время прежде чем был изобретен само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016hgygp"/>
          <p:cNvPicPr/>
          <p:nvPr/>
        </p:nvPicPr>
        <p:blipFill>
          <a:blip r:embed="rId1"/>
          <a:stretch/>
        </p:blipFill>
        <p:spPr>
          <a:xfrm>
            <a:off x="2084400" y="969840"/>
            <a:ext cx="6781680" cy="4745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76320" y="1967040"/>
            <a:ext cx="198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молет летит туда, куда направ-ляет его пило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66c13cc8126f"/>
          <p:cNvPicPr/>
          <p:nvPr/>
        </p:nvPicPr>
        <p:blipFill>
          <a:blip r:embed="rId1"/>
          <a:stretch/>
        </p:blipFill>
        <p:spPr>
          <a:xfrm>
            <a:off x="1295280" y="533520"/>
            <a:ext cx="7162920" cy="50814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457200" y="561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емляются и отлетают самолеты с аэродром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airplanes_003"/>
          <p:cNvPicPr/>
          <p:nvPr/>
        </p:nvPicPr>
        <p:blipFill>
          <a:blip r:embed="rId1"/>
          <a:srcRect l="0" t="7346" r="0" b="0"/>
          <a:stretch/>
        </p:blipFill>
        <p:spPr>
          <a:xfrm>
            <a:off x="1066680" y="152280"/>
            <a:ext cx="7162920" cy="41148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0" y="441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того, чтобы оторваться от земли и подняться в воздух, самолет должен сначала промчаться на большой скорости по земле. Для этого нужно много места и специально построенная дорога – взлетная полос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AIR_AW139_Civilian_lg"/>
          <p:cNvPicPr/>
          <p:nvPr/>
        </p:nvPicPr>
        <p:blipFill>
          <a:blip r:embed="rId1"/>
          <a:stretch/>
        </p:blipFill>
        <p:spPr>
          <a:xfrm>
            <a:off x="1219320" y="762120"/>
            <a:ext cx="4064040" cy="3216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000212154210"/>
          <p:cNvPicPr/>
          <p:nvPr/>
        </p:nvPicPr>
        <p:blipFill>
          <a:blip r:embed="rId2"/>
          <a:stretch/>
        </p:blipFill>
        <p:spPr>
          <a:xfrm>
            <a:off x="4343400" y="3200400"/>
            <a:ext cx="4343400" cy="3046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152280" y="335268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ртолетом тоже управляет пилот. Но для взлета и посадки вертолету не нужно ни много места, ни взлетная поло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ечка</cp:lastModifiedBy>
  <dcterms:modified xsi:type="dcterms:W3CDTF">2020-11-08T09:28:1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