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89C-AD1E-452B-8447-5331EF87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2A9-5DD4-443E-A862-16DC072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39D-C524-472D-8FFC-5C2C4A55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F5A-FCA1-4D2D-997A-6CB42260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152-3E4C-4872-B332-4F4C504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7A3-008A-46F6-9391-746C230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593-1550-4C2F-8286-B97578EF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4AE-1909-45E2-8655-927F0AE7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D6F-0C86-49CE-B1F6-B4B567E5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6F3-41A8-4896-A95C-EB866E29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F02-1DD4-448D-8C86-7082D3B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BDC-CAD0-49C9-8664-ED51C46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B85-B9ED-4A02-9661-8FCEBC64C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785880"/>
            <a:ext cx="871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КОУ Михайловская ОО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жданско-патриотическое воспитание как средство становления личности в условиях  сельской шк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Фото школы\2014-2015\вручение медалей\IMG_4177.JPG"/>
          <p:cNvPicPr/>
          <p:nvPr/>
        </p:nvPicPr>
        <p:blipFill>
          <a:blip r:embed="rId1"/>
          <a:stretch/>
        </p:blipFill>
        <p:spPr>
          <a:xfrm>
            <a:off x="250920" y="163440"/>
            <a:ext cx="4200480" cy="3149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Picture 3" descr="D:\Фото школы\2014-2015\вручение медалей\IMG_4181.JPG"/>
          <p:cNvPicPr/>
          <p:nvPr/>
        </p:nvPicPr>
        <p:blipFill>
          <a:blip r:embed="rId2"/>
          <a:stretch/>
        </p:blipFill>
        <p:spPr>
          <a:xfrm>
            <a:off x="285840" y="3500280"/>
            <a:ext cx="4187880" cy="3141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4" descr="D:\Фото школы\2014-2015\вручение медалей\IMG_4157.JPG"/>
          <p:cNvPicPr/>
          <p:nvPr/>
        </p:nvPicPr>
        <p:blipFill>
          <a:blip r:embed="rId3"/>
          <a:stretch/>
        </p:blipFill>
        <p:spPr>
          <a:xfrm>
            <a:off x="4778280" y="162000"/>
            <a:ext cx="4070520" cy="3052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6" descr="D:\Фото школы\2014-2015\вручение медалей\IMG_4145.JPG"/>
          <p:cNvPicPr/>
          <p:nvPr/>
        </p:nvPicPr>
        <p:blipFill>
          <a:blip r:embed="rId4"/>
          <a:stretch/>
        </p:blipFill>
        <p:spPr>
          <a:xfrm>
            <a:off x="4842000" y="3571920"/>
            <a:ext cx="4064040" cy="3048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:\фото\Свет в окне\IMG_6623.JPG"/>
          <p:cNvPicPr/>
          <p:nvPr/>
        </p:nvPicPr>
        <p:blipFill>
          <a:blip r:embed="rId1"/>
          <a:stretch/>
        </p:blipFill>
        <p:spPr>
          <a:xfrm>
            <a:off x="428760" y="357120"/>
            <a:ext cx="3960720" cy="29703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Picture 5" descr="F:\фото\свет в окне 2\IMG_6722.JPG"/>
          <p:cNvPicPr/>
          <p:nvPr/>
        </p:nvPicPr>
        <p:blipFill>
          <a:blip r:embed="rId2"/>
          <a:stretch/>
        </p:blipFill>
        <p:spPr>
          <a:xfrm>
            <a:off x="395280" y="3645000"/>
            <a:ext cx="4033800" cy="29588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7" descr="F:\фото\Свет в окне\IMG_6613.JPG"/>
          <p:cNvPicPr/>
          <p:nvPr/>
        </p:nvPicPr>
        <p:blipFill>
          <a:blip r:embed="rId3"/>
          <a:stretch/>
        </p:blipFill>
        <p:spPr>
          <a:xfrm>
            <a:off x="4929120" y="285840"/>
            <a:ext cx="3962520" cy="30178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6" descr="F:\фото\Свет в окне\IMG_6620.JPG"/>
          <p:cNvPicPr/>
          <p:nvPr/>
        </p:nvPicPr>
        <p:blipFill>
          <a:blip r:embed="rId4"/>
          <a:stretch/>
        </p:blipFill>
        <p:spPr>
          <a:xfrm>
            <a:off x="4929120" y="3571920"/>
            <a:ext cx="4000680" cy="30002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фото\неделя добра\IMG_4399.JPG"/>
          <p:cNvPicPr/>
          <p:nvPr/>
        </p:nvPicPr>
        <p:blipFill>
          <a:blip r:embed="rId1"/>
          <a:stretch/>
        </p:blipFill>
        <p:spPr>
          <a:xfrm>
            <a:off x="179280" y="115920"/>
            <a:ext cx="4152960" cy="3114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Picture 3" descr="F:\фото\неделя добра\IMG_441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129200" cy="3095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" name="Picture 4" descr="F:\фото\неделя добра\IMG_5451.JPG"/>
          <p:cNvPicPr/>
          <p:nvPr/>
        </p:nvPicPr>
        <p:blipFill>
          <a:blip r:embed="rId3"/>
          <a:stretch/>
        </p:blipFill>
        <p:spPr>
          <a:xfrm>
            <a:off x="190440" y="3422520"/>
            <a:ext cx="4135320" cy="3102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" name="Picture 5" descr="F:\фото\неделя добра\IMG_5460.JPG"/>
          <p:cNvPicPr/>
          <p:nvPr/>
        </p:nvPicPr>
        <p:blipFill>
          <a:blip r:embed="rId4"/>
          <a:stretch/>
        </p:blipFill>
        <p:spPr>
          <a:xfrm>
            <a:off x="4599000" y="115920"/>
            <a:ext cx="4067280" cy="3051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:\Фото школы\2014-2015\Экскурсия кинешма\IMG_6463.JPG"/>
          <p:cNvPicPr/>
          <p:nvPr/>
        </p:nvPicPr>
        <p:blipFill>
          <a:blip r:embed="rId1"/>
          <a:stretch/>
        </p:blipFill>
        <p:spPr>
          <a:xfrm>
            <a:off x="4818240" y="184320"/>
            <a:ext cx="3963960" cy="2971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4" descr="D:\Фото школы\2015-2016\экскурсия музей Родники\S7307862.JPG"/>
          <p:cNvPicPr/>
          <p:nvPr/>
        </p:nvPicPr>
        <p:blipFill>
          <a:blip r:embed="rId2"/>
          <a:stretch/>
        </p:blipFill>
        <p:spPr>
          <a:xfrm>
            <a:off x="285840" y="3429000"/>
            <a:ext cx="4214880" cy="3160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255600" y="184320"/>
            <a:ext cx="4245120" cy="2971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4818240" y="3427560"/>
            <a:ext cx="4092480" cy="31622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F:\фото\день здоровья\IMG_4384.JPG"/>
          <p:cNvPicPr/>
          <p:nvPr/>
        </p:nvPicPr>
        <p:blipFill>
          <a:blip r:embed="rId1"/>
          <a:stretch/>
        </p:blipFill>
        <p:spPr>
          <a:xfrm>
            <a:off x="4788000" y="284040"/>
            <a:ext cx="4008240" cy="29829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2" descr="D:\Фото школы\2013-2014\День здоровья\IMG_2895.JPG"/>
          <p:cNvPicPr/>
          <p:nvPr/>
        </p:nvPicPr>
        <p:blipFill>
          <a:blip r:embed="rId2"/>
          <a:stretch/>
        </p:blipFill>
        <p:spPr>
          <a:xfrm>
            <a:off x="184320" y="284040"/>
            <a:ext cx="4178160" cy="30164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Picture 1" descr="G:\фото семинар\Всемирный день борьбы со СПИДом\IMG_8318.JPG"/>
          <p:cNvPicPr/>
          <p:nvPr/>
        </p:nvPicPr>
        <p:blipFill>
          <a:blip r:embed="rId3"/>
          <a:stretch/>
        </p:blipFill>
        <p:spPr>
          <a:xfrm>
            <a:off x="324000" y="3564000"/>
            <a:ext cx="4010040" cy="30081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4788000" y="3541680"/>
            <a:ext cx="4064040" cy="3006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F:\фото\IMG_7148.JPG"/>
          <p:cNvPicPr/>
          <p:nvPr/>
        </p:nvPicPr>
        <p:blipFill>
          <a:blip r:embed="rId1"/>
          <a:stretch/>
        </p:blipFill>
        <p:spPr>
          <a:xfrm>
            <a:off x="4599000" y="204840"/>
            <a:ext cx="3998880" cy="2998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2" descr="D:\Фото школы\2014-2015\Последний звонок\IMG_4672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21200" cy="30164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4" descr="D:\Фото школы\2013-2014\Осенний бал\IMG_2079.JPG"/>
          <p:cNvPicPr/>
          <p:nvPr/>
        </p:nvPicPr>
        <p:blipFill>
          <a:blip r:embed="rId3"/>
          <a:stretch/>
        </p:blipFill>
        <p:spPr>
          <a:xfrm>
            <a:off x="324000" y="260280"/>
            <a:ext cx="4025880" cy="3021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7" name="Picture 1" descr="G:\фото семинар\IMG_7416.JPG"/>
          <p:cNvPicPr/>
          <p:nvPr/>
        </p:nvPicPr>
        <p:blipFill>
          <a:blip r:embed="rId4"/>
          <a:stretch/>
        </p:blipFill>
        <p:spPr>
          <a:xfrm>
            <a:off x="285840" y="3571920"/>
            <a:ext cx="4064040" cy="3048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Фото школы\2016-2017\сбор патриотических клубов\IMG_8231.JPG"/>
          <p:cNvPicPr/>
          <p:nvPr/>
        </p:nvPicPr>
        <p:blipFill>
          <a:blip r:embed="rId1"/>
          <a:stretch/>
        </p:blipFill>
        <p:spPr>
          <a:xfrm>
            <a:off x="4643280" y="115920"/>
            <a:ext cx="4094280" cy="3070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3" descr="D:\Фото школы\2014-2015\фото 9 класс 2015\IMG_6504.JPG"/>
          <p:cNvPicPr/>
          <p:nvPr/>
        </p:nvPicPr>
        <p:blipFill>
          <a:blip r:embed="rId2"/>
          <a:stretch/>
        </p:blipFill>
        <p:spPr>
          <a:xfrm>
            <a:off x="474840" y="3478320"/>
            <a:ext cx="3922560" cy="2943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4776840" y="3429000"/>
            <a:ext cx="4033800" cy="3024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2" descr="G:\фото семинар\IMG_7673.JPG"/>
          <p:cNvPicPr/>
          <p:nvPr/>
        </p:nvPicPr>
        <p:blipFill>
          <a:blip r:embed="rId4"/>
          <a:stretch/>
        </p:blipFill>
        <p:spPr>
          <a:xfrm>
            <a:off x="395280" y="189000"/>
            <a:ext cx="3841920" cy="29289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:\семинар\2017-02-27\Изображение0001.jpg"/>
          <p:cNvPicPr/>
          <p:nvPr/>
        </p:nvPicPr>
        <p:blipFill>
          <a:blip r:embed="rId1"/>
          <a:stretch/>
        </p:blipFill>
        <p:spPr>
          <a:xfrm>
            <a:off x="3403440" y="476280"/>
            <a:ext cx="2364120" cy="3384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3" descr="G:\семинар\2017-02-27\Изображение0002.jpg"/>
          <p:cNvPicPr/>
          <p:nvPr/>
        </p:nvPicPr>
        <p:blipFill>
          <a:blip r:embed="rId2"/>
          <a:stretch/>
        </p:blipFill>
        <p:spPr>
          <a:xfrm>
            <a:off x="6000840" y="285840"/>
            <a:ext cx="2975040" cy="42084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214200" y="357120"/>
            <a:ext cx="2971800" cy="42022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5" name="Picture 6" descr="G:\семинар\2017-02-27\Изображение0004.jpg"/>
          <p:cNvPicPr/>
          <p:nvPr/>
        </p:nvPicPr>
        <p:blipFill>
          <a:blip r:embed="rId4"/>
          <a:stretch/>
        </p:blipFill>
        <p:spPr>
          <a:xfrm rot="20880000">
            <a:off x="1309320" y="3443040"/>
            <a:ext cx="2271600" cy="3213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Picture 5" descr="G:\семинар\2017-02-27\Изображение0005.jpg"/>
          <p:cNvPicPr/>
          <p:nvPr/>
        </p:nvPicPr>
        <p:blipFill>
          <a:blip r:embed="rId5"/>
          <a:stretch/>
        </p:blipFill>
        <p:spPr>
          <a:xfrm rot="420000">
            <a:off x="5549760" y="3273480"/>
            <a:ext cx="2330640" cy="32954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D:\Фото школы\2014-2015\вязаные игрушки\IMG_6878.JPG"/>
          <p:cNvPicPr/>
          <p:nvPr/>
        </p:nvPicPr>
        <p:blipFill>
          <a:blip r:embed="rId1"/>
          <a:stretch/>
        </p:blipFill>
        <p:spPr>
          <a:xfrm>
            <a:off x="246240" y="289080"/>
            <a:ext cx="2660400" cy="2070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8" name="Picture 4" descr="D:\Фото школы\2014-2015\вязаные игрушки\IMG_6873.JPG"/>
          <p:cNvPicPr/>
          <p:nvPr/>
        </p:nvPicPr>
        <p:blipFill>
          <a:blip r:embed="rId2"/>
          <a:stretch/>
        </p:blipFill>
        <p:spPr>
          <a:xfrm>
            <a:off x="220680" y="4546440"/>
            <a:ext cx="2712960" cy="20354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" name="Picture 5" descr="D:\Фото школы\2016-2017\Рождественский подарок\IMG_8361.JPG"/>
          <p:cNvPicPr/>
          <p:nvPr/>
        </p:nvPicPr>
        <p:blipFill>
          <a:blip r:embed="rId3"/>
          <a:stretch/>
        </p:blipFill>
        <p:spPr>
          <a:xfrm>
            <a:off x="246240" y="2448000"/>
            <a:ext cx="2660400" cy="20178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4067280" y="309600"/>
            <a:ext cx="4165560" cy="3124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1" name="Picture 2" descr=""/>
          <p:cNvPicPr/>
          <p:nvPr/>
        </p:nvPicPr>
        <p:blipFill>
          <a:blip r:embed="rId5"/>
          <a:stretch/>
        </p:blipFill>
        <p:spPr>
          <a:xfrm>
            <a:off x="3708360" y="3666960"/>
            <a:ext cx="2212920" cy="2953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2" name="Picture 3" descr=""/>
          <p:cNvPicPr/>
          <p:nvPr/>
        </p:nvPicPr>
        <p:blipFill>
          <a:blip r:embed="rId6"/>
          <a:stretch/>
        </p:blipFill>
        <p:spPr>
          <a:xfrm>
            <a:off x="6300720" y="3672000"/>
            <a:ext cx="2210040" cy="29480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7"/>
          <p:cNvSpPr/>
          <p:nvPr/>
        </p:nvSpPr>
        <p:spPr>
          <a:xfrm>
            <a:off x="285840" y="857160"/>
            <a:ext cx="8429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нтон Семёнович Макаренко когда-то сказал: «Воспитывает все: люди, вещи, явления, но прежде всего и дольше всего — люди. Из них на первом месте — родители и педагоги». Так вот мы – педагоги и должны сделать все, чтобы наши дети и внуки гордились своим званием «ГРАЖДАНИН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428760" y="428760"/>
            <a:ext cx="82152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и задачи работы по гражданско-патриотическому воспит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условий для  формирования личности гражданина и патриота России с присущими ему ценностями, взглядами, ориентациями, установками, мотивами деятельности и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е достижение становится возможным через решение след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•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эффективную работу по  патриотическому воспитанию, обеспечивающую оптимальные условия развития у каждого учащегося верности Отечеству, готовности приносить пользу обществу и государ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•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верждать в сознании и чувствах воспитанников патриотические ценности, взгляды и убеждения, воспитывать уважение к культурному и историческому прошлому России, к традициям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•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кать учащихся к работе по возрождению и сохранению культурных и духовно-нравственных ценностей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428760" y="1143000"/>
            <a:ext cx="8286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РИОТ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т греческого «земляк, соотечественник»)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человек, любящий свое Отечество, преданный своему народу, действующий во имя Род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79280" y="333360"/>
            <a:ext cx="849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 государственной программе «Патриотическое воспитание граждан РФ» дано следующее определение патриотического воспита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это систематическая и целенаправленная деятельность органов государственной власти, институтов гражданского общества и семьи по формированию у граждан высокого патриотического сознания, чувства верности своему Отечеству, готовности к выполнению гражданского долга и конституционных обязанностей по защите интересов Род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G:\фото семинар\9 мая\IMG_7698.JPG"/>
          <p:cNvPicPr/>
          <p:nvPr/>
        </p:nvPicPr>
        <p:blipFill>
          <a:blip r:embed="rId1"/>
          <a:stretch/>
        </p:blipFill>
        <p:spPr>
          <a:xfrm>
            <a:off x="500040" y="357120"/>
            <a:ext cx="3929040" cy="29466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2" descr="F:\фото\акция лес победы\IMG_4490.JPG"/>
          <p:cNvPicPr/>
          <p:nvPr/>
        </p:nvPicPr>
        <p:blipFill>
          <a:blip r:embed="rId2"/>
          <a:stretch/>
        </p:blipFill>
        <p:spPr>
          <a:xfrm>
            <a:off x="4714920" y="3554280"/>
            <a:ext cx="3960720" cy="29703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2" descr="G:\фото семинар\памятники\IMG_7682.JPG"/>
          <p:cNvPicPr/>
          <p:nvPr/>
        </p:nvPicPr>
        <p:blipFill>
          <a:blip r:embed="rId3"/>
          <a:stretch/>
        </p:blipFill>
        <p:spPr>
          <a:xfrm>
            <a:off x="473040" y="3565440"/>
            <a:ext cx="3944880" cy="29592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4643280" y="290520"/>
            <a:ext cx="4032360" cy="30243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:\фото\акция лес победы\IMG_4487.JPG"/>
          <p:cNvPicPr/>
          <p:nvPr/>
        </p:nvPicPr>
        <p:blipFill>
          <a:blip r:embed="rId1"/>
          <a:stretch/>
        </p:blipFill>
        <p:spPr>
          <a:xfrm>
            <a:off x="428760" y="214200"/>
            <a:ext cx="3984480" cy="2987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1" descr="G:\фото семинар\субботник 29.09\IMG_7182.JPG"/>
          <p:cNvPicPr/>
          <p:nvPr/>
        </p:nvPicPr>
        <p:blipFill>
          <a:blip r:embed="rId2"/>
          <a:stretch/>
        </p:blipFill>
        <p:spPr>
          <a:xfrm>
            <a:off x="285840" y="3429000"/>
            <a:ext cx="4214880" cy="3122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4686480" y="3429000"/>
            <a:ext cx="4243320" cy="3122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4692600" y="214200"/>
            <a:ext cx="4237200" cy="2987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фото\уборка памятник\IMG_4457.JPG"/>
          <p:cNvPicPr/>
          <p:nvPr/>
        </p:nvPicPr>
        <p:blipFill>
          <a:blip r:embed="rId1"/>
          <a:stretch/>
        </p:blipFill>
        <p:spPr>
          <a:xfrm>
            <a:off x="324000" y="3537000"/>
            <a:ext cx="3935160" cy="2952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3" descr="F:\фото\уборка памятник\IMG_4464.JPG"/>
          <p:cNvPicPr/>
          <p:nvPr/>
        </p:nvPicPr>
        <p:blipFill>
          <a:blip r:embed="rId2"/>
          <a:stretch/>
        </p:blipFill>
        <p:spPr>
          <a:xfrm>
            <a:off x="357120" y="285840"/>
            <a:ext cx="3888000" cy="2916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2" descr="D:\Фото школы\2013-2014\9 мая 2\IMG_3055.JPG"/>
          <p:cNvPicPr/>
          <p:nvPr/>
        </p:nvPicPr>
        <p:blipFill>
          <a:blip r:embed="rId3"/>
          <a:stretch/>
        </p:blipFill>
        <p:spPr>
          <a:xfrm>
            <a:off x="4786200" y="1071720"/>
            <a:ext cx="3935520" cy="47750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:\фото\открытие памятной доски на станции\IMG_4468.JPG"/>
          <p:cNvPicPr/>
          <p:nvPr/>
        </p:nvPicPr>
        <p:blipFill>
          <a:blip r:embed="rId1"/>
          <a:stretch/>
        </p:blipFill>
        <p:spPr>
          <a:xfrm>
            <a:off x="4643280" y="3500280"/>
            <a:ext cx="4079880" cy="3060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4" descr="F:\фото\9 мая митинг\IMG_4505.JPG"/>
          <p:cNvPicPr/>
          <p:nvPr/>
        </p:nvPicPr>
        <p:blipFill>
          <a:blip r:embed="rId2"/>
          <a:stretch/>
        </p:blipFill>
        <p:spPr>
          <a:xfrm>
            <a:off x="285840" y="3478320"/>
            <a:ext cx="4039920" cy="30304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Picture 5" descr="F:\фото\9 мая митинг\IMG_4512.JPG"/>
          <p:cNvPicPr/>
          <p:nvPr/>
        </p:nvPicPr>
        <p:blipFill>
          <a:blip r:embed="rId3"/>
          <a:stretch/>
        </p:blipFill>
        <p:spPr>
          <a:xfrm>
            <a:off x="4643280" y="244440"/>
            <a:ext cx="4057920" cy="3041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Picture 2" descr="G:\фото семинар\9 мая митинг\IMG_4566.JPG"/>
          <p:cNvPicPr/>
          <p:nvPr/>
        </p:nvPicPr>
        <p:blipFill>
          <a:blip r:embed="rId4"/>
          <a:stretch/>
        </p:blipFill>
        <p:spPr>
          <a:xfrm>
            <a:off x="285840" y="214200"/>
            <a:ext cx="4071960" cy="30006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фото\9 мая концерт\IMG_4529.JPG"/>
          <p:cNvPicPr/>
          <p:nvPr/>
        </p:nvPicPr>
        <p:blipFill>
          <a:blip r:embed="rId1"/>
          <a:stretch/>
        </p:blipFill>
        <p:spPr>
          <a:xfrm>
            <a:off x="4594320" y="3500280"/>
            <a:ext cx="4081320" cy="30625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1" name="Picture 3" descr="F:\фото\9 мая концерт\IMG_4553.JPG"/>
          <p:cNvPicPr/>
          <p:nvPr/>
        </p:nvPicPr>
        <p:blipFill>
          <a:blip r:embed="rId2"/>
          <a:stretch/>
        </p:blipFill>
        <p:spPr>
          <a:xfrm>
            <a:off x="179280" y="189000"/>
            <a:ext cx="4024440" cy="30178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6" descr="F:\фото\9 мая концерт\IMG_4585.JPG"/>
          <p:cNvPicPr/>
          <p:nvPr/>
        </p:nvPicPr>
        <p:blipFill>
          <a:blip r:embed="rId3"/>
          <a:stretch/>
        </p:blipFill>
        <p:spPr>
          <a:xfrm>
            <a:off x="4643280" y="189000"/>
            <a:ext cx="4032360" cy="3024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7" descr="F:\фото\9 мая концерт\IMG_4601.JPG"/>
          <p:cNvPicPr/>
          <p:nvPr/>
        </p:nvPicPr>
        <p:blipFill>
          <a:blip r:embed="rId4"/>
          <a:stretch/>
        </p:blipFill>
        <p:spPr>
          <a:xfrm>
            <a:off x="108000" y="3500280"/>
            <a:ext cx="4081320" cy="30625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11-13T15:13:52Z</dcterms:modified>
  <cp:revision>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4a0000000000010290110207f7000400038000</vt:lpwstr>
  </property>
</Properties>
</file>