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2226-D90B-4532-B498-59DFDADA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E2E-A1B0-4D6A-B10A-BB05D429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792-5763-471B-88F5-2C15BE38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239-05C0-4016-A915-3C14D1F6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710-41DF-4495-97BD-888CAA5E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157-1D04-4E26-9182-FF8FB012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C064-A4BC-4379-AC64-729C59E9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E83-9E91-4128-AA30-88628B30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E558-39C4-431A-B29E-D9CC85E5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2029-CCBC-400C-9079-38FA8A30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17CB-9FD1-4C95-81E5-1B4A73B2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A383-4C0C-4B54-AE3F-7B424852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086B7-E63C-46C1-98E1-E0006F84D8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66cc"/>
                </a:solidFill>
                <a:latin typeface="Times New Roman"/>
              </a:rPr>
              <a:t>Урок- игра в 11 классе</a:t>
            </a:r>
            <a:r>
              <a:rPr b="1" lang="ru-RU" sz="4800" spc="-1" strike="noStrike">
                <a:solidFill>
                  <a:srgbClr val="111111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8000" spc="-1" strike="noStrike">
                <a:solidFill>
                  <a:srgbClr val="000099"/>
                </a:solidFill>
                <a:latin typeface="Times New Roman"/>
              </a:rPr>
              <a:t>Лингвистический турни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428400"/>
            <a:ext cx="86090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33"/>
                </a:solidFill>
                <a:latin typeface="Times New Roman"/>
                <a:ea typeface="Tahoma"/>
              </a:rPr>
              <a:t>Проверим!</a:t>
            </a:r>
            <a:br>
              <a:rPr sz="3600"/>
            </a:b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Выберите грамматически правильное продолжение предложения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33"/>
                </a:solidFill>
                <a:latin typeface="Times New Roman"/>
              </a:rPr>
              <a:t>Ожидая начала спектакля</a:t>
            </a: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1. </a:t>
            </a:r>
            <a:r>
              <a:rPr b="1" i="1" lang="ru-RU" sz="3600" spc="-1" strike="noStrike">
                <a:solidFill>
                  <a:srgbClr val="004586"/>
                </a:solidFill>
                <a:latin typeface="Times New Roman"/>
              </a:rPr>
              <a:t>зрители с интересом рассматривали причудливые рисунки на занаве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2. у папы, заядлого театрала, в глазах горело нетерп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3. программка перелистывалась Соней снова и сн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4. актерами овладело волнение, которое всегда сопутствует премье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428400"/>
            <a:ext cx="86090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Укажите предложение с грамматической ошибкой (с нарушением синтаксической нормы)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1) Она ничего не знала о том, что произошло на дач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2) Жители города ожидали и надеялись на мирное разрешение конфлик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3) Шаляпин был гениален не только на драматической, но и на оперной сце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4) Вследствие использования минеральных удобрений удалось собрать рекордный урожа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283680"/>
            <a:ext cx="8609040" cy="18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3333"/>
                </a:solidFill>
                <a:latin typeface="Times New Roman"/>
                <a:ea typeface="Tahoma"/>
              </a:rPr>
              <a:t>Проверим!</a:t>
            </a:r>
            <a:br>
              <a:rPr sz="3200"/>
            </a:br>
            <a:r>
              <a:rPr b="1" lang="ru-RU" sz="3200" spc="-1" strike="noStrike">
                <a:solidFill>
                  <a:srgbClr val="004586"/>
                </a:solidFill>
                <a:latin typeface="Times New Roman"/>
                <a:ea typeface="Tahoma"/>
              </a:rPr>
              <a:t>Укажите предложение с грамматической ошибкой (с нарушением синтаксической нормы).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50580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6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1) Она ничего не знала о том, что произошло на дач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2) Жители города </a:t>
            </a:r>
            <a:r>
              <a:rPr b="0" lang="ru-RU" sz="3600" spc="-1" strike="noStrike">
                <a:solidFill>
                  <a:srgbClr val="ff3333"/>
                </a:solidFill>
                <a:latin typeface="Times New Roman"/>
              </a:rPr>
              <a:t>ожидали (чего?) и надеялись (на что?)</a:t>
            </a: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 на мирное разрешение конфлик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3) Шаляпин был гениален не только на драматической, но и на оперной сце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4) Вследствие использования минеральных удобрений удалось собрать рекордный урожа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586"/>
                </a:solidFill>
                <a:latin typeface="Times New Roman"/>
              </a:rPr>
              <a:t>Орфографическая минутк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В каком варианте ответа правильно указаны все цифры, на месте которых пишется Н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Каме(1 )ый дом, отдела(2)ый внутри деревя(3)ыми панелями, стоял на берегу небольшого пру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1) 1,2            2) 1,2,3        3)  2,3        4) 1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33"/>
                </a:solidFill>
                <a:latin typeface="Times New Roman"/>
              </a:rPr>
              <a:t>Проверим!</a:t>
            </a:r>
            <a:br>
              <a:rPr sz="3600"/>
            </a:br>
            <a:r>
              <a:rPr b="1" lang="ru-RU" sz="3600" spc="-1" strike="noStrike">
                <a:solidFill>
                  <a:srgbClr val="004586"/>
                </a:solidFill>
                <a:latin typeface="Times New Roman"/>
              </a:rPr>
              <a:t>Орфографическая минутка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В каком варианте ответа правильно указаны все цифры, на месте которых пишется Н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Каме</a:t>
            </a:r>
            <a:r>
              <a:rPr b="1" lang="ru-RU" sz="3600" spc="-1" strike="noStrike">
                <a:solidFill>
                  <a:srgbClr val="ff3333"/>
                </a:solidFill>
                <a:latin typeface="Times New Roman"/>
                <a:ea typeface="Tahoma"/>
              </a:rPr>
              <a:t>НН</a:t>
            </a: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ый дом, отдела</a:t>
            </a:r>
            <a:r>
              <a:rPr b="1" lang="ru-RU" sz="3600" spc="-1" strike="noStrike">
                <a:solidFill>
                  <a:srgbClr val="ff3333"/>
                </a:solidFill>
                <a:latin typeface="Times New Roman"/>
                <a:ea typeface="Tahoma"/>
              </a:rPr>
              <a:t>НН</a:t>
            </a: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ый внутри деревя</a:t>
            </a:r>
            <a:r>
              <a:rPr b="1" lang="ru-RU" sz="3600" spc="-1" strike="noStrike">
                <a:solidFill>
                  <a:srgbClr val="ff3333"/>
                </a:solidFill>
                <a:latin typeface="Times New Roman"/>
                <a:ea typeface="Tahoma"/>
              </a:rPr>
              <a:t>НН</a:t>
            </a: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ыми панелями, стоял на берегу небольшого пру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1) 1,2            </a:t>
            </a:r>
            <a:r>
              <a:rPr b="0" lang="ru-RU" sz="3600" spc="-1" strike="noStrike">
                <a:solidFill>
                  <a:srgbClr val="ff3333"/>
                </a:solidFill>
                <a:latin typeface="Times New Roman"/>
              </a:rPr>
              <a:t>2) 1,2,3 </a:t>
            </a: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       3)  2,3        4) 1,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В каком ряду во всех словах пропущена безударная проверяемая гласная корня?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1)  запр..гать,  ск..льзить,  м..рской (прибой)</a:t>
            </a:r>
            <a:br>
              <a:rPr sz="4000"/>
            </a:b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2) ум..рать,  пров..ряющий,  прод..вать</a:t>
            </a:r>
            <a:br>
              <a:rPr sz="4000"/>
            </a:b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3) п..ровой,  к…ллекция,  л…нгвистика</a:t>
            </a:r>
            <a:br>
              <a:rPr sz="4000"/>
            </a:b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4) бл..стать,  вет..ранский,  прод..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428400"/>
            <a:ext cx="86090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33"/>
                </a:solidFill>
                <a:latin typeface="Times New Roman"/>
                <a:ea typeface="Tahoma"/>
              </a:rPr>
              <a:t>Проверим!</a:t>
            </a:r>
            <a:br>
              <a:rPr sz="3600"/>
            </a:b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В каком ряду во всех словах пропущена безударная проверяемая гласная корня?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1)  запр</a:t>
            </a:r>
            <a:r>
              <a:rPr b="0" lang="ru-RU" sz="4000" spc="-1" strike="noStrike">
                <a:solidFill>
                  <a:srgbClr val="ff3333"/>
                </a:solidFill>
                <a:latin typeface="Times New Roman"/>
                <a:ea typeface="Tahoma"/>
              </a:rPr>
              <a:t>Я</a:t>
            </a: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гать-запр</a:t>
            </a:r>
            <a:r>
              <a:rPr b="0" lang="ru-RU" sz="4000" spc="-1" strike="noStrike">
                <a:solidFill>
                  <a:srgbClr val="ff3333"/>
                </a:solidFill>
                <a:latin typeface="Times New Roman"/>
                <a:ea typeface="Tahoma"/>
              </a:rPr>
              <a:t>Я</a:t>
            </a: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г,  ск</a:t>
            </a:r>
            <a:r>
              <a:rPr b="0" lang="ru-RU" sz="4000" spc="-1" strike="noStrike">
                <a:solidFill>
                  <a:srgbClr val="ff3333"/>
                </a:solidFill>
                <a:latin typeface="Times New Roman"/>
                <a:ea typeface="Tahoma"/>
              </a:rPr>
              <a:t>О</a:t>
            </a: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льзить- ск</a:t>
            </a:r>
            <a:r>
              <a:rPr b="0" lang="ru-RU" sz="4000" spc="-1" strike="noStrike">
                <a:solidFill>
                  <a:srgbClr val="ff3333"/>
                </a:solidFill>
                <a:latin typeface="Times New Roman"/>
                <a:ea typeface="Tahoma"/>
              </a:rPr>
              <a:t>О</a:t>
            </a: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льзко,  м</a:t>
            </a:r>
            <a:r>
              <a:rPr b="0" lang="ru-RU" sz="4000" spc="-1" strike="noStrike">
                <a:solidFill>
                  <a:srgbClr val="ff3333"/>
                </a:solidFill>
                <a:latin typeface="Times New Roman"/>
                <a:ea typeface="Tahoma"/>
              </a:rPr>
              <a:t>О</a:t>
            </a: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рской - м</a:t>
            </a:r>
            <a:r>
              <a:rPr b="0" lang="ru-RU" sz="4000" spc="-1" strike="noStrike">
                <a:solidFill>
                  <a:srgbClr val="ff3333"/>
                </a:solidFill>
                <a:latin typeface="Times New Roman"/>
                <a:ea typeface="Tahoma"/>
              </a:rPr>
              <a:t>О</a:t>
            </a: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ре(прибой)</a:t>
            </a:r>
            <a:br>
              <a:rPr sz="4000"/>
            </a:b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2) ум..рать,  пров..ряющий,  прод..вать</a:t>
            </a:r>
            <a:br>
              <a:rPr sz="4000"/>
            </a:b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3) п..ровой,  к…ллекция,  л…нгвистика</a:t>
            </a:r>
            <a:br>
              <a:rPr sz="4000"/>
            </a:br>
            <a:r>
              <a:rPr b="0" lang="ru-RU" sz="4000" spc="-1" strike="noStrike">
                <a:solidFill>
                  <a:srgbClr val="004586"/>
                </a:solidFill>
                <a:latin typeface="Times New Roman"/>
                <a:ea typeface="Tahoma"/>
              </a:rPr>
              <a:t>4) бл..стать,  вет..ранский,  прод..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144360"/>
            <a:ext cx="86090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586"/>
                </a:solidFill>
                <a:latin typeface="Times New Roman"/>
              </a:rPr>
              <a:t>Работа с текстом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1152000"/>
            <a:ext cx="8609040" cy="6961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4586"/>
                </a:solidFill>
                <a:latin typeface="Times New Roman"/>
                <a:ea typeface="Tahoma"/>
              </a:rPr>
              <a:t>(1) Наш язык- это основная часть нашего общего поведения в жизни. (2) И по тому, как человек говорит, мы сразу и легко можем судить о том, с кем мы имеем дело: мы можем определить степень интеллигентности человека, степень его психологической уравновешенности, степень его возможной «закомплексованности». (3) Учиться хорошей, спокойной. интелличентной речи надо долго и внимательно- прислушиваясь, запоминая, читая и изучая. (4) Но …... это трудно- это надо. (5) Наша речь — важнейшая часть не только нашего поведения, но и нашей личности, наших душ, нашей способности не поддаваться влияниям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586"/>
                </a:solidFill>
                <a:latin typeface="Times New Roman"/>
              </a:rPr>
              <a:t>Работа с текстом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1. Найдите предложение, в котором содержится главная информация тек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2. Какое слово должно стоять на месте пропуска в 4 предложен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а) если ; б) хотя; в) когда; г)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3. В каком(их) предложении(ях) тире стоит между подлежащим и сказуем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33"/>
                </a:solidFill>
                <a:latin typeface="Times New Roman"/>
              </a:rPr>
              <a:t>Проверим!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1. Найдите предложение, в котором содержится главная информация тек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33"/>
                </a:solidFill>
                <a:latin typeface="Times New Roman"/>
              </a:rPr>
              <a:t>(2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2. Какое слово должно стоять на месте пропуска в 4 предложен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а) если ; </a:t>
            </a:r>
            <a:r>
              <a:rPr b="0" lang="ru-RU" sz="3600" spc="-1" strike="noStrike">
                <a:solidFill>
                  <a:srgbClr val="ff3333"/>
                </a:solidFill>
                <a:latin typeface="Times New Roman"/>
              </a:rPr>
              <a:t>б) хотя;</a:t>
            </a: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 в) когда; г)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3. В каком(их) предложении(ях) тире стоит между подлежащим и сказуем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33"/>
                </a:solidFill>
                <a:latin typeface="Times New Roman"/>
              </a:rPr>
              <a:t>(1,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1240" y="360000"/>
            <a:ext cx="8609040" cy="6504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040" y="431640"/>
            <a:ext cx="8856720" cy="74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Русский народ создал русский язык яркий, как радуга после весеннего ливня, меткий,как стрелы, певучий и богатый, задушевный,как песня над колыбелью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Что такое Родина?Это весь народ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Это его культура, его язы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А. Н. Толст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4586"/>
                </a:solidFill>
                <a:latin typeface="Times New Roman"/>
              </a:rPr>
              <a:t>                </a:t>
            </a:r>
            <a:r>
              <a:rPr b="0" i="1" lang="ru-RU" sz="8800" spc="-1" strike="noStrike">
                <a:solidFill>
                  <a:srgbClr val="004586"/>
                </a:solidFill>
                <a:latin typeface="Times New Roman"/>
              </a:rPr>
              <a:t>Спасибо за 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4586"/>
                </a:solidFill>
                <a:latin typeface="Times New Roman"/>
              </a:rPr>
              <a:t>Орфоэпический марафон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3420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4586"/>
                </a:solidFill>
                <a:latin typeface="Times New Roman"/>
                <a:ea typeface="Tahoma"/>
              </a:rPr>
              <a:t>Закупорить, торты, одолжить, иконопись, опошлить, сливовый, по средам (дни недели), перчить, договор, облегчи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174240"/>
            <a:ext cx="860904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Times New Roman"/>
              </a:rPr>
              <a:t>Проверим!</a:t>
            </a:r>
            <a:br>
              <a:rPr sz="4800"/>
            </a:br>
            <a:r>
              <a:rPr b="1" lang="ru-RU" sz="4800" spc="-1" strike="noStrike">
                <a:solidFill>
                  <a:srgbClr val="004586"/>
                </a:solidFill>
                <a:latin typeface="Times New Roman"/>
              </a:rPr>
              <a:t>Орфоэпический марафон</a:t>
            </a:r>
            <a:br>
              <a:rPr sz="4800"/>
            </a:b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16000" y="2000160"/>
          <a:ext cx="9938880" cy="5101920"/>
        </p:xfrm>
        <a:graphic>
          <a:graphicData uri="http://schemas.openxmlformats.org/drawingml/2006/table">
            <a:tbl>
              <a:tblPr/>
              <a:tblGrid>
                <a:gridCol w="3311640"/>
                <a:gridCol w="3313440"/>
                <a:gridCol w="3313800"/>
              </a:tblGrid>
              <a:tr h="1241640"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т</a:t>
                      </a:r>
                      <a:r>
                        <a:rPr b="0" lang="ru-RU" sz="4400" spc="-1" strike="noStrike">
                          <a:solidFill>
                            <a:srgbClr val="ff3333"/>
                          </a:solidFill>
                          <a:latin typeface="Times New Roman"/>
                          <a:ea typeface="Tahoma"/>
                        </a:rPr>
                        <a:t>О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рты </a:t>
                      </a:r>
                      <a:r>
                        <a:rPr b="0" lang="ru-RU" sz="16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22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зак</a:t>
                      </a:r>
                      <a:r>
                        <a:rPr b="0" lang="ru-RU" sz="4000" spc="-1" strike="noStrike">
                          <a:solidFill>
                            <a:srgbClr val="ff3333"/>
                          </a:solidFill>
                          <a:latin typeface="Times New Roman"/>
                          <a:ea typeface="Tahoma"/>
                        </a:rPr>
                        <a:t>У</a:t>
                      </a:r>
                      <a:r>
                        <a:rPr b="0" lang="ru-RU" sz="40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пори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одолж</a:t>
                      </a:r>
                      <a:r>
                        <a:rPr b="0" lang="ru-RU" sz="4400" spc="-1" strike="noStrike">
                          <a:solidFill>
                            <a:srgbClr val="ff6600"/>
                          </a:solidFill>
                          <a:latin typeface="Times New Roman"/>
                          <a:ea typeface="Tahoma"/>
                        </a:rPr>
                        <a:t>И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т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241640"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ff3333"/>
                          </a:solidFill>
                          <a:latin typeface="Times New Roman"/>
                          <a:ea typeface="Tahoma"/>
                        </a:rPr>
                        <a:t>И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конопись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оп</a:t>
                      </a:r>
                      <a:r>
                        <a:rPr b="0" lang="ru-RU" sz="4400" spc="-1" strike="noStrike">
                          <a:solidFill>
                            <a:srgbClr val="ff3333"/>
                          </a:solidFill>
                          <a:latin typeface="Times New Roman"/>
                          <a:ea typeface="Tahoma"/>
                        </a:rPr>
                        <a:t>О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шли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догов</a:t>
                      </a:r>
                      <a:r>
                        <a:rPr b="0" lang="ru-RU" sz="4400" spc="-1" strike="noStrike">
                          <a:solidFill>
                            <a:srgbClr val="ff3333"/>
                          </a:solidFill>
                          <a:latin typeface="Times New Roman"/>
                          <a:ea typeface="Tahoma"/>
                        </a:rPr>
                        <a:t>О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377000"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сл</a:t>
                      </a:r>
                      <a:r>
                        <a:rPr b="0" lang="ru-RU" sz="4400" spc="-1" strike="noStrike">
                          <a:solidFill>
                            <a:srgbClr val="ff3333"/>
                          </a:solidFill>
                          <a:latin typeface="Times New Roman"/>
                          <a:ea typeface="Tahoma"/>
                        </a:rPr>
                        <a:t>И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вовый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   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по сред</a:t>
                      </a:r>
                      <a:r>
                        <a:rPr b="0" lang="ru-RU" sz="4400" spc="-1" strike="noStrike">
                          <a:solidFill>
                            <a:srgbClr val="ff3333"/>
                          </a:solidFill>
                          <a:latin typeface="Times New Roman"/>
                          <a:ea typeface="Tahoma"/>
                        </a:rPr>
                        <a:t>А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м (дни недели)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 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 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облегч</a:t>
                      </a:r>
                      <a:r>
                        <a:rPr b="0" lang="ru-RU" sz="4400" spc="-1" strike="noStrike">
                          <a:solidFill>
                            <a:srgbClr val="ff3333"/>
                          </a:solidFill>
                          <a:latin typeface="Times New Roman"/>
                          <a:ea typeface="Tahoma"/>
                        </a:rPr>
                        <a:t>И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т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1241640">
                <a:tc>
                  <a:txBody>
                    <a:bodyPr lIns="90000" rIns="90000" tIns="1299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п</a:t>
                      </a:r>
                      <a:r>
                        <a:rPr b="0" lang="ru-RU" sz="4400" spc="-1" strike="noStrike">
                          <a:solidFill>
                            <a:srgbClr val="ff3333"/>
                          </a:solidFill>
                          <a:latin typeface="Times New Roman"/>
                          <a:ea typeface="Tahoma"/>
                        </a:rPr>
                        <a:t>Е</a:t>
                      </a:r>
                      <a:r>
                        <a:rPr b="0" lang="ru-RU" sz="4400" spc="-1" strike="noStrike">
                          <a:solidFill>
                            <a:srgbClr val="004586"/>
                          </a:solidFill>
                          <a:latin typeface="Times New Roman"/>
                          <a:ea typeface="Tahoma"/>
                        </a:rPr>
                        <a:t>рчит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19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1195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4586"/>
                </a:solidFill>
                <a:latin typeface="Times New Roman"/>
              </a:rPr>
              <a:t>Ох уж эти ошибки!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4586"/>
                </a:solidFill>
                <a:latin typeface="Times New Roman"/>
              </a:rPr>
              <a:t>1. </a:t>
            </a: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Впереди лидирует команда наших спортсме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2. На примере конкретных примеров  покажите своеобразие чеховского пейзажа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3. Чтобы быть грамотным и с большим жаргоном слов, надо много чит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4. Родители хотели устроить праздник более пышн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33"/>
                </a:solidFill>
                <a:latin typeface="Times New Roman"/>
              </a:rPr>
              <a:t>Проверим!</a:t>
            </a:r>
            <a:br>
              <a:rPr sz="4000"/>
            </a:br>
            <a:r>
              <a:rPr b="1" lang="ru-RU" sz="4000" spc="-1" strike="noStrike">
                <a:solidFill>
                  <a:srgbClr val="004586"/>
                </a:solidFill>
                <a:latin typeface="Times New Roman"/>
              </a:rPr>
              <a:t>Ох уж эти ошибки!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5418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7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4586"/>
                </a:solidFill>
                <a:latin typeface="Times New Roman"/>
              </a:rPr>
              <a:t>1. </a:t>
            </a:r>
            <a:r>
              <a:rPr b="0" lang="ru-RU" sz="3200" spc="-1" strike="noStrike" u="sng">
                <a:solidFill>
                  <a:srgbClr val="004586"/>
                </a:solidFill>
                <a:uFillTx/>
                <a:latin typeface="Times New Roman"/>
              </a:rPr>
              <a:t>Впереди лидирует</a:t>
            </a:r>
            <a:r>
              <a:rPr b="0" lang="ru-RU" sz="3200" spc="-1" strike="noStrike">
                <a:solidFill>
                  <a:srgbClr val="004586"/>
                </a:solidFill>
                <a:latin typeface="Times New Roman"/>
              </a:rPr>
              <a:t> команда наших спортсменов.</a:t>
            </a:r>
            <a:r>
              <a:rPr b="0" lang="ru-RU" sz="3200" spc="-1" strike="noStrike">
                <a:solidFill>
                  <a:srgbClr val="ff3333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ff3333"/>
                </a:solidFill>
                <a:latin typeface="Times New Roman"/>
              </a:rPr>
              <a:t>употребление лишнего сло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4586"/>
                </a:solidFill>
                <a:latin typeface="Times New Roman"/>
              </a:rPr>
              <a:t>2. На </a:t>
            </a:r>
            <a:r>
              <a:rPr b="0" lang="ru-RU" sz="3200" spc="-1" strike="noStrike" u="sng">
                <a:solidFill>
                  <a:srgbClr val="004586"/>
                </a:solidFill>
                <a:uFillTx/>
                <a:latin typeface="Times New Roman"/>
              </a:rPr>
              <a:t>примере</a:t>
            </a:r>
            <a:r>
              <a:rPr b="0" lang="ru-RU" sz="3200" spc="-1" strike="noStrike">
                <a:solidFill>
                  <a:srgbClr val="004586"/>
                </a:solidFill>
                <a:latin typeface="Times New Roman"/>
              </a:rPr>
              <a:t> конкретных </a:t>
            </a:r>
            <a:r>
              <a:rPr b="0" lang="ru-RU" sz="3200" spc="-1" strike="noStrike" u="sng">
                <a:solidFill>
                  <a:srgbClr val="004586"/>
                </a:solidFill>
                <a:uFillTx/>
                <a:latin typeface="Times New Roman"/>
              </a:rPr>
              <a:t>примеров</a:t>
            </a:r>
            <a:r>
              <a:rPr b="0" lang="ru-RU" sz="3200" spc="-1" strike="noStrike">
                <a:solidFill>
                  <a:srgbClr val="004586"/>
                </a:solidFill>
                <a:latin typeface="Times New Roman"/>
              </a:rPr>
              <a:t>  покажите своеобразие чеховского пейзажа  </a:t>
            </a:r>
            <a:r>
              <a:rPr b="0" lang="ru-RU" sz="3200" spc="-1" strike="noStrike">
                <a:solidFill>
                  <a:srgbClr val="ff3333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ff3333"/>
                </a:solidFill>
                <a:latin typeface="Times New Roman"/>
              </a:rPr>
              <a:t>употребление рядом однокоренных слов</a:t>
            </a:r>
            <a:r>
              <a:rPr b="0" lang="ru-RU" sz="3200" spc="-1" strike="noStrike">
                <a:solidFill>
                  <a:srgbClr val="ff3333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4586"/>
                </a:solidFill>
                <a:latin typeface="Times New Roman"/>
              </a:rPr>
              <a:t>3. Чтобы быть грамотным и иметь большой </a:t>
            </a:r>
            <a:r>
              <a:rPr b="0" lang="ru-RU" sz="3200" spc="-1" strike="noStrike" u="sng">
                <a:solidFill>
                  <a:srgbClr val="004586"/>
                </a:solidFill>
                <a:uFillTx/>
                <a:latin typeface="Times New Roman"/>
              </a:rPr>
              <a:t>жаргон</a:t>
            </a:r>
            <a:r>
              <a:rPr b="0" lang="ru-RU" sz="3200" spc="-1" strike="noStrike">
                <a:solidFill>
                  <a:srgbClr val="004586"/>
                </a:solidFill>
                <a:latin typeface="Times New Roman"/>
              </a:rPr>
              <a:t> слов, надо много чи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33"/>
                </a:solidFill>
                <a:latin typeface="Times New Roman"/>
              </a:rPr>
              <a:t>( </a:t>
            </a:r>
            <a:r>
              <a:rPr b="1" lang="ru-RU" sz="3200" spc="-1" strike="noStrike">
                <a:solidFill>
                  <a:srgbClr val="ff3333"/>
                </a:solidFill>
                <a:latin typeface="Times New Roman"/>
              </a:rPr>
              <a:t>употребление слова в несвойственном ему значении</a:t>
            </a:r>
            <a:r>
              <a:rPr b="0" lang="ru-RU" sz="3200" spc="-1" strike="noStrike">
                <a:solidFill>
                  <a:srgbClr val="ff3333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458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4586"/>
                </a:solidFill>
                <a:latin typeface="Times New Roman"/>
              </a:rPr>
              <a:t>4. Родители хотели устроить праздник </a:t>
            </a:r>
            <a:r>
              <a:rPr b="0" lang="ru-RU" sz="3200" spc="-1" strike="noStrike" u="sng">
                <a:solidFill>
                  <a:srgbClr val="004586"/>
                </a:solidFill>
                <a:uFillTx/>
                <a:latin typeface="Times New Roman"/>
              </a:rPr>
              <a:t>более пышнее</a:t>
            </a:r>
            <a:r>
              <a:rPr b="0" lang="ru-RU" sz="3200" spc="-1" strike="noStrike">
                <a:solidFill>
                  <a:srgbClr val="004586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ff3333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ff3333"/>
                </a:solidFill>
                <a:latin typeface="Times New Roman"/>
              </a:rPr>
              <a:t>неправильное образование форм прилагательных</a:t>
            </a:r>
            <a:r>
              <a:rPr b="0" lang="ru-RU" sz="3200" spc="-1" strike="noStrike">
                <a:solidFill>
                  <a:srgbClr val="ff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В каком предложении вместо слова одеть нужно употребить слово НАДЕТЬ? 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1) После вчерашнего ливня в туфлях и улицу не перейдёшь, придётся одеть охотничьи сапо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2) Дарья Александровна обдумывала, как потеплее одеть детей завт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3) Хвойный лес одел все горы и подошёл вплотную к мор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4) Танцоров одели в национальные костю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428400"/>
            <a:ext cx="86090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3333"/>
                </a:solidFill>
                <a:latin typeface="Times New Roman"/>
                <a:ea typeface="Tahoma"/>
              </a:rPr>
              <a:t>Проверим!</a:t>
            </a:r>
            <a:br>
              <a:rPr sz="3600"/>
            </a:b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В каком предложении вместо слова одеть нужно употребить слово НАДЕТЬ? 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1) После вчерашнего ливня в туфлях и улицу не перейдёшь, придётся </a:t>
            </a:r>
            <a:r>
              <a:rPr b="1" lang="ru-RU" sz="3600" spc="-1" strike="noStrike">
                <a:solidFill>
                  <a:srgbClr val="ff3333"/>
                </a:solidFill>
                <a:latin typeface="Times New Roman"/>
              </a:rPr>
              <a:t>надеть</a:t>
            </a: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 охотничьи сапо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2) Дарья Александровна обдумывала, как потеплее одеть детей завт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3) Хвойный лес одел все горы и подошёл вплотную к мор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4) Танцоров одели в национальные костю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4586"/>
                </a:solidFill>
                <a:latin typeface="Times New Roman"/>
                <a:ea typeface="Tahoma"/>
              </a:rPr>
              <a:t>Выберите грамматически правильное продолжение предложения.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3333"/>
                </a:solidFill>
                <a:latin typeface="Times New Roman"/>
              </a:rPr>
              <a:t>Ожидая начала спектакля</a:t>
            </a: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1. зрители с интересом рассматривали причудливые рисунки на занаве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2. у папы, заядлого театрала, в глазах горело нетерп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3. программка перелистывалась Соней снова и сн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4586"/>
                </a:solidFill>
                <a:latin typeface="Times New Roman"/>
              </a:rPr>
              <a:t>4. актерами овладело волнение, которое всегда сопутствует премье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/>
  <dcterms:modified xsi:type="dcterms:W3CDTF">2009-04-16T07:32:35Z</dcterms:modified>
  <cp:revision>2</cp:revision>
  <dc:subject/>
  <dc:title/>
</cp:coreProperties>
</file>