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CA5-8373-4179-B141-254B02E4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3DC-0E5C-448C-B561-A9BC840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65-4854-4128-9662-D27A1140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DCC-CEA5-4FEE-B84F-652B3125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239-36FE-49CD-BC5D-763191D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B72-31ED-43FC-8251-EF699F6D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F58-4612-4B8C-BE05-493F7C8C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501-7B79-4FD2-8A6D-F488CE2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F33-938A-41F1-A5ED-8ABA14C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6BD-16DA-4214-A3F8-B37790E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BCB-19E0-4E54-A964-28B2FE7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02FF-11C7-4D6F-B4DF-2F3ACF4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FBB5-F6AD-4A23-8167-8BEA72525B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Урок- игра в 11 классе</a:t>
            </a:r>
            <a:r>
              <a:rPr b="1" lang="ru-RU" sz="4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Times New Roman"/>
              </a:rPr>
              <a:t>Лингвистический турни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ыберите грамматически правильное продолжение предложени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Ожидая начала спектакля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1" i="1" lang="ru-RU" sz="3600" spc="-1" strike="noStrike">
                <a:solidFill>
                  <a:srgbClr val="004586"/>
                </a:solidFill>
                <a:latin typeface="Times New Roman"/>
              </a:rPr>
              <a:t>зрители с интересом рассматривали причудливые рисунки на занаве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у папы, заядлого театрала, в глазах горело нетерп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программка перелистывалась Соней снова и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актерами овладело волнение, которое всегда сопутствует премье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Укажите предложение с грамматической ошибкой (с нарушением синтаксической нормы)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Она ничего не знала о том, что произошло на 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Жители города ожидали и надеялись на мирное разрешение конфли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Шаляпин был гениален не только на драматической, но и на оперной сце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Вследствие использования минеральных удобрений удалось собрать рекордный урож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3680"/>
            <a:ext cx="8609040" cy="18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200"/>
            </a:br>
            <a:r>
              <a:rPr b="1" lang="ru-RU" sz="3200" spc="-1" strike="noStrike">
                <a:solidFill>
                  <a:srgbClr val="004586"/>
                </a:solidFill>
                <a:latin typeface="Times New Roman"/>
                <a:ea typeface="Tahoma"/>
              </a:rPr>
              <a:t>Укажите предложение с грамматической ошибкой (с нарушением синтаксической нормы)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58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6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Она ничего не знала о том, что произошло на 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Жители города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ожидали (чего?) и надеялись (на что?)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на мирное разрешение конфли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Шаляпин был гениален не только на драматической, но и на оперной сце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Вследствие использования минеральных удобрений удалось собрать рекордный урож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Орфографическая минут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варианте ответа правильно указаны все цифры, на месте которых пишется Н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Каме(1 )ый дом, отдела(2)ый внутри деревя(3)ыми панелями, стоял на берегу небольшого п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1,2            2) 1,2,3        3)  2,3        4) 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Орфографическая минут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варианте ответа правильно указаны все цифры, на месте которых пишется Н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Каме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й дом, отдела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й внутри деревя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ми панелями, стоял на берегу небольшого п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1,2           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2) 1,2,3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      3)  2,3        4) 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ряду во всех словах пропущена безударная проверяемая гласная корня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1)  запр..гать,  ск..льзить,  м..рской (прибой)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2) ум..рать,  пров..ряющий,  прод..вать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3) п..ровой,  к…ллекция,  л…нгвистика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4) бл..стать,  вет..ранский,  прод..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ряду во всех словах пропущена безударная проверяемая гласная корня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1)  запр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Я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гать-запр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Я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г,  ск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льзить- ск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льзко,  м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рской - м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ре(прибой)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2) ум..рать,  пров..ряющий,  прод..вать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3) п..ровой,  к…ллекция,  л…нгвистика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4) бл..стать,  вет..ранский,  прод..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44360"/>
            <a:ext cx="86090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Работа с тексто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1152000"/>
            <a:ext cx="860904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  <a:ea typeface="Tahoma"/>
              </a:rPr>
              <a:t>(1) Наш язык- это основная часть нашего общего поведения в жизни. (2) И по тому, как человек говорит, мы сразу и легко можем судить о том, с кем мы имеем дело: мы можем определить степень интеллигентности человека, степень его психологической уравновешенности, степень его возможной «закомплексованности». (3) Учиться хорошей, спокойной. интелличентной речи надо долго и внимательно- прислушиваясь, запоминая, читая и изучая. (4) Но …... это трудно- это надо. (5) Наша речь — важнейшая часть не только нашего поведения, но и нашей личности, наших душ, нашей способности не поддаваться влияниям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Работа с тексто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Найдите предложение, в котором содержится главная информац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Какое слово должно стоять на месте пропуска в 4 предлож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а) если ; б) хотя; в) когда; г)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В каком(их) предложении(ях) тире стоит между подлежащим и сказуем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Найдите предложение, в котором содержится главная информац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(2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Какое слово должно стоять на месте пропуска в 4 предлож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а) если ;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б) хотя;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в) когда; г)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В каком(их) предложении(ях) тире стоит между подлежащим и сказуем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(1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360000"/>
            <a:ext cx="8609040" cy="650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040" y="431640"/>
            <a:ext cx="8856720" cy="74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усский народ создал русский язык яркий, как радуга после весеннего ливня, меткий,как стрелы, певучий и богатый, задушевный,как песня над колыбел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Что такое Родина?Это весь наро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Это его культура, его язы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А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4586"/>
                </a:solidFill>
                <a:latin typeface="Times New Roman"/>
              </a:rPr>
              <a:t>                </a:t>
            </a:r>
            <a:r>
              <a:rPr b="0" i="1" lang="ru-RU" sz="8800" spc="-1" strike="noStrike">
                <a:solidFill>
                  <a:srgbClr val="004586"/>
                </a:solidFill>
                <a:latin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4586"/>
                </a:solidFill>
                <a:latin typeface="Times New Roman"/>
              </a:rPr>
              <a:t>Орфоэпический марафон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4586"/>
                </a:solidFill>
                <a:latin typeface="Times New Roman"/>
                <a:ea typeface="Tahoma"/>
              </a:rPr>
              <a:t>Закупорить, торты, одолжить, иконопись, опошлить, сливовый, по средам (дни недели), перчить, договор, облегч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174240"/>
            <a:ext cx="8609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Проверим!</a:t>
            </a:r>
            <a:br>
              <a:rPr sz="4800"/>
            </a:br>
            <a:r>
              <a:rPr b="1" lang="ru-RU" sz="4800" spc="-1" strike="noStrike">
                <a:solidFill>
                  <a:srgbClr val="004586"/>
                </a:solidFill>
                <a:latin typeface="Times New Roman"/>
              </a:rPr>
              <a:t>Орфоэпический марафон</a:t>
            </a:r>
            <a:br>
              <a:rPr sz="4800"/>
            </a:b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6000" y="2000160"/>
          <a:ext cx="9938880" cy="5101920"/>
        </p:xfrm>
        <a:graphic>
          <a:graphicData uri="http://schemas.openxmlformats.org/drawingml/2006/table">
            <a:tbl>
              <a:tblPr/>
              <a:tblGrid>
                <a:gridCol w="3311640"/>
                <a:gridCol w="3313440"/>
                <a:gridCol w="3313800"/>
              </a:tblGrid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ты </a:t>
                      </a:r>
                      <a:r>
                        <a:rPr b="0" lang="ru-RU" sz="16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2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зак</a:t>
                      </a:r>
                      <a:r>
                        <a:rPr b="0" lang="ru-RU" sz="40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У</a:t>
                      </a:r>
                      <a:r>
                        <a:rPr b="0" lang="ru-RU" sz="40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ори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долж</a:t>
                      </a:r>
                      <a:r>
                        <a:rPr b="0" lang="ru-RU" sz="4400" spc="-1" strike="noStrike">
                          <a:solidFill>
                            <a:srgbClr val="ff6600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конопись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п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шли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догов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37700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сл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вовый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о сред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А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м (дни недели)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блегч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Е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чи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586"/>
                </a:solidFill>
                <a:latin typeface="Times New Roman"/>
              </a:rPr>
              <a:t>Ох уж эти ошибки!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Впереди лидирует команда наших спортсм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На примере конкретных примеров  покажите своеобразие чеховского пейзаж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Чтобы быть грамотным и с большим жаргоном слов, надо много чи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Родители хотели устроить праздник более пышн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br>
              <a:rPr sz="4000"/>
            </a:br>
            <a:r>
              <a:rPr b="1" lang="ru-RU" sz="4000" spc="-1" strike="noStrike">
                <a:solidFill>
                  <a:srgbClr val="004586"/>
                </a:solidFill>
                <a:latin typeface="Times New Roman"/>
              </a:rPr>
              <a:t>Ох уж эти ошибки!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Впереди лидирует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команда наших спортсменов.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лишнего сло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2. На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примере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конкретных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примеров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 покажите своеобразие чеховского пейзажа  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рядом однокоренных слов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3. Чтобы быть грамотным и иметь большой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жаргон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слов, надо много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 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слова в несвойственном ему значении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4. Родители хотели устроить праздник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более пышнее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неправильное образование форм прилагательных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предложении вместо слова одеть нужно употребить слово НАДЕТЬ? 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После вчерашнего ливня в туфлях и улицу не перейдёшь, придётся одеть охотничьи сап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Дарья Александровна обдумывала, как потеплее одеть детей зав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Хвойный лес одел все горы и подошёл вплотную к мо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Танцоров одели в национальные костю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предложении вместо слова одеть нужно употребить слово НАДЕТЬ? 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После вчерашнего ливня в туфлях и улицу не перейдёшь, придётся 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надеть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охотничьи сап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Дарья Александровна обдумывала, как потеплее одеть детей зав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Хвойный лес одел все горы и подошёл вплотную к мо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Танцоров одели в национальные костю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ыберите грамматически правильное продолжение предложени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Ожидая начала спектакля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зрители с интересом рассматривали причудливые рисунки на занаве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у папы, заядлого театрала, в глазах горело нетерп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программка перелистывалась Соней снова и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актерами овладело волнение, которое всегда сопутствует премье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09-04-16T07:32:35Z</dcterms:modified>
  <cp:revision>2</cp:revision>
  <dc:subject/>
  <dc:title/>
</cp:coreProperties>
</file>