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4E8D-C5B6-4CB0-A86D-83177670EC2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учителя и воспитатели, в школе и в дошкольных учреждениях, в первом классе и в старших классах, молодые и опытные, обязательно сталкиваются в своей работе с проблемами дисциплины. Уже после первых дней своей работы в школе учитель знает, что у его учеников имеются сотни способов мешать уроку, «заводить» класс и исподтишка срывать объяснение материа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4615-AD48-4A2C-8E70-6463573CC2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едагоги часто применяют приемы экстренного педагогического вмешательства и понимают при этом: нет гарантии, что завтра, послезавтра или через неделю ученик не повторит свои безобразные выходки. Действительно, экстренное педвоздействие не может изменить характер поведения в целом. А вот выстроенная стратегия поддержки — может. Самоуважение школьника в основном определяется чувством причастности, принадлежности к школьной жизни, школьной общности. Самоуважение школьника формируется, когда он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щущает свою состоятельность в учебной деятельности (интеллектуальную состоятельность) или хотя бы не ощущает интеллектуальной несостоятель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троит и поддерживает приемлемые отношения с учителем и одноклассниками (коммуникативная состоятельность) или имеет хотя бы какие-то отношения;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носит свой особый вклад в жизнь класса и школы.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тратегия повышения самоуважения строится на принципе замены неприемлемых способов участия в школьной жизни более приемлемыми. Поддерживающая, формирующая самоуважение ученика стратегия не требует специального времени. Ее реализация занимает у учителя не больше сил и времени, чем традиционные воспитательные беседы, обличительные речи и выяснения отношений. К тому же для педагога это единственный способ хотя бы немного улучшить отношения с учениками. Заменив свое традиционное поведение поддержкой, учитель изменяет свою установку о отношению к ученику. Теперь он ожидает от ученика хороших поступков и замечает его хорошие поступки. Поскольку отношение педагога к ученику становится позитивным, меняется и отношение ученика к учителю. Возрастание его самоуважения приятно удивит вас, просто ребенок станет получать то, что ему необходимо, нормальными приемлемыми способами.</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45BF-8A15-4977-AE6F-6535D6C8632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азработка ШПД для построения конструктивных взаимоотношений с тем или иным учеником не только решает проблемы дисциплины, но также является темой для общения с коллегами и родителями. Если родители понимают ваши проблемы, если они готовы к психологической работе с собой, то под вашим руководством они могут разработать свой Домашний план действий и тем самым не только помогать вам, но и решать собственные воспитательные проблемы.</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абота по составлению и реализации Школьного плана действий приводит к выигрышу всех участников учебно-воспитательного процесс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о-первых, выигрывает учитель. Его ежедневная борьба за дисциплину прекращается, появляется удовлетворение процессом обучения и общения на уроках. Обучаясь строить конструктивные взаимоотношения с учениками, учитель переносит новый стиль общения на всех остальных людей. «Эмоциональное сгорание» (разочарование, усталость, тревожность, нервные срывы) исчезает, на его место приходит удовольствие от творческого и успешного профессионального дела. Работа по предлагаемой нами программе полезна в равной степени всем педагогам, от воспитателя детского сада до преподавателя старших классов школы. Базовые навыки взаимодействия учителей и учеников остаются неизменными, какого бы возраста ни были ваши питомцы (просто для учеников разного возраста вы используете разные приемы педагогического воздействия и разные способы повышения самоуважения).</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о-вторых, выигрывают ученики. Когда в классе уроки превращаются в выяснения отношений, это не способствует ни умственному, ни личностному развитию. Ученики страдают не меньше учителей, вред себе наносят этим и инициаторы срывов уроков. Все дети, пришедшие учиться, нуждаются в творческой, мирной и дружелюбной обстановке, без этого трудно рассчитывать на хорошую успеваемост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третьих, становятся спокойнее родители. Они довольны тем, что воспитание ребенка ведется компетентно и по определенному плану. Они часто берут ШПД за основу для коррекции отношений со своим собственным ребенко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1BC1-15DD-4351-A001-54E42E166F6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е выступление построено на основе книги </a:t>
            </a:r>
            <a:r>
              <a:rPr b="1" lang="ru-RU" sz="1200" spc="-1" strike="noStrike">
                <a:solidFill>
                  <a:srgbClr val="000000"/>
                </a:solidFill>
                <a:latin typeface="Calibri"/>
              </a:rPr>
              <a:t>С.В. Кривцовой Учитель и проблемы дисциплины</a:t>
            </a:r>
            <a:r>
              <a:rPr b="0" lang="ru-RU" sz="1200" spc="-1" strike="noStrike">
                <a:solidFill>
                  <a:srgbClr val="000000"/>
                </a:solidFill>
                <a:latin typeface="Calibri"/>
              </a:rPr>
              <a:t>.</a:t>
            </a:r>
            <a:r>
              <a:rPr b="0" lang="ru-RU" sz="1200" spc="-1" strike="noStrike">
                <a:solidFill>
                  <a:srgbClr val="000000"/>
                </a:solidFill>
                <a:latin typeface="Arial"/>
              </a:rPr>
              <a:t> </a:t>
            </a:r>
            <a:r>
              <a:rPr b="0" lang="ru-RU" sz="1200" spc="-1" strike="noStrike">
                <a:solidFill>
                  <a:srgbClr val="000000"/>
                </a:solidFill>
                <a:latin typeface="Calibri"/>
              </a:rPr>
              <a:t>Эта книга - о том, как вести себя твердо, но доброжелательно с детьми, нарушающими правила поведения в классе. По мнению автора, сталкиваясь с подобными случаями, учитель должен уметь распознавать истинный мотив «плохого поведения» ребенка, выбирать наиболее эффективный способ немедленного прекращения выходки и разрабатывать поддерживающую стратегию взаимодействия с этим ребенком, позволяющую снижать повторение подобных проступков в будущем. Книга содержит не только психологический анализ всех этих умений, но и сценарий тренинговой работы с педагогами. Уч</a:t>
            </a:r>
            <a:r>
              <a:rPr b="0" lang="ru-RU" sz="1200" spc="-1" strike="noStrike">
                <a:solidFill>
                  <a:srgbClr val="000000"/>
                </a:solidFill>
                <a:latin typeface="Arial"/>
              </a:rPr>
              <a:t>и</a:t>
            </a:r>
            <a:r>
              <a:rPr b="0" lang="ru-RU" sz="1200" spc="-1" strike="noStrike">
                <a:solidFill>
                  <a:srgbClr val="000000"/>
                </a:solidFill>
                <a:latin typeface="Calibri"/>
              </a:rPr>
              <a:t>телям, которым не безразлична проблема дисциплины, будет интересно познакомиться с работой </a:t>
            </a:r>
            <a:r>
              <a:rPr b="1" lang="ru-RU" sz="1200" spc="-1" strike="noStrike">
                <a:solidFill>
                  <a:srgbClr val="000000"/>
                </a:solidFill>
                <a:latin typeface="Calibri"/>
              </a:rPr>
              <a:t>С.В. Кривцовой .</a:t>
            </a:r>
            <a:endParaRPr b="0" lang="en-US" sz="1200" spc="-1" strike="noStrike">
              <a:solidFill>
                <a:srgbClr val="000000"/>
              </a:solidFill>
              <a:latin typeface="Calibri"/>
            </a:endParaRPr>
          </a:p>
        </p:txBody>
      </p:sp>
      <p:sp>
        <p:nvSpPr>
          <p:cNvPr id="2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125F-32D1-48B4-851B-94542F92663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к мы реагируем на их поведение, зависит от «философии дисциплины», которую — осознанно или нет — проповедует конкретный педагог. Здесь можно выделить три разных подхода.</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Первый подход </a:t>
            </a:r>
            <a:r>
              <a:rPr b="0" lang="ru-RU" sz="1100" spc="-1" strike="noStrike">
                <a:solidFill>
                  <a:srgbClr val="000000"/>
                </a:solidFill>
                <a:latin typeface="Calibri"/>
              </a:rPr>
              <a:t>можно назвать «руки прочь». Педагоги, которые придерживаются невмешательского подхода, считают, что молодые люди сами постепенно научатся управлять своим поведением, контролировать себя и принимать верные решения. Такие учителя в лучшем случае разъясняют ученикам, что случилось, когда все уже случилось. Программа дисциплины с точки зрения этого подхода сводится к обучению навыкам общения: эмпатическому слушанию, отражению чувств и т.д.</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Второй подход </a:t>
            </a:r>
            <a:r>
              <a:rPr b="0" lang="ru-RU" sz="1100" spc="-1" strike="noStrike">
                <a:solidFill>
                  <a:srgbClr val="000000"/>
                </a:solidFill>
                <a:latin typeface="Calibri"/>
              </a:rPr>
              <a:t>можно было бы назвать подходом «твердой руки». Педагоги, придерживающиеся этого метода, верят в то, что внешний контроль совершенно необходим для воспитания. Такие учителя очень похожи на начальников: они требуют, командуют, направляют. Их программа дисциплины предполагает овладение навыками манипулирования учениками ради их же блага. Основные методы воздействия — угрозы и шантаж: «Если ты не замолчишь, я…» (далее называется наказание, связанное с хорошим знанием «слабых мест» каждого ученика).</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Третий подход </a:t>
            </a:r>
            <a:r>
              <a:rPr b="0" lang="ru-RU" sz="1100" spc="-1" strike="noStrike">
                <a:solidFill>
                  <a:srgbClr val="000000"/>
                </a:solidFill>
                <a:latin typeface="Calibri"/>
              </a:rPr>
              <a:t>можно назвать «возьмемся за руки». Педагоги, которые придерживаются такой позиции, считают, что конкретные поступки учеников — это результат действия обеих сил: внутренних побуждений и внешних обстоятельств. Такие учителя берут на себя трудную роль ненавязчивого лидера, каждый раз подталкивающего ученика к необходимости осознанного выбора. Они также включают самих учеников в процесс установления правил. Их программа поддержания дисциплины строится на позитивных взаимоотношениях с учениками и повышении их самоуважения с помощью стратегии поддержки.</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м ближе всего третий подход: действовать рука об руку с учениками, родителями и коллегами, объединяясь не для разработки планов наказания, а для реализации плана развития личности каждого ученика класса</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2CE4-A6CF-4FBF-B9FA-BAD1F8E1DB7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ы, учителя, предъявляем к ученикам определенные требования и ожидаем, что поведение учеников будет им соответствовать. То, что в школе к ребенку будут предъявляться особые требования, внушают ему и родители, и детский сад. Но есть и другая сторона — чего от нас, учителей, ожидает ребенок? Итак, взаимодействие учителей и учеников в стенах класса и школы — это всегда «улица со встречным движением»: мы относимся к ученикам, ожидая от них определенного отношения, и они относятся к нам, ожидая от нас… Но чего? Ответ на этот вопрос становится просто интригующим, когда отношение ученика к учителю выражается в форме конфликтного, «плохого» поведения, неприятной выходки, серьезного проступ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бы грамотно строить конструктивное взаимодействие с нарушителем дисциплины, необходи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знать истинный мотив проступ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ответствии с ним выбрать способ, чтобы немедленно вмешаться в ситуацию и прекратить выходк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тратегию своего поведения, которая привела бы к постепенному снижению числа подобных проступков у этого ученика в будуще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41AD-B4A5-4A0F-BD94-F561FC38A72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ри основных закона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й закон:</a:t>
            </a:r>
            <a:r>
              <a:rPr b="0" lang="ru-RU" sz="1200" spc="-1" strike="noStrike">
                <a:solidFill>
                  <a:srgbClr val="000000"/>
                </a:solidFill>
                <a:latin typeface="Calibri"/>
              </a:rPr>
              <a:t> Ученики </a:t>
            </a:r>
            <a:r>
              <a:rPr b="0" i="1" lang="ru-RU" sz="1200" spc="-1" strike="noStrike">
                <a:solidFill>
                  <a:srgbClr val="000000"/>
                </a:solidFill>
                <a:latin typeface="Calibri"/>
              </a:rPr>
              <a:t>выбирают </a:t>
            </a:r>
            <a:r>
              <a:rPr b="0" lang="ru-RU" sz="1200" spc="-1" strike="noStrike">
                <a:solidFill>
                  <a:srgbClr val="000000"/>
                </a:solidFill>
                <a:latin typeface="Calibri"/>
              </a:rPr>
              <a:t>определенное поведение в определенных обстоятельств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й закон:</a:t>
            </a:r>
            <a:r>
              <a:rPr b="0" lang="ru-RU" sz="1200" spc="-1" strike="noStrike">
                <a:solidFill>
                  <a:srgbClr val="000000"/>
                </a:solidFill>
                <a:latin typeface="Calibri"/>
              </a:rPr>
              <a:t> Любое поведение учеников подчинено общей цели — чувствовать себя принадлежащими к школьной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й закон:</a:t>
            </a:r>
            <a:r>
              <a:rPr b="0" lang="ru-RU" sz="1200" spc="-1" strike="noStrike">
                <a:solidFill>
                  <a:srgbClr val="000000"/>
                </a:solidFill>
                <a:latin typeface="Calibri"/>
              </a:rPr>
              <a:t> Нарушая дисциплину, ученик осознает, что ведет себя неправильно, но может не осознавать, что за этим нарушением стоит одна из четыре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влечение внима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ст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бегание неудач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бы ни были цели плохих поступков учащихся, учителя должны как-то взаимодействовать с ними. "Если они научатся понимать цель нарушения поведения, то смогут конструктивно строить общение с учеником, заменить непродуктивный способ общения с ним на эффективный. </a:t>
            </a:r>
            <a:endParaRPr b="0" lang="en-US" sz="1200" spc="-1" strike="noStrike">
              <a:solidFill>
                <a:srgbClr val="000000"/>
              </a:solidFill>
              <a:latin typeface="Calibri"/>
            </a:endParaRPr>
          </a:p>
        </p:txBody>
      </p:sp>
      <p:sp>
        <p:nvSpPr>
          <p:cNvPr id="2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40CC-8AEA-4371-BC37-2DC53D9E8CB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лан изменений ребенка через описание взаимодействия с н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ШПД требует времени, но правильно составленный план сторицей оправдывает затраты. Уже само его составление снижает тревогу и снимает стресс. В процессе первых шагов составления ШПД вы начинаете верить, что все можно изменить. Меняются ваши установки: раньше вы постоянно ожидали подвоха, теперь настроены на ожидание успех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яя Школьный план действий — индивидуальную программу построения взаимоотношений с конкретным учеником, учитель фактически разрабатывает оптимальную стратегию и тактику общения с ним. При этом он решает последовательно пять задач, как бы делает пять «шаг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1. Объективное описание поведения ребен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2. Понимание мотива «плохого»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3. Выбор техники педагогического вмешательства для экстренного прекращения «выходки» на уро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4. Разработка стратегии и тактики поддержки учен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повышения его самоува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5. Включение родителей и коллег-педагогов в реализацию конкретного ШП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0699-3D50-4F91-83C7-36ED48DCEF5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2. Понимание мотива «плох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ая дисциплину, ученик может не осознавать   что за этим нарушением стоит одна из четыре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влечение внимания, власть, месть, избегание неудач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Привлечение внимания — </a:t>
            </a:r>
            <a:r>
              <a:rPr b="0" lang="ru-RU" sz="1200" spc="-1" strike="noStrike">
                <a:solidFill>
                  <a:srgbClr val="000000"/>
                </a:solidFill>
                <a:latin typeface="Calibri"/>
              </a:rPr>
              <a:t>некоторые ученики выбирают «плохое» поведение, чтобы получить особое внимание учителя. Они все время хотят быть в центре внимания, не давая учителю вести урок, а ребятам — понимать учи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ласть — </a:t>
            </a:r>
            <a:r>
              <a:rPr b="0" lang="ru-RU" sz="1200" spc="-1" strike="noStrike">
                <a:solidFill>
                  <a:srgbClr val="000000"/>
                </a:solidFill>
                <a:latin typeface="Calibri"/>
              </a:rPr>
              <a:t>некоторые ученики «плохо» ведут себя, потому что для них важно быть главными. Они пытаются установить свою власть над учителем, над всем классом. Своим поведением они фактически говорят: «Ты мне ничего не сделаешь» — и разрушают тем самым установленный в классе поряд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Месть </a:t>
            </a:r>
            <a:r>
              <a:rPr b="0" lang="ru-RU" sz="1200" spc="-1" strike="noStrike">
                <a:solidFill>
                  <a:srgbClr val="000000"/>
                </a:solidFill>
                <a:latin typeface="Calibri"/>
              </a:rPr>
              <a:t>— для некоторых учеников главной целью их присутствия в классе становится месть за реальную или вымышленную обиду. Мстить они могут как учителю, так и кому-то из ребят или всему ми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Избегание неудачи — </a:t>
            </a:r>
            <a:r>
              <a:rPr b="0" lang="ru-RU" sz="1200" spc="-1" strike="noStrike">
                <a:solidFill>
                  <a:srgbClr val="000000"/>
                </a:solidFill>
                <a:latin typeface="Calibri"/>
              </a:rPr>
              <a:t>некоторые ученики так боятся повторить свое поражение, неудачу, что предпочитают ничего не делать. Им кажется, что они не удовлетворяют требованиям учителей, родителей или своим собственным чрезмерно завышенным требованиям. Они мечтают, чтобы все оставили их в покое, и оказываются в изоляции, неприступные и «непробиваемые» никакими методическими ухищрениями педагог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ю необходимо знать истинный мотив «плохого» поведения ученика, чтобы правильно строить свое собственное поведение. </a:t>
            </a:r>
            <a:endParaRPr b="0" lang="en-US" sz="1200" spc="-1" strike="noStrike">
              <a:solidFill>
                <a:srgbClr val="000000"/>
              </a:solidFill>
              <a:latin typeface="Calibri"/>
            </a:endParaRPr>
          </a:p>
        </p:txBody>
      </p:sp>
      <p:sp>
        <p:nvSpPr>
          <p:cNvPr id="2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819D-6CCD-4230-8BC7-32FB553E664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3.  Выбор техники педагогического вмешательства для экстренного прекращения «выходки» на уро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ирая то или иное педагогическое вмешательство помните, что смысл истинного педагогического воздействия не наказание. Педагогическое воздействие преследует две цели - остановить неприемлемое поведение в тот момент, когда оно имеет место, и повлиять на выбор учеником более приемлемого поведения в буду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AAD7-4230-42F3-A967-93B77BE3CE0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дагогическое воздействие должно быть «Быстрым» -но не значит импульсивным, спонтанным. Это ни в коем случае не должна быть агрессивная реакция. Она просто должна остановить проступок здесь и сейча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ым» - т.е. учитывающим истинную цель «плохого» поведения ребенка. Например, техника отсроченного реагирования подходит ученикам, ищущим власти, но не подходит ученикам, боящимся неуда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ще одно свойство педагогического воздействия - оно должно быть неминуемым, обязательным, неизбежным. Это означает, что учитель должен выдавать подходящую реакцию каждый раз, когда ученик совершает проступ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9C7B-5A4A-4324-AA1A-ABEA97B5E17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BD412-9F50-4DB2-9B74-5D27152E7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18E34-54B5-4086-9F9B-DBF7025BD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11AC1-4216-442D-AD10-2F7A9455D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E61AF-1BCF-4ECB-A8C3-FB79FB3CB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A9119-C578-48DB-9F0E-98C6795E2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12033-2BC2-4E40-9B3C-623466331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9491A-CF38-421F-9D34-AC057EE8D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156BC-F671-4E6C-9B9E-1575050D8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07F66-80FA-4EFF-AA33-5D4F67C47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BDE0E-495F-4F06-BAEB-CA2746BC7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49B87-EEC1-49C8-A3F2-17CDDE096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FE4F6-3367-44FF-8E71-0548F439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06ADB-E46A-45D9-83C4-E0B101FF3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0B2AB-5BC6-4D6B-84A2-D5105C078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5CD9B-69B4-4D87-A149-88C1F6C7E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102C1-E189-4AA1-AD79-1E126F86A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76A2E-AF1C-413A-84DB-B42CEC181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F9D210-FDC9-4D8E-9FAA-ED9D0B7B61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595360-10E8-47E3-B8E2-6763436CF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F0F03-E367-4132-AE1F-570BBEF11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A5798A-6313-4478-AD54-4C3A2A163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D4EA6B-3721-4A4C-85AC-120C838C08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A414-37FD-4C82-B00C-41AE5E0BA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F74D85-6A7A-4550-873D-411CF9036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7DA36-91E2-4B16-841F-9FE0A2277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9DA4E-EBF7-4A45-A2D6-777F9CD71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521CE-56AD-4EE7-83DA-6F7416741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5C9F68-5977-4987-AD4A-D26678965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461596-B96F-4E5D-B6C1-A327623D6C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6616BF-9FA6-4427-8E22-BA4BECFBB2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DFE53C-CD38-4750-8ED0-6EE13B372A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D5494-E3D8-4D7E-B504-0391E8D661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F3F2A-951D-4480-BF79-0BAF6EDAE1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4324-A4C4-48FE-BDDA-D7CAF237E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966A3A-C36B-4343-ACE0-1553C309D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C9EEC-1A0A-4F03-91DF-CBF0BEB1E5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3D9AB-D8D3-4782-ABC5-8A42F3C9D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72CAD-D04F-464F-BB6A-4FEB1AF65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A480A-EE07-4203-9735-18623B046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FF4FC-5B80-409A-88F9-86894A071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A3C8A-68FC-405B-8B70-FFC8F1ACB2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406079-DADE-4F0B-9928-7162EBF604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9A3DC-F888-4152-8BDD-A0CBBAD02C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E725A-252A-4021-9F5E-363FF5D44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64FCE-CE39-4137-8840-91414338E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F753A-2886-4C8D-99C1-B5F2F3DA9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1BCF-391D-4AC3-9251-11891AEFB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FE194-2C5C-4EE6-B9CB-0206DAF9D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7521-D25E-4A7D-A236-BE29FFC027E7}"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Лукяненко Э.А., педагог-психолог МКОУ СОШ № 256 ГО ЗАТО г.Фокино Приморского края</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0D8A-B851-4A3B-BF6A-F73D09B0EE2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C5BE-8B00-44E0-93B3-6943D2D6E10F}"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Лукяненко Э.А., педагог-психолог МКОУ СОШ № 256 ГО ЗАТО г.Фокино Приморского края</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C52F-9991-4B1D-AAA7-59379618240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F932-CADA-451E-AFEE-48787D845D12}"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Лукяненко Э.А., педагог-психолог МКОУ СОШ № 256 ГО ЗАТО г.Фокино Приморского края</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5AA1-31D6-4CDF-9297-2A7A784481D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3F00-E568-46E7-A01C-EF476E5CC886}"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Лукяненко Э.А., педагог-психолог МКОУ СОШ № 256 ГО ЗАТО г.Фокино Приморского края</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42B1-880D-426A-91B6-1612C978597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603360" y="219240"/>
            <a:ext cx="7864200" cy="2371680"/>
          </a:xfrm>
          <a:prstGeom prst="rect">
            <a:avLst/>
          </a:prstGeom>
          <a:ln w="0">
            <a:noFill/>
          </a:ln>
        </p:spPr>
      </p:pic>
      <p:sp>
        <p:nvSpPr>
          <p:cNvPr id="203" name="Нижний колонтитул 3"/>
          <p:cNvSpPr/>
          <p:nvPr/>
        </p:nvSpPr>
        <p:spPr>
          <a:xfrm>
            <a:off x="533520" y="6356520"/>
            <a:ext cx="830556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5" descr="http://www.mamina-shkola.ru/wp-content/uploads/2011/09/redheadedgirl.jpg"/>
          <p:cNvPicPr/>
          <p:nvPr/>
        </p:nvPicPr>
        <p:blipFill>
          <a:blip r:embed="rId2"/>
          <a:stretch/>
        </p:blipFill>
        <p:spPr>
          <a:xfrm>
            <a:off x="4572000" y="2590920"/>
            <a:ext cx="407664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3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f6fc6"/>
                </a:solidFill>
                <a:latin typeface="Calibri"/>
              </a:rPr>
              <a:t>Шаг № 4. Разработка стратегии поддержки ученика для повышения его самоуважения</a:t>
            </a:r>
            <a:br>
              <a:rPr sz="4000"/>
            </a:br>
            <a:endParaRPr b="0" lang="en-US" sz="4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2000"/>
          </a:bodyPr>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амоуважение школьника формируется, когда он: </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щущает свою состоятельность в учебной деятельности (интеллектуальную состоятельность) или хотя бы не ощущает интеллектуальной несостоятельности; </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троит и поддерживает приемлемые отношения с учителем и одноклассниками (коммуникативная состоятельность) или имеет хотя бы какие-то отношения; </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носит свой особый вклад в жизнь класса и школы.</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23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f6fc6"/>
                </a:solidFill>
                <a:latin typeface="Calibri"/>
              </a:rPr>
              <a:t>Шаг № 5. Включение родителей и коллег-педагогов в реализацию школьного плана действий</a:t>
            </a:r>
            <a:br>
              <a:rPr sz="4000"/>
            </a:br>
            <a:endParaRPr b="0" lang="en-US" sz="4000" spc="-1" strike="noStrike">
              <a:solidFill>
                <a:srgbClr val="04617b"/>
              </a:solidFill>
              <a:latin typeface="Calibri"/>
            </a:endParaRPr>
          </a:p>
        </p:txBody>
      </p:sp>
      <p:sp>
        <p:nvSpPr>
          <p:cNvPr id="229" name=""/>
          <p:cNvSpPr txBox="1"/>
          <p:nvPr/>
        </p:nvSpPr>
        <p:spPr>
          <a:xfrm>
            <a:off x="0" y="1934640"/>
            <a:ext cx="8686800" cy="4389480"/>
          </a:xfrm>
          <a:prstGeom prst="rect">
            <a:avLst/>
          </a:prstGeom>
          <a:noFill/>
          <a:ln w="0">
            <a:noFill/>
          </a:ln>
        </p:spPr>
        <p:txBody>
          <a:bodyPr anchor="t">
            <a:normAutofit fontScale="98000"/>
          </a:bodyPr>
          <a:p>
            <a:pPr marL="267120" indent="-26712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00000"/>
                </a:solidFill>
                <a:latin typeface="Constantia"/>
              </a:rPr>
              <a:t>Разработка школьного плана действий для построения конструктивных взаимоотношений с тем или иным учеником не только решает проблемы дисциплины, но также является темой для общения с коллегами и родителями.</a:t>
            </a:r>
            <a:endParaRPr b="0" lang="en-US" sz="3600" spc="-1" strike="noStrike">
              <a:solidFill>
                <a:srgbClr val="000000"/>
              </a:solidFill>
              <a:latin typeface="Constantia"/>
            </a:endParaRPr>
          </a:p>
        </p:txBody>
      </p:sp>
      <p:sp>
        <p:nvSpPr>
          <p:cNvPr id="230" name="Нижний колонтитул 3"/>
          <p:cNvSpPr/>
          <p:nvPr/>
        </p:nvSpPr>
        <p:spPr>
          <a:xfrm>
            <a:off x="533520" y="6324480"/>
            <a:ext cx="8076960" cy="397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f6fc6"/>
                </a:solidFill>
                <a:latin typeface="Monotype Corsiva"/>
              </a:rPr>
              <a:t>Спасибо за внимание!</a:t>
            </a:r>
            <a:endParaRPr b="0" lang="en-US" sz="5000" spc="-1" strike="noStrike">
              <a:solidFill>
                <a:srgbClr val="04617b"/>
              </a:solidFill>
              <a:latin typeface="Calibri"/>
            </a:endParaRPr>
          </a:p>
        </p:txBody>
      </p:sp>
      <p:sp>
        <p:nvSpPr>
          <p:cNvPr id="232" name="Нижний колонтитул 3"/>
          <p:cNvSpPr/>
          <p:nvPr/>
        </p:nvSpPr>
        <p:spPr>
          <a:xfrm>
            <a:off x="762120" y="6324480"/>
            <a:ext cx="7696080" cy="397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676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go.mail.ru/search_images?rch=e&amp;type=all&amp;is=0&amp;q=</a:t>
            </a:r>
            <a:r>
              <a:rPr b="0" lang="ru-RU" sz="2600" spc="-1" strike="noStrike">
                <a:solidFill>
                  <a:srgbClr val="000000"/>
                </a:solidFill>
                <a:latin typeface="Constantia"/>
              </a:rPr>
              <a:t>школа+поведение+картинки#</a:t>
            </a:r>
            <a:r>
              <a:rPr b="0" lang="en-US" sz="2600" spc="-1" strike="noStrike">
                <a:solidFill>
                  <a:srgbClr val="000000"/>
                </a:solidFill>
                <a:latin typeface="Constantia"/>
              </a:rPr>
              <a:t>w=600&amp;h=402&amp;s=135113&amp;pic=http%3A%2F%2Fwww.udivland.ru%2Ffiles%2Fudivland%2FImage%2Ff4_vse.jpg&amp;page=http%3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http://nkozlov.ru/library/psychology/psychology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twirpx.com/file/41150/</a:t>
            </a:r>
            <a:endParaRPr b="0" lang="en-US" sz="2600" spc="-1" strike="noStrike">
              <a:solidFill>
                <a:srgbClr val="000000"/>
              </a:solidFill>
              <a:latin typeface="Constantia"/>
            </a:endParaRPr>
          </a:p>
        </p:txBody>
      </p:sp>
      <p:sp>
        <p:nvSpPr>
          <p:cNvPr id="234" name="Нижний колонтитул 3"/>
          <p:cNvSpPr/>
          <p:nvPr/>
        </p:nvSpPr>
        <p:spPr>
          <a:xfrm>
            <a:off x="533520" y="6324480"/>
            <a:ext cx="8153280" cy="397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Лукяненко Э.А., педагог-психолог МКОУ СОШ № 256 ГО ЗАТО г.Фокино Приморского кра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1980720"/>
            <a:ext cx="876312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f6fc6"/>
                </a:solidFill>
                <a:latin typeface="Calibri"/>
              </a:rPr>
              <a:t>Три подхода к </a:t>
            </a:r>
            <a:br>
              <a:rPr sz="5000"/>
            </a:br>
            <a:r>
              <a:rPr b="1" lang="ru-RU" sz="5000" spc="-1" strike="noStrike">
                <a:solidFill>
                  <a:srgbClr val="0f6fc6"/>
                </a:solidFill>
                <a:latin typeface="Calibri"/>
              </a:rPr>
              <a:t>«философии</a:t>
            </a:r>
            <a:r>
              <a:rPr b="1" lang="ru-RU" sz="5000" spc="-1" strike="noStrike">
                <a:solidFill>
                  <a:srgbClr val="0f6fc6"/>
                </a:solidFill>
                <a:latin typeface="Arial"/>
              </a:rPr>
              <a:t> </a:t>
            </a:r>
            <a:r>
              <a:rPr b="1" lang="ru-RU" sz="5000" spc="-1" strike="noStrike">
                <a:solidFill>
                  <a:srgbClr val="0f6fc6"/>
                </a:solidFill>
                <a:latin typeface="Calibri"/>
              </a:rPr>
              <a:t>дисциплины»: </a:t>
            </a:r>
            <a:endParaRPr b="0" lang="en-US" sz="5000" spc="-1" strike="noStrike">
              <a:solidFill>
                <a:srgbClr val="04617b"/>
              </a:solidFill>
              <a:latin typeface="Calibri"/>
            </a:endParaRPr>
          </a:p>
        </p:txBody>
      </p:sp>
      <p:sp>
        <p:nvSpPr>
          <p:cNvPr id="206" name=""/>
          <p:cNvSpPr txBox="1"/>
          <p:nvPr/>
        </p:nvSpPr>
        <p:spPr>
          <a:xfrm>
            <a:off x="457200" y="2666520"/>
            <a:ext cx="8153280" cy="3627720"/>
          </a:xfrm>
          <a:prstGeom prst="rect">
            <a:avLst/>
          </a:prstGeom>
          <a:noFill/>
          <a:ln w="0">
            <a:noFill/>
          </a:ln>
        </p:spPr>
        <p:txBody>
          <a:bodyPr anchor="t">
            <a:normAutofit fontScale="98000"/>
          </a:bodyPr>
          <a:p>
            <a:pPr marL="267120" indent="-26712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onstantia"/>
              </a:rPr>
              <a:t>«Руки прочь»;</a:t>
            </a:r>
            <a:endParaRPr b="0" lang="en-US" sz="5400" spc="-1" strike="noStrike">
              <a:solidFill>
                <a:srgbClr val="000000"/>
              </a:solidFill>
              <a:latin typeface="Constantia"/>
            </a:endParaRPr>
          </a:p>
          <a:p>
            <a:pPr marL="267120" indent="-26712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onstantia"/>
              </a:rPr>
              <a:t>«Твердая рука»;</a:t>
            </a:r>
            <a:endParaRPr b="0" lang="en-US" sz="5400" spc="-1" strike="noStrike">
              <a:solidFill>
                <a:srgbClr val="000000"/>
              </a:solidFill>
              <a:latin typeface="Constantia"/>
            </a:endParaRPr>
          </a:p>
          <a:p>
            <a:pPr marL="267120" indent="-26712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onstantia"/>
              </a:rPr>
              <a:t>«Возьмемся за руки».</a:t>
            </a:r>
            <a:endParaRPr b="0" lang="en-US" sz="5400" spc="-1" strike="noStrike">
              <a:solidFill>
                <a:srgbClr val="000000"/>
              </a:solidFill>
              <a:latin typeface="Constantia"/>
            </a:endParaRPr>
          </a:p>
          <a:p>
            <a:pPr marL="267120" indent="-26712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06">
                                            <p:txEl>
                                              <p:pRg st="0" end="0"/>
                                            </p:txEl>
                                          </p:spTgt>
                                        </p:tgtEl>
                                        <p:attrNameLst>
                                          <p:attrName>style.visibility</p:attrName>
                                        </p:attrNameLst>
                                      </p:cBhvr>
                                      <p:to>
                                        <p:strVal val="visible"/>
                                      </p:to>
                                    </p:set>
                                    <p:anim calcmode="lin" valueType="num">
                                      <p:cBhvr additive="base">
                                        <p:cTn id="7" dur="1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6">
                                            <p:txEl>
                                              <p:pRg st="1" end="1"/>
                                            </p:txEl>
                                          </p:spTgt>
                                        </p:tgtEl>
                                        <p:attrNameLst>
                                          <p:attrName>style.visibility</p:attrName>
                                        </p:attrNameLst>
                                      </p:cBhvr>
                                      <p:to>
                                        <p:strVal val="visible"/>
                                      </p:to>
                                    </p:set>
                                    <p:anim calcmode="lin" valueType="num">
                                      <p:cBhvr additive="base">
                                        <p:cTn id="13" dur="10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6">
                                            <p:txEl>
                                              <p:pRg st="2" end="2"/>
                                            </p:txEl>
                                          </p:spTgt>
                                        </p:tgtEl>
                                        <p:attrNameLst>
                                          <p:attrName>style.visibility</p:attrName>
                                        </p:attrNameLst>
                                      </p:cBhvr>
                                      <p:to>
                                        <p:strVal val="visible"/>
                                      </p:to>
                                    </p:set>
                                    <p:anim calcmode="lin" valueType="num">
                                      <p:cBhvr additive="base">
                                        <p:cTn id="19" dur="10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599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f6fc6"/>
                </a:solidFill>
                <a:latin typeface="Calibri"/>
              </a:rPr>
              <a:t>Чтобы грамотно строить конструктивное взаимодействие с нарушителем дисциплины, необходимо:</a:t>
            </a:r>
            <a:br>
              <a:rPr sz="3200"/>
            </a:b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спознать истинный мотив проступка.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 соответствии с ним выбрать способ, чтобы немедленно вмешаться в ситуацию и прекратить выходку.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зработать стратегию своего поведения, которая привела бы к постепенному снижению числа подобных проступков у этого ученика в будущем. </a:t>
            </a:r>
            <a:endParaRPr b="0" lang="en-US" sz="26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Нижний колонтитул 3"/>
          <p:cNvSpPr/>
          <p:nvPr/>
        </p:nvSpPr>
        <p:spPr>
          <a:xfrm>
            <a:off x="304920" y="6095880"/>
            <a:ext cx="8534160" cy="5940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08">
                                            <p:txEl>
                                              <p:pRg st="0" end="0"/>
                                            </p:txEl>
                                          </p:spTgt>
                                        </p:tgtEl>
                                        <p:attrNameLst>
                                          <p:attrName>style.visibility</p:attrName>
                                        </p:attrNameLst>
                                      </p:cBhvr>
                                      <p:to>
                                        <p:strVal val="visible"/>
                                      </p:to>
                                    </p:set>
                                    <p:anim calcmode="lin" valueType="num">
                                      <p:cBhvr additive="base">
                                        <p:cTn id="27" dur="2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28" dur="20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par>
                          <p:cTn id="29" fill="hold">
                            <p:stCondLst>
                              <p:cond delay="2000"/>
                            </p:stCondLst>
                            <p:childTnLst>
                              <p:par>
                                <p:cTn id="30" nodeType="afterEffect" fill="hold" presetClass="entr" presetID="2" presetSubtype="4">
                                  <p:stCondLst>
                                    <p:cond delay="0"/>
                                  </p:stCondLst>
                                  <p:childTnLst>
                                    <p:set>
                                      <p:cBhvr>
                                        <p:cTn id="31" dur="1" fill="hold">
                                          <p:stCondLst>
                                            <p:cond delay="0"/>
                                          </p:stCondLst>
                                        </p:cTn>
                                        <p:tgtEl>
                                          <p:spTgt spid="208">
                                            <p:txEl>
                                              <p:pRg st="1" end="1"/>
                                            </p:txEl>
                                          </p:spTgt>
                                        </p:tgtEl>
                                        <p:attrNameLst>
                                          <p:attrName>style.visibility</p:attrName>
                                        </p:attrNameLst>
                                      </p:cBhvr>
                                      <p:to>
                                        <p:strVal val="visible"/>
                                      </p:to>
                                    </p:set>
                                    <p:anim calcmode="lin" valueType="num">
                                      <p:cBhvr additive="base">
                                        <p:cTn id="32" dur="2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par>
                          <p:cTn id="34" fill="hold">
                            <p:stCondLst>
                              <p:cond delay="4000"/>
                            </p:stCondLst>
                            <p:childTnLst>
                              <p:par>
                                <p:cTn id="35" nodeType="afterEffect" fill="hold" presetClass="entr" presetID="2" presetSubtype="4">
                                  <p:stCondLst>
                                    <p:cond delay="0"/>
                                  </p:stCondLst>
                                  <p:childTnLst>
                                    <p:set>
                                      <p:cBhvr>
                                        <p:cTn id="36" dur="1" fill="hold">
                                          <p:stCondLst>
                                            <p:cond delay="0"/>
                                          </p:stCondLst>
                                        </p:cTn>
                                        <p:tgtEl>
                                          <p:spTgt spid="208">
                                            <p:txEl>
                                              <p:pRg st="2" end="2"/>
                                            </p:txEl>
                                          </p:spTgt>
                                        </p:tgtEl>
                                        <p:attrNameLst>
                                          <p:attrName>style.visibility</p:attrName>
                                        </p:attrNameLst>
                                      </p:cBhvr>
                                      <p:to>
                                        <p:strVal val="visible"/>
                                      </p:to>
                                    </p:set>
                                    <p:anim calcmode="lin" valueType="num">
                                      <p:cBhvr additive="base">
                                        <p:cTn id="37" dur="2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42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f6fc6"/>
                </a:solidFill>
                <a:latin typeface="Calibri"/>
              </a:rPr>
              <a:t>Три основных закона поведения</a:t>
            </a:r>
            <a:br>
              <a:rPr sz="5000"/>
            </a:br>
            <a:endParaRPr b="0" lang="en-US" sz="5000" spc="-1" strike="noStrike">
              <a:solidFill>
                <a:srgbClr val="04617b"/>
              </a:solidFill>
              <a:latin typeface="Calibri"/>
            </a:endParaRPr>
          </a:p>
        </p:txBody>
      </p:sp>
      <p:sp>
        <p:nvSpPr>
          <p:cNvPr id="211" name=""/>
          <p:cNvSpPr txBox="1"/>
          <p:nvPr/>
        </p:nvSpPr>
        <p:spPr>
          <a:xfrm>
            <a:off x="228240" y="1371240"/>
            <a:ext cx="8915400" cy="4389480"/>
          </a:xfrm>
          <a:prstGeom prst="rect">
            <a:avLst/>
          </a:prstGeom>
          <a:noFill/>
          <a:ln w="0">
            <a:noFill/>
          </a:ln>
        </p:spPr>
        <p:txBody>
          <a:bodyPr anchor="t">
            <a:normAutofit fontScale="83000"/>
          </a:bodyPr>
          <a:p>
            <a:pPr marL="226440" indent="-22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1-й закон:</a:t>
            </a:r>
            <a:r>
              <a:rPr b="0" lang="ru-RU" sz="2600" spc="-1" strike="noStrike">
                <a:solidFill>
                  <a:srgbClr val="000000"/>
                </a:solidFill>
                <a:latin typeface="Constantia"/>
              </a:rPr>
              <a:t> Ученики </a:t>
            </a:r>
            <a:r>
              <a:rPr b="0" i="1" lang="ru-RU" sz="2600" spc="-1" strike="noStrike">
                <a:solidFill>
                  <a:srgbClr val="000000"/>
                </a:solidFill>
                <a:latin typeface="Constantia"/>
              </a:rPr>
              <a:t>выбирают </a:t>
            </a:r>
            <a:r>
              <a:rPr b="0" lang="ru-RU" sz="2600" spc="-1" strike="noStrike">
                <a:solidFill>
                  <a:srgbClr val="000000"/>
                </a:solidFill>
                <a:latin typeface="Constantia"/>
              </a:rPr>
              <a:t>определенное поведение в определенных обстоятельствах.</a:t>
            </a:r>
            <a:endParaRPr b="0" lang="en-US" sz="2600" spc="-1" strike="noStrike">
              <a:solidFill>
                <a:srgbClr val="000000"/>
              </a:solidFill>
              <a:latin typeface="Constantia"/>
            </a:endParaRPr>
          </a:p>
          <a:p>
            <a:pPr marL="226440" indent="-22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2-й закон:</a:t>
            </a:r>
            <a:r>
              <a:rPr b="0" lang="ru-RU" sz="2600" spc="-1" strike="noStrike">
                <a:solidFill>
                  <a:srgbClr val="000000"/>
                </a:solidFill>
                <a:latin typeface="Constantia"/>
              </a:rPr>
              <a:t> Любое поведение учеников подчинено общей цели — чувствовать себя принадлежащими к школьной жизни.</a:t>
            </a:r>
            <a:endParaRPr b="0" lang="en-US" sz="2600" spc="-1" strike="noStrike">
              <a:solidFill>
                <a:srgbClr val="000000"/>
              </a:solidFill>
              <a:latin typeface="Constantia"/>
            </a:endParaRPr>
          </a:p>
          <a:p>
            <a:pPr marL="226440" indent="-22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3-й закон:</a:t>
            </a:r>
            <a:r>
              <a:rPr b="0" lang="ru-RU" sz="2600" spc="-1" strike="noStrike">
                <a:solidFill>
                  <a:srgbClr val="000000"/>
                </a:solidFill>
                <a:latin typeface="Constantia"/>
              </a:rPr>
              <a:t> Нарушая дисциплину, ученик осознает, что ведет себя неправильно, но может не осознавать, что за этим нарушением стоит одна из четырех целей:</a:t>
            </a:r>
            <a:endParaRPr b="0" lang="en-US" sz="2600" spc="-1" strike="noStrike">
              <a:solidFill>
                <a:srgbClr val="000000"/>
              </a:solidFill>
              <a:latin typeface="Constantia"/>
            </a:endParaRPr>
          </a:p>
          <a:p>
            <a:pPr marL="226440" indent="-226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ивлечение внимания </a:t>
            </a:r>
            <a:endParaRPr b="0" lang="en-US" sz="2400" spc="-1" strike="noStrike">
              <a:solidFill>
                <a:srgbClr val="000000"/>
              </a:solidFill>
              <a:latin typeface="Constantia"/>
            </a:endParaRPr>
          </a:p>
          <a:p>
            <a:pPr marL="226440" indent="-226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ласть </a:t>
            </a:r>
            <a:endParaRPr b="0" lang="en-US" sz="2400" spc="-1" strike="noStrike">
              <a:solidFill>
                <a:srgbClr val="000000"/>
              </a:solidFill>
              <a:latin typeface="Constantia"/>
            </a:endParaRPr>
          </a:p>
          <a:p>
            <a:pPr marL="226440" indent="-226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месть </a:t>
            </a:r>
            <a:endParaRPr b="0" lang="en-US" sz="24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збегание неудачи.</a:t>
            </a:r>
            <a:r>
              <a:rPr b="0" lang="ru-RU" sz="2600" spc="-1" strike="noStrike">
                <a:solidFill>
                  <a:srgbClr val="000000"/>
                </a:solidFill>
                <a:latin typeface="Constantia"/>
              </a:rPr>
              <a:t> </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Нижний колонтитул 3"/>
          <p:cNvSpPr/>
          <p:nvPr/>
        </p:nvSpPr>
        <p:spPr>
          <a:xfrm>
            <a:off x="609480" y="6537240"/>
            <a:ext cx="8077320" cy="3207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f6fc6"/>
                </a:solidFill>
                <a:latin typeface="Calibri"/>
              </a:rPr>
              <a:t>Школьный план действий</a:t>
            </a:r>
            <a:br>
              <a:rPr sz="5000"/>
            </a:br>
            <a:endParaRPr b="0" lang="en-US" sz="5000" spc="-1" strike="noStrike">
              <a:solidFill>
                <a:srgbClr val="04617b"/>
              </a:solidFill>
              <a:latin typeface="Calibri"/>
            </a:endParaRPr>
          </a:p>
        </p:txBody>
      </p:sp>
      <p:sp>
        <p:nvSpPr>
          <p:cNvPr id="214" name=""/>
          <p:cNvSpPr txBox="1"/>
          <p:nvPr/>
        </p:nvSpPr>
        <p:spPr>
          <a:xfrm>
            <a:off x="380520" y="1371240"/>
            <a:ext cx="8458200" cy="4389480"/>
          </a:xfrm>
          <a:prstGeom prst="rect">
            <a:avLst/>
          </a:prstGeom>
          <a:noFill/>
          <a:ln w="0">
            <a:noFill/>
          </a:ln>
        </p:spPr>
        <p:txBody>
          <a:bodyPr anchor="t">
            <a:normAutofit fontScale="87000"/>
          </a:bodyPr>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1. Объективное описание поведения ребенка.</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2. Понимание мотива «плохого» поведения.</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3. Выбор техники педагогического вмешательства для экстренного прекращения «выходки» на уроке. </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4. Разработка стратегии и тактики поддержки ученика.</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для повышения его самоуважения.</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5. Включение родителей и коллег-педагогов в реализацию конкретного школьного плана действий. </a:t>
            </a: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Нижний колонтитул 3"/>
          <p:cNvSpPr/>
          <p:nvPr/>
        </p:nvSpPr>
        <p:spPr>
          <a:xfrm>
            <a:off x="609480" y="6400800"/>
            <a:ext cx="8001000" cy="3207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f6fc6"/>
                </a:solidFill>
                <a:latin typeface="Calibri"/>
              </a:rPr>
              <a:t>Шаг № 1. Объективное описание поведения ребенка</a:t>
            </a:r>
            <a:endParaRPr b="0" lang="en-US" sz="4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Это означает умение:</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бирать и точно формулировать факты.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збегать субъективных оценок.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ставлять конкретные, а не общие описания того где, когда, как часто и что конкретно делал ученик. Слова «всегда», «никогда», «ничего», «все время» не могут фигурировать в объективном описании поведения.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f6fc6"/>
                </a:solidFill>
                <a:latin typeface="Calibri"/>
              </a:rPr>
              <a:t>Шаг № 2. Понимание мотива «плохого» поведения</a:t>
            </a:r>
            <a:endParaRPr b="0" lang="en-US" sz="4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Нарушая дисциплину, ученик может не осознавать   что за этим нарушением стоит одна из четырех целей:</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ривлечение внимания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ласт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мест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збегание неудачи </a:t>
            </a:r>
            <a:endParaRPr b="0" lang="en-US" sz="2600" spc="-1" strike="noStrike">
              <a:solidFill>
                <a:srgbClr val="000000"/>
              </a:solidFill>
              <a:latin typeface="Constantia"/>
            </a:endParaRPr>
          </a:p>
        </p:txBody>
      </p:sp>
      <p:sp>
        <p:nvSpPr>
          <p:cNvPr id="220" name="Нижний колонтитул 3"/>
          <p:cNvSpPr/>
          <p:nvPr/>
        </p:nvSpPr>
        <p:spPr>
          <a:xfrm>
            <a:off x="304920" y="6324480"/>
            <a:ext cx="8458200" cy="397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1" end="1"/>
                                            </p:txEl>
                                          </p:spTgt>
                                        </p:tgtEl>
                                        <p:attrNameLst>
                                          <p:attrName>style.visibility</p:attrName>
                                        </p:attrNameLst>
                                      </p:cBhvr>
                                      <p:to>
                                        <p:strVal val="visible"/>
                                      </p:to>
                                    </p:set>
                                    <p:anim calcmode="lin" valueType="num">
                                      <p:cBhvr additive="base">
                                        <p:cTn id="45"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46" dur="10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9">
                                            <p:txEl>
                                              <p:pRg st="2" end="2"/>
                                            </p:txEl>
                                          </p:spTgt>
                                        </p:tgtEl>
                                        <p:attrNameLst>
                                          <p:attrName>style.visibility</p:attrName>
                                        </p:attrNameLst>
                                      </p:cBhvr>
                                      <p:to>
                                        <p:strVal val="visible"/>
                                      </p:to>
                                    </p:set>
                                    <p:anim calcmode="lin" valueType="num">
                                      <p:cBhvr additive="base">
                                        <p:cTn id="51"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52" dur="10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9">
                                            <p:txEl>
                                              <p:pRg st="3" end="3"/>
                                            </p:txEl>
                                          </p:spTgt>
                                        </p:tgtEl>
                                        <p:attrNameLst>
                                          <p:attrName>style.visibility</p:attrName>
                                        </p:attrNameLst>
                                      </p:cBhvr>
                                      <p:to>
                                        <p:strVal val="visible"/>
                                      </p:to>
                                    </p:set>
                                    <p:anim calcmode="lin" valueType="num">
                                      <p:cBhvr additive="base">
                                        <p:cTn id="5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58" dur="10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9">
                                            <p:txEl>
                                              <p:pRg st="4" end="4"/>
                                            </p:txEl>
                                          </p:spTgt>
                                        </p:tgtEl>
                                        <p:attrNameLst>
                                          <p:attrName>style.visibility</p:attrName>
                                        </p:attrNameLst>
                                      </p:cBhvr>
                                      <p:to>
                                        <p:strVal val="visible"/>
                                      </p:to>
                                    </p:set>
                                    <p:anim calcmode="lin" valueType="num">
                                      <p:cBhvr additive="base">
                                        <p:cTn id="63"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64" dur="10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361960"/>
            <a:ext cx="8686800" cy="323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f6fc6"/>
                </a:solidFill>
                <a:latin typeface="Calibri"/>
              </a:rPr>
              <a:t>Шаг № 3.  Выбор техники педагогического вмешательства для экстренного прекращения «выходки» на уроке</a:t>
            </a:r>
            <a:br>
              <a:rPr sz="3600"/>
            </a:br>
            <a:endParaRPr b="0" lang="en-US" sz="3600" spc="-1" strike="noStrike">
              <a:solidFill>
                <a:srgbClr val="04617b"/>
              </a:solidFill>
              <a:latin typeface="Calibri"/>
            </a:endParaRPr>
          </a:p>
        </p:txBody>
      </p:sp>
      <p:sp>
        <p:nvSpPr>
          <p:cNvPr id="222" name=""/>
          <p:cNvSpPr txBox="1"/>
          <p:nvPr/>
        </p:nvSpPr>
        <p:spPr>
          <a:xfrm>
            <a:off x="-360" y="2209320"/>
            <a:ext cx="8839080" cy="4389480"/>
          </a:xfrm>
          <a:prstGeom prst="rect">
            <a:avLst/>
          </a:prstGeom>
          <a:noFill/>
          <a:ln w="0">
            <a:noFill/>
          </a:ln>
        </p:spPr>
        <p:txBody>
          <a:bodyPr anchor="t">
            <a:normAutofit/>
          </a:bodyPr>
          <a:p>
            <a:pPr marL="272880" indent="-2728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00000"/>
                </a:solidFill>
                <a:latin typeface="Constantia"/>
              </a:rPr>
              <a:t>Педагогическое воздействие преследует две цели - остановить неприемлемое поведение в тот момент, когда оно имеет место, и повлиять на выбор учеником более приемлемого поведения в будущем.</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70c0"/>
                </a:solidFill>
                <a:latin typeface="Calibri"/>
              </a:rPr>
              <a:t>Свойства педагогического воздействия</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Педагогическое воздействие должно быть:</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Быстрым;</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Верным;</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Неминуемым, обязательным.</a:t>
            </a:r>
            <a:endParaRPr b="0" lang="en-US" sz="4000" spc="-1" strike="noStrike">
              <a:solidFill>
                <a:srgbClr val="000000"/>
              </a:solidFill>
              <a:latin typeface="Constantia"/>
            </a:endParaRPr>
          </a:p>
        </p:txBody>
      </p:sp>
      <p:sp>
        <p:nvSpPr>
          <p:cNvPr id="225" name="Нижний колонтитул 3"/>
          <p:cNvSpPr/>
          <p:nvPr/>
        </p:nvSpPr>
        <p:spPr>
          <a:xfrm>
            <a:off x="304920" y="6477120"/>
            <a:ext cx="8458200" cy="244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4">
                                            <p:txEl>
                                              <p:pRg st="1" end="1"/>
                                            </p:txEl>
                                          </p:spTgt>
                                        </p:tgtEl>
                                        <p:attrNameLst>
                                          <p:attrName>style.visibility</p:attrName>
                                        </p:attrNameLst>
                                      </p:cBhvr>
                                      <p:to>
                                        <p:strVal val="visible"/>
                                      </p:to>
                                    </p:set>
                                    <p:anim calcmode="lin" valueType="num">
                                      <p:cBhvr additive="base">
                                        <p:cTn id="71" dur="2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4">
                                            <p:txEl>
                                              <p:pRg st="2" end="2"/>
                                            </p:txEl>
                                          </p:spTgt>
                                        </p:tgtEl>
                                        <p:attrNameLst>
                                          <p:attrName>style.visibility</p:attrName>
                                        </p:attrNameLst>
                                      </p:cBhvr>
                                      <p:to>
                                        <p:strVal val="visible"/>
                                      </p:to>
                                    </p:set>
                                    <p:anim calcmode="lin" valueType="num">
                                      <p:cBhvr additive="base">
                                        <p:cTn id="77"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78"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4">
                                            <p:txEl>
                                              <p:pRg st="3" end="3"/>
                                            </p:txEl>
                                          </p:spTgt>
                                        </p:tgtEl>
                                        <p:attrNameLst>
                                          <p:attrName>style.visibility</p:attrName>
                                        </p:attrNameLst>
                                      </p:cBhvr>
                                      <p:to>
                                        <p:strVal val="visible"/>
                                      </p:to>
                                    </p:set>
                                    <p:anim calcmode="lin" valueType="num">
                                      <p:cBhvr additive="base">
                                        <p:cTn id="83"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4"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23:37:44Z</dcterms:created>
  <dc:creator>User</dc:creator>
  <dc:description/>
  <dc:language>en-US</dc:language>
  <cp:lastModifiedBy>Марина</cp:lastModifiedBy>
  <dcterms:modified xsi:type="dcterms:W3CDTF">2020-11-13T16:53:34Z</dcterms:modified>
  <cp:revision>27</cp:revision>
  <dc:subject/>
  <dc:title>Учитель и проблемы дисциплины</dc:title>
</cp:coreProperties>
</file>