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CE2-B600-4F16-9AED-254B69AA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2E2-CD67-4789-88DD-9580461B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2E2-7C9A-43A9-867F-CB2DC8B3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9A0-E08E-4BE2-857A-16EB6093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533-B45E-40F0-85FB-4F067AE9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B7C3-94C7-4C04-B69E-A9706FAF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3C3-F762-482B-AF44-DA20D92D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D6B-F1C2-43DB-8BFA-A975876F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369-E935-4DA6-A307-2FF2883F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817-8EC3-4F99-B012-7CD39B48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BE4-D5B2-42A7-9B0A-26F4660A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BE4-6332-4FCB-94A5-0DA68595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8638-2A5B-490A-83A8-5810E76E7D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12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Телекс Siemens T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900000" y="830160"/>
            <a:ext cx="7201080" cy="28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связ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851280" y="6118200"/>
            <a:ext cx="3889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кс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Телекс Siemens T100"/>
          <p:cNvPicPr/>
          <p:nvPr/>
        </p:nvPicPr>
        <p:blipFill>
          <a:blip r:embed="rId1"/>
          <a:stretch/>
        </p:blipFill>
        <p:spPr>
          <a:xfrm>
            <a:off x="4500720" y="1844640"/>
            <a:ext cx="4356000" cy="5013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1844640"/>
            <a:ext cx="446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1930 году была создана конструкция стартстопного телеграфного аппарата, оснащенного дисковым номеронабирателем телефонного типа (телетайп). Этот тип телеграфного аппарата в числе прочего позволял персонифицировать абонентов телеграфной сети и осуществлять быстрое их соедин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́нная по́ч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англ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иб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кр. о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lectronic mai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 способ передачи информации в компьютерных сетях, широко используется в Интернет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63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собенность электронной поч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я отправляется получателю не напрямую, а через промежуточное звено — электронный почтовый ящик, который представляет собой место на сервере, где сообщение хранится, пока его не запросит получат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picture4"/>
          <p:cNvPicPr/>
          <p:nvPr/>
        </p:nvPicPr>
        <p:blipFill>
          <a:blip r:embed="rId1"/>
          <a:stretch/>
        </p:blipFill>
        <p:spPr>
          <a:xfrm>
            <a:off x="6084720" y="4149720"/>
            <a:ext cx="3059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товая связь — один из видов мобильной радиосвязи, в основе которого лежит сотовая се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785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Сотовый телефон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— мобильное коммуникационное устройство, использующее комбинацию радиопередачи и традиционной телефонной коммутации для осуществления телефонной связи на территории (зоны покрытия), состоящей из «сот», окружающих базовые станции сотовой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настоящее время сотовая связь — самая распространённая из всех видов мобильной связи, поэтому обычно мобильным телефоном называют сотовый телефон, хотя мобильными телефонами помимо сотовых являются также радиотелефоны, спутниковые телефоны и аппараты транкингов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роникновение сотовой связи в России составило 87%, а в Москве и Санкт-Петербурге уже достигло рубеж в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Интернет как современное средство связ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ире существует более 130 миллионов компьютеров  и более 80 % из них объединены в различные  информационно-вычислительные  сети от малых локальных  сетей  в  офисах  до  глобальных  сетей  типа 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vantGarde Md BT"/>
              </a:rPr>
              <a:t>Internet - глобальная компьютерная сеть, охватывающая весь ми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редоставляет  уникальные  возможности   дешевой, надежной и конфиденциальной глобальной связи по всему ми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ь – эта отрасль хозяйства, обеспечивающая прием и передачу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48" name="Oval 5"/>
          <p:cNvSpPr/>
          <p:nvPr/>
        </p:nvSpPr>
        <p:spPr>
          <a:xfrm>
            <a:off x="324000" y="2492280"/>
            <a:ext cx="9072360" cy="1081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Bradley Hand ITC"/>
              </a:rPr>
              <a:t>Как вы думаете, чем занимается почтовая связ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тов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арину в России связь между столицей и периферийными городами, а также между войсками, участвовавшими в боевых действиях, осуществлялась с помощью специальных гонцов-всад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способ усовершенствовали татары, создав на дорогах на расстоянии 30 - 40 км. специальные станции ("ямы"), где ямщики могли отдохнуть и поменять лошадей. В XVII веке Москва была соединена такими "ямами" с Новгородом, Псковом, Смоленском, Архангельском и Нижним Нов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регулярная почта для пересылки государственных бумаг и писем торговых людей была учреждена в 1666 г. При Петре I были установлены максимальные сроки (нормы) доставки корреспонден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Екатерине II была введена своеобразная такса на письма и посылки в зависимости от веса и расстояния их перево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IX веке почтовые учреждения были переданы в ведение министерства внутренних дел. Основная функция почт состояла в пересылке простых и заказных писем, открыток (введенных в 1872 г.) и бандеролей. Деньги, в том числе медные, серебряные и золотые монеты, в небольшом количестве можно было пересылать в специальных пакетах и кожаных мешочках. Они, как и ценные посылки, страховал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1897 г. стали принимать почтовые, а затем и телеграфные денежные переводы. Почта брала на себя также доставку периодической печати, взимая за это, в зависимости от частоты издания газет или журналов, от б до 18% общей стоимости подпис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фон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 впервые появился в России в 1880 г. Первоначально правительство планировало установить государственную монополию на устройство телефонной связи. Однако из-за высокой стоимости строительства и эксплуатации телефонных станций к их созданию стали привлекать частный капитал. Согласно заключенным контрактам телефонные станции и линии, построенные за счет частных компаний, через 20 лет эксплуатации переходили в государственную собств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XX века в России действовало 77 государственных и 11 частных телефонных станций. Плата за пользование телефоном в государственном секторе была в два раза ниже, чем в частном. Всего в 1913 г. в российских городах было установлено 300 тыс. телефонных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ппара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диотелевизионная 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XIX века появилась радиосвязь - беспроволочная передача электрических сигналов на большие расстояния с помощью радиово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же появились мощные передатчики и чувствительные приемники, их размеры уменьшались, а параметры улучшали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ыми достижениями в развитии средств связи явились изобретения фототелеграфа и телевизионной связи. С помощью этих средств связи передаются видеосигна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существления телевизионной связи необходимо уже два передатчика: один для звуковых, другой для видеосигн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им шагом совершенствования телевизионных средств связи было изобретение цветного телеви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графная связ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телеграфная линия появилась в России в 1835 г. Она соединила Санкт-Петербург с Кронштадтом и предназначалась для нужд военного ведомства Через четыре года завершилось строительство второй линии, которая соединила северную столицу с Варшавой. С середины 50-х годов там, где строились железные дороги, германская фирма "Сименс" прокладывала телеграф, оборудованный новой электромагнитной техни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началу XX века протяженность государственных телеграфных линий составила 127 тыс. верст. К тому времени были проложены подводные телеграфные кабели, связывающие Россию с Данией и Швецией Российские телеграфные линии были соединены с телеграфными линиями Китая и Японии. Если в 1897 г. было отправлено 14 млн. внутренних телеграмм, то в 1912 г уже свыше 36 мл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грам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сообщение, посланное по телеграфу, одному из первых видов связи, использующему электрическую передачу информации. Телеграммы передаются, как правило, по проводам, с использование азбуки Мор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ммы печатают на бумажной ленте, которую затем наклеивают на лист бумаги с целью удобства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Телеграмма, 13.09.1915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35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79280" y="4292640"/>
            <a:ext cx="61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гра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греч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«далеко»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graph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«пишу») —в современном значении - средство для передачи сигнала по проводам или другим каналам электро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утниковая 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утниковая связь — один из видов радиосвязи, основанный на использовании искусственных спутников земли в качестве ретрансляторов. Спутниковая связь осуществляется между земными станциями, которые могут быть как стационарными, так и подвиж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боненты сети в регионах получат по спутниковому каналу связ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дующие услуг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с, телефон, Интернет, радио и телепрограм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фровая связ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область техники, связанная с передачей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цифровых данны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 расстоя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Изображение:Digital communications p2p link.png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2:59:02Z</dcterms:created>
  <dc:creator>Володенька</dc:creator>
  <dc:description/>
  <dc:language>en-US</dc:language>
  <cp:lastModifiedBy>Елена</cp:lastModifiedBy>
  <dcterms:modified xsi:type="dcterms:W3CDTF">2020-11-13T07:45:03Z</dcterms:modified>
  <cp:revision>8</cp:revision>
  <dc:subject/>
  <dc:title>Слайд 1</dc:title>
</cp:coreProperties>
</file>