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9.wmf" ContentType="image/x-wmf"/>
  <Override PartName="/ppt/media/image8.jpeg" ContentType="image/jpeg"/>
  <Override PartName="/ppt/media/image13.wmf" ContentType="image/x-wmf"/>
  <Override PartName="/ppt/media/image12.wmf" ContentType="image/x-wmf"/>
  <Override PartName="/ppt/media/image7.wmf" ContentType="image/x-wmf"/>
  <Override PartName="/ppt/media/image5.gif" ContentType="image/gif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067-1C59-4B16-B572-4FA4AF2C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E87-CB23-4590-833D-FF804426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2C2-F284-4811-9E1E-C6389633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641-2FFC-40A0-9B0C-292CFDEC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A65E-BE5B-4267-8994-82C6E5B8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DDD7-04DC-431C-8130-5C8E06F4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2964-B7A4-47FB-9D61-185529E2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0818-14DE-4AE8-87EB-401F80FB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0A2B-28EA-44EE-99AC-D8FAF1A7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1B0A-E2C1-4D12-B139-DA1C9A8E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2E78-A435-41CE-9658-E1AD37F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C70-7E50-470B-936A-AC6AB4E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D404-8EAD-4033-9669-E111784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E1F8-52F3-4C22-897A-B98D622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424F-428C-4830-A074-7EF7A3B6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D6E5-4DE9-46F1-BF94-A1BA3ADD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9354-8990-4DC1-B4FA-BA6DE3B9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522-FEB8-438B-9FCD-D503D13E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104-1F6D-406E-A55D-3D930A0C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634-F213-4117-87BD-8591E2F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D13-9634-45D1-BD4A-7B5FA61B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598-CFF6-4F9C-A7FB-217F6643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E50-C2F8-46FF-A3B9-EAF6D4C0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F89-F705-41C2-9EE2-8B9121A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B423-31B3-40D8-A033-5A77EBEE5B7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54524c"/>
                </a:gs>
                <a:gs pos="100000">
                  <a:srgbClr val="2f2d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452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5374-46BE-40BA-9F3B-84627F57B7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image" Target="../media/image5.gi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4.jpeg"/><Relationship Id="rId4" Type="http://schemas.openxmlformats.org/officeDocument/2006/relationships/image" Target="../media/image18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18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037040" y="5970600"/>
            <a:ext cx="18302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 класс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04280" y="40464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Гражданское обществ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Правовое государств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Основные черты гражданского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6000" y="981000"/>
            <a:ext cx="8748720" cy="5543640"/>
          </a:xfrm>
          <a:prstGeom prst="rect">
            <a:avLst/>
          </a:prstGeom>
          <a:solidFill>
            <a:srgbClr val="3333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.Верховенство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.Создание условий для самодеятель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сти граждан в сфере экономики, п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итики, культуре и т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.Деятельность политических орган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заций во  благо всех членов общест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а, в рамках зак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4.Доступность образования, его мн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ообраз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.Наличие сильной «Четвертой вл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и» (С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205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ahoma"/>
              </a:rPr>
              <a:t>1.Сущность правового государств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ahoma"/>
              </a:rPr>
              <a:t>2.Основные черты гражданского обществ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8000" y="814320"/>
            <a:ext cx="2600280" cy="2749680"/>
            <a:chOff x="108000" y="814320"/>
            <a:chExt cx="2600280" cy="2749680"/>
          </a:xfrm>
        </p:grpSpPr>
        <p:sp>
          <p:nvSpPr>
            <p:cNvPr id="160" name=""/>
            <p:cNvSpPr txBox="1"/>
            <p:nvPr/>
          </p:nvSpPr>
          <p:spPr>
            <a:xfrm>
              <a:off x="108000" y="2421000"/>
              <a:ext cx="26002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latin typeface="Impact"/>
                </a:rPr>
                <a:t>Правовое</a:t>
              </a:r>
              <a:endPara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</a:rPr>
                <a:t>государство</a:t>
              </a:r>
              <a:endPara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611280" y="814320"/>
              <a:ext cx="1584360" cy="154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2411280" y="704880"/>
            <a:ext cx="6581520" cy="2654280"/>
            <a:chOff x="2411280" y="704880"/>
            <a:chExt cx="6581520" cy="2654280"/>
          </a:xfrm>
        </p:grpSpPr>
        <p:sp>
          <p:nvSpPr>
            <p:cNvPr id="163" name=""/>
            <p:cNvSpPr/>
            <p:nvPr/>
          </p:nvSpPr>
          <p:spPr>
            <a:xfrm>
              <a:off x="3630600" y="704880"/>
              <a:ext cx="5362200" cy="2654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Это государственная власть, котора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действует на основе и в рамках норм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рава, которые она не может престу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ить, отменить, или ограничить 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ризнает неотчуждаемые, естествен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но-исторические права граждан и и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объ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11280" y="1844640"/>
              <a:ext cx="1008360" cy="504720"/>
            </a:xfrm>
            <a:custGeom>
              <a:avLst/>
              <a:gdLst>
                <a:gd name="textAreaLeft" fmla="*/ 126000 w 1008360"/>
                <a:gd name="textAreaRight" fmla="*/ 882360 w 1008360"/>
                <a:gd name="textAreaTop" fmla="*/ 126000 h 504720"/>
                <a:gd name="textAreaBottom" fmla="*/ 37872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93366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24000" y="3645000"/>
            <a:ext cx="8459640" cy="1008000"/>
          </a:xfrm>
          <a:prstGeom prst="downArrowCallout">
            <a:avLst>
              <a:gd name="adj1" fmla="val -48631"/>
              <a:gd name="adj2" fmla="val 68111"/>
              <a:gd name="adj3" fmla="val 34264"/>
              <a:gd name="adj4" fmla="val 40148"/>
            </a:avLst>
          </a:prstGeom>
          <a:solidFill>
            <a:srgbClr val="9933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703520" y="4869000"/>
            <a:ext cx="6320520" cy="1802520"/>
            <a:chOff x="1703520" y="4869000"/>
            <a:chExt cx="6320520" cy="1802520"/>
          </a:xfrm>
        </p:grpSpPr>
        <p:grpSp>
          <p:nvGrpSpPr>
            <p:cNvPr id="167" name=""/>
            <p:cNvGrpSpPr/>
            <p:nvPr/>
          </p:nvGrpSpPr>
          <p:grpSpPr>
            <a:xfrm>
              <a:off x="1703520" y="4869000"/>
              <a:ext cx="6320520" cy="1802520"/>
              <a:chOff x="1703520" y="4869000"/>
              <a:chExt cx="6320520" cy="18025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703520" y="4897440"/>
                <a:ext cx="1368360" cy="1774080"/>
                <a:chOff x="1703520" y="4897440"/>
                <a:chExt cx="1368360" cy="177408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1703520" y="4897440"/>
                  <a:ext cx="1368360" cy="1224000"/>
                  <a:chOff x="1703520" y="4897440"/>
                  <a:chExt cx="1368360" cy="12240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703520" y="4897440"/>
                    <a:ext cx="1368360" cy="122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74800" y="4978440"/>
                    <a:ext cx="11520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72" name=""/>
                <p:cNvSpPr/>
                <p:nvPr/>
              </p:nvSpPr>
              <p:spPr>
                <a:xfrm>
                  <a:off x="1746720" y="6211800"/>
                  <a:ext cx="127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ПРАВО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523840" y="4869000"/>
                <a:ext cx="2500200" cy="1702440"/>
                <a:chOff x="5523840" y="4869000"/>
                <a:chExt cx="2500200" cy="1702440"/>
              </a:xfrm>
            </p:grpSpPr>
            <p:pic>
              <p:nvPicPr>
                <p:cNvPr id="1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837040" y="4869000"/>
                  <a:ext cx="1873080" cy="123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>
                  <a:off x="5523840" y="6111720"/>
                  <a:ext cx="25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ГОСУДАРСТВО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570120" y="4869000"/>
              <a:ext cx="1808280" cy="1592280"/>
              <a:chOff x="3570120" y="4869000"/>
              <a:chExt cx="1808280" cy="1592280"/>
            </a:xfrm>
          </p:grpSpPr>
          <p:sp>
            <p:nvSpPr>
              <p:cNvPr id="177" name=""/>
              <p:cNvSpPr txBox="1"/>
              <p:nvPr/>
            </p:nvSpPr>
            <p:spPr>
              <a:xfrm>
                <a:off x="3922560" y="4869000"/>
                <a:ext cx="1081080" cy="965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atin typeface="Arial"/>
                  </a:rPr>
                  <a:t>?</a:t>
                </a:r>
                <a:endPara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70120" y="6093000"/>
                <a:ext cx="180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соотношени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703520" y="765000"/>
            <a:ext cx="6320520" cy="1802520"/>
            <a:chOff x="1703520" y="765000"/>
            <a:chExt cx="6320520" cy="1802520"/>
          </a:xfrm>
        </p:grpSpPr>
        <p:grpSp>
          <p:nvGrpSpPr>
            <p:cNvPr id="181" name=""/>
            <p:cNvGrpSpPr/>
            <p:nvPr/>
          </p:nvGrpSpPr>
          <p:grpSpPr>
            <a:xfrm>
              <a:off x="1703520" y="793440"/>
              <a:ext cx="1368360" cy="1774080"/>
              <a:chOff x="1703520" y="793440"/>
              <a:chExt cx="1368360" cy="177408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1703520" y="793440"/>
                <a:ext cx="1368360" cy="1224000"/>
                <a:chOff x="1703520" y="793440"/>
                <a:chExt cx="1368360" cy="1224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703520" y="793440"/>
                  <a:ext cx="1368360" cy="1224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74800" y="874440"/>
                  <a:ext cx="1152000" cy="10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5" name=""/>
              <p:cNvSpPr/>
              <p:nvPr/>
            </p:nvSpPr>
            <p:spPr>
              <a:xfrm>
                <a:off x="1746720" y="2107800"/>
                <a:ext cx="12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ПРАВ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523840" y="765000"/>
              <a:ext cx="2500200" cy="1702440"/>
              <a:chOff x="5523840" y="765000"/>
              <a:chExt cx="2500200" cy="1702440"/>
            </a:xfrm>
          </p:grpSpPr>
          <p:pic>
            <p:nvPicPr>
              <p:cNvPr id="1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37040" y="765000"/>
                <a:ext cx="1873080" cy="123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5523840" y="2007720"/>
                <a:ext cx="25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ГОСУДАРСТВО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3570120" y="765000"/>
            <a:ext cx="1808280" cy="1592280"/>
            <a:chOff x="3570120" y="765000"/>
            <a:chExt cx="1808280" cy="1592280"/>
          </a:xfrm>
        </p:grpSpPr>
        <p:sp>
          <p:nvSpPr>
            <p:cNvPr id="190" name=""/>
            <p:cNvSpPr txBox="1"/>
            <p:nvPr/>
          </p:nvSpPr>
          <p:spPr>
            <a:xfrm>
              <a:off x="3922560" y="765000"/>
              <a:ext cx="1081080" cy="96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?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70120" y="1989000"/>
              <a:ext cx="18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соотнош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5280" y="2827440"/>
            <a:ext cx="8525520" cy="1298520"/>
            <a:chOff x="395280" y="2827440"/>
            <a:chExt cx="8525520" cy="129852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1258920" y="2827440"/>
              <a:ext cx="15127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 txBox="1"/>
            <p:nvPr/>
          </p:nvSpPr>
          <p:spPr>
            <a:xfrm>
              <a:off x="395280" y="3198960"/>
              <a:ext cx="695160" cy="55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50000">
                        <a:srgbClr val="3366ff"/>
                      </a:gs>
                      <a:gs pos="100000">
                        <a:srgbClr val="ff3399"/>
                      </a:gs>
                    </a:gsLst>
                    <a:lin ang="5400000"/>
                  </a:gradFill>
                  <a:latin typeface="Arial"/>
                </a:rPr>
                <a:t>1.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50800" y="2844720"/>
              <a:ext cx="567000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оявление права связано с появлением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государства.Нормы права-акты приня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тые государством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5280" y="4754520"/>
            <a:ext cx="8506800" cy="1411200"/>
            <a:chOff x="395280" y="4754520"/>
            <a:chExt cx="8506800" cy="1411200"/>
          </a:xfrm>
        </p:grpSpPr>
        <p:sp>
          <p:nvSpPr>
            <p:cNvPr id="197" name=""/>
            <p:cNvSpPr txBox="1"/>
            <p:nvPr/>
          </p:nvSpPr>
          <p:spPr>
            <a:xfrm>
              <a:off x="395280" y="5183280"/>
              <a:ext cx="695160" cy="55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3399"/>
                      </a:gs>
                      <a:gs pos="50000">
                        <a:srgbClr val="3366ff"/>
                      </a:gs>
                      <a:gs pos="100000">
                        <a:srgbClr val="ff3399"/>
                      </a:gs>
                    </a:gsLst>
                    <a:lin ang="5400000"/>
                  </a:gradFill>
                  <a:latin typeface="Arial"/>
                </a:rPr>
                <a:t>2.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5760" y="4829040"/>
              <a:ext cx="565632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раво существовало и существует вне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деятельности государства. Государ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орождено правом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1292400" y="4754520"/>
              <a:ext cx="1407960" cy="1411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7440" y="836640"/>
            <a:ext cx="1746000" cy="1874160"/>
            <a:chOff x="37440" y="836640"/>
            <a:chExt cx="1746000" cy="187416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274680" y="836640"/>
              <a:ext cx="12686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7440" y="225108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жон Лок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024720" y="1139760"/>
            <a:ext cx="5999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"/>
              </a:rPr>
              <a:t>Дал определение Правового государ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"/>
              </a:rPr>
              <a:t>ства. Обосновал законность со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d25"/>
                </a:solidFill>
                <a:latin typeface="Arial"/>
              </a:rPr>
              <a:t>тивления всякому произволу вла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0560" y="15559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9933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7440" y="2852640"/>
            <a:ext cx="8675640" cy="1009800"/>
          </a:xfrm>
          <a:prstGeom prst="downArrowCallout">
            <a:avLst>
              <a:gd name="adj1" fmla="val -58933"/>
              <a:gd name="adj2" fmla="val 86551"/>
              <a:gd name="adj3" fmla="val 35361"/>
              <a:gd name="adj4" fmla="val 41838"/>
            </a:avLst>
          </a:prstGeom>
          <a:solidFill>
            <a:srgbClr val="9933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-35280" y="4518000"/>
            <a:ext cx="9104760" cy="1721880"/>
            <a:chOff x="-35280" y="4518000"/>
            <a:chExt cx="9104760" cy="1721880"/>
          </a:xfrm>
        </p:grpSpPr>
        <p:grpSp>
          <p:nvGrpSpPr>
            <p:cNvPr id="208" name=""/>
            <p:cNvGrpSpPr/>
            <p:nvPr/>
          </p:nvGrpSpPr>
          <p:grpSpPr>
            <a:xfrm>
              <a:off x="-35280" y="4518000"/>
              <a:ext cx="2820240" cy="1721880"/>
              <a:chOff x="-35280" y="4518000"/>
              <a:chExt cx="2820240" cy="1721880"/>
            </a:xfrm>
          </p:grpSpPr>
          <p:pic>
            <p:nvPicPr>
              <p:cNvPr id="2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1200" y="4518000"/>
                <a:ext cx="172872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-35280" y="5780160"/>
                <a:ext cx="2820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Обращение в суд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797200" y="4613400"/>
              <a:ext cx="627228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Arial"/>
                </a:rPr>
                <a:t>Возможность судиться с государством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Arial"/>
                </a:rPr>
                <a:t>предъявлять в суде исковые и и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Arial"/>
                </a:rPr>
                <a:t>требования в защиту своих пр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9640" y="836640"/>
            <a:ext cx="8174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критерии правового государства.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95280" y="1413000"/>
            <a:ext cx="8207280" cy="1052280"/>
            <a:chOff x="395280" y="1413000"/>
            <a:chExt cx="8207280" cy="10522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1269720" y="1413000"/>
              <a:ext cx="1276560" cy="105228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216" name=""/>
            <p:cNvSpPr txBox="1"/>
            <p:nvPr/>
          </p:nvSpPr>
          <p:spPr>
            <a:xfrm>
              <a:off x="3060720" y="1471680"/>
              <a:ext cx="5541840" cy="93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признает неотчуждаемые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права граждан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95280" y="1636560"/>
              <a:ext cx="64908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1.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95280" y="2589120"/>
            <a:ext cx="8137440" cy="1224000"/>
            <a:chOff x="395280" y="2589120"/>
            <a:chExt cx="8137440" cy="122400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1347840" y="2589120"/>
              <a:ext cx="1120680" cy="122400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220" name=""/>
            <p:cNvSpPr txBox="1"/>
            <p:nvPr/>
          </p:nvSpPr>
          <p:spPr>
            <a:xfrm>
              <a:off x="3332160" y="2768760"/>
              <a:ext cx="52005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законы соответствуют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праву.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95280" y="2898720"/>
              <a:ext cx="649080" cy="60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2.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5280" y="3936960"/>
            <a:ext cx="7985160" cy="1600200"/>
            <a:chOff x="395280" y="3936960"/>
            <a:chExt cx="7985160" cy="1600200"/>
          </a:xfrm>
        </p:grpSpPr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1187280" y="4209840"/>
              <a:ext cx="1441440" cy="105264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224" name=""/>
            <p:cNvSpPr txBox="1"/>
            <p:nvPr/>
          </p:nvSpPr>
          <p:spPr>
            <a:xfrm>
              <a:off x="3284280" y="3936960"/>
              <a:ext cx="509616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признает взаимные 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права и обязанности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его органов и граждан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95280" y="4433760"/>
              <a:ext cx="649080" cy="60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3.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95280" y="5661000"/>
            <a:ext cx="7765920" cy="1066680"/>
            <a:chOff x="395280" y="5661000"/>
            <a:chExt cx="7765920" cy="106668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1276200" y="5697360"/>
              <a:ext cx="1262160" cy="992520"/>
            </a:xfrm>
            <a:prstGeom prst="rect">
              <a:avLst/>
            </a:prstGeom>
            <a:ln w="38160">
              <a:solidFill>
                <a:srgbClr val="993366"/>
              </a:solidFill>
              <a:miter/>
            </a:ln>
          </p:spPr>
        </p:pic>
        <p:sp>
          <p:nvSpPr>
            <p:cNvPr id="228" name=""/>
            <p:cNvSpPr txBox="1"/>
            <p:nvPr/>
          </p:nvSpPr>
          <p:spPr>
            <a:xfrm>
              <a:off x="3503520" y="5661000"/>
              <a:ext cx="46576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соблюдаетс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разделение властей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95280" y="5891040"/>
              <a:ext cx="649080" cy="605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4.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3800" y="61920"/>
            <a:ext cx="863892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Сущность правового государств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15920" y="1163520"/>
            <a:ext cx="2838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государств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29080" y="1214280"/>
            <a:ext cx="1150920" cy="432000"/>
          </a:xfrm>
          <a:prstGeom prst="leftRightArrow">
            <a:avLst>
              <a:gd name="adj1" fmla="val 50000"/>
              <a:gd name="adj2" fmla="val 53037"/>
            </a:avLst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200640" y="620640"/>
            <a:ext cx="1827360" cy="1623600"/>
            <a:chOff x="6200640" y="620640"/>
            <a:chExt cx="1827360" cy="162360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6200640" y="620640"/>
              <a:ext cx="182736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6216840" y="178452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бществ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34080" y="1630800"/>
            <a:ext cx="4266720" cy="3680640"/>
            <a:chOff x="334080" y="1630800"/>
            <a:chExt cx="4266720" cy="3680640"/>
          </a:xfrm>
        </p:grpSpPr>
        <p:grpSp>
          <p:nvGrpSpPr>
            <p:cNvPr id="237" name=""/>
            <p:cNvGrpSpPr/>
            <p:nvPr/>
          </p:nvGrpSpPr>
          <p:grpSpPr>
            <a:xfrm>
              <a:off x="334080" y="1989000"/>
              <a:ext cx="4266720" cy="3322440"/>
              <a:chOff x="334080" y="1989000"/>
              <a:chExt cx="4266720" cy="3322440"/>
            </a:xfrm>
          </p:grpSpPr>
          <p:pic>
            <p:nvPicPr>
              <p:cNvPr id="2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2400" y="1989000"/>
                <a:ext cx="1092240" cy="1727280"/>
              </a:xfrm>
              <a:prstGeom prst="rect">
                <a:avLst/>
              </a:prstGeom>
              <a:ln w="38160">
                <a:solidFill>
                  <a:srgbClr val="993366"/>
                </a:solidFill>
                <a:miter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334080" y="3754440"/>
                <a:ext cx="4266720" cy="1557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Уважение достоинства граж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дан.Отказ от административ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ного произвола,насилия и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лжи в своей деятельности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rot="20100600">
              <a:off x="971640" y="1699920"/>
              <a:ext cx="647640" cy="1439640"/>
            </a:xfrm>
            <a:custGeom>
              <a:avLst/>
              <a:gdLst>
                <a:gd name="textAreaLeft" fmla="*/ 86760 w 647640"/>
                <a:gd name="textAreaRight" fmla="*/ 560880 w 64764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33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29760" y="1630800"/>
            <a:ext cx="4085280" cy="3715560"/>
            <a:chOff x="4829760" y="1630800"/>
            <a:chExt cx="4085280" cy="3715560"/>
          </a:xfrm>
        </p:grpSpPr>
        <p:grpSp>
          <p:nvGrpSpPr>
            <p:cNvPr id="242" name=""/>
            <p:cNvGrpSpPr/>
            <p:nvPr/>
          </p:nvGrpSpPr>
          <p:grpSpPr>
            <a:xfrm>
              <a:off x="4829760" y="2205000"/>
              <a:ext cx="4085280" cy="3141360"/>
              <a:chOff x="4829760" y="2205000"/>
              <a:chExt cx="4085280" cy="31413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80400" y="2205000"/>
                <a:ext cx="1584000" cy="1541160"/>
              </a:xfrm>
              <a:prstGeom prst="rect">
                <a:avLst/>
              </a:prstGeom>
              <a:ln w="38160">
                <a:solidFill>
                  <a:srgbClr val="333399"/>
                </a:solidFill>
                <a:miter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829760" y="3789360"/>
                <a:ext cx="4085280" cy="15570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Уважение государственно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власти , соблюдение законо-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дательства выполнение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2f2d25"/>
                    </a:solidFill>
                    <a:latin typeface="Times New Roman"/>
                  </a:rPr>
                  <a:t>своих обязанностей.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flipH="1" rot="1499400">
              <a:off x="7956720" y="1700280"/>
              <a:ext cx="647640" cy="1439640"/>
            </a:xfrm>
            <a:custGeom>
              <a:avLst/>
              <a:gdLst>
                <a:gd name="textAreaLeft" fmla="*/ 86760 w 647640"/>
                <a:gd name="textAreaRight" fmla="*/ 560880 w 64764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0920" y="5516640"/>
            <a:ext cx="8820000" cy="1297080"/>
            <a:chOff x="250920" y="5516640"/>
            <a:chExt cx="8820000" cy="1297080"/>
          </a:xfrm>
        </p:grpSpPr>
        <p:sp>
          <p:nvSpPr>
            <p:cNvPr id="247" name=""/>
            <p:cNvSpPr/>
            <p:nvPr/>
          </p:nvSpPr>
          <p:spPr>
            <a:xfrm>
              <a:off x="250920" y="5516640"/>
              <a:ext cx="8820000" cy="649080"/>
            </a:xfrm>
            <a:prstGeom prst="downArrowCallout">
              <a:avLst>
                <a:gd name="adj1" fmla="val -41977"/>
                <a:gd name="adj2" fmla="val 87759"/>
                <a:gd name="adj3" fmla="val 29338"/>
                <a:gd name="adj4" fmla="val 45477"/>
              </a:avLst>
            </a:pr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328680" y="6280200"/>
              <a:ext cx="86360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816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Arial"/>
                </a:rPr>
                <a:t>идеальная модель государства</a:t>
              </a:r>
              <a:endParaRPr b="1" lang="en-US" sz="1800" spc="1" strike="noStrike">
                <a:ln w="381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Основные черты гражданского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00000" y="907920"/>
            <a:ext cx="1800000" cy="1594080"/>
            <a:chOff x="900000" y="907920"/>
            <a:chExt cx="1800000" cy="159408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900000" y="907920"/>
              <a:ext cx="18000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978120" y="2133720"/>
              <a:ext cx="16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государств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372360" y="907920"/>
            <a:ext cx="1871640" cy="1608120"/>
            <a:chOff x="6372360" y="907920"/>
            <a:chExt cx="1871640" cy="160812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6372360" y="907920"/>
              <a:ext cx="1871640" cy="12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631200" y="214776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ahoma"/>
                </a:rPr>
                <a:t>обществ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52360" y="1052640"/>
            <a:ext cx="1326240" cy="1079280"/>
            <a:chOff x="3852360" y="1052640"/>
            <a:chExt cx="1326240" cy="1079280"/>
          </a:xfrm>
        </p:grpSpPr>
        <p:sp>
          <p:nvSpPr>
            <p:cNvPr id="257" name=""/>
            <p:cNvSpPr txBox="1"/>
            <p:nvPr/>
          </p:nvSpPr>
          <p:spPr>
            <a:xfrm>
              <a:off x="3892680" y="1268280"/>
              <a:ext cx="1285920" cy="69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=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52720" y="1052640"/>
              <a:ext cx="129564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852360" y="1052640"/>
              <a:ext cx="129564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 flipH="1">
            <a:off x="1908000" y="2492280"/>
            <a:ext cx="4608720" cy="505080"/>
          </a:xfrm>
          <a:custGeom>
            <a:avLst/>
            <a:gdLst>
              <a:gd name="textAreaLeft" fmla="*/ 806400 w 4608720"/>
              <a:gd name="textAreaRight" fmla="*/ 3341520 w 460872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4840" y="2602080"/>
            <a:ext cx="2298960" cy="2184840"/>
            <a:chOff x="654840" y="2602080"/>
            <a:chExt cx="2298960" cy="2184840"/>
          </a:xfrm>
        </p:grpSpPr>
        <p:sp>
          <p:nvSpPr>
            <p:cNvPr id="262" name=""/>
            <p:cNvSpPr/>
            <p:nvPr/>
          </p:nvSpPr>
          <p:spPr>
            <a:xfrm flipH="1" rot="16200000">
              <a:off x="1222200" y="2998080"/>
              <a:ext cx="1152360" cy="36036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4840" y="3778200"/>
              <a:ext cx="229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делилось  н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пределенн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тад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271960" y="2580480"/>
            <a:ext cx="3120840" cy="2206440"/>
            <a:chOff x="2271960" y="2580480"/>
            <a:chExt cx="3120840" cy="2206440"/>
          </a:xfrm>
        </p:grpSpPr>
        <p:sp>
          <p:nvSpPr>
            <p:cNvPr id="265" name=""/>
            <p:cNvSpPr/>
            <p:nvPr/>
          </p:nvSpPr>
          <p:spPr>
            <a:xfrm>
              <a:off x="3733920" y="3778200"/>
              <a:ext cx="1658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Зависит о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остоя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бществ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3187400">
              <a:off x="2195280" y="3068280"/>
              <a:ext cx="1655640" cy="360360"/>
            </a:xfrm>
            <a:custGeom>
              <a:avLst/>
              <a:gdLst>
                <a:gd name="textAreaLeft" fmla="*/ 258480 w 1655640"/>
                <a:gd name="textAreaRight" fmla="*/ 1449000 w 16556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435640" y="2494080"/>
            <a:ext cx="3600360" cy="2879640"/>
            <a:chOff x="5435640" y="2494080"/>
            <a:chExt cx="3600360" cy="2879640"/>
          </a:xfrm>
        </p:grpSpPr>
        <p:sp>
          <p:nvSpPr>
            <p:cNvPr id="268" name=""/>
            <p:cNvSpPr/>
            <p:nvPr/>
          </p:nvSpPr>
          <p:spPr>
            <a:xfrm>
              <a:off x="5435640" y="3500280"/>
              <a:ext cx="3600360" cy="18734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ffffff"/>
                  </a:solidFill>
                  <a:uFillTx/>
                  <a:latin typeface="Arial Black"/>
                </a:rPr>
                <a:t>Общест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-сложная,дин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амическая система связ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людей,объединенных се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мейными узами,групп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выми,сословными,клас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овыми отношениями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6768720" y="2781360"/>
              <a:ext cx="934920" cy="360360"/>
            </a:xfrm>
            <a:custGeom>
              <a:avLst/>
              <a:gdLst>
                <a:gd name="textAreaLeft" fmla="*/ 145800 w 934920"/>
                <a:gd name="textAreaRight" fmla="*/ 818280 w 93492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48480" y="4581360"/>
            <a:ext cx="5015160" cy="2276640"/>
            <a:chOff x="348480" y="4581360"/>
            <a:chExt cx="5015160" cy="2276640"/>
          </a:xfrm>
        </p:grpSpPr>
        <p:grpSp>
          <p:nvGrpSpPr>
            <p:cNvPr id="271" name=""/>
            <p:cNvGrpSpPr/>
            <p:nvPr/>
          </p:nvGrpSpPr>
          <p:grpSpPr>
            <a:xfrm>
              <a:off x="348480" y="4653000"/>
              <a:ext cx="5015160" cy="2116080"/>
              <a:chOff x="348480" y="4653000"/>
              <a:chExt cx="5015160" cy="211608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348480" y="5157720"/>
                <a:ext cx="2759400" cy="1611360"/>
                <a:chOff x="348480" y="5157720"/>
                <a:chExt cx="2759400" cy="1611360"/>
              </a:xfrm>
            </p:grpSpPr>
            <p:pic>
              <p:nvPicPr>
                <p:cNvPr id="27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97080" y="5157720"/>
                  <a:ext cx="863640" cy="846360"/>
                </a:xfrm>
                <a:prstGeom prst="rect">
                  <a:avLst/>
                </a:prstGeom>
                <a:ln w="9360">
                  <a:solidFill>
                    <a:srgbClr val="2f2d25"/>
                  </a:solidFill>
                  <a:miter/>
                </a:ln>
              </p:spPr>
            </p:pic>
            <p:sp>
              <p:nvSpPr>
                <p:cNvPr id="274" name=""/>
                <p:cNvSpPr/>
                <p:nvPr/>
              </p:nvSpPr>
              <p:spPr>
                <a:xfrm>
                  <a:off x="348480" y="5943600"/>
                  <a:ext cx="27594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Биологический</a:t>
                  </a:r>
                  <a:r>
                    <a:rPr b="1" lang="ru-RU" sz="1800" spc="-1" strike="noStrike">
                      <a:solidFill>
                        <a:srgbClr val="ffffff"/>
                      </a:solidFill>
                      <a:latin typeface="Tahoma"/>
                    </a:rPr>
                    <a:t> 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закон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 flipH="1">
                <a:off x="2268000" y="4653000"/>
                <a:ext cx="3095640" cy="10080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395280" y="4653000"/>
              <a:ext cx="2592360" cy="2205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94920" y="4581360"/>
              <a:ext cx="2592360" cy="2205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798360" y="5157720"/>
            <a:ext cx="3221640" cy="1630440"/>
            <a:chOff x="3798360" y="5157720"/>
            <a:chExt cx="3221640" cy="1630440"/>
          </a:xfrm>
        </p:grpSpPr>
        <p:sp>
          <p:nvSpPr>
            <p:cNvPr id="279" name=""/>
            <p:cNvSpPr/>
            <p:nvPr/>
          </p:nvSpPr>
          <p:spPr>
            <a:xfrm>
              <a:off x="3798360" y="5962680"/>
              <a:ext cx="224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циаль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зако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465800" y="5157720"/>
              <a:ext cx="2554200" cy="1439280"/>
              <a:chOff x="4465800" y="5157720"/>
              <a:chExt cx="2554200" cy="1439280"/>
            </a:xfrm>
          </p:grpSpPr>
          <p:pic>
            <p:nvPicPr>
              <p:cNvPr id="2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65800" y="5157720"/>
                <a:ext cx="90648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flipV="1" rot="5400000">
                <a:off x="5975280" y="5551920"/>
                <a:ext cx="1081080" cy="1008000"/>
              </a:xfrm>
              <a:custGeom>
                <a:avLst/>
                <a:gdLst>
                  <a:gd name="textAreaLeft" fmla="*/ 360360 w 1081080"/>
                  <a:gd name="textAreaRight" fmla="*/ 925920 w 1081080"/>
                  <a:gd name="textAreaTop" fmla="*/ 580680 h 1008000"/>
                  <a:gd name="textAreaBottom" fmla="*/ 86364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Основные черты гражданского обществ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79280" y="836640"/>
            <a:ext cx="8821800" cy="2305080"/>
            <a:chOff x="179280" y="836640"/>
            <a:chExt cx="8821800" cy="2305080"/>
          </a:xfrm>
        </p:grpSpPr>
        <p:sp>
          <p:nvSpPr>
            <p:cNvPr id="285" name=""/>
            <p:cNvSpPr txBox="1"/>
            <p:nvPr/>
          </p:nvSpPr>
          <p:spPr>
            <a:xfrm>
              <a:off x="179280" y="1495440"/>
              <a:ext cx="3710160" cy="98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литическая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система общества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00720" y="836640"/>
              <a:ext cx="4500360" cy="2305080"/>
            </a:xfrm>
            <a:prstGeom prst="rect">
              <a:avLst/>
            </a:prstGeom>
            <a:solidFill>
              <a:srgbClr val="9933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ключает многообраз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рганизации , институты,уч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еждения борьбы за власть,з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ее удержание,использование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рганизацию  и функциониро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ание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35280" y="1989000"/>
              <a:ext cx="720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334600" y="2276640"/>
            <a:ext cx="4412160" cy="2810520"/>
            <a:chOff x="2334600" y="2276640"/>
            <a:chExt cx="4412160" cy="2810520"/>
          </a:xfrm>
        </p:grpSpPr>
        <p:grpSp>
          <p:nvGrpSpPr>
            <p:cNvPr id="289" name=""/>
            <p:cNvGrpSpPr/>
            <p:nvPr/>
          </p:nvGrpSpPr>
          <p:grpSpPr>
            <a:xfrm>
              <a:off x="2334600" y="3284640"/>
              <a:ext cx="4412160" cy="1802520"/>
              <a:chOff x="2334600" y="3284640"/>
              <a:chExt cx="4412160" cy="180252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334600" y="3284640"/>
                <a:ext cx="2158920" cy="1767600"/>
                <a:chOff x="2334600" y="3284640"/>
                <a:chExt cx="2158920" cy="1767600"/>
              </a:xfrm>
            </p:grpSpPr>
            <p:pic>
              <p:nvPicPr>
                <p:cNvPr id="29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05280" y="3284640"/>
                  <a:ext cx="81756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>
                  <a:off x="2334600" y="4592520"/>
                  <a:ext cx="215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Государство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7120" y="3355920"/>
                <a:ext cx="1529640" cy="1731240"/>
                <a:chOff x="5217120" y="3355920"/>
                <a:chExt cx="1529640" cy="1731240"/>
              </a:xfrm>
            </p:grpSpPr>
            <p:pic>
              <p:nvPicPr>
                <p:cNvPr id="2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38880" y="3355920"/>
                  <a:ext cx="1085760" cy="110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>
                  <a:off x="5217120" y="4627440"/>
                  <a:ext cx="152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Tahoma"/>
                    </a:rPr>
                    <a:t>Человек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3996000" y="4292640"/>
                <a:ext cx="1152360" cy="288720"/>
              </a:xfrm>
              <a:prstGeom prst="leftRightArrow">
                <a:avLst>
                  <a:gd name="adj1" fmla="val 50000"/>
                  <a:gd name="adj2" fmla="val 79456"/>
                </a:avLst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4284720" y="3429000"/>
                <a:ext cx="642960" cy="627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8160">
                      <a:solidFill>
                        <a:srgbClr val="ffffff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?</a:t>
                </a:r>
                <a:endParaRPr b="1" lang="en-US" sz="1800" spc="1" strike="noStrike">
                  <a:ln w="38160">
                    <a:solidFill>
                      <a:srgbClr val="ffffff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3851280" y="2276640"/>
              <a:ext cx="504720" cy="122364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214200 h 1223640"/>
                <a:gd name="textAreaBottom" fmla="*/ 88740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716360" y="3913200"/>
            <a:ext cx="4248360" cy="2541240"/>
            <a:chOff x="4716360" y="3913200"/>
            <a:chExt cx="4248360" cy="2541240"/>
          </a:xfrm>
        </p:grpSpPr>
        <p:grpSp>
          <p:nvGrpSpPr>
            <p:cNvPr id="300" name=""/>
            <p:cNvGrpSpPr/>
            <p:nvPr/>
          </p:nvGrpSpPr>
          <p:grpSpPr>
            <a:xfrm>
              <a:off x="7020000" y="3913200"/>
              <a:ext cx="1944720" cy="2541240"/>
              <a:chOff x="7020000" y="3913200"/>
              <a:chExt cx="1944720" cy="2541240"/>
            </a:xfrm>
          </p:grpSpPr>
          <p:pic>
            <p:nvPicPr>
              <p:cNvPr id="3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20000" y="3913200"/>
                <a:ext cx="19447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7163280" y="5811840"/>
                <a:ext cx="164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Правовое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государств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4716360" y="5084640"/>
              <a:ext cx="2233800" cy="360360"/>
            </a:xfrm>
            <a:custGeom>
              <a:avLst/>
              <a:gdLst>
                <a:gd name="textAreaLeft" fmla="*/ 390960 w 2233800"/>
                <a:gd name="textAreaRight" fmla="*/ 1619640 w 223380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85920" y="3933720"/>
            <a:ext cx="4115880" cy="2528640"/>
            <a:chOff x="385920" y="3933720"/>
            <a:chExt cx="4115880" cy="2528640"/>
          </a:xfrm>
        </p:grpSpPr>
        <p:grpSp>
          <p:nvGrpSpPr>
            <p:cNvPr id="305" name=""/>
            <p:cNvGrpSpPr/>
            <p:nvPr/>
          </p:nvGrpSpPr>
          <p:grpSpPr>
            <a:xfrm>
              <a:off x="385920" y="3933720"/>
              <a:ext cx="1842840" cy="2528640"/>
              <a:chOff x="385920" y="3933720"/>
              <a:chExt cx="1842840" cy="2528640"/>
            </a:xfrm>
          </p:grpSpPr>
          <p:pic>
            <p:nvPicPr>
              <p:cNvPr id="30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5920" y="3933720"/>
                <a:ext cx="1842840" cy="18432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07880" y="5819760"/>
                <a:ext cx="179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Полицейско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Tahoma"/>
                  </a:rPr>
                  <a:t>государств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 flipH="1">
              <a:off x="2267640" y="5084640"/>
              <a:ext cx="2233800" cy="360360"/>
            </a:xfrm>
            <a:custGeom>
              <a:avLst/>
              <a:gdLst>
                <a:gd name="textAreaLeft" fmla="*/ 390960 w 2233800"/>
                <a:gd name="textAreaRight" fmla="*/ 1619640 w 2233800"/>
                <a:gd name="textAreaTop" fmla="*/ 48240 h 360360"/>
                <a:gd name="textAreaBottom" fmla="*/ 3121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268360" y="5373720"/>
            <a:ext cx="2016360" cy="1252440"/>
            <a:chOff x="2268360" y="5373720"/>
            <a:chExt cx="2016360" cy="1252440"/>
          </a:xfrm>
        </p:grpSpPr>
        <p:sp>
          <p:nvSpPr>
            <p:cNvPr id="310" name=""/>
            <p:cNvSpPr txBox="1"/>
            <p:nvPr/>
          </p:nvSpPr>
          <p:spPr>
            <a:xfrm>
              <a:off x="2340000" y="6093000"/>
              <a:ext cx="194472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ffffff"/>
                    </a:solidFill>
                    <a:miter/>
                  </a:ln>
                  <a:solidFill>
                    <a:srgbClr val="2f2d25"/>
                  </a:solidFill>
                  <a:latin typeface="Arial"/>
                </a:rPr>
                <a:t>Произвол</a:t>
              </a:r>
              <a:endPara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2f2d25"/>
                </a:solidFill>
                <a:latin typeface="Arial"/>
                <a:ea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8360" y="5373720"/>
              <a:ext cx="1008360" cy="719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176800" y="5373720"/>
            <a:ext cx="1843200" cy="1147680"/>
            <a:chOff x="5176800" y="5373720"/>
            <a:chExt cx="1843200" cy="1147680"/>
          </a:xfrm>
        </p:grpSpPr>
        <p:sp>
          <p:nvSpPr>
            <p:cNvPr id="313" name=""/>
            <p:cNvSpPr/>
            <p:nvPr/>
          </p:nvSpPr>
          <p:spPr>
            <a:xfrm flipH="1">
              <a:off x="5940360" y="5373720"/>
              <a:ext cx="1008000" cy="719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5176800" y="6165720"/>
              <a:ext cx="1843200" cy="3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Закон</a:t>
              </a:r>
              <a:endPara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Чернов Алексей</cp:lastModifiedBy>
  <dcterms:modified xsi:type="dcterms:W3CDTF">2003-02-03T16:48:36Z</dcterms:modified>
  <cp:revision>6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