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9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7.gif" ContentType="image/gif"/>
  <Override PartName="/ppt/media/image2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1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3E0-B135-44E2-BFE8-64194988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B40-155F-4CAC-BEB6-47DD0095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0B2-1B6F-43C0-A007-78830C60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C31-A759-46AA-B725-6763DD44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293-A34F-4C19-B1C0-1E408B04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7BFC-94B9-407A-BCC8-AFF56DA9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82B0-5CE7-4D98-A622-D0D3102B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9AA9-8B62-4783-B05C-4CB0251A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F41D-C22F-48EA-A34C-4533E0B3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5C10-A1F1-4CD5-B248-021DDAB5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3EAC-147D-4062-B3BB-744F48E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CC9-2278-4EAA-A657-B2A55B0A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5637-E830-48D8-923E-C1C732A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8762-72A9-46E2-9DB6-5C43081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6077-7E7E-4982-8B5A-F2ADD213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4D7F-6894-4B93-8FBE-4D52E50D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CCE6-EF1A-486D-8116-2324883A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01B-690A-40DE-87EB-FCA6A06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B33-3467-43E2-96EE-D876D7C9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3EB-E591-42E8-9ADE-DB18939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37C-B787-44BD-814E-1DFEA81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5CE-D6BE-406A-A300-E9918AF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B9F-D0F0-477C-B67A-B4F3F91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C0E-E53F-4D43-A44B-84FEECD0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FB4-F941-481F-BCEB-32F6AF0523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F8ED-D86E-4BB6-9C81-3F24ACE827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15440" y="404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1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421000"/>
            <a:ext cx="6697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ражданское право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ражданское правоотнош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907920"/>
            <a:ext cx="2087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юридический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факт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52680" y="765000"/>
            <a:ext cx="65768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стоятельство, с наличием, или отсутст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торого закон связывает возникновение, из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ение и прекращение прав и обязан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63640" y="2208240"/>
            <a:ext cx="58197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Виды юридических факто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09080" y="2708280"/>
            <a:ext cx="888120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говоры и сделки, предусмотренные зако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говоры и сделки не предусмотренные законом, но не прот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речащие ем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акты государственных и муниципальных орган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удебные реш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здание продуктов интеллектуальной деятель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1680" y="5589720"/>
            <a:ext cx="8591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фикация юридических фак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сходит из различных осн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765000"/>
            <a:ext cx="820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События и действия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1341360"/>
            <a:ext cx="40035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явления, происходящие независимо от воли субъ-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16440" y="1484280"/>
            <a:ext cx="40035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явления, происходящие по воле субъ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2360" y="2728800"/>
            <a:ext cx="40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бсолютные</a:t>
            </a: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 – смерть, ст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хийное действие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носительные</a:t>
            </a: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 – ист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срока действия договора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0880" y="2708280"/>
            <a:ext cx="42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мерные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– соответству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ют требованиям зак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омерные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– не со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ствуют требованиям закона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044800" y="4224240"/>
            <a:ext cx="5048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авомерные действи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68360" y="4581360"/>
            <a:ext cx="4032360" cy="1656000"/>
            <a:chOff x="468360" y="4581360"/>
            <a:chExt cx="4032360" cy="1656000"/>
          </a:xfrm>
        </p:grpSpPr>
        <p:sp>
          <p:nvSpPr>
            <p:cNvPr id="243" name=""/>
            <p:cNvSpPr txBox="1"/>
            <p:nvPr/>
          </p:nvSpPr>
          <p:spPr>
            <a:xfrm>
              <a:off x="468360" y="5415120"/>
              <a:ext cx="2808360" cy="82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Юридическ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акты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348000" y="4581360"/>
              <a:ext cx="1152720" cy="79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00720" y="4581360"/>
            <a:ext cx="4032000" cy="1656000"/>
            <a:chOff x="4500720" y="4581360"/>
            <a:chExt cx="4032000" cy="1656000"/>
          </a:xfrm>
        </p:grpSpPr>
        <p:sp>
          <p:nvSpPr>
            <p:cNvPr id="246" name=""/>
            <p:cNvSpPr txBox="1"/>
            <p:nvPr/>
          </p:nvSpPr>
          <p:spPr>
            <a:xfrm>
              <a:off x="5724360" y="5415120"/>
              <a:ext cx="2808360" cy="82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Юридическ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поступк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00720" y="4581360"/>
              <a:ext cx="1152360" cy="79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836640"/>
            <a:ext cx="586764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дминистративные, или судебные акты  сделки и судебные решения, устанавли-вающие гражданские права и обязан-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39840"/>
            <a:ext cx="2808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ридическ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кт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3249720"/>
            <a:ext cx="2808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ридическ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ступк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2664000"/>
            <a:ext cx="586764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ействия, влекущие за собой граждан-ско-правовые последствия при дости-жении результата безотносительно от направленности воли лица, совершаю-щего юридический поступок (ех: кла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2560" y="4797360"/>
            <a:ext cx="8814240" cy="675720"/>
            <a:chOff x="142560" y="4797360"/>
            <a:chExt cx="8814240" cy="675720"/>
          </a:xfrm>
        </p:grpSpPr>
        <p:sp>
          <p:nvSpPr>
            <p:cNvPr id="254" name=""/>
            <p:cNvSpPr txBox="1"/>
            <p:nvPr/>
          </p:nvSpPr>
          <p:spPr>
            <a:xfrm>
              <a:off x="3780000" y="4797360"/>
              <a:ext cx="156204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СДЕЛКИ</a:t>
              </a:r>
              <a:endPara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013360"/>
              <a:ext cx="88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(наиболее широкая и важная категория юридических фактов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5720" y="5445000"/>
            <a:ext cx="87411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-действия субъектов, специально направленные на возник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ение, изменение, или прекращение гражданских правоот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708360" y="1055520"/>
            <a:ext cx="15620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ДЕЛКИ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9280" y="1557360"/>
            <a:ext cx="3960360" cy="792000"/>
            <a:chOff x="179280" y="1557360"/>
            <a:chExt cx="3960360" cy="792000"/>
          </a:xfrm>
        </p:grpSpPr>
        <p:sp>
          <p:nvSpPr>
            <p:cNvPr id="260" name=""/>
            <p:cNvSpPr txBox="1"/>
            <p:nvPr/>
          </p:nvSpPr>
          <p:spPr>
            <a:xfrm>
              <a:off x="179280" y="1916280"/>
              <a:ext cx="280800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договоры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058560" y="1557360"/>
              <a:ext cx="1081080" cy="503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86200" y="1268280"/>
            <a:ext cx="4106880" cy="1008360"/>
            <a:chOff x="4786200" y="1268280"/>
            <a:chExt cx="4106880" cy="1008360"/>
          </a:xfrm>
        </p:grpSpPr>
        <p:sp>
          <p:nvSpPr>
            <p:cNvPr id="263" name=""/>
            <p:cNvSpPr txBox="1"/>
            <p:nvPr/>
          </p:nvSpPr>
          <p:spPr>
            <a:xfrm>
              <a:off x="5867280" y="1268280"/>
              <a:ext cx="302580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односторонн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действ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86200" y="1557360"/>
              <a:ext cx="1081080" cy="503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 txBox="1"/>
          <p:nvPr/>
        </p:nvSpPr>
        <p:spPr>
          <a:xfrm>
            <a:off x="539640" y="278136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Правообразующие, правоизменяющие,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прекращающ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7000" y="4076640"/>
            <a:ext cx="878508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-Один и тот же юридический факт может вы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ные функ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-для возникновения гражданско-правовых послед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й иногда неодходим не один, а несколько юрид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ческих фактов (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ahoma"/>
              </a:rPr>
              <a:t>юридически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, или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ahoma"/>
              </a:rPr>
              <a:t>фактически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со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тав).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ех: вступление в наслед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7520" y="765000"/>
            <a:ext cx="83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Деление происходит в зависимости от критери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148428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Имущественные и неимущественны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7720" y="2298600"/>
            <a:ext cx="79621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Имуществе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 Black"/>
              </a:rPr>
              <a:t>-</a:t>
            </a: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объект – то, или иное материальное бла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возникают по поводу принадлежности имущества,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хода права владения от одного субъекта к друг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к отношениям применима исковая давн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32920" y="4824360"/>
            <a:ext cx="701136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Неимуществе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 Black"/>
              </a:rPr>
              <a:t>-</a:t>
            </a: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объект – неимущественные пра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и нематериальные бл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к отношениям  не применима исковая давн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4000" y="93024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Абсолютные и относительны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760" y="2443320"/>
            <a:ext cx="7980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Абсолют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управомоченному лицу(ех:собственнику) противосто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неопределенно широкий круг обязанных лиц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оведение обязанных лиц состоит в не нарушении пр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Управомоченного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720" y="4824360"/>
            <a:ext cx="76759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Относ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одному управомоченному лицу противостоит опред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ленный круг обязанных лиц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должник-креди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21760" y="1454040"/>
            <a:ext cx="70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численности и определ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бъектного сост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93024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Вещные и обязательны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0040" y="2276640"/>
            <a:ext cx="8395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Вещ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о реализуется посредством собственных действий (е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право собствен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защита вещных прав осуществляется на основе вещ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и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" y="4581360"/>
            <a:ext cx="840276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Обяза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о реализуется на основе требований активного дей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вия от обязанного 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защита обязательного права осуществляется на основе и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ка о возмещении понесенных убы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1760" y="1382760"/>
            <a:ext cx="84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снове - способ реализации правомочия, принадлежащ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го носит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4760" y="1844280"/>
            <a:ext cx="8697960" cy="453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1.Источники гражданск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3.Элементы гражданского правоотно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4.Юридические факты и гражданские правоотно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Источники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90792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Гражданский кодекс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840" y="1308240"/>
            <a:ext cx="87328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Основной регулятор товарно-денежных отношений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Первая часть вступила в силу с 1.1.199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торая часть - с 1.3.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7440" y="270972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Федеральные закон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035160"/>
            <a:ext cx="87328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Регулирующие отношения, составляющие предмет гражданск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440" y="399888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Подзаконые акт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325760"/>
            <a:ext cx="873288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Указы Президента, постановления Правительства, акты министерств и федеральных органов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7440" y="569736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4.Иные источник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6064200"/>
            <a:ext cx="8732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Например –обыч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022400"/>
            <a:ext cx="24447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ажданско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884160"/>
            <a:ext cx="61930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гулирует определенный круг обще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нных отношений, называемых предме-том гражданск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20720" y="2422440"/>
            <a:ext cx="61912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Предмет гражданского прав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178080"/>
            <a:ext cx="828036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мущественные отношения, т.е. отношения, складыва-ющиеся по поводу материальных бл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4967280"/>
            <a:ext cx="417672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язанные с принадлеж-ностью определенных иму-щественных благ (отноше-ния собствен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4967280"/>
            <a:ext cx="432144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вязанные с переходом иму-щественных прав от одного субъекта, к другому.(дог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ры, наследование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03640" y="4292640"/>
            <a:ext cx="2663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f2d25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1 группа</a:t>
            </a:r>
            <a:endParaRPr b="1" lang="en-US" sz="1800" spc="1" strike="noStrike">
              <a:ln w="9360">
                <a:solidFill>
                  <a:srgbClr val="2f2d25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450800"/>
            <a:ext cx="8785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имущественные отношения связанные с имущественны-ми (авторское право, использование товарных знаков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03640" y="730080"/>
            <a:ext cx="2663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f2d25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2 группа</a:t>
            </a:r>
            <a:endParaRPr b="1" lang="en-US" sz="1800" spc="1" strike="noStrike">
              <a:ln w="9360">
                <a:solidFill>
                  <a:srgbClr val="2f2d25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4440" y="2565360"/>
            <a:ext cx="8648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ажданско-правовое регулирован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3292560"/>
            <a:ext cx="828036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егулирует такж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отчуждаемые права и свободы чело-века и др. нематериальные бл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жизнь, здоровье, честь и достоинство личности, деловую репутацию, неприкосновенность частной жизни, личную и семейную тайну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ношения между предпринимателями, или с их учас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24000"/>
            <a:ext cx="878544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кое право указывает на основания при которых абкстрактно-возможное регулирование превращается в реальное. Эти основания называются 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ЮРИДИЧЕСКИМИ ФА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368520"/>
            <a:ext cx="785016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щественные отношения после его урегулирования гражданским правом превращается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ражданское правовое отно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но представляет собой связь между участниками гражданского правового отношения, в силу которой они выступают в качестве обладателей субъективных гражданских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91720" y="763560"/>
            <a:ext cx="2154240" cy="1253520"/>
            <a:chOff x="3591720" y="763560"/>
            <a:chExt cx="2154240" cy="1253520"/>
          </a:xfrm>
        </p:grpSpPr>
        <p:sp>
          <p:nvSpPr>
            <p:cNvPr id="185" name=""/>
            <p:cNvSpPr/>
            <p:nvPr/>
          </p:nvSpPr>
          <p:spPr>
            <a:xfrm>
              <a:off x="3591720" y="1557360"/>
              <a:ext cx="2154240" cy="459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одерж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6360" y="763560"/>
              <a:ext cx="0" cy="7207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89960" y="765000"/>
            <a:ext cx="4108680" cy="1252080"/>
            <a:chOff x="489960" y="765000"/>
            <a:chExt cx="4108680" cy="1252080"/>
          </a:xfrm>
        </p:grpSpPr>
        <p:sp>
          <p:nvSpPr>
            <p:cNvPr id="188" name=""/>
            <p:cNvSpPr/>
            <p:nvPr/>
          </p:nvSpPr>
          <p:spPr>
            <a:xfrm>
              <a:off x="489960" y="1557360"/>
              <a:ext cx="1713960" cy="45972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у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293560" y="765000"/>
              <a:ext cx="2305080" cy="7192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61080" y="765000"/>
            <a:ext cx="3868560" cy="1252080"/>
            <a:chOff x="4861080" y="765000"/>
            <a:chExt cx="3868560" cy="1252080"/>
          </a:xfrm>
        </p:grpSpPr>
        <p:sp>
          <p:nvSpPr>
            <p:cNvPr id="191" name=""/>
            <p:cNvSpPr/>
            <p:nvPr/>
          </p:nvSpPr>
          <p:spPr>
            <a:xfrm>
              <a:off x="7157520" y="1557360"/>
              <a:ext cx="1572120" cy="45972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61080" y="765000"/>
              <a:ext cx="2231640" cy="719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 txBox="1"/>
          <p:nvPr/>
        </p:nvSpPr>
        <p:spPr>
          <a:xfrm>
            <a:off x="108000" y="3573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убъект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01360" y="2276640"/>
            <a:ext cx="635580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Носители гражданских правомочий (прав)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обязанносте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Физические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Юридические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Российская Федера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Субъекты Р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Муниципальные образов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Иностранные госуд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840" y="5661000"/>
            <a:ext cx="89802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обязательно участие 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не менее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2 субъекто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правомоченная (имеющая права)  и обязанная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48428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держан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43120" y="936720"/>
            <a:ext cx="635148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авомочия (права) и обязанности его уч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ников (субъек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ам одной стороны обязательно отвеч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ют юридические обязанности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2784600"/>
            <a:ext cx="6486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ражданское правоотношение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716120" y="333072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Делится в зависимости от содерж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8360" y="3933720"/>
            <a:ext cx="3887280" cy="1008000"/>
            <a:chOff x="468360" y="3933720"/>
            <a:chExt cx="3887280" cy="1008000"/>
          </a:xfrm>
        </p:grpSpPr>
        <p:sp>
          <p:nvSpPr>
            <p:cNvPr id="202" name=""/>
            <p:cNvSpPr txBox="1"/>
            <p:nvPr/>
          </p:nvSpPr>
          <p:spPr>
            <a:xfrm>
              <a:off x="468360" y="4408560"/>
              <a:ext cx="1895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Прост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484000" y="3933720"/>
              <a:ext cx="187164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643280" y="3933720"/>
            <a:ext cx="4056120" cy="1008000"/>
            <a:chOff x="4643280" y="3933720"/>
            <a:chExt cx="4056120" cy="1008000"/>
          </a:xfrm>
        </p:grpSpPr>
        <p:sp>
          <p:nvSpPr>
            <p:cNvPr id="205" name=""/>
            <p:cNvSpPr txBox="1"/>
            <p:nvPr/>
          </p:nvSpPr>
          <p:spPr>
            <a:xfrm>
              <a:off x="6588000" y="4479840"/>
              <a:ext cx="211140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Сложн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43280" y="3933720"/>
              <a:ext cx="187200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5960" y="5261040"/>
            <a:ext cx="43243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дному правомочию со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вует одна обяза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договор зай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13400" y="5261040"/>
            <a:ext cx="44967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дному правомочию со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вует несколько обяза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договор перевозки гру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89000" y="109224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бъект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24120" y="907920"/>
            <a:ext cx="6127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о, на что направлена деятельность уча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иков правоотно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4360" y="2025720"/>
            <a:ext cx="122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К РФ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т.128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84360" y="2009880"/>
            <a:ext cx="608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ъекты правоотношений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79640" y="5157720"/>
            <a:ext cx="1085760" cy="1154880"/>
            <a:chOff x="1979640" y="5157720"/>
            <a:chExt cx="1085760" cy="1154880"/>
          </a:xfrm>
        </p:grpSpPr>
        <p:pic>
          <p:nvPicPr>
            <p:cNvPr id="215" name="" descr=""/>
            <p:cNvPicPr/>
            <p:nvPr/>
          </p:nvPicPr>
          <p:blipFill>
            <a:blip r:embed="rId6"/>
            <a:stretch/>
          </p:blipFill>
          <p:spPr>
            <a:xfrm>
              <a:off x="1979640" y="5157720"/>
              <a:ext cx="10857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985400" y="5852880"/>
              <a:ext cx="107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ещ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2960" y="3184560"/>
            <a:ext cx="1546200" cy="1760400"/>
            <a:chOff x="462960" y="3184560"/>
            <a:chExt cx="1546200" cy="176040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57080" y="3184560"/>
              <a:ext cx="100800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62960" y="4119480"/>
              <a:ext cx="15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рабо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 услуг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975560" y="4941720"/>
            <a:ext cx="2285280" cy="1418400"/>
            <a:chOff x="4975560" y="4941720"/>
            <a:chExt cx="2285280" cy="1418400"/>
          </a:xfrm>
        </p:grpSpPr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5628960" y="4941720"/>
              <a:ext cx="9763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975560" y="5900400"/>
              <a:ext cx="22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нформ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20240" y="3068640"/>
            <a:ext cx="3190680" cy="1876320"/>
            <a:chOff x="2820240" y="3068640"/>
            <a:chExt cx="3190680" cy="1876320"/>
          </a:xfrm>
        </p:grpSpPr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82960" y="3068640"/>
              <a:ext cx="10652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820240" y="4119480"/>
              <a:ext cx="31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нтеллекту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бствен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64000" y="3357720"/>
            <a:ext cx="2974320" cy="1587240"/>
            <a:chOff x="6264000" y="3357720"/>
            <a:chExt cx="2974320" cy="1587240"/>
          </a:xfrm>
        </p:grpSpPr>
        <p:pic>
          <p:nvPicPr>
            <p:cNvPr id="227" name="" descr=""/>
            <p:cNvPicPr/>
            <p:nvPr/>
          </p:nvPicPr>
          <p:blipFill>
            <a:blip r:embed="rId10"/>
            <a:stretch/>
          </p:blipFill>
          <p:spPr>
            <a:xfrm>
              <a:off x="7138800" y="3357720"/>
              <a:ext cx="122400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264000" y="4119480"/>
              <a:ext cx="29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е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бла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3-09-07T11:24:07Z</dcterms:modified>
  <cp:revision>2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