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9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7.gif" ContentType="image/gif"/>
  <Override PartName="/ppt/media/image2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gif" ContentType="image/gif"/>
  <Override PartName="/ppt/media/image1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CE8-3EC6-45FA-B715-A0754BCD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E25-2259-4775-B1F0-9DCBC29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A91-A36B-4E4F-9C40-6C117B56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BF23-7C18-4DD5-AFED-879F4DDD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581-74CF-42EB-9173-36338C06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C389-8D8C-4527-AF60-86CACDE0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343-76F0-44B0-8B72-3004BDD0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9A8E-421D-4237-B5F9-C717F2D6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90D0-AC9E-4D33-9037-70ED7CD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1BAB-458B-41EE-A399-4ED30C1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81B-AB2F-4594-AF6D-0AFD61E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EDD-2B63-41CB-A76E-CAD51C7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5448-F2CC-454E-B033-BB2E738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1F7-7B98-42DD-831C-EFEBBA45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3EB4-E7E1-4D9F-AA36-AAD0EB6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C0CD-37A7-48FC-A88D-45639990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0E94-C7B5-4D0D-A62A-66ABF067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A54-00CE-486E-AC6A-4DC5BD9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DCC-BB4F-4472-A990-556AB07C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89F-E0D3-4B3E-9E3E-BB32CAA7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303-B962-4E7D-BDE6-81A0945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D82-2DAC-4B35-B9D0-D6BA7BD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E7F-D4D1-41C6-A17F-B8D23C2D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B0BC-974F-42CE-A8BA-5E807D0B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3BC-87CF-43FC-8128-85B346393C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6B5-7073-4344-9A01-0134C13438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5440" y="404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1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421000"/>
            <a:ext cx="6697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право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правоотнош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8000" y="907920"/>
            <a:ext cx="20876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юридически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факт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52680" y="765000"/>
            <a:ext cx="65768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стоятельство, с наличием, или отсутств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торого закон связывает возникновение, из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нение и прекращение прав и обязан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763640" y="2208240"/>
            <a:ext cx="58197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Виды юридических факто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09080" y="2708280"/>
            <a:ext cx="8881200" cy="265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, предусмотренные зако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говоры и сделки не предусмотренные законом, но не про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речащие ем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акты государственных и муниципальных орган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удебные реш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здание продуктов интеллектуальной деятель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1680" y="5589720"/>
            <a:ext cx="859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фикация юридических фак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сходит из различных основ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765000"/>
            <a:ext cx="820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События и действия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1160" y="1341360"/>
            <a:ext cx="40035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независимо от воли субъ-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16440" y="1484280"/>
            <a:ext cx="400356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явления, происходящие по воле субъ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2360" y="2728800"/>
            <a:ext cx="40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бсолют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смерть, ст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хийное действие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тносительные</a:t>
            </a: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 – ист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Times New Roman"/>
              </a:rPr>
              <a:t>срока действия договора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0880" y="2708280"/>
            <a:ext cx="426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соответств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ют требованиям зак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правомерные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 – не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ствуют требованиям закона</a:t>
            </a:r>
            <a:r>
              <a:rPr b="0" lang="ru-RU" sz="2400" spc="-1" strike="noStrike">
                <a:solidFill>
                  <a:srgbClr val="cc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44800" y="4224240"/>
            <a:ext cx="5048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авомерные действия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68360" y="4581360"/>
            <a:ext cx="4032360" cy="1656000"/>
            <a:chOff x="468360" y="4581360"/>
            <a:chExt cx="4032360" cy="1656000"/>
          </a:xfrm>
        </p:grpSpPr>
        <p:sp>
          <p:nvSpPr>
            <p:cNvPr id="243" name=""/>
            <p:cNvSpPr txBox="1"/>
            <p:nvPr/>
          </p:nvSpPr>
          <p:spPr>
            <a:xfrm>
              <a:off x="468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акт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348000" y="4581360"/>
              <a:ext cx="115272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500720" y="4581360"/>
            <a:ext cx="4032000" cy="1656000"/>
            <a:chOff x="4500720" y="4581360"/>
            <a:chExt cx="4032000" cy="1656000"/>
          </a:xfrm>
        </p:grpSpPr>
        <p:sp>
          <p:nvSpPr>
            <p:cNvPr id="246" name=""/>
            <p:cNvSpPr txBox="1"/>
            <p:nvPr/>
          </p:nvSpPr>
          <p:spPr>
            <a:xfrm>
              <a:off x="5724360" y="5415120"/>
              <a:ext cx="2808360" cy="82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Юридическ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оступк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00720" y="4581360"/>
              <a:ext cx="1152360" cy="792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32000" y="836640"/>
            <a:ext cx="58676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дминистративные, или судебные акты  сделки и судебные решения, устанавли-вающие гражданские права и обязан-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3984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3249720"/>
            <a:ext cx="280836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Юридическ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ступк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32000" y="2664000"/>
            <a:ext cx="586764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ействия, влекущие за собой граждан-ско-правовые последствия при дости-жении результата безотносительно от направленности воли лица, совершаю-щего юридический поступок (ех: кла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2560" y="4797360"/>
            <a:ext cx="8814240" cy="675720"/>
            <a:chOff x="142560" y="4797360"/>
            <a:chExt cx="8814240" cy="675720"/>
          </a:xfrm>
        </p:grpSpPr>
        <p:sp>
          <p:nvSpPr>
            <p:cNvPr id="254" name=""/>
            <p:cNvSpPr txBox="1"/>
            <p:nvPr/>
          </p:nvSpPr>
          <p:spPr>
            <a:xfrm>
              <a:off x="3780000" y="4797360"/>
              <a:ext cx="156204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СДЕЛКИ</a:t>
              </a:r>
              <a:endPara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560" y="5013360"/>
              <a:ext cx="88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(наиболее широкая и важная категория юридических фактов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5720" y="5445000"/>
            <a:ext cx="87411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-действия субъектов, специально направленные на возник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ение, изменение, или прекращение гражданских правоот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ш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Юридические факты и гражданские правоотношения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08360" y="1055520"/>
            <a:ext cx="15620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ДЕЛКИ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79280" y="1557360"/>
            <a:ext cx="3960360" cy="792000"/>
            <a:chOff x="179280" y="1557360"/>
            <a:chExt cx="3960360" cy="792000"/>
          </a:xfrm>
        </p:grpSpPr>
        <p:sp>
          <p:nvSpPr>
            <p:cNvPr id="260" name=""/>
            <p:cNvSpPr txBox="1"/>
            <p:nvPr/>
          </p:nvSpPr>
          <p:spPr>
            <a:xfrm>
              <a:off x="179280" y="1916280"/>
              <a:ext cx="2808000" cy="43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оговор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05856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86200" y="1268280"/>
            <a:ext cx="4106880" cy="1008360"/>
            <a:chOff x="4786200" y="1268280"/>
            <a:chExt cx="4106880" cy="1008360"/>
          </a:xfrm>
        </p:grpSpPr>
        <p:sp>
          <p:nvSpPr>
            <p:cNvPr id="263" name=""/>
            <p:cNvSpPr txBox="1"/>
            <p:nvPr/>
          </p:nvSpPr>
          <p:spPr>
            <a:xfrm>
              <a:off x="5867280" y="1268280"/>
              <a:ext cx="3025800" cy="10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односторонн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действ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86200" y="1557360"/>
              <a:ext cx="1081080" cy="503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 txBox="1"/>
          <p:nvPr/>
        </p:nvSpPr>
        <p:spPr>
          <a:xfrm>
            <a:off x="539640" y="2781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Правообразующие, правоизменяющие,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прекращающ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7000" y="4076640"/>
            <a:ext cx="878508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Один и тот же юридический факт может выпол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ные функ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-для возникновения гражданско-правовых послед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й иногда неодходим не один, а несколько юрид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ческих фактов (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юрид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, или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ahoma"/>
              </a:rPr>
              <a:t>фактический</a:t>
            </a: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 со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тав).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ех: вступление в наслед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7520" y="765000"/>
            <a:ext cx="83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Деление происходит в зависимости от критери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148428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Имущественные и неимуществен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7720" y="2298600"/>
            <a:ext cx="79621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Имуществе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то, или иное материальное бла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возникают по поводу принадлежности имущества,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ерехода права владения от одного субъекта к друг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32920" y="4824360"/>
            <a:ext cx="701136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Неимуществе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 Black"/>
              </a:rPr>
              <a:t>-</a:t>
            </a: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объект – неимущественные пра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f2d25"/>
                </a:solidFill>
                <a:uFillTx/>
                <a:latin typeface="Arial"/>
              </a:rPr>
              <a:t>и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к отношениям  не применима исковая давн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Абсолютные и относитель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760" y="2443320"/>
            <a:ext cx="79804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Абсолют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управомоченному лицу(ех:собственнику) противосто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еопределенно широкий круг обязанных ли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оведение обязанных лиц состоит в не нарушении пр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Управомоченного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720" y="4824360"/>
            <a:ext cx="76759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тнос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одному управомоченному лицу противостоит опред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ленный круг обязанных лиц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(должник-креди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21760" y="1454040"/>
            <a:ext cx="700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численности и определен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бъектного сост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4000" y="930240"/>
            <a:ext cx="85849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Вещные и обязательны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0040" y="2276640"/>
            <a:ext cx="8395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Black"/>
              </a:rPr>
              <a:t>а)Вещ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посредством собственных действий (е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право собствен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вещных прав осуществляется на основе вещ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и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" y="4581360"/>
            <a:ext cx="840276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 Black"/>
              </a:rPr>
              <a:t>б)Обяза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о реализуется на основе требований активного дей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вия от обязанного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защита обязательного права осуществляется на основе и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ка о возмещении понесенных убы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1760" y="1382760"/>
            <a:ext cx="84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основе - способ реализации правомочия, принадлежа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го носите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4760" y="1844280"/>
            <a:ext cx="8697960" cy="453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1.Источники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3.Элементы гражданского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4.Юридические факты и гражданские правоотно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5.Вид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Источники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9079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Гражданский кодекс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840" y="1308240"/>
            <a:ext cx="87328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Основной регулятор товарно-денежных отношений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Первая часть вступила в силу с 1.1.199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торая часть - с 1.3.199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87440" y="270972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Федеральные закон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035160"/>
            <a:ext cx="87328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Регулирующие отношения, составляющие предмет гражданск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87440" y="399888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Подзаконые а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325760"/>
            <a:ext cx="873288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Указы Президента, постановления Правительства, акты министерств и федеральных органов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7440" y="5697360"/>
            <a:ext cx="813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4.Иные источник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6064200"/>
            <a:ext cx="873288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66"/>
                </a:solidFill>
                <a:uFillTx/>
                <a:latin typeface="Times New Roman"/>
              </a:rPr>
              <a:t>Например –обыч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022400"/>
            <a:ext cx="24447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71640" y="884160"/>
            <a:ext cx="619308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Регулирует определенный круг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нных отношений, называемых предме-том гражданск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20720" y="2422440"/>
            <a:ext cx="619128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Предмет гражданского прав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3178080"/>
            <a:ext cx="828036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мущественные отношения, т.е. отношения, складыва-ющиеся по поводу материальных бл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4967280"/>
            <a:ext cx="417672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язанные с принадлеж-ностью определенных иму-щественных благ (отноше-ния собствен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4967280"/>
            <a:ext cx="432144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вязанные с переходом иму-щественных прав от одного субъекта, к другому.(до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ры, наследование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03640" y="4292640"/>
            <a:ext cx="2663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1 группа</a:t>
            </a:r>
            <a:endParaRPr b="1" lang="en-US" sz="18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450800"/>
            <a:ext cx="8785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имущественные отношения связанные с имущественны-ми (авторское право, использование товарных знаков и д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03640" y="730080"/>
            <a:ext cx="26636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f2d25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2 группа</a:t>
            </a:r>
            <a:endParaRPr b="1" lang="en-US" sz="1800" spc="1" strike="noStrike">
              <a:ln w="9360">
                <a:solidFill>
                  <a:srgbClr val="2f2d25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44440" y="2565360"/>
            <a:ext cx="8648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ражданско-правовое регулирован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3292560"/>
            <a:ext cx="828036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ирует так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отчуждаемые права и свободы чело-века и др. нематериальные бл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жизнь, здоровье, честь и достоинство личности, деловую репутацию, неприкосновенность частной жизни, личную и семейную тайну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ношения между предпринимателями, или с их участ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редмет и метод гражданского пра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224000"/>
            <a:ext cx="878544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ражданское право указывает на основания при которых абкстрактно-возможное регулирование превращается в реальное. Эти основания называются </a:t>
            </a:r>
            <a:r>
              <a:rPr b="1" lang="ru-RU" sz="2400" spc="-1" strike="noStrike">
                <a:solidFill>
                  <a:srgbClr val="993366"/>
                </a:solidFill>
                <a:latin typeface="Times New Roman"/>
              </a:rPr>
              <a:t>ЮРИДИЧЕСКИМИ ФАК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3368520"/>
            <a:ext cx="785016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щественные отношения после его урегулирования гражданским правом превращается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ражданское правовое отно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но представляет собой связь между участниками гражданского правового отношения, в силу которой они выступают в качестве обладателей субъективных гражданских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91720" y="763560"/>
            <a:ext cx="2154240" cy="1253520"/>
            <a:chOff x="3591720" y="763560"/>
            <a:chExt cx="2154240" cy="1253520"/>
          </a:xfrm>
        </p:grpSpPr>
        <p:sp>
          <p:nvSpPr>
            <p:cNvPr id="185" name=""/>
            <p:cNvSpPr/>
            <p:nvPr/>
          </p:nvSpPr>
          <p:spPr>
            <a:xfrm>
              <a:off x="3591720" y="1557360"/>
              <a:ext cx="2154240" cy="459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одерж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6360" y="763560"/>
              <a:ext cx="0" cy="7207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89960" y="765000"/>
            <a:ext cx="4108680" cy="1252080"/>
            <a:chOff x="489960" y="765000"/>
            <a:chExt cx="4108680" cy="1252080"/>
          </a:xfrm>
        </p:grpSpPr>
        <p:sp>
          <p:nvSpPr>
            <p:cNvPr id="188" name=""/>
            <p:cNvSpPr/>
            <p:nvPr/>
          </p:nvSpPr>
          <p:spPr>
            <a:xfrm>
              <a:off x="489960" y="1557360"/>
              <a:ext cx="1713960" cy="45972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у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293560" y="765000"/>
              <a:ext cx="2305080" cy="7192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61080" y="765000"/>
            <a:ext cx="3868560" cy="1252080"/>
            <a:chOff x="4861080" y="765000"/>
            <a:chExt cx="3868560" cy="1252080"/>
          </a:xfrm>
        </p:grpSpPr>
        <p:sp>
          <p:nvSpPr>
            <p:cNvPr id="191" name=""/>
            <p:cNvSpPr/>
            <p:nvPr/>
          </p:nvSpPr>
          <p:spPr>
            <a:xfrm>
              <a:off x="7157520" y="1557360"/>
              <a:ext cx="1572120" cy="45972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61080" y="765000"/>
              <a:ext cx="2231640" cy="71928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 txBox="1"/>
          <p:nvPr/>
        </p:nvSpPr>
        <p:spPr>
          <a:xfrm>
            <a:off x="108000" y="3573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убъекты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01360" y="2276640"/>
            <a:ext cx="635580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Носители гражданских правомочий (прав)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обязанносте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Физические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Юридические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Российская Федер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Субъекты РФ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Муниципальные образов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Иностранные госуда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840" y="5661000"/>
            <a:ext cx="89802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-обязательно участие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не менее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2 субъект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правомоченная (имеющая права)  и обязанная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48428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одержание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43120" y="936720"/>
            <a:ext cx="635148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авомочия (права) и обязанности его уч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ников (субъект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-правам одной стороны обязательно отвеч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Times New Roman"/>
              </a:rPr>
              <a:t>ют юридические обязанности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2784600"/>
            <a:ext cx="64864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ражданское правоотношение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1716120" y="333072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Делится в зависимости от содерж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68360" y="3933720"/>
            <a:ext cx="3887280" cy="1008000"/>
            <a:chOff x="468360" y="3933720"/>
            <a:chExt cx="3887280" cy="1008000"/>
          </a:xfrm>
        </p:grpSpPr>
        <p:sp>
          <p:nvSpPr>
            <p:cNvPr id="202" name=""/>
            <p:cNvSpPr txBox="1"/>
            <p:nvPr/>
          </p:nvSpPr>
          <p:spPr>
            <a:xfrm>
              <a:off x="468360" y="4408560"/>
              <a:ext cx="1895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Прост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484000" y="3933720"/>
              <a:ext cx="1871640" cy="57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643280" y="3933720"/>
            <a:ext cx="4056120" cy="1008000"/>
            <a:chOff x="4643280" y="3933720"/>
            <a:chExt cx="4056120" cy="1008000"/>
          </a:xfrm>
        </p:grpSpPr>
        <p:sp>
          <p:nvSpPr>
            <p:cNvPr id="205" name=""/>
            <p:cNvSpPr txBox="1"/>
            <p:nvPr/>
          </p:nvSpPr>
          <p:spPr>
            <a:xfrm>
              <a:off x="6588000" y="4479840"/>
              <a:ext cx="2111400" cy="46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Сложн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43280" y="3933720"/>
              <a:ext cx="1872000" cy="576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5960" y="5261040"/>
            <a:ext cx="432432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одна обяза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зай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13400" y="5261040"/>
            <a:ext cx="44967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дному правомочию со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вует несколько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договор перевозки гру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Элементы гражданского правоотношени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9000" y="109224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бъект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24120" y="907920"/>
            <a:ext cx="6127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То, на что направлена деятельность уча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ников правоотно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4360" y="2025720"/>
            <a:ext cx="122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К РФ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т.128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484360" y="2009880"/>
            <a:ext cx="608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бъекты правоотношени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979640" y="5157720"/>
            <a:ext cx="1085760" cy="1154880"/>
            <a:chOff x="1979640" y="5157720"/>
            <a:chExt cx="1085760" cy="1154880"/>
          </a:xfrm>
        </p:grpSpPr>
        <p:pic>
          <p:nvPicPr>
            <p:cNvPr id="215" name="" descr=""/>
            <p:cNvPicPr/>
            <p:nvPr/>
          </p:nvPicPr>
          <p:blipFill>
            <a:blip r:embed="rId6"/>
            <a:stretch/>
          </p:blipFill>
          <p:spPr>
            <a:xfrm>
              <a:off x="1979640" y="5157720"/>
              <a:ext cx="10857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985400" y="5852880"/>
              <a:ext cx="107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ещ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2960" y="3184560"/>
            <a:ext cx="1546200" cy="1760400"/>
            <a:chOff x="462960" y="3184560"/>
            <a:chExt cx="1546200" cy="176040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57080" y="3184560"/>
              <a:ext cx="1008000" cy="9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62960" y="4119480"/>
              <a:ext cx="15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рабо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 услуг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975560" y="4941720"/>
            <a:ext cx="2285280" cy="1418400"/>
            <a:chOff x="4975560" y="4941720"/>
            <a:chExt cx="2285280" cy="1418400"/>
          </a:xfrm>
        </p:grpSpPr>
        <p:pic>
          <p:nvPicPr>
            <p:cNvPr id="221" name="" descr=""/>
            <p:cNvPicPr/>
            <p:nvPr/>
          </p:nvPicPr>
          <p:blipFill>
            <a:blip r:embed="rId8"/>
            <a:stretch/>
          </p:blipFill>
          <p:spPr>
            <a:xfrm>
              <a:off x="5628960" y="4941720"/>
              <a:ext cx="97632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975560" y="5900400"/>
              <a:ext cx="22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формац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20240" y="3068640"/>
            <a:ext cx="3190680" cy="1876320"/>
            <a:chOff x="2820240" y="3068640"/>
            <a:chExt cx="3190680" cy="1876320"/>
          </a:xfrm>
        </p:grpSpPr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82960" y="3068640"/>
              <a:ext cx="106524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820240" y="4119480"/>
              <a:ext cx="31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нтеллектуальн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бственност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264000" y="3357720"/>
            <a:ext cx="2974320" cy="1587240"/>
            <a:chOff x="6264000" y="3357720"/>
            <a:chExt cx="2974320" cy="1587240"/>
          </a:xfrm>
        </p:grpSpPr>
        <p:pic>
          <p:nvPicPr>
            <p:cNvPr id="227" name="" descr=""/>
            <p:cNvPicPr/>
            <p:nvPr/>
          </p:nvPicPr>
          <p:blipFill>
            <a:blip r:embed="rId10"/>
            <a:stretch/>
          </p:blipFill>
          <p:spPr>
            <a:xfrm>
              <a:off x="7138800" y="3357720"/>
              <a:ext cx="122400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264000" y="4119480"/>
              <a:ext cx="29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ематер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благ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3-09-07T11:24:07Z</dcterms:modified>
  <cp:revision>24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