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2.wmf" ContentType="image/x-wmf"/>
  <Override PartName="/ppt/media/image4.png" ContentType="image/png"/>
  <Override PartName="/ppt/media/image10.jpeg" ContentType="image/jpeg"/>
  <Override PartName="/ppt/media/image9.png" ContentType="image/png"/>
  <Override PartName="/ppt/media/image8.wmf" ContentType="image/x-wmf"/>
  <Override PartName="/ppt/media/image7.png" ContentType="image/png"/>
  <Override PartName="/ppt/media/image1.jpeg" ContentType="image/jpeg"/>
  <Override PartName="/ppt/media/image20.jpeg" ContentType="image/jpeg"/>
  <Override PartName="/ppt/media/image14.gif" ContentType="image/gif"/>
  <Override PartName="/ppt/media/image21.wmf" ContentType="image/x-wmf"/>
  <Override PartName="/ppt/media/image19.wmf" ContentType="image/x-wmf"/>
  <Override PartName="/ppt/media/image22.png" ContentType="image/png"/>
  <Override PartName="/ppt/media/image17.gif" ContentType="image/gif"/>
  <Override PartName="/ppt/media/image2.jpeg" ContentType="image/jpeg"/>
  <Override PartName="/ppt/media/image16.wmf" ContentType="image/x-wmf"/>
  <Override PartName="/ppt/media/image18.png" ContentType="image/png"/>
  <Override PartName="/ppt/media/image15.gif" ContentType="image/gif"/>
  <Override PartName="/ppt/media/image3.jpeg" ContentType="image/jpeg"/>
  <Override PartName="/ppt/media/image5.wmf" ContentType="image/x-wmf"/>
  <Override PartName="/ppt/media/image6.wmf" ContentType="image/x-wmf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4A00-E326-446C-9A8C-41D831CEC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D9E0-8555-4716-BFC4-1AC6D760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2346-B4D7-4F0D-951C-A730EF9CE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AD6E-872E-42FD-9E77-63DA62C3A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18F3-672B-4B1D-AB3A-31AA99E0E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17CE-2472-4A00-8734-82BC1F56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D8BE-567D-4232-8B72-2363A48D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5F33-8541-4FF3-8818-4A98595C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CE21-366E-4278-A3D9-B485E8BE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F217-DCBC-4B6C-9DAF-E2AE00D6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6C59-2F36-48FC-821E-0B6CE6B6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C419-2258-451F-8EF1-7AE3FADC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5739-510E-4A70-BB63-A68373B2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E546-5EA8-44A4-94AE-482E8AC8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8590-C07D-4377-AB47-F3B74E25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44BD-B754-497C-BD9B-1EA2CD974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0D12-163F-43B1-BB3F-B0F3F747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137C-5361-4B02-A84C-B651D862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5938-1AB7-43E0-9C53-899623A0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7553-B18F-49C4-BF54-90664F77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CBA0-6016-4CC3-966D-DB7795D1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8896-488F-4944-92DD-40123DB8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5B78-9720-4DD6-8AC7-0A6805F9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9328-A40A-4468-8EF4-578B7F00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39A3-B972-4BA7-B7D5-9C6F8627892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FBBD-D3A7-4E60-A714-1D98C17A2DD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jpeg"/><Relationship Id="rId3" Type="http://schemas.openxmlformats.org/officeDocument/2006/relationships/image" Target="../media/image15.gif"/><Relationship Id="rId4" Type="http://schemas.openxmlformats.org/officeDocument/2006/relationships/image" Target="../media/image16.wmf"/><Relationship Id="rId5" Type="http://schemas.openxmlformats.org/officeDocument/2006/relationships/image" Target="../media/image17.gif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9.wmf"/><Relationship Id="rId3" Type="http://schemas.openxmlformats.org/officeDocument/2006/relationships/image" Target="../media/image20.jpeg"/><Relationship Id="rId4" Type="http://schemas.openxmlformats.org/officeDocument/2006/relationships/image" Target="../media/image21.wmf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.jpeg"/><Relationship Id="rId4" Type="http://schemas.openxmlformats.org/officeDocument/2006/relationships/image" Target="../media/image8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wmf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77480" y="189000"/>
            <a:ext cx="164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сно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осудар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 пр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037040" y="5970600"/>
            <a:ext cx="183024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 класс</a:t>
            </a:r>
            <a:endParaRPr b="1" lang="en-US" sz="1800" spc="1" strike="noStrike">
              <a:ln w="9360">
                <a:solidFill>
                  <a:srgbClr val="ffffcc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07880" y="40464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Урок № 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95280" y="2205000"/>
            <a:ext cx="50403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Нормы пра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и его источни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4.Структура нормы права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60200" y="836640"/>
            <a:ext cx="2076480" cy="1729800"/>
            <a:chOff x="160200" y="836640"/>
            <a:chExt cx="2076480" cy="1729800"/>
          </a:xfrm>
        </p:grpSpPr>
        <p:pic>
          <p:nvPicPr>
            <p:cNvPr id="268" name="" descr=""/>
            <p:cNvPicPr/>
            <p:nvPr/>
          </p:nvPicPr>
          <p:blipFill>
            <a:blip r:embed="rId1"/>
            <a:stretch/>
          </p:blipFill>
          <p:spPr>
            <a:xfrm>
              <a:off x="669960" y="836640"/>
              <a:ext cx="1057320" cy="13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60200" y="2106720"/>
              <a:ext cx="207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Во времен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763640" y="863640"/>
            <a:ext cx="7178760" cy="1557000"/>
            <a:chOff x="1763640" y="863640"/>
            <a:chExt cx="7178760" cy="1557000"/>
          </a:xfrm>
        </p:grpSpPr>
        <p:sp>
          <p:nvSpPr>
            <p:cNvPr id="271" name=""/>
            <p:cNvSpPr/>
            <p:nvPr/>
          </p:nvSpPr>
          <p:spPr>
            <a:xfrm>
              <a:off x="2450880" y="863640"/>
              <a:ext cx="6491520" cy="155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2f2d25"/>
                  </a:solidFill>
                  <a:uFillTx/>
                  <a:latin typeface="Times New Roman"/>
                </a:rPr>
                <a:t>Общее правило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00000"/>
                  </a:solidFill>
                  <a:latin typeface="Times New Roman"/>
                </a:rPr>
                <a:t>Вступают в силу через 10 дней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00000"/>
                  </a:solidFill>
                  <a:latin typeface="Times New Roman"/>
                </a:rPr>
                <a:t>с момента публикаци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00000"/>
                  </a:solidFill>
                  <a:latin typeface="Times New Roman"/>
                </a:rPr>
                <a:t>(публикуются через 7 дней с момента принятия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763640" y="1677960"/>
              <a:ext cx="5047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97800" y="2563920"/>
            <a:ext cx="2745720" cy="2429640"/>
            <a:chOff x="397800" y="2563920"/>
            <a:chExt cx="2745720" cy="2429640"/>
          </a:xfrm>
        </p:grpSpPr>
        <p:grpSp>
          <p:nvGrpSpPr>
            <p:cNvPr id="274" name=""/>
            <p:cNvGrpSpPr/>
            <p:nvPr/>
          </p:nvGrpSpPr>
          <p:grpSpPr>
            <a:xfrm>
              <a:off x="397800" y="3016080"/>
              <a:ext cx="2745720" cy="1977480"/>
              <a:chOff x="397800" y="3016080"/>
              <a:chExt cx="2745720" cy="1977480"/>
            </a:xfrm>
          </p:grpSpPr>
          <p:pic>
            <p:nvPicPr>
              <p:cNvPr id="27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198440" y="3016080"/>
                <a:ext cx="1143000" cy="127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"/>
              <p:cNvSpPr/>
              <p:nvPr/>
            </p:nvSpPr>
            <p:spPr>
              <a:xfrm>
                <a:off x="397800" y="4168080"/>
                <a:ext cx="2745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ccff"/>
                    </a:solidFill>
                    <a:latin typeface="Times New Roman"/>
                  </a:rPr>
                  <a:t>Может указываться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ccff"/>
                    </a:solidFill>
                    <a:latin typeface="Times New Roman"/>
                  </a:rPr>
                  <a:t>конкретная дат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1618920" y="2563920"/>
              <a:ext cx="0" cy="431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619280" y="2563920"/>
            <a:ext cx="4281840" cy="2521080"/>
            <a:chOff x="1619280" y="2563920"/>
            <a:chExt cx="4281840" cy="2521080"/>
          </a:xfrm>
        </p:grpSpPr>
        <p:grpSp>
          <p:nvGrpSpPr>
            <p:cNvPr id="279" name=""/>
            <p:cNvGrpSpPr/>
            <p:nvPr/>
          </p:nvGrpSpPr>
          <p:grpSpPr>
            <a:xfrm>
              <a:off x="3102120" y="3068640"/>
              <a:ext cx="2799000" cy="2016360"/>
              <a:chOff x="3102120" y="3068640"/>
              <a:chExt cx="2799000" cy="2016360"/>
            </a:xfrm>
          </p:grpSpPr>
          <p:pic>
            <p:nvPicPr>
              <p:cNvPr id="2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811680" y="3068640"/>
                <a:ext cx="1408320" cy="112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"/>
              <p:cNvSpPr/>
              <p:nvPr/>
            </p:nvSpPr>
            <p:spPr>
              <a:xfrm>
                <a:off x="3102120" y="4168080"/>
                <a:ext cx="27990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Акты правительства-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С момента подписания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(если не указано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1619280" y="2563920"/>
              <a:ext cx="2160720" cy="504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6063120" y="4227480"/>
            <a:ext cx="265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С момента получ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адресат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619280" y="2565360"/>
            <a:ext cx="6564240" cy="1719360"/>
            <a:chOff x="1619280" y="2565360"/>
            <a:chExt cx="6564240" cy="1719360"/>
          </a:xfrm>
        </p:grpSpPr>
        <p:pic>
          <p:nvPicPr>
            <p:cNvPr id="285" name="" descr=""/>
            <p:cNvPicPr/>
            <p:nvPr/>
          </p:nvPicPr>
          <p:blipFill>
            <a:blip r:embed="rId5"/>
            <a:stretch/>
          </p:blipFill>
          <p:spPr>
            <a:xfrm>
              <a:off x="6600960" y="3149640"/>
              <a:ext cx="158256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1619280" y="2565360"/>
              <a:ext cx="5040360" cy="719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"/>
          <p:cNvSpPr txBox="1"/>
          <p:nvPr/>
        </p:nvSpPr>
        <p:spPr>
          <a:xfrm>
            <a:off x="971640" y="5516640"/>
            <a:ext cx="697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Закон обратной силы не имеет !!!</a:t>
            </a:r>
            <a:endParaRPr b="1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4.Структура нормы права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19320" y="836640"/>
            <a:ext cx="2648160" cy="1623240"/>
            <a:chOff x="319320" y="836640"/>
            <a:chExt cx="2648160" cy="1623240"/>
          </a:xfrm>
        </p:grpSpPr>
        <p:pic>
          <p:nvPicPr>
            <p:cNvPr id="290" name="" descr=""/>
            <p:cNvPicPr/>
            <p:nvPr/>
          </p:nvPicPr>
          <p:blipFill>
            <a:blip r:embed="rId1"/>
            <a:stretch/>
          </p:blipFill>
          <p:spPr>
            <a:xfrm>
              <a:off x="1090800" y="836640"/>
              <a:ext cx="11430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319320" y="2000160"/>
              <a:ext cx="26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В пространств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2268360" y="873000"/>
            <a:ext cx="6672600" cy="1260720"/>
            <a:chOff x="2268360" y="873000"/>
            <a:chExt cx="6672600" cy="1260720"/>
          </a:xfrm>
        </p:grpSpPr>
        <p:grpSp>
          <p:nvGrpSpPr>
            <p:cNvPr id="293" name=""/>
            <p:cNvGrpSpPr/>
            <p:nvPr/>
          </p:nvGrpSpPr>
          <p:grpSpPr>
            <a:xfrm>
              <a:off x="3132000" y="873000"/>
              <a:ext cx="5808960" cy="1260720"/>
              <a:chOff x="3132000" y="873000"/>
              <a:chExt cx="5808960" cy="1260720"/>
            </a:xfrm>
          </p:grpSpPr>
          <p:pic>
            <p:nvPicPr>
              <p:cNvPr id="29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32000" y="1033560"/>
                <a:ext cx="1224000" cy="110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5" name=""/>
              <p:cNvSpPr/>
              <p:nvPr/>
            </p:nvSpPr>
            <p:spPr>
              <a:xfrm>
                <a:off x="4397040" y="873000"/>
                <a:ext cx="4543920" cy="11912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763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800000"/>
                    </a:solidFill>
                    <a:latin typeface="Times New Roman"/>
                  </a:rPr>
                  <a:t>Действуют на территории госу-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800000"/>
                    </a:solidFill>
                    <a:latin typeface="Times New Roman"/>
                  </a:rPr>
                  <a:t>дарства(земля воды,недра,по-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800000"/>
                    </a:solidFill>
                    <a:latin typeface="Times New Roman"/>
                  </a:rPr>
                  <a:t>сольства, корабли в море и др)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2268360" y="1484280"/>
              <a:ext cx="86364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826920" y="2776680"/>
            <a:ext cx="7739280" cy="907920"/>
            <a:chOff x="826920" y="2776680"/>
            <a:chExt cx="7739280" cy="907920"/>
          </a:xfrm>
        </p:grpSpPr>
        <p:pic>
          <p:nvPicPr>
            <p:cNvPr id="298" name="" descr=""/>
            <p:cNvPicPr/>
            <p:nvPr/>
          </p:nvPicPr>
          <p:blipFill>
            <a:blip r:embed="rId4"/>
            <a:stretch/>
          </p:blipFill>
          <p:spPr>
            <a:xfrm>
              <a:off x="826920" y="2776680"/>
              <a:ext cx="90648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1890360" y="2878200"/>
              <a:ext cx="6675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ahoma"/>
                </a:rPr>
                <a:t>Иностранное законодательство действует в случае,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ahoma"/>
                </a:rPr>
                <a:t>оговоренном законодательством государств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0" name=""/>
          <p:cNvSpPr txBox="1"/>
          <p:nvPr/>
        </p:nvSpPr>
        <p:spPr>
          <a:xfrm>
            <a:off x="324000" y="3860640"/>
            <a:ext cx="856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latin typeface="Impact"/>
              </a:rPr>
              <a:t>соотношение местного 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latin typeface="Impact"/>
              </a:rPr>
              <a:t>и центрального законодательств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301" name=""/>
          <p:cNvSpPr/>
          <p:nvPr/>
        </p:nvSpPr>
        <p:spPr>
          <a:xfrm>
            <a:off x="-189000" y="4603680"/>
            <a:ext cx="9514080" cy="19227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1.Законы принятые местными органами власти действую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только на их территор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2.Законы принятые одними субъектами признаются други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3.Если местный закон противоречит центральному, то он объ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является не имеющим сил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4.Структура нормы права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79200" y="836640"/>
            <a:ext cx="2257920" cy="1510560"/>
            <a:chOff x="79200" y="836640"/>
            <a:chExt cx="2257920" cy="1510560"/>
          </a:xfrm>
        </p:grpSpPr>
        <p:pic>
          <p:nvPicPr>
            <p:cNvPr id="304" name="" descr=""/>
            <p:cNvPicPr/>
            <p:nvPr/>
          </p:nvPicPr>
          <p:blipFill>
            <a:blip r:embed="rId1"/>
            <a:stretch/>
          </p:blipFill>
          <p:spPr>
            <a:xfrm>
              <a:off x="365040" y="836640"/>
              <a:ext cx="1584000" cy="10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79200" y="1887480"/>
              <a:ext cx="22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По кругу лиц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085840" y="863640"/>
            <a:ext cx="6696000" cy="1191240"/>
            <a:chOff x="2085840" y="863640"/>
            <a:chExt cx="6696000" cy="1191240"/>
          </a:xfrm>
        </p:grpSpPr>
        <p:sp>
          <p:nvSpPr>
            <p:cNvPr id="307" name=""/>
            <p:cNvSpPr/>
            <p:nvPr/>
          </p:nvSpPr>
          <p:spPr>
            <a:xfrm>
              <a:off x="2703240" y="863640"/>
              <a:ext cx="6078600" cy="1191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2f2d25"/>
                  </a:solidFill>
                  <a:uFillTx/>
                  <a:latin typeface="Times New Roman"/>
                </a:rPr>
                <a:t>Общее правило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00000"/>
                  </a:solidFill>
                  <a:latin typeface="Times New Roman"/>
                </a:rPr>
                <a:t>Распространяется на всех адресатов в рамка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00000"/>
                  </a:solidFill>
                  <a:latin typeface="Times New Roman"/>
                </a:rPr>
                <a:t>территориальной сферы действия акт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85840" y="1495440"/>
              <a:ext cx="505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9" name=""/>
          <p:cNvSpPr txBox="1"/>
          <p:nvPr/>
        </p:nvSpPr>
        <p:spPr>
          <a:xfrm>
            <a:off x="3154320" y="2247840"/>
            <a:ext cx="2857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ключения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539640" y="3141720"/>
            <a:ext cx="813600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1.Должностная, депутатская,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дипломатическая неприкосновенность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9640" y="4211640"/>
            <a:ext cx="813600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2.Ограничиваются в правах иностранцы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и лица без гражданства.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39640" y="5281560"/>
            <a:ext cx="8136000" cy="13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3.Ряд актов предусматривают ответственность вне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зависимости от получения наказания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по нормам иного государства.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2f2d25"/>
              </a:gs>
              <a:gs pos="100000">
                <a:srgbClr val="eaeaea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лан урока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46040" y="2060280"/>
            <a:ext cx="8229600" cy="4032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eaeae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1.Источники прав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2.Закон и подзаконный акт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3.Понятие нормы прав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4.Структура норм прав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.Источники права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8360" y="620640"/>
            <a:ext cx="4247640" cy="965160"/>
            <a:chOff x="468360" y="620640"/>
            <a:chExt cx="4247640" cy="965160"/>
          </a:xfrm>
        </p:grpSpPr>
        <p:sp>
          <p:nvSpPr>
            <p:cNvPr id="160" name=""/>
            <p:cNvSpPr txBox="1"/>
            <p:nvPr/>
          </p:nvSpPr>
          <p:spPr>
            <a:xfrm>
              <a:off x="468360" y="1052640"/>
              <a:ext cx="376236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"/>
                </a:rPr>
                <a:t>Широкий смысл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  <a:ea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3058920" y="620640"/>
              <a:ext cx="1657080" cy="504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643280" y="620640"/>
            <a:ext cx="4176720" cy="863640"/>
            <a:chOff x="4643280" y="620640"/>
            <a:chExt cx="4176720" cy="863640"/>
          </a:xfrm>
        </p:grpSpPr>
        <p:sp>
          <p:nvSpPr>
            <p:cNvPr id="163" name=""/>
            <p:cNvSpPr txBox="1"/>
            <p:nvPr/>
          </p:nvSpPr>
          <p:spPr>
            <a:xfrm>
              <a:off x="5057640" y="1052640"/>
              <a:ext cx="376236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"/>
                </a:rPr>
                <a:t>Узкий смысл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  <a:ea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43280" y="620640"/>
              <a:ext cx="1657440" cy="504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802080" y="1700280"/>
            <a:ext cx="294228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То, что помога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познать прав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73320" y="1557360"/>
            <a:ext cx="413712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То, чем руководству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практика в решен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юридических де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50920" y="2781360"/>
            <a:ext cx="4248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сторические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амятники права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50920" y="3659040"/>
            <a:ext cx="424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анные археологии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50920" y="4249800"/>
            <a:ext cx="4248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ействующие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авовые акты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50920" y="5273640"/>
            <a:ext cx="424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Юридическая практика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50920" y="5864400"/>
            <a:ext cx="424800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оговоры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50920" y="6381720"/>
            <a:ext cx="424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руды,речи юристов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81040" y="2781360"/>
            <a:ext cx="372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ff"/>
                </a:solidFill>
                <a:uFillTx/>
                <a:latin typeface="Tahoma"/>
              </a:rPr>
              <a:t>-Правовой обычай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авило поведени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знанное государств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0840" y="3807000"/>
            <a:ext cx="396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ff"/>
                </a:solidFill>
                <a:uFillTx/>
                <a:latin typeface="Tahoma"/>
              </a:rPr>
              <a:t>-Правовой прецедент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шение по конкретно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лу,обязательное в после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ующих спорах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26040" y="5195880"/>
            <a:ext cx="400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ff"/>
                </a:solidFill>
                <a:uFillTx/>
                <a:latin typeface="Tahoma"/>
              </a:rPr>
              <a:t>-Договор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кт волеизъяв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ния участников общест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енных отношений,поддер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живаемый государств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.Источники права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5400" y="765000"/>
            <a:ext cx="8415000" cy="1557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Источник позитивного(исходящего от государства) прав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о форма выражения государственной воли, направлен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 признание факта на существование права, на его форми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вание, или измен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26080" y="2496960"/>
            <a:ext cx="8793000" cy="2881800"/>
            <a:chOff x="226080" y="2496960"/>
            <a:chExt cx="8793000" cy="2881800"/>
          </a:xfrm>
        </p:grpSpPr>
        <p:grpSp>
          <p:nvGrpSpPr>
            <p:cNvPr id="179" name=""/>
            <p:cNvGrpSpPr/>
            <p:nvPr/>
          </p:nvGrpSpPr>
          <p:grpSpPr>
            <a:xfrm>
              <a:off x="1550880" y="2496960"/>
              <a:ext cx="6334200" cy="899640"/>
              <a:chOff x="1550880" y="2496960"/>
              <a:chExt cx="6334200" cy="899640"/>
            </a:xfrm>
          </p:grpSpPr>
          <p:sp>
            <p:nvSpPr>
              <p:cNvPr id="180" name=""/>
              <p:cNvSpPr txBox="1"/>
              <p:nvPr/>
            </p:nvSpPr>
            <p:spPr>
              <a:xfrm>
                <a:off x="1550880" y="2496960"/>
                <a:ext cx="6334200" cy="571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blipFill rotWithShape="0">
                      <a:blip r:embed="rId2"/>
                      <a:srcRect/>
                      <a:stretch/>
                    </a:blipFill>
                    <a:latin typeface="Impact"/>
                  </a:rPr>
                  <a:t>Особенности источника права :</a:t>
                </a:r>
                <a:endParaRPr b="1" lang="en-US" sz="18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latin typeface="Impact"/>
                  <a:ea typeface="Impact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806280" y="2936880"/>
                <a:ext cx="182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 u="sng">
                    <a:solidFill>
                      <a:srgbClr val="ffffff"/>
                    </a:solidFill>
                    <a:uFillTx/>
                    <a:latin typeface="Tahoma"/>
                  </a:rPr>
                  <a:t>(в идеале)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226080" y="3456000"/>
              <a:ext cx="8793000" cy="19227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Times New Roman"/>
                </a:rPr>
                <a:t>Призван выражать нормативно закрепляемую волю граждан,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Times New Roman"/>
                </a:rPr>
                <a:t>обеспечить политическую власть народа, утвердить приори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Times New Roman"/>
                </a:rPr>
                <a:t>тетное значение законов, обеспечить демократическую про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Times New Roman"/>
                </a:rPr>
                <a:t>цедуру подготовки и прохождения нормативных актов в за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Times New Roman"/>
                </a:rPr>
                <a:t>конодательном органе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"/>
          <p:cNvSpPr txBox="1"/>
          <p:nvPr/>
        </p:nvSpPr>
        <p:spPr>
          <a:xfrm>
            <a:off x="438120" y="5559480"/>
            <a:ext cx="831060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ff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Наиболее распространенные источники права</a:t>
            </a:r>
            <a:endParaRPr b="1" lang="en-US" sz="18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11280" y="6021360"/>
            <a:ext cx="2952720" cy="719280"/>
            <a:chOff x="611280" y="6021360"/>
            <a:chExt cx="2952720" cy="719280"/>
          </a:xfrm>
        </p:grpSpPr>
        <p:pic>
          <p:nvPicPr>
            <p:cNvPr id="185" name="" descr=""/>
            <p:cNvPicPr/>
            <p:nvPr/>
          </p:nvPicPr>
          <p:blipFill>
            <a:blip r:embed="rId4"/>
            <a:stretch/>
          </p:blipFill>
          <p:spPr>
            <a:xfrm>
              <a:off x="611280" y="6021360"/>
              <a:ext cx="7174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 txBox="1"/>
            <p:nvPr/>
          </p:nvSpPr>
          <p:spPr>
            <a:xfrm>
              <a:off x="1476360" y="6222960"/>
              <a:ext cx="2087640" cy="317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"/>
                </a:rPr>
                <a:t>Закон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  <a:ea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572000" y="6022800"/>
            <a:ext cx="4321080" cy="719280"/>
            <a:chOff x="4572000" y="6022800"/>
            <a:chExt cx="4321080" cy="719280"/>
          </a:xfrm>
        </p:grpSpPr>
        <p:pic>
          <p:nvPicPr>
            <p:cNvPr id="188" name="" descr=""/>
            <p:cNvPicPr/>
            <p:nvPr/>
          </p:nvPicPr>
          <p:blipFill>
            <a:blip r:embed="rId5"/>
            <a:stretch/>
          </p:blipFill>
          <p:spPr>
            <a:xfrm>
              <a:off x="4572000" y="6022800"/>
              <a:ext cx="642960" cy="719280"/>
            </a:xfrm>
            <a:prstGeom prst="rect">
              <a:avLst/>
            </a:prstGeom>
            <a:ln w="9360">
              <a:solidFill>
                <a:srgbClr val="2f2d25"/>
              </a:solidFill>
              <a:miter/>
            </a:ln>
          </p:spPr>
        </p:pic>
        <p:sp>
          <p:nvSpPr>
            <p:cNvPr id="189" name=""/>
            <p:cNvSpPr txBox="1"/>
            <p:nvPr/>
          </p:nvSpPr>
          <p:spPr>
            <a:xfrm>
              <a:off x="5437080" y="6165720"/>
              <a:ext cx="345600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"/>
                </a:rPr>
                <a:t>Подзаконный акт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.Закон и подзаконные акты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50920" y="1565280"/>
            <a:ext cx="1727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Закон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00640" y="709560"/>
            <a:ext cx="6281280" cy="228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Это принимаемый в особом порядке и обл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дающий высшей юридической силой нор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мативный правовой акт, выражающий г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ударственную волю по ключевым вопр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ам регулирования общественной и госу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дарственной жизн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050920" y="1989000"/>
            <a:ext cx="4334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79280" y="3933720"/>
            <a:ext cx="8811720" cy="2654280"/>
            <a:chOff x="179280" y="3933720"/>
            <a:chExt cx="8811720" cy="2654280"/>
          </a:xfrm>
        </p:grpSpPr>
        <p:sp>
          <p:nvSpPr>
            <p:cNvPr id="195" name=""/>
            <p:cNvSpPr txBox="1"/>
            <p:nvPr/>
          </p:nvSpPr>
          <p:spPr>
            <a:xfrm>
              <a:off x="179280" y="4594320"/>
              <a:ext cx="311472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Подзаконный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акт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794760" y="3933720"/>
              <a:ext cx="5196240" cy="2654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Times New Roman"/>
                </a:rPr>
                <a:t>Это правовой нормативный акт,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Times New Roman"/>
                </a:rPr>
                <a:t>Издаваемый в соответствии с зако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Times New Roman"/>
                </a:rPr>
                <a:t>ном, на основе закона, во исполне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Times New Roman"/>
                </a:rPr>
                <a:t>нии его для конкретизации законо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Times New Roman"/>
                </a:rPr>
                <a:t>дательных предписаний,или их тол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Times New Roman"/>
                </a:rPr>
                <a:t>кования, или установления первич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Times New Roman"/>
                </a:rPr>
                <a:t>ных норм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24000" y="5516640"/>
              <a:ext cx="15112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.Закон и подзаконные акты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93520" y="1959120"/>
            <a:ext cx="248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лада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рховенств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06160" y="1916280"/>
            <a:ext cx="360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едство обеспе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олнения закон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258920" y="777960"/>
            <a:ext cx="7075440" cy="1066680"/>
            <a:chOff x="1258920" y="777960"/>
            <a:chExt cx="7075440" cy="1066680"/>
          </a:xfrm>
        </p:grpSpPr>
        <p:sp>
          <p:nvSpPr>
            <p:cNvPr id="202" name=""/>
            <p:cNvSpPr txBox="1"/>
            <p:nvPr/>
          </p:nvSpPr>
          <p:spPr>
            <a:xfrm>
              <a:off x="1258920" y="981000"/>
              <a:ext cx="17272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Закон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5219640" y="777960"/>
              <a:ext cx="311472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Подзаконный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акт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132000" y="1413000"/>
              <a:ext cx="432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4643280" y="1413000"/>
              <a:ext cx="432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3708360" y="907920"/>
              <a:ext cx="719280" cy="750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"/>
                </a:rPr>
                <a:t>?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207" name=""/>
          <p:cNvSpPr txBox="1"/>
          <p:nvPr/>
        </p:nvSpPr>
        <p:spPr>
          <a:xfrm>
            <a:off x="2022480" y="2781360"/>
            <a:ext cx="5429160" cy="50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Виды подзаконных актов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08" name=""/>
          <p:cNvSpPr/>
          <p:nvPr/>
        </p:nvSpPr>
        <p:spPr>
          <a:xfrm>
            <a:off x="345240" y="3429000"/>
            <a:ext cx="859032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-Указы Президент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-Постановления Правительств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-Приказы и инструкции Министерст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-Решения и распоряжения местных органов вла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17080" y="5157720"/>
            <a:ext cx="3870720" cy="1511280"/>
            <a:chOff x="217080" y="5157720"/>
            <a:chExt cx="3870720" cy="1511280"/>
          </a:xfrm>
        </p:grpSpPr>
        <p:grpSp>
          <p:nvGrpSpPr>
            <p:cNvPr id="210" name=""/>
            <p:cNvGrpSpPr/>
            <p:nvPr/>
          </p:nvGrpSpPr>
          <p:grpSpPr>
            <a:xfrm>
              <a:off x="217080" y="5157720"/>
              <a:ext cx="3264120" cy="1407600"/>
              <a:chOff x="217080" y="5157720"/>
              <a:chExt cx="3264120" cy="1407600"/>
            </a:xfrm>
          </p:grpSpPr>
          <p:grpSp>
            <p:nvGrpSpPr>
              <p:cNvPr id="211" name=""/>
              <p:cNvGrpSpPr/>
              <p:nvPr/>
            </p:nvGrpSpPr>
            <p:grpSpPr>
              <a:xfrm>
                <a:off x="217080" y="5157720"/>
                <a:ext cx="1090440" cy="1407600"/>
                <a:chOff x="217080" y="5157720"/>
                <a:chExt cx="1090440" cy="1407600"/>
              </a:xfrm>
            </p:grpSpPr>
            <p:pic>
              <p:nvPicPr>
                <p:cNvPr id="21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19040" y="5157720"/>
                  <a:ext cx="685800" cy="1085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3" name=""/>
                <p:cNvSpPr/>
                <p:nvPr/>
              </p:nvSpPr>
              <p:spPr>
                <a:xfrm>
                  <a:off x="217080" y="6105600"/>
                  <a:ext cx="1090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Tahoma"/>
                    </a:rPr>
                    <a:t>Указы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"/>
              <p:cNvSpPr txBox="1"/>
              <p:nvPr/>
            </p:nvSpPr>
            <p:spPr>
              <a:xfrm>
                <a:off x="1351080" y="5661000"/>
                <a:ext cx="647640" cy="388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=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  <p:pic>
            <p:nvPicPr>
              <p:cNvPr id="2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143080" y="5157720"/>
                <a:ext cx="1338120" cy="1339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6" name=""/>
            <p:cNvSpPr/>
            <p:nvPr/>
          </p:nvSpPr>
          <p:spPr>
            <a:xfrm>
              <a:off x="3583080" y="5157720"/>
              <a:ext cx="504720" cy="1511280"/>
            </a:xfrm>
            <a:prstGeom prst="rightArrowCallout">
              <a:avLst>
                <a:gd name="adj1" fmla="val 39623"/>
                <a:gd name="adj2" fmla="val 49697"/>
                <a:gd name="adj3" fmla="val 36792"/>
                <a:gd name="adj4" fmla="val 46542"/>
              </a:avLst>
            </a:prstGeom>
            <a:solidFill>
              <a:srgbClr val="cc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4175640" y="5157720"/>
            <a:ext cx="465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Если нет соответствующ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ако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каз действует до приня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ия Зако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3.Понятие нормы права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48120" y="836640"/>
            <a:ext cx="846684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Норма прав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признаваемое и обеспечиваемое государств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щеобязательное правило, из которого вытекают права и обя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нности участников общественных отношений, чьи действ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звано регулировать данное правило в качестве образца, эт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она, масштаба пове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081160" y="2997360"/>
            <a:ext cx="4981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Особенности норм прав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50920" y="3716280"/>
            <a:ext cx="5019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1. Всеобщий характер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50920" y="4811760"/>
            <a:ext cx="68911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2. Регулирует внешнее поведение людей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50920" y="5950080"/>
            <a:ext cx="8675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3. Поддерживается  и обеспечивается государством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4.Структура нормы права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081160" y="836640"/>
            <a:ext cx="4981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Виды правовых норм: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53880" y="1413000"/>
            <a:ext cx="4289400" cy="2146680"/>
            <a:chOff x="353880" y="1413000"/>
            <a:chExt cx="4289400" cy="2146680"/>
          </a:xfrm>
        </p:grpSpPr>
        <p:grpSp>
          <p:nvGrpSpPr>
            <p:cNvPr id="227" name=""/>
            <p:cNvGrpSpPr/>
            <p:nvPr/>
          </p:nvGrpSpPr>
          <p:grpSpPr>
            <a:xfrm>
              <a:off x="353880" y="1773360"/>
              <a:ext cx="4103640" cy="1786320"/>
              <a:chOff x="353880" y="1773360"/>
              <a:chExt cx="4103640" cy="1786320"/>
            </a:xfrm>
          </p:grpSpPr>
          <p:sp>
            <p:nvSpPr>
              <p:cNvPr id="228" name=""/>
              <p:cNvSpPr txBox="1"/>
              <p:nvPr/>
            </p:nvSpPr>
            <p:spPr>
              <a:xfrm>
                <a:off x="395280" y="1773360"/>
                <a:ext cx="4033800" cy="604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28440">
                      <a:solidFill>
                        <a:srgbClr val="ffffff"/>
                      </a:solidFill>
                      <a:miter/>
                    </a:ln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  <a:latin typeface="Arial"/>
                  </a:rPr>
                  <a:t>Регулятивные</a:t>
                </a:r>
                <a:endPara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  <a:ea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53880" y="2368440"/>
                <a:ext cx="4103640" cy="11912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763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2f2d25"/>
                    </a:solidFill>
                    <a:latin typeface="Times New Roman"/>
                  </a:rPr>
                  <a:t>предписания,предоставляю-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2f2d25"/>
                    </a:solidFill>
                    <a:latin typeface="Times New Roman"/>
                  </a:rPr>
                  <a:t>щие участников правоотно-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2f2d25"/>
                    </a:solidFill>
                    <a:latin typeface="Times New Roman"/>
                  </a:rPr>
                  <a:t>шений права и обязанности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 flipH="1">
              <a:off x="2411280" y="1413000"/>
              <a:ext cx="2232000" cy="431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643280" y="1413000"/>
            <a:ext cx="4214880" cy="2159640"/>
            <a:chOff x="4643280" y="1413000"/>
            <a:chExt cx="4214880" cy="2159640"/>
          </a:xfrm>
        </p:grpSpPr>
        <p:grpSp>
          <p:nvGrpSpPr>
            <p:cNvPr id="232" name=""/>
            <p:cNvGrpSpPr/>
            <p:nvPr/>
          </p:nvGrpSpPr>
          <p:grpSpPr>
            <a:xfrm>
              <a:off x="4824360" y="1773360"/>
              <a:ext cx="4033800" cy="1799280"/>
              <a:chOff x="4824360" y="1773360"/>
              <a:chExt cx="4033800" cy="1799280"/>
            </a:xfrm>
          </p:grpSpPr>
          <p:sp>
            <p:nvSpPr>
              <p:cNvPr id="233" name=""/>
              <p:cNvSpPr txBox="1"/>
              <p:nvPr/>
            </p:nvSpPr>
            <p:spPr>
              <a:xfrm>
                <a:off x="4824360" y="1773360"/>
                <a:ext cx="4033800" cy="604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28440">
                      <a:solidFill>
                        <a:srgbClr val="ffffff"/>
                      </a:solidFill>
                      <a:miter/>
                    </a:ln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  <a:latin typeface="Arial"/>
                  </a:rPr>
                  <a:t>Охранительные</a:t>
                </a:r>
                <a:endPara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  <a:ea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830120" y="2381400"/>
                <a:ext cx="4022640" cy="119124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763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2f2d25"/>
                    </a:solidFill>
                    <a:latin typeface="Times New Roman"/>
                  </a:rPr>
                  <a:t>устанавливают и регламен-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2f2d25"/>
                    </a:solidFill>
                    <a:latin typeface="Times New Roman"/>
                  </a:rPr>
                  <a:t>тируют меры юридическо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2f2d25"/>
                    </a:solidFill>
                    <a:latin typeface="Times New Roman"/>
                  </a:rPr>
                  <a:t>ответственности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4643280" y="1413000"/>
              <a:ext cx="2232360" cy="431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"/>
          <p:cNvSpPr txBox="1"/>
          <p:nvPr/>
        </p:nvSpPr>
        <p:spPr>
          <a:xfrm>
            <a:off x="2771640" y="4005360"/>
            <a:ext cx="3672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33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зновидности:</a:t>
            </a:r>
            <a:endParaRPr b="1" lang="en-US" sz="1800" spc="1" strike="noStrike">
              <a:ln w="19080">
                <a:solidFill>
                  <a:srgbClr val="ff33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707000" y="4648320"/>
            <a:ext cx="4283280" cy="1800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-уголовно-правовы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-гражданско-правовы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-административны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-дисциплинар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8880" y="4648320"/>
            <a:ext cx="4006080" cy="1800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-обязывающи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-запрещающи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-управомочивающи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-поощритель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4.Структура нормы права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77760" y="620640"/>
            <a:ext cx="4638240" cy="2303640"/>
            <a:chOff x="77760" y="620640"/>
            <a:chExt cx="4638240" cy="2303640"/>
          </a:xfrm>
        </p:grpSpPr>
        <p:grpSp>
          <p:nvGrpSpPr>
            <p:cNvPr id="241" name=""/>
            <p:cNvGrpSpPr/>
            <p:nvPr/>
          </p:nvGrpSpPr>
          <p:grpSpPr>
            <a:xfrm>
              <a:off x="395280" y="620640"/>
              <a:ext cx="4320720" cy="1152720"/>
              <a:chOff x="395280" y="620640"/>
              <a:chExt cx="4320720" cy="1152720"/>
            </a:xfrm>
          </p:grpSpPr>
          <p:sp>
            <p:nvSpPr>
              <p:cNvPr id="242" name=""/>
              <p:cNvSpPr txBox="1"/>
              <p:nvPr/>
            </p:nvSpPr>
            <p:spPr>
              <a:xfrm>
                <a:off x="395280" y="1413000"/>
                <a:ext cx="2592360" cy="36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28440">
                      <a:solidFill>
                        <a:srgbClr val="ffffff"/>
                      </a:solidFill>
                      <a:miter/>
                    </a:ln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  <a:latin typeface="Arial"/>
                  </a:rPr>
                  <a:t>Диспозиция</a:t>
                </a:r>
                <a:endPara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  <a:ea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2123640" y="620640"/>
                <a:ext cx="2592360" cy="79236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77760" y="2098800"/>
              <a:ext cx="2849400" cy="825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Times New Roman"/>
                </a:rPr>
                <a:t>Суть и содержа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Times New Roman"/>
                </a:rPr>
                <a:t>правила поведе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059280" y="620640"/>
            <a:ext cx="2898000" cy="2486880"/>
            <a:chOff x="3059280" y="620640"/>
            <a:chExt cx="2898000" cy="2486880"/>
          </a:xfrm>
        </p:grpSpPr>
        <p:grpSp>
          <p:nvGrpSpPr>
            <p:cNvPr id="246" name=""/>
            <p:cNvGrpSpPr/>
            <p:nvPr/>
          </p:nvGrpSpPr>
          <p:grpSpPr>
            <a:xfrm>
              <a:off x="3276720" y="620640"/>
              <a:ext cx="2592360" cy="1150920"/>
              <a:chOff x="3276720" y="620640"/>
              <a:chExt cx="2592360" cy="1150920"/>
            </a:xfrm>
          </p:grpSpPr>
          <p:sp>
            <p:nvSpPr>
              <p:cNvPr id="247" name=""/>
              <p:cNvSpPr txBox="1"/>
              <p:nvPr/>
            </p:nvSpPr>
            <p:spPr>
              <a:xfrm>
                <a:off x="3276720" y="1413000"/>
                <a:ext cx="2592360" cy="358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28440">
                      <a:solidFill>
                        <a:srgbClr val="ffffff"/>
                      </a:solidFill>
                      <a:miter/>
                    </a:ln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  <a:latin typeface="Arial"/>
                  </a:rPr>
                  <a:t>Гипотеза</a:t>
                </a:r>
                <a:endPara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  <a:ea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716360" y="620640"/>
                <a:ext cx="0" cy="79236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3059280" y="1916280"/>
              <a:ext cx="2898000" cy="1191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Times New Roman"/>
                </a:rPr>
                <a:t>Перечень условий,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Times New Roman"/>
                </a:rPr>
                <a:t>при которых норм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Times New Roman"/>
                </a:rPr>
                <a:t>действуе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4716360" y="620640"/>
            <a:ext cx="4352400" cy="2486880"/>
            <a:chOff x="4716360" y="620640"/>
            <a:chExt cx="4352400" cy="2486880"/>
          </a:xfrm>
        </p:grpSpPr>
        <p:grpSp>
          <p:nvGrpSpPr>
            <p:cNvPr id="251" name=""/>
            <p:cNvGrpSpPr/>
            <p:nvPr/>
          </p:nvGrpSpPr>
          <p:grpSpPr>
            <a:xfrm>
              <a:off x="4716360" y="620640"/>
              <a:ext cx="4103640" cy="1150920"/>
              <a:chOff x="4716360" y="620640"/>
              <a:chExt cx="4103640" cy="1150920"/>
            </a:xfrm>
          </p:grpSpPr>
          <p:sp>
            <p:nvSpPr>
              <p:cNvPr id="252" name=""/>
              <p:cNvSpPr txBox="1"/>
              <p:nvPr/>
            </p:nvSpPr>
            <p:spPr>
              <a:xfrm>
                <a:off x="6227640" y="1413000"/>
                <a:ext cx="2592360" cy="358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28440">
                      <a:solidFill>
                        <a:srgbClr val="ffffff"/>
                      </a:solidFill>
                      <a:miter/>
                    </a:ln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  <a:latin typeface="Arial"/>
                  </a:rPr>
                  <a:t>Санкция</a:t>
                </a:r>
                <a:endPara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  <a:ea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716360" y="620640"/>
                <a:ext cx="2592360" cy="79236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6086880" y="1916280"/>
              <a:ext cx="2981880" cy="11912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Times New Roman"/>
                </a:rPr>
                <a:t>Меры,наступающ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Times New Roman"/>
                </a:rPr>
                <a:t>в случае наруше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Times New Roman"/>
                </a:rPr>
                <a:t>диспозици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472320" y="3414600"/>
            <a:ext cx="83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ccff"/>
                </a:solidFill>
                <a:uFillTx/>
                <a:latin typeface="Times New Roman"/>
              </a:rPr>
              <a:t>Могут содержаться в разных нормативных актах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504800" y="4081320"/>
            <a:ext cx="6134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Правовые нормы действуют: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76200" y="4941720"/>
            <a:ext cx="2076480" cy="1729800"/>
            <a:chOff x="376200" y="4941720"/>
            <a:chExt cx="2076480" cy="1729800"/>
          </a:xfrm>
        </p:grpSpPr>
        <p:pic>
          <p:nvPicPr>
            <p:cNvPr id="258" name="" descr=""/>
            <p:cNvPicPr/>
            <p:nvPr/>
          </p:nvPicPr>
          <p:blipFill>
            <a:blip r:embed="rId6"/>
            <a:stretch/>
          </p:blipFill>
          <p:spPr>
            <a:xfrm>
              <a:off x="885960" y="4941720"/>
              <a:ext cx="1057320" cy="13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376200" y="6211800"/>
              <a:ext cx="207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Во времен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3224160" y="5048280"/>
            <a:ext cx="2648160" cy="1623240"/>
            <a:chOff x="3224160" y="5048280"/>
            <a:chExt cx="2648160" cy="1623240"/>
          </a:xfrm>
        </p:grpSpPr>
        <p:pic>
          <p:nvPicPr>
            <p:cNvPr id="261" name="" descr=""/>
            <p:cNvPicPr/>
            <p:nvPr/>
          </p:nvPicPr>
          <p:blipFill>
            <a:blip r:embed="rId7"/>
            <a:stretch/>
          </p:blipFill>
          <p:spPr>
            <a:xfrm>
              <a:off x="3995640" y="5048280"/>
              <a:ext cx="11430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3224160" y="6211800"/>
              <a:ext cx="26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В пространств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590880" y="5160960"/>
            <a:ext cx="2257920" cy="1510560"/>
            <a:chOff x="6590880" y="5160960"/>
            <a:chExt cx="2257920" cy="1510560"/>
          </a:xfrm>
        </p:grpSpPr>
        <p:pic>
          <p:nvPicPr>
            <p:cNvPr id="264" name="" descr=""/>
            <p:cNvPicPr/>
            <p:nvPr/>
          </p:nvPicPr>
          <p:blipFill>
            <a:blip r:embed="rId8"/>
            <a:stretch/>
          </p:blipFill>
          <p:spPr>
            <a:xfrm>
              <a:off x="6877080" y="5160960"/>
              <a:ext cx="1584360" cy="10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6590880" y="6211800"/>
              <a:ext cx="22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По кругу лиц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5:29:31Z</dcterms:created>
  <dc:creator>Чернов Алексей</dc:creator>
  <dc:description/>
  <dc:language>en-US</dc:language>
  <cp:lastModifiedBy>Чернов Алексей</cp:lastModifiedBy>
  <dcterms:modified xsi:type="dcterms:W3CDTF">2002-11-10T12:33:50Z</dcterms:modified>
  <cp:revision>1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