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wmf" ContentType="image/x-wmf"/>
  <Override PartName="/ppt/media/image4.png" ContentType="image/png"/>
  <Override PartName="/ppt/media/image10.jpeg" ContentType="image/jpeg"/>
  <Override PartName="/ppt/media/image9.png" ContentType="image/png"/>
  <Override PartName="/ppt/media/image8.wmf" ContentType="image/x-wmf"/>
  <Override PartName="/ppt/media/image7.png" ContentType="image/png"/>
  <Override PartName="/ppt/media/image1.jpeg" ContentType="image/jpeg"/>
  <Override PartName="/ppt/media/image20.jpeg" ContentType="image/jpeg"/>
  <Override PartName="/ppt/media/image14.gif" ContentType="image/gif"/>
  <Override PartName="/ppt/media/image21.wmf" ContentType="image/x-wmf"/>
  <Override PartName="/ppt/media/image19.wmf" ContentType="image/x-wmf"/>
  <Override PartName="/ppt/media/image22.png" ContentType="image/png"/>
  <Override PartName="/ppt/media/image17.gif" ContentType="image/gif"/>
  <Override PartName="/ppt/media/image2.jpeg" ContentType="image/jpeg"/>
  <Override PartName="/ppt/media/image16.wmf" ContentType="image/x-wmf"/>
  <Override PartName="/ppt/media/image18.png" ContentType="image/png"/>
  <Override PartName="/ppt/media/image15.gif" ContentType="image/gif"/>
  <Override PartName="/ppt/media/image3.jpeg" ContentType="image/jpe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D4A-1E95-4885-9CCB-8ABDF067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CF4-5FDC-4651-AE64-128AC67A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9C3-8E10-4491-8822-E31E85FB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93A-D163-48B0-BC2C-D6799858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B38A-D689-4946-BF83-CF32A73A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59D6-CD77-45BA-AF1A-ABD60549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6EAF-02F0-4586-83ED-2327D134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B8F3-C8DF-4F99-B84D-4696E2CE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0B9-101D-48CF-82E5-45EA5D98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A69-5586-45D6-BA3F-7FBDD65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4D9-5B90-4592-AF23-AE73803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22F-9A94-4EB1-AA6A-11DBB092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1612-2A5D-4919-B68F-044710B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44B3-3BB0-4425-963A-83B284D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2D17-1FA0-4D71-B41E-437E7A7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65D4-B47C-46B9-984B-E78D3B5F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EF0-D215-4F03-BF84-6B69E409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AAA-BFA5-456E-8FD0-28C34C1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650-ECA7-453A-AD0B-7876404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795-7227-4D06-93F3-4100AE86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E7F-A339-47CA-BADE-1D27CE2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803-3791-4E1F-9A51-7F57259F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014-C569-407F-8990-8FA0B8C8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1D7-19FC-4C48-95F4-78A035B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8F1-116A-44A8-A140-0E9D621C29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2FA-60D8-44AA-94C5-8B33A4C819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image" Target="../media/image15.gif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image" Target="../media/image8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wm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7880" y="404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Нормы 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 его источн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0200" y="836640"/>
            <a:ext cx="2076480" cy="1729800"/>
            <a:chOff x="160200" y="836640"/>
            <a:chExt cx="2076480" cy="17298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0200" y="210672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71" name="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2f2d25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7800" y="2563920"/>
            <a:ext cx="2745720" cy="2429640"/>
            <a:chOff x="397800" y="2563920"/>
            <a:chExt cx="2745720" cy="2429640"/>
          </a:xfrm>
        </p:grpSpPr>
        <p:grpSp>
          <p:nvGrpSpPr>
            <p:cNvPr id="274" name=""/>
            <p:cNvGrpSpPr/>
            <p:nvPr/>
          </p:nvGrpSpPr>
          <p:grpSpPr>
            <a:xfrm>
              <a:off x="397800" y="3016080"/>
              <a:ext cx="2745720" cy="1977480"/>
              <a:chOff x="397800" y="3016080"/>
              <a:chExt cx="2745720" cy="1977480"/>
            </a:xfrm>
          </p:grpSpPr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8440" y="3016080"/>
                <a:ext cx="1143000" cy="12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397800" y="416808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ccff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ccff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618920" y="256392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619280" y="2563920"/>
            <a:ext cx="4281840" cy="2521080"/>
            <a:chOff x="1619280" y="2563920"/>
            <a:chExt cx="4281840" cy="2521080"/>
          </a:xfrm>
        </p:grpSpPr>
        <p:grpSp>
          <p:nvGrpSpPr>
            <p:cNvPr id="279" name=""/>
            <p:cNvGrpSpPr/>
            <p:nvPr/>
          </p:nvGrpSpPr>
          <p:grpSpPr>
            <a:xfrm>
              <a:off x="3102120" y="3068640"/>
              <a:ext cx="2799000" cy="2016360"/>
              <a:chOff x="3102120" y="3068640"/>
              <a:chExt cx="2799000" cy="20163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11680" y="3068640"/>
                <a:ext cx="1408320" cy="112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102120" y="4168080"/>
                <a:ext cx="2799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Акты правительства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 момента подписа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(если не указано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619280" y="2563920"/>
              <a:ext cx="216072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063120" y="422748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 момента пол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адрес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619280" y="2565360"/>
            <a:ext cx="6564240" cy="1719360"/>
            <a:chOff x="1619280" y="2565360"/>
            <a:chExt cx="6564240" cy="171936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6600960" y="3149640"/>
              <a:ext cx="158256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619280" y="2565360"/>
              <a:ext cx="504036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971640" y="5516640"/>
            <a:ext cx="697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Закон обратной силы не имеет !!!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19320" y="836640"/>
            <a:ext cx="2648160" cy="1623240"/>
            <a:chOff x="319320" y="836640"/>
            <a:chExt cx="2648160" cy="162324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1090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19320" y="20001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68360" y="873000"/>
            <a:ext cx="6672600" cy="1260720"/>
            <a:chOff x="2268360" y="873000"/>
            <a:chExt cx="6672600" cy="1260720"/>
          </a:xfrm>
        </p:grpSpPr>
        <p:grpSp>
          <p:nvGrpSpPr>
            <p:cNvPr id="293" name=""/>
            <p:cNvGrpSpPr/>
            <p:nvPr/>
          </p:nvGrpSpPr>
          <p:grpSpPr>
            <a:xfrm>
              <a:off x="3132000" y="873000"/>
              <a:ext cx="5808960" cy="1260720"/>
              <a:chOff x="3132000" y="873000"/>
              <a:chExt cx="5808960" cy="1260720"/>
            </a:xfrm>
          </p:grpSpPr>
          <p:pic>
            <p:nvPicPr>
              <p:cNvPr id="2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32000" y="1033560"/>
                <a:ext cx="122400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4397040" y="873000"/>
                <a:ext cx="454392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госу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арства(земля воды,недра,п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сольства, корабли в море и др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268360" y="1484280"/>
              <a:ext cx="863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26920" y="2776680"/>
            <a:ext cx="7739280" cy="907920"/>
            <a:chOff x="826920" y="2776680"/>
            <a:chExt cx="7739280" cy="907920"/>
          </a:xfrm>
        </p:grpSpPr>
        <p:pic>
          <p:nvPicPr>
            <p:cNvPr id="298" name="" descr=""/>
            <p:cNvPicPr/>
            <p:nvPr/>
          </p:nvPicPr>
          <p:blipFill>
            <a:blip r:embed="rId4"/>
            <a:stretch/>
          </p:blipFill>
          <p:spPr>
            <a:xfrm>
              <a:off x="826920" y="2776680"/>
              <a:ext cx="906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890360" y="2878200"/>
              <a:ext cx="667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Иностранное законодательство действует в случае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ahoma"/>
                </a:rPr>
                <a:t>оговоренном законодательством государ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"/>
          <p:cNvSpPr txBox="1"/>
          <p:nvPr/>
        </p:nvSpPr>
        <p:spPr>
          <a:xfrm>
            <a:off x="324000" y="3860640"/>
            <a:ext cx="856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соотношение местного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и центрального законодательств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-189000" y="4603680"/>
            <a:ext cx="9514080" cy="1922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1.Законы принятые местными органами власти дей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только на их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2.Законы принятые одними субъектами признаются друг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3.Если местный закон противоречит центральному, то он объ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является не имеющим си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9200" y="836640"/>
            <a:ext cx="2257920" cy="1510560"/>
            <a:chOff x="79200" y="836640"/>
            <a:chExt cx="2257920" cy="15105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365040" y="836640"/>
              <a:ext cx="158400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200" y="188748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 кругу ли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085840" y="863640"/>
            <a:ext cx="6696000" cy="1191240"/>
            <a:chOff x="2085840" y="863640"/>
            <a:chExt cx="6696000" cy="1191240"/>
          </a:xfrm>
        </p:grpSpPr>
        <p:sp>
          <p:nvSpPr>
            <p:cNvPr id="307" name=""/>
            <p:cNvSpPr/>
            <p:nvPr/>
          </p:nvSpPr>
          <p:spPr>
            <a:xfrm>
              <a:off x="2703240" y="863640"/>
              <a:ext cx="60786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2f2d25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85840" y="1495440"/>
              <a:ext cx="505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3154320" y="2247840"/>
            <a:ext cx="285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лючения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9640" y="3141720"/>
            <a:ext cx="813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.Должностная, депутатская,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ипломатическая неприкосновенность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640" y="4211640"/>
            <a:ext cx="813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2.Ограничиваются в правах иностранцы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 лица без граждан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9640" y="5281560"/>
            <a:ext cx="81360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3.Ряд актов предусматривают ответственность вн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висимости от получения наказания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о нормам иного государства.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1.Источники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2.Закон и подзаконный акт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3.Понятие нормы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ahoma"/>
              </a:rPr>
              <a:t>4.Структура норм прав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Источники пра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360" y="620640"/>
            <a:ext cx="4247640" cy="965160"/>
            <a:chOff x="468360" y="620640"/>
            <a:chExt cx="4247640" cy="965160"/>
          </a:xfrm>
        </p:grpSpPr>
        <p:sp>
          <p:nvSpPr>
            <p:cNvPr id="160" name=""/>
            <p:cNvSpPr txBox="1"/>
            <p:nvPr/>
          </p:nvSpPr>
          <p:spPr>
            <a:xfrm>
              <a:off x="468360" y="1052640"/>
              <a:ext cx="37623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Широкий смысл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058920" y="620640"/>
              <a:ext cx="165708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43280" y="620640"/>
            <a:ext cx="4176720" cy="863640"/>
            <a:chOff x="4643280" y="620640"/>
            <a:chExt cx="4176720" cy="863640"/>
          </a:xfrm>
        </p:grpSpPr>
        <p:sp>
          <p:nvSpPr>
            <p:cNvPr id="163" name=""/>
            <p:cNvSpPr txBox="1"/>
            <p:nvPr/>
          </p:nvSpPr>
          <p:spPr>
            <a:xfrm>
              <a:off x="5057640" y="1052640"/>
              <a:ext cx="376236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Узкий смысл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620640"/>
              <a:ext cx="1657440" cy="504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02080" y="1700280"/>
            <a:ext cx="294228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То, что помог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ознать пра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3320" y="1557360"/>
            <a:ext cx="41371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То, чем руководств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практика в реш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ahoma"/>
              </a:rPr>
              <a:t>юридических д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920" y="2781360"/>
            <a:ext cx="42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торическ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амятники прав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365904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анные археолог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4249800"/>
            <a:ext cx="42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йствующ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овые акт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527364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ридическая практи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5864400"/>
            <a:ext cx="4248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оговоры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638172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руды,речи юристов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81040" y="2781360"/>
            <a:ext cx="37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Правовой обыча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ло повед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знанное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0840" y="3807000"/>
            <a:ext cx="39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Правовой прецеден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шение по конкрет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у,обязательное в посл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ющих спор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26040" y="5195880"/>
            <a:ext cx="40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-Догово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 волеизъя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ния участников общест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х отношений,подде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ваемый государ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Источники прав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400" y="765000"/>
            <a:ext cx="8415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Источник позитивного(исходящего от государства) пра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форма выражения государственной воли, направл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признание факта на существование права, на его форм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вание, или изме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6080" y="2496960"/>
            <a:ext cx="8793000" cy="2881800"/>
            <a:chOff x="226080" y="2496960"/>
            <a:chExt cx="8793000" cy="2881800"/>
          </a:xfrm>
        </p:grpSpPr>
        <p:grpSp>
          <p:nvGrpSpPr>
            <p:cNvPr id="179" name=""/>
            <p:cNvGrpSpPr/>
            <p:nvPr/>
          </p:nvGrpSpPr>
          <p:grpSpPr>
            <a:xfrm>
              <a:off x="1550880" y="2496960"/>
              <a:ext cx="6334200" cy="899640"/>
              <a:chOff x="1550880" y="2496960"/>
              <a:chExt cx="6334200" cy="899640"/>
            </a:xfrm>
          </p:grpSpPr>
          <p:sp>
            <p:nvSpPr>
              <p:cNvPr id="180" name=""/>
              <p:cNvSpPr txBox="1"/>
              <p:nvPr/>
            </p:nvSpPr>
            <p:spPr>
              <a:xfrm>
                <a:off x="1550880" y="2496960"/>
                <a:ext cx="63342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Особенности источника права :</a:t>
                </a:r>
                <a:endPara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06280" y="2936880"/>
                <a:ext cx="182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 u="sng">
                    <a:solidFill>
                      <a:srgbClr val="ffffff"/>
                    </a:solidFill>
                    <a:uFillTx/>
                    <a:latin typeface="Tahoma"/>
                  </a:rPr>
                  <a:t>(в идеале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6080" y="3456000"/>
              <a:ext cx="8793000" cy="192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Призван выражать нормативно закрепляемую волю граждан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обеспечить политическую власть народа, утвердить приори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тетное значение законов, обеспечить демократическую пр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цедуру подготовки и прохождения нормативных актов в за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Times New Roman"/>
                </a:rPr>
                <a:t>конодательном орган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 txBox="1"/>
          <p:nvPr/>
        </p:nvSpPr>
        <p:spPr>
          <a:xfrm>
            <a:off x="438120" y="5559480"/>
            <a:ext cx="83106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Наиболее распространенные источники права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1280" y="6021360"/>
            <a:ext cx="2952720" cy="719280"/>
            <a:chOff x="611280" y="6021360"/>
            <a:chExt cx="2952720" cy="719280"/>
          </a:xfrm>
        </p:grpSpPr>
        <p:pic>
          <p:nvPicPr>
            <p:cNvPr id="185" name="" descr=""/>
            <p:cNvPicPr/>
            <p:nvPr/>
          </p:nvPicPr>
          <p:blipFill>
            <a:blip r:embed="rId4"/>
            <a:stretch/>
          </p:blipFill>
          <p:spPr>
            <a:xfrm>
              <a:off x="611280" y="6021360"/>
              <a:ext cx="71748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 txBox="1"/>
            <p:nvPr/>
          </p:nvSpPr>
          <p:spPr>
            <a:xfrm>
              <a:off x="1476360" y="6222960"/>
              <a:ext cx="208764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Закон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72000" y="6022800"/>
            <a:ext cx="4321080" cy="719280"/>
            <a:chOff x="4572000" y="6022800"/>
            <a:chExt cx="4321080" cy="719280"/>
          </a:xfrm>
        </p:grpSpPr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4572000" y="6022800"/>
              <a:ext cx="642960" cy="719280"/>
            </a:xfrm>
            <a:prstGeom prst="rect">
              <a:avLst/>
            </a:prstGeom>
            <a:ln w="9360">
              <a:solidFill>
                <a:srgbClr val="2f2d25"/>
              </a:solidFill>
              <a:miter/>
            </a:ln>
          </p:spPr>
        </p:pic>
        <p:sp>
          <p:nvSpPr>
            <p:cNvPr id="189" name=""/>
            <p:cNvSpPr txBox="1"/>
            <p:nvPr/>
          </p:nvSpPr>
          <p:spPr>
            <a:xfrm>
              <a:off x="5437080" y="6165720"/>
              <a:ext cx="3456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Подзаконный акт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Закон и подзаконные акты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56528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00640" y="709560"/>
            <a:ext cx="628128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то принимаемый в особом порядке и обл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ющий высшей юридической силой но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тивный правовой акт, выражающий 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ударственную волю по ключевым во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ам регулирования общественной и госу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рственной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989000"/>
            <a:ext cx="433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79280" y="3933720"/>
            <a:ext cx="8811720" cy="2654280"/>
            <a:chOff x="179280" y="3933720"/>
            <a:chExt cx="8811720" cy="2654280"/>
          </a:xfrm>
        </p:grpSpPr>
        <p:sp>
          <p:nvSpPr>
            <p:cNvPr id="195" name=""/>
            <p:cNvSpPr txBox="1"/>
            <p:nvPr/>
          </p:nvSpPr>
          <p:spPr>
            <a:xfrm>
              <a:off x="179280" y="4594320"/>
              <a:ext cx="3114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одзаконный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акт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94760" y="3933720"/>
              <a:ext cx="5196240" cy="265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Это правовой нормативный акт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Издаваемый в соответствии с зак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ом, на основе закона, во исполне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ии его для конкретизации закон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ательных предписаний,или их тол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кования, или установления первич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ных нор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4000" y="5516640"/>
              <a:ext cx="1511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Закон и подзаконные акты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93520" y="1959120"/>
            <a:ext cx="24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д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ховен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6160" y="191628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о обеспе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ения зак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58920" y="777960"/>
            <a:ext cx="7075440" cy="1066680"/>
            <a:chOff x="1258920" y="777960"/>
            <a:chExt cx="7075440" cy="1066680"/>
          </a:xfrm>
        </p:grpSpPr>
        <p:sp>
          <p:nvSpPr>
            <p:cNvPr id="202" name=""/>
            <p:cNvSpPr txBox="1"/>
            <p:nvPr/>
          </p:nvSpPr>
          <p:spPr>
            <a:xfrm>
              <a:off x="1258920" y="981000"/>
              <a:ext cx="17272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219640" y="777960"/>
              <a:ext cx="3114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одзаконный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акт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32000" y="1413000"/>
              <a:ext cx="43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643280" y="1413000"/>
              <a:ext cx="432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708360" y="907920"/>
              <a:ext cx="719280" cy="75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2022480" y="2781360"/>
            <a:ext cx="542916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подзаконных актов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345240" y="3429000"/>
            <a:ext cx="859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Указы Президен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Постановления Правитель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Приказы и инструкции Министерст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Решения и распоряжения местных органов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17080" y="5157720"/>
            <a:ext cx="3870720" cy="1511280"/>
            <a:chOff x="217080" y="5157720"/>
            <a:chExt cx="3870720" cy="1511280"/>
          </a:xfrm>
        </p:grpSpPr>
        <p:grpSp>
          <p:nvGrpSpPr>
            <p:cNvPr id="210" name=""/>
            <p:cNvGrpSpPr/>
            <p:nvPr/>
          </p:nvGrpSpPr>
          <p:grpSpPr>
            <a:xfrm>
              <a:off x="217080" y="5157720"/>
              <a:ext cx="3264120" cy="1407600"/>
              <a:chOff x="217080" y="5157720"/>
              <a:chExt cx="3264120" cy="140760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217080" y="5157720"/>
                <a:ext cx="1090440" cy="1407600"/>
                <a:chOff x="217080" y="5157720"/>
                <a:chExt cx="1090440" cy="1407600"/>
              </a:xfrm>
            </p:grpSpPr>
            <p:pic>
              <p:nvPicPr>
                <p:cNvPr id="2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19040" y="5157720"/>
                  <a:ext cx="685800" cy="10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"/>
                <p:cNvSpPr/>
                <p:nvPr/>
              </p:nvSpPr>
              <p:spPr>
                <a:xfrm>
                  <a:off x="217080" y="6105600"/>
                  <a:ext cx="109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Указы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 txBox="1"/>
              <p:nvPr/>
            </p:nvSpPr>
            <p:spPr>
              <a:xfrm>
                <a:off x="1351080" y="5661000"/>
                <a:ext cx="647640" cy="388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3080" y="5157720"/>
                <a:ext cx="1338120" cy="1339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6" name=""/>
            <p:cNvSpPr/>
            <p:nvPr/>
          </p:nvSpPr>
          <p:spPr>
            <a:xfrm>
              <a:off x="3583080" y="5157720"/>
              <a:ext cx="504720" cy="1511280"/>
            </a:xfrm>
            <a:prstGeom prst="rightArrowCallout">
              <a:avLst>
                <a:gd name="adj1" fmla="val 39623"/>
                <a:gd name="adj2" fmla="val 49697"/>
                <a:gd name="adj3" fmla="val 36792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175640" y="5157720"/>
            <a:ext cx="46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сли нет соответствующ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к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каз действует до прин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ия Зако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3.Понятие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8120" y="836640"/>
            <a:ext cx="84668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Норма пра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ризнаваемое и обеспечиваемое государств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обязательное правило, из которого вытекают права и об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ности участников общественных отношений, чь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звано регулировать данное правило в качестве образца, э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на, масштаба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081160" y="2997360"/>
            <a:ext cx="49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собенности норм прав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3716280"/>
            <a:ext cx="5019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1. Всеобщий характер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4811760"/>
            <a:ext cx="6891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2. Регулирует внешнее поведение людей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5950080"/>
            <a:ext cx="867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3. Поддерживается  и обеспечивается государством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081160" y="836640"/>
            <a:ext cx="498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иды правовых норм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53880" y="1413000"/>
            <a:ext cx="4289400" cy="2146680"/>
            <a:chOff x="353880" y="1413000"/>
            <a:chExt cx="4289400" cy="2146680"/>
          </a:xfrm>
        </p:grpSpPr>
        <p:grpSp>
          <p:nvGrpSpPr>
            <p:cNvPr id="227" name=""/>
            <p:cNvGrpSpPr/>
            <p:nvPr/>
          </p:nvGrpSpPr>
          <p:grpSpPr>
            <a:xfrm>
              <a:off x="353880" y="1773360"/>
              <a:ext cx="4103640" cy="1786320"/>
              <a:chOff x="353880" y="1773360"/>
              <a:chExt cx="4103640" cy="17863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95280" y="1773360"/>
                <a:ext cx="4033800" cy="60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Регулятивные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880" y="2368440"/>
                <a:ext cx="410364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предписания,предоставляю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щие участников правоотн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шений права и обязанности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2411280" y="1413000"/>
              <a:ext cx="223200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43280" y="1413000"/>
            <a:ext cx="4214880" cy="2159640"/>
            <a:chOff x="4643280" y="1413000"/>
            <a:chExt cx="4214880" cy="2159640"/>
          </a:xfrm>
        </p:grpSpPr>
        <p:grpSp>
          <p:nvGrpSpPr>
            <p:cNvPr id="232" name=""/>
            <p:cNvGrpSpPr/>
            <p:nvPr/>
          </p:nvGrpSpPr>
          <p:grpSpPr>
            <a:xfrm>
              <a:off x="4824360" y="1773360"/>
              <a:ext cx="4033800" cy="1799280"/>
              <a:chOff x="4824360" y="1773360"/>
              <a:chExt cx="4033800" cy="1799280"/>
            </a:xfrm>
          </p:grpSpPr>
          <p:sp>
            <p:nvSpPr>
              <p:cNvPr id="233" name=""/>
              <p:cNvSpPr txBox="1"/>
              <p:nvPr/>
            </p:nvSpPr>
            <p:spPr>
              <a:xfrm>
                <a:off x="4824360" y="1773360"/>
                <a:ext cx="4033800" cy="604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Охранительные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30120" y="2381400"/>
                <a:ext cx="4022640" cy="1191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станавливают и регламен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тируют меры юридическо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ответственност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643280" y="1413000"/>
              <a:ext cx="223236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2771640" y="4005360"/>
            <a:ext cx="367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новидности: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07000" y="4648320"/>
            <a:ext cx="42832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уголовно-право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гражданско-право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административн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дисциплина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8880" y="4648320"/>
            <a:ext cx="4006080" cy="1800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обязыв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запрещ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управомочивающ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-поощри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4.Структура нормы права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7760" y="620640"/>
            <a:ext cx="4638240" cy="2303640"/>
            <a:chOff x="77760" y="620640"/>
            <a:chExt cx="4638240" cy="2303640"/>
          </a:xfrm>
        </p:grpSpPr>
        <p:grpSp>
          <p:nvGrpSpPr>
            <p:cNvPr id="241" name=""/>
            <p:cNvGrpSpPr/>
            <p:nvPr/>
          </p:nvGrpSpPr>
          <p:grpSpPr>
            <a:xfrm>
              <a:off x="395280" y="620640"/>
              <a:ext cx="4320720" cy="1152720"/>
              <a:chOff x="395280" y="620640"/>
              <a:chExt cx="4320720" cy="1152720"/>
            </a:xfrm>
          </p:grpSpPr>
          <p:sp>
            <p:nvSpPr>
              <p:cNvPr id="242" name=""/>
              <p:cNvSpPr txBox="1"/>
              <p:nvPr/>
            </p:nvSpPr>
            <p:spPr>
              <a:xfrm>
                <a:off x="395280" y="1413000"/>
                <a:ext cx="259236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Диспозиция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123640" y="620640"/>
                <a:ext cx="259236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7760" y="2098800"/>
              <a:ext cx="284940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Суть и содержа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равила пове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059280" y="620640"/>
            <a:ext cx="2898000" cy="2486880"/>
            <a:chOff x="3059280" y="620640"/>
            <a:chExt cx="2898000" cy="2486880"/>
          </a:xfrm>
        </p:grpSpPr>
        <p:grpSp>
          <p:nvGrpSpPr>
            <p:cNvPr id="246" name=""/>
            <p:cNvGrpSpPr/>
            <p:nvPr/>
          </p:nvGrpSpPr>
          <p:grpSpPr>
            <a:xfrm>
              <a:off x="3276720" y="620640"/>
              <a:ext cx="2592360" cy="1150920"/>
              <a:chOff x="3276720" y="620640"/>
              <a:chExt cx="2592360" cy="1150920"/>
            </a:xfrm>
          </p:grpSpPr>
          <p:sp>
            <p:nvSpPr>
              <p:cNvPr id="247" name=""/>
              <p:cNvSpPr txBox="1"/>
              <p:nvPr/>
            </p:nvSpPr>
            <p:spPr>
              <a:xfrm>
                <a:off x="3276720" y="1413000"/>
                <a:ext cx="259236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Гипотеза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16360" y="620640"/>
                <a:ext cx="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059280" y="1916280"/>
              <a:ext cx="28980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еречень условий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при которых норм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ейству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716360" y="620640"/>
            <a:ext cx="4352400" cy="2486880"/>
            <a:chOff x="4716360" y="620640"/>
            <a:chExt cx="4352400" cy="2486880"/>
          </a:xfrm>
        </p:grpSpPr>
        <p:grpSp>
          <p:nvGrpSpPr>
            <p:cNvPr id="251" name=""/>
            <p:cNvGrpSpPr/>
            <p:nvPr/>
          </p:nvGrpSpPr>
          <p:grpSpPr>
            <a:xfrm>
              <a:off x="4716360" y="620640"/>
              <a:ext cx="4103640" cy="1150920"/>
              <a:chOff x="4716360" y="620640"/>
              <a:chExt cx="4103640" cy="1150920"/>
            </a:xfrm>
          </p:grpSpPr>
          <p:sp>
            <p:nvSpPr>
              <p:cNvPr id="252" name=""/>
              <p:cNvSpPr txBox="1"/>
              <p:nvPr/>
            </p:nvSpPr>
            <p:spPr>
              <a:xfrm>
                <a:off x="6227640" y="1413000"/>
                <a:ext cx="2592360" cy="35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анкция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6360" y="620640"/>
                <a:ext cx="2592360" cy="7923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086880" y="1916280"/>
              <a:ext cx="298188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Меры,наступающ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в случае наруш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00"/>
                  </a:solidFill>
                  <a:latin typeface="Times New Roman"/>
                </a:rPr>
                <a:t>диспози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2320" y="341460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cff"/>
                </a:solidFill>
                <a:uFillTx/>
                <a:latin typeface="Times New Roman"/>
              </a:rPr>
              <a:t>Могут содержаться в разных нормативных акта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04800" y="4081320"/>
            <a:ext cx="613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авовые нормы действуют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76200" y="4941720"/>
            <a:ext cx="2076480" cy="1729800"/>
            <a:chOff x="376200" y="4941720"/>
            <a:chExt cx="2076480" cy="1729800"/>
          </a:xfrm>
        </p:grpSpPr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885960" y="494172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76200" y="621180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24160" y="5048280"/>
            <a:ext cx="2648160" cy="1623240"/>
            <a:chOff x="3224160" y="5048280"/>
            <a:chExt cx="2648160" cy="1623240"/>
          </a:xfrm>
        </p:grpSpPr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3995640" y="504828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24160" y="621180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590880" y="5160960"/>
            <a:ext cx="2257920" cy="1510560"/>
            <a:chOff x="6590880" y="5160960"/>
            <a:chExt cx="2257920" cy="1510560"/>
          </a:xfrm>
        </p:grpSpPr>
        <p:pic>
          <p:nvPicPr>
            <p:cNvPr id="264" name="" descr=""/>
            <p:cNvPicPr/>
            <p:nvPr/>
          </p:nvPicPr>
          <p:blipFill>
            <a:blip r:embed="rId8"/>
            <a:stretch/>
          </p:blipFill>
          <p:spPr>
            <a:xfrm>
              <a:off x="6877080" y="5160960"/>
              <a:ext cx="158436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590880" y="621180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По кругу ли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2-11-10T12:33:50Z</dcterms:modified>
  <cp:revision>1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