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368-230D-41B7-A65A-07B331C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311-74FE-4667-B2CE-6747FCAE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833-A1D2-4CFB-A0BD-9A9C80ED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FB5-9A8E-44A2-850B-D1F5D02B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F1F-3B06-45F1-8BCF-D1E410C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E48F-0883-4D85-9EF3-2A2E95BD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E01-E7A4-4C76-9379-81394BA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655-D37F-4529-B9E9-F28DF288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26E-CD7D-4F39-AE4E-767B9CAE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B1F-8B30-4BD1-9C9B-3032977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5C2-307D-4890-95B7-EE996D59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968-D53B-461D-8E83-6B2D9C9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2D0-A617-4FEC-9443-1A520E8FF9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кция «Философия как рациональная отрасль духовной культур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ля дисциплины «Основы философ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е самостоятельную работу в тетра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в тетради вопрос «В чем, по Вашему мнению, может состоять философия науки/искусства/религии (выбрать самостоятельно)?», после чего, используя возможности сети Интернет и собственные аналитические способности, ответьте на вопрос письменно, с обосн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лософия – вдохновляемая любовью к мудрости рациональная отрасль духовной культуры, имеющая своим предметом фундаментальные вопросы человеческого существования. Почему эту отрасль можно назвать рациональной? Потому что слово «рациональная» происходит от латинского слова «рацио» - «разум», т.е. это такая отрасль духовной культуры, которая развивается исключительно через использование человеческого разума. Результатом философской деятельности являются исключительно письменные произведения, в которых рассматриваются указанные выше фундаментальные вопросы. Вопросы, рассматриваемые философией (бытие, познание, ценности, человек и его место в мире и обществе, роль человека в общемировых процессах и т.д.), решаются только путем размышлений, т.е. с использованием разума. При этом понятие «разум» может трактоваться как «использование мыслительных способностей человека», так и – в соответствии с мнением Платона – «божественное озарение» (интуиция). Результат, полученный этим путем, может быть обоснован, но не доказ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ходство философии и науки состоит в исследовательском характере философии. Однако существует и ряд различий. Наука изучает конкретные явления и пытается на основе их обобщения вывести закономерности. Философия имеет дело с миром в целом, включая сюда не только эмпирическое, но также духовное и нравственное. Результаты науки требуют эмпирической проверки. В отличие от философских утверждений они не только подтверждаемы с помощью специальных практических процедур или подвержены строгой логической выводимости, как в математике, но и допускают принципиальную возможность их эмпирического опровержения. Все это позволяет провести разделительную линию между философией и наукой. В отличие от науки с приматом чувственного опыта в философии большое значение приобретает интуиц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едение искусства можно назвать философским, если оно на пути художественного постижения жизни доходит до глубоких обобщений. Если художник (да и вообще человек) идет от жизни — этого неиссякаемого источника, и формирует на основе ее постижения собственный оригинальный взгляд на мир — он философ. Если наука выражает общечеловеческую истину в общей форме, философия — в обобщенной форме истину индивидуальную, то искусство — отрасль культуры, в которой индивидуальная истина предстает в форме частного события. Произведение искусства, в отличие от философии, имеет преимущественно бессознательную природу (философия сочетает в себе сознательное и бессознательное), а символы искусства более личностны, чем философские. Искусство — это творение нового духовного мира, а философия — определение и творение смысла е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одство философии и религии состоит в том, что обе эти стороны культуры занимаются вопросами жизни и смерти человека. Философия рождается из противоречия между жизнью и смертью и разрешает его нахождением вечности в форме вечной истины. Философия стремится к непреходящим ценностям. Философ ищет вечное в потоке становления и поднимает индивидуальность до вечности, творя мир вечных идей. От религии философия отличается тем, что сомнение играет в ней большую роль, хотя в философию идут для того, чтобы обрести твердую почву под ногами. Философия начинается с сомнения в чужих положениях и приходит к концепции, основанной на индивидуальном духе. Между философией и религией то общее, что философские истины столь же интуитивны, как догматы веры, но первые рационально обоснованы, вторые — нет. И в философии, и в религии присутствуют рассуждения о Боге. Но «в споре нет смиренномудрия», а философия не обходится без спора. Иноческое оружие — молитва, философское — логичный аргуме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ое достижение философии — развитие представления об идее. Но когда от идеи как таковой переходят к конкретным идеям, которые пытаются внушить всем, — это идеология. Философия не является идеологией, потому что ее положения должны быть рационально и фактически обоснованы. Идеология же, напротив, всегда выступает как выражение эффективных потребностей определенных общественных груп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зость философии к науке, искусству и религии следует из того, что философия есть взгляд на мир как целое, а наука, искусство и религия представляют собой определенные проекции на мир. Наука выявляет общее, искусство творит единичное. Построить мост между общим и единичным — задача философии. В искусстве преобладают чувства, в науке — разум. Философия синтезирует индивидуальный и всеобщий подходы, разум и чувства, абстрактный объективизм науки, конкретный субъективизм искусства и веру религии. Поскольку философия интегрирует эти формы общественного сознания, излишне спорить о том, как постигается философская истина: с помощью интуиции и непосредственного знания абсолютного, экстаза или научных понятий. Философии нужен и холодный рационализм науки, и настроение искусства, и откровение рели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лософия отвечает на вопросы о бытии как целом и месте в нем человека. Она опирается на синтез разума, чувства и веры, но на первом месте оказывается разум, а не вера, как в религии, или чувства, как в искусст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з задач философии — думать по преимуществу и по-новому. Думают все, но философы как бы изготавливают стереотипы мыслей. Их можно использовать, но кто-то их первый создал, продумал. Здесь принципиальное различие между философией и религией, наукой и искусством, для которых главными остаются вера, польза и красота, а не процесс мышления и его результат. Изолированные и предоставленные самим себе отдельные отрасли культуры засыхают, как ветви, отрезанные от ствола дерева — знания о главном для человека предмете — о нем самом, знания, которое в своей целостности сосредоточивается в философ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письменно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Почему философию можно назвать рациональной отраслью духовной культуры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Назовите сходство и различия философии и нау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Назовите сходства и различия философии и искус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Назовите сходство и различия философии и религ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Назовите сходство и различия философии и идеолог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6. Почему философию называют синтезом науки, искусства и религ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4T11:17:26Z</dcterms:created>
  <dc:creator>Антон</dc:creator>
  <dc:description/>
  <dc:language>en-US</dc:language>
  <cp:lastModifiedBy>Антон</cp:lastModifiedBy>
  <dcterms:modified xsi:type="dcterms:W3CDTF">2020-11-14T11:30:51Z</dcterms:modified>
  <cp:revision>4</cp:revision>
  <dc:subject/>
  <dc:title>Лекция «Философия как рациональная отрасль духовной культуры»</dc:title>
</cp:coreProperties>
</file>