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261-08E7-42B3-BCD3-F45253CA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085-646E-4162-8349-9086148D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9C7-C03B-4AF7-B3E1-6FE0AA03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8DF-86FC-4B26-8FF4-A3B15ECC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C93-D6C7-4B04-99AC-C40F5EF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E1EA-AF4A-46DD-A141-A012083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FE71-186E-4EE4-88E7-CFE2A4FE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9DEE-A347-439A-9811-2111997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68B4-3B01-4F53-8473-77BC2F97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F34D-1B3F-497B-AA7E-833EF746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CFB4-383C-4393-AE8A-907850E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AA4-8243-444F-A8B0-514C228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C471-25B7-405D-A262-B27F972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9627-BF92-4ECB-81AC-409982E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C8A6-9CDF-475C-97EC-1B314D54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9036-5FB3-445D-B909-3EFA322E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7CFC-9654-4E11-8DDF-8328F060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B9A-2A85-4FDC-9852-5C1199F2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E3-5A32-4BA8-B018-DAB830FA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EDD-0504-44CE-AFF7-E0A78AB4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920-315C-4394-9C8F-3367FD88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4BC7-B97B-497A-920D-DFDFA55D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5D1-08B1-49B5-905A-2E9EAB7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134-B9C7-42CC-8867-1B6A8E8F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EF93-CF79-4FC8-A8A3-A8BBEC9D98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6F79-3186-406A-B7D3-272AA0C2AA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1928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рудование око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ерекрытая щель на отделении   (экипаж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В слабых грунтах необходимо сделать одежду крутостей. Перекрытие может устраиваться из бревен, фашин, бумажных землесосных мешков, оболочек и други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щели с перекрытием из бревен требуется: в средних грунтах при отрывке пехотной лопатой - 50 (45) чел.-час.; саперной лопатой - 24 (20) чел.-час.; в твердых грунтах при отрывке саперной лопатой с киркомотыгой и ломом - 45 (40) чел.-час. Материалы: лес круглый - 2,4 (2,3) м3, проволока диаметром 3 - 4 мм - 4 кг. Цифры в скобках приведены для устройства перекрытой щели на экипаж.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5.gif (11233 bytes)"/>
          <p:cNvPicPr/>
          <p:nvPr/>
        </p:nvPicPr>
        <p:blipFill>
          <a:blip r:embed="rId1"/>
          <a:stretch/>
        </p:blipFill>
        <p:spPr>
          <a:xfrm>
            <a:off x="4716360" y="2349360"/>
            <a:ext cx="381024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скировка окопов для боевой техники под фон местнос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6.gif (14875 bytes)"/>
          <p:cNvPicPr/>
          <p:nvPr/>
        </p:nvPicPr>
        <p:blipFill>
          <a:blip r:embed="rId1"/>
          <a:stretch/>
        </p:blipFill>
        <p:spPr>
          <a:xfrm>
            <a:off x="1835280" y="1916280"/>
            <a:ext cx="5400720" cy="2881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611280" y="522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маскировку требуется: 2 чел.-час., комплектов МКТ - 1 ш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жердей диаметром 5 - 7 см, длиной 3 м - 5 ш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проволоки диаметром 2 (4 -5) мм - 2 погонных 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ы для стрельбы лежа из автомат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Окопы для ведения флангового огня должны иметь бруствер со стороны противника высотой 30 см на всю длину окопа. На устройство каждого окопа пехотной лопатой требуется 0,5 чел./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1.gif (9113 bytes)"/>
          <p:cNvPicPr/>
          <p:nvPr/>
        </p:nvPicPr>
        <p:blipFill>
          <a:blip r:embed="rId1"/>
          <a:stretch/>
        </p:blipFill>
        <p:spPr>
          <a:xfrm>
            <a:off x="4762440" y="1557360"/>
            <a:ext cx="413064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ы для стрельбы лежа из пулеме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.gif (7063 bytes)"/>
          <p:cNvPicPr/>
          <p:nvPr/>
        </p:nvPicPr>
        <p:blipFill>
          <a:blip r:embed="rId1"/>
          <a:stretch/>
        </p:blipFill>
        <p:spPr>
          <a:xfrm>
            <a:off x="971640" y="2246400"/>
            <a:ext cx="698508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стрельбы из автомата сто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3.gif (8320 bytes)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3392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84360" y="5444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2,5 чел./ час, саперной лопатой - 1,5 чел./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Окоп для двух стрелк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4.gif (7954 bytes)"/>
          <p:cNvPicPr/>
          <p:nvPr/>
        </p:nvPicPr>
        <p:blipFill>
          <a:blip r:embed="rId1"/>
          <a:stretch/>
        </p:blipFill>
        <p:spPr>
          <a:xfrm>
            <a:off x="1908000" y="1844640"/>
            <a:ext cx="619308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971640" y="5300280"/>
            <a:ext cx="72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2,5 чел./ час, саперной лопатой  - 1,5 чел./ ча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стрельбы из пулемета сто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5.gif (7141 bytes)"/>
          <p:cNvPicPr/>
          <p:nvPr/>
        </p:nvPicPr>
        <p:blipFill>
          <a:blip r:embed="rId1"/>
          <a:stretch/>
        </p:blipFill>
        <p:spPr>
          <a:xfrm>
            <a:off x="1979640" y="1700280"/>
            <a:ext cx="5400720" cy="2665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258920" y="4868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4 чел./ час., саперной лопатой - 2,5 чел./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несенная ячейка с площадками для стрельбы из пулемета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7.gif (7291 bytes)"/>
          <p:cNvPicPr/>
          <p:nvPr/>
        </p:nvPicPr>
        <p:blipFill>
          <a:blip r:embed="rId1"/>
          <a:stretch/>
        </p:blipFill>
        <p:spPr>
          <a:xfrm>
            <a:off x="1979640" y="1700280"/>
            <a:ext cx="5184720" cy="2419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476360" y="46922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6 чел.-час., саперной лопатой - 4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коп для автоматического гранатоме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8.gif (7414 bytes)"/>
          <p:cNvPicPr/>
          <p:nvPr/>
        </p:nvPicPr>
        <p:blipFill>
          <a:blip r:embed="rId1"/>
          <a:stretch/>
        </p:blipFill>
        <p:spPr>
          <a:xfrm>
            <a:off x="2484360" y="1916280"/>
            <a:ext cx="5183280" cy="27367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332000" y="5339880"/>
            <a:ext cx="61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окопа пехотной лоп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  5 чел.-час., саперной лопатой - 3,5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5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оружения для наблюдения командира взвод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13.gif (13719 bytes)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2724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692360" y="51955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На устройство сооружения пехотной лоп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требуется 7,5 чел.-час., саперной лопатой - 5 чел.-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6:05:11Z</dcterms:created>
  <dc:creator>user</dc:creator>
  <dc:description/>
  <dc:language>en-US</dc:language>
  <cp:lastModifiedBy>User</cp:lastModifiedBy>
  <dcterms:modified xsi:type="dcterms:W3CDTF">2020-11-14T07:52:46Z</dcterms:modified>
  <cp:revision>5</cp:revision>
  <dc:subject/>
  <dc:title>Фортификационные соору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