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6CDE-DB42-405C-B44D-9239C0DE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D966-525B-43A2-A0A9-6A5A6A7B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591F-0A2F-4871-A164-C0F5CC79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D92E-851D-4FD9-AA7D-BE01E14E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35E4-9451-4F08-889E-A27A2ECB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77B2-0169-42F9-A3A4-D609ED51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E646-68F9-44F7-8B50-B2249D75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E1FC-3683-4551-B22D-19EF4164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7992-5980-4508-AE75-26243620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840E-BDBB-4B41-B8FC-31F73502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A982-FB54-4AD1-8D8F-FEE86084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B9BA-CE9C-43AF-9D58-282B276F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EF03-61AA-4329-9BAC-05A62C09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C55C-EF60-4587-AB2F-048CA9AD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83D4-9E39-4B56-8676-F6C29710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1358-D404-4CC4-A784-35B6D7D3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76DC-91EB-4FCC-8A9F-D1C069086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D69F-6FEC-4797-82FB-0100F596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8E2E-128A-461D-9A90-E3B671B9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9D25-45F5-48A1-A4E7-4759E5CB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03B4-E781-4A3E-AFDD-1D0FD8D7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3560-16A6-4236-BA35-BC8251BD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B214-B372-4E14-BC86-B2B16735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6B5E-E99E-4E64-8DFB-5902B096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AFD1-23D3-4E4C-849F-33A0493AF14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9003-E4AE-411D-AC67-E5DB6C9125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5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19280" y="98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рудование око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5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ерекрытая щель на отделении   (экипаж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В слабых грунтах необходимо сделать одежду крутостей. Перекрытие может устраиваться из бревен, фашин, бумажных землесосных мешков, оболочек и других матери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На устройство щели с перекрытием из бревен требуется: в средних грунтах при отрывке пехотной лопатой - 50 (45) чел.-час.; саперной лопатой - 24 (20) чел.-час.; в твердых грунтах при отрывке саперной лопатой с киркомотыгой и ломом - 45 (40) чел.-час. Материалы: лес круглый - 2,4 (2,3) м3, проволока диаметром 3 - 4 мм - 4 кг. Цифры в скобках приведены для устройства перекрытой щели на экипаж.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15.gif (11233 bytes)"/>
          <p:cNvPicPr/>
          <p:nvPr/>
        </p:nvPicPr>
        <p:blipFill>
          <a:blip r:embed="rId1"/>
          <a:stretch/>
        </p:blipFill>
        <p:spPr>
          <a:xfrm>
            <a:off x="4716360" y="2349360"/>
            <a:ext cx="3810240" cy="3527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5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аскировка окопов для боевой техники под фон местнос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16.gif (14875 bytes)"/>
          <p:cNvPicPr/>
          <p:nvPr/>
        </p:nvPicPr>
        <p:blipFill>
          <a:blip r:embed="rId1"/>
          <a:stretch/>
        </p:blipFill>
        <p:spPr>
          <a:xfrm>
            <a:off x="1835280" y="1916280"/>
            <a:ext cx="5400720" cy="2881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611280" y="522900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На маскировку требуется: 2 чел.-час., комплектов МКТ - 1 ш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жердей диаметром 5 - 7 см, длиной 3 м - 5 ш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проволоки диаметром 2 (4 -5) мм - 2 погонных 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5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копы для стрельбы лежа из автомат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Окопы для ведения флангового огня должны иметь бруствер со стороны противника высотой 30 см на всю длину окопа. На устройство каждого окопа пехотной лопатой требуется 0,5 чел./ ч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1.gif (9113 bytes)"/>
          <p:cNvPicPr/>
          <p:nvPr/>
        </p:nvPicPr>
        <p:blipFill>
          <a:blip r:embed="rId1"/>
          <a:stretch/>
        </p:blipFill>
        <p:spPr>
          <a:xfrm>
            <a:off x="4762440" y="1557360"/>
            <a:ext cx="4130640" cy="4464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5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копы для стрельбы лежа из пулемет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2.gif (7063 bytes)"/>
          <p:cNvPicPr/>
          <p:nvPr/>
        </p:nvPicPr>
        <p:blipFill>
          <a:blip r:embed="rId1"/>
          <a:stretch/>
        </p:blipFill>
        <p:spPr>
          <a:xfrm>
            <a:off x="971640" y="2246400"/>
            <a:ext cx="6985080" cy="3238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5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коп для стрельбы из автомата стоя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3.gif (8320 bytes)"/>
          <p:cNvPicPr/>
          <p:nvPr/>
        </p:nvPicPr>
        <p:blipFill>
          <a:blip r:embed="rId1"/>
          <a:stretch/>
        </p:blipFill>
        <p:spPr>
          <a:xfrm>
            <a:off x="1258920" y="1916280"/>
            <a:ext cx="6769080" cy="33922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684360" y="5444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На устройство окопа пехотной лопат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требуется 2,5 чел./ час, саперной лопатой - 1,5 чел./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5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Окоп для двух стрелков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4.gif (7954 bytes)"/>
          <p:cNvPicPr/>
          <p:nvPr/>
        </p:nvPicPr>
        <p:blipFill>
          <a:blip r:embed="rId1"/>
          <a:stretch/>
        </p:blipFill>
        <p:spPr>
          <a:xfrm>
            <a:off x="1908000" y="1844640"/>
            <a:ext cx="6193080" cy="28861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971640" y="5300280"/>
            <a:ext cx="72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На устройство окопа пехотной лопат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требуется 2,5 чел./ час, саперной лопатой  - 1,5 чел./ ча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5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коп для стрельбы из пулемета сто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5.gif (7141 bytes)"/>
          <p:cNvPicPr/>
          <p:nvPr/>
        </p:nvPicPr>
        <p:blipFill>
          <a:blip r:embed="rId1"/>
          <a:stretch/>
        </p:blipFill>
        <p:spPr>
          <a:xfrm>
            <a:off x="1979640" y="1700280"/>
            <a:ext cx="5400720" cy="26654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1258920" y="486828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На устройство окопа пехотной лопат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требуется  4 чел./ час., саперной лопатой - 2,5 чел./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5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ынесенная ячейка с площадками для стрельбы из пулемета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7.gif (7291 bytes)"/>
          <p:cNvPicPr/>
          <p:nvPr/>
        </p:nvPicPr>
        <p:blipFill>
          <a:blip r:embed="rId1"/>
          <a:stretch/>
        </p:blipFill>
        <p:spPr>
          <a:xfrm>
            <a:off x="1979640" y="1700280"/>
            <a:ext cx="5184720" cy="24192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1476360" y="46922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На устройство окопа пехотной лопат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требуется  6 чел.-час., саперной лопатой - 4 чел.-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5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коп для автоматического гранатомет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8.gif (7414 bytes)"/>
          <p:cNvPicPr/>
          <p:nvPr/>
        </p:nvPicPr>
        <p:blipFill>
          <a:blip r:embed="rId1"/>
          <a:stretch/>
        </p:blipFill>
        <p:spPr>
          <a:xfrm>
            <a:off x="2484360" y="1916280"/>
            <a:ext cx="5183280" cy="27367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1332000" y="5339880"/>
            <a:ext cx="61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На устройство окопа пехотной лопат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требуется  5 чел.-час., саперной лопатой - 3,5 чел.-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5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ооружения для наблюдения командира взвод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13.gif (13719 bytes)"/>
          <p:cNvPicPr/>
          <p:nvPr/>
        </p:nvPicPr>
        <p:blipFill>
          <a:blip r:embed="rId1"/>
          <a:stretch/>
        </p:blipFill>
        <p:spPr>
          <a:xfrm>
            <a:off x="1332000" y="1700280"/>
            <a:ext cx="5904000" cy="27241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1692360" y="519552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На устройство сооружения пехотной лопт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требуется 7,5 чел.-час., саперной лопатой - 5 чел.-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6:05:11Z</dcterms:created>
  <dc:creator>user</dc:creator>
  <dc:description/>
  <dc:language>en-US</dc:language>
  <cp:lastModifiedBy>User</cp:lastModifiedBy>
  <dcterms:modified xsi:type="dcterms:W3CDTF">2020-11-14T07:52:46Z</dcterms:modified>
  <cp:revision>5</cp:revision>
  <dc:subject/>
  <dc:title>Фортификационные сооруж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