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6F0-5389-4CA5-94CA-1B4F8B12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105A-0541-4324-AE7F-6D45B2BA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D06-621E-4A91-B697-BE8B1674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8FE-7B43-4910-91EA-6F1AB4D1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9163-EED4-40AA-A9E2-CD7A7FA8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47EB-3229-4368-B643-1283CDB6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4AED-792B-447D-8043-039B50CD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9C8B-9B49-42C8-8EF6-5D05199C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E938-EBDD-4689-BB18-BEFD59E8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8AB0-943E-413C-A6FD-687FF382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F7DA-6252-4A66-ADBD-B7296FE5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C4B-9E55-4383-801B-8EA9EE4D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BCF8-9FE0-4F12-B7CE-0D33FB42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79CC-A474-4053-9630-ACA582EB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00B8-0C0D-4BF7-852C-EE31E9FE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F074-549D-4A33-A657-1B2B3D0E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E5A9-0F69-438A-87E3-D6FED26F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2FD-1473-497B-A325-F468F440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FBC-02DB-4DBB-B9B7-0C01E4DE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418-E8D7-4877-BE2B-A6F8A42E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1453-8B47-40B7-9337-E98C1A49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CF8-042E-4A72-86B1-BDC79CE0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94D-D25B-4AF5-81C2-7D9D605E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BB2-D027-4A5B-BC65-B3BB34CF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0402-B9E1-4825-B16E-B84CF50E218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E07D-38BD-494F-9F2D-D47D63A8599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7480" y="1890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708360" y="6093000"/>
            <a:ext cx="18306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 класс</a:t>
            </a:r>
            <a:endParaRPr b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12560" y="4046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Урок № 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2421000"/>
            <a:ext cx="5832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Общее понятие о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уголовном прав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0920" y="204840"/>
            <a:ext cx="8686800" cy="41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нятие уголовного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435480" y="836640"/>
            <a:ext cx="25048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Виды санкций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98" name=""/>
          <p:cNvSpPr/>
          <p:nvPr/>
        </p:nvSpPr>
        <p:spPr>
          <a:xfrm>
            <a:off x="196560" y="1268280"/>
            <a:ext cx="886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Прост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предусмотрена одна санк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Кумулятивн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содержится несколько санкций за одно пр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упл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Альтернативн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Возможность применения одной или неск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ьких санкц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Относительно-определенн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санкция колеблется в опред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нных размерах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Абсолютно-определенны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анкция строго определе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тсылочн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санкции в самой статье н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4360" y="4726080"/>
            <a:ext cx="763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граничение уголовного закона по времен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1400" y="5337000"/>
            <a:ext cx="87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1.Вступление закона в силу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Если не указан срок вступле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 вступает в силу через 10 дней после опубликования в «Ро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йской газет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0920" y="204840"/>
            <a:ext cx="8686800" cy="41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нятие уголовного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2840" y="620640"/>
            <a:ext cx="874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2.Прекращение действия уголовного закона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тмена зако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издание закона в новой редакц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истечение срока действия закона(если это предусмотрено з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одателем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тпадение условий и обстоятельств вызвавших принятие з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изнание закона Конституционным судом не соответствую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щим Конститу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1400" y="3860640"/>
            <a:ext cx="85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3.Обратная сила закона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Закон обратной силы не имеет и 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пространяется на преступления совершенные до его пр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26920" y="5084640"/>
            <a:ext cx="763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Действие уголовного закона в пространств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760" y="5516640"/>
            <a:ext cx="911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1. Принцип территориальности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 лица совершившие престу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ения на территории РФ, подлежат ответственности на осн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головного кодекса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204840"/>
            <a:ext cx="8686800" cy="41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нятие уголовного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6120" y="836640"/>
            <a:ext cx="893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2. Принцип граждан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аждане РФ, совершившие преступление за границей и прив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кающиеся к ответственности на территории РФ, подлеж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головной ответственности по УК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5040" y="2276640"/>
            <a:ext cx="87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3. Реальный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остранные граждане, не проживающие на территории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стоянно, совершившие преступление вне пределов РФ, под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жат уголовной ответственности по УК РФ, если преступл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е было направлено против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5040" y="4221000"/>
            <a:ext cx="890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4.Универсальный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остранные граждане, не проживающие на территории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стоянно, совершившие преступление вне пределов РФ, под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жат уголовной ответственности по УК РФ в случаях преду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тренных международным договором РФ , если они не бы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уждены в иностранном государстве и привлекаются к отве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венности на территории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34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2277720"/>
            <a:ext cx="8785440" cy="3095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ahoma"/>
              </a:rPr>
              <a:t>1.Понятие уголовного прав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ahoma"/>
              </a:rPr>
              <a:t>2.Понятие и характерис-тика уголовного закон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го прав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4000" y="1477800"/>
            <a:ext cx="18572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головно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о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53040" y="930240"/>
            <a:ext cx="6406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расль права, представляющая собой сов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упность юридических норм, которые опр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ляют преступность и устанавливают н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зуемость деяний, имеющих общественн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ас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76360" y="3286080"/>
            <a:ext cx="5904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едмет уголовного прав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2880" y="3876840"/>
            <a:ext cx="8449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Три основных вида правоотношен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Преступление, как остроконфликтное противопра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но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Правоотношения, возникающие в связи и по поводу пре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упного дея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Правоотношения, возникающие в связи с правомерн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ниями, внешне сходными с преступле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476360" y="765000"/>
            <a:ext cx="5904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Методы уголовного прав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0120" y="1125360"/>
            <a:ext cx="797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Наказ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Иные методы уголовно-правового воз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Наделение граждан правами на необходимую оборо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Поощ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476360" y="2708280"/>
            <a:ext cx="5904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Цель уголовного прав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5400" y="3182760"/>
            <a:ext cx="881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храна наиболее значимых общественных отношений от пр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инения существенного вр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000" y="5235480"/>
            <a:ext cx="83988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т.2, ч.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УК РФ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835280" y="4076640"/>
            <a:ext cx="6597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Задачи уголовного законодательств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0320" y="4530600"/>
            <a:ext cx="7840440" cy="1922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охрана прав и свобод граждан, собственности, общес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енного порядка и безопасности, окружающей сре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онституционного строя от преступных посягательст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беспечение мира и безопасности человечества, а та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же предупреждение преступл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189000"/>
            <a:ext cx="8686800" cy="41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го 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476360" y="765000"/>
            <a:ext cx="5904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инципы уголовного прав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9400" y="1125360"/>
            <a:ext cx="8751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1.Принцип законности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Преступность и наказуемость дея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ределяется только уголовным зако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2.Принцип равенства граждан перед законом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Лица совер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ившие преступления вне зависимости от привходящих об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ятельств, привлекаются к уголовной ответственности. 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вные преступления назначается соразмерная ответствен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3.Принцип вины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Лицо подлежит уголовной ответств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лько за те общественно опасные деяния, в отношении кот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ых установлена его в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4.Принцип справедливости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Уголовное наказание должно с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ветствовать характеру и степени общественной опа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, личности виновного и обстоятельствам его с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р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го прав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476360" y="1125360"/>
            <a:ext cx="5904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инципы уголовного прав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6160" y="1773360"/>
            <a:ext cx="8703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1.Принцип гуманизма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Уголовное законодательство направ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но на обеспечение безопасности гражд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2.Принцип демократизма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Уголовные законы приним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лько высшим законодательным органом, который избир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тся всем населением и, следовательно, выражает его во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3.Принцип личной ответственности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Лицо совершившее пр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упление несет ответственность только за то, что соверш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м лично или охватывалось его преступным умыс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4.Принцип неотвратимости ответственности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Любое лицо с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ршившее преступление должно понести ответств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204840"/>
            <a:ext cx="8686800" cy="41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го 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95280" y="127008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головный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закон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04840"/>
            <a:ext cx="8686800" cy="41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нятие уголовного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5920" y="836640"/>
            <a:ext cx="595368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рмативно-правовой акт, принятый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рядке ,предусмотренном Конституц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состоящий из взаимосвязанных юрид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ских норм. (Уголовный кодекс РФ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20720" y="2565360"/>
            <a:ext cx="612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головный кодекс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3720" y="3068640"/>
            <a:ext cx="8417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Систематизированный законодательный акт по вопрос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головного законодатель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Единственный уголовный закон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-Основываетс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 Конституции и общепринятых принц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ах и нормах международно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ямое действие норм международного права относ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лько к Общей части Уголовного кодек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ормы международного права, не могут применяться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обенной части Уголовного кодекса ( ответств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конкретные преступлени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204840"/>
            <a:ext cx="8686800" cy="41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нятие уголовного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19280" y="836640"/>
            <a:ext cx="611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Характеристика Уголовного кодекс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7280" y="1920960"/>
            <a:ext cx="147816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Общая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часть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651640" y="1920960"/>
            <a:ext cx="191124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Особенная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часть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2773440" y="1243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-12 разделов, 360 ста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80" y="2998800"/>
            <a:ext cx="3774240" cy="33858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6 разде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головный зако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каз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вобождение от уголов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й ответствен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О несовершеннолетни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нудительные 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дицинского характ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10480" y="2998800"/>
            <a:ext cx="4932720" cy="3385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6 разде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 против лич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 в сфере экономи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 против обществен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й безопас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 против госвла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 против воен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ужб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 против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04840"/>
            <a:ext cx="8686800" cy="41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нятие уголовного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19280" y="981000"/>
            <a:ext cx="611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атьи Общей част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00" y="1628640"/>
            <a:ext cx="916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формулируют основные понятия и принципы уголовного п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619280" y="2276640"/>
            <a:ext cx="611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атьи Особенной част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9720" y="2817720"/>
            <a:ext cx="87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состоят из 2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Диспозиц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описание признаков конкретного преступления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Санкц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определение вида и размера наказани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348000" y="4221000"/>
            <a:ext cx="2505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Виды диспозиций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237600" y="4751280"/>
            <a:ext cx="876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Прост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деяние называется, но признаки не раскрываютс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Описательн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расшифровка употребляемых термин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Бланкетн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идет отсылка к другим нормативным акт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Ссылочн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отсылает к другим статьям У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Смешанн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Чернов Алексей</cp:lastModifiedBy>
  <dcterms:modified xsi:type="dcterms:W3CDTF">2004-04-04T08:08:15Z</dcterms:modified>
  <cp:revision>4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