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2C7-2DB2-432F-AAE0-8EB929FF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F35-9E81-4D93-A985-71929A63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AFE-CAF3-4A52-B51F-E9C0FD52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73B-9223-44EF-AC6E-BB720477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E3A3-DDA4-4265-884E-39404561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31BA-B46F-40E8-AA27-68F89085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8718-E66F-4CD7-8360-251FA3CC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E0DC-9F70-4EFA-90BA-9781EA4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B108-E7E6-4E51-BC55-3BA234A2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7779-9907-49E1-99DC-7298E17F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AEFC-E9F4-4B6F-9A93-F3576D7A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C7D-63D1-407B-A351-C4CC0CDE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C030-8B3D-47DC-A752-708200D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87E0-2ACA-4BB7-BDB6-6C10BD57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EB64-F9E5-4289-8059-64AA6DFD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7FBF-1148-48ED-BEF1-83B33E90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277F-56A5-404B-87CA-65BE246C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3CA-BBF8-4853-B26E-098147DC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5AC-5A04-4733-954B-60251E42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0DA-BA8F-4227-9FDF-128BE4EB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7FF-B4A8-4910-AA1B-42EED551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0A4-AA74-4882-8A76-9C3B81E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D54-97CF-43DE-A2F2-08E55F6F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249-6894-4F22-8F12-7F9F029A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C06B-A745-44AD-A166-7C2865366E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6F04-2ED5-475F-9D0D-E883D5BBEA9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08360" y="6093000"/>
            <a:ext cx="183060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1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12560" y="4046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421000"/>
            <a:ext cx="583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Общее понятие о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уголовном прав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435480" y="836640"/>
            <a:ext cx="2504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иды санкций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196560" y="1268280"/>
            <a:ext cx="886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ост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предусмотрена одна санк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Кумулятив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содержится несколько санкций за одно пр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пл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Альтернатив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Возможность применения одной или нес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ких санк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Относительно-определен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санкция колеблется в опред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ных размерах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Абсолютно-определенны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анкция строго определе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сылоч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санкции в самой статье н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4360" y="4726080"/>
            <a:ext cx="763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граничение уголовного закона по времен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1400" y="5337000"/>
            <a:ext cx="87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1.Вступление закона в силу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Если не указан срок вступл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 вступает в силу через 10 дней после опубликования в «Ро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йской газе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2840" y="620640"/>
            <a:ext cx="874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2.Прекращение действия уголовного закон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мена зако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издание закона в новой редакц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истечение срока действия закона(если это предусмотрено з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одателем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тпадение условий и обстоятельств вызвавших принятие з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изнание закона Конституционным судом не соответствую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им Конститу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400" y="3860640"/>
            <a:ext cx="85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3.Обратная сила закон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Закон обратной силы не имеет и 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спространяется на преступления совершенные до его пр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26920" y="5084640"/>
            <a:ext cx="763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ействие уголовного закона в пространств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760" y="5516640"/>
            <a:ext cx="91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1. Принцип территориальности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лица совершившие престу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ления на территории РФ, подлежат ответственности 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вного кодекса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6120" y="836640"/>
            <a:ext cx="893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2. Принцип граждан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аждане РФ, совершившие преступление за границей и при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кающиеся к ответственности на территории РФ, подлеж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вной ответственности по УК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5040" y="2276640"/>
            <a:ext cx="87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3. Реальный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остранные граждане, не проживающие на территории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тоянно, совершившие преступление вне пределов РФ, под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жат уголовной ответственности по УК РФ, если преступл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е было направлено против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5040" y="4221000"/>
            <a:ext cx="890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4.Универсальный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остранные граждане, не проживающие на территории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стоянно, совершившие преступление вне пределов РФ, под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жат уголовной ответственности по УК РФ в случаях преду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тренных международным договором РФ , если они не бы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уждены в иностранном государстве и привлекаются к отве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венности на территории Р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3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2277720"/>
            <a:ext cx="8785440" cy="3095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ahoma"/>
              </a:rPr>
              <a:t>1.Понятие уголовного прав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ahoma"/>
              </a:rPr>
              <a:t>2.Понятие и характерис-тика уголовного закон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го прав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4000" y="1477800"/>
            <a:ext cx="18572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о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53040" y="930240"/>
            <a:ext cx="6406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расль права, представляющая собой сов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упность юридических норм, которые опр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ляют преступность и устанавливают н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зуемость деяний, имеющих общественну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76360" y="328608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едмет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2880" y="3876840"/>
            <a:ext cx="8449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Три основных вида правоотнош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Преступление, как остроконфликтное противоправ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но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Правоотношения, возникающие в связи и по поводу пре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пного де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Правоотношения, возникающие в связи с правомер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яниями, внешне сходными с преступл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476360" y="76500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Методы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0120" y="1125360"/>
            <a:ext cx="797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Наказ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Иные методы уголовно-правового воз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Наделение граждан правами на необходимую обор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Поощ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76360" y="270828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Цель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5400" y="3182760"/>
            <a:ext cx="88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а наиболее значимых общественных отношений от пр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инения существенного в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5235480"/>
            <a:ext cx="83988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т.2, ч.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УК РФ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835280" y="4076640"/>
            <a:ext cx="6597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адачи уголовного законодательст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0320" y="4530600"/>
            <a:ext cx="784044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-охрана прав и свобод граждан, собственности, обще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енного порядка и безопасности, окружающей сре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онституционного строя от преступных посягательст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беспечение мира и безопасности человечества, а так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же предупреждение преступ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8900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го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476360" y="76500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нципы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9400" y="1125360"/>
            <a:ext cx="875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1.Принцип законности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реступность и наказуемость дея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ределяется только уголовным зако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2.Принцип равенства граждан перед законом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ица сове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ившие преступления вне зависимости от привходящих об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ятельств, привлекаются к уголовной ответственности. 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вные преступления назначается соразмерная ответствен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3.Принцип вины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ицо подлежит уголовной ответств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лько за те общественно опасные деяния, в отношении кот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ых установлена его в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4.Принцип справедливости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Уголовное наказание должно с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тветствовать характеру и степени общественной 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, личности виновного и обстоятельствам его с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6280" y="133200"/>
            <a:ext cx="8686800" cy="416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го прав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476360" y="1125360"/>
            <a:ext cx="590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нципы уголовного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160" y="1773360"/>
            <a:ext cx="8703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1.Принцип гуманизм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Уголовное законодательство напра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о на обеспечение безопасности гражд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2.Принцип демократизма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Уголовные законы приним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лько высшим законодательным органом, который избир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тся всем населением и, следовательно, выражает его во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3.Принцип личной ответственности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ицо совершившее пр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упление несет ответственность только за то, что соверш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 лично или охватывалось его преступным умыс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4.Принцип неотвратимости ответственности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Любое лицо с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ршившее преступление должно понести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Понятие уголовного пр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95280" y="1270080"/>
            <a:ext cx="2016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ы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зако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5920" y="836640"/>
            <a:ext cx="595368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рмативно-правовой акт, принятый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рядке ,предусмотренном Конституци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состоящий из взаимосвязанных юрид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ских норм. (Уголовный кодекс РФ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20720" y="2565360"/>
            <a:ext cx="6120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головный кодекс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3720" y="3068640"/>
            <a:ext cx="841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истематизированный законодательный акт по вопрос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вного законодатель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Единственный уголовный закон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-Основываетс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 Конституции и общепринятых принц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ах и нормах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ямое действие норм международного права относи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лько к Общей части Уголовного кодек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ормы международного права, не могут применяться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обенной части Уголовного кодекса (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конкретные преступлен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19280" y="836640"/>
            <a:ext cx="611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Характеристика Уголовного кодекс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7280" y="1920960"/>
            <a:ext cx="147816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бщая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часть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651640" y="1920960"/>
            <a:ext cx="191124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Особенная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асть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6" name=""/>
          <p:cNvSpPr/>
          <p:nvPr/>
        </p:nvSpPr>
        <p:spPr>
          <a:xfrm>
            <a:off x="2773440" y="12430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cc"/>
                </a:solidFill>
                <a:uFillTx/>
                <a:latin typeface="Times New Roman"/>
              </a:rPr>
              <a:t>-12 разделов, 360 ста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80" y="2998800"/>
            <a:ext cx="3774240" cy="3385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6 разде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головный зак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каз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свобождение от уголо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й ответствен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О несовершеннолетни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нудительные 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дицинского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0480" y="2998800"/>
            <a:ext cx="4932720" cy="33858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6 разде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лич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в сфере экономи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обществен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й безопас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госвла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во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ужб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ступления против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04840"/>
            <a:ext cx="8686800" cy="4158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нятие уголовног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19280" y="981000"/>
            <a:ext cx="6119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атьи Общей ча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00" y="1628640"/>
            <a:ext cx="916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формулируют основные понятия и принципы уголовного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19280" y="2276640"/>
            <a:ext cx="611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атьи Особенной част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9720" y="2817720"/>
            <a:ext cx="87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состоят из 2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Диспозиц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описание признаков конкретного преступления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Times New Roman"/>
              </a:rPr>
              <a:t>Санкци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определение вида и размера наказан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348000" y="4221000"/>
            <a:ext cx="2505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иды диспозиций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237600" y="4751280"/>
            <a:ext cx="876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Прост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деяние называется, но признаки не раскрываютс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Описатель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расшифровка употребляемых терми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Бланкет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идет отсылка к другим нормативным акта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Ссылоч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отсылает к другим статьям У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Смешанны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4-04-04T08:08:15Z</dcterms:modified>
  <cp:revision>4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