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278240" y="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ldNum" idx="1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AAA9F-D4B3-4557-909B-64E64506FA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F4F88-8A87-424D-8195-5BF82B9E02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CD6FF-0CD6-403A-ACBB-4B2F54329C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82762-2CF5-4734-8A51-FD298DCEDC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BE2FC-46A8-4F61-8EA1-78D050B80B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62838-46B5-4435-981A-3747B922D0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84F48-C5BC-4574-BFAD-AAE110C422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97F18-0823-4E37-A672-400E203017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1E117-F1B5-43BD-B0F8-4F798953DA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0CB5A-9A6E-410A-9CBD-E6EC207C9F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80E2F-F4AB-42FF-BF15-52F8B33C78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61C29-B03F-44AA-90BC-F83CFDED9B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DB1AD-0971-4DC0-B682-9A3485CB75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76CA5-4773-46E1-8EEA-BBF7737DE5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B10F5-B97D-4F21-9F20-25D031C2D9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DD52B-BF21-477B-87C3-D03B862BF0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5A68-81CC-4819-AFE2-818DE79C7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CDAD-8BFE-417C-A483-23C3B683B3A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3F1C4-0431-4B53-847A-EC62FBCF07A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381DF-07D7-48C9-B4B0-5EBFE2D3356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84130-2201-4BA2-A4DA-AEE46828A4F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D3742-FF9B-4BA3-B043-36B0367094C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2D95B-812F-4FC4-8005-E748E85DFCF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8BFD3-7909-4351-B7B8-13DF1B6477B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14DFC-7F8C-4549-B1CF-752B8CFC160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90EBD-B78A-4010-88FD-6B7E8A630F7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ECE34-155A-4204-859A-94D77884EE7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18034D-A407-4FDC-A77D-CB8775D5C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8028-D6B4-4A64-AF2E-444A2D2A595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0C3C5-CFCB-4035-89BC-484F6273F76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8469BF-53FD-49FB-9813-70730DC1C48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830000-11B6-4C55-A952-4362D2F773D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098CDE-EA77-4611-93D9-61C7BE26129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589F29-4CAB-482F-A4BE-946D09C6396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5CC8AB-2C38-41B9-A930-4BC11BB46BA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F602CE-872E-4720-B487-87CE8815CFA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BDE6BD-4F2A-4638-8785-6D12B695749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42690C-4EFC-4C2C-8860-9F4C0DEB78F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E28F9E-1467-477F-A114-843D6DE9F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0CC1-AF7C-4F68-BD97-109C4B76A2E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1AB5CD-2BB9-4408-B756-CCFC6D0F9D8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35660A-1698-46E2-8615-59435D4BE42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0160D0-6F1E-459A-AB25-B4D395C461A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4007CB-57A8-403A-9EBC-D7296903A91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C17E51-6F48-4617-B0F9-90721A49E94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04A49A-14B5-4D38-9E6A-D8112430A39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3877D-DBBF-43F2-B282-EC406AE9F46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CE4B4-C59C-4FD8-9952-B1F328169B3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216BDA-2176-4EEB-A799-A32830A3C52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69711E-BB06-4FA3-AE0C-B5567CFB7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94731-1EFC-4173-B5B3-3136E697203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BA0BB8-6025-4874-85DA-CD53C005D87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2DE7CE-F1A3-4A9A-88F7-DB0FA3263D7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9FDB1-EF04-497B-BD19-4BE3BC7B4D2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58C4A-0954-4118-B270-BAD3C6BBEDE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DFC7D-FFA0-4BC9-8280-C3FC1D1AB7E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50C7A-5046-445F-BB72-B9C3657F96D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CD3AF-D0E1-4320-A20C-B6ED603C078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E2E0C-FA1B-45BB-B24D-C2E0C926471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EC991-A0F5-4643-8B7D-E525718242C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7AF70-0D93-47DC-BED0-4E442FD9AA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486A7-7749-43E2-A4D9-F45E20F058D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87A45-5A31-439D-B338-0FEA09FB692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095B3-515C-4498-85F8-3CCCEBB90D8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F040C-E5E6-42E3-905D-0AB2337B6BD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58931-BC4A-42F2-8ABD-E16CC2DDA24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FF46C-E684-4BB7-9B9C-E943FA6FD2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A5F95-A4DA-4990-9883-07A152799C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E68BB-497C-49D0-A148-27B8D937C3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76A5E-7F5F-4D2E-A9BC-A235711175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2B749-CCD2-479C-8828-A74D0DE50A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3E8D4-7772-4334-991D-84991B9337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1131-0EF9-4532-A18D-F6CA49280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74706-ACC0-41B6-B729-5DD76607EF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BFBE0-5B60-4069-8816-8D2CD779D8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EAD2-2413-4738-9C3E-4D3DFED911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A928D-8EAD-4B8A-AFEC-CEDA4B938C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B4DC-B92F-45A3-8D6A-06B7959FF5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40B-08B6-4254-A6C9-9145446D6F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56E-041D-42FF-AA4A-538B8F1CEF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46D-EDE9-4E73-B8B0-E39318D604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C16-B110-4FE1-8F0D-632C220B46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CB8-F6E6-4154-B225-3847DE7536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7891-F487-480E-AC43-1E2805114F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94B-CD39-4B2F-BE2B-0E9775E6A3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576A-A3E8-436C-BFDD-4CAB0FAE84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A89-6D7C-4270-8689-36A5DC8838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800-71E3-45F1-847D-68F7D5A4A8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CAD-11B4-4F9B-9221-3DBC61051E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5254-2DFF-4074-99A8-B2370BD27A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D5F-BBBB-4927-A038-78C1DAD9F4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C0AA2-250A-44D9-9B1F-0C4921A058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2A898-1426-4A41-8F60-26E325733D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8F3AE-2E74-47AF-BDD2-BF5809D85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D205-43A9-424D-9CE2-14E730AB93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F0F2D-AADA-46B8-A161-AC912D9075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75BE1-9910-46C6-85FC-9DC0DE1C87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42465-3593-484C-9A10-578AD0AD24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DD454-ED8A-4221-81CC-96A992AC4D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CBEC1-F577-4BB0-821F-7F972F7051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4DB62-B879-4E90-8B6B-30618876D1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7C54B-C5C5-4ABE-9576-0590EEADEA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7B4C3-3B18-4C20-ABB4-4F762B56DA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751C8-30F2-4DAC-917F-4957D2836AC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91F42-F8D5-41C8-A74D-5E233B773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B426-709C-46FA-9EA9-F3930DA2C7A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19423-39FA-412A-8562-D40B28E28A0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4C1AF-2416-4A8A-A869-067A56785A2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BAA7C-7850-4297-8C4F-BA9285E2EF2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47B37-E98A-41C5-97B3-8A00B90D1C9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B6A58-8C3E-4C7C-9378-E2EC278EC51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EB8AB-B1FF-4C8A-ABDE-5F7830712D1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0816D-61E1-46ED-9311-1332303998F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117F9-CC10-419D-BB60-CB2B06486CA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9F3EC-9C1C-4FEE-9CE7-DC3105C0460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27F04-5D14-4CFD-977A-D193D2D5E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7CEF-6A1C-4939-94B8-8A7E3292DD5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DE56B-914A-4A7B-8E3B-EDBCD452E48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1118-6EE6-4F35-A26A-F6E1B2059D2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A56A-EF2F-4C1C-A677-3A87F3DF9B4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E927-207E-4207-AAC4-22612B99B2C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EE3E-5871-4E3C-BB8E-3D762FBAE94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8C14-E139-4E26-B0F3-DF7C01B0E3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687F-7344-4D2D-9EEC-EB2B339AC9B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9C9B-AA19-476F-AE81-67CEF2BF543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F4EB-6CE1-437F-B295-8005609EA1C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61A5-8095-4F7B-99B2-0AE599AEA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DCC3-2570-4B63-B5CA-465FB4AD199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9248-A7F9-4DBD-81E2-B989486AFB0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68A4-F914-4AE1-B1FF-CAC67827EC0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BF27-FA4E-431F-8728-5B949701CB7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E5C87F-56F3-4288-9AD2-3BB5D1BF798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AE7955-EBD5-40FF-9A36-A48BBD918FB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90A9B1-6024-4EDE-97E3-692B5D98CBE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099B7B-FD21-418A-912E-670D74F91E1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3EA4A4-7A8C-42C2-80A6-C8980C9D72A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278865-BD29-4A95-B80E-EEDDD53712D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54CD55-206B-4F14-A1D2-2184698E2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9500-3CF2-4FE0-9215-33BD1FC7378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0D9FD7-46AD-41AA-978E-11E2CD993E4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07AE9-3B28-4180-9E82-97223A66090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035250-14F6-4697-ADBC-81BA30273CA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C18003-5701-4E9A-93A6-7E87CDD0151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1FD91C-1A79-4C48-B021-9CDFE02FAFE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EB560-7AD7-44F4-9B48-BD1979CAD32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C500A-6E8B-4E97-B5DE-20EA2DC6933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461AB-522F-4037-8DA4-54F3C77FCC5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4CC23-AAE0-41B9-82F2-D96B768E843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A88AD-88C3-40E6-A84D-FA42709B4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5DC8-5AFF-4C30-9E22-D1C9C958C05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CB5F6-F39C-4BBC-B40C-76A141E352F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D26F6E-16D4-4077-89C3-021350A5577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22545-B168-4975-99B1-382CDCFF91B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8FBF4-6A8E-4A78-BA5E-C76CD83C0DE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5F70C-7B8F-40A9-900C-980DEC7C680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546B9-DD32-41A5-998F-A7AA5CAF4C4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8BAC4-3C09-4B84-B884-CCE6FBCDEC8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408E7-EFA5-4A9D-BC03-84A3D59C26A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D2902-8196-4B46-B73C-98A0B7EC821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92FFD-B9F4-4530-AC59-C6F701D81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ABB06-DCC3-4559-93AB-9ED2BDFE00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93360" y="502920"/>
            <a:ext cx="3249720" cy="17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86160" y="1089000"/>
            <a:ext cx="510228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93360" y="2268360"/>
            <a:ext cx="3249720" cy="41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marL="2192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10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28E68-D54C-4123-B3E9-03E0DE2F7E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11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DA880-6658-4A38-8BCD-83192C3C4A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308360" y="301680"/>
            <a:ext cx="2265480" cy="64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502920" y="301680"/>
            <a:ext cx="6651720" cy="64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2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62331-55D7-486E-875F-DC937A3DA8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0000" y="1236240"/>
            <a:ext cx="755820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63218-5961-47F4-93EC-E4FC90DF82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D3979-F9D2-4FD8-AE25-6B728EB110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7240" y="1884240"/>
            <a:ext cx="8693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7240" y="5059440"/>
            <a:ext cx="86932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FCBE8-95D5-4EE4-8052-6CE756106F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3280" y="1768320"/>
            <a:ext cx="44593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14880" y="1768320"/>
            <a:ext cx="44607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ldNum" idx="5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CE64C-5F03-4D0D-9BFC-5E01175DEC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3360" y="1852560"/>
            <a:ext cx="42642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7200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3720" y="2760840"/>
            <a:ext cx="426564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03720" y="2760840"/>
            <a:ext cx="428472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DD89A-AAC6-4268-A142-1CF468AC04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Num" idx="7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86596-6AE8-4607-A9AE-62ECB64F30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Num" idx="8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2E2CC-A755-4BFC-A4EB-8CD8979B49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93360" y="502920"/>
            <a:ext cx="3249720" cy="17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86160" y="1089000"/>
            <a:ext cx="510228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3360" y="2268360"/>
            <a:ext cx="3249720" cy="41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marL="2192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35303-7E16-4AA7-A694-FB41408752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 anchorCtr="1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55920" y="493560"/>
            <a:ext cx="456696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Безударный гласный зву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Причиняет много м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писать гора или гар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Трава или тров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Если слышишь парный зву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Будь внимательным, мой друг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Парный сразу проверя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Слово смело изменя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Поздний, звёздный и окрестн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Здравствуй, областной и местны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Сердце, солнце и участни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Чувство, лестница и празд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Научись слова чит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И запомни, как пис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2920" y="1152360"/>
            <a:ext cx="9070920" cy="5607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81040" y="1152360"/>
            <a:ext cx="892188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Печник -пе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аморозки- замороз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грустно- грус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гроза-грозы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убки-зубы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звездный-звез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бедняк- бедный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снежки- снежочки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светлячек- свет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кружка- круже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Проверь распределения по групп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74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ечник               заморозки              гру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гроза                  зубки                      звез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бедняк                снежки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светлячек           кру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Microsoft YaHei"/>
              </a:rPr>
              <a:t>Группы распределены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1.Безударная глас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2. Парная соглас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3.Непроизносимая соглас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98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Выполнение теста ( 2 мину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60360" y="2016000"/>
            <a:ext cx="8928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Запишите по порядку буквы, которые вы вставите в слова вместо точ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с…нь,  со..нце,  грус..но,  в…да,  бере…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…ля, р…ка, б…г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роверка: е, л, т, о, з, о, е, 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20720" y="1768320"/>
            <a:ext cx="770400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Чем мы сегодня с вами занимались на урок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Чему научились и что вспомнил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76360" y="1871640"/>
            <a:ext cx="84232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Домашнее зад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Учебник стр. 59 упр. 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Прочитайте задание, поставьте перед собой задачи. ( Списать и обозначить орфограмм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93960" y="789120"/>
            <a:ext cx="629424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Работа ведётся по алгоритму: (Памятк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1) Читаю слов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2) Определяю в какой части слова пропущенная орфограмма. Ставлю ударе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3) Определяю на какое правило пропущенная орфограмм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4) Выбираю решение «орфографической задачи» (подбор однокоренных слов, использование правил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5) Записываю пропущенную орфограмм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Microsoft YaHei"/>
              </a:rPr>
              <a:t>Сформулируйте тему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рфограммы- проверяемые безударные гласные, парные согласные и  непроизносимые соглас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овторить три правила корня, учиться подбирать проверочн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Сформулируйте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Составление, комментированое письмо и разбор предл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ое сейчас время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с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Назовите осенние меся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Сентябрь, октябрь, нояб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Запишем предложение об ос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С утра светило и радовало осеннее солн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Назовите орфограммы, укажите основу предложения, части речи, характеристика предложения и схема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36720" y="431640"/>
            <a:ext cx="8783640" cy="67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В каких словах встретились орфограммы? Вспоминаем пр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проверить безударные гласные в корне с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проверить парные согласные в корне с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проверить непроизносимые согласные в корне с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Солнце – фонетический разб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7280" y="720720"/>
            <a:ext cx="9431280" cy="63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Проверк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Солнце — слово из 2 слогов: сол-нце. Ударение падает на 1-й сло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Транскрипция слова: [сонцэ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с — [с] — согласный, парный глухой, парный твёрд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о — [о] — гласный, удар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л — не образует звука в данном сло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н — [н] — согласный, непарный звонкий, сонорный, парный твёрд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ц — [ц] — согласный, непарный глухой, непарный твёрд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е — [э] — гласный, безудар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В слове 6 букв и 5 зву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Грамоте учиться - всегда пригодить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 marL="91440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вы понимаете смысл этих сл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то хочет научиться писать грамот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Что для этого надо знать и уме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Вспомним 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87280" y="1563840"/>
            <a:ext cx="950436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Работа ведётся по алгоритму: (Памятк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1) Читаю сло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2) Определяю в какой части слова пропущенная орфограмма. Ставлю удар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3) Определяю на какое правило пропущенная орфограмм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4) Выбираю решение «орфографической задачи» (подбор однокоренных слов, использование правил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5) Записываю пропущенную орфограм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Прочитайте слова, распределите на группы, спиши подбирая проверочное  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..чник                        грус..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гр..за                           звез..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б..дняк                         зу..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св..тля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заморо..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сне..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ру..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1T17:54:46Z</dcterms:created>
  <dc:creator/>
  <dc:description/>
  <dc:language>en-US</dc:language>
  <cp:lastModifiedBy/>
  <dcterms:modified xsi:type="dcterms:W3CDTF">2020-11-13T22:22:50Z</dcterms:modified>
  <cp:revision>12</cp:revision>
  <dc:subject/>
  <dc:title>Презентация PowerPoint</dc:title>
</cp:coreProperties>
</file>