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278240" y="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ldNum" idx="1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8201B-D919-4E6B-81EB-724FC43A0A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FCEFD-2F83-4B31-9B6A-EA6F661418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5F36A-B58D-4FFF-9EF4-A2EA489C3C1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7BF11-8226-4D34-A968-8EE682B5041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494AF-2863-4B37-8384-A211CE93F8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90A5D-0EC9-400B-A291-6F42FE21811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CE9E0-812C-4FE5-9FED-92260F6F8C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AC350-C719-4D68-AAB9-A2DB5FC611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87EB8-1A07-4E8A-9DCF-BDCEDE868F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AE4A7-88A2-4A19-BDC4-1AA70946D8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CC3E2-1620-452D-8BAE-F564C2CA65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49758-ECB3-4167-AFB2-05E67D178D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3E810-A6CE-44F1-9F99-947420A623E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45C4F-078D-4623-B8F7-DEAE176A115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4339B-FDD1-4B75-8B5A-130F2F75A4F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1E2CB-D06F-4F28-91CC-5242CDE253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DE973-1766-4B8F-B7A1-1D1D644A65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F9871-A75F-4B76-A8FA-E4EE084F19C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56F8B-7CB0-4A2D-B9A0-DC7D8B5936F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4175F-002C-4482-881D-011AAC4E25D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FD8B7-4B3F-47D4-A2C6-42B3FBD4654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75E93-38D1-4F93-A9FC-8300E900A9D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C55CA-B7A5-4076-9B2A-0374828F961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4FCB9-DDDE-48B8-967F-68DA443C6CF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EE383-C756-4A2E-8FA2-0426B781326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4A39C-E232-442C-A1CA-522ED787672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63EC1-A38E-44ED-A76C-52F66392D11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9B0188-8BC4-4819-9476-08860B5908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9B13B-0FE6-45AB-83B5-9833A7B8AE5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4D1C0B-894A-45F8-8E5F-F1EB1A685DF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8B29B0-EBDF-436D-BC4D-BFF6D464947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73A424-756E-4B03-A5BD-A1F95E02FC8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FB2FD1-B419-4B70-B521-5485CB269C0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D3549B-6277-4220-8D16-9079BCD727B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78B157-DD35-4E46-9BCD-3B47B1C49CF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73C1DF-1051-450A-B461-176B8C04385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FCDF98-04B9-4901-80AA-64387C43A6F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D9C2BE-57CB-4885-92F5-0A67D44BC14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9B7930-F441-49F0-B2F6-2B3FF09B6F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B865D-9FE1-4962-909A-DAD57E316F6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9CE625-DFB7-4357-BC53-E9CB2C044E0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213581-E6BF-414D-9BD5-8C192678EB3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5ADB79-BED5-493A-A0E2-7E2DB9C0F46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9E4A02-2DC8-449E-AA13-FD80256A106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7D1B61-EBC3-4640-B500-09ADEDC4445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D93336-01E1-4382-82B4-31360AA6DAD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F3F8D9-7D03-4E7A-87D3-E2A95278E22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EDA68A-87FD-4ACF-B57D-E14C63AF40A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BDD6DA-C4A9-4CC3-95F3-B47B83405FC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594D71-B841-4800-AFB3-9DF1295070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A7EC0-B044-43F9-A669-E822A2CCF82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546DF3-2C7D-4F0A-AC41-459EA8D43C8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2D779E-F163-47B1-AC51-C92ADC5B1DF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B14A04-9355-4B36-894F-350080A8955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E9DF3-7BAC-46EA-8C09-3F7BF8CBF65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77180-68ED-4932-AAAB-FB80C8941E9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0061E-01B9-4B29-882B-07325D9A7C7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20158-356A-428C-8E8B-CDB473CC60C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DB383-3E78-4799-BD75-0137485F10F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F1BEA-FA34-446A-A0AB-6DA6A869DC5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87DB0-52F0-4670-ACA1-00AE718335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E52D4-ACAD-4A23-8095-C0825B18200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E5C63-C3E7-4A6E-B0FE-58933131E9C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F48DA-FD08-4788-9A5E-49802DA332C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EE625-374E-4296-B488-F3F0F33E325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0D078-C8B5-47C2-A4C2-CDA473D7F81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5C2DF-8E98-49C7-8A32-6D395C900C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D3528-4CDE-44C3-8376-F8E7B29933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B2BCA-BE62-494E-AC5C-E105920E21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5C773-398A-495E-9ADA-18C3611F36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C506D-0BDF-42AA-A386-7549AADBA7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53F6B-D22D-416E-B72D-F5D4128D45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459E1-3329-4E18-8460-911E04D85F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FF43A-7728-4752-B0CB-0CA4580A5C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FDD90-D44E-480D-897D-1DFCBCC86E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C75A7-6D94-49E8-952A-051EC00056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38A10-56FA-43F0-BE1B-E0A8BF28EE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D33ED-586F-4D9F-BD4C-0D9CFBBA0CF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4998-42A8-4966-8605-2E8AED40D7E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1234-543B-4954-9513-4E47AFE844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73CD-2338-47F1-9A3B-786951606CF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F3F9-47BF-47B6-A660-66D3ACF2AA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7543-A0EB-4D62-A94D-02DCA614BB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ED17E-457A-4F6E-8554-8713428BDF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9A32-1BC8-4962-AD30-AF299A7F903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DF07-3B82-43D7-BA28-5AA96F1671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5FD1-158F-424A-BF08-9D7B01448E2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D103-26C1-43D0-B253-6A721D5EE77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0056-C83C-457E-ABD7-654F924F1F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A883-0DEB-457B-B412-B50A9EC0ED4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D35F-3FE9-4D6E-953B-D2E71B00580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B4E05-5E53-41EC-9065-59641DA389C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3DAE6-9993-47DA-B587-010C09D8F87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0EB1C-1152-4132-9BC5-A7A24590DB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CC0B4-36B7-44D2-B174-19842B63FC2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3A6424-21E4-4D21-872A-43F3E716A58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F14B4-074B-4F9F-9082-70563FE0425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4EC22-4294-4544-A493-66C33526653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2EDBF-3E79-4F35-9BAC-31CDE3B43C3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81FD4-E626-44E4-8E12-15D24FF010C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AF1C7-B2C7-431C-8232-CC1EB6AAFFA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829EE-AA33-45E3-9D46-848518B6D21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151F0-6188-411E-86B8-2551480E5CE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5EFEF-344E-4A13-A138-614899139B3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2F8C2-58E8-4D28-AAB3-2F473432B1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154D5-30F4-4E89-9BEB-AA3F441A83C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E25AA-9F87-4166-99DE-F3A3178EED4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EE3D4-190C-4626-9295-95F865D894E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E8D28-3133-4B10-8EB7-2DB333A38E0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CB5DF-9B62-4FC5-BC85-24D39AD8D79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85FFD-6F1D-472C-B0B5-C5BDCECF93D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6C640-2072-4302-AB15-856E0056694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42BB2-AC56-49E2-AEB0-67CE6774432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E1AB3-0916-4B88-9CCD-25517BFB7D8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242C1-1ABC-4BFC-BA64-02F04EAA41E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6FF6B-E8F1-4F3A-8ADE-2C8ECE7472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51DC8-AD05-4E20-B029-F15994F28BC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D101A-6865-4D7A-B506-35457F9E971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07D2-9304-432C-A1D5-267B08052B3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5344-0DFA-414A-8D34-E1E59CBB083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5806-5E26-4935-A5F4-FDD3A072995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DB5E-D792-4549-B102-BDE0B4957CA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97B4-C476-41C0-A85D-992BA888E22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ED7D-1BDF-419C-91D2-B5E50853477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0062-331C-4CCF-91E9-CA7858A2DFA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2968-0F3F-4708-82EF-D576FE4B310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5A99-193C-4917-AE20-E91BD5145D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7DDA8-3BA1-473E-836F-66523E3967A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1124-2F9F-48B7-AB6E-9D7BE5F12AF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EB3A-E253-4EBF-BFF4-DE072F1A09F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2E86-569F-4CA4-8158-A1996BD4977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E79B4B-70F3-42D3-B298-1F9B5CB490A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5716C2-D727-492A-83D3-973E4AE4FE8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FD299B-D696-4D9E-B6E8-0DD997DF838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51EF80-738D-49CE-9337-3E2F6561708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9D2D26-F5AD-42D1-8812-C3060285B53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D24C47-F44A-469A-9995-B612628F218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88F351-334B-40E1-AE52-6FC7DB3EA5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0E61D-F757-48E5-A89D-0F83E1CFE4D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0B1FE5-5D15-4EA4-9DE3-4090753A537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488F09-3E6F-4D47-8D4B-F739946A492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D9C257-3AA6-4FA8-9D18-9058057B1D3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268190-08B7-4C48-B892-BB4F46681D5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E5186C-135F-4BE0-A60F-33D5034A843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5E6D9F-42D8-4A18-A99A-D9460B3A734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6A2D61-49E3-4606-8F0E-E76106CC2C1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A657C8-A333-401A-A998-218662631DF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DDC238-C0C5-463E-963E-FEFDBD21030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41A377-8D3A-4449-BEB5-F529CE7AE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5095E-19AF-4560-A454-31864614084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D72106-D582-4FA3-99A7-F26BB4521D2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426DA2-0F52-4A32-982C-35164303B37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4647CC-777E-4F41-A8F4-E967A476039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FC4445-3C3F-4ABE-9662-92F39DFD712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A89BEF-A506-419B-9610-0747E241154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B48663-EB0E-493C-91AD-B2D90F72574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84E406-9A38-4BC8-86EE-828433F5BEF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63220-1BE8-478F-BBE6-60EEDC99495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CA9B1-0E95-45CE-B948-6F428679324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67EFD-D298-4CA0-A078-A77CA7053A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6DF9E-93AC-4533-AD96-4C546A1CDFF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93360" y="502920"/>
            <a:ext cx="3249720" cy="17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286160" y="1089000"/>
            <a:ext cx="510228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93360" y="2268360"/>
            <a:ext cx="3249720" cy="41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marL="2192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sldNum" idx="10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4ADAF-381C-4189-ABDE-8A25B03199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sldNum" idx="11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F13BD-34D2-45C7-8810-58C8E98778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308360" y="301680"/>
            <a:ext cx="2265480" cy="645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502920" y="301680"/>
            <a:ext cx="6651720" cy="645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12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24BD7-0639-4385-9BBE-DE2FD938B4B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0000" y="1236240"/>
            <a:ext cx="7558200" cy="26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DCF56-3637-452C-8C06-5934E335C3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Образец текста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B8CC6-4819-4742-AAAC-5934CEC3BA2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7240" y="1884240"/>
            <a:ext cx="8693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7240" y="5059440"/>
            <a:ext cx="869328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marL="13032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4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C1E3B-9D30-42F6-8B83-6F98D33903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3280" y="1768320"/>
            <a:ext cx="44593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Образец текста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14880" y="1768320"/>
            <a:ext cx="446076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Образец текста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ldNum" idx="5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6E694-60BB-4EDD-8AFF-BB3E1B86205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93360" y="1852560"/>
            <a:ext cx="426420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21000"/>
          </a:bodyPr>
          <a:p>
            <a:pPr marL="7200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00" indent="-7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00" indent="-7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72000" indent="-7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72000" indent="-7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72000" indent="-7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72000" indent="-7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3720" y="2760840"/>
            <a:ext cx="4265640" cy="40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Образец текста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03720" y="2760840"/>
            <a:ext cx="4284720" cy="40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Образец текста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40295-A730-4BA3-878C-F520BC576D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ldNum" idx="7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21877-4DE7-4E3C-8CDB-FFD0A2EA5F0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Num" idx="8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47FAC-3E64-40E0-AE85-44C174A28E4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93360" y="502920"/>
            <a:ext cx="3249720" cy="17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286160" y="1089000"/>
            <a:ext cx="510228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Образец текста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3360" y="2268360"/>
            <a:ext cx="3249720" cy="41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marL="2192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2366F-4C1A-480C-BDDC-3079E3EC6A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 anchorCtr="1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555920" y="493560"/>
            <a:ext cx="4566960" cy="44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Безударный гласный зву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Причиняет много му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Как писать гора или гар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Трава или тров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Если слышишь парный звук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Будь внимательным, мой друг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Парный сразу проверя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Слово смело изменя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Поздний, звёздный и окрестны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Здравствуй, областной и местны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Сердце, солнце и участник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Чувство, лестница и празд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Научись слова чит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И запомни, как пис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2920" y="1152360"/>
            <a:ext cx="9070920" cy="560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81040" y="1152360"/>
            <a:ext cx="8921880" cy="62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Печник -пе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заморозки- замороз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грустно- груст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гроза-грозы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зубки-зубы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звездный-звез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бедняк- бедный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снежки- снежочки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светлячек- свет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кружка- круже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Проверь распределения по групп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vert="eaVert">
            <a:normAutofit/>
          </a:bodyPr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Печник               заморозки              гру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гроза                  зубки                      звезд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бедняк                снежки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светлячек           круж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Microsoft YaHei"/>
              </a:rPr>
              <a:t>Группы распределены 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1.Безударная глас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2. Парная соглас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3.Непроизносимая соглас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dur="indefinite" fill="hold">
                      <p:stCondLst>
                        <p:cond delay="indefinite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dur="indefinite" fill="hold">
                      <p:stCondLst>
                        <p:cond delay="indefinite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dur="indefinite" fill="hold">
                      <p:stCondLst>
                        <p:cond delay="indefinite"/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spcAft>
                <a:spcPts val="98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Выполнение теста ( 2 мину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60360" y="2016000"/>
            <a:ext cx="8928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Запишите по порядку буквы, которые вы вставите в слова вместо точе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Ос…нь,  со..нце,  грус..но,  в…да,  бере…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п…ля, р…ка, б…г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Проверка: е, л, т, о, з, о, е, 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dur="indefinite" fill="hold">
                      <p:stCondLst>
                        <p:cond delay="indefinite"/>
                      </p:stCondLst>
                      <p:childTnLst>
                        <p:par>
                          <p:cTn id="2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dur="indefinite" fill="hold">
                      <p:stCondLst>
                        <p:cond delay="indefinite"/>
                      </p:stCondLst>
                      <p:childTnLst>
                        <p:par>
                          <p:cTn id="2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dur="indefinite" fill="hold">
                      <p:stCondLst>
                        <p:cond delay="indefinite"/>
                      </p:stCondLst>
                      <p:childTnLst>
                        <p:par>
                          <p:cTn id="2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20720" y="1768320"/>
            <a:ext cx="7704000" cy="20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Чем мы сегодня с вами занимались на уроке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Чему научились и что вспомнили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76360" y="1871640"/>
            <a:ext cx="84232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Домашнее зад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Учебник стр. 59 упр. 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Прочитайте задание, поставьте перед собой задачи. ( Списать и обозначить орфограмм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893960" y="789120"/>
            <a:ext cx="629424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Работа ведётся по алгоритму: (Памятка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1) Читаю слов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2) Определяю в какой части слова пропущенная орфограмма. Ставлю ударени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3) Определяю на какое правило пропущенная орфограмм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4) Выбираю решение «орфографической задачи» (подбор однокоренных слов, использование правил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5) Записываю пропущенную орфограмм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vert="eaVert">
            <a:normAutofit/>
          </a:bodyPr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Microsoft YaHei"/>
              </a:rPr>
              <a:t>Сформулируйте тему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Орфограммы- проверяемые безударные гласные, парные согласные и  непроизносимые соглас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vert="eaVert">
            <a:normAutofit/>
          </a:bodyPr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Повторить три правила корня, учиться подбирать проверочные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047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Сформулируйте 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Составление, комментированое письмо и разбор предлож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vert="eaVert">
            <a:normAutofit/>
          </a:bodyPr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Какое сейчас время г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Ос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Назовите осенние меся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Сентябрь, октябрь, нояб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Запишем предложение об ос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С утра светило и радовало осеннее солн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Назовите орфограммы, укажите основу предложения, части речи, характеристика предложения и схема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936720" y="431640"/>
            <a:ext cx="8783640" cy="67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В каких словах встретились орфограммы? Вспоминаем прав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Как проверить безударные гласные в корне сл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Как проверить парные согласные в корне сл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Как проверить непроизносимые согласные в корне сл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Солнце – фонетический разб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87280" y="720720"/>
            <a:ext cx="9431280" cy="63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Проверк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Солнце — слово из 2 слогов: сол-нце. Ударение падает на 1-й сло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Транскрипция слова: [сонцэ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с — [с] — согласный, парный глухой, парный твёрд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о — [о] — гласный, удар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л — не образует звука в данном слов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н — [н] — согласный, непарный звонкий, сонорный, парный твёрд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ц — [ц] — согласный, непарный глухой, непарный твёрд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е — [э] — гласный, безудар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В слове 6 букв и 5 звук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Грамоте учиться - всегда пригодить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vert="eaVert">
            <a:normAutofit/>
          </a:bodyPr>
          <a:p>
            <a:pPr marL="91440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Как вы понимаете смысл этих сл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Кто хочет научиться писать грамот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Что для этого надо знать и уме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dur="indefinite" fill="hold">
                      <p:stCondLst>
                        <p:cond delay="indefinite"/>
                      </p:stCondLst>
                      <p:childTnLst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Вспомним алгорит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87280" y="1563840"/>
            <a:ext cx="950436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Работа ведётся по алгоритму: (Памятк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1) Читаю слов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2) Определяю в какой части слова пропущенная орфограмма. Ставлю удар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3) Определяю на какое правило пропущенная орфограмм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4) Выбираю решение «орфографической задачи» (подбор однокоренных слов, использование правил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5) Записываю пропущенную орфограмм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dur="indefinite" fill="hold">
                      <p:stCondLst>
                        <p:cond delay="indefinite"/>
                      </p:stCondLst>
                      <p:childTnLst>
                        <p:par>
                          <p:cTn id="1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dur="indefinite" fill="hold">
                      <p:stCondLst>
                        <p:cond delay="indefinite"/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Прочитайте слова, распределите на группы, спиши подбирая проверочное  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vert="eaVert">
            <a:normAutofit/>
          </a:bodyPr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П..чник                        грус..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гр..за                           звез..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б..дняк                         зу..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св..тля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заморо..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сне..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кру..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11T17:54:46Z</dcterms:created>
  <dc:creator/>
  <dc:description/>
  <dc:language>en-US</dc:language>
  <cp:lastModifiedBy/>
  <dcterms:modified xsi:type="dcterms:W3CDTF">2020-11-13T22:22:50Z</dcterms:modified>
  <cp:revision>12</cp:revision>
  <dc:subject/>
  <dc:title>Презентация PowerPoint</dc:title>
</cp:coreProperties>
</file>