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wmf" ContentType="image/x-wmf"/>
  <Override PartName="/ppt/media/image48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28.wmf" ContentType="image/x-wmf"/>
  <Override PartName="/ppt/media/image67.png" ContentType="image/png"/>
  <Override PartName="/ppt/media/image20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24.png" ContentType="image/png"/>
  <Override PartName="/ppt/media/image53.png" ContentType="image/png"/>
  <Override PartName="/ppt/media/image57.png" ContentType="image/png"/>
  <Override PartName="/ppt/media/image14.wmf" ContentType="image/x-wmf"/>
  <Override PartName="/ppt/media/image51.png" ContentType="image/png"/>
  <Override PartName="/ppt/media/image16.gif" ContentType="image/gif"/>
  <Override PartName="/ppt/media/image12.wmf" ContentType="image/x-wmf"/>
  <Override PartName="/ppt/media/image18.png" ContentType="image/png"/>
  <Override PartName="/ppt/media/image60.png" ContentType="image/png"/>
  <Override PartName="/ppt/media/image70.png" ContentType="image/png"/>
  <Override PartName="/ppt/media/image69.jpeg" ContentType="image/jpeg"/>
  <Override PartName="/ppt/media/image29.png" ContentType="image/png"/>
  <Override PartName="/ppt/media/image66.png" ContentType="image/png"/>
  <Override PartName="/ppt/media/image65.png" ContentType="image/png"/>
  <Override PartName="/ppt/media/image26.wmf" ContentType="image/x-wmf"/>
  <Override PartName="/ppt/media/image63.png" ContentType="image/png"/>
  <Override PartName="/ppt/media/image15.wmf" ContentType="image/x-wmf"/>
  <Override PartName="/ppt/media/image58.png" ContentType="image/png"/>
  <Override PartName="/ppt/media/image62.png" ContentType="image/png"/>
  <Override PartName="/ppt/media/image25.png" ContentType="image/png"/>
  <Override PartName="/ppt/media/image22.png" ContentType="image/png"/>
  <Override PartName="/ppt/media/image21.wmf" ContentType="image/x-wmf"/>
  <Override PartName="/ppt/media/image64.png" ContentType="image/png"/>
  <Override PartName="/ppt/media/image23.jpeg" ContentType="image/jpeg"/>
  <Override PartName="/ppt/media/image49.png" ContentType="image/png"/>
  <Override PartName="/ppt/media/image59.png" ContentType="image/png"/>
  <Override PartName="/ppt/media/image4.wmf" ContentType="image/x-wmf"/>
  <Override PartName="/ppt/media/image52.png" ContentType="image/png"/>
  <Override PartName="/ppt/media/image10.png" ContentType="image/png"/>
  <Override PartName="/ppt/media/image61.png" ContentType="image/png"/>
  <Override PartName="/ppt/media/image5.jpeg" ContentType="image/jpeg"/>
  <Override PartName="/ppt/media/image54.png" ContentType="image/png"/>
  <Override PartName="/ppt/media/image11.wmf" ContentType="image/x-wmf"/>
  <Override PartName="/ppt/media/image50.png" ContentType="image/png"/>
  <Override PartName="/ppt/media/image19.wmf" ContentType="image/x-wmf"/>
  <Override PartName="/ppt/media/image7.wmf" ContentType="image/x-wmf"/>
  <Override PartName="/ppt/media/image30.jpeg" ContentType="image/jpeg"/>
  <Override PartName="/ppt/media/image8.wmf" ContentType="image/x-wmf"/>
  <Override PartName="/ppt/media/image40.png" ContentType="image/png"/>
  <Override PartName="/ppt/media/image27.jpeg" ContentType="image/jpeg"/>
  <Override PartName="/ppt/media/image17.wmf" ContentType="image/x-wmf"/>
  <Override PartName="/ppt/media/image13.wmf" ContentType="image/x-wmf"/>
  <Override PartName="/ppt/media/image56.png" ContentType="image/png"/>
  <Override PartName="/ppt/media/image6.gif" ContentType="image/gif"/>
  <Override PartName="/ppt/media/image9.png" ContentType="image/png"/>
  <Override PartName="/ppt/media/image39.png" ContentType="image/png"/>
  <Override PartName="/ppt/media/image32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253-3B78-45C4-86E4-2002D918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820-A968-48B9-BE00-47E02CF9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570-AD05-488E-8BD4-AA22AFCE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98F-FC8F-44A5-A748-A244A5FB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755A-10CC-4061-93A5-05CB50DC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F9F5-9CDE-4D6A-8B5B-AACCB6AE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298A-5F02-4FC0-BA20-2F0DEA7F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6272-0314-43AD-B27E-D6EB9095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370C-4557-475A-9249-C77CF251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533E-B521-4171-8E8E-4E849449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31AB-AE99-4148-8D28-4668CC89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35F-EC7B-41B3-803F-947DA302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D81A-9120-4FA4-B98E-17CB03DF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241F-E76F-47F9-94FD-F06AAACC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4A05-2BC4-4350-A09F-A7F6FFF7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9B9F-49BB-4182-B66F-DFA8F0FF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7B68-9B03-499D-8737-20332C55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D07-B3A6-4EB2-BB73-AC89C2C1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5FA-2A14-47DD-8E6A-056D2F06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BFD-CA77-4C74-871A-C83531E0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231-A99B-4924-B0A1-0C600004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29E-111B-4A0C-A4D2-22FF3AC7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012-E5CB-4BDE-8F9B-F9F8908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DFF-D6C2-4AD7-A579-98C7784F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577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s 24578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24579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s 24580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24581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s 24582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s 24583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s 24584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s 24585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s 24586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24587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24588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24589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24590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24591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24592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24593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24594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4595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4596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4597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4598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599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4600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4601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4602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4603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4604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24605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24606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s 24607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s 24608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Rounded Rectangle 24609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24610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24611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096C-59D7-4F49-8FD4-11EA7430F7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5601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s 25602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25603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s 25604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605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s 25606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s 25607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s 25608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s 25609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s 25610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25611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25612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25613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25614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25615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25616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25617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25618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5619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5620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5621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5622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5623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624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5625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5626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5627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5628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25629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5630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s 25631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s 25632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ounded Rectangle 25633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25634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25635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D5DA-69BC-4329-BC2C-9A109BE18C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wmf"/><Relationship Id="rId3" Type="http://schemas.openxmlformats.org/officeDocument/2006/relationships/image" Target="../media/image2.jpe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2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0.jpeg"/><Relationship Id="rId3" Type="http://schemas.openxmlformats.org/officeDocument/2006/relationships/image" Target="../media/image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0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2.png"/><Relationship Id="rId8" Type="http://schemas.openxmlformats.org/officeDocument/2006/relationships/image" Target="../media/image52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47.jpeg"/><Relationship Id="rId5" Type="http://schemas.openxmlformats.org/officeDocument/2006/relationships/image" Target="../media/image55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2.jpe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2.jpeg"/><Relationship Id="rId3" Type="http://schemas.openxmlformats.org/officeDocument/2006/relationships/image" Target="../media/image61.png"/><Relationship Id="rId4" Type="http://schemas.openxmlformats.org/officeDocument/2006/relationships/image" Target="../media/image2.jpe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5.jpe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image" Target="../media/image3.jpe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gi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19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6323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s 56324"/>
          <p:cNvSpPr txBox="1"/>
          <p:nvPr/>
        </p:nvSpPr>
        <p:spPr>
          <a:xfrm>
            <a:off x="4037040" y="5970600"/>
            <a:ext cx="18302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cc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10 класс</a:t>
            </a:r>
            <a:endParaRPr b="1" lang="en-US" sz="2400" spc="1" strike="noStrike">
              <a:ln w="9360">
                <a:solidFill>
                  <a:srgbClr val="ffffcc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Text Box 56325"/>
          <p:cNvSpPr/>
          <p:nvPr/>
        </p:nvSpPr>
        <p:spPr>
          <a:xfrm>
            <a:off x="7615440" y="404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 14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Rectangles 56326" descr=""/>
          <p:cNvPicPr/>
          <p:nvPr/>
        </p:nvPicPr>
        <p:blipFill>
          <a:blip r:embed="rId1"/>
          <a:stretch/>
        </p:blipFill>
        <p:spPr>
          <a:xfrm>
            <a:off x="395280" y="2352600"/>
            <a:ext cx="5334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литическая систе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Text Box 165895"/>
          <p:cNvSpPr/>
          <p:nvPr/>
        </p:nvSpPr>
        <p:spPr>
          <a:xfrm>
            <a:off x="473040" y="52401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3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165897"/>
          <p:cNvSpPr/>
          <p:nvPr/>
        </p:nvSpPr>
        <p:spPr>
          <a:xfrm>
            <a:off x="1835280" y="4471920"/>
            <a:ext cx="70927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рганы государственной власти, органы местного самоуправления должносные лица, граждане и их объединения обязаны соблюдать Конституцию РФ и ее закон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s 165902"/>
          <p:cNvSpPr txBox="1"/>
          <p:nvPr/>
        </p:nvSpPr>
        <p:spPr>
          <a:xfrm>
            <a:off x="3276720" y="836640"/>
            <a:ext cx="257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Принципы: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52" name="Text Box 165903"/>
          <p:cNvSpPr/>
          <p:nvPr/>
        </p:nvSpPr>
        <p:spPr>
          <a:xfrm>
            <a:off x="507960" y="1557360"/>
            <a:ext cx="817416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-демократизм сувернитет народа, как источник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ласти, разделение властей, независимость су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да, законность управления, правовая защит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граждан, наличие всеобъемлющего законодат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льства, государство служит обществу в целом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граждане несут ответственность перед государ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ством и осуществляют его защиту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Государственная власть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54" name="Group 166920"/>
          <p:cNvGrpSpPr/>
          <p:nvPr/>
        </p:nvGrpSpPr>
        <p:grpSpPr>
          <a:xfrm>
            <a:off x="-34920" y="907920"/>
            <a:ext cx="2082600" cy="1833840"/>
            <a:chOff x="-34920" y="907920"/>
            <a:chExt cx="2082600" cy="1833840"/>
          </a:xfrm>
        </p:grpSpPr>
        <p:pic>
          <p:nvPicPr>
            <p:cNvPr id="255" name="Picture 166918" descr="j0229051"/>
            <p:cNvPicPr/>
            <p:nvPr/>
          </p:nvPicPr>
          <p:blipFill>
            <a:blip r:embed="rId1"/>
            <a:stretch/>
          </p:blipFill>
          <p:spPr>
            <a:xfrm>
              <a:off x="498240" y="907920"/>
              <a:ext cx="1015920" cy="1063800"/>
            </a:xfrm>
            <a:prstGeom prst="rect">
              <a:avLst/>
            </a:prstGeom>
            <a:ln w="76320">
              <a:solidFill>
                <a:srgbClr val="cc0000"/>
              </a:solidFill>
              <a:miter/>
            </a:ln>
          </p:spPr>
        </p:pic>
        <p:sp>
          <p:nvSpPr>
            <p:cNvPr id="256" name="Text Box 166919"/>
            <p:cNvSpPr/>
            <p:nvPr/>
          </p:nvSpPr>
          <p:spPr>
            <a:xfrm>
              <a:off x="-34920" y="1916280"/>
              <a:ext cx="208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еятельность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РФ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7" name="Text Box 166921"/>
          <p:cNvSpPr/>
          <p:nvPr/>
        </p:nvSpPr>
        <p:spPr>
          <a:xfrm>
            <a:off x="2885760" y="907920"/>
            <a:ext cx="607104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Через государственные орган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это-канал осуществления народовластия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Straight Connector 166922"/>
          <p:cNvSpPr/>
          <p:nvPr/>
        </p:nvSpPr>
        <p:spPr>
          <a:xfrm>
            <a:off x="1619280" y="1357200"/>
            <a:ext cx="1150920" cy="0"/>
          </a:xfrm>
          <a:prstGeom prst="line">
            <a:avLst/>
          </a:prstGeom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s 166923"/>
          <p:cNvSpPr txBox="1"/>
          <p:nvPr/>
        </p:nvSpPr>
        <p:spPr>
          <a:xfrm>
            <a:off x="2800440" y="1989000"/>
            <a:ext cx="42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Черты Госорганов: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60" name="Text Box 166924"/>
          <p:cNvSpPr/>
          <p:nvPr/>
        </p:nvSpPr>
        <p:spPr>
          <a:xfrm>
            <a:off x="475200" y="24922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деление государственно-правовыми полномочия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(право в установленных пределах решать вопросы и кон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тролировать их выполнение)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166925"/>
          <p:cNvSpPr/>
          <p:nvPr/>
        </p:nvSpPr>
        <p:spPr>
          <a:xfrm>
            <a:off x="472680" y="3500280"/>
            <a:ext cx="732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уется в установленном государством поряд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(Конституция + Федеральный закон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166926"/>
          <p:cNvSpPr/>
          <p:nvPr/>
        </p:nvSpPr>
        <p:spPr>
          <a:xfrm>
            <a:off x="472320" y="4282920"/>
            <a:ext cx="82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полномочивается государством определять его задачи 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функции 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(Арбитражный суд, прокуратура и т.д.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166927"/>
          <p:cNvSpPr/>
          <p:nvPr/>
        </p:nvSpPr>
        <p:spPr>
          <a:xfrm>
            <a:off x="472320" y="5065560"/>
            <a:ext cx="72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ействует в установленном государством порядке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(Конституция + Федеральный закон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166928"/>
          <p:cNvSpPr/>
          <p:nvPr/>
        </p:nvSpPr>
        <p:spPr>
          <a:xfrm>
            <a:off x="468720" y="5846760"/>
            <a:ext cx="81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ставная часть системы госорганов.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(Федеративное у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Ройство базируется на единстве системы госорганов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Государственная власть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Rectangles 167943"/>
          <p:cNvSpPr txBox="1"/>
          <p:nvPr/>
        </p:nvSpPr>
        <p:spPr>
          <a:xfrm>
            <a:off x="539640" y="735120"/>
            <a:ext cx="799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Система государственных органов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67" name="Text Box 167949"/>
          <p:cNvSpPr/>
          <p:nvPr/>
        </p:nvSpPr>
        <p:spPr>
          <a:xfrm>
            <a:off x="176040" y="1251000"/>
            <a:ext cx="88171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рганы государственной власти РФ, субъектов федерации,др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ос.орган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Rectangles 167950" descr=""/>
          <p:cNvPicPr/>
          <p:nvPr/>
        </p:nvPicPr>
        <p:blipFill>
          <a:blip r:embed="rId2"/>
          <a:stretch/>
        </p:blipFill>
        <p:spPr>
          <a:xfrm>
            <a:off x="498600" y="2336760"/>
            <a:ext cx="8177040" cy="1025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s 167951"/>
          <p:cNvSpPr txBox="1"/>
          <p:nvPr/>
        </p:nvSpPr>
        <p:spPr>
          <a:xfrm>
            <a:off x="503280" y="3643200"/>
            <a:ext cx="817236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cc00"/>
                </a:solidFill>
                <a:latin typeface="Arial"/>
              </a:rPr>
              <a:t>Все органы действуют совместно</a:t>
            </a:r>
            <a:endParaRPr b="1" lang="en-US" sz="2400" spc="1" strike="noStrike">
              <a:ln w="9360">
                <a:solidFill>
                  <a:srgbClr val="cc0000"/>
                </a:solidFill>
                <a:round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70" name="Rectangles 167952"/>
          <p:cNvSpPr txBox="1"/>
          <p:nvPr/>
        </p:nvSpPr>
        <p:spPr>
          <a:xfrm>
            <a:off x="503280" y="4513320"/>
            <a:ext cx="817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cc00"/>
                </a:solidFill>
                <a:latin typeface="Arial"/>
              </a:rPr>
              <a:t>Наличие вертикали власти</a:t>
            </a:r>
            <a:endParaRPr b="1" lang="en-US" sz="2400" spc="1" strike="noStrike">
              <a:ln w="9360">
                <a:solidFill>
                  <a:srgbClr val="cc0000"/>
                </a:solidFill>
                <a:round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71" name="Rectangles 167953"/>
          <p:cNvSpPr txBox="1"/>
          <p:nvPr/>
        </p:nvSpPr>
        <p:spPr>
          <a:xfrm>
            <a:off x="503280" y="5375160"/>
            <a:ext cx="817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cc00"/>
                </a:solidFill>
                <a:latin typeface="Arial"/>
              </a:rPr>
              <a:t>Соподчиненность различных органов</a:t>
            </a:r>
            <a:endParaRPr b="1" lang="en-US" sz="2400" spc="1" strike="noStrike">
              <a:ln w="9360">
                <a:solidFill>
                  <a:srgbClr val="cc0000"/>
                </a:solidFill>
                <a:round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72" name="Rectangles 167954"/>
          <p:cNvSpPr txBox="1"/>
          <p:nvPr/>
        </p:nvSpPr>
        <p:spPr>
          <a:xfrm>
            <a:off x="503280" y="6237360"/>
            <a:ext cx="817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cc00"/>
                </a:solidFill>
                <a:latin typeface="Arial"/>
              </a:rPr>
              <a:t>Реализуется принцип разделения властей</a:t>
            </a:r>
            <a:endParaRPr b="1" lang="en-US" sz="2400" spc="1" strike="noStrike">
              <a:ln w="9360">
                <a:solidFill>
                  <a:srgbClr val="cc0000"/>
                </a:solidFill>
                <a:round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а. Президент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4" name="Picture 168969" descr="j0309649"/>
          <p:cNvPicPr/>
          <p:nvPr/>
        </p:nvPicPr>
        <p:blipFill>
          <a:blip r:embed="rId1"/>
          <a:stretch/>
        </p:blipFill>
        <p:spPr>
          <a:xfrm>
            <a:off x="3610080" y="907920"/>
            <a:ext cx="1466640" cy="10461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275" name="Group 168975"/>
          <p:cNvGrpSpPr/>
          <p:nvPr/>
        </p:nvGrpSpPr>
        <p:grpSpPr>
          <a:xfrm>
            <a:off x="5219640" y="981000"/>
            <a:ext cx="3736800" cy="944640"/>
            <a:chOff x="5219640" y="981000"/>
            <a:chExt cx="3736800" cy="944640"/>
          </a:xfrm>
        </p:grpSpPr>
        <p:pic>
          <p:nvPicPr>
            <p:cNvPr id="276" name="Rectangles 168971" descr=""/>
            <p:cNvPicPr/>
            <p:nvPr/>
          </p:nvPicPr>
          <p:blipFill>
            <a:blip r:embed="rId2"/>
            <a:stretch/>
          </p:blipFill>
          <p:spPr>
            <a:xfrm>
              <a:off x="5934600" y="981000"/>
              <a:ext cx="30218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Straight Connector 168972"/>
            <p:cNvSpPr/>
            <p:nvPr/>
          </p:nvSpPr>
          <p:spPr>
            <a:xfrm>
              <a:off x="5219640" y="1413360"/>
              <a:ext cx="1079640" cy="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8" name="Group 168974"/>
          <p:cNvGrpSpPr/>
          <p:nvPr/>
        </p:nvGrpSpPr>
        <p:grpSpPr>
          <a:xfrm>
            <a:off x="250920" y="981000"/>
            <a:ext cx="3169800" cy="944640"/>
            <a:chOff x="250920" y="981000"/>
            <a:chExt cx="3169800" cy="944640"/>
          </a:xfrm>
        </p:grpSpPr>
        <p:pic>
          <p:nvPicPr>
            <p:cNvPr id="279" name="Rectangles 168970" descr=""/>
            <p:cNvPicPr/>
            <p:nvPr/>
          </p:nvPicPr>
          <p:blipFill>
            <a:blip r:embed="rId3"/>
            <a:stretch/>
          </p:blipFill>
          <p:spPr>
            <a:xfrm>
              <a:off x="250920" y="981000"/>
              <a:ext cx="21589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Straight Connector 168973"/>
            <p:cNvSpPr/>
            <p:nvPr/>
          </p:nvSpPr>
          <p:spPr>
            <a:xfrm flipH="1">
              <a:off x="2341440" y="1413360"/>
              <a:ext cx="1079280" cy="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1" name="Rectangles 168976"/>
          <p:cNvSpPr txBox="1"/>
          <p:nvPr/>
        </p:nvSpPr>
        <p:spPr>
          <a:xfrm>
            <a:off x="395280" y="2060640"/>
            <a:ext cx="842976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 входит на прямую ни в одной из ветвей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2" name="Rectangles 168977"/>
          <p:cNvSpPr txBox="1"/>
          <p:nvPr/>
        </p:nvSpPr>
        <p:spPr>
          <a:xfrm>
            <a:off x="324000" y="2852640"/>
            <a:ext cx="2199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збрание</a:t>
            </a:r>
            <a:endParaRPr b="1" lang="en-US" sz="2400" spc="1" strike="noStrike">
              <a:ln w="2844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83" name="Text Box 168978"/>
          <p:cNvSpPr/>
          <p:nvPr/>
        </p:nvSpPr>
        <p:spPr>
          <a:xfrm>
            <a:off x="3256560" y="2584440"/>
            <a:ext cx="51274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4 года, путем всеобщего рав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ямого избирательного права пр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йном голосовани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168979"/>
          <p:cNvSpPr/>
          <p:nvPr/>
        </p:nvSpPr>
        <p:spPr>
          <a:xfrm>
            <a:off x="646560" y="3933720"/>
            <a:ext cx="79347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бования- с 35 лет , 10 лет в России, не более 2 сроков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s 168980"/>
          <p:cNvSpPr txBox="1"/>
          <p:nvPr/>
        </p:nvSpPr>
        <p:spPr>
          <a:xfrm>
            <a:off x="3556080" y="4705200"/>
            <a:ext cx="1952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ы</a:t>
            </a:r>
            <a:endParaRPr b="1" i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Text Box 168981"/>
          <p:cNvSpPr/>
          <p:nvPr/>
        </p:nvSpPr>
        <p:spPr>
          <a:xfrm>
            <a:off x="39240" y="5194440"/>
            <a:ext cx="90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значаются СФ на первое воскресение после истечения срок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номочий, если не назначены, то ЦИК первое воскресенье з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сяцем в котором истекают полномо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Государственная власть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8" name="Group 171031"/>
          <p:cNvGrpSpPr/>
          <p:nvPr/>
        </p:nvGrpSpPr>
        <p:grpSpPr>
          <a:xfrm>
            <a:off x="262440" y="765000"/>
            <a:ext cx="8808120" cy="1401840"/>
            <a:chOff x="262440" y="765000"/>
            <a:chExt cx="8808120" cy="1401840"/>
          </a:xfrm>
        </p:grpSpPr>
        <p:sp>
          <p:nvSpPr>
            <p:cNvPr id="289" name="Rectangles 171023"/>
            <p:cNvSpPr txBox="1"/>
            <p:nvPr/>
          </p:nvSpPr>
          <p:spPr>
            <a:xfrm>
              <a:off x="3132000" y="765000"/>
              <a:ext cx="29908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Выдвижение</a:t>
              </a:r>
              <a:endPara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290" name="Text Box 171024"/>
            <p:cNvSpPr/>
            <p:nvPr/>
          </p:nvSpPr>
          <p:spPr>
            <a:xfrm>
              <a:off x="262440" y="1341360"/>
              <a:ext cx="880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-Избирательное объединение, избирательный блок,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збиратели(инициативная группа в 100 человек)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1" name="Group 171030"/>
          <p:cNvGrpSpPr/>
          <p:nvPr/>
        </p:nvGrpSpPr>
        <p:grpSpPr>
          <a:xfrm>
            <a:off x="327240" y="2349360"/>
            <a:ext cx="8608320" cy="1401480"/>
            <a:chOff x="327240" y="2349360"/>
            <a:chExt cx="8608320" cy="1401480"/>
          </a:xfrm>
        </p:grpSpPr>
        <p:sp>
          <p:nvSpPr>
            <p:cNvPr id="292" name="Rectangles 171025"/>
            <p:cNvSpPr txBox="1"/>
            <p:nvPr/>
          </p:nvSpPr>
          <p:spPr>
            <a:xfrm>
              <a:off x="3132000" y="2349360"/>
              <a:ext cx="29908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Регистрация</a:t>
              </a:r>
              <a:endPara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293" name="Text Box 171026"/>
            <p:cNvSpPr/>
            <p:nvPr/>
          </p:nvSpPr>
          <p:spPr>
            <a:xfrm>
              <a:off x="327240" y="2925360"/>
              <a:ext cx="860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-собрать 1 млн. подписей, в каждом субъекте не мо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жет быть более 7 %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4" name="Group 171029"/>
          <p:cNvGrpSpPr/>
          <p:nvPr/>
        </p:nvGrpSpPr>
        <p:grpSpPr>
          <a:xfrm>
            <a:off x="217440" y="4030560"/>
            <a:ext cx="8705880" cy="2499120"/>
            <a:chOff x="217440" y="4030560"/>
            <a:chExt cx="8705880" cy="2499120"/>
          </a:xfrm>
        </p:grpSpPr>
        <p:sp>
          <p:nvSpPr>
            <p:cNvPr id="295" name="Rectangles 171027"/>
            <p:cNvSpPr txBox="1"/>
            <p:nvPr/>
          </p:nvSpPr>
          <p:spPr>
            <a:xfrm>
              <a:off x="3059280" y="4030560"/>
              <a:ext cx="2990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Выборы</a:t>
              </a:r>
              <a:endPara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296" name="Text Box 171028"/>
            <p:cNvSpPr/>
            <p:nvPr/>
          </p:nvSpPr>
          <p:spPr>
            <a:xfrm>
              <a:off x="217440" y="4606920"/>
              <a:ext cx="8705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-не менее 2 кандидатов, состоявшиеся если участ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уют 50% + 1 голос, победа-50%+1 голос от числ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голосовавших, если нет-2 тур, в нем простое боль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шинство, но число голосовавших против всех не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должно быть больше чем число голосов победителя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б.Органы Законода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Text Box 172044"/>
          <p:cNvSpPr/>
          <p:nvPr/>
        </p:nvSpPr>
        <p:spPr>
          <a:xfrm>
            <a:off x="188280" y="836640"/>
            <a:ext cx="879912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Федеральное собрание РФ, собрания и советы рес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публик, думы собрания, и др. законодательные орг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ны краев областей,городов федерального подчин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ния, автономных областей и округов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9" name="Group 172048"/>
          <p:cNvGrpSpPr/>
          <p:nvPr/>
        </p:nvGrpSpPr>
        <p:grpSpPr>
          <a:xfrm>
            <a:off x="985680" y="2630520"/>
            <a:ext cx="8044200" cy="1087200"/>
            <a:chOff x="985680" y="2630520"/>
            <a:chExt cx="8044200" cy="1087200"/>
          </a:xfrm>
        </p:grpSpPr>
        <p:pic>
          <p:nvPicPr>
            <p:cNvPr id="300" name="Picture 172045" descr="j0339254"/>
            <p:cNvPicPr/>
            <p:nvPr/>
          </p:nvPicPr>
          <p:blipFill>
            <a:blip r:embed="rId2"/>
            <a:stretch/>
          </p:blipFill>
          <p:spPr>
            <a:xfrm>
              <a:off x="1777680" y="2809800"/>
              <a:ext cx="9064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72046"/>
            <p:cNvSpPr/>
            <p:nvPr/>
          </p:nvSpPr>
          <p:spPr>
            <a:xfrm>
              <a:off x="2936160" y="2852640"/>
              <a:ext cx="609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ыражают законодательную волю народа,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идают ей общеобязательный характер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172047"/>
            <p:cNvSpPr/>
            <p:nvPr/>
          </p:nvSpPr>
          <p:spPr>
            <a:xfrm rot="5400000">
              <a:off x="914400" y="2701800"/>
              <a:ext cx="86328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Group 172051"/>
          <p:cNvGrpSpPr/>
          <p:nvPr/>
        </p:nvGrpSpPr>
        <p:grpSpPr>
          <a:xfrm>
            <a:off x="144360" y="2205000"/>
            <a:ext cx="8460360" cy="3322440"/>
            <a:chOff x="144360" y="2205000"/>
            <a:chExt cx="8460360" cy="3322440"/>
          </a:xfrm>
        </p:grpSpPr>
        <p:sp>
          <p:nvSpPr>
            <p:cNvPr id="304" name="Text Box 172049"/>
            <p:cNvSpPr/>
            <p:nvPr/>
          </p:nvSpPr>
          <p:spPr>
            <a:xfrm>
              <a:off x="900000" y="3970440"/>
              <a:ext cx="7704720" cy="155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-принимают решения, меры к их исполнению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и контроль за исполнением, их решения обя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зательны для исполнения органами соответ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ствующего и нижестоящего уровней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Curved Right Arrow 172050"/>
            <p:cNvSpPr/>
            <p:nvPr/>
          </p:nvSpPr>
          <p:spPr>
            <a:xfrm>
              <a:off x="144360" y="2205000"/>
              <a:ext cx="611280" cy="2592360"/>
            </a:xfrm>
            <a:custGeom>
              <a:avLst/>
              <a:gdLst>
                <a:gd name="textAreaLeft" fmla="*/ 81720 w 611280"/>
                <a:gd name="textAreaRight" fmla="*/ 529560 w 611280"/>
                <a:gd name="textAreaTop" fmla="*/ 453600 h 2592360"/>
                <a:gd name="textAreaBottom" fmla="*/ 187956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6" name="Rectangles 172052"/>
          <p:cNvSpPr txBox="1"/>
          <p:nvPr/>
        </p:nvSpPr>
        <p:spPr>
          <a:xfrm>
            <a:off x="3635280" y="5661000"/>
            <a:ext cx="2089080" cy="3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round/>
                </a:ln>
                <a:solidFill>
                  <a:srgbClr val="0066cc"/>
                </a:solidFill>
                <a:latin typeface="Impact"/>
              </a:rPr>
              <a:t>Делятся на:</a:t>
            </a:r>
            <a:endParaRPr b="1" lang="en-US" sz="2400" spc="1" strike="noStrike">
              <a:ln w="19080">
                <a:solidFill>
                  <a:srgbClr val="ffffff"/>
                </a:solidFill>
                <a:round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07" name="Text Box 172053"/>
          <p:cNvSpPr/>
          <p:nvPr/>
        </p:nvSpPr>
        <p:spPr>
          <a:xfrm>
            <a:off x="8640" y="570240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Федераль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Федеральное Собрание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172054"/>
          <p:cNvSpPr/>
          <p:nvPr/>
        </p:nvSpPr>
        <p:spPr>
          <a:xfrm>
            <a:off x="5239440" y="5702400"/>
            <a:ext cx="38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Региональ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органы субъектов РФ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Федеральное собр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Text Box 173069"/>
          <p:cNvSpPr/>
          <p:nvPr/>
        </p:nvSpPr>
        <p:spPr>
          <a:xfrm>
            <a:off x="781200" y="981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9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173070"/>
          <p:cNvSpPr/>
          <p:nvPr/>
        </p:nvSpPr>
        <p:spPr>
          <a:xfrm>
            <a:off x="2038320" y="765000"/>
            <a:ext cx="66182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Федеральное Собрание является парл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ентом Российской Федераци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2" name="Group 173087"/>
          <p:cNvGrpSpPr/>
          <p:nvPr/>
        </p:nvGrpSpPr>
        <p:grpSpPr>
          <a:xfrm>
            <a:off x="37800" y="1484280"/>
            <a:ext cx="2859840" cy="2379600"/>
            <a:chOff x="37800" y="1484280"/>
            <a:chExt cx="2859840" cy="2379600"/>
          </a:xfrm>
        </p:grpSpPr>
        <p:pic>
          <p:nvPicPr>
            <p:cNvPr id="313" name="Picture 173071" descr="j0297513"/>
            <p:cNvPicPr/>
            <p:nvPr/>
          </p:nvPicPr>
          <p:blipFill>
            <a:blip r:embed="rId2"/>
            <a:stretch/>
          </p:blipFill>
          <p:spPr>
            <a:xfrm>
              <a:off x="990720" y="2276640"/>
              <a:ext cx="954000" cy="83628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314" name="Straight Connector 173072"/>
            <p:cNvSpPr/>
            <p:nvPr/>
          </p:nvSpPr>
          <p:spPr>
            <a:xfrm>
              <a:off x="1467000" y="1484280"/>
              <a:ext cx="0" cy="72072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Text Box 173073"/>
            <p:cNvSpPr/>
            <p:nvPr/>
          </p:nvSpPr>
          <p:spPr>
            <a:xfrm>
              <a:off x="37800" y="3038400"/>
              <a:ext cx="285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едставительны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рган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6" name="Group 173076"/>
          <p:cNvGrpSpPr/>
          <p:nvPr/>
        </p:nvGrpSpPr>
        <p:grpSpPr>
          <a:xfrm>
            <a:off x="2124000" y="2243160"/>
            <a:ext cx="5622840" cy="825480"/>
            <a:chOff x="2124000" y="2243160"/>
            <a:chExt cx="5622840" cy="825480"/>
          </a:xfrm>
        </p:grpSpPr>
        <p:sp>
          <p:nvSpPr>
            <p:cNvPr id="317" name="Straight Connector 173074"/>
            <p:cNvSpPr/>
            <p:nvPr/>
          </p:nvSpPr>
          <p:spPr>
            <a:xfrm>
              <a:off x="2124000" y="2708280"/>
              <a:ext cx="647640" cy="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Text Box 173075"/>
            <p:cNvSpPr/>
            <p:nvPr/>
          </p:nvSpPr>
          <p:spPr>
            <a:xfrm>
              <a:off x="3015360" y="2243160"/>
              <a:ext cx="4731480" cy="825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ahoma"/>
                </a:rPr>
                <a:t>Форма государства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ahoma"/>
                </a:rPr>
                <a:t>Парламентская демократия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Group 173079"/>
          <p:cNvGrpSpPr/>
          <p:nvPr/>
        </p:nvGrpSpPr>
        <p:grpSpPr>
          <a:xfrm>
            <a:off x="1403280" y="3429000"/>
            <a:ext cx="6257880" cy="936720"/>
            <a:chOff x="1403280" y="3429000"/>
            <a:chExt cx="6257880" cy="936720"/>
          </a:xfrm>
        </p:grpSpPr>
        <p:sp>
          <p:nvSpPr>
            <p:cNvPr id="320" name="Rectangles 173077"/>
            <p:cNvSpPr txBox="1"/>
            <p:nvPr/>
          </p:nvSpPr>
          <p:spPr>
            <a:xfrm>
              <a:off x="1403280" y="3832200"/>
              <a:ext cx="62578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Законодательные функции</a:t>
              </a:r>
              <a:endPara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321" name="Straight Connector 173078"/>
            <p:cNvSpPr/>
            <p:nvPr/>
          </p:nvSpPr>
          <p:spPr>
            <a:xfrm>
              <a:off x="2843280" y="3429000"/>
              <a:ext cx="1873080" cy="43164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2" name="Text Box 173080"/>
          <p:cNvSpPr/>
          <p:nvPr/>
        </p:nvSpPr>
        <p:spPr>
          <a:xfrm>
            <a:off x="1079280" y="4186080"/>
            <a:ext cx="69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ни один проект не может стать законом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з принятия соответствующего решен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едеральным Собранием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3" name="Group 173083"/>
          <p:cNvGrpSpPr/>
          <p:nvPr/>
        </p:nvGrpSpPr>
        <p:grpSpPr>
          <a:xfrm>
            <a:off x="250920" y="3500280"/>
            <a:ext cx="3105000" cy="3241440"/>
            <a:chOff x="250920" y="3500280"/>
            <a:chExt cx="3105000" cy="3241440"/>
          </a:xfrm>
        </p:grpSpPr>
        <p:pic>
          <p:nvPicPr>
            <p:cNvPr id="324" name="Rectangles 173081" descr=""/>
            <p:cNvPicPr/>
            <p:nvPr/>
          </p:nvPicPr>
          <p:blipFill>
            <a:blip r:embed="rId4"/>
            <a:stretch/>
          </p:blipFill>
          <p:spPr>
            <a:xfrm>
              <a:off x="250920" y="5659200"/>
              <a:ext cx="310500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Straight Connector 173082"/>
            <p:cNvSpPr/>
            <p:nvPr/>
          </p:nvSpPr>
          <p:spPr>
            <a:xfrm>
              <a:off x="976680" y="3500280"/>
              <a:ext cx="0" cy="222696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6" name="Group 173086"/>
          <p:cNvGrpSpPr/>
          <p:nvPr/>
        </p:nvGrpSpPr>
        <p:grpSpPr>
          <a:xfrm>
            <a:off x="3059280" y="5770440"/>
            <a:ext cx="5813280" cy="825480"/>
            <a:chOff x="3059280" y="5770440"/>
            <a:chExt cx="5813280" cy="825480"/>
          </a:xfrm>
        </p:grpSpPr>
        <p:sp>
          <p:nvSpPr>
            <p:cNvPr id="327" name="Text Box 173084"/>
            <p:cNvSpPr/>
            <p:nvPr/>
          </p:nvSpPr>
          <p:spPr>
            <a:xfrm>
              <a:off x="3784680" y="5770440"/>
              <a:ext cx="5087880" cy="82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Через Бюджет, и правом отправить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Правительство в отставку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Straight Connector 173085"/>
            <p:cNvSpPr/>
            <p:nvPr/>
          </p:nvSpPr>
          <p:spPr>
            <a:xfrm>
              <a:off x="3059280" y="6219720"/>
              <a:ext cx="576000" cy="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Федеральное собр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Text Box 174082"/>
          <p:cNvSpPr/>
          <p:nvPr/>
        </p:nvSpPr>
        <p:spPr>
          <a:xfrm>
            <a:off x="831960" y="1197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9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74083"/>
          <p:cNvSpPr/>
          <p:nvPr/>
        </p:nvSpPr>
        <p:spPr>
          <a:xfrm>
            <a:off x="2470320" y="765000"/>
            <a:ext cx="57632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Федеральное Собрание состоит из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ета Федерации 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осударственной Ду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2" name="Group 174110"/>
          <p:cNvGrpSpPr/>
          <p:nvPr/>
        </p:nvGrpSpPr>
        <p:grpSpPr>
          <a:xfrm>
            <a:off x="221400" y="2060640"/>
            <a:ext cx="4185720" cy="2667600"/>
            <a:chOff x="221400" y="2060640"/>
            <a:chExt cx="4185720" cy="2667600"/>
          </a:xfrm>
        </p:grpSpPr>
        <p:pic>
          <p:nvPicPr>
            <p:cNvPr id="333" name="Rectangles 174101" descr=""/>
            <p:cNvPicPr/>
            <p:nvPr/>
          </p:nvPicPr>
          <p:blipFill>
            <a:blip r:embed="rId2"/>
            <a:stretch/>
          </p:blipFill>
          <p:spPr>
            <a:xfrm>
              <a:off x="1049400" y="2060640"/>
              <a:ext cx="259056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74104"/>
            <p:cNvSpPr/>
            <p:nvPr/>
          </p:nvSpPr>
          <p:spPr>
            <a:xfrm>
              <a:off x="221400" y="3171240"/>
              <a:ext cx="4185720" cy="155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Выражает региональные ин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тересы и мнения, вместе с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тем СФ-Государственный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орган всей страны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5" name="Group 174111"/>
          <p:cNvGrpSpPr/>
          <p:nvPr/>
        </p:nvGrpSpPr>
        <p:grpSpPr>
          <a:xfrm>
            <a:off x="4558320" y="2131920"/>
            <a:ext cx="4437360" cy="2419200"/>
            <a:chOff x="4558320" y="2131920"/>
            <a:chExt cx="4437360" cy="2419200"/>
          </a:xfrm>
        </p:grpSpPr>
        <p:pic>
          <p:nvPicPr>
            <p:cNvPr id="336" name="Rectangles 174102" descr=""/>
            <p:cNvPicPr/>
            <p:nvPr/>
          </p:nvPicPr>
          <p:blipFill>
            <a:blip r:embed="rId4"/>
            <a:stretch/>
          </p:blipFill>
          <p:spPr>
            <a:xfrm>
              <a:off x="4856040" y="2131920"/>
              <a:ext cx="4113360" cy="99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174105"/>
            <p:cNvSpPr/>
            <p:nvPr/>
          </p:nvSpPr>
          <p:spPr>
            <a:xfrm>
              <a:off x="4558320" y="3359880"/>
              <a:ext cx="443736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редставляет интересы и мне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ния всего населения Российс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кой Федераци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338" name="Rectangles 174108" descr=""/>
          <p:cNvPicPr/>
          <p:nvPr/>
        </p:nvPicPr>
        <p:blipFill>
          <a:blip r:embed="rId6"/>
          <a:stretch/>
        </p:blipFill>
        <p:spPr>
          <a:xfrm>
            <a:off x="1101600" y="4854600"/>
            <a:ext cx="7012080" cy="7491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74109"/>
          <p:cNvSpPr/>
          <p:nvPr/>
        </p:nvSpPr>
        <p:spPr>
          <a:xfrm>
            <a:off x="43560" y="5589720"/>
            <a:ext cx="90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местно собираются для заслушивания посланий президента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ституционного Суда и выступлений руководителей ино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нных государств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Совет Федерац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1" name="Rectangles 175109" descr=""/>
          <p:cNvPicPr/>
          <p:nvPr/>
        </p:nvPicPr>
        <p:blipFill>
          <a:blip r:embed="rId1"/>
          <a:stretch/>
        </p:blipFill>
        <p:spPr>
          <a:xfrm>
            <a:off x="169920" y="853920"/>
            <a:ext cx="2600280" cy="108612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75116"/>
          <p:cNvSpPr/>
          <p:nvPr/>
        </p:nvSpPr>
        <p:spPr>
          <a:xfrm>
            <a:off x="2949120" y="765000"/>
            <a:ext cx="601596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Играет роль тормоза по отношению к ГД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 целью предотвратить «Диктатуру боль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шинства», завоеванного на выборах в ГД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75117"/>
          <p:cNvSpPr/>
          <p:nvPr/>
        </p:nvSpPr>
        <p:spPr>
          <a:xfrm>
            <a:off x="976320" y="256536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9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.2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75118"/>
          <p:cNvSpPr/>
          <p:nvPr/>
        </p:nvSpPr>
        <p:spPr>
          <a:xfrm>
            <a:off x="2941200" y="2165400"/>
            <a:ext cx="6030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Федеральное Собрание входят по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2 представителя от субъекта Фед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ации-от законодательной и испол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ительной власт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5" name="Group 175121"/>
          <p:cNvGrpSpPr/>
          <p:nvPr/>
        </p:nvGrpSpPr>
        <p:grpSpPr>
          <a:xfrm>
            <a:off x="250920" y="3860640"/>
            <a:ext cx="8713800" cy="1523880"/>
            <a:chOff x="250920" y="3860640"/>
            <a:chExt cx="8713800" cy="1523880"/>
          </a:xfrm>
        </p:grpSpPr>
        <p:pic>
          <p:nvPicPr>
            <p:cNvPr id="346" name="Rectangles 175119" descr=""/>
            <p:cNvPicPr/>
            <p:nvPr/>
          </p:nvPicPr>
          <p:blipFill>
            <a:blip r:embed="rId4"/>
            <a:stretch/>
          </p:blipFill>
          <p:spPr>
            <a:xfrm>
              <a:off x="250920" y="3860640"/>
              <a:ext cx="8713800" cy="8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175120"/>
            <p:cNvSpPr/>
            <p:nvPr/>
          </p:nvSpPr>
          <p:spPr>
            <a:xfrm>
              <a:off x="560160" y="4559040"/>
              <a:ext cx="803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 СФ входят главы Законодательной и Исполнительно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ластей Субъектов Федерации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8" name="Group 175125"/>
          <p:cNvGrpSpPr/>
          <p:nvPr/>
        </p:nvGrpSpPr>
        <p:grpSpPr>
          <a:xfrm>
            <a:off x="140040" y="5372280"/>
            <a:ext cx="8887320" cy="1521000"/>
            <a:chOff x="140040" y="5372280"/>
            <a:chExt cx="8887320" cy="1521000"/>
          </a:xfrm>
        </p:grpSpPr>
        <p:pic>
          <p:nvPicPr>
            <p:cNvPr id="349" name="Rectangles 175123" descr=""/>
            <p:cNvPicPr/>
            <p:nvPr/>
          </p:nvPicPr>
          <p:blipFill>
            <a:blip r:embed="rId5"/>
            <a:stretch/>
          </p:blipFill>
          <p:spPr>
            <a:xfrm>
              <a:off x="241200" y="5372280"/>
              <a:ext cx="8732880" cy="80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175124"/>
            <p:cNvSpPr/>
            <p:nvPr/>
          </p:nvSpPr>
          <p:spPr>
            <a:xfrm>
              <a:off x="140040" y="6067800"/>
              <a:ext cx="888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 СФ входят по 1 представителю Законодательной и Исполни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ельной властей Субъектов Федерации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Совет Федерац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52" name="Rectangles 176130" descr=""/>
          <p:cNvPicPr/>
          <p:nvPr/>
        </p:nvPicPr>
        <p:blipFill>
          <a:blip r:embed="rId1"/>
          <a:stretch/>
        </p:blipFill>
        <p:spPr>
          <a:xfrm>
            <a:off x="169920" y="853920"/>
            <a:ext cx="2600280" cy="10861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76131"/>
          <p:cNvSpPr/>
          <p:nvPr/>
        </p:nvSpPr>
        <p:spPr>
          <a:xfrm>
            <a:off x="2945160" y="765000"/>
            <a:ext cx="599184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Избирается(назначается) гражданин РФ с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30 лет, обладающий активным и пассив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ым право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4" name="Group 176149"/>
          <p:cNvGrpSpPr/>
          <p:nvPr/>
        </p:nvGrpSpPr>
        <p:grpSpPr>
          <a:xfrm>
            <a:off x="37440" y="1916280"/>
            <a:ext cx="4107960" cy="2162880"/>
            <a:chOff x="37440" y="1916280"/>
            <a:chExt cx="4107960" cy="2162880"/>
          </a:xfrm>
        </p:grpSpPr>
        <p:grpSp>
          <p:nvGrpSpPr>
            <p:cNvPr id="355" name="Group 176147"/>
            <p:cNvGrpSpPr/>
            <p:nvPr/>
          </p:nvGrpSpPr>
          <p:grpSpPr>
            <a:xfrm>
              <a:off x="324000" y="1916280"/>
              <a:ext cx="3609720" cy="1571040"/>
              <a:chOff x="324000" y="1916280"/>
              <a:chExt cx="3609720" cy="1571040"/>
            </a:xfrm>
          </p:grpSpPr>
          <p:pic>
            <p:nvPicPr>
              <p:cNvPr id="356" name="Rectangles 17614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00" y="2414520"/>
                <a:ext cx="36097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Straight Connector 176142"/>
              <p:cNvSpPr/>
              <p:nvPr/>
            </p:nvSpPr>
            <p:spPr>
              <a:xfrm>
                <a:off x="1693440" y="1916280"/>
                <a:ext cx="430200" cy="502920"/>
              </a:xfrm>
              <a:prstGeom prst="line">
                <a:avLst/>
              </a:prstGeom>
              <a:ln w="76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58" name="Text Box 176146"/>
            <p:cNvSpPr/>
            <p:nvPr/>
          </p:nvSpPr>
          <p:spPr>
            <a:xfrm>
              <a:off x="37440" y="3619440"/>
              <a:ext cx="41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збирается Органом власт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9" name="Group 176150"/>
          <p:cNvGrpSpPr/>
          <p:nvPr/>
        </p:nvGrpSpPr>
        <p:grpSpPr>
          <a:xfrm>
            <a:off x="1692360" y="1916280"/>
            <a:ext cx="6840000" cy="2266920"/>
            <a:chOff x="1692360" y="1916280"/>
            <a:chExt cx="6840000" cy="2266920"/>
          </a:xfrm>
        </p:grpSpPr>
        <p:grpSp>
          <p:nvGrpSpPr>
            <p:cNvPr id="360" name="Group 176145"/>
            <p:cNvGrpSpPr/>
            <p:nvPr/>
          </p:nvGrpSpPr>
          <p:grpSpPr>
            <a:xfrm>
              <a:off x="1692360" y="1916280"/>
              <a:ext cx="6840000" cy="1571040"/>
              <a:chOff x="1692360" y="1916280"/>
              <a:chExt cx="6840000" cy="1571040"/>
            </a:xfrm>
          </p:grpSpPr>
          <p:pic>
            <p:nvPicPr>
              <p:cNvPr id="361" name="Rectangles 176141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5440" y="2414520"/>
                <a:ext cx="36169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Straight Connector 176143"/>
              <p:cNvSpPr/>
              <p:nvPr/>
            </p:nvSpPr>
            <p:spPr>
              <a:xfrm>
                <a:off x="1692360" y="1916280"/>
                <a:ext cx="5108040" cy="502920"/>
              </a:xfrm>
              <a:prstGeom prst="line">
                <a:avLst/>
              </a:prstGeom>
              <a:ln w="7632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63" name="Text Box 176148"/>
            <p:cNvSpPr/>
            <p:nvPr/>
          </p:nvSpPr>
          <p:spPr>
            <a:xfrm>
              <a:off x="5295600" y="33577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Назначается главой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убъекта Федераци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4" name="Group 176153"/>
          <p:cNvGrpSpPr/>
          <p:nvPr/>
        </p:nvGrpSpPr>
        <p:grpSpPr>
          <a:xfrm>
            <a:off x="150840" y="3789360"/>
            <a:ext cx="8861400" cy="1298520"/>
            <a:chOff x="150840" y="3789360"/>
            <a:chExt cx="8861400" cy="1298520"/>
          </a:xfrm>
        </p:grpSpPr>
        <p:sp>
          <p:nvSpPr>
            <p:cNvPr id="365" name="Text Box 176151"/>
            <p:cNvSpPr/>
            <p:nvPr/>
          </p:nvSpPr>
          <p:spPr>
            <a:xfrm>
              <a:off x="150840" y="4262400"/>
              <a:ext cx="886140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Назначение утверждается в 3-дневный срок Законодательным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органом Субъекта Федераци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Straight Connector 176152"/>
            <p:cNvSpPr/>
            <p:nvPr/>
          </p:nvSpPr>
          <p:spPr>
            <a:xfrm flipH="1">
              <a:off x="4572000" y="3789360"/>
              <a:ext cx="792000" cy="360360"/>
            </a:xfrm>
            <a:prstGeom prst="line">
              <a:avLst/>
            </a:prstGeom>
            <a:ln w="7632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7" name="Text Box 176154"/>
          <p:cNvSpPr/>
          <p:nvPr/>
        </p:nvSpPr>
        <p:spPr>
          <a:xfrm>
            <a:off x="137520" y="5157720"/>
            <a:ext cx="895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 ведении СФ находятся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тверждение границ субъектов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Ф, указов президента о введении ЧП и ВП, назначение выб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в Президента, отстранение его от должности,назначение Ген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курора, судей Конституционного и Арбитражного Судов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.Социальная и экономическая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.Политическая система российского об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.Государственная вла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А).Президент Р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).Органы законодательной в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).Федеральное Собр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).Органы исполнительной в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)Органы Судебной В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Е).Прокурату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Государственная Ду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9" name="Text Box 177170"/>
          <p:cNvSpPr/>
          <p:nvPr/>
        </p:nvSpPr>
        <p:spPr>
          <a:xfrm>
            <a:off x="348120" y="105264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95,96,97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177171"/>
          <p:cNvSpPr/>
          <p:nvPr/>
        </p:nvSpPr>
        <p:spPr>
          <a:xfrm>
            <a:off x="2559240" y="836640"/>
            <a:ext cx="62431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осударственная Дума состоит из 45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епутатов, избирается на 4 год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s 177172"/>
          <p:cNvSpPr txBox="1"/>
          <p:nvPr/>
        </p:nvSpPr>
        <p:spPr>
          <a:xfrm>
            <a:off x="250920" y="2133720"/>
            <a:ext cx="22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епутат ГД</a:t>
            </a:r>
            <a:endParaRPr b="1" lang="en-US" sz="24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72" name="Text Box 177173"/>
          <p:cNvSpPr/>
          <p:nvPr/>
        </p:nvSpPr>
        <p:spPr>
          <a:xfrm>
            <a:off x="2691000" y="1916280"/>
            <a:ext cx="59414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Гражданин РФ с 21 года, имеющий прав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участвовать в выборах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77175"/>
          <p:cNvSpPr/>
          <p:nvPr/>
        </p:nvSpPr>
        <p:spPr>
          <a:xfrm>
            <a:off x="2008080" y="2971800"/>
            <a:ext cx="52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бирают граждане РФ с 18 лет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s 177176"/>
          <p:cNvSpPr txBox="1"/>
          <p:nvPr/>
        </p:nvSpPr>
        <p:spPr>
          <a:xfrm>
            <a:off x="2195640" y="4508640"/>
            <a:ext cx="492444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Государственная Дума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75" name="Rectangles 177184" descr=""/>
          <p:cNvPicPr/>
          <p:nvPr/>
        </p:nvPicPr>
        <p:blipFill>
          <a:blip r:embed="rId3"/>
          <a:stretch/>
        </p:blipFill>
        <p:spPr>
          <a:xfrm>
            <a:off x="169920" y="3564000"/>
            <a:ext cx="8732880" cy="81108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177189"/>
          <p:cNvGrpSpPr/>
          <p:nvPr/>
        </p:nvGrpSpPr>
        <p:grpSpPr>
          <a:xfrm>
            <a:off x="378720" y="5013360"/>
            <a:ext cx="4048560" cy="1513800"/>
            <a:chOff x="378720" y="5013360"/>
            <a:chExt cx="4048560" cy="1513800"/>
          </a:xfrm>
        </p:grpSpPr>
        <p:grpSp>
          <p:nvGrpSpPr>
            <p:cNvPr id="377" name="Group 177181"/>
            <p:cNvGrpSpPr/>
            <p:nvPr/>
          </p:nvGrpSpPr>
          <p:grpSpPr>
            <a:xfrm>
              <a:off x="378720" y="5562720"/>
              <a:ext cx="3469680" cy="964440"/>
              <a:chOff x="378720" y="5562720"/>
              <a:chExt cx="3469680" cy="964440"/>
            </a:xfrm>
          </p:grpSpPr>
          <p:sp>
            <p:nvSpPr>
              <p:cNvPr id="378" name="Rectangles 177177"/>
              <p:cNvSpPr txBox="1"/>
              <p:nvPr/>
            </p:nvSpPr>
            <p:spPr>
              <a:xfrm>
                <a:off x="619200" y="5562720"/>
                <a:ext cx="299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2f2d25"/>
                      </a:solidFill>
                      <a:round/>
                    </a:ln>
                    <a:blipFill rotWithShape="0">
                      <a:blip r:embed="rId4"/>
                      <a:srcRect/>
                      <a:stretch/>
                    </a:blipFill>
                    <a:latin typeface="Impact"/>
                  </a:rPr>
                  <a:t>225 депутатов</a:t>
                </a:r>
                <a:endParaRPr b="1" lang="en-US" sz="2400" spc="1" strike="noStrike">
                  <a:ln w="9360">
                    <a:solidFill>
                      <a:srgbClr val="2f2d25"/>
                    </a:solidFill>
                    <a:round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379" name="Text Box 177179"/>
              <p:cNvSpPr/>
              <p:nvPr/>
            </p:nvSpPr>
            <p:spPr>
              <a:xfrm>
                <a:off x="378720" y="6067440"/>
                <a:ext cx="346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Мажоритарная система</a:t>
                </a: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80" name="Straight Connector 177186"/>
            <p:cNvSpPr/>
            <p:nvPr/>
          </p:nvSpPr>
          <p:spPr>
            <a:xfrm flipH="1">
              <a:off x="3634920" y="5013360"/>
              <a:ext cx="792360" cy="57636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1" name="Group 177188"/>
          <p:cNvGrpSpPr/>
          <p:nvPr/>
        </p:nvGrpSpPr>
        <p:grpSpPr>
          <a:xfrm>
            <a:off x="4788000" y="5013360"/>
            <a:ext cx="4077720" cy="1513800"/>
            <a:chOff x="4788000" y="5013360"/>
            <a:chExt cx="4077720" cy="1513800"/>
          </a:xfrm>
        </p:grpSpPr>
        <p:grpSp>
          <p:nvGrpSpPr>
            <p:cNvPr id="382" name="Group 177182"/>
            <p:cNvGrpSpPr/>
            <p:nvPr/>
          </p:nvGrpSpPr>
          <p:grpSpPr>
            <a:xfrm>
              <a:off x="5368680" y="5562720"/>
              <a:ext cx="3497040" cy="964440"/>
              <a:chOff x="5368680" y="5562720"/>
              <a:chExt cx="3497040" cy="964440"/>
            </a:xfrm>
          </p:grpSpPr>
          <p:sp>
            <p:nvSpPr>
              <p:cNvPr id="383" name="Rectangles 177178"/>
              <p:cNvSpPr txBox="1"/>
              <p:nvPr/>
            </p:nvSpPr>
            <p:spPr>
              <a:xfrm>
                <a:off x="5622840" y="5562720"/>
                <a:ext cx="299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2f2d25"/>
                      </a:solidFill>
                      <a:round/>
                    </a:ln>
                    <a:blipFill rotWithShape="0">
                      <a:blip r:embed="rId6"/>
                      <a:srcRect/>
                      <a:stretch/>
                    </a:blipFill>
                    <a:latin typeface="Impact"/>
                  </a:rPr>
                  <a:t>225 депутатов</a:t>
                </a:r>
                <a:endParaRPr b="1" lang="en-US" sz="2400" spc="1" strike="noStrike">
                  <a:ln w="9360">
                    <a:solidFill>
                      <a:srgbClr val="2f2d25"/>
                    </a:solidFill>
                    <a:round/>
                  </a:ln>
                  <a:blipFill rotWithShape="0">
                    <a:blip r:embed="rId7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384" name="Text Box 177180"/>
              <p:cNvSpPr/>
              <p:nvPr/>
            </p:nvSpPr>
            <p:spPr>
              <a:xfrm>
                <a:off x="5368680" y="6067440"/>
                <a:ext cx="349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По партийным спискам</a:t>
                </a: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85" name="Straight Connector 177187"/>
            <p:cNvSpPr/>
            <p:nvPr/>
          </p:nvSpPr>
          <p:spPr>
            <a:xfrm>
              <a:off x="4788000" y="5013360"/>
              <a:ext cx="792000" cy="57636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Государственная Ду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7" name="Rectangles 178195" descr=""/>
          <p:cNvPicPr/>
          <p:nvPr/>
        </p:nvPicPr>
        <p:blipFill>
          <a:blip r:embed="rId1"/>
          <a:stretch/>
        </p:blipFill>
        <p:spPr>
          <a:xfrm>
            <a:off x="309600" y="1947960"/>
            <a:ext cx="2044800" cy="8920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78196"/>
          <p:cNvSpPr/>
          <p:nvPr/>
        </p:nvSpPr>
        <p:spPr>
          <a:xfrm>
            <a:off x="2515320" y="692280"/>
            <a:ext cx="650376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ача согласия Президенту РФ на назначени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едседателя правительства, решение воп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са о доверии правительству, назначение 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свобождение председателя Центрального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анка, Уполномоченного по правам челов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, объявление амнистии, выдвижение обв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ений против Президента с целью отстран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ия его от должн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Text Box 178197"/>
          <p:cNvSpPr/>
          <p:nvPr/>
        </p:nvSpPr>
        <p:spPr>
          <a:xfrm>
            <a:off x="816480" y="411480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178198"/>
          <p:cNvSpPr/>
          <p:nvPr/>
        </p:nvSpPr>
        <p:spPr>
          <a:xfrm>
            <a:off x="2858400" y="3860640"/>
            <a:ext cx="58273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осударственная Дума принимает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Законы РФ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s 178199"/>
          <p:cNvSpPr txBox="1"/>
          <p:nvPr/>
        </p:nvSpPr>
        <p:spPr>
          <a:xfrm>
            <a:off x="3189240" y="4941720"/>
            <a:ext cx="3038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спуск Думы</a:t>
            </a:r>
            <a:endParaRPr b="1" i="1" lang="en-US" sz="2400" spc="1" strike="noStrike">
              <a:ln w="19080">
                <a:solidFill>
                  <a:srgbClr val="ffffff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Text Box 178200"/>
          <p:cNvSpPr/>
          <p:nvPr/>
        </p:nvSpPr>
        <p:spPr>
          <a:xfrm>
            <a:off x="393480" y="592452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11,117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178201"/>
          <p:cNvSpPr/>
          <p:nvPr/>
        </p:nvSpPr>
        <p:spPr>
          <a:xfrm>
            <a:off x="2592720" y="5478480"/>
            <a:ext cx="636660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Д распускается президентом РФ. Пр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оспуске назначается дата выборов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(не позднее 4 месяцев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95" name="Group 179220"/>
          <p:cNvGrpSpPr/>
          <p:nvPr/>
        </p:nvGrpSpPr>
        <p:grpSpPr>
          <a:xfrm>
            <a:off x="322200" y="692280"/>
            <a:ext cx="4320720" cy="1325160"/>
            <a:chOff x="322200" y="692280"/>
            <a:chExt cx="4320720" cy="1325160"/>
          </a:xfrm>
        </p:grpSpPr>
        <p:pic>
          <p:nvPicPr>
            <p:cNvPr id="396" name="Rectangles 179209" descr=""/>
            <p:cNvPicPr/>
            <p:nvPr/>
          </p:nvPicPr>
          <p:blipFill>
            <a:blip r:embed="rId1"/>
            <a:stretch/>
          </p:blipFill>
          <p:spPr>
            <a:xfrm>
              <a:off x="322200" y="1334160"/>
              <a:ext cx="2456280" cy="6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Straight Connector 179214"/>
            <p:cNvSpPr/>
            <p:nvPr/>
          </p:nvSpPr>
          <p:spPr>
            <a:xfrm flipH="1">
              <a:off x="2486520" y="692280"/>
              <a:ext cx="2156400" cy="64656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8" name="Group 179222"/>
          <p:cNvGrpSpPr/>
          <p:nvPr/>
        </p:nvGrpSpPr>
        <p:grpSpPr>
          <a:xfrm>
            <a:off x="4643280" y="692280"/>
            <a:ext cx="4106880" cy="936360"/>
            <a:chOff x="4643280" y="692280"/>
            <a:chExt cx="4106880" cy="936360"/>
          </a:xfrm>
        </p:grpSpPr>
        <p:sp>
          <p:nvSpPr>
            <p:cNvPr id="399" name="Rectangles 179211"/>
            <p:cNvSpPr txBox="1"/>
            <p:nvPr/>
          </p:nvSpPr>
          <p:spPr>
            <a:xfrm>
              <a:off x="6300720" y="1343160"/>
              <a:ext cx="2449440" cy="28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Ведомства</a:t>
              </a:r>
              <a:endParaRPr b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00" name="Straight Connector 179217"/>
            <p:cNvSpPr/>
            <p:nvPr/>
          </p:nvSpPr>
          <p:spPr>
            <a:xfrm>
              <a:off x="4643280" y="692280"/>
              <a:ext cx="2159280" cy="6490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1" name="Group 179223"/>
          <p:cNvGrpSpPr/>
          <p:nvPr/>
        </p:nvGrpSpPr>
        <p:grpSpPr>
          <a:xfrm>
            <a:off x="1690560" y="692280"/>
            <a:ext cx="2952000" cy="2304720"/>
            <a:chOff x="1690560" y="692280"/>
            <a:chExt cx="2952000" cy="2304720"/>
          </a:xfrm>
        </p:grpSpPr>
        <p:pic>
          <p:nvPicPr>
            <p:cNvPr id="402" name="Rectangles 179213" descr=""/>
            <p:cNvPicPr/>
            <p:nvPr/>
          </p:nvPicPr>
          <p:blipFill>
            <a:blip r:embed="rId2"/>
            <a:stretch/>
          </p:blipFill>
          <p:spPr>
            <a:xfrm>
              <a:off x="1690560" y="2125440"/>
              <a:ext cx="2670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Straight Connector 179218"/>
            <p:cNvSpPr/>
            <p:nvPr/>
          </p:nvSpPr>
          <p:spPr>
            <a:xfrm flipH="1">
              <a:off x="3061080" y="692280"/>
              <a:ext cx="1581480" cy="143820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4" name="Group 179224"/>
          <p:cNvGrpSpPr/>
          <p:nvPr/>
        </p:nvGrpSpPr>
        <p:grpSpPr>
          <a:xfrm>
            <a:off x="4643280" y="692280"/>
            <a:ext cx="3744720" cy="2376000"/>
            <a:chOff x="4643280" y="692280"/>
            <a:chExt cx="3744720" cy="2376000"/>
          </a:xfrm>
        </p:grpSpPr>
        <p:pic>
          <p:nvPicPr>
            <p:cNvPr id="405" name="Rectangles 179212" descr=""/>
            <p:cNvPicPr/>
            <p:nvPr/>
          </p:nvPicPr>
          <p:blipFill>
            <a:blip r:embed="rId3"/>
            <a:stretch/>
          </p:blipFill>
          <p:spPr>
            <a:xfrm>
              <a:off x="4709880" y="2125800"/>
              <a:ext cx="3678120" cy="9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Straight Connector 179219"/>
            <p:cNvSpPr/>
            <p:nvPr/>
          </p:nvSpPr>
          <p:spPr>
            <a:xfrm>
              <a:off x="4643280" y="692280"/>
              <a:ext cx="1582200" cy="143856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7" name="Group 179221"/>
          <p:cNvGrpSpPr/>
          <p:nvPr/>
        </p:nvGrpSpPr>
        <p:grpSpPr>
          <a:xfrm>
            <a:off x="3417840" y="692280"/>
            <a:ext cx="2449440" cy="1008000"/>
            <a:chOff x="3417840" y="692280"/>
            <a:chExt cx="2449440" cy="1008000"/>
          </a:xfrm>
        </p:grpSpPr>
        <p:sp>
          <p:nvSpPr>
            <p:cNvPr id="408" name="Straight Connector 179215"/>
            <p:cNvSpPr/>
            <p:nvPr/>
          </p:nvSpPr>
          <p:spPr>
            <a:xfrm>
              <a:off x="4643280" y="692280"/>
              <a:ext cx="0" cy="6490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Rectangles 179210"/>
            <p:cNvSpPr txBox="1"/>
            <p:nvPr/>
          </p:nvSpPr>
          <p:spPr>
            <a:xfrm>
              <a:off x="3417840" y="1341360"/>
              <a:ext cx="244944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Министерства</a:t>
              </a:r>
              <a:endParaRPr b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10" name="Text Box 179225"/>
          <p:cNvSpPr/>
          <p:nvPr/>
        </p:nvSpPr>
        <p:spPr>
          <a:xfrm>
            <a:off x="327240" y="3173400"/>
            <a:ext cx="856440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Формирование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-или назначаются соответствующим рук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одителем исполнительной власти, или избираютс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аселени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s 179226"/>
          <p:cNvSpPr txBox="1"/>
          <p:nvPr/>
        </p:nvSpPr>
        <p:spPr>
          <a:xfrm>
            <a:off x="3567240" y="4624560"/>
            <a:ext cx="2009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Функции</a:t>
            </a:r>
            <a:endParaRPr b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12" name="Text Box 179227"/>
          <p:cNvSpPr/>
          <p:nvPr/>
        </p:nvSpPr>
        <p:spPr>
          <a:xfrm>
            <a:off x="512280" y="5373720"/>
            <a:ext cx="818316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епосредственно исполняют нормативные акты предст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ительных органов власти. Свои  акты издают на основ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ействующего законодатель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4" name="Rectangles 180244" descr=""/>
          <p:cNvPicPr/>
          <p:nvPr/>
        </p:nvPicPr>
        <p:blipFill>
          <a:blip r:embed="rId1"/>
          <a:stretch/>
        </p:blipFill>
        <p:spPr>
          <a:xfrm>
            <a:off x="1346040" y="1409760"/>
            <a:ext cx="2943360" cy="72864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s 180245" descr=""/>
          <p:cNvPicPr/>
          <p:nvPr/>
        </p:nvPicPr>
        <p:blipFill>
          <a:blip r:embed="rId2"/>
          <a:stretch/>
        </p:blipFill>
        <p:spPr>
          <a:xfrm>
            <a:off x="5214960" y="1407960"/>
            <a:ext cx="3682800" cy="72864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s 180246"/>
          <p:cNvSpPr txBox="1"/>
          <p:nvPr/>
        </p:nvSpPr>
        <p:spPr>
          <a:xfrm>
            <a:off x="2757600" y="765000"/>
            <a:ext cx="36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Классификация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17" name="Rectangles 180247"/>
          <p:cNvSpPr txBox="1"/>
          <p:nvPr/>
        </p:nvSpPr>
        <p:spPr>
          <a:xfrm>
            <a:off x="395280" y="14842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1.</a:t>
            </a:r>
            <a:endParaRPr b="1" lang="en-US" sz="2400" spc="1" strike="noStrike">
              <a:ln w="9360">
                <a:solidFill>
                  <a:srgbClr val="ff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18" name="Rectangles 180248"/>
          <p:cNvSpPr txBox="1"/>
          <p:nvPr/>
        </p:nvSpPr>
        <p:spPr>
          <a:xfrm>
            <a:off x="395280" y="242100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2.</a:t>
            </a:r>
            <a:endParaRPr b="1" lang="en-US" sz="2400" spc="1" strike="noStrike">
              <a:ln w="9360">
                <a:solidFill>
                  <a:srgbClr val="ff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19" name="Rectangles 180249" descr=""/>
          <p:cNvPicPr/>
          <p:nvPr/>
        </p:nvPicPr>
        <p:blipFill>
          <a:blip r:embed="rId3"/>
          <a:stretch/>
        </p:blipFill>
        <p:spPr>
          <a:xfrm>
            <a:off x="1346040" y="2271600"/>
            <a:ext cx="2943360" cy="728640"/>
          </a:xfrm>
          <a:prstGeom prst="rect">
            <a:avLst/>
          </a:prstGeom>
          <a:ln w="0">
            <a:noFill/>
          </a:ln>
        </p:spPr>
      </p:pic>
      <p:pic>
        <p:nvPicPr>
          <p:cNvPr id="420" name="Rectangles 180250" descr=""/>
          <p:cNvPicPr/>
          <p:nvPr/>
        </p:nvPicPr>
        <p:blipFill>
          <a:blip r:embed="rId4"/>
          <a:stretch/>
        </p:blipFill>
        <p:spPr>
          <a:xfrm>
            <a:off x="5594400" y="2271600"/>
            <a:ext cx="2943000" cy="7286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80251"/>
          <p:cNvSpPr/>
          <p:nvPr/>
        </p:nvSpPr>
        <p:spPr>
          <a:xfrm>
            <a:off x="1386000" y="292428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о РФ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180252"/>
          <p:cNvSpPr/>
          <p:nvPr/>
        </p:nvSpPr>
        <p:spPr>
          <a:xfrm>
            <a:off x="5171400" y="29242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ерства и ведомства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3" name="Group 180256"/>
          <p:cNvGrpSpPr/>
          <p:nvPr/>
        </p:nvGrpSpPr>
        <p:grpSpPr>
          <a:xfrm>
            <a:off x="1332000" y="3284640"/>
            <a:ext cx="5761080" cy="1008000"/>
            <a:chOff x="1332000" y="3284640"/>
            <a:chExt cx="5761080" cy="1008000"/>
          </a:xfrm>
        </p:grpSpPr>
        <p:sp>
          <p:nvSpPr>
            <p:cNvPr id="424" name="Rectangles 180253"/>
            <p:cNvSpPr txBox="1"/>
            <p:nvPr/>
          </p:nvSpPr>
          <p:spPr>
            <a:xfrm>
              <a:off x="1332000" y="3881520"/>
              <a:ext cx="2847960" cy="41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Отраслевые</a:t>
              </a:r>
              <a:endParaRPr b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25" name="Straight Connector 180255"/>
            <p:cNvSpPr/>
            <p:nvPr/>
          </p:nvSpPr>
          <p:spPr>
            <a:xfrm flipH="1">
              <a:off x="4211640" y="3284640"/>
              <a:ext cx="2881440" cy="64908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6" name="Group 180258"/>
          <p:cNvGrpSpPr/>
          <p:nvPr/>
        </p:nvGrpSpPr>
        <p:grpSpPr>
          <a:xfrm>
            <a:off x="5611680" y="3284640"/>
            <a:ext cx="2847960" cy="1008000"/>
            <a:chOff x="5611680" y="3284640"/>
            <a:chExt cx="2847960" cy="1008000"/>
          </a:xfrm>
        </p:grpSpPr>
        <p:sp>
          <p:nvSpPr>
            <p:cNvPr id="427" name="Rectangles 180254"/>
            <p:cNvSpPr txBox="1"/>
            <p:nvPr/>
          </p:nvSpPr>
          <p:spPr>
            <a:xfrm>
              <a:off x="5611680" y="3881520"/>
              <a:ext cx="2847960" cy="41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Межотраслевые</a:t>
              </a:r>
              <a:endParaRPr b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28" name="Straight Connector 180257"/>
            <p:cNvSpPr/>
            <p:nvPr/>
          </p:nvSpPr>
          <p:spPr>
            <a:xfrm>
              <a:off x="7093080" y="3284640"/>
              <a:ext cx="0" cy="64908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9" name="Text Box 180259"/>
          <p:cNvSpPr/>
          <p:nvPr/>
        </p:nvSpPr>
        <p:spPr>
          <a:xfrm>
            <a:off x="1621440" y="41958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ер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Text Box 180260"/>
          <p:cNvSpPr/>
          <p:nvPr/>
        </p:nvSpPr>
        <p:spPr>
          <a:xfrm>
            <a:off x="5006520" y="419580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сударственные комитет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s 180261"/>
          <p:cNvSpPr txBox="1"/>
          <p:nvPr/>
        </p:nvSpPr>
        <p:spPr>
          <a:xfrm>
            <a:off x="1351080" y="4724280"/>
            <a:ext cx="293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Коллегиальные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2" name="Rectangles 180263"/>
          <p:cNvSpPr txBox="1"/>
          <p:nvPr/>
        </p:nvSpPr>
        <p:spPr>
          <a:xfrm>
            <a:off x="395280" y="462456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3.</a:t>
            </a:r>
            <a:endParaRPr b="1" lang="en-US" sz="2400" spc="1" strike="noStrike">
              <a:ln w="9360">
                <a:solidFill>
                  <a:srgbClr val="ff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3" name="Rectangles 180264"/>
          <p:cNvSpPr txBox="1"/>
          <p:nvPr/>
        </p:nvSpPr>
        <p:spPr>
          <a:xfrm>
            <a:off x="5651640" y="4724280"/>
            <a:ext cx="293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Единоначальные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4" name="Text Box 180266"/>
          <p:cNvSpPr/>
          <p:nvPr/>
        </p:nvSpPr>
        <p:spPr>
          <a:xfrm>
            <a:off x="1386000" y="520380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о РФ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80267"/>
          <p:cNvSpPr/>
          <p:nvPr/>
        </p:nvSpPr>
        <p:spPr>
          <a:xfrm>
            <a:off x="5983920" y="52038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ер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80268"/>
          <p:cNvSpPr/>
          <p:nvPr/>
        </p:nvSpPr>
        <p:spPr>
          <a:xfrm>
            <a:off x="359280" y="599616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1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80269"/>
          <p:cNvSpPr/>
          <p:nvPr/>
        </p:nvSpPr>
        <p:spPr>
          <a:xfrm>
            <a:off x="1779120" y="5770440"/>
            <a:ext cx="7102800" cy="825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сполнительную власть Российской Фед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ации осуществляет Правительств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9" name="Rectangles 181274" descr=""/>
          <p:cNvPicPr/>
          <p:nvPr/>
        </p:nvPicPr>
        <p:blipFill>
          <a:blip r:embed="rId1"/>
          <a:stretch/>
        </p:blipFill>
        <p:spPr>
          <a:xfrm>
            <a:off x="241200" y="826920"/>
            <a:ext cx="8732880" cy="81144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81275"/>
          <p:cNvSpPr/>
          <p:nvPr/>
        </p:nvSpPr>
        <p:spPr>
          <a:xfrm>
            <a:off x="14400" y="1700280"/>
            <a:ext cx="913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 ведении Правительства находятся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полнение Конст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ции, федеральных законов, указов Президента РФ, междун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ных договоров, принятие мер по устранению нарушений з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одательства РФ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s 181276"/>
          <p:cNvSpPr txBox="1"/>
          <p:nvPr/>
        </p:nvSpPr>
        <p:spPr>
          <a:xfrm>
            <a:off x="2411280" y="3359160"/>
            <a:ext cx="45151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2f2d25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остав Правительства</a:t>
            </a:r>
            <a:endParaRPr b="0" lang="en-US" sz="2400" spc="1" strike="noStrike">
              <a:ln w="9360">
                <a:solidFill>
                  <a:srgbClr val="2f2d25"/>
                </a:solidFill>
                <a:round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42" name="Text Box 181277"/>
          <p:cNvSpPr/>
          <p:nvPr/>
        </p:nvSpPr>
        <p:spPr>
          <a:xfrm>
            <a:off x="94680" y="3825720"/>
            <a:ext cx="894384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Председатель Правительства, Заместители председ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теля Правительства, федеральные министр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Picture 181278" descr="j0186152"/>
          <p:cNvPicPr/>
          <p:nvPr/>
        </p:nvPicPr>
        <p:blipFill>
          <a:blip r:embed="rId5"/>
          <a:stretch/>
        </p:blipFill>
        <p:spPr>
          <a:xfrm>
            <a:off x="903240" y="4869000"/>
            <a:ext cx="644400" cy="10206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81279"/>
          <p:cNvSpPr/>
          <p:nvPr/>
        </p:nvSpPr>
        <p:spPr>
          <a:xfrm>
            <a:off x="113400" y="584676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седате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Text Box 181280"/>
          <p:cNvSpPr/>
          <p:nvPr/>
        </p:nvSpPr>
        <p:spPr>
          <a:xfrm>
            <a:off x="2603520" y="4900680"/>
            <a:ext cx="631800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значается Президентом с согласия Думы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рассматривается в течении недели, есл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андидатура отклонена трижды- Президент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значает Председателя и распускает Думу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7" name="Picture 182278" descr="j0186152"/>
          <p:cNvPicPr/>
          <p:nvPr/>
        </p:nvPicPr>
        <p:blipFill>
          <a:blip r:embed="rId1"/>
          <a:stretch/>
        </p:blipFill>
        <p:spPr>
          <a:xfrm>
            <a:off x="971640" y="1171440"/>
            <a:ext cx="644400" cy="102096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82279"/>
          <p:cNvSpPr/>
          <p:nvPr/>
        </p:nvSpPr>
        <p:spPr>
          <a:xfrm>
            <a:off x="110160" y="203508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седате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Text Box 182281"/>
          <p:cNvSpPr/>
          <p:nvPr/>
        </p:nvSpPr>
        <p:spPr>
          <a:xfrm>
            <a:off x="2529000" y="981000"/>
            <a:ext cx="646416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ет основные направления деятель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ости и организует работу. В течение недел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 момента утверждения представляет През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енту предложения о структуре правитель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а и кандидатуры Заместителей и министров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s 182282"/>
          <p:cNvSpPr txBox="1"/>
          <p:nvPr/>
        </p:nvSpPr>
        <p:spPr>
          <a:xfrm>
            <a:off x="108000" y="470052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66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Правительство</a:t>
            </a:r>
            <a:endParaRPr b="1" lang="en-US" sz="2400" spc="1" strike="noStrike">
              <a:ln w="9360">
                <a:solidFill>
                  <a:srgbClr val="993366"/>
                </a:solidFill>
                <a:round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51" name="Text Box 182283"/>
          <p:cNvSpPr/>
          <p:nvPr/>
        </p:nvSpPr>
        <p:spPr>
          <a:xfrm>
            <a:off x="2652120" y="3363840"/>
            <a:ext cx="6320880" cy="3020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йствует в пределах срока полномочи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езидента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Отставк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– добровольно(принимается, ил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тклоняется Президентом), решение През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нта недоверие со стороны ГД(Президент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нимает, или нет), если в течение 3 меся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цев повторное решение- то или отставк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авительства, или роспуск Ду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3" name="Rectangles 183301" descr=""/>
          <p:cNvPicPr/>
          <p:nvPr/>
        </p:nvPicPr>
        <p:blipFill>
          <a:blip r:embed="rId1"/>
          <a:stretch/>
        </p:blipFill>
        <p:spPr>
          <a:xfrm>
            <a:off x="174600" y="1695600"/>
            <a:ext cx="2386080" cy="80136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83302"/>
          <p:cNvSpPr/>
          <p:nvPr/>
        </p:nvSpPr>
        <p:spPr>
          <a:xfrm>
            <a:off x="2788560" y="836640"/>
            <a:ext cx="613188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ализация внутренней и внешней пол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тики государства, регулирование соци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льно-экономической сферы, обеспеч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динства системы исполнительной власти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ормирует и реализовывает федераль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целевые программы, обладает правом з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одательной инициатив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Rectangles 183303"/>
          <p:cNvSpPr txBox="1"/>
          <p:nvPr/>
        </p:nvSpPr>
        <p:spPr>
          <a:xfrm>
            <a:off x="611280" y="3666960"/>
            <a:ext cx="7929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Право законодательной инициативы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56" name="Text Box 183304"/>
          <p:cNvSpPr/>
          <p:nvPr/>
        </p:nvSpPr>
        <p:spPr>
          <a:xfrm>
            <a:off x="330120" y="4221000"/>
            <a:ext cx="855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носить в Государственную Думу законопроекты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правлять в СФ и ГД отзывы о рассматриваемых пр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ктах законодательных актов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ает заключения по законопроектам о введении и отмен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логов, о выпуске гос.займов, и др законопроекты, связан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ые с расходованием бюджетных средств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8" name="Rectangles 184322" descr=""/>
          <p:cNvPicPr/>
          <p:nvPr/>
        </p:nvPicPr>
        <p:blipFill>
          <a:blip r:embed="rId1"/>
          <a:stretch/>
        </p:blipFill>
        <p:spPr>
          <a:xfrm>
            <a:off x="3343320" y="760320"/>
            <a:ext cx="2386080" cy="801720"/>
          </a:xfrm>
          <a:prstGeom prst="rect">
            <a:avLst/>
          </a:prstGeom>
          <a:ln w="0">
            <a:noFill/>
          </a:ln>
        </p:spPr>
      </p:pic>
      <p:grpSp>
        <p:nvGrpSpPr>
          <p:cNvPr id="459" name="Group 184331"/>
          <p:cNvGrpSpPr/>
          <p:nvPr/>
        </p:nvGrpSpPr>
        <p:grpSpPr>
          <a:xfrm>
            <a:off x="5579640" y="1022400"/>
            <a:ext cx="3515400" cy="1191240"/>
            <a:chOff x="5579640" y="1022400"/>
            <a:chExt cx="3515400" cy="1191240"/>
          </a:xfrm>
        </p:grpSpPr>
        <p:sp>
          <p:nvSpPr>
            <p:cNvPr id="460" name="Text Box 184327"/>
            <p:cNvSpPr/>
            <p:nvPr/>
          </p:nvSpPr>
          <p:spPr>
            <a:xfrm>
              <a:off x="5937840" y="1022400"/>
              <a:ext cx="31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онтролирует работу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ертикали исполни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ельной власт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84328"/>
            <p:cNvSpPr/>
            <p:nvPr/>
          </p:nvSpPr>
          <p:spPr>
            <a:xfrm rot="5400000">
              <a:off x="5578560" y="1627920"/>
              <a:ext cx="504720" cy="50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62" name="Group 184330"/>
          <p:cNvGrpSpPr/>
          <p:nvPr/>
        </p:nvGrpSpPr>
        <p:grpSpPr>
          <a:xfrm>
            <a:off x="38880" y="1089000"/>
            <a:ext cx="3453120" cy="1191240"/>
            <a:chOff x="38880" y="1089000"/>
            <a:chExt cx="3453120" cy="1191240"/>
          </a:xfrm>
        </p:grpSpPr>
        <p:sp>
          <p:nvSpPr>
            <p:cNvPr id="463" name="Text Box 184326"/>
            <p:cNvSpPr/>
            <p:nvPr/>
          </p:nvSpPr>
          <p:spPr>
            <a:xfrm>
              <a:off x="38880" y="1089000"/>
              <a:ext cx="2821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Руководит работо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инистерств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др. органов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84329"/>
            <p:cNvSpPr/>
            <p:nvPr/>
          </p:nvSpPr>
          <p:spPr>
            <a:xfrm flipH="1" rot="16200000">
              <a:off x="2988000" y="1658160"/>
              <a:ext cx="504720" cy="50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65" name="Rectangles 184332" descr=""/>
          <p:cNvPicPr/>
          <p:nvPr/>
        </p:nvPicPr>
        <p:blipFill>
          <a:blip r:embed="rId2"/>
          <a:stretch/>
        </p:blipFill>
        <p:spPr>
          <a:xfrm>
            <a:off x="169920" y="2340000"/>
            <a:ext cx="8732880" cy="8110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s 184333"/>
          <p:cNvSpPr txBox="1"/>
          <p:nvPr/>
        </p:nvSpPr>
        <p:spPr>
          <a:xfrm>
            <a:off x="2089080" y="3375000"/>
            <a:ext cx="50040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993366"/>
                </a:solidFill>
                <a:latin typeface="Arial"/>
              </a:rPr>
              <a:t>Система органов: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467" name="Group 184336"/>
          <p:cNvGrpSpPr/>
          <p:nvPr/>
        </p:nvGrpSpPr>
        <p:grpSpPr>
          <a:xfrm>
            <a:off x="179280" y="3956040"/>
            <a:ext cx="8604000" cy="2288520"/>
            <a:chOff x="179280" y="3956040"/>
            <a:chExt cx="8604000" cy="2288520"/>
          </a:xfrm>
        </p:grpSpPr>
        <p:pic>
          <p:nvPicPr>
            <p:cNvPr id="468" name="Rectangles 184334" descr=""/>
            <p:cNvPicPr/>
            <p:nvPr/>
          </p:nvPicPr>
          <p:blipFill>
            <a:blip r:embed="rId3"/>
            <a:stretch/>
          </p:blipFill>
          <p:spPr>
            <a:xfrm>
              <a:off x="179280" y="4699080"/>
              <a:ext cx="267156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 Box 184335"/>
            <p:cNvSpPr/>
            <p:nvPr/>
          </p:nvSpPr>
          <p:spPr>
            <a:xfrm>
              <a:off x="3154320" y="3956040"/>
              <a:ext cx="5628960" cy="2288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роводит государственную политику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осуществляет управление и координи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рует деятельность органов исполните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льной власти( в установленных зако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ном случаях. Возглавляется минист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ром, входящим в состав правительств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71" name="Group 185359"/>
          <p:cNvGrpSpPr/>
          <p:nvPr/>
        </p:nvGrpSpPr>
        <p:grpSpPr>
          <a:xfrm>
            <a:off x="252360" y="765000"/>
            <a:ext cx="8629560" cy="1922760"/>
            <a:chOff x="252360" y="765000"/>
            <a:chExt cx="8629560" cy="1922760"/>
          </a:xfrm>
        </p:grpSpPr>
        <p:pic>
          <p:nvPicPr>
            <p:cNvPr id="472" name="Rectangles 185356" descr=""/>
            <p:cNvPicPr/>
            <p:nvPr/>
          </p:nvPicPr>
          <p:blipFill>
            <a:blip r:embed="rId1"/>
            <a:stretch/>
          </p:blipFill>
          <p:spPr>
            <a:xfrm>
              <a:off x="252360" y="857160"/>
              <a:ext cx="26715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185357"/>
            <p:cNvSpPr/>
            <p:nvPr/>
          </p:nvSpPr>
          <p:spPr>
            <a:xfrm>
              <a:off x="3153960" y="765000"/>
              <a:ext cx="5727960" cy="192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Осуществляют на коллегиальной осно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ве межотраслевую координацию и регу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лирование  по вопросам отнесенным к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их компетенции. Возглавляются соот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ветствующим председателем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4" name="Group 185363"/>
          <p:cNvGrpSpPr/>
          <p:nvPr/>
        </p:nvGrpSpPr>
        <p:grpSpPr>
          <a:xfrm>
            <a:off x="250920" y="2852640"/>
            <a:ext cx="8624520" cy="2288520"/>
            <a:chOff x="250920" y="2852640"/>
            <a:chExt cx="8624520" cy="2288520"/>
          </a:xfrm>
        </p:grpSpPr>
        <p:pic>
          <p:nvPicPr>
            <p:cNvPr id="475" name="Rectangles 185361" descr=""/>
            <p:cNvPicPr/>
            <p:nvPr/>
          </p:nvPicPr>
          <p:blipFill>
            <a:blip r:embed="rId3"/>
            <a:stretch/>
          </p:blipFill>
          <p:spPr>
            <a:xfrm>
              <a:off x="250920" y="3366720"/>
              <a:ext cx="267120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185362"/>
            <p:cNvSpPr/>
            <p:nvPr/>
          </p:nvSpPr>
          <p:spPr>
            <a:xfrm>
              <a:off x="3151800" y="2852640"/>
              <a:ext cx="5723640" cy="2288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Осуществляют специальные функци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(исполнительные, контрольные, разре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шительные и др.) в пределах своей ком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етенции. Возглавляются Ген.директо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Ром, директором и начальником соот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ветственно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77" name="Rectangles 185367" descr=""/>
          <p:cNvPicPr/>
          <p:nvPr/>
        </p:nvPicPr>
        <p:blipFill>
          <a:blip r:embed="rId5"/>
          <a:stretch/>
        </p:blipFill>
        <p:spPr>
          <a:xfrm>
            <a:off x="209520" y="5310360"/>
            <a:ext cx="882648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д.Органы Судеб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9" name="Rectangles 186377" descr=""/>
          <p:cNvPicPr/>
          <p:nvPr/>
        </p:nvPicPr>
        <p:blipFill>
          <a:blip r:embed="rId1"/>
          <a:stretch/>
        </p:blipFill>
        <p:spPr>
          <a:xfrm>
            <a:off x="390600" y="976320"/>
            <a:ext cx="2228760" cy="107640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186380"/>
          <p:cNvGrpSpPr/>
          <p:nvPr/>
        </p:nvGrpSpPr>
        <p:grpSpPr>
          <a:xfrm>
            <a:off x="2916360" y="1197000"/>
            <a:ext cx="5887440" cy="822240"/>
            <a:chOff x="2916360" y="1197000"/>
            <a:chExt cx="5887440" cy="822240"/>
          </a:xfrm>
        </p:grpSpPr>
        <p:pic>
          <p:nvPicPr>
            <p:cNvPr id="481" name="Rectangles 186378" descr=""/>
            <p:cNvPicPr/>
            <p:nvPr/>
          </p:nvPicPr>
          <p:blipFill>
            <a:blip r:embed="rId2"/>
            <a:stretch/>
          </p:blipFill>
          <p:spPr>
            <a:xfrm>
              <a:off x="4349880" y="1197000"/>
              <a:ext cx="44539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Right Arrow 186379"/>
            <p:cNvSpPr/>
            <p:nvPr/>
          </p:nvSpPr>
          <p:spPr>
            <a:xfrm>
              <a:off x="2916360" y="1466640"/>
              <a:ext cx="1293840" cy="284040"/>
            </a:xfrm>
            <a:prstGeom prst="rightArrow">
              <a:avLst>
                <a:gd name="adj1" fmla="val 50000"/>
                <a:gd name="adj2" fmla="val 113857"/>
              </a:avLst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3" name="Text Box 186381"/>
          <p:cNvSpPr/>
          <p:nvPr/>
        </p:nvSpPr>
        <p:spPr>
          <a:xfrm>
            <a:off x="293400" y="2305080"/>
            <a:ext cx="8613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равосуд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вид государственной деятельности, направлен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рассмотрение и разрешение различных социальных конфлик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, связанных с действительным, или предполагаемым наруш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ем норм права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Rectangles 186382"/>
          <p:cNvSpPr txBox="1"/>
          <p:nvPr/>
        </p:nvSpPr>
        <p:spPr>
          <a:xfrm>
            <a:off x="3492360" y="4076640"/>
            <a:ext cx="2133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изнаки:</a:t>
            </a:r>
            <a:endParaRPr b="1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85" name="Rectangles 186383"/>
          <p:cNvSpPr txBox="1"/>
          <p:nvPr/>
        </p:nvSpPr>
        <p:spPr>
          <a:xfrm>
            <a:off x="203040" y="4653000"/>
            <a:ext cx="890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1.Осуществляется от имени государства.</a:t>
            </a:r>
            <a:endParaRPr b="1" lang="en-US" sz="2400" spc="1" strike="noStrike">
              <a:ln w="9360">
                <a:solidFill>
                  <a:srgbClr val="cc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86" name="Rectangles 186384" descr=""/>
          <p:cNvPicPr/>
          <p:nvPr/>
        </p:nvPicPr>
        <p:blipFill>
          <a:blip r:embed="rId6"/>
          <a:stretch/>
        </p:blipFill>
        <p:spPr>
          <a:xfrm>
            <a:off x="125280" y="5511960"/>
            <a:ext cx="89154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Экономическая и социальная системы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Text Box 151585"/>
          <p:cNvSpPr/>
          <p:nvPr/>
        </p:nvSpPr>
        <p:spPr>
          <a:xfrm>
            <a:off x="3031920" y="858960"/>
            <a:ext cx="589284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ходящееся в стадии становления, с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циальное, рыночное хозяйство в рамках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торого производство и распреде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оваров и благ осуществляется посред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м рыночных отношений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0" name="Group 151587"/>
          <p:cNvGrpSpPr/>
          <p:nvPr/>
        </p:nvGrpSpPr>
        <p:grpSpPr>
          <a:xfrm>
            <a:off x="335880" y="981000"/>
            <a:ext cx="2361600" cy="1947960"/>
            <a:chOff x="335880" y="981000"/>
            <a:chExt cx="2361600" cy="1947960"/>
          </a:xfrm>
        </p:grpSpPr>
        <p:sp>
          <p:nvSpPr>
            <p:cNvPr id="161" name="Text Box 151583"/>
            <p:cNvSpPr/>
            <p:nvPr/>
          </p:nvSpPr>
          <p:spPr>
            <a:xfrm>
              <a:off x="335880" y="2103480"/>
              <a:ext cx="236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Экономическая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снов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62" name="Picture 151586" descr="j0240751"/>
            <p:cNvPicPr/>
            <p:nvPr/>
          </p:nvPicPr>
          <p:blipFill>
            <a:blip r:embed="rId2"/>
            <a:stretch/>
          </p:blipFill>
          <p:spPr>
            <a:xfrm>
              <a:off x="777960" y="981000"/>
              <a:ext cx="1346040" cy="1200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</p:grpSp>
      <p:sp>
        <p:nvSpPr>
          <p:cNvPr id="163" name="Rectangles 151588"/>
          <p:cNvSpPr txBox="1"/>
          <p:nvPr/>
        </p:nvSpPr>
        <p:spPr>
          <a:xfrm>
            <a:off x="2484360" y="3327480"/>
            <a:ext cx="471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Задачи государства: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4" name="Text Box 151589"/>
          <p:cNvSpPr/>
          <p:nvPr/>
        </p:nvSpPr>
        <p:spPr>
          <a:xfrm>
            <a:off x="729720" y="4165560"/>
            <a:ext cx="775944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оддержка конкуренции между участниками хозяй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нных правоотношений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едотвращение образования монопольных пприв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гий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нтроль за различными сторонами экономической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зни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д.Органы Судеб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Text Box 187398"/>
          <p:cNvSpPr/>
          <p:nvPr/>
        </p:nvSpPr>
        <p:spPr>
          <a:xfrm>
            <a:off x="284760" y="1440000"/>
            <a:ext cx="870912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ится на принципах, отражающих сущность и задачи пр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вого государства  и закрепленных в Конституции РФ(гл.7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 Федеральном Конституционном законе «О судебной систем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йской Федерации»(1996 г.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s 187402"/>
          <p:cNvSpPr txBox="1"/>
          <p:nvPr/>
        </p:nvSpPr>
        <p:spPr>
          <a:xfrm>
            <a:off x="3203640" y="836640"/>
            <a:ext cx="2771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судие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0" name="Rectangles 187403"/>
          <p:cNvSpPr txBox="1"/>
          <p:nvPr/>
        </p:nvSpPr>
        <p:spPr>
          <a:xfrm>
            <a:off x="1768320" y="3284640"/>
            <a:ext cx="5899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Судебная система РФ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91" name="Text Box 187404"/>
          <p:cNvSpPr/>
          <p:nvPr/>
        </p:nvSpPr>
        <p:spPr>
          <a:xfrm>
            <a:off x="406440" y="4005360"/>
            <a:ext cx="840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Федеральные суд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Конституционный суд РФ, Верховный суд РФ, Арбитраж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ый суд РФ, военные специализированные суды, суды рес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ублик, краев, областей, городов и др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Суды субъектов Российской Федераци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конституционные суды, мировые судьи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д.Органы Судеб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Rectangles 188419"/>
          <p:cNvSpPr txBox="1"/>
          <p:nvPr/>
        </p:nvSpPr>
        <p:spPr>
          <a:xfrm>
            <a:off x="1187280" y="836640"/>
            <a:ext cx="687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иды судопроизводства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94" name="Group 188426"/>
          <p:cNvGrpSpPr/>
          <p:nvPr/>
        </p:nvGrpSpPr>
        <p:grpSpPr>
          <a:xfrm>
            <a:off x="395280" y="1413000"/>
            <a:ext cx="3096720" cy="792000"/>
            <a:chOff x="395280" y="1413000"/>
            <a:chExt cx="3096720" cy="792000"/>
          </a:xfrm>
        </p:grpSpPr>
        <p:sp>
          <p:nvSpPr>
            <p:cNvPr id="495" name="Rectangles 188420"/>
            <p:cNvSpPr txBox="1"/>
            <p:nvPr/>
          </p:nvSpPr>
          <p:spPr>
            <a:xfrm>
              <a:off x="395280" y="1773360"/>
              <a:ext cx="27367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1. Конституционное</a:t>
              </a:r>
              <a:endParaRPr b="1" lang="en-US" sz="24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96" name="Straight Connector 188425"/>
            <p:cNvSpPr/>
            <p:nvPr/>
          </p:nvSpPr>
          <p:spPr>
            <a:xfrm flipH="1">
              <a:off x="3058920" y="1413000"/>
              <a:ext cx="433080" cy="43164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7" name="Group 188428"/>
          <p:cNvGrpSpPr/>
          <p:nvPr/>
        </p:nvGrpSpPr>
        <p:grpSpPr>
          <a:xfrm>
            <a:off x="1979640" y="1413000"/>
            <a:ext cx="2736720" cy="1439640"/>
            <a:chOff x="1979640" y="1413000"/>
            <a:chExt cx="2736720" cy="1439640"/>
          </a:xfrm>
        </p:grpSpPr>
        <p:sp>
          <p:nvSpPr>
            <p:cNvPr id="498" name="Rectangles 188422"/>
            <p:cNvSpPr txBox="1"/>
            <p:nvPr/>
          </p:nvSpPr>
          <p:spPr>
            <a:xfrm>
              <a:off x="1979640" y="2421000"/>
              <a:ext cx="27367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2.Гражданское</a:t>
              </a:r>
              <a:endParaRPr b="1" lang="en-US" sz="24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99" name="Straight Connector 188427"/>
            <p:cNvSpPr/>
            <p:nvPr/>
          </p:nvSpPr>
          <p:spPr>
            <a:xfrm>
              <a:off x="3492360" y="1413000"/>
              <a:ext cx="0" cy="93636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0" name="Group 188430"/>
          <p:cNvGrpSpPr/>
          <p:nvPr/>
        </p:nvGrpSpPr>
        <p:grpSpPr>
          <a:xfrm>
            <a:off x="5724360" y="1341360"/>
            <a:ext cx="3168720" cy="1440000"/>
            <a:chOff x="5724360" y="1341360"/>
            <a:chExt cx="3168720" cy="1440000"/>
          </a:xfrm>
        </p:grpSpPr>
        <p:sp>
          <p:nvSpPr>
            <p:cNvPr id="501" name="Rectangles 188424"/>
            <p:cNvSpPr txBox="1"/>
            <p:nvPr/>
          </p:nvSpPr>
          <p:spPr>
            <a:xfrm>
              <a:off x="5724360" y="2492280"/>
              <a:ext cx="3168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4.Уголовное</a:t>
              </a:r>
              <a:endParaRPr b="1" lang="en-US" sz="24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502" name="Straight Connector 188429"/>
            <p:cNvSpPr/>
            <p:nvPr/>
          </p:nvSpPr>
          <p:spPr>
            <a:xfrm>
              <a:off x="8028000" y="1341360"/>
              <a:ext cx="0" cy="115092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3" name="Group 188432"/>
          <p:cNvGrpSpPr/>
          <p:nvPr/>
        </p:nvGrpSpPr>
        <p:grpSpPr>
          <a:xfrm>
            <a:off x="4572000" y="1341360"/>
            <a:ext cx="3456000" cy="863640"/>
            <a:chOff x="4572000" y="1341360"/>
            <a:chExt cx="3456000" cy="863640"/>
          </a:xfrm>
        </p:grpSpPr>
        <p:sp>
          <p:nvSpPr>
            <p:cNvPr id="504" name="Rectangles 188423"/>
            <p:cNvSpPr txBox="1"/>
            <p:nvPr/>
          </p:nvSpPr>
          <p:spPr>
            <a:xfrm>
              <a:off x="4572000" y="1773360"/>
              <a:ext cx="31687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3.Административное</a:t>
              </a:r>
              <a:endParaRPr b="1" lang="en-US" sz="24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505" name="Straight Connector 188431"/>
            <p:cNvSpPr/>
            <p:nvPr/>
          </p:nvSpPr>
          <p:spPr>
            <a:xfrm flipH="1">
              <a:off x="7524720" y="1341360"/>
              <a:ext cx="503280" cy="43200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6" name="Rectangles 188433"/>
          <p:cNvSpPr txBox="1"/>
          <p:nvPr/>
        </p:nvSpPr>
        <p:spPr>
          <a:xfrm>
            <a:off x="992160" y="2924280"/>
            <a:ext cx="732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Орган Конституционного контроля-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07" name="Rectangles 188434"/>
          <p:cNvSpPr txBox="1"/>
          <p:nvPr/>
        </p:nvSpPr>
        <p:spPr>
          <a:xfrm>
            <a:off x="2050920" y="35002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Конституционный суд</a:t>
            </a:r>
            <a:endParaRPr b="1" lang="en-US" sz="2400" spc="1" strike="noStrike">
              <a:ln w="19080">
                <a:solidFill>
                  <a:srgbClr val="cc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8" name="Rectangles 188435"/>
          <p:cNvSpPr txBox="1"/>
          <p:nvPr/>
        </p:nvSpPr>
        <p:spPr>
          <a:xfrm>
            <a:off x="1042920" y="4149720"/>
            <a:ext cx="732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Высший судебный орган-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09" name="Rectangles 188436"/>
          <p:cNvSpPr txBox="1"/>
          <p:nvPr/>
        </p:nvSpPr>
        <p:spPr>
          <a:xfrm>
            <a:off x="2050920" y="469584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Верховный суд РФ</a:t>
            </a:r>
            <a:endParaRPr b="1" lang="en-US" sz="2400" spc="1" strike="noStrike">
              <a:ln w="19080">
                <a:solidFill>
                  <a:srgbClr val="cc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0" name="Text Box 188437"/>
          <p:cNvSpPr/>
          <p:nvPr/>
        </p:nvSpPr>
        <p:spPr>
          <a:xfrm>
            <a:off x="402120" y="5229360"/>
            <a:ext cx="843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гражданским, уголовным, административным и иным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лам. Осуществляет надзор за деятельностью подконтр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ных судов и дает разъяснения по вопросам судебной пр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тики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д.Органы Судеб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Rectangles 189460"/>
          <p:cNvSpPr txBox="1"/>
          <p:nvPr/>
        </p:nvSpPr>
        <p:spPr>
          <a:xfrm>
            <a:off x="395280" y="836640"/>
            <a:ext cx="82803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ысший орган по рассмотрению экономических споров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13" name="Rectangles 189461"/>
          <p:cNvSpPr txBox="1"/>
          <p:nvPr/>
        </p:nvSpPr>
        <p:spPr>
          <a:xfrm>
            <a:off x="2174760" y="1413000"/>
            <a:ext cx="5067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Высший Арбитражный суд РФ</a:t>
            </a:r>
            <a:endParaRPr b="1" lang="en-US" sz="2400" spc="1" strike="noStrike">
              <a:ln w="19080">
                <a:solidFill>
                  <a:srgbClr val="cc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4" name="Text Box 189462"/>
          <p:cNvSpPr/>
          <p:nvPr/>
        </p:nvSpPr>
        <p:spPr>
          <a:xfrm>
            <a:off x="452520" y="2092320"/>
            <a:ext cx="844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сматривает споры между предприятиями, уч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ждениями и организациями по вопросам экон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ики и дает разъяснения по вопросам соответ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ующей судебной практики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s 189463"/>
          <p:cNvSpPr txBox="1"/>
          <p:nvPr/>
        </p:nvSpPr>
        <p:spPr>
          <a:xfrm>
            <a:off x="574560" y="3789360"/>
            <a:ext cx="802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Носитель судебной власти - СУДЬИ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516" name="Text Box 189464"/>
          <p:cNvSpPr/>
          <p:nvPr/>
        </p:nvSpPr>
        <p:spPr>
          <a:xfrm>
            <a:off x="322200" y="433548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делены полномочиями по Конституции и испол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яют обязанности на профессиональной основе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Text Box 189465"/>
          <p:cNvSpPr/>
          <p:nvPr/>
        </p:nvSpPr>
        <p:spPr>
          <a:xfrm>
            <a:off x="158400" y="5337000"/>
            <a:ext cx="880344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удьи КС, ВС, ВАС назначаются Советом Федерации по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едставлению Президента РФ. Остальные назначаются Пр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идентом в установленном порядке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е.Прокуратур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Rectangles 190472"/>
          <p:cNvSpPr txBox="1"/>
          <p:nvPr/>
        </p:nvSpPr>
        <p:spPr>
          <a:xfrm>
            <a:off x="179280" y="1415880"/>
            <a:ext cx="291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Прокуратура</a:t>
            </a:r>
            <a:endParaRPr b="1" lang="en-US" sz="2400" spc="1" strike="noStrike">
              <a:ln w="19080">
                <a:solidFill>
                  <a:srgbClr val="ffff00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520" name="Text Box 190473"/>
          <p:cNvSpPr/>
          <p:nvPr/>
        </p:nvSpPr>
        <p:spPr>
          <a:xfrm>
            <a:off x="3968640" y="868320"/>
            <a:ext cx="501012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Единая централизованная систем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 подчинением нижестоящих пр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уроров вышестоящим и Генер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льному прокурору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Straight Connector 190474"/>
          <p:cNvSpPr/>
          <p:nvPr/>
        </p:nvSpPr>
        <p:spPr>
          <a:xfrm>
            <a:off x="3203640" y="168264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s 190475"/>
          <p:cNvSpPr txBox="1"/>
          <p:nvPr/>
        </p:nvSpPr>
        <p:spPr>
          <a:xfrm>
            <a:off x="3564000" y="2565360"/>
            <a:ext cx="217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Функции: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3" name="Text Box 190476"/>
          <p:cNvSpPr/>
          <p:nvPr/>
        </p:nvSpPr>
        <p:spPr>
          <a:xfrm>
            <a:off x="180360" y="3182760"/>
            <a:ext cx="8806680" cy="33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дзор за исполнением законов федеральными министер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ами и ведомствами,представительными и исполнительны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ами субъектов Федерации и т.д. и за соответствие изд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аемых ими нормативных актов федеральным законам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дзор за соблюдением прав и свобод человека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дзор за соблюдением законов органами следствия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ознание и предварительное следствие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дзор за соблюдением законов органами исполнения нак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ний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е.Прокуратур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Rectangles 191493"/>
          <p:cNvSpPr txBox="1"/>
          <p:nvPr/>
        </p:nvSpPr>
        <p:spPr>
          <a:xfrm>
            <a:off x="2871720" y="765000"/>
            <a:ext cx="360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Особая функция:</a:t>
            </a:r>
            <a:endParaRPr b="1" lang="en-US" sz="2400" spc="1" strike="noStrike">
              <a:ln w="1908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526" name="Text Box 191495"/>
          <p:cNvSpPr/>
          <p:nvPr/>
        </p:nvSpPr>
        <p:spPr>
          <a:xfrm>
            <a:off x="565200" y="1197000"/>
            <a:ext cx="82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астие в рассмотрении дел судами – поддержк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сударственного обвинен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Rectangles 191496"/>
          <p:cNvSpPr txBox="1"/>
          <p:nvPr/>
        </p:nvSpPr>
        <p:spPr>
          <a:xfrm>
            <a:off x="2871720" y="2174760"/>
            <a:ext cx="360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Иные функции:</a:t>
            </a:r>
            <a:endParaRPr b="1" lang="en-US" sz="2400" spc="1" strike="noStrike">
              <a:ln w="1908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528" name="Text Box 191497"/>
          <p:cNvSpPr/>
          <p:nvPr/>
        </p:nvSpPr>
        <p:spPr>
          <a:xfrm>
            <a:off x="61200" y="2637000"/>
            <a:ext cx="908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защита прав потерпевшего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участие в правотворческой деятельности государ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s 191498"/>
          <p:cNvSpPr txBox="1"/>
          <p:nvPr/>
        </p:nvSpPr>
        <p:spPr>
          <a:xfrm>
            <a:off x="1979640" y="3500280"/>
            <a:ext cx="48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Генеральный прокурор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30" name="Text Box 191499"/>
          <p:cNvSpPr/>
          <p:nvPr/>
        </p:nvSpPr>
        <p:spPr>
          <a:xfrm>
            <a:off x="222840" y="4149720"/>
            <a:ext cx="87472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Назначается и освобождается Советом Федерации по предс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авлению Президента РФ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Прокурору субъектов Федерации назначаются Генеральны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курором, по согласованию с субъектами Федерации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Text Box 191500"/>
          <p:cNvSpPr/>
          <p:nvPr/>
        </p:nvSpPr>
        <p:spPr>
          <a:xfrm>
            <a:off x="163440" y="5775480"/>
            <a:ext cx="88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куратура действует на основании закона  «О Пр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ратуре Российской Федерации» от 17 ноября 1995 г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Экономическая и социальная системы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Text Box 159746"/>
          <p:cNvSpPr/>
          <p:nvPr/>
        </p:nvSpPr>
        <p:spPr>
          <a:xfrm>
            <a:off x="3032280" y="858960"/>
            <a:ext cx="58636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В РФ гарантируется единство эконом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еского пространства, свободное перем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щение товаров и услуг и финансовых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редств, поддержка конкуренции, своб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а экономической деятельности.»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s 159752"/>
          <p:cNvSpPr txBox="1"/>
          <p:nvPr/>
        </p:nvSpPr>
        <p:spPr>
          <a:xfrm>
            <a:off x="250920" y="836640"/>
            <a:ext cx="259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Конституция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68" name="Text Box 159753"/>
          <p:cNvSpPr/>
          <p:nvPr/>
        </p:nvSpPr>
        <p:spPr>
          <a:xfrm>
            <a:off x="788040" y="2421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8, ч.1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159754"/>
          <p:cNvSpPr/>
          <p:nvPr/>
        </p:nvSpPr>
        <p:spPr>
          <a:xfrm>
            <a:off x="805680" y="427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8, ч.2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159755"/>
          <p:cNvSpPr/>
          <p:nvPr/>
        </p:nvSpPr>
        <p:spPr>
          <a:xfrm>
            <a:off x="2987640" y="2997360"/>
            <a:ext cx="597708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кономической системе РФ присущ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ственность в различных формах-ч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тная,государственная,муниципальна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 др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59756" descr="j0283207"/>
          <p:cNvPicPr/>
          <p:nvPr/>
        </p:nvPicPr>
        <p:blipFill>
          <a:blip r:embed="rId3"/>
          <a:stretch/>
        </p:blipFill>
        <p:spPr>
          <a:xfrm>
            <a:off x="871560" y="1413000"/>
            <a:ext cx="1324080" cy="107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9757" descr="j0290341"/>
          <p:cNvPicPr/>
          <p:nvPr/>
        </p:nvPicPr>
        <p:blipFill>
          <a:blip r:embed="rId4"/>
          <a:stretch/>
        </p:blipFill>
        <p:spPr>
          <a:xfrm>
            <a:off x="1062000" y="3068640"/>
            <a:ext cx="895320" cy="1206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3" name="Text Box 159758"/>
          <p:cNvSpPr/>
          <p:nvPr/>
        </p:nvSpPr>
        <p:spPr>
          <a:xfrm>
            <a:off x="2987640" y="4748040"/>
            <a:ext cx="597708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я и природные ресурсы могут нахо-диться в частной, государственной, му-ниципальной  и т.д. собственности.Они используются как основа жизни и дея-тельности народов, проживающих в РФ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59759"/>
          <p:cNvSpPr/>
          <p:nvPr/>
        </p:nvSpPr>
        <p:spPr>
          <a:xfrm>
            <a:off x="1112400" y="628488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9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159760" descr="j0285402"/>
          <p:cNvPicPr/>
          <p:nvPr/>
        </p:nvPicPr>
        <p:blipFill>
          <a:blip r:embed="rId6"/>
          <a:stretch/>
        </p:blipFill>
        <p:spPr>
          <a:xfrm>
            <a:off x="755640" y="5010120"/>
            <a:ext cx="1512720" cy="12272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Экономическая и социальная системы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Rectangles 160771"/>
          <p:cNvSpPr txBox="1"/>
          <p:nvPr/>
        </p:nvSpPr>
        <p:spPr>
          <a:xfrm>
            <a:off x="395280" y="950760"/>
            <a:ext cx="2592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РФ</a:t>
            </a:r>
            <a:endParaRPr b="1" lang="en-US" sz="2400" spc="1" strike="noStrike">
              <a:ln w="28440">
                <a:solidFill>
                  <a:srgbClr val="ff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78" name="Text Box 160777"/>
          <p:cNvSpPr/>
          <p:nvPr/>
        </p:nvSpPr>
        <p:spPr>
          <a:xfrm>
            <a:off x="539640" y="3860640"/>
            <a:ext cx="81360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В РФ охраняются труд и здоровье людей, устанавлива-ется минимальный размер оплаты труда, обеспечивает-ся государственная поддержка семьи,материнства,отцо-вства,и детства, инвалидов и пожилых граждан, разви-вается системасоциальных служб, устанавливаются го-сударственный пенсии, пособия и иные социальные га-рантии.»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60778"/>
          <p:cNvSpPr/>
          <p:nvPr/>
        </p:nvSpPr>
        <p:spPr>
          <a:xfrm>
            <a:off x="1131480" y="198900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7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Rectangles 160780" descr=""/>
          <p:cNvPicPr/>
          <p:nvPr/>
        </p:nvPicPr>
        <p:blipFill>
          <a:blip r:embed="rId2"/>
          <a:stretch/>
        </p:blipFill>
        <p:spPr>
          <a:xfrm>
            <a:off x="3262320" y="893880"/>
            <a:ext cx="5479920" cy="1095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s 160781"/>
          <p:cNvSpPr txBox="1"/>
          <p:nvPr/>
        </p:nvSpPr>
        <p:spPr>
          <a:xfrm>
            <a:off x="2916360" y="2133720"/>
            <a:ext cx="3381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Главная задача:</a:t>
            </a:r>
            <a:endParaRPr b="1" lang="en-US" sz="2400" spc="1" strike="noStrike">
              <a:ln w="9360">
                <a:solidFill>
                  <a:srgbClr val="800000"/>
                </a:solidFill>
                <a:round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2" name="Text Box 160782"/>
          <p:cNvSpPr/>
          <p:nvPr/>
        </p:nvSpPr>
        <p:spPr>
          <a:xfrm>
            <a:off x="371880" y="2708280"/>
            <a:ext cx="84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претворение в жизнь закрепленных правом прин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ипов социального равенства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Экономическая и социальная системы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Rectangles 161794"/>
          <p:cNvSpPr txBox="1"/>
          <p:nvPr/>
        </p:nvSpPr>
        <p:spPr>
          <a:xfrm>
            <a:off x="395280" y="950760"/>
            <a:ext cx="2592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РФ</a:t>
            </a:r>
            <a:endParaRPr b="1" lang="en-US" sz="2400" spc="1" strike="noStrike">
              <a:ln w="28440">
                <a:solidFill>
                  <a:srgbClr val="ff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85" name="Rectangles 161797" descr=""/>
          <p:cNvPicPr/>
          <p:nvPr/>
        </p:nvPicPr>
        <p:blipFill>
          <a:blip r:embed="rId1"/>
          <a:stretch/>
        </p:blipFill>
        <p:spPr>
          <a:xfrm>
            <a:off x="3262320" y="893880"/>
            <a:ext cx="5479920" cy="10951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61819"/>
          <p:cNvGrpSpPr/>
          <p:nvPr/>
        </p:nvGrpSpPr>
        <p:grpSpPr>
          <a:xfrm>
            <a:off x="3107880" y="1989000"/>
            <a:ext cx="3550320" cy="4815720"/>
            <a:chOff x="3107880" y="1989000"/>
            <a:chExt cx="3550320" cy="4815720"/>
          </a:xfrm>
        </p:grpSpPr>
        <p:pic>
          <p:nvPicPr>
            <p:cNvPr id="187" name="Picture 161816" descr="j0250259"/>
            <p:cNvPicPr/>
            <p:nvPr/>
          </p:nvPicPr>
          <p:blipFill>
            <a:blip r:embed="rId2"/>
            <a:stretch/>
          </p:blipFill>
          <p:spPr>
            <a:xfrm>
              <a:off x="4397400" y="4724280"/>
              <a:ext cx="971640" cy="90972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188" name="Text Box 161817"/>
            <p:cNvSpPr/>
            <p:nvPr/>
          </p:nvSpPr>
          <p:spPr>
            <a:xfrm>
              <a:off x="3107880" y="5796000"/>
              <a:ext cx="3550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Право на благоприятную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кружающую среду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Труд(с.37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Straight Connector 161818"/>
            <p:cNvSpPr/>
            <p:nvPr/>
          </p:nvSpPr>
          <p:spPr>
            <a:xfrm>
              <a:off x="4859280" y="1989000"/>
              <a:ext cx="0" cy="2664000"/>
            </a:xfrm>
            <a:prstGeom prst="line">
              <a:avLst/>
            </a:prstGeom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0" name="Group 161823"/>
          <p:cNvGrpSpPr/>
          <p:nvPr/>
        </p:nvGrpSpPr>
        <p:grpSpPr>
          <a:xfrm>
            <a:off x="190440" y="1989000"/>
            <a:ext cx="4668840" cy="4682160"/>
            <a:chOff x="190440" y="1989000"/>
            <a:chExt cx="4668840" cy="4682160"/>
          </a:xfrm>
        </p:grpSpPr>
        <p:pic>
          <p:nvPicPr>
            <p:cNvPr id="191" name="Picture 161812" descr="j0233532"/>
            <p:cNvPicPr/>
            <p:nvPr/>
          </p:nvPicPr>
          <p:blipFill>
            <a:blip r:embed="rId3"/>
            <a:stretch/>
          </p:blipFill>
          <p:spPr>
            <a:xfrm>
              <a:off x="1179360" y="4886280"/>
              <a:ext cx="806760" cy="105264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192" name="Text Box 161813"/>
            <p:cNvSpPr/>
            <p:nvPr/>
          </p:nvSpPr>
          <p:spPr>
            <a:xfrm>
              <a:off x="190440" y="5967360"/>
              <a:ext cx="280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храна здоровья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и мед.помощь(с.41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Straight Connector 161820"/>
            <p:cNvSpPr/>
            <p:nvPr/>
          </p:nvSpPr>
          <p:spPr>
            <a:xfrm flipH="1">
              <a:off x="2124000" y="1989000"/>
              <a:ext cx="2735280" cy="2808360"/>
            </a:xfrm>
            <a:prstGeom prst="line">
              <a:avLst/>
            </a:prstGeom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4" name="Group 161822"/>
          <p:cNvGrpSpPr/>
          <p:nvPr/>
        </p:nvGrpSpPr>
        <p:grpSpPr>
          <a:xfrm>
            <a:off x="4861080" y="1989000"/>
            <a:ext cx="4139640" cy="4682160"/>
            <a:chOff x="4861080" y="1989000"/>
            <a:chExt cx="4139640" cy="4682160"/>
          </a:xfrm>
        </p:grpSpPr>
        <p:pic>
          <p:nvPicPr>
            <p:cNvPr id="195" name="Picture 161814" descr="j0279242"/>
            <p:cNvPicPr/>
            <p:nvPr/>
          </p:nvPicPr>
          <p:blipFill>
            <a:blip r:embed="rId4"/>
            <a:stretch/>
          </p:blipFill>
          <p:spPr>
            <a:xfrm>
              <a:off x="7234200" y="4869000"/>
              <a:ext cx="933480" cy="96660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196" name="Text Box 161815"/>
            <p:cNvSpPr/>
            <p:nvPr/>
          </p:nvSpPr>
          <p:spPr>
            <a:xfrm>
              <a:off x="6402960" y="5967360"/>
              <a:ext cx="2597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Право на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бразование(с.43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Straight Connector 161821"/>
            <p:cNvSpPr/>
            <p:nvPr/>
          </p:nvSpPr>
          <p:spPr>
            <a:xfrm>
              <a:off x="4861080" y="1989000"/>
              <a:ext cx="2735280" cy="2808360"/>
            </a:xfrm>
            <a:prstGeom prst="line">
              <a:avLst/>
            </a:prstGeom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8" name="Group 161827"/>
          <p:cNvGrpSpPr/>
          <p:nvPr/>
        </p:nvGrpSpPr>
        <p:grpSpPr>
          <a:xfrm>
            <a:off x="240120" y="1989000"/>
            <a:ext cx="4619160" cy="2431080"/>
            <a:chOff x="240120" y="1989000"/>
            <a:chExt cx="4619160" cy="2431080"/>
          </a:xfrm>
        </p:grpSpPr>
        <p:pic>
          <p:nvPicPr>
            <p:cNvPr id="199" name="Picture 161800" descr="j0150102"/>
            <p:cNvPicPr/>
            <p:nvPr/>
          </p:nvPicPr>
          <p:blipFill>
            <a:blip r:embed="rId5"/>
            <a:stretch/>
          </p:blipFill>
          <p:spPr>
            <a:xfrm>
              <a:off x="433440" y="2708280"/>
              <a:ext cx="1325520" cy="99360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200" name="Text Box 161801"/>
            <p:cNvSpPr/>
            <p:nvPr/>
          </p:nvSpPr>
          <p:spPr>
            <a:xfrm>
              <a:off x="240120" y="3716280"/>
              <a:ext cx="171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Свободный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труд(с.37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Straight Connector 161824"/>
            <p:cNvSpPr/>
            <p:nvPr/>
          </p:nvSpPr>
          <p:spPr>
            <a:xfrm flipH="1">
              <a:off x="1835280" y="1989000"/>
              <a:ext cx="3024000" cy="64800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61826"/>
          <p:cNvGrpSpPr/>
          <p:nvPr/>
        </p:nvGrpSpPr>
        <p:grpSpPr>
          <a:xfrm>
            <a:off x="4861080" y="1989000"/>
            <a:ext cx="4078440" cy="2431080"/>
            <a:chOff x="4861080" y="1989000"/>
            <a:chExt cx="4078440" cy="2431080"/>
          </a:xfrm>
        </p:grpSpPr>
        <p:pic>
          <p:nvPicPr>
            <p:cNvPr id="203" name="Picture 161810" descr="j0198216"/>
            <p:cNvPicPr/>
            <p:nvPr/>
          </p:nvPicPr>
          <p:blipFill>
            <a:blip r:embed="rId6"/>
            <a:stretch/>
          </p:blipFill>
          <p:spPr>
            <a:xfrm>
              <a:off x="7710480" y="2749680"/>
              <a:ext cx="633600" cy="95400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204" name="Text Box 161811"/>
            <p:cNvSpPr/>
            <p:nvPr/>
          </p:nvSpPr>
          <p:spPr>
            <a:xfrm>
              <a:off x="7065720" y="3716280"/>
              <a:ext cx="187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Социальная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защита(с.39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Straight Connector 161825"/>
            <p:cNvSpPr/>
            <p:nvPr/>
          </p:nvSpPr>
          <p:spPr>
            <a:xfrm>
              <a:off x="4861080" y="1989000"/>
              <a:ext cx="3024000" cy="64800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6" name="Group 161829"/>
          <p:cNvGrpSpPr/>
          <p:nvPr/>
        </p:nvGrpSpPr>
        <p:grpSpPr>
          <a:xfrm>
            <a:off x="2673720" y="1989000"/>
            <a:ext cx="2185560" cy="2431080"/>
            <a:chOff x="2673720" y="1989000"/>
            <a:chExt cx="2185560" cy="2431080"/>
          </a:xfrm>
        </p:grpSpPr>
        <p:sp>
          <p:nvSpPr>
            <p:cNvPr id="207" name="Rectangles 161804"/>
            <p:cNvSpPr/>
            <p:nvPr/>
          </p:nvSpPr>
          <p:spPr>
            <a:xfrm>
              <a:off x="2847960" y="2708280"/>
              <a:ext cx="1368360" cy="1008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08" name="Picture 161803" descr="j0223758"/>
            <p:cNvPicPr/>
            <p:nvPr/>
          </p:nvPicPr>
          <p:blipFill>
            <a:blip r:embed="rId7"/>
            <a:stretch/>
          </p:blipFill>
          <p:spPr>
            <a:xfrm>
              <a:off x="2919240" y="2874960"/>
              <a:ext cx="123048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61806"/>
            <p:cNvSpPr/>
            <p:nvPr/>
          </p:nvSpPr>
          <p:spPr>
            <a:xfrm>
              <a:off x="2673720" y="3716280"/>
              <a:ext cx="168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Право на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дых(с.37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Straight Connector 161828"/>
            <p:cNvSpPr/>
            <p:nvPr/>
          </p:nvSpPr>
          <p:spPr>
            <a:xfrm flipH="1">
              <a:off x="3635280" y="1989000"/>
              <a:ext cx="1224000" cy="64800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1" name="Group 161831"/>
          <p:cNvGrpSpPr/>
          <p:nvPr/>
        </p:nvGrpSpPr>
        <p:grpSpPr>
          <a:xfrm>
            <a:off x="4859280" y="1989000"/>
            <a:ext cx="2200680" cy="2666160"/>
            <a:chOff x="4859280" y="1989000"/>
            <a:chExt cx="2200680" cy="2666160"/>
          </a:xfrm>
        </p:grpSpPr>
        <p:pic>
          <p:nvPicPr>
            <p:cNvPr id="212" name="Picture 161808" descr="j0186352"/>
            <p:cNvPicPr/>
            <p:nvPr/>
          </p:nvPicPr>
          <p:blipFill>
            <a:blip r:embed="rId8"/>
            <a:stretch/>
          </p:blipFill>
          <p:spPr>
            <a:xfrm>
              <a:off x="5559480" y="2747880"/>
              <a:ext cx="814320" cy="95400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213" name="Text Box 161809"/>
            <p:cNvSpPr/>
            <p:nvPr/>
          </p:nvSpPr>
          <p:spPr>
            <a:xfrm>
              <a:off x="4914720" y="3646440"/>
              <a:ext cx="2145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храна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материнства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и детства(с.38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Straight Connector 161830"/>
            <p:cNvSpPr/>
            <p:nvPr/>
          </p:nvSpPr>
          <p:spPr>
            <a:xfrm>
              <a:off x="4859280" y="1989000"/>
              <a:ext cx="1081080" cy="64800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литическая систе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Rectangles 162819"/>
          <p:cNvSpPr txBox="1"/>
          <p:nvPr/>
        </p:nvSpPr>
        <p:spPr>
          <a:xfrm>
            <a:off x="1979640" y="765000"/>
            <a:ext cx="54514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Основные принципы: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17" name="Text Box 162849"/>
          <p:cNvSpPr/>
          <p:nvPr/>
        </p:nvSpPr>
        <p:spPr>
          <a:xfrm>
            <a:off x="594360" y="1352520"/>
            <a:ext cx="805212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демократизм, выражающийся в народно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увернитете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разделение властей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идеологическое и политическое многообразие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признание и гарантированность мест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амоуправления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провозглашение правового государства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s 162850"/>
          <p:cNvSpPr txBox="1"/>
          <p:nvPr/>
        </p:nvSpPr>
        <p:spPr>
          <a:xfrm>
            <a:off x="250920" y="4340160"/>
            <a:ext cx="259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Конституция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19" name="Text Box 162851"/>
          <p:cNvSpPr/>
          <p:nvPr/>
        </p:nvSpPr>
        <p:spPr>
          <a:xfrm>
            <a:off x="1101240" y="484344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3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62852"/>
          <p:cNvSpPr/>
          <p:nvPr/>
        </p:nvSpPr>
        <p:spPr>
          <a:xfrm>
            <a:off x="3205440" y="4402080"/>
            <a:ext cx="5415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ситель сувернитета и един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нный источник власти-народ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62853"/>
          <p:cNvSpPr/>
          <p:nvPr/>
        </p:nvSpPr>
        <p:spPr>
          <a:xfrm>
            <a:off x="426240" y="563076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Никто не может присваивать власть в РФ.Захват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ласти преследуется по закону.(Ст.3,ч.4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литическая систе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23" name="Group 163856"/>
          <p:cNvGrpSpPr/>
          <p:nvPr/>
        </p:nvGrpSpPr>
        <p:grpSpPr>
          <a:xfrm>
            <a:off x="693720" y="2349360"/>
            <a:ext cx="8315280" cy="2288520"/>
            <a:chOff x="693720" y="2349360"/>
            <a:chExt cx="8315280" cy="2288520"/>
          </a:xfrm>
        </p:grpSpPr>
        <p:sp>
          <p:nvSpPr>
            <p:cNvPr id="224" name="Text Box 163845"/>
            <p:cNvSpPr/>
            <p:nvPr/>
          </p:nvSpPr>
          <p:spPr>
            <a:xfrm>
              <a:off x="955800" y="41641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т.10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Text Box 163848"/>
            <p:cNvSpPr/>
            <p:nvPr/>
          </p:nvSpPr>
          <p:spPr>
            <a:xfrm>
              <a:off x="2916360" y="2349360"/>
              <a:ext cx="6092640" cy="2288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Государственная власть в РФ осу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ществляется на основе разделения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на законодательную, исполнитель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ную, и судебную.Они не вправе вы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ходить за пределы своих полномо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чий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26" name="Picture 163849" descr="j0346765"/>
            <p:cNvPicPr/>
            <p:nvPr/>
          </p:nvPicPr>
          <p:blipFill>
            <a:blip r:embed="rId2"/>
            <a:stretch/>
          </p:blipFill>
          <p:spPr>
            <a:xfrm>
              <a:off x="693720" y="2508120"/>
              <a:ext cx="1501920" cy="15112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</p:grpSp>
      <p:grpSp>
        <p:nvGrpSpPr>
          <p:cNvPr id="227" name="Group 163855"/>
          <p:cNvGrpSpPr/>
          <p:nvPr/>
        </p:nvGrpSpPr>
        <p:grpSpPr>
          <a:xfrm>
            <a:off x="179280" y="765000"/>
            <a:ext cx="8856720" cy="1191240"/>
            <a:chOff x="179280" y="765000"/>
            <a:chExt cx="8856720" cy="1191240"/>
          </a:xfrm>
        </p:grpSpPr>
        <p:sp>
          <p:nvSpPr>
            <p:cNvPr id="228" name="Rectangles 163844"/>
            <p:cNvSpPr txBox="1"/>
            <p:nvPr/>
          </p:nvSpPr>
          <p:spPr>
            <a:xfrm>
              <a:off x="179280" y="836640"/>
              <a:ext cx="25923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Конституция</a:t>
              </a:r>
              <a:endParaRPr b="1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229" name="Text Box 163846"/>
            <p:cNvSpPr/>
            <p:nvPr/>
          </p:nvSpPr>
          <p:spPr>
            <a:xfrm>
              <a:off x="2914560" y="765000"/>
              <a:ext cx="6121440" cy="1191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ысшим непосредственным выра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жением власти являются референ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дум и свободные выборы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Text Box 163850"/>
            <p:cNvSpPr/>
            <p:nvPr/>
          </p:nvSpPr>
          <p:spPr>
            <a:xfrm>
              <a:off x="789840" y="148428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т.3,ч.3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1" name="Group 163854"/>
          <p:cNvGrpSpPr/>
          <p:nvPr/>
        </p:nvGrpSpPr>
        <p:grpSpPr>
          <a:xfrm>
            <a:off x="611280" y="4973760"/>
            <a:ext cx="8426520" cy="1913760"/>
            <a:chOff x="611280" y="4973760"/>
            <a:chExt cx="8426520" cy="1913760"/>
          </a:xfrm>
        </p:grpSpPr>
        <p:sp>
          <p:nvSpPr>
            <p:cNvPr id="232" name="Text Box 163851"/>
            <p:cNvSpPr/>
            <p:nvPr/>
          </p:nvSpPr>
          <p:spPr>
            <a:xfrm>
              <a:off x="1015560" y="6427800"/>
              <a:ext cx="8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т.5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33" name="Picture 163852" descr="j0231968"/>
            <p:cNvPicPr/>
            <p:nvPr/>
          </p:nvPicPr>
          <p:blipFill>
            <a:blip r:embed="rId4">
              <a:lum bright="12000"/>
            </a:blip>
            <a:stretch/>
          </p:blipFill>
          <p:spPr>
            <a:xfrm>
              <a:off x="611280" y="5010120"/>
              <a:ext cx="1655640" cy="13701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34" name="Text Box 163853"/>
            <p:cNvSpPr/>
            <p:nvPr/>
          </p:nvSpPr>
          <p:spPr>
            <a:xfrm>
              <a:off x="2916360" y="4973760"/>
              <a:ext cx="6121440" cy="1557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очетание разделения властей с принципом разграничения предме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тов ведения и полномочий между Центром и субъектами РФ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литическая систе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Rectangles 164871"/>
          <p:cNvSpPr txBox="1"/>
          <p:nvPr/>
        </p:nvSpPr>
        <p:spPr>
          <a:xfrm>
            <a:off x="395280" y="1023840"/>
            <a:ext cx="259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Демократия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7" name="Text Box 164878"/>
          <p:cNvSpPr/>
          <p:nvPr/>
        </p:nvSpPr>
        <p:spPr>
          <a:xfrm>
            <a:off x="3116880" y="849240"/>
            <a:ext cx="56185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ahoma"/>
              </a:rPr>
              <a:t>Реализуется на основе принцип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ahoma"/>
              </a:rPr>
              <a:t>политического многообраз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8" name="Group 164881"/>
          <p:cNvGrpSpPr/>
          <p:nvPr/>
        </p:nvGrpSpPr>
        <p:grpSpPr>
          <a:xfrm>
            <a:off x="1804680" y="1435680"/>
            <a:ext cx="6554160" cy="1084680"/>
            <a:chOff x="1804680" y="1435680"/>
            <a:chExt cx="6554160" cy="1084680"/>
          </a:xfrm>
        </p:grpSpPr>
        <p:sp>
          <p:nvSpPr>
            <p:cNvPr id="239" name="Text Box 164879"/>
            <p:cNvSpPr/>
            <p:nvPr/>
          </p:nvSpPr>
          <p:spPr>
            <a:xfrm>
              <a:off x="1804680" y="2060640"/>
              <a:ext cx="65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снова-идеологическое многообразие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Curved Right Arrow 164880"/>
            <p:cNvSpPr/>
            <p:nvPr/>
          </p:nvSpPr>
          <p:spPr>
            <a:xfrm rot="2772000">
              <a:off x="2468160" y="1395720"/>
              <a:ext cx="288720" cy="936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163800 h 936360"/>
                <a:gd name="textAreaBottom" fmla="*/ 67896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1" name="Text Box 164882"/>
          <p:cNvSpPr/>
          <p:nvPr/>
        </p:nvSpPr>
        <p:spPr>
          <a:xfrm>
            <a:off x="473040" y="34034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3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64883"/>
          <p:cNvSpPr/>
          <p:nvPr/>
        </p:nvSpPr>
        <p:spPr>
          <a:xfrm>
            <a:off x="260820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64885"/>
          <p:cNvSpPr/>
          <p:nvPr/>
        </p:nvSpPr>
        <p:spPr>
          <a:xfrm>
            <a:off x="1790640" y="2602080"/>
            <a:ext cx="6918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Никакая идеология не может устанавл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аться в качестве государственной 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бязательной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в РФ признается многопартийность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общественные объединения равн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еред законо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Group 164888"/>
          <p:cNvGrpSpPr/>
          <p:nvPr/>
        </p:nvGrpSpPr>
        <p:grpSpPr>
          <a:xfrm>
            <a:off x="395280" y="5457960"/>
            <a:ext cx="8332560" cy="1066680"/>
            <a:chOff x="395280" y="5457960"/>
            <a:chExt cx="8332560" cy="1066680"/>
          </a:xfrm>
        </p:grpSpPr>
        <p:sp>
          <p:nvSpPr>
            <p:cNvPr id="245" name="Rectangles 164886"/>
            <p:cNvSpPr txBox="1"/>
            <p:nvPr/>
          </p:nvSpPr>
          <p:spPr>
            <a:xfrm>
              <a:off x="395280" y="5513400"/>
              <a:ext cx="2587680" cy="86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cc00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РФ</a:t>
              </a:r>
              <a:endParaRPr b="1" lang="en-US" sz="2400" spc="1" strike="noStrike">
                <a:ln w="2844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pic>
          <p:nvPicPr>
            <p:cNvPr id="246" name="Rectangles 164887" descr=""/>
            <p:cNvPicPr/>
            <p:nvPr/>
          </p:nvPicPr>
          <p:blipFill>
            <a:blip r:embed="rId3"/>
            <a:stretch/>
          </p:blipFill>
          <p:spPr>
            <a:xfrm>
              <a:off x="3257280" y="5457960"/>
              <a:ext cx="547056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 Box 164889"/>
          <p:cNvSpPr/>
          <p:nvPr/>
        </p:nvSpPr>
        <p:spPr>
          <a:xfrm>
            <a:off x="1012320" y="623736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user</cp:lastModifiedBy>
  <dcterms:modified xsi:type="dcterms:W3CDTF">2020-11-14T15:05:07Z</dcterms:modified>
  <cp:revision>1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669</vt:lpwstr>
  </property>
  <property fmtid="{D5CDD505-2E9C-101B-9397-08002B2CF9AE}" pid="3" name="Version">
    <vt:r8>8</vt:r8>
  </property>
</Properties>
</file>