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278240" y="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ldNum" idx="1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C3741-19AE-466E-8455-A0CC83AEEE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8ECFD-1F5A-487E-819E-8A87CAE2D2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90DE9-C808-4546-B944-0673CE52E4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F2B4D-7142-4DDB-B106-4F1B3FA340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98794-B7B9-4844-A62B-A39587B028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97775-4CDC-4914-961D-60E826F2FC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A4130-7E2B-4E2C-A72A-21D619B4C0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8B2E3-6875-4444-B85D-A2D6FD35A6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04D72-6203-488F-95F7-96A3921D48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D3A7B-CC3B-4D35-853D-2E72AE340E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178AF-F290-48AE-8B9A-EA52489FB5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40458-5E4B-4696-9AA0-7BEF71D437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1AD14-3FBA-4436-9EF7-A12FE682F6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28ED9-117E-4DF4-9E55-D0FA16C02C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B58C2-09F4-4450-9A18-184883B590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DA9CA-60E4-47CA-9391-E05A18DD98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AB713-EE04-4C1E-AB60-C4323EB49D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BFFBA-CF49-4F5E-BFF3-F45EBB166E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DC5AC-14A0-4306-BFE1-DB7C5058E0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74988-2D62-467C-95B0-A00AED6905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CDAE4-F9C1-4182-9A11-14C8915D94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6CEFC-B0C2-4077-8030-3FAD8BB987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18A2-6D99-4860-92FC-BDB3359D5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FAE5-4CD1-4FE2-9794-6ED88A51C96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EB60A-E13C-4A18-B82F-02D540E2BF3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73FBC-7D02-4E15-8E15-6972F67CDA8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C1BE3-760D-455B-81FB-07C8E08D5D4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841C2-D345-4C36-893A-E040B26E8FE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9A2BC-2FEF-4EF2-830F-6E458CA9097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48970-6235-4136-BC08-27AD7233D90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4FC31-D546-4763-B198-5A9C274F40C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64179-98A0-4C2C-A4A4-BABA5CC03AB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AC1F3-5135-4A4A-AACD-B25B4865BFD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6E87E8-D1B1-4701-95AC-1A6FDB4EF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AC524-3724-4E7C-942C-E50ABF34FC1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DF2C07-8573-40CE-AD61-475B8E02556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9529E5-6BE7-450B-B7E7-7BC234C1133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2E8691-EF11-4CBE-AC62-59B9FFED123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AAF388-82E2-45B8-97A5-F2C1294A78A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B4B264-FD16-4950-9656-B3E33C87902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5104C6-C6D4-488F-BAB3-7489FBCB183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81EAFB-AC40-4533-A698-AC56ABE487F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62FECD-F56E-4C7D-B45E-306C9EA83A8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0D6ED0-9CE1-46B2-874E-B47A5647599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E5BDB1-D384-433D-97BD-DD666C12D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7BC3-B7CE-4E56-8CE8-A52FBC115E5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BF9047-D098-4967-BBB1-1B7A91EC992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4FC3BF-24DC-458F-B79F-41C6F077D60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B46B83-3692-4594-9790-6E62AA32FB3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A78263-7CE9-4CF2-B049-7561157AFF8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9B1EC9-F02E-4C40-ACF5-0AB6ABCAD9E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E7210F-354A-42EC-A4AF-2D748D7EE71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0FD346-F615-4722-9B47-3B7AE7DA0DA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ACDB39-D22E-428A-9DE1-6A670D35154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F4F014-C891-4240-B23E-B8D0B74953D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8CB27E-3186-408D-855D-30EDFB066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52299-2CE0-42D8-8FA2-EA5084683C4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F8A86E-5D80-4571-A4B6-4F8EA3D4FE3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2645FC-745B-4D85-A42F-23FE79DB5FD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B75D19-5B9C-4B9B-90AD-BFCB4819945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F532A-1983-4E49-88B7-2B2A04250A7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754FB-8670-47C6-AF85-98ADCFB9E50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287DD-DAE9-4D74-80DB-FB7AEC1F35B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683D3-DE9C-46DF-A0AB-418A28BBF80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5DE59-53A8-463F-98DD-A377130D183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BADB9-C44B-4463-B347-A6FD3346998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609F2-0208-4953-92B0-B075B13364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1388-F251-49A3-A674-3E7E48BF23B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E173C-9FF2-4F69-987B-E87393AF1C3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C1BFF-AF39-48CB-B12D-75DAE6D0845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61797-8CE2-4917-910C-8AA09229165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E6A34-F8AE-4902-A07A-D95BF52BF98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8328F-5C04-4AC5-B82D-C11DE66FC5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AD291-CAEB-41DF-B249-6A220B568F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A6459-6E0A-4790-AE68-10415F0A18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86B96-3B0F-4B69-BC85-53F4D8CEDD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85CB5-2D3B-445F-BCA2-31FBA7C10D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0FAE5-E5A6-4157-BFBB-FA9E188F0B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0A7C-6B22-400E-B138-EA05C2E2A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7D1DB-1613-4A90-AB66-DF7246039A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440A3-1A4A-4D8A-913A-7621073CDE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A599F-0594-4E6E-928F-78C3B4D402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DED63-C434-4FDE-8509-642241DA22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00795-E580-4C75-9C61-8121FC6EF5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A82B-E1D6-4FD7-A5F3-2CF5473046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72F-7FFD-43A1-A478-FE9074B5DF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C11B-B744-4BA7-9FD1-23EA1B2726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EE1-E8E2-4CC3-8EDF-C945370A46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0DD1-6F13-498B-AA41-7D542ADEFF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D879A-7211-4072-95FF-6F3B329112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6C0-B7F0-4049-ABE3-DD1C0F3A08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C6BD-D0FF-4F42-B495-FAB55E85CD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314-78E5-475C-BE61-4791B6324A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B747-E24C-46AC-9BA7-6F9F82C879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D01-132C-414A-8B01-8CDBC5F289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5E7-EE54-4E88-9E47-1BDB11B09D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71AC-BA32-47A4-B96F-BFAEB4365B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3F8DE-1C5B-498D-BC30-3A463FD83C6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8F9B3-EEB5-4752-A41B-55E27E2AC3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F60F3-4A9B-4978-879D-18B35EE34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437B-C17B-4C45-A256-A41D4F02F3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6AEAE-39C2-4347-A6AB-9278659F94E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0E228-B51A-40C9-8532-74D109FD8E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A066E-47C2-4F7E-9B3D-D016EA8379B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23368-AF87-40C5-9280-4CBEA295BD8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12438-BE21-4069-A9D1-15C7472D24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CE963-FD43-478A-934D-EE885AA2EBE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94C50-3E59-490F-8267-5C3BED3C2FF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0D223-FA4C-4196-8240-51C3DA1DE7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88F73-F561-4437-B3E6-4325620BA7D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50D94-39FC-48A3-958B-9E95601D1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4218-01E8-4ACD-B923-EB0E785A92C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56F52-E463-46B6-B90B-02FF7B34421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4EF8F-C477-4258-8F2B-AD17884A208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FB220-78E6-4534-B10A-863A80FF6AB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06553-31C2-4CFB-9464-7358AACAB50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08EE5-BB9F-4AD3-99FF-1C9B6EAA16C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DB987-5D50-4001-8C66-6D4E13D2ABD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9D99A-CCB7-4FC5-9092-65F6C5FA21D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BBBB9-5312-4747-8A49-E471DD43857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6A3DB-8E47-4646-8E8D-1E7834CAA63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8A17D-F0F0-4647-85E4-EA4A81349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01DA-2A0A-4D2F-B0EC-7F3C14697AE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A92B2-A936-4DB4-89AD-E9BB7978E53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0031-C685-47F9-9C6C-EE2B583A1F0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CA80-C516-4893-8291-C72AE427449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33BE-B058-48FD-8FDA-5650F976034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3090-3885-495C-84A9-A4F81C8E8C3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6D42-AE84-4D87-8F97-3ADFB87DC60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1FDB-1927-473B-A59F-989537345F2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8E77-98E0-416E-91C2-C7347F00281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9323-B6A8-464E-94CA-2C98978003D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AD0D-42EA-44BD-9685-F98D93F86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EBF65-97B2-4AA8-865C-EB3BDB1A112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98BB-37BE-4845-8C95-446A875609E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0962-9799-415E-8EE2-19544EA4301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99C1-13AB-4CE9-82E5-CA11A17F3EC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28E315-19C3-45BB-83AB-EF4E3FD8ABF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22B9F7-7DAD-41C9-B815-0670CCF4A8F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1045FA-31B8-44C4-BAEA-E2CDEF4C398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22F97D-C058-4ADB-A650-2FEFE97123A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FE6B45-49AF-423F-ACD7-D8A8D91E0A1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8CC610-7CF4-438A-8FC0-E94DD8ECF56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EB4792-184B-475A-A17E-62B97457D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EF49-D1C2-45F5-B26B-DA6B2FBF5F2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55DF29-3EB2-46EE-9F3E-D243C4D1668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902DB0-061D-46F2-944F-AD76FD2882B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B0CCBA-C011-46D8-B7A0-AB398CEFC3E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4765B7-B324-46C0-9E43-3649F039AF9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572720-39B7-4FEC-9A13-C17D1FC99C6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0C449-FC65-4E6B-8B04-67167D96308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200CD-5249-40EA-BD12-905D7B155C2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FA0F3-82F7-4496-A219-591ABC71834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DBE3B6-3418-4E6D-B835-B6459F58608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04DE7-D1F4-4422-8A13-FCB72D5C2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5BAF-F9DF-4D2B-88F1-C2C2766FC42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BBAEB-DA61-4B7D-A9A2-7C7755213C3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5B1BD-AEB0-4250-9285-15B6AEBBC38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1EA86-DAC6-4040-84EE-F08B51E3185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6DA0E-B1D6-4DE2-AB10-33A6D8AFFB2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19EAAD-36C2-4A27-A0B5-D6F38BB4EA3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971191-5B4F-4C1C-B3BD-F23E8E00E99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EBE6A-5DA7-4946-8484-4BFB5AFC84F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9DABF-4CF9-4154-A77B-ED4DAAC7E08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A20A5-ADC1-4FAF-9630-E1200EEECE0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196C-2B5B-4DF8-8B52-FE0BF5A50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59D7E-DD09-4B42-BB2F-95102E0B5B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93360" y="502920"/>
            <a:ext cx="3249720" cy="17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86160" y="1089000"/>
            <a:ext cx="510228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93360" y="2268360"/>
            <a:ext cx="3249720" cy="41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marL="2192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10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31CC4-45D3-45F3-9433-AF85DE49D8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11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747D9-8893-4189-89E6-AE9D7767E7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308360" y="301680"/>
            <a:ext cx="2265480" cy="64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502920" y="301680"/>
            <a:ext cx="6651720" cy="64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2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120FD-0CC5-4ACF-A11C-8E53E204C8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0000" y="1236240"/>
            <a:ext cx="755820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075A3-8B18-4C6C-9547-181C0AD06C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4A3FB-0407-41B9-875D-3E556ED5CE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7240" y="1884240"/>
            <a:ext cx="8693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7240" y="5059440"/>
            <a:ext cx="86932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 marL="13032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0320" indent="-130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F9E7E-7A3C-4CF1-9EC2-80149D2E26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3280" y="1768320"/>
            <a:ext cx="44593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14880" y="1768320"/>
            <a:ext cx="446076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ldNum" idx="5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F2A2F-8D49-4270-ADCD-7CE73285BF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3360" y="1852560"/>
            <a:ext cx="42642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7200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00" indent="-7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00" indent="-7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72000" indent="-7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72000" indent="-7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72000" indent="-7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72000" indent="-72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3720" y="2760840"/>
            <a:ext cx="426564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03720" y="2760840"/>
            <a:ext cx="428472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47DAE-98AF-4195-BAE4-FC5EAE7206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Num" idx="7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4FF4A-8DB7-4B75-A7D3-9AB29BCD34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Num" idx="8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F0138-3D84-4EDA-8F1E-251A5343B6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93360" y="502920"/>
            <a:ext cx="3249720" cy="17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286160" y="1089000"/>
            <a:ext cx="510228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ец текста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3360" y="2268360"/>
            <a:ext cx="3249720" cy="41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marL="2192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9240" indent="-2192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3280" y="6886440"/>
            <a:ext cx="2347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48080" y="6886440"/>
            <a:ext cx="3195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D2E6C-4659-405E-84E2-A5692A3DF3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22 октяб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 anchorCtr="1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06360" y="1779480"/>
            <a:ext cx="54896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4 «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S 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1*6= 6 с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576360" y="136836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60360" y="144360"/>
            <a:ext cx="9504360" cy="446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fe7f5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Определи площадь фиг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567240" y="3522600"/>
            <a:ext cx="29494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- Кто может вычислить площадь этой фигуры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Блиц-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Почему не смог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ая пробле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 будем решать эту задач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Для вычисления площади фигуры ( не используя формулу), фигуру разбивают на мерки ( стр.39 рис.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Подумайте, удобно ли каждый раз разбивать фигуру на мет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76360" y="2160720"/>
            <a:ext cx="826920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marL="914400" indent="-912960"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 вы думаете, какой выход из данной пробл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нашли математ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(Есть специальная заготовка, разбитая на квадра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5442120" y="3968640"/>
            <a:ext cx="3265200" cy="26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Предположите как звучит тема нашего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Палетка. Измерение площади фигур с помощью пале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ую цель урока можно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Ознакомиться с палеткой и научиться измерять фигуры с помощью пале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Информационная 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39760" y="1279440"/>
            <a:ext cx="984096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Палетка – это прозрачная пле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разделенная на одинаковые квадра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это могут быть квадратные дециметр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квадратные сантиметры, квадратные миллимет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Палетку накладывают на фигур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площадь которой надо измери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тогда фигура будет как бы разби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на квадратные един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Работа по учебнику стр. 43 (синя фигура) и на ли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03280" y="2309760"/>
            <a:ext cx="907092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1.Наложить палет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2.Сосчитать количество полных клет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3.Сосчитать количество неполных клеток и разделить на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4.Сложить количество полных клеток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половинное количество непол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31640" y="431640"/>
            <a:ext cx="7415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Составление алгорит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87280" y="360360"/>
            <a:ext cx="8352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Работа в группа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Определи с помощью палет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площадь фигур на рабочем лис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871560" y="647640"/>
            <a:ext cx="8116920" cy="590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вер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1. Полных квадратов 32, неполных квадратов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12:2=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 =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32+6 = 38 с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2. Полных квадратов 28, неполных квадратов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24:2=12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= 28+12 = 40 с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3. Полных квадратов 18, неполных квадратов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16:2=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= 18+13 = 31 см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fill="hold">
                      <p:stCondLst>
                        <p:cond delay="indefinite"/>
                      </p:stCondLst>
                      <p:childTnLst>
                        <p:par>
                          <p:cTn id="1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dur="indefinite" fill="hold">
                      <p:stCondLst>
                        <p:cond delay="indefinite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Что самое ценное на Зем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2920" y="1152360"/>
            <a:ext cx="9070920" cy="560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Вот какой ответ дал известный   учёный Аль-Бирун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«Знание – самое превосходное из владений.  Все стремятся к нему, само же оно не приходи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5772240" y="3233880"/>
            <a:ext cx="3611520" cy="38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Цель уро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76360" y="1768320"/>
            <a:ext cx="87026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знакомиться с палеткой и научи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ять фигуры с помощью пале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dur="indefinite" fill="hold">
                      <p:stCondLst>
                        <p:cond delay="indefinite"/>
                      </p:stCondLst>
                      <p:childTnLst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008000" y="2160720"/>
            <a:ext cx="8567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Чем занимались на уро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Что изучили нового на уро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ие задания понравили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ие вызвали затрудн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 оцениваете свою работу на уро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- С каким настроением остали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dur="indefinite" fill="hold">
                      <p:stCondLst>
                        <p:cond delay="indefinite"/>
                      </p:stCondLst>
                      <p:childTnLst>
                        <p:par>
                          <p:cTn id="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dur="indefinite" fill="hold">
                      <p:stCondLst>
                        <p:cond delay="indefinite"/>
                      </p:stCondLst>
                      <p:childTnLst>
                        <p:par>
                          <p:cTn id="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Учи.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Информационная 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47640" y="1401840"/>
            <a:ext cx="9401400" cy="58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Это среднеазиатский учёный, ж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в 10-11 веках. Ещё тогда он говорил э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удивительные слова. Аль-Берун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автор многочисленных открытий по истории, географ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филологии, астрономии, математике, механике, геодез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минералогии, фармакологии, геологии и др. Бируни вла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почти всеми науками свое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2920" y="10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Что вы видите на доске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2920" y="1563840"/>
            <a:ext cx="907092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м²       мм ²       см²       м²    дм²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2920" y="10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Их надо расположить в порядке возрастания и вы увидите девиз нашего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60000" y="1510920"/>
            <a:ext cx="907092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м²            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м²            желани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м²             найдёт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мм ²          Е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м²           пу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Есть желание, путь найдётс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3" dur="2000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2920" y="274320"/>
            <a:ext cx="907092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Что вы располагали в порядке возраста-ния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60360" y="1697040"/>
            <a:ext cx="8928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ы площ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Какие цели урока мы постав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Закрепит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(знания о единицах площад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Развиват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( умение решать задачи на нахо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площади фигу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4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49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49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49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699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899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49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49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49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49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699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899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49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Какими знаниями вы  уже владеете    в рамках этой темы, мы увидим, когда вы решите эти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503280" y="1730520"/>
          <a:ext cx="9073800" cy="4932000"/>
        </p:xfrm>
        <a:graphic>
          <a:graphicData uri="http://schemas.openxmlformats.org/drawingml/2006/table">
            <a:tbl>
              <a:tblPr/>
              <a:tblGrid>
                <a:gridCol w="3024360"/>
                <a:gridCol w="3025080"/>
                <a:gridCol w="3024360"/>
              </a:tblGrid>
              <a:tr h="896760"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810000"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 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 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805320"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8 м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805320"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 д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6 дм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804960"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? на 3 см 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809640"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? в 2 раза 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212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503280" y="1768320"/>
          <a:ext cx="9073800" cy="4641480"/>
        </p:xfrm>
        <a:graphic>
          <a:graphicData uri="http://schemas.openxmlformats.org/drawingml/2006/table">
            <a:tbl>
              <a:tblPr/>
              <a:tblGrid>
                <a:gridCol w="3024360"/>
                <a:gridCol w="3025080"/>
                <a:gridCol w="3024360"/>
              </a:tblGrid>
              <a:tr h="773280"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773640"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 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 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8 м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772920"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3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8 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773640"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 д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 д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6 д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773280"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? на 3 см мень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8 с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774720"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? в 2 раза боль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 с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0" rIns="0" tIns="15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0 с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60000" y="2533320"/>
            <a:ext cx="907092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Измерьте стороны данного прямоугольника и найдите его площадь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Для измерения стороны мы какой инстру-мент  используем?(линейк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2920" y="431280"/>
            <a:ext cx="907092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vert="eaVert">
            <a:normAutofit/>
          </a:bodyPr>
          <a:p>
            <a:pPr>
              <a:lnSpc>
                <a:spcPct val="100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Microsoft YaHei"/>
              </a:rPr>
              <a:t>Работа в парах по учебнику стр. 39 поле прямоугольник АВС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20T19:08:22Z</dcterms:created>
  <dc:creator/>
  <dc:description/>
  <dc:language>en-US</dc:language>
  <cp:lastModifiedBy>USER</cp:lastModifiedBy>
  <dcterms:modified xsi:type="dcterms:W3CDTF">2020-10-22T05:21:39Z</dcterms:modified>
  <cp:revision>36</cp:revision>
  <dc:subject/>
  <dc:title>22 октября</dc:title>
</cp:coreProperties>
</file>