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278240" y="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ldNum" idx="1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F16E88-64FF-4169-B119-61C617BB26F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C14F50-FAE9-4E76-B97F-AF83BEA19F6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C5A7D9-4EF4-4132-BF0B-85C3AFE1D06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69648-7147-4C3A-9724-5B7871048FF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884119-44AA-4105-BC63-A4FD83FCD83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FCF592-B7A0-4DDB-AEA3-84F6FB4D4F0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BC2A1D-74EB-4E73-AFDC-143F8E8815A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5DF8DA-2104-4F46-8A31-222DDE2DCD3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EE9CD4-FFD3-4267-9361-020C180B34C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77E31-AD41-4C40-8B4F-84E76AB3FBD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24F5EA-8BEF-4946-A779-59115A4C3BB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D2DD8D-1C98-45BD-87E2-4243C97E549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EE04BE-A6CB-48CE-927F-B7CEFB0DD9A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A9F282-E212-42DF-B0A3-02A809D1B8C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268846-644A-4BD6-8FA0-A2CA7A7703A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AD318-40A5-4719-96FE-BA6E447619F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898664-C9AD-43CD-B16D-43B2A6C270C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C293DF-B8E9-493D-BB34-9641A67FD61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D0744D-B416-4156-B5A3-4F915D0D064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7C6AA7-41D2-4F89-9BC9-E3E3ABB6770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E41CB0-0AB7-4642-B972-69C51A1EE56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F0B2E5-AFB2-4282-9C95-9C50735A667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54CBD-5470-4E3D-93C7-FE6B73B46A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9E712-7957-4232-ACA7-5239A539492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BCEE0-0685-4892-90E0-E4C3CD8473A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A8BA1-A82D-498F-AD5B-888F00572F8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9D558-B006-4B32-96EB-935A93E9DD5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76F0F-9D93-418D-BADB-C8B1103CB8B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347D7-BBDE-4663-8E32-8DA2A81FCF5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5D115-34F0-46D4-861E-E316E90707C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C455D-A746-488E-A5F7-242137D2A02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2C63E-6A27-41B5-A4AB-55773F3EA78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A5211-7AEF-4AE8-8FCD-5525ADDF8CD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7B9B96-0D27-46A2-8F13-FFA0997AF5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17B12-11DA-4C69-A000-09052D87CBD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7610B4-AC40-440D-B81A-5AEE866EA58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1A6D38-FE95-48DF-AAD8-8FF3B30F03D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178A83-6F61-477C-86E5-48EF01A3475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6C435A-EB1D-4777-B96D-FDBC5359B7D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450D29-44A0-458C-B64E-0F16C168FC4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462DC5-81DE-4ABF-B1DF-0E46A7B8F46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DD8ABF-5FBF-452B-805F-636F8F08ACB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70CE95-2080-4B3F-9BF1-7349F72A37F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FE678F-B6E4-46FC-AD24-643A1E3D6C3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EC884E-5957-4310-B048-549626DD50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EF6EA-0B25-4BDF-BA1A-F456DA9F810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33A4C0-0DFE-4E0D-82D4-5E3AFA8742F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F3F635-DA27-4DB3-A9FE-3352896AE15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ED16BD-E887-4797-B06D-8481DB01C75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6372D9-4261-4BA3-8A24-C5A7656AA62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CEC2D3-36BA-47AA-BE10-6EDECD29CA6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A0140F-4176-4220-AD6B-C64B7A33DB5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E3B346-8955-47B9-A158-C72719C1CE0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87045E-8B0B-4933-976A-B9112CBE767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290BA2-355F-42AE-B384-FFAE200EE4D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A1AB67-7636-42B4-9F22-3F31193505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5ADA5-B523-45CC-BAAB-7894FBEC922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A8014C-0FC3-459B-B96F-B9FB99DF4EA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CD5632-557F-42F3-AE2F-7F7C05FAB7C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F45C62-081A-46CB-8054-01C80BA0541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AF4E6-2F19-493A-9554-3D5DC3BC6EB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63C00-89EC-4953-A619-5CD41B14620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A27C2-A595-4594-B2B7-7B3BE2074C7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9F668-B017-47FD-A37E-EE7583508B2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DDE75-54F3-490F-B735-51B19E24B01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51CCB-3FEE-4DDF-9389-B0607724891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69A2B-8BBB-49DB-A707-24CBBCAF34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92769-7A94-4860-BC1D-A9FA464BD59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6BBEC-AA6E-4A22-BB7B-14FE56DADA7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4552E-70B3-4BAA-8ECD-DD715DC6F42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8163B-9796-442A-B112-56341552E99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8BE20-FEB9-4B49-B892-2058BA78E6D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DAA83-E3EA-45AB-BF33-13036DDA77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AFD54-1228-446C-BB08-9B26C782B5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3BE75-EF99-4798-8AA5-B98BAD1532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AEE2D-5066-4F44-BE79-CB433F4B0E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82000-CC6E-4E65-A8FE-97497932C4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4D017-5FEA-488F-8CD5-0CEBF96ADC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C3A4E-37FE-488A-857C-D8FE306D0E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03B28-5360-44FF-A9EF-1FE535B4DE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6952B-B1E8-4F08-807F-ED1617EBB6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F0446-F421-49B7-8E6F-9A42CC2B28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7BBA9-52B6-4C32-A508-5A547CC411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406FE-A9D6-4D14-AA16-D2224A3CF9C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8D7F-457D-4B99-8EC5-3FF8CDA5903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6BE6-DC35-4E44-96DA-0A461154011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EEC8-B076-4B0D-9EF9-A6E0FD98EF9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F364-0F02-431A-B4B4-5E780520DAC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15A5-F2EB-47A0-B40A-982DB3D83E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2B3CF-A162-498D-9B3E-5FFD5811617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8DAE-BBD7-45D2-B9FF-07CF844191E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73B8-39D9-47CB-AE27-B5A6C15D15C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0847-BA84-4F1F-917B-C4C794C9CBE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ECE2-24AC-4B48-B4EF-7C99299E1F9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464C-4544-4AD4-A6F7-A8A069B347D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55AA-57A8-4FD4-88DB-39C1DCFEF5D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352A-1132-4162-B455-3C0360E70AF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A414BB-F536-4B97-B09F-1C81FF4185C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9471E4-FA49-430F-8E89-E58CCB47DF7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E3A4F-0F76-468F-8106-1422B7B3AB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03863-41C1-49EB-88A9-B5285D700C0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DA628A-D031-431D-891A-B6A5CF92204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839340-9DA1-4E73-83D7-564D3FCE775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4FB729-1643-4673-9982-8432301857B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2FBC1-5183-4B4E-B159-5473DD24583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38EF1A-8C44-48A2-A5D5-0FF49863FFB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8A292-C824-41E5-91D1-379E44E3D4A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136F3-6C7D-47F1-B19A-3116BE6F7AF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55F606-F1BB-4021-8FE6-0482CEB9DB1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5C0D3D-3CE3-43B0-A6DC-069E32BD07A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2AD9E-709E-4216-A918-42479480C6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50BCB-CC45-4B5D-A272-70828049AD9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94FB69-5C75-4F96-BC17-99CD1241CE1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84E932-252B-4E2C-94B6-BD14525341F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0C0BB-B8BE-4D46-A1E0-5B1ED6E7B99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4CA5C-38FA-4258-9E48-DDFDADF8581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BF77A8-8641-4B33-A180-33829A2998B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2837B-7A8A-4931-9989-3F43757A505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B481C1-2D58-4C40-8AE5-EB251AADD0C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822411-D996-4DA2-A1A1-430BDD5C8AF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E97EE-9E2C-4592-834C-2500F8CE305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AB725-E2F4-4452-85D0-E3C582856C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AB438-DB75-4A6E-A72D-F50B2F570D0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0210CE-953A-4F02-9DB2-917E41429ED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E581-17A3-49AC-B970-2289D7245C8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EA1C-E4FF-429D-9C91-A24C2933CDE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DEC4-627F-458C-AD55-D6A23026E60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B77C-EBC1-455C-A281-758DB9690E3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C713-D788-427F-9027-F35D43521CF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5258-2122-4794-B457-F80288DB24B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FE9C-2E4F-41B8-9C97-04C3DC99F6F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8D3A-32C8-4D80-8067-7FB077006D6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FC97-426B-4F82-B7A7-1FE61FD985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8EAA2-F53C-4C6E-AE68-089E8A6FDD0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7F61-72DB-4BE1-95D3-EFB6C18F522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9D83-3135-471E-A96F-E6E2F161155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B4A4-6C30-4C4D-8ABF-218DC2364A1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C3EF7D-E39C-4637-BDDC-3A1B3983725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1311E0-B97C-4D34-B8B8-2787BD1707D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F62AD0-0C8A-4DF5-9293-F4F0A721B65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B8BAE7-481E-47FE-B4AA-077B57F1065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5A4567-712E-4564-BFB5-172D4C92F15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2B4221-7995-481C-BC16-5577030A1BD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C7833E-0638-4C2F-A3F3-9E4E2086A4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BB4A9-5B0A-40B6-AD8B-152B7883F32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EC1A73-9ECF-435B-AE12-EB92522CDC4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EF0471-2599-47B0-A14C-1EC1E92903E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8D43B6-88AD-481C-B81B-E17E2284BE0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BF2196-99E2-4989-82C5-B5E4F028D01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F11F1A-5B5E-4A98-9D69-1B1984C3807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5EDE9E-2D83-42A1-AD78-291D48F7A20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1CCDB6-5B20-4850-9FCD-304E5583CD3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F6DB10-D3BB-41AE-BF5E-C807EB59FCC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DC6AF0-419F-4FC5-8F4B-D2737012C7E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EDAA5F-9894-4EE1-A06E-9184C3D765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0D137-AF93-4511-A21A-25C6C4CA884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83CD9B-831B-4056-95F2-16C4562041A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33BF09-3752-47BD-900D-D903F25810C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6082A0-679F-4491-B10B-58557156819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C438DA-F1C2-4D12-B890-8A99C56F342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91549D-921C-44D7-B2CA-03A9BF67C8C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7FD33D-0B3D-495A-9636-BAEF6F43E91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970824-2226-4E75-BEF0-9019EF74B72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F3A1C-9992-433B-9EB6-7E0CB0835DD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56696-F67E-426F-864A-884F36349C5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1C467-674F-4681-9C3A-CFEB004CA3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03280" y="6886440"/>
            <a:ext cx="23479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448080" y="6886440"/>
            <a:ext cx="31957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8D86F4-B54E-4E41-BE99-7417F41BF54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93360" y="502920"/>
            <a:ext cx="3249720" cy="17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286160" y="1089000"/>
            <a:ext cx="5102280" cy="53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93360" y="2268360"/>
            <a:ext cx="3249720" cy="41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marL="2192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19240" indent="-219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19240" indent="-219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19240" indent="-219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9240" indent="-219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9240" indent="-219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9240" indent="-219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03280" y="6886440"/>
            <a:ext cx="23479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448080" y="6886440"/>
            <a:ext cx="31957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sldNum" idx="10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29F294-A37A-46E3-9628-8C09499AC3E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03280" y="6886440"/>
            <a:ext cx="23479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448080" y="6886440"/>
            <a:ext cx="31957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sldNum" idx="11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915FE6-0A34-4E6D-A8C0-1D5FB8C0AEA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308360" y="301680"/>
            <a:ext cx="2265480" cy="645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502920" y="301680"/>
            <a:ext cx="6651720" cy="645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03280" y="6886440"/>
            <a:ext cx="23479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448080" y="6886440"/>
            <a:ext cx="31957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12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A2B831-F400-41E0-A728-9F322D4A8D4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0000" y="1236240"/>
            <a:ext cx="7558200" cy="26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503280" y="6886440"/>
            <a:ext cx="23479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48080" y="6886440"/>
            <a:ext cx="31957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7A50A2-CA98-4A68-A7E3-3A8376CC262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Образец текста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3280" y="6886440"/>
            <a:ext cx="23479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48080" y="6886440"/>
            <a:ext cx="31957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E51D3E-6BB0-49F1-B21C-40A5049AB52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7240" y="1884240"/>
            <a:ext cx="8693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7240" y="5059440"/>
            <a:ext cx="869328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8000"/>
          </a:bodyPr>
          <a:p>
            <a:pPr marL="13032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30320" indent="-130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0320" indent="-130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0320" indent="-130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0320" indent="-130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0320" indent="-130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0320" indent="-130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3280" y="6886440"/>
            <a:ext cx="23479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48080" y="6886440"/>
            <a:ext cx="31957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4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2F31DA-E6C0-404D-B3C9-3C47D0678E2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3280" y="1768320"/>
            <a:ext cx="44593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Образец текста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114880" y="1768320"/>
            <a:ext cx="446076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Образец текста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3280" y="6886440"/>
            <a:ext cx="23479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48080" y="6886440"/>
            <a:ext cx="31957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ldNum" idx="5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BDDE67-3137-4067-8CDC-812F54807C2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93360" y="1852560"/>
            <a:ext cx="4264200" cy="90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21000"/>
          </a:bodyPr>
          <a:p>
            <a:pPr marL="7200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00" indent="-72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00" indent="-72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72000" indent="-72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72000" indent="-72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72000" indent="-72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72000" indent="-72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3720" y="2760840"/>
            <a:ext cx="4265640" cy="40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Образец текста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03720" y="2760840"/>
            <a:ext cx="4284720" cy="40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Образец текста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03280" y="6886440"/>
            <a:ext cx="23479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48080" y="6886440"/>
            <a:ext cx="31957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038989-227E-494F-AC96-E47DC8AED5E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03280" y="6886440"/>
            <a:ext cx="23479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448080" y="6886440"/>
            <a:ext cx="31957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ldNum" idx="7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04057A-6C28-4704-914B-55260526D37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503280" y="6886440"/>
            <a:ext cx="23479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448080" y="6886440"/>
            <a:ext cx="31957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Num" idx="8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66ADF-D5E7-4978-9C23-FB06D2F8B1C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93360" y="502920"/>
            <a:ext cx="3249720" cy="17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286160" y="1089000"/>
            <a:ext cx="5102280" cy="53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Образец текста</a:t>
            </a: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3360" y="2268360"/>
            <a:ext cx="3249720" cy="41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marL="2192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19240" indent="-219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19240" indent="-219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19240" indent="-219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9240" indent="-219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9240" indent="-219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9240" indent="-219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03280" y="6886440"/>
            <a:ext cx="23479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448080" y="6886440"/>
            <a:ext cx="31957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Num" idx="9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3CBBF-2767-4B24-B6B3-B039C7C59B9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Microsoft YaHei"/>
              </a:rPr>
              <a:t>22 октяб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 anchorCtr="1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206360" y="1779480"/>
            <a:ext cx="548964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Microsoft YaHei"/>
              </a:rPr>
              <a:t>Матема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Microsoft YaHei"/>
              </a:rPr>
              <a:t>4 «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Microsoft YaHei"/>
              </a:rPr>
              <a:t>Прове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vert="eaVert">
            <a:normAutofit/>
          </a:bodyPr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S 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1*6= 6 с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576360" y="1368360"/>
            <a:ext cx="9144000" cy="532764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360360" y="144360"/>
            <a:ext cx="9504360" cy="446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fe7f5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Определи площадь фиг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567240" y="3522600"/>
            <a:ext cx="29494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- Кто может вычислить площадь этой фигуры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Microsoft YaHei"/>
              </a:rPr>
              <a:t>Блиц-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vert="eaVert">
            <a:normAutofit/>
          </a:bodyPr>
          <a:p>
            <a:pPr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Почему не смог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Какая проблем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Как будем решать эту задач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Для вычисления площади фигуры ( не используя формулу), фигуру разбивают на мерки ( стр.39 рис.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Подумайте, удобно ли каждый раз разбивать фигуру на мет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76360" y="2160720"/>
            <a:ext cx="8269200" cy="23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marL="914400" indent="-912960"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Microsoft YaHei"/>
              </a:rPr>
              <a:t>Как вы думаете, какой выход из данной пробле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Microsoft YaHei"/>
              </a:rPr>
              <a:t>нашли математи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Microsoft YaHei"/>
              </a:rPr>
              <a:t>(Есть специальная заготовка, разбитая на квадрат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5442120" y="3968640"/>
            <a:ext cx="3265200" cy="267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dur="indefinite" fill="hold">
                      <p:stCondLst>
                        <p:cond delay="indefinite"/>
                      </p:stCondLst>
                      <p:childTnLst>
                        <p:par>
                          <p:cTn id="1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  <a:ea typeface="Microsoft YaHei"/>
              </a:rPr>
              <a:t>Предположите как звучит тема нашего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vert="eaVert">
            <a:normAutofit/>
          </a:bodyPr>
          <a:p>
            <a:pPr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Палетка. Измерение площади фигур с помощью пале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Какую цель урока можно постав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Ознакомиться с палеткой и научиться измерять фигуры с помощью пале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dur="indefinite" fill="hold">
                      <p:stCondLst>
                        <p:cond delay="indefinite"/>
                      </p:stCondLst>
                      <p:childTnLst>
                        <p:par>
                          <p:cTn id="1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dur="indefinite" fill="hold">
                      <p:stCondLst>
                        <p:cond delay="indefinite"/>
                      </p:stCondLst>
                      <p:childTnLst>
                        <p:par>
                          <p:cTn id="1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Microsoft YaHei"/>
              </a:rPr>
              <a:t>Информационная 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39760" y="1279440"/>
            <a:ext cx="984096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Палетка – это прозрачная плен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разделенная на одинаковые квадрат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это могут быть квадратные дециметр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квадратные сантиметры, квадратные миллимет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Палетку накладывают на фигур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площадь которой надо измери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тогда фигура будет как бы разби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на квадратные единиц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Microsoft YaHei"/>
              </a:rPr>
              <a:t>Практическ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vert="eaVert">
            <a:normAutofit/>
          </a:bodyPr>
          <a:p>
            <a:pPr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Работа по учебнику стр. 43 (синя фигура) и на лист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03280" y="2309760"/>
            <a:ext cx="907092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1.Наложить палетк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2.Сосчитать количество полных клето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3.Сосчитать количество неполных клеток и разделить на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4.Сложить количество полных клеток 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половинное количество неполны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31640" y="431640"/>
            <a:ext cx="7415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Microsoft YaHei"/>
              </a:rPr>
              <a:t>Составление алгоритм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dur="indefinite" fill="hold">
                      <p:stCondLst>
                        <p:cond delay="indefinite"/>
                      </p:stCondLst>
                      <p:childTnLst>
                        <p:par>
                          <p:cTn id="1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dur="indefinite" fill="hold">
                      <p:stCondLst>
                        <p:cond delay="indefinite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dur="indefinite" fill="hold">
                      <p:stCondLst>
                        <p:cond delay="indefinite"/>
                      </p:stCondLst>
                      <p:childTnLst>
                        <p:par>
                          <p:cTn id="1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dur="indefinite" fill="hold">
                      <p:stCondLst>
                        <p:cond delay="indefinite"/>
                      </p:stCondLst>
                      <p:childTnLst>
                        <p:par>
                          <p:cTn id="1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dur="indefinite" fill="hold">
                      <p:stCondLst>
                        <p:cond delay="indefinite"/>
                      </p:stCondLst>
                      <p:childTnLst>
                        <p:par>
                          <p:cTn id="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87280" y="360360"/>
            <a:ext cx="835200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Microsoft YaHei"/>
              </a:rPr>
              <a:t>Работа в группах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Microsoft YaHei"/>
              </a:rPr>
              <a:t>Определи с помощью палет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Microsoft YaHei"/>
              </a:rPr>
              <a:t>площадь фигур на рабочем лис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871560" y="647640"/>
            <a:ext cx="8116920" cy="590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овер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1. Полных квадратов 32, неполных квадратов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12:2=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 =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32+6 = 38 с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2. Полных квадратов 28, неполных квадратов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24:2=12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= 28+12 = 40 см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3. Полных квадратов 18, неполных квадратов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16:2=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= 18+13 = 31 см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dur="indefinite" fill="hold">
                      <p:stCondLst>
                        <p:cond delay="indefinite"/>
                      </p:stCondLst>
                      <p:childTnLst>
                        <p:par>
                          <p:cTn id="1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dur="indefinite" fill="hold">
                      <p:stCondLst>
                        <p:cond delay="indefinite"/>
                      </p:stCondLst>
                      <p:childTnLst>
                        <p:par>
                          <p:cTn id="1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dur="indefinite" fill="hold">
                      <p:stCondLst>
                        <p:cond delay="indefinite"/>
                      </p:stCondLst>
                      <p:childTnLst>
                        <p:par>
                          <p:cTn id="1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dur="indefinite" fill="hold">
                      <p:stCondLst>
                        <p:cond delay="indefinite"/>
                      </p:stCondLst>
                      <p:childTnLst>
                        <p:par>
                          <p:cTn id="1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dur="indefinite" fill="hold">
                      <p:stCondLst>
                        <p:cond delay="indefinite"/>
                      </p:stCondLst>
                      <p:childTnLst>
                        <p:par>
                          <p:cTn id="1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dur="indefinite" fill="hold">
                      <p:stCondLst>
                        <p:cond delay="indefinite"/>
                      </p:stCondLst>
                      <p:childTnLst>
                        <p:par>
                          <p:cTn id="1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dur="indefinite" fill="hold">
                      <p:stCondLst>
                        <p:cond delay="indefinite"/>
                      </p:stCondLst>
                      <p:childTnLst>
                        <p:par>
                          <p:cTn id="1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dur="indefinite" fill="hold">
                      <p:stCondLst>
                        <p:cond delay="indefinite"/>
                      </p:stCondLst>
                      <p:childTnLst>
                        <p:par>
                          <p:cTn id="2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Что самое ценное на Земл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2920" y="1152360"/>
            <a:ext cx="9070920" cy="560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vert="eaVert">
            <a:normAutofit/>
          </a:bodyPr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Microsoft YaHe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Microsoft YaHei"/>
              </a:rPr>
              <a:t>Вот какой ответ дал известный   учёный Аль-Бирун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Microsoft YaHe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Microsoft YaHei"/>
              </a:rPr>
              <a:t>«Знание – самое превосходное из владений.  Все стремятся к нему, само же оно не приходит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5772240" y="3233880"/>
            <a:ext cx="3611520" cy="380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Microsoft YaHei"/>
              </a:rPr>
              <a:t>Цель уро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76360" y="1768320"/>
            <a:ext cx="87026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Ознакомиться с палеткой и научи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змерять фигуры с помощью пале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dur="indefinite" fill="hold">
                      <p:stCondLst>
                        <p:cond delay="indefinite"/>
                      </p:stCondLst>
                      <p:childTnLst>
                        <p:par>
                          <p:cTn id="2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Microsoft YaHei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008000" y="2160720"/>
            <a:ext cx="8567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Чем занимались на уро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Что изучили нового на уро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Какие задания понравилис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Какие вызвали затрудн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Как оцениваете свою работу на уро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- С каким настроением осталис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dur="indefinite" fill="hold">
                      <p:stCondLst>
                        <p:cond delay="indefinite"/>
                      </p:stCondLst>
                      <p:childTnLst>
                        <p:par>
                          <p:cTn id="2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dur="indefinite" fill="hold">
                      <p:stCondLst>
                        <p:cond delay="indefinite"/>
                      </p:stCondLst>
                      <p:childTnLst>
                        <p:par>
                          <p:cTn id="2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dur="indefinite" fill="hold">
                      <p:stCondLst>
                        <p:cond delay="indefinite"/>
                      </p:stCondLst>
                      <p:childTnLst>
                        <p:par>
                          <p:cTn id="2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dur="indefinite" fill="hold">
                      <p:stCondLst>
                        <p:cond delay="indefinite"/>
                      </p:stCondLst>
                      <p:childTnLst>
                        <p:par>
                          <p:cTn id="2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dur="indefinite" fill="hold">
                      <p:stCondLst>
                        <p:cond delay="indefinite"/>
                      </p:stCondLst>
                      <p:childTnLst>
                        <p:par>
                          <p:cTn id="2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Microsoft YaHe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vert="eaVert">
            <a:normAutofit/>
          </a:bodyPr>
          <a:p>
            <a:pPr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Учи.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Microsoft YaHei"/>
              </a:rPr>
              <a:t>Информационная 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47640" y="1401840"/>
            <a:ext cx="9401400" cy="58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Это среднеазиатский учёный, ж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в 10-11 веках. Ещё тогда он говорил э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удивительные слова. Аль-Берун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автор многочисленных открытий по истории, географ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филологии, астрономии, математике, механике, геодез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минералогии, фармакологии, геологии и др. Бируни влад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почти всеми науками своего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2920" y="106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Что вы видите на доске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2920" y="1563840"/>
            <a:ext cx="9070920" cy="51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vert="eaVert">
            <a:normAutofit/>
          </a:bodyPr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км²       мм ²       см²       м²    дм²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2920" y="106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Их надо расположить в порядке возрастания и вы увидите девиз нашего у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60000" y="1510920"/>
            <a:ext cx="9070920" cy="51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vert="eaVert">
            <a:normAutofit/>
          </a:bodyPr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 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км²            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см²            желание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м²             найдётс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мм ²          Е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дм²           пу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Есть желание, путь найдётся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3" dur="2000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02920" y="274320"/>
            <a:ext cx="9070920" cy="13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Что вы располагали в порядке возраста-ния?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vert="eaVert">
            <a:normAutofit/>
          </a:bodyPr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60360" y="1697040"/>
            <a:ext cx="892800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цы площа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Какие цели урока мы постави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Закрепить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(знания о единицах площад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Развивать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( умение решать задачи на нахож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площади фигур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400" fill="hold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00" fill="hold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49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49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49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699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899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49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49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49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49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699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899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49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 vert="eaVert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Какими знаниями вы  уже владеете    в рамках этой темы, мы увидим, когда вы решите эти зада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503280" y="1730520"/>
          <a:ext cx="9073800" cy="4932000"/>
        </p:xfrm>
        <a:graphic>
          <a:graphicData uri="http://schemas.openxmlformats.org/drawingml/2006/table">
            <a:tbl>
              <a:tblPr/>
              <a:tblGrid>
                <a:gridCol w="3024360"/>
                <a:gridCol w="3025080"/>
                <a:gridCol w="3024360"/>
              </a:tblGrid>
              <a:tr h="896760">
                <a:tc>
                  <a:txBody>
                    <a:bodyPr lIns="0" rIns="0" tIns="21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21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21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</a:tr>
              <a:tr h="810000">
                <a:tc>
                  <a:txBody>
                    <a:bodyPr lIns="0" rIns="0" tIns="21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7 м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21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4 м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21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</a:tr>
              <a:tr h="805320">
                <a:tc>
                  <a:txBody>
                    <a:bodyPr lIns="0" rIns="0" tIns="21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21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21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8 м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</a:tr>
              <a:tr h="805320">
                <a:tc>
                  <a:txBody>
                    <a:bodyPr lIns="0" rIns="0" tIns="21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8 д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21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21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6 дм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</a:tr>
              <a:tr h="804960">
                <a:tc>
                  <a:txBody>
                    <a:bodyPr lIns="0" rIns="0" tIns="21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7 с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21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? на 3 см мен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21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</a:tr>
              <a:tr h="809640">
                <a:tc>
                  <a:txBody>
                    <a:bodyPr lIns="0" rIns="0" tIns="21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 с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21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? в 2 раза бол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21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 vert="eaVert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1" name=""/>
          <p:cNvGraphicFramePr/>
          <p:nvPr/>
        </p:nvGraphicFramePr>
        <p:xfrm>
          <a:off x="503280" y="1768320"/>
          <a:ext cx="9073800" cy="4641480"/>
        </p:xfrm>
        <a:graphic>
          <a:graphicData uri="http://schemas.openxmlformats.org/drawingml/2006/table">
            <a:tbl>
              <a:tblPr/>
              <a:tblGrid>
                <a:gridCol w="3024360"/>
                <a:gridCol w="3025080"/>
                <a:gridCol w="3024360"/>
              </a:tblGrid>
              <a:tr h="773280">
                <a:tc>
                  <a:txBody>
                    <a:bodyPr lIns="0" rIns="0" tIns="158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158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158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</a:tr>
              <a:tr h="773640">
                <a:tc>
                  <a:txBody>
                    <a:bodyPr lIns="0" rIns="0" tIns="158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7 м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158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4 м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158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8 мм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</a:tr>
              <a:tr h="772920">
                <a:tc>
                  <a:txBody>
                    <a:bodyPr lIns="0" rIns="0" tIns="158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158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158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8 м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</a:tr>
              <a:tr h="773640">
                <a:tc>
                  <a:txBody>
                    <a:bodyPr lIns="0" rIns="0" tIns="158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8 д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158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7 д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158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6 дм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</a:tr>
              <a:tr h="773280">
                <a:tc>
                  <a:txBody>
                    <a:bodyPr lIns="0" rIns="0" tIns="158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7 с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158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? на 3 см мень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 с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158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8 см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</a:tr>
              <a:tr h="774720">
                <a:tc>
                  <a:txBody>
                    <a:bodyPr lIns="0" rIns="0" tIns="158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 с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158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? в 2 раза боль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0 с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158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0 см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60000" y="2533320"/>
            <a:ext cx="907092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Microsoft YaHei"/>
              </a:rPr>
              <a:t>Измерьте стороны данного прямоугольника и найдите его площадь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Microsoft YaHei"/>
              </a:rPr>
              <a:t>Для измерения стороны мы какой инстру-мент  используем?(линейку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02920" y="431280"/>
            <a:ext cx="907092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vert="eaVert">
            <a:normAutofit/>
          </a:bodyPr>
          <a:p>
            <a:pPr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  <a:ea typeface="Microsoft YaHei"/>
              </a:rPr>
              <a:t>Работа в парах по учебнику стр. 39 поле прямоугольник АВС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0-20T19:08:22Z</dcterms:created>
  <dc:creator/>
  <dc:description/>
  <dc:language>en-US</dc:language>
  <cp:lastModifiedBy>USER</cp:lastModifiedBy>
  <dcterms:modified xsi:type="dcterms:W3CDTF">2020-10-22T05:21:39Z</dcterms:modified>
  <cp:revision>36</cp:revision>
  <dc:subject/>
  <dc:title>22 октября</dc:title>
</cp:coreProperties>
</file>