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815-043B-47DD-8219-7A157763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525996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BC5-D16F-43C4-81A6-B466316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548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905-2145-40EA-A865-43983819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496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080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462-238B-4430-98B1-BF5F57DD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7E33-DE18-43EC-91A4-40A1C2CF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57D5-549F-49A8-B035-F63AA209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93AB-8554-4C8C-8DFE-39F0C011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3DDF-F6B5-4107-9FFF-F227242B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9A0F-A5DA-4553-B8A8-2C5D1E83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0A48-C603-4E84-BC58-54807079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CBC1-0B2D-49DF-B426-2372F27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F6E-61CF-4BCA-99D1-93363EED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2548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8015-EC71-4EFE-9979-4FE5F792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0B5F-2BC7-4E19-B362-0EBE188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525996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A130-2A6A-4571-84EB-1A2363F7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2548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75EC-431C-40C8-BE49-B81BBCE2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496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080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921D-D717-4097-AD4F-48958909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53B-2222-4F32-87EE-9CA7BC84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D4A-E5CA-4C86-802A-6238DCC0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937-1A9C-4228-937C-DD9B259C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118-837E-4AFE-A85C-C766F5F9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27E-AEB1-4A70-A220-FD9A2933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548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22E-EC07-44DE-997C-D74D1B5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4CD-E46A-4D9B-8BED-3BC34117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645120" cy="2637720"/>
            <a:chOff x="0" y="0"/>
            <a:chExt cx="9645120" cy="2637720"/>
          </a:xfrm>
        </p:grpSpPr>
        <p:sp>
          <p:nvSpPr>
            <p:cNvPr id="1" name="Freeform 3"/>
            <p:cNvSpPr/>
            <p:nvPr/>
          </p:nvSpPr>
          <p:spPr>
            <a:xfrm>
              <a:off x="0" y="1232280"/>
              <a:ext cx="9486360" cy="140544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645120" cy="253476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-379440">
              <a:spcBef>
                <a:spcPts val="107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2" marL="1521000" indent="-303480">
              <a:spcBef>
                <a:spcPts val="107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3" marL="2130480" indent="-303120">
              <a:spcBef>
                <a:spcPts val="107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4" marL="2739960" indent="-303120">
              <a:spcBef>
                <a:spcPts val="107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5" marL="2739960" indent="-303120">
              <a:spcBef>
                <a:spcPts val="10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6" marL="2739960" indent="-303120">
              <a:spcBef>
                <a:spcPts val="10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09480" y="8322840"/>
            <a:ext cx="284184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727840" y="8322840"/>
            <a:ext cx="284148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B567-801C-4570-A955-8C9A1415BD9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11266200" cy="7916040"/>
            <a:chOff x="0" y="0"/>
            <a:chExt cx="11266200" cy="7916040"/>
          </a:xfrm>
        </p:grpSpPr>
        <p:sp>
          <p:nvSpPr>
            <p:cNvPr id="45" name="Freeform 3"/>
            <p:cNvSpPr/>
            <p:nvPr/>
          </p:nvSpPr>
          <p:spPr>
            <a:xfrm>
              <a:off x="0" y="3044520"/>
              <a:ext cx="10900440" cy="487152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11266200" cy="7800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-379440">
              <a:spcBef>
                <a:spcPts val="107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2" marL="1521000" indent="-303480">
              <a:spcBef>
                <a:spcPts val="107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3" marL="2130480" indent="-303120">
              <a:spcBef>
                <a:spcPts val="107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4" marL="2739960" indent="-303120">
              <a:spcBef>
                <a:spcPts val="107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5" marL="2739960" indent="-303120">
              <a:spcBef>
                <a:spcPts val="10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6" marL="2739960" indent="-303120">
              <a:spcBef>
                <a:spcPts val="10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480" y="8322840"/>
            <a:ext cx="284184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27840" y="8322840"/>
            <a:ext cx="284148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B225-325C-4F18-B0A5-6FD80B79133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507600"/>
            <a:ext cx="10352160" cy="1957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8" descr="img0"/>
          <p:cNvPicPr/>
          <p:nvPr/>
        </p:nvPicPr>
        <p:blipFill>
          <a:blip r:embed="rId1"/>
          <a:stretch/>
        </p:blipFill>
        <p:spPr>
          <a:xfrm>
            <a:off x="0" y="0"/>
            <a:ext cx="12179160" cy="91346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9061560" y="7539120"/>
            <a:ext cx="281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Подготовила: воспита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Телицына А. 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10960200" cy="1442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ffffcc"/>
                </a:solidFill>
                <a:latin typeface="Times New Roman"/>
              </a:rPr>
              <a:t>Правило четвертое:</a:t>
            </a:r>
            <a:r>
              <a:rPr b="0" lang="en-US" sz="3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3700" spc="-1" strike="noStrike">
                <a:solidFill>
                  <a:srgbClr val="ffffcc"/>
                </a:solidFill>
                <a:latin typeface="Times New Roman"/>
              </a:rPr>
              <a:t>Хотим тебя предостеречь, не разжигай без взрослых печь.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5" descr="110"/>
          <p:cNvPicPr/>
          <p:nvPr/>
        </p:nvPicPr>
        <p:blipFill>
          <a:blip r:embed="rId1"/>
          <a:stretch/>
        </p:blipFill>
        <p:spPr>
          <a:xfrm>
            <a:off x="1212840" y="1366920"/>
            <a:ext cx="9964800" cy="74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0960200" cy="17478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ffffcc"/>
                </a:solidFill>
                <a:latin typeface="Times New Roman"/>
              </a:rPr>
              <a:t>Правило пятое:</a:t>
            </a:r>
            <a:r>
              <a:rPr b="0" lang="en-US" sz="3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3700" spc="-1" strike="noStrike">
                <a:solidFill>
                  <a:srgbClr val="ffffcc"/>
                </a:solidFill>
                <a:latin typeface="Times New Roman"/>
              </a:rPr>
              <a:t>Приятно в лесу посидеть у костра, когда же домой возвращаться пора, перед уходом не жалей костер, землей забросай и водою залей.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5" descr="1346624575_ogon"/>
          <p:cNvPicPr/>
          <p:nvPr/>
        </p:nvPicPr>
        <p:blipFill>
          <a:blip r:embed="rId1"/>
          <a:stretch/>
        </p:blipFill>
        <p:spPr>
          <a:xfrm>
            <a:off x="1136520" y="1824120"/>
            <a:ext cx="9982440" cy="69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1366640" cy="3271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Times New Roman"/>
              </a:rPr>
              <a:t>Миллионы лет назад люди научились добывать огонь. В руках человека он давал свет и тепло. На огне </a:t>
            </a:r>
            <a:r>
              <a:rPr b="0" lang="en-US" sz="2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ffffcc"/>
                </a:solidFill>
                <a:latin typeface="Times New Roman"/>
              </a:rPr>
              <a:t>люди готовили себе пищу, защищались от диких зверей, которые могли напасть на человека. Но стоило давать волю, оставить его без контроля, как добрые действия огня превращались </a:t>
            </a:r>
            <a:r>
              <a:rPr b="0" lang="en-US" sz="2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ffffcc"/>
                </a:solidFill>
                <a:latin typeface="Times New Roman"/>
              </a:rPr>
              <a:t>в зло. Пожары происходят </a:t>
            </a:r>
            <a:r>
              <a:rPr b="0" lang="en-US" sz="2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ffffcc"/>
                </a:solidFill>
                <a:latin typeface="Times New Roman"/>
              </a:rPr>
              <a:t>и по сей день. И очень часто они возникают </a:t>
            </a:r>
            <a:r>
              <a:rPr b="0" lang="en-US" sz="2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ffffcc"/>
                </a:solidFill>
                <a:latin typeface="Times New Roman"/>
              </a:rPr>
              <a:t>там, где неосторожно и небрежно обращаться с огнем. При неосторожности люди получают ожоги и отравления. </a:t>
            </a:r>
            <a:endParaRPr b="0" lang="en-US" sz="2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9" descr="Рисунок4"/>
          <p:cNvPicPr/>
          <p:nvPr/>
        </p:nvPicPr>
        <p:blipFill>
          <a:blip r:embed="rId1"/>
          <a:stretch/>
        </p:blipFill>
        <p:spPr>
          <a:xfrm>
            <a:off x="6394320" y="3654360"/>
            <a:ext cx="5784840" cy="548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Рисунок5"/>
          <p:cNvPicPr/>
          <p:nvPr/>
        </p:nvPicPr>
        <p:blipFill>
          <a:blip r:embed="rId2"/>
          <a:stretch/>
        </p:blipFill>
        <p:spPr>
          <a:xfrm>
            <a:off x="0" y="3656160"/>
            <a:ext cx="62816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6080" y="609120"/>
            <a:ext cx="5987880" cy="7915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Здравствуйте, ребята!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Я инспектор Пожарный, мне нужна ваша помощь. Вы готовы стать юными пожарниками, оказать помощь при тушении пожара?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Прежде чем допустить вас к работе, проверим ваши знания, проведем экзамен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6" descr="Рисунок7"/>
          <p:cNvPicPr/>
          <p:nvPr/>
        </p:nvPicPr>
        <p:blipFill>
          <a:blip r:embed="rId1"/>
          <a:stretch/>
        </p:blipFill>
        <p:spPr>
          <a:xfrm>
            <a:off x="5886360" y="406440"/>
            <a:ext cx="6675480" cy="83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cc"/>
                </a:solidFill>
                <a:latin typeface="Tahoma"/>
              </a:rPr>
              <a:t>Экзамен по пожарной безопасности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1. По какому телефону следует позвонить, если возник пожар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2. Можно ли пользоваться детям спичками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3. Можно ли включать самостоятельно электроприборы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4. Чем можно потушить пожар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89400" y="2030400"/>
            <a:ext cx="6089400" cy="7104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А на прощанье хочу дать вам один совет: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Кто с огнем неосторожен,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У того пожар возможен,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Ребята, помните, о том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Что нельзя шутить с огнем!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%D1%80%D0%BE%D1%87%D1%81"/>
          <p:cNvPicPr/>
          <p:nvPr/>
        </p:nvPicPr>
        <p:blipFill>
          <a:blip r:embed="rId1"/>
          <a:stretch/>
        </p:blipFill>
        <p:spPr>
          <a:xfrm>
            <a:off x="203040" y="1928880"/>
            <a:ext cx="588672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6"/>
          <p:cNvGraphicFramePr/>
          <p:nvPr/>
        </p:nvGraphicFramePr>
        <p:xfrm>
          <a:off x="6191280" y="2836800"/>
          <a:ext cx="4871880" cy="27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1280" y="2836800"/>
                    <a:ext cx="487188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7"/>
          <p:cNvSpPr/>
          <p:nvPr/>
        </p:nvSpPr>
        <p:spPr>
          <a:xfrm>
            <a:off x="4668840" y="1566360"/>
            <a:ext cx="710424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Веселый шалунишка,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Оранжевый мальчишка,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Лишь вечер настает,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Концерт в печи дает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Разбегался мальчонка,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Трещат дровишки звонко,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Оранжевые пряди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Так хочется погладить…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Зовется он…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hot-games-icon"/>
          <p:cNvPicPr/>
          <p:nvPr/>
        </p:nvPicPr>
        <p:blipFill>
          <a:blip r:embed="rId3"/>
          <a:stretch/>
        </p:blipFill>
        <p:spPr>
          <a:xfrm>
            <a:off x="507960" y="1827360"/>
            <a:ext cx="423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ffcc"/>
                </a:solidFill>
                <a:latin typeface="Tahoma"/>
              </a:rPr>
              <a:t>Вопросы:</a:t>
            </a: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lnSpc>
                <a:spcPct val="90000"/>
              </a:lnSpc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Как называется профессия людей, борющихся с огнем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Что вы знаете о форме пожарного?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Скажите, ребята, зачем пожарному каска?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Как вы думаете, почему, пожарная машина красная? </a:t>
            </a: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Какой номер мы должны набрать по телефону, чтобы вызвать пожарных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i="1" lang="ru-RU" sz="5300" spc="-1" strike="noStrike">
                <a:solidFill>
                  <a:srgbClr val="ffffcc"/>
                </a:solidFill>
                <a:latin typeface="Tahoma"/>
              </a:rPr>
              <a:t>Рекомендации о безопасном поведении</a:t>
            </a:r>
            <a:r>
              <a:rPr b="0" lang="ru-RU" sz="5300" spc="-1" strike="noStrike">
                <a:solidFill>
                  <a:srgbClr val="ffffcc"/>
                </a:solidFill>
                <a:latin typeface="Tahoma"/>
              </a:rPr>
              <a:t>» 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600" y="2638080"/>
            <a:ext cx="10960200" cy="5987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 fontScale="97000"/>
          </a:bodyPr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Слезы пожара не тушат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Спички – не игрушка, огонь не забава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Нет дыма без огня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Кто огня не бережется, тот скоро обожжется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Спичка – невеличка, огонь – великан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Водой тушат пожар, а умом предотвращают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50a9b98741caf"/>
          <p:cNvPicPr/>
          <p:nvPr/>
        </p:nvPicPr>
        <p:blipFill>
          <a:blip r:embed="rId1"/>
          <a:stretch/>
        </p:blipFill>
        <p:spPr>
          <a:xfrm>
            <a:off x="507960" y="609480"/>
            <a:ext cx="11061720" cy="77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0960200" cy="909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i="1" lang="ru-RU" sz="5300" spc="-1" strike="noStrike">
                <a:solidFill>
                  <a:srgbClr val="ffffcc"/>
                </a:solidFill>
                <a:latin typeface="Tahoma"/>
              </a:rPr>
              <a:t>Картинная галерея</a:t>
            </a:r>
            <a:r>
              <a:rPr b="0" lang="ru-RU" sz="5300" spc="-1" strike="noStrike">
                <a:solidFill>
                  <a:srgbClr val="ffffcc"/>
                </a:solidFill>
                <a:latin typeface="Tahoma"/>
              </a:rPr>
              <a:t>» 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5" descr="%D0%A1%D0%BF%D0%B8%D1%87%D0%BA%D0%B8"/>
          <p:cNvPicPr/>
          <p:nvPr/>
        </p:nvPicPr>
        <p:blipFill>
          <a:blip r:embed="rId1"/>
          <a:stretch/>
        </p:blipFill>
        <p:spPr>
          <a:xfrm>
            <a:off x="374760" y="909720"/>
            <a:ext cx="5333760" cy="373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stixi-dlya-detej-pravila-pozharnoj-bezopasnosti-5"/>
          <p:cNvPicPr/>
          <p:nvPr/>
        </p:nvPicPr>
        <p:blipFill>
          <a:blip r:embed="rId2"/>
          <a:stretch/>
        </p:blipFill>
        <p:spPr>
          <a:xfrm>
            <a:off x="6470640" y="909720"/>
            <a:ext cx="5278320" cy="369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pozharnojbezopasnosti1"/>
          <p:cNvPicPr/>
          <p:nvPr/>
        </p:nvPicPr>
        <p:blipFill>
          <a:blip r:embed="rId3"/>
          <a:stretch/>
        </p:blipFill>
        <p:spPr>
          <a:xfrm>
            <a:off x="6191280" y="5024520"/>
            <a:ext cx="5537160" cy="38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1346624575_ogon"/>
          <p:cNvPicPr/>
          <p:nvPr/>
        </p:nvPicPr>
        <p:blipFill>
          <a:blip r:embed="rId4"/>
          <a:stretch/>
        </p:blipFill>
        <p:spPr>
          <a:xfrm>
            <a:off x="349200" y="5024520"/>
            <a:ext cx="55371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0960200" cy="18241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Правило первое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асается каждого, правило первое самое важное! На улице, и в комнате о нем ребята помните: Спички не тронь – в спичках огонь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Рисунок12"/>
          <p:cNvPicPr/>
          <p:nvPr/>
        </p:nvPicPr>
        <p:blipFill>
          <a:blip r:embed="rId1"/>
          <a:stretch/>
        </p:blipFill>
        <p:spPr>
          <a:xfrm>
            <a:off x="1060560" y="1671480"/>
            <a:ext cx="1013436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0960200" cy="18874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ffffcc"/>
                </a:solidFill>
                <a:latin typeface="Times New Roman"/>
              </a:rPr>
              <a:t>Правило второе</a:t>
            </a:r>
            <a:r>
              <a:rPr b="0" i="1" lang="en-US" sz="3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3700" spc="-1" strike="noStrike">
                <a:solidFill>
                  <a:srgbClr val="ffffcc"/>
                </a:solidFill>
                <a:latin typeface="Times New Roman"/>
              </a:rPr>
              <a:t>легко запомнить можно: с электроприборами, будьте осторожны, с утюгом и чайником, с плитой и паяльником.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7" descr="Рисунок11 (копия)"/>
          <p:cNvPicPr/>
          <p:nvPr/>
        </p:nvPicPr>
        <p:blipFill>
          <a:blip r:embed="rId1"/>
          <a:stretch/>
        </p:blipFill>
        <p:spPr>
          <a:xfrm>
            <a:off x="984240" y="1900080"/>
            <a:ext cx="9960120" cy="69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0960200" cy="1366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ffffcc"/>
                </a:solidFill>
                <a:latin typeface="Times New Roman"/>
              </a:rPr>
              <a:t>Правило третье:</a:t>
            </a:r>
            <a:r>
              <a:rPr b="0" i="1" lang="en-US" sz="3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3700" spc="-1" strike="noStrike">
                <a:solidFill>
                  <a:srgbClr val="ffffcc"/>
                </a:solidFill>
                <a:latin typeface="Times New Roman"/>
              </a:rPr>
              <a:t>Не оставляйте горящий газ, за газом нужен глаз да глаз.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9" descr="Рисунок10"/>
          <p:cNvPicPr/>
          <p:nvPr/>
        </p:nvPicPr>
        <p:blipFill>
          <a:blip r:embed="rId1"/>
          <a:stretch/>
        </p:blipFill>
        <p:spPr>
          <a:xfrm>
            <a:off x="907920" y="1366920"/>
            <a:ext cx="1069020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3:04:17Z</dcterms:created>
  <dc:creator>Администратор</dc:creator>
  <dc:description/>
  <dc:language>en-US</dc:language>
  <cp:lastModifiedBy>Алексей</cp:lastModifiedBy>
  <dcterms:modified xsi:type="dcterms:W3CDTF">2020-11-12T15:48:18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