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700-8AA0-4D29-91E8-6581D57BC2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43A-7EA9-4552-9F94-492971AFE5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найти правильную запись десятичной дроби и выписать соответствующую ей бу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получившееся слово и ответить, что оно озна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ют,  смотрим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100-6787-421F-8889-81BAA11B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A0D-01A7-4A46-B1A2-2F7715F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809-080C-4648-9F58-231D2324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C90-5738-4F05-BEDC-60542A92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E282-09FF-4044-AC1D-0ECF7D08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8CB4-E559-4E67-B3BB-99F22534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C23-D095-4076-806E-060CA639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ECEB-AEDD-44BA-8435-E0F56B5B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87D1-45FC-4E71-A6D9-A49F3A4D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6C22-AFDD-485E-AB2E-725A323B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444B-AA69-4AB6-AFDD-5757DEE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B6AB-2C24-4F60-9134-BA91BAA7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742-87D9-4C2B-B223-69DD3A03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0333-B4E4-4C29-AEE1-D049252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0F6F-1516-4EBB-8948-4F84F7F4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210-1B99-42BA-8BBE-5DF51329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7F7B-0741-4968-9ABC-CEB45F98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5315-1186-4A08-882B-7CE8AD1F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36A3-103A-4DAF-B394-8F087C2D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0F4F-3418-429A-9346-A0CC1C56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5691-4E33-4822-B009-8D4D5F5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41C7-E81D-430A-A112-B40F797D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0C1-8A9D-415B-A527-06A6FD85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E846C-6755-486A-9407-C1D1773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3B55-0A3F-4CD3-A279-A0ABDD49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140E-82D5-46DA-854A-E07F9D70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BC0B-E605-4769-AD06-1A5E6B59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46484-ACBA-4ADB-BC22-E9FAA67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2A7B3-CAB9-4C23-B131-CB1425D3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A23F-3F77-444B-ADEC-F4D4E586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8062-D8A3-4FC8-919F-E3EC8FE3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EF4B3-DADB-4782-97DC-A98FBE07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3F68-7AE2-4A9A-B705-3F245BF0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C2B-B8DF-41F0-8228-01845908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4761D-1639-4CC0-9EAD-287A4D6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EAF9-B8BB-4BC7-BE40-FDFE869E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A17B-48EA-4DA7-8614-FD3053A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D866A-D6C2-4AC0-A1C1-88FF7AFF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B48C-736E-4400-B125-4A40CEB2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B8500-4E24-4DAC-8CC8-5251A3A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8AB4-D1B7-4A73-ADB8-283D0BD9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CFD8-AA79-41C4-8CD6-4F99EB8F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B61C3-A3A3-4DA7-A760-BA136375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DA992-2569-4335-B0F3-AF452FE7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8D0-1817-4CE9-878B-2A6095A5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57DC-CBF0-461B-AB0D-D383C793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86A9-1174-4E64-B79E-BBCAD47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51D4-368A-4E31-9C7E-5B152871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B0EA-B84C-4839-A8AF-8CFA19E9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BD32-E837-4F4D-90E7-433AE310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8A50-88DC-431F-B0F6-E70E421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EA9D-9CB6-44B1-BD86-70AD13E3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82BC2-46DB-44AA-B357-47043F5C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754E-B51E-4285-9D14-F17954F4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BFBE-1BC5-4352-9186-E4B7748A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EA5-0BB3-4896-8291-C7362388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5B0B-C53D-4B94-8671-F1B3F001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499-9EA1-4CA8-8182-3A3D036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EE7-38D8-45DD-B0C0-1E92899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C9E-9BE1-4447-85E1-04CE1772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8E0B-F45C-4141-BC54-B975DA5F56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6E2-4D55-46D4-879E-215FD5214A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0BF-EC41-41E6-83FC-FEA797520B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E03-B739-4920-801A-654D48286CA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BFEB-3CEB-4A43-9B39-58E9BA9E582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" Target="slide2.xml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0040" y="765000"/>
            <a:ext cx="7786800" cy="147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i="1" lang="ru-RU" sz="4900" spc="-1" strike="noStrike">
                <a:solidFill>
                  <a:srgbClr val="771f28"/>
                </a:solidFill>
                <a:latin typeface="Verdana"/>
              </a:rPr>
              <a:t>Десятичная запись дробных чисел</a:t>
            </a:r>
            <a:endParaRPr b="1" lang="en-US" sz="4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619280" y="3428640"/>
            <a:ext cx="7200720" cy="2808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a743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Verdana"/>
              </a:rPr>
              <a:t>Математика уступает свои крепости лишь сильным и смелы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d0d0d"/>
                </a:solidFill>
                <a:latin typeface="Verdana"/>
              </a:rPr>
              <a:t>(А.П. Конфорович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учитель математики ГБОУ школа №16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d0d0d"/>
                </a:solidFill>
                <a:latin typeface="Verdana"/>
              </a:rPr>
              <a:t>Мандригель О.И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523880" y="1397160"/>
          <a:ext cx="7081920" cy="4979880"/>
        </p:xfrm>
        <a:graphic>
          <a:graphicData uri="http://schemas.openxmlformats.org/drawingml/2006/table">
            <a:tbl>
              <a:tblPr/>
              <a:tblGrid>
                <a:gridCol w="2051280"/>
                <a:gridCol w="1836720"/>
                <a:gridCol w="1596960"/>
                <a:gridCol w="15969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Дробное число</a:t>
                      </a:r>
                      <a:r>
                        <a:rPr b="0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Количество нулей в знаменателе</a:t>
                      </a:r>
                      <a:r>
                        <a:rPr b="0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Десятичная дроб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Количество цифр после запятой</a:t>
                      </a:r>
                      <a:r>
                        <a:rPr b="0" i="1" lang="ru-RU" sz="1800" spc="-1" strike="noStrike">
                          <a:solidFill>
                            <a:srgbClr val="783f04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19" name="Object 650"/>
              <p:cNvSpPr txBox="1"/>
              <p:nvPr/>
            </p:nvSpPr>
            <p:spPr>
              <a:xfrm>
                <a:off x="2124000" y="2349360"/>
                <a:ext cx="3463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651"/>
              <p:cNvSpPr txBox="1"/>
              <p:nvPr/>
            </p:nvSpPr>
            <p:spPr>
              <a:xfrm>
                <a:off x="2124000" y="2997360"/>
                <a:ext cx="486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654"/>
              <p:cNvSpPr txBox="1"/>
              <p:nvPr/>
            </p:nvSpPr>
            <p:spPr>
              <a:xfrm>
                <a:off x="2124000" y="3716280"/>
                <a:ext cx="590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652"/>
              <p:cNvSpPr txBox="1"/>
              <p:nvPr/>
            </p:nvSpPr>
            <p:spPr>
              <a:xfrm>
                <a:off x="2124000" y="4365720"/>
                <a:ext cx="608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648"/>
              <p:cNvSpPr txBox="1"/>
              <p:nvPr/>
            </p:nvSpPr>
            <p:spPr>
              <a:xfrm>
                <a:off x="2050920" y="5084640"/>
                <a:ext cx="709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882"/>
              <p:cNvSpPr txBox="1"/>
              <p:nvPr/>
            </p:nvSpPr>
            <p:spPr>
              <a:xfrm>
                <a:off x="1979640" y="5732640"/>
                <a:ext cx="831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2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5" name="TextBox 12" descr=""/>
          <p:cNvPicPr/>
          <p:nvPr/>
        </p:nvPicPr>
        <p:blipFill>
          <a:blip r:embed="rId1"/>
          <a:stretch/>
        </p:blipFill>
        <p:spPr>
          <a:xfrm>
            <a:off x="1468440" y="122400"/>
            <a:ext cx="74311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1619280" y="1628640"/>
                <a:ext cx="1123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2771640" y="1844640"/>
                <a:ext cx="86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1619280" y="2565360"/>
                <a:ext cx="11174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2771640" y="2708280"/>
                <a:ext cx="863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1619280" y="3500280"/>
                <a:ext cx="154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3132000" y="3692520"/>
                <a:ext cx="1295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0"/>
              <p:cNvSpPr txBox="1"/>
              <p:nvPr/>
            </p:nvSpPr>
            <p:spPr>
              <a:xfrm>
                <a:off x="1547640" y="4437000"/>
                <a:ext cx="1511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11"/>
              <p:cNvSpPr txBox="1"/>
              <p:nvPr/>
            </p:nvSpPr>
            <p:spPr>
              <a:xfrm>
                <a:off x="3132000" y="4581360"/>
                <a:ext cx="1224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76360" y="356760"/>
            <a:ext cx="7424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743a"/>
                </a:solidFill>
                <a:latin typeface="Verdana"/>
              </a:rPr>
              <a:t>ИГРА  «Прочитай слово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547640" y="1222200"/>
          <a:ext cx="7345440" cy="5303880"/>
        </p:xfrm>
        <a:graphic>
          <a:graphicData uri="http://schemas.openxmlformats.org/drawingml/2006/table">
            <a:tbl>
              <a:tblPr/>
              <a:tblGrid>
                <a:gridCol w="3848400"/>
                <a:gridCol w="1164960"/>
                <a:gridCol w="1167120"/>
                <a:gridCol w="116496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Пять целых две деся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5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Ноль целых восем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0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Три целых двадцать пят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,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Шестнадцать целых пять со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6,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6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Восемнадцать целых восемь сот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8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18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Тридцать четыре целых сто пять тыся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4,0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4,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34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82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a743a"/>
                          </a:solidFill>
                          <a:latin typeface="Comic Sans M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1619280" y="189000"/>
            <a:ext cx="6985080" cy="15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23232"/>
                  </a:solidFill>
                  <a:miter/>
                </a:ln>
                <a:solidFill>
                  <a:srgbClr val="ece5d5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12600">
                <a:solidFill>
                  <a:srgbClr val="323232"/>
                </a:solidFill>
                <a:miter/>
              </a:ln>
              <a:solidFill>
                <a:srgbClr val="ece5d5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0" name="Text Box 6" descr=""/>
          <p:cNvPicPr/>
          <p:nvPr/>
        </p:nvPicPr>
        <p:blipFill>
          <a:blip r:embed="rId1"/>
          <a:stretch/>
        </p:blipFill>
        <p:spPr>
          <a:xfrm>
            <a:off x="1542960" y="1779480"/>
            <a:ext cx="7283520" cy="592200"/>
          </a:xfrm>
          <a:prstGeom prst="rect">
            <a:avLst/>
          </a:prstGeom>
          <a:ln w="0">
            <a:noFill/>
          </a:ln>
        </p:spPr>
      </p:pic>
      <p:pic>
        <p:nvPicPr>
          <p:cNvPr id="231" name="Text Box 7" descr=""/>
          <p:cNvPicPr/>
          <p:nvPr/>
        </p:nvPicPr>
        <p:blipFill>
          <a:blip r:embed="rId2"/>
          <a:stretch/>
        </p:blipFill>
        <p:spPr>
          <a:xfrm>
            <a:off x="1347840" y="2792520"/>
            <a:ext cx="6113520" cy="58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2050920" y="2565360"/>
                <a:ext cx="5954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3" name="Text Box 9" descr=""/>
          <p:cNvPicPr/>
          <p:nvPr/>
        </p:nvPicPr>
        <p:blipFill>
          <a:blip r:embed="rId3"/>
          <a:stretch/>
        </p:blipFill>
        <p:spPr>
          <a:xfrm>
            <a:off x="1316160" y="3846600"/>
            <a:ext cx="2543040" cy="66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10"/>
              <p:cNvSpPr txBox="1"/>
              <p:nvPr/>
            </p:nvSpPr>
            <p:spPr>
              <a:xfrm>
                <a:off x="2843280" y="3500280"/>
                <a:ext cx="5047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050920" y="3789360"/>
                <a:ext cx="433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6" name="Text Box 12" descr=""/>
          <p:cNvPicPr/>
          <p:nvPr/>
        </p:nvPicPr>
        <p:blipFill>
          <a:blip r:embed="rId4"/>
          <a:stretch/>
        </p:blipFill>
        <p:spPr>
          <a:xfrm>
            <a:off x="3981600" y="3767040"/>
            <a:ext cx="809640" cy="6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4643280" y="3429000"/>
                <a:ext cx="367380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Text Box 14" descr=""/>
          <p:cNvPicPr/>
          <p:nvPr/>
        </p:nvPicPr>
        <p:blipFill>
          <a:blip r:embed="rId5"/>
          <a:stretch/>
        </p:blipFill>
        <p:spPr>
          <a:xfrm>
            <a:off x="1316160" y="5430960"/>
            <a:ext cx="957240" cy="67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9" name="Object 15"/>
              <p:cNvSpPr txBox="1"/>
              <p:nvPr/>
            </p:nvSpPr>
            <p:spPr>
              <a:xfrm>
                <a:off x="1908000" y="5084640"/>
                <a:ext cx="288000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TextBox 12"/>
          <p:cNvSpPr/>
          <p:nvPr/>
        </p:nvSpPr>
        <p:spPr>
          <a:xfrm>
            <a:off x="1518480" y="107172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рганизационный мо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ext Box 4" descr=""/>
          <p:cNvPicPr/>
          <p:nvPr/>
        </p:nvPicPr>
        <p:blipFill>
          <a:blip r:embed="rId1"/>
          <a:stretch/>
        </p:blipFill>
        <p:spPr>
          <a:xfrm>
            <a:off x="1255680" y="414360"/>
            <a:ext cx="927000" cy="74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1908000" y="189000"/>
                <a:ext cx="24498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Text Box 6" descr=""/>
          <p:cNvPicPr/>
          <p:nvPr/>
        </p:nvPicPr>
        <p:blipFill>
          <a:blip r:embed="rId2"/>
          <a:stretch/>
        </p:blipFill>
        <p:spPr>
          <a:xfrm>
            <a:off x="1255680" y="3017880"/>
            <a:ext cx="1017720" cy="7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1979640" y="2708280"/>
                <a:ext cx="14637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5" name="Text Box 8" descr=""/>
          <p:cNvPicPr/>
          <p:nvPr/>
        </p:nvPicPr>
        <p:blipFill>
          <a:blip r:embed="rId3"/>
          <a:stretch/>
        </p:blipFill>
        <p:spPr>
          <a:xfrm>
            <a:off x="4572000" y="1792440"/>
            <a:ext cx="2882880" cy="742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6" name="Object 9"/>
              <p:cNvSpPr txBox="1"/>
              <p:nvPr/>
            </p:nvSpPr>
            <p:spPr>
              <a:xfrm>
                <a:off x="5580000" y="1700280"/>
                <a:ext cx="6127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0"/>
              <p:cNvSpPr txBox="1"/>
              <p:nvPr/>
            </p:nvSpPr>
            <p:spPr>
              <a:xfrm>
                <a:off x="6804000" y="1700280"/>
                <a:ext cx="434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8" name="Text Box 11" descr=""/>
          <p:cNvPicPr/>
          <p:nvPr/>
        </p:nvPicPr>
        <p:blipFill>
          <a:blip r:embed="rId4"/>
          <a:stretch/>
        </p:blipFill>
        <p:spPr>
          <a:xfrm>
            <a:off x="4211640" y="4456080"/>
            <a:ext cx="4468680" cy="74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" name="Object 12"/>
              <p:cNvSpPr txBox="1"/>
              <p:nvPr/>
            </p:nvSpPr>
            <p:spPr>
              <a:xfrm>
                <a:off x="4859280" y="4221000"/>
                <a:ext cx="5223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ext Box 4" descr=""/>
          <p:cNvPicPr/>
          <p:nvPr/>
        </p:nvPicPr>
        <p:blipFill>
          <a:blip r:embed="rId1"/>
          <a:stretch/>
        </p:blipFill>
        <p:spPr>
          <a:xfrm>
            <a:off x="1468440" y="237960"/>
            <a:ext cx="7431120" cy="646200"/>
          </a:xfrm>
          <a:prstGeom prst="rect">
            <a:avLst/>
          </a:prstGeom>
          <a:ln w="0">
            <a:noFill/>
          </a:ln>
        </p:spPr>
      </p:pic>
      <p:pic>
        <p:nvPicPr>
          <p:cNvPr id="251" name="Text Box 5" descr=""/>
          <p:cNvPicPr/>
          <p:nvPr/>
        </p:nvPicPr>
        <p:blipFill>
          <a:blip r:embed="rId2"/>
          <a:stretch/>
        </p:blipFill>
        <p:spPr>
          <a:xfrm>
            <a:off x="1328760" y="1359000"/>
            <a:ext cx="1017720" cy="74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1979640" y="1125360"/>
                <a:ext cx="18572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3" name="Text Box 7" descr=""/>
          <p:cNvPicPr/>
          <p:nvPr/>
        </p:nvPicPr>
        <p:blipFill>
          <a:blip r:embed="rId3"/>
          <a:stretch/>
        </p:blipFill>
        <p:spPr>
          <a:xfrm>
            <a:off x="1328760" y="2438280"/>
            <a:ext cx="5986440" cy="219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1908000" y="3284640"/>
                <a:ext cx="443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2627280" y="3068640"/>
                <a:ext cx="5018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1"/>
              <p:cNvSpPr txBox="1"/>
              <p:nvPr/>
            </p:nvSpPr>
            <p:spPr>
              <a:xfrm>
                <a:off x="3492360" y="3068640"/>
                <a:ext cx="460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7" name="Text Box 12" descr=""/>
          <p:cNvPicPr/>
          <p:nvPr/>
        </p:nvPicPr>
        <p:blipFill>
          <a:blip r:embed="rId4"/>
          <a:stretch/>
        </p:blipFill>
        <p:spPr>
          <a:xfrm>
            <a:off x="1328760" y="4816440"/>
            <a:ext cx="1017720" cy="743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8" name="Object 13"/>
              <p:cNvSpPr txBox="1"/>
              <p:nvPr/>
            </p:nvSpPr>
            <p:spPr>
              <a:xfrm>
                <a:off x="2050920" y="4581360"/>
                <a:ext cx="19670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ext Box 4" descr=""/>
          <p:cNvPicPr/>
          <p:nvPr/>
        </p:nvPicPr>
        <p:blipFill>
          <a:blip r:embed="rId1"/>
          <a:stretch/>
        </p:blipFill>
        <p:spPr>
          <a:xfrm>
            <a:off x="3840120" y="530280"/>
            <a:ext cx="811080" cy="676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4643280" y="260280"/>
                <a:ext cx="1873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Text Box 6" descr=""/>
          <p:cNvPicPr/>
          <p:nvPr/>
        </p:nvPicPr>
        <p:blipFill>
          <a:blip r:embed="rId2"/>
          <a:stretch/>
        </p:blipFill>
        <p:spPr>
          <a:xfrm>
            <a:off x="1316160" y="2255760"/>
            <a:ext cx="957240" cy="6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2" name="Object 8"/>
              <p:cNvSpPr txBox="1"/>
              <p:nvPr/>
            </p:nvSpPr>
            <p:spPr>
              <a:xfrm>
                <a:off x="1908000" y="1989000"/>
                <a:ext cx="289908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см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3" name="Text Box 9" descr=""/>
          <p:cNvPicPr/>
          <p:nvPr/>
        </p:nvPicPr>
        <p:blipFill>
          <a:blip r:embed="rId3"/>
          <a:stretch/>
        </p:blipFill>
        <p:spPr>
          <a:xfrm>
            <a:off x="5132520" y="2255760"/>
            <a:ext cx="811080" cy="6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5867280" y="2060640"/>
                <a:ext cx="216072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Text Box 11" descr=""/>
          <p:cNvPicPr/>
          <p:nvPr/>
        </p:nvPicPr>
        <p:blipFill>
          <a:blip r:embed="rId4"/>
          <a:stretch/>
        </p:blipFill>
        <p:spPr>
          <a:xfrm>
            <a:off x="1316160" y="4133880"/>
            <a:ext cx="3547800" cy="669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Object 13"/>
              <p:cNvSpPr txBox="1"/>
              <p:nvPr/>
            </p:nvSpPr>
            <p:spPr>
              <a:xfrm>
                <a:off x="1979640" y="3789360"/>
                <a:ext cx="5428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4"/>
              <p:cNvSpPr txBox="1"/>
              <p:nvPr/>
            </p:nvSpPr>
            <p:spPr>
              <a:xfrm>
                <a:off x="2987640" y="3789360"/>
                <a:ext cx="5112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8" name="Text Box 15" descr=""/>
          <p:cNvPicPr/>
          <p:nvPr/>
        </p:nvPicPr>
        <p:blipFill>
          <a:blip r:embed="rId5"/>
          <a:stretch/>
        </p:blipFill>
        <p:spPr>
          <a:xfrm>
            <a:off x="3767040" y="3846600"/>
            <a:ext cx="5383440" cy="215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4788000" y="4437000"/>
                <a:ext cx="7095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7"/>
              <p:cNvSpPr txBox="1"/>
              <p:nvPr/>
            </p:nvSpPr>
            <p:spPr>
              <a:xfrm>
                <a:off x="6012000" y="4365720"/>
                <a:ext cx="4600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8"/>
              <p:cNvSpPr txBox="1"/>
              <p:nvPr/>
            </p:nvSpPr>
            <p:spPr>
              <a:xfrm>
                <a:off x="7164360" y="4365720"/>
                <a:ext cx="501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AutoShape 19">
            <a:hlinkClick r:id="rId6" action="ppaction://hlinksldjump"/>
          </p:cNvPr>
          <p:cNvSpPr/>
          <p:nvPr/>
        </p:nvSpPr>
        <p:spPr>
          <a:xfrm>
            <a:off x="395280" y="5877000"/>
            <a:ext cx="576360" cy="7189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39">
                <a:moveTo>
                  <a:pt x="0" y="0"/>
                </a:moveTo>
                <a:lnTo>
                  <a:pt x="21600" y="0"/>
                </a:lnTo>
                <a:lnTo>
                  <a:pt x="21600" y="26939"/>
                </a:lnTo>
                <a:lnTo>
                  <a:pt x="0" y="26939"/>
                </a:lnTo>
                <a:close/>
              </a:path>
              <a:path fill="lightenLess" w="21600" h="269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9">
                <a:moveTo>
                  <a:pt x="21600" y="0"/>
                </a:moveTo>
                <a:lnTo>
                  <a:pt x="21600" y="26939"/>
                </a:lnTo>
                <a:lnTo>
                  <a:pt x="20200" y="25539"/>
                </a:lnTo>
                <a:lnTo>
                  <a:pt x="20200" y="1400"/>
                </a:lnTo>
                <a:close/>
              </a:path>
              <a:path fill="darkenLess" w="21600" h="26939">
                <a:moveTo>
                  <a:pt x="21600" y="26939"/>
                </a:moveTo>
                <a:lnTo>
                  <a:pt x="0" y="26939"/>
                </a:lnTo>
                <a:lnTo>
                  <a:pt x="1400" y="25539"/>
                </a:lnTo>
                <a:lnTo>
                  <a:pt x="20200" y="25539"/>
                </a:lnTo>
                <a:close/>
              </a:path>
              <a:path fill="lighten" w="21600" h="26939">
                <a:moveTo>
                  <a:pt x="0" y="269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9"/>
                </a:lnTo>
                <a:close/>
              </a:path>
              <a:path fill="darken" w="21600" h="26939">
                <a:moveTo>
                  <a:pt x="3794" y="10162"/>
                </a:moveTo>
                <a:lnTo>
                  <a:pt x="7301" y="10162"/>
                </a:lnTo>
                <a:lnTo>
                  <a:pt x="7301" y="15498"/>
                </a:lnTo>
                <a:cubicBezTo>
                  <a:pt x="7301" y="16420"/>
                  <a:pt x="8102" y="17151"/>
                  <a:pt x="9138" y="17151"/>
                </a:cubicBezTo>
                <a:lnTo>
                  <a:pt x="10800" y="17151"/>
                </a:lnTo>
                <a:cubicBezTo>
                  <a:pt x="11836" y="17151"/>
                  <a:pt x="12636" y="16420"/>
                  <a:pt x="12636" y="15498"/>
                </a:cubicBezTo>
                <a:lnTo>
                  <a:pt x="12636" y="10162"/>
                </a:lnTo>
                <a:lnTo>
                  <a:pt x="10800" y="10162"/>
                </a:lnTo>
                <a:lnTo>
                  <a:pt x="14308" y="6655"/>
                </a:lnTo>
                <a:lnTo>
                  <a:pt x="17981" y="10162"/>
                </a:lnTo>
                <a:lnTo>
                  <a:pt x="16144" y="10162"/>
                </a:lnTo>
                <a:lnTo>
                  <a:pt x="16144" y="15498"/>
                </a:lnTo>
                <a:cubicBezTo>
                  <a:pt x="16144" y="18265"/>
                  <a:pt x="13568" y="20824"/>
                  <a:pt x="10800" y="20824"/>
                </a:cubicBezTo>
                <a:lnTo>
                  <a:pt x="9138" y="20824"/>
                </a:lnTo>
                <a:cubicBezTo>
                  <a:pt x="6370" y="20824"/>
                  <a:pt x="3794" y="18265"/>
                  <a:pt x="3794" y="15498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4"/>
          <p:cNvSpPr txBox="1"/>
          <p:nvPr/>
        </p:nvSpPr>
        <p:spPr>
          <a:xfrm>
            <a:off x="1476360" y="189000"/>
            <a:ext cx="748836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8000">
                  <a:solidFill>
                    <a:srgbClr val="1f1fad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18000">
                <a:solidFill>
                  <a:srgbClr val="1f1fad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4" name="Text Box 5" descr=""/>
          <p:cNvPicPr/>
          <p:nvPr/>
        </p:nvPicPr>
        <p:blipFill>
          <a:blip r:embed="rId1"/>
          <a:stretch/>
        </p:blipFill>
        <p:spPr>
          <a:xfrm>
            <a:off x="1311120" y="1603440"/>
            <a:ext cx="7588440" cy="1182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5" name="Object 6"/>
              <p:cNvSpPr txBox="1"/>
              <p:nvPr/>
            </p:nvSpPr>
            <p:spPr>
              <a:xfrm>
                <a:off x="1476360" y="3141720"/>
                <a:ext cx="7558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6" name="Прямоугольник 6" descr=""/>
          <p:cNvPicPr/>
          <p:nvPr/>
        </p:nvPicPr>
        <p:blipFill>
          <a:blip r:embed="rId2"/>
          <a:stretch/>
        </p:blipFill>
        <p:spPr>
          <a:xfrm>
            <a:off x="1468440" y="4413240"/>
            <a:ext cx="7431120" cy="14270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5"/>
          <p:cNvSpPr/>
          <p:nvPr/>
        </p:nvSpPr>
        <p:spPr>
          <a:xfrm>
            <a:off x="916560" y="10000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ный сч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763640" y="2492280"/>
            <a:ext cx="6553440" cy="3270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6"/>
              <p:cNvSpPr txBox="1"/>
              <p:nvPr/>
            </p:nvSpPr>
            <p:spPr>
              <a:xfrm>
                <a:off x="3132000" y="1700280"/>
                <a:ext cx="10908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7"/>
              <p:cNvSpPr txBox="1"/>
              <p:nvPr/>
            </p:nvSpPr>
            <p:spPr>
              <a:xfrm>
                <a:off x="7308720" y="1700280"/>
                <a:ext cx="8082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1"/>
              <p:cNvSpPr txBox="1"/>
              <p:nvPr/>
            </p:nvSpPr>
            <p:spPr>
              <a:xfrm>
                <a:off x="1692360" y="1773360"/>
                <a:ext cx="853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2"/>
              <p:cNvSpPr txBox="1"/>
              <p:nvPr/>
            </p:nvSpPr>
            <p:spPr>
              <a:xfrm>
                <a:off x="5219640" y="1628640"/>
                <a:ext cx="1138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3"/>
              <p:cNvSpPr txBox="1"/>
              <p:nvPr/>
            </p:nvSpPr>
            <p:spPr>
              <a:xfrm>
                <a:off x="6804000" y="4941720"/>
                <a:ext cx="8064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4"/>
              <p:cNvSpPr txBox="1"/>
              <p:nvPr/>
            </p:nvSpPr>
            <p:spPr>
              <a:xfrm>
                <a:off x="1692360" y="3357720"/>
                <a:ext cx="8539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5"/>
              <p:cNvSpPr txBox="1"/>
              <p:nvPr/>
            </p:nvSpPr>
            <p:spPr>
              <a:xfrm>
                <a:off x="3203640" y="3284640"/>
                <a:ext cx="109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6"/>
              <p:cNvSpPr txBox="1"/>
              <p:nvPr/>
            </p:nvSpPr>
            <p:spPr>
              <a:xfrm>
                <a:off x="4932360" y="3284640"/>
                <a:ext cx="10904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7"/>
              <p:cNvSpPr txBox="1"/>
              <p:nvPr/>
            </p:nvSpPr>
            <p:spPr>
              <a:xfrm>
                <a:off x="6804000" y="3284640"/>
                <a:ext cx="13762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8"/>
              <p:cNvSpPr txBox="1"/>
              <p:nvPr/>
            </p:nvSpPr>
            <p:spPr>
              <a:xfrm>
                <a:off x="2411280" y="5013360"/>
                <a:ext cx="13748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9"/>
              <p:cNvSpPr txBox="1"/>
              <p:nvPr/>
            </p:nvSpPr>
            <p:spPr>
              <a:xfrm>
                <a:off x="4572000" y="5013360"/>
                <a:ext cx="11383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1" name="Прямоугольник 14" descr=""/>
          <p:cNvPicPr/>
          <p:nvPr/>
        </p:nvPicPr>
        <p:blipFill>
          <a:blip r:embed="rId1"/>
          <a:stretch/>
        </p:blipFill>
        <p:spPr>
          <a:xfrm>
            <a:off x="1122480" y="-12600"/>
            <a:ext cx="8167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2700360" y="1484280"/>
                <a:ext cx="14479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6443640" y="1557360"/>
                <a:ext cx="1447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Стрелка вниз 22"/>
          <p:cNvSpPr/>
          <p:nvPr/>
        </p:nvSpPr>
        <p:spPr>
          <a:xfrm flipH="1" rot="19039200">
            <a:off x="4039560" y="2152800"/>
            <a:ext cx="323640" cy="68112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3815640" y="292428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исли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дроб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2316240" y="29973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7"/>
          <p:cNvSpPr/>
          <p:nvPr/>
        </p:nvSpPr>
        <p:spPr>
          <a:xfrm>
            <a:off x="7272360" y="306864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ислител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дроб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23232"/>
                </a:solidFill>
                <a:latin typeface="Times New Roman"/>
              </a:rPr>
              <a:t>ч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Стрелка вниз 28"/>
          <p:cNvSpPr/>
          <p:nvPr/>
        </p:nvSpPr>
        <p:spPr>
          <a:xfrm rot="2560800">
            <a:off x="3031920" y="2152800"/>
            <a:ext cx="323640" cy="6807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Стрелка вниз 29"/>
          <p:cNvSpPr/>
          <p:nvPr/>
        </p:nvSpPr>
        <p:spPr>
          <a:xfrm rot="2560800">
            <a:off x="6703560" y="2223720"/>
            <a:ext cx="324000" cy="6811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Стрелка вниз 30"/>
          <p:cNvSpPr/>
          <p:nvPr/>
        </p:nvSpPr>
        <p:spPr>
          <a:xfrm flipH="1" rot="19039200">
            <a:off x="7710840" y="2223720"/>
            <a:ext cx="324000" cy="6811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31"/>
          <p:cNvSpPr/>
          <p:nvPr/>
        </p:nvSpPr>
        <p:spPr>
          <a:xfrm>
            <a:off x="6060600" y="29242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Цел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а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Левая фигурная скобка 32"/>
          <p:cNvSpPr/>
          <p:nvPr/>
        </p:nvSpPr>
        <p:spPr>
          <a:xfrm rot="16200000">
            <a:off x="4841640" y="423360"/>
            <a:ext cx="685800" cy="741672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4400 h 7416720"/>
              <a:gd name="textAreaBottom" fmla="*/ 7222320 h 74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6"/>
                  <a:pt x="10800" y="1811"/>
                </a:cubicBezTo>
                <a:lnTo>
                  <a:pt x="10800" y="8989"/>
                </a:lnTo>
                <a:cubicBezTo>
                  <a:pt x="10800" y="9895"/>
                  <a:pt x="5400" y="10800"/>
                  <a:pt x="0" y="10800"/>
                </a:cubicBezTo>
                <a:cubicBezTo>
                  <a:pt x="5400" y="10800"/>
                  <a:pt x="10800" y="11706"/>
                  <a:pt x="10800" y="12611"/>
                </a:cubicBezTo>
                <a:lnTo>
                  <a:pt x="10800" y="19789"/>
                </a:lnTo>
                <a:cubicBezTo>
                  <a:pt x="10800" y="20695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23232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Прямоугольник 33" descr=""/>
          <p:cNvPicPr/>
          <p:nvPr/>
        </p:nvPicPr>
        <p:blipFill>
          <a:blip r:embed="rId1"/>
          <a:stretch/>
        </p:blipFill>
        <p:spPr>
          <a:xfrm>
            <a:off x="895320" y="4516560"/>
            <a:ext cx="8066160" cy="80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1619280" y="5445000"/>
                <a:ext cx="7097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7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3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есятичн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роб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1979640" y="1268280"/>
                <a:ext cx="5792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1"/>
              <p:cNvSpPr txBox="1"/>
              <p:nvPr/>
            </p:nvSpPr>
            <p:spPr>
              <a:xfrm>
                <a:off x="5580000" y="1341360"/>
                <a:ext cx="85248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94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38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488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38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26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7140"/>
                            </p:stCondLst>
                            <p:childTnLst>
                              <p:par>
                                <p:cTn id="276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140"/>
                            </p:stCondLst>
                            <p:childTnLst>
                              <p:par>
                                <p:cTn id="282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664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36818E-006 L -0.18159 0.28677 E">
                                      <p:cBhvr>
                                        <p:cTn id="29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54209E-006 L 0.07934 0.27244 E">
                                      <p:cBhvr>
                                        <p:cTn id="30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3" descr=""/>
          <p:cNvPicPr/>
          <p:nvPr/>
        </p:nvPicPr>
        <p:blipFill>
          <a:blip r:embed="rId1"/>
          <a:stretch/>
        </p:blipFill>
        <p:spPr>
          <a:xfrm>
            <a:off x="1407960" y="152280"/>
            <a:ext cx="7564680" cy="290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908000" y="2997360"/>
                <a:ext cx="65325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пиш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в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ид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есятичн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роб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Text Box 18"/>
          <p:cNvSpPr/>
          <p:nvPr/>
        </p:nvSpPr>
        <p:spPr>
          <a:xfrm>
            <a:off x="1619280" y="57326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3059280" y="3933720"/>
                <a:ext cx="14475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TextBox 8"/>
          <p:cNvSpPr/>
          <p:nvPr/>
        </p:nvSpPr>
        <p:spPr>
          <a:xfrm>
            <a:off x="4506840" y="4221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859280" y="4005360"/>
                <a:ext cx="1447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5"/>
              <p:cNvSpPr txBox="1"/>
              <p:nvPr/>
            </p:nvSpPr>
            <p:spPr>
              <a:xfrm>
                <a:off x="2484360" y="5373720"/>
                <a:ext cx="1447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TextBox 11"/>
          <p:cNvSpPr/>
          <p:nvPr/>
        </p:nvSpPr>
        <p:spPr>
          <a:xfrm>
            <a:off x="4001760" y="566100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6"/>
              <p:cNvSpPr txBox="1"/>
              <p:nvPr/>
            </p:nvSpPr>
            <p:spPr>
              <a:xfrm>
                <a:off x="4427640" y="5373720"/>
                <a:ext cx="1447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TextBox 13"/>
          <p:cNvSpPr/>
          <p:nvPr/>
        </p:nvSpPr>
        <p:spPr>
          <a:xfrm>
            <a:off x="5872680" y="5589720"/>
            <a:ext cx="3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4"/>
          <p:cNvSpPr/>
          <p:nvPr/>
        </p:nvSpPr>
        <p:spPr>
          <a:xfrm>
            <a:off x="6365520" y="5516640"/>
            <a:ext cx="12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3232"/>
                </a:solidFill>
                <a:latin typeface="Times New Roman"/>
              </a:rPr>
              <a:t>23,07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20-11-14T20:11:42Z</dcterms:modified>
  <cp:revision>72</cp:revision>
  <dc:subject/>
  <dc:title>Слайд 1</dc:title>
</cp:coreProperties>
</file>