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C5E-8972-44F9-B0B0-E9BCB8AF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160-3B6F-4AA1-A49F-D1B4E14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C8CCF-91E9-442E-A018-695C68D2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604A8-D716-48F4-946C-4ABB0D33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4A106-EB58-43BD-804F-03B079DC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CA8E0-D60B-40FA-A1A8-2122323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483CF-D88F-4DBA-A7DA-DA4EEED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B61F8-49EF-4F53-B6F3-641D1441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A4212-3FF1-46EF-981D-EDDD7565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26C08-8890-49A3-8018-0922DAED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C1721-E3C7-457E-BBDC-EC7912FC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D13EB-9D4C-4A6E-B35D-D8790B7D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E0D-34FF-41E7-9C0F-D586E2B0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95D33-73EE-41A2-A1E1-D638D0F1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E088A-E218-4863-85B5-00C52BC0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C4083-5D0D-49D1-8B03-27717F28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750BE-A28E-4962-B76B-6215BF05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6DF80-7BD1-431B-989E-A0F19996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A01AF-5730-4EEB-85C2-5A8BB14C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0E062-E8D5-487E-9914-D20C0BA5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F20E6-699F-4C3C-BC4B-F461516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A7103-4046-42D4-877C-931DC828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AC794-2636-4A84-80E5-0A1C3EC3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DD6-D2AB-497F-9472-37CAE60F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082AE-9428-43C5-B837-1435972D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698F-27F5-4CC5-90DD-FF36EF69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85D0-7CC8-4104-9FF7-B8C986E1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8191-869E-4600-B365-8E5929AE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A5F2-5B6D-4FB1-A2E1-3B79F78C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AA6A-A7F0-4181-86CD-77C550D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6FC9-F8B0-4B50-98A8-1E5E2884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2408-5F34-4016-9455-8E6E81CC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C66-0881-4E60-A4DB-6FA3B02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47C-1E0F-419D-84EE-E3DDC9A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E624-EFCC-4AF9-9B0C-E835133E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9A01-1937-495C-9789-CA2A7C2D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C31F-3F9C-4979-869C-A933AE6E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2ED9-2D5F-4655-9C85-BC38BB95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4D92-833C-41ED-801B-97A436F6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668D-71BA-47E6-961A-4E84D555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19C4-D1B0-475D-9467-7093A75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A163-7BF5-475C-8ACA-904EBB2D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E7C6-E4B5-45F0-8C25-43538BC5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33B-8F49-4E12-A2E9-0A709B59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FEFF-2156-44CA-8053-03C0C59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A0DF-E3AA-4CBE-8BF4-F90D051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6531-BA9A-47B6-9976-36A55A7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27E2-7A20-45CC-A4DE-05F4A3BE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7B36-FE63-42E7-A2DE-16C5D1D6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C953-FF2A-4B62-89E1-9C1C2A6B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A5A7-8708-4919-AFC7-9BDF2D1C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76B6-636A-4F34-AE85-B5EF77F7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B27C-E885-4B3E-8C54-AE651DD8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2B4A-68C4-4DD3-AD0C-E1A98356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4CC-1AD9-4026-8C55-C0DD1729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AD168-6577-46DD-A420-2CA40A8B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7DF0-608F-46AB-B9DE-3A8797D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C32D-34EE-4A85-A721-75395B46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A00F-DCDE-4BA6-BDCE-13B57A8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0DC0-F665-4C1E-9F9E-1FE5568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3063-B030-4E27-8345-B92F785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72E6F-039C-46C7-AF8D-6276E6C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D0080-FD5E-423A-937E-0C8AA9AC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04AE9-529C-4615-BC19-48114527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59E2C-A4CB-4F61-B687-3B8B3894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C96-4FC4-4CA5-9C0B-0DEC3D91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BE981-A76C-46A7-A0D6-5D7367F2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F06FB-5632-4AB9-AF82-46E2AA74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3534-3EE9-4420-AF00-2FD59E9C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3B4D-A692-4C7D-A71A-D0D243D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E253-E491-4664-9269-564F0EE6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67B2D-88F1-4F4A-B6E2-5F43507D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B447-8449-48AB-A01A-8562AC5B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9ED2B-9526-43CD-AF79-D0B7E699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94612-008C-443B-AEE8-C4F48AC5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2CFF-1EDE-4716-B545-E88216DF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16C-4E0C-4421-9DDF-EB39F621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8E20-1D74-414A-A049-04239048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09E63-728D-422B-AAAA-290DCBF9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CB3DF-AABB-4965-B932-F39C7D92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9947-4991-443D-B0FD-F8DD3B0E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3482-5B98-4062-AA4E-484D5C25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7C89-602A-44E6-ACA6-EB694701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0C20-E128-43FA-B03F-BB5F9590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D4456-7A60-4B81-9B2D-60448729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E5B5-C7A2-453D-97F2-0C7E7182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A4D82-8463-4C4B-80B0-C171171C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E8C-D9B6-440C-8AEF-D184B913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E0EAA-8A04-45C4-AEFC-49F73D65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47ED-2FFB-486F-B592-6E6A3C7A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9887E-E5F0-466A-B3F8-E280A027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CFC8-18BE-404E-8A42-028DF24B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82715-2AFA-4961-AD3F-ADEE8F51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6C3F-01F7-43BF-BDEB-A4BF746D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A9F8F-C059-4821-B675-0436EF93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425C8-13E6-4ED9-9E46-91A783F8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C6C76-186A-44F2-9CDC-6EDEEE1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B592F-0840-46E0-92FE-E2EA4026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CE6-B228-4AA7-87E3-067A175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A0A27-A453-436B-B337-D0750A0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C653A-6857-4D12-9A72-B440564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AC42-1D8D-4EF2-AA11-AA12BF8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31736-3322-4A5A-A15D-B13F44BD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C16EF-5472-4C53-AA10-B436C387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617D9-96A3-47B3-B49E-78F1EA19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91F0E-5FC6-4070-8BD9-4F0A55E9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33CFE-0079-47A5-92A1-6CA6AF2B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54495-D726-420E-8FA3-80A0E61B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90E4-2003-43CA-933E-DE2F212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A9F-DC73-4F57-8B69-279844FF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12DA1-3EAB-472F-B377-D5C6FBEC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8B50-023C-4E23-97F4-9EF139C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E741A-B202-4FF9-938F-E732E07D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4174-988F-4461-B497-6FCB953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DF299-F187-47F6-9B7A-AC38659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3B8E4-536A-4868-941D-4F0D92C0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57038-B7BA-4DFA-853D-E62F04AD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E7FDC-CA3F-40A1-B4C6-D3CCBFD9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49765-8F03-4EE7-87F3-ED59EA31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AA7C2-DF75-466E-B918-C4F2DBA5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CB66-D9C7-4CA1-B1B0-1EA059D1F4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AAC5-92E1-4958-B2AE-58C7089FA3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58CD-2C86-43FD-8EC8-C3ED0488BD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8E52-765B-43A7-A0C0-19748755F1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1DFF-219A-45B8-8583-6A68611010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BEA-D1CB-4758-8D6D-D3CA0246CF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027F-BCDB-4498-AA90-BD844B315E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ABD4-D4B1-47B3-B255-677AFF2FD2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18E9-BA00-47A2-B8E5-F28BAB5BBA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DEF8-F301-4167-8F70-1CC1DE526E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3"/>
          <p:cNvSpPr/>
          <p:nvPr/>
        </p:nvSpPr>
        <p:spPr>
          <a:xfrm>
            <a:off x="1714680" y="1143000"/>
            <a:ext cx="5616360" cy="1297080"/>
          </a:xfrm>
          <a:prstGeom prst="rect">
            <a:avLst/>
          </a:prstGeom>
          <a:solidFill>
            <a:srgbClr val="ffc00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ичастный обо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3500280" y="4286160"/>
            <a:ext cx="539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лдугина Наталья Николаевна, 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«Колыванская СОШ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2286000" y="2500200"/>
            <a:ext cx="491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рок русского языка 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олыван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12" descr="C:\Users\Наташа\Desktop\фото\jvYHlX0CFhM.jpg"/>
          <p:cNvPicPr/>
          <p:nvPr/>
        </p:nvPicPr>
        <p:blipFill>
          <a:blip r:embed="rId1"/>
          <a:stretch/>
        </p:blipFill>
        <p:spPr>
          <a:xfrm>
            <a:off x="571680" y="3357720"/>
            <a:ext cx="2643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856800" y="1000080"/>
            <a:ext cx="7170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Задание1 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ишите в тетрадь и найдите причастные оборот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1) спеющая рожь;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2) лаявшая на людей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3) расчищенная от снега;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4) читающий мальчик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5) развевающиеся знамена;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6) очарованный музыко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4"/>
          <p:cNvSpPr/>
          <p:nvPr/>
        </p:nvSpPr>
        <p:spPr>
          <a:xfrm>
            <a:off x="500040" y="1000080"/>
            <a:ext cx="844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Задание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спределите словосочетания на две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рич + сущ                                2. прич + су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482760" y="2857680"/>
            <a:ext cx="844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бросанные ребёнком, растаявшие льдины, освещённая луной, напуганная стуком, рассказанный стариком, в написанных словах, дремлющий океан, прочитавшего книгу, обнаруженный противник, обнаруженный против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Franklin Gothic Book"/>
              </a:rPr>
              <a:t>ПРОВЕРЬТЕ СЕБ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357120" y="328608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стаявшие льдин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 написанных слов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дремлющий оке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бнаруженный проти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4572000" y="3214800"/>
            <a:ext cx="432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збросанные ребёнком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свещённая лу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пуганная сту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ассказанный стари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рочитавшего книг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обнаруженный против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5"/>
          <p:cNvSpPr/>
          <p:nvPr/>
        </p:nvSpPr>
        <p:spPr>
          <a:xfrm>
            <a:off x="428760" y="221472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ич + сущ                                      2. прич + су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1042920" y="404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Каким членом предложения является причастный оборо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476360" y="1989000"/>
            <a:ext cx="635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частный оборот  = 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1547640" y="3573360"/>
            <a:ext cx="63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частный оборот, выделенный запятыми  = обособленное 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"/>
          <p:cNvSpPr/>
          <p:nvPr/>
        </p:nvSpPr>
        <p:spPr>
          <a:xfrm>
            <a:off x="179280" y="1720440"/>
            <a:ext cx="86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ут в голове моей родился замысел, как традиционный поход превратить в увлекательное приклю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) Дома у меня была оригинальной формы малахитовая шкатулка, подаренная когда-то  отцо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3) В этой шкатулке хранились значки, которые я лениво коллекционировал в дет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4) Шкатулку я решил использовать в качестве кл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13824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574560" y="433800"/>
            <a:ext cx="83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реди предложений 1-4 найдите предложение с обособленным определением. Напишите это предложение и укажите причастн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12"/>
          <p:cNvSpPr txBox="1"/>
          <p:nvPr/>
        </p:nvSpPr>
        <p:spPr>
          <a:xfrm>
            <a:off x="2411280" y="189000"/>
            <a:ext cx="43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4"/>
          <p:cNvSpPr/>
          <p:nvPr/>
        </p:nvSpPr>
        <p:spPr>
          <a:xfrm>
            <a:off x="357120" y="237456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)Королёв безмерно гордился подвигом Гагарина и радовался его успеху куда больше, чем собственному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2) Один из его друзей и соратников, удивлённый ликованием  Королёва, спросил как-то ра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3) - Сергей Павлович, неужели ты считаешь, что другие космонавты справились бы с заданием хуже, чем это сделал Гагари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4) - Ничуть! — горячо откликнулся Королё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5) - Быть может, наступит время, когда каждый из них превзойдёт Гагар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7704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Среди предложений 1 – 5 найдите предложение с обособленным определением. Напишите это предложение и укажите причастн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сова3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260280"/>
            <a:ext cx="2160720" cy="212724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6"/>
          <p:cNvSpPr/>
          <p:nvPr/>
        </p:nvSpPr>
        <p:spPr>
          <a:xfrm>
            <a:off x="1928880" y="1268280"/>
            <a:ext cx="6786360" cy="1297080"/>
          </a:xfrm>
          <a:prstGeom prst="rect">
            <a:avLst/>
          </a:prstGeom>
          <a:solidFill>
            <a:srgbClr val="99ff66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берите условные знаки, соответств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ашей работе на уроке (запишите его в тетра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1547640" y="2781360"/>
            <a:ext cx="91440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8"/>
          <p:cNvSpPr/>
          <p:nvPr/>
        </p:nvSpPr>
        <p:spPr>
          <a:xfrm>
            <a:off x="1547640" y="3789360"/>
            <a:ext cx="91440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9"/>
          <p:cNvSpPr/>
          <p:nvPr/>
        </p:nvSpPr>
        <p:spPr>
          <a:xfrm>
            <a:off x="1476360" y="4797360"/>
            <a:ext cx="914400" cy="91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2627280" y="3068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Мне всё понятно, я всё усво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2627280" y="407664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Я понял, но мне надо еще потрениро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2627280" y="5084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Я ничего не поня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3" name="Picture 2" descr="C:\Users\Наташа\Desktop\фото\img25.jpg"/>
          <p:cNvPicPr/>
          <p:nvPr/>
        </p:nvPicPr>
        <p:blipFill>
          <a:blip r:embed="rId1"/>
          <a:stretch/>
        </p:blipFill>
        <p:spPr>
          <a:xfrm>
            <a:off x="285840" y="285840"/>
            <a:ext cx="86929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2286000" y="571320"/>
            <a:ext cx="66866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дорогие ребята! К сожалению, вторая четверть 2020 года началась для нас в дистанционном режиме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никуйте и сохраняйте спокойствие!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йтесь задавать вопросы, если что-то показалось вам непонятным, и это не отразится на вашей оценке. 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задача заключается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ветственном отношении к учёбе, приложив значительные волевые усилия на мотивировку к получению информации из учебников, других книг и сети «Интернет». Я в вас верю, вы сможете преодолеть все трудности и успешно закончить учёбу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цель сейчас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научиться принимать от учителя и сохранять учебную задачу, контролировать свои действия и понимать личную ответственность за будущий результат, научиться извлекать информацию из разных источников и анализировать её, обобщать, определять в диалоге с учителем выполненные задания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5" name="Picture 2" descr="C:\Users\Наташа\Desktop\фото\vosklitsatelnyy-znak.jpg"/>
          <p:cNvPicPr/>
          <p:nvPr/>
        </p:nvPicPr>
        <p:blipFill>
          <a:blip r:embed="rId1"/>
          <a:stretch/>
        </p:blipFill>
        <p:spPr>
          <a:xfrm>
            <a:off x="285840" y="571680"/>
            <a:ext cx="21430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12600" y="85680"/>
            <a:ext cx="9155160" cy="1577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H:\Documents and Settings\Aida\Рабочий стол\ПРО создание презнетаций шаблонов... и всё!\Картинки к 1 сентября\lqoeyiomhoedxyztswryo.png"/>
          <p:cNvPicPr/>
          <p:nvPr/>
        </p:nvPicPr>
        <p:blipFill>
          <a:blip r:embed="rId2"/>
          <a:stretch/>
        </p:blipFill>
        <p:spPr>
          <a:xfrm flipH="1" rot="1484400">
            <a:off x="463320" y="216000"/>
            <a:ext cx="61092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8" name="TextBox 6"/>
          <p:cNvSpPr/>
          <p:nvPr/>
        </p:nvSpPr>
        <p:spPr>
          <a:xfrm>
            <a:off x="99000" y="6500880"/>
            <a:ext cx="106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3b9b3"/>
                </a:solidFill>
                <a:latin typeface="Franklin Gothic Book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"/>
          <p:cNvSpPr/>
          <p:nvPr/>
        </p:nvSpPr>
        <p:spPr>
          <a:xfrm>
            <a:off x="1116000" y="260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Шестнадцатое нояб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запись числа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Давайте с вами вспомним как отличить причастие от прилагательн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4"/>
          <p:cNvSpPr/>
          <p:nvPr/>
        </p:nvSpPr>
        <p:spPr>
          <a:xfrm>
            <a:off x="108000" y="1700280"/>
            <a:ext cx="4714920" cy="4692600"/>
          </a:xfrm>
          <a:prstGeom prst="verticalScroll">
            <a:avLst>
              <a:gd name="adj" fmla="val 12500"/>
            </a:avLst>
          </a:prstGeom>
          <a:solidFill>
            <a:srgbClr val="fde6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4284720" y="1700280"/>
            <a:ext cx="4714920" cy="4692600"/>
          </a:xfrm>
          <a:prstGeom prst="verticalScroll">
            <a:avLst>
              <a:gd name="adj" fmla="val 12500"/>
            </a:avLst>
          </a:prstGeom>
          <a:solidFill>
            <a:srgbClr val="fde6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6"/>
          <p:cNvSpPr/>
          <p:nvPr/>
        </p:nvSpPr>
        <p:spPr>
          <a:xfrm>
            <a:off x="1403280" y="17002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илагательные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7"/>
          <p:cNvSpPr/>
          <p:nvPr/>
        </p:nvSpPr>
        <p:spPr>
          <a:xfrm>
            <a:off x="5940360" y="17002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ричас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4"/>
          <p:cNvSpPr/>
          <p:nvPr/>
        </p:nvSpPr>
        <p:spPr>
          <a:xfrm>
            <a:off x="826920" y="2421000"/>
            <a:ext cx="3286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(какой?) образуются от существительных и обозначают признак предмета: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деревянный дом, белые ромашки, морская вол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5"/>
          <p:cNvSpPr/>
          <p:nvPr/>
        </p:nvSpPr>
        <p:spPr>
          <a:xfrm>
            <a:off x="4859280" y="2421000"/>
            <a:ext cx="3641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(какой?) образуются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глаголов и обозначают признак предмета по действию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построенный  дом, цветущие ромашки, набежавшая вол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4"/>
          <p:cNvSpPr/>
          <p:nvPr/>
        </p:nvSpPr>
        <p:spPr>
          <a:xfrm>
            <a:off x="99000" y="6500880"/>
            <a:ext cx="106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3b9b3"/>
                </a:solidFill>
                <a:latin typeface="Franklin Gothic Book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1214280" y="14292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Распределите слова по частям реч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запишите в 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928800" y="20718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лагательные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6143760" y="20718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час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5"/>
          <p:cNvSpPr/>
          <p:nvPr/>
        </p:nvSpPr>
        <p:spPr>
          <a:xfrm>
            <a:off x="825480" y="3143160"/>
            <a:ext cx="788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Желавший, длинный, красный, простой, обучавшийся, летящий, круглый, скучающий, каменный, засыпанный, волчий, развитый, разрушенный, добрый, скучный, гуляющий, постаревший, радостный, пылающий, яблоч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5"/>
          <p:cNvSpPr/>
          <p:nvPr/>
        </p:nvSpPr>
        <p:spPr>
          <a:xfrm>
            <a:off x="826920" y="1700280"/>
            <a:ext cx="280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длинный, крас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прост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круглый, каменный,  волч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добр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скучный, радостный, ябл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"/>
          <p:cNvSpPr/>
          <p:nvPr/>
        </p:nvSpPr>
        <p:spPr>
          <a:xfrm>
            <a:off x="1042920" y="1125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Прилагательные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5"/>
          <p:cNvSpPr/>
          <p:nvPr/>
        </p:nvSpPr>
        <p:spPr>
          <a:xfrm>
            <a:off x="4859280" y="1700280"/>
            <a:ext cx="331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желавший, обучавшийся, летящий,  скучающий, засыпанный,  развитый, разрушенный,  гуляющий, постаревший, пыл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3"/>
          <p:cNvSpPr/>
          <p:nvPr/>
        </p:nvSpPr>
        <p:spPr>
          <a:xfrm>
            <a:off x="5435640" y="11253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Times New Roman"/>
              </a:rPr>
              <a:t>Причастия: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2916360" y="333360"/>
            <a:ext cx="34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роверьте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1547640" y="333360"/>
            <a:ext cx="62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Наблюдаем и делаем 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285920" y="2786040"/>
            <a:ext cx="30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шенная т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 flipV="1">
            <a:off x="3571920" y="2447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7"/>
          <p:cNvSpPr/>
          <p:nvPr/>
        </p:nvSpPr>
        <p:spPr>
          <a:xfrm flipV="1">
            <a:off x="3429000" y="25718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1928880" y="257184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9"/>
          <p:cNvSpPr/>
          <p:nvPr/>
        </p:nvSpPr>
        <p:spPr>
          <a:xfrm>
            <a:off x="1928880" y="25718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2143080" y="19288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500040" y="428616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шенная вчера веч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1573200" y="39290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3"/>
          <p:cNvSpPr/>
          <p:nvPr/>
        </p:nvSpPr>
        <p:spPr>
          <a:xfrm flipV="1">
            <a:off x="2214720" y="4143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2214720" y="414324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5"/>
          <p:cNvSpPr/>
          <p:nvPr/>
        </p:nvSpPr>
        <p:spPr>
          <a:xfrm>
            <a:off x="3429000" y="4143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2214720" y="3500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57840" y="421488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- причастный обор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4643280" y="2643120"/>
            <a:ext cx="39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одиночное причас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6"/>
          <p:cNvSpPr/>
          <p:nvPr/>
        </p:nvSpPr>
        <p:spPr>
          <a:xfrm>
            <a:off x="1357200" y="121428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шенная вчера вечером тра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астный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орот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это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и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с зависимыми словами. Главным словом в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ом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всегда является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и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ы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в предложении  является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ределением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ы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всегда является одним членом предложения, а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пределяемое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слово не входит в состав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частного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орота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2" descr=""/>
          <p:cNvPicPr/>
          <p:nvPr/>
        </p:nvPicPr>
        <p:blipFill>
          <a:blip r:embed="rId1"/>
          <a:stretch/>
        </p:blipFill>
        <p:spPr>
          <a:xfrm>
            <a:off x="1352520" y="669960"/>
            <a:ext cx="6585120" cy="117144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2"/>
          <p:cNvSpPr/>
          <p:nvPr/>
        </p:nvSpPr>
        <p:spPr>
          <a:xfrm>
            <a:off x="1643040" y="1928880"/>
            <a:ext cx="725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ья,  опавшие     с     дере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шуршат под  н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3"/>
          <p:cNvSpPr/>
          <p:nvPr/>
        </p:nvSpPr>
        <p:spPr>
          <a:xfrm rot="18678000">
            <a:off x="1943640" y="231768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4"/>
          <p:cNvSpPr/>
          <p:nvPr/>
        </p:nvSpPr>
        <p:spPr>
          <a:xfrm rot="16200000">
            <a:off x="2170800" y="27194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6"/>
          <p:cNvSpPr/>
          <p:nvPr/>
        </p:nvSpPr>
        <p:spPr>
          <a:xfrm rot="5400000">
            <a:off x="5932800" y="28580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7"/>
          <p:cNvSpPr/>
          <p:nvPr/>
        </p:nvSpPr>
        <p:spPr>
          <a:xfrm>
            <a:off x="2857680" y="3214800"/>
            <a:ext cx="32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~~~~~~~~~~~~~~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Прямая соединительная линия 8" descr=""/>
          <p:cNvPicPr/>
          <p:nvPr/>
        </p:nvPicPr>
        <p:blipFill>
          <a:blip r:embed="rId2"/>
          <a:stretch/>
        </p:blipFill>
        <p:spPr>
          <a:xfrm>
            <a:off x="2243160" y="2243160"/>
            <a:ext cx="225360" cy="682560"/>
          </a:xfrm>
          <a:prstGeom prst="rect">
            <a:avLst/>
          </a:prstGeom>
          <a:ln w="0">
            <a:noFill/>
          </a:ln>
        </p:spPr>
      </p:pic>
      <p:pic>
        <p:nvPicPr>
          <p:cNvPr id="501" name="Прямая соединительная линия 12" descr=""/>
          <p:cNvPicPr/>
          <p:nvPr/>
        </p:nvPicPr>
        <p:blipFill>
          <a:blip r:embed="rId3"/>
          <a:stretch/>
        </p:blipFill>
        <p:spPr>
          <a:xfrm>
            <a:off x="2262240" y="2225520"/>
            <a:ext cx="468360" cy="21924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ая соединительная линия 13" descr=""/>
          <p:cNvPicPr/>
          <p:nvPr/>
        </p:nvPicPr>
        <p:blipFill>
          <a:blip r:embed="rId4"/>
          <a:stretch/>
        </p:blipFill>
        <p:spPr>
          <a:xfrm>
            <a:off x="3475080" y="2225520"/>
            <a:ext cx="401760" cy="21924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5"/>
          <p:cNvSpPr/>
          <p:nvPr/>
        </p:nvSpPr>
        <p:spPr>
          <a:xfrm>
            <a:off x="2571840" y="200016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Прямая со стрелкой 17" descr=""/>
          <p:cNvPicPr/>
          <p:nvPr/>
        </p:nvPicPr>
        <p:blipFill>
          <a:blip r:embed="rId5"/>
          <a:stretch/>
        </p:blipFill>
        <p:spPr>
          <a:xfrm>
            <a:off x="3524400" y="2243160"/>
            <a:ext cx="517320" cy="1133280"/>
          </a:xfrm>
          <a:prstGeom prst="rect">
            <a:avLst/>
          </a:prstGeom>
          <a:ln w="0">
            <a:noFill/>
          </a:ln>
        </p:spPr>
      </p:pic>
      <p:pic>
        <p:nvPicPr>
          <p:cNvPr id="505" name="Прямая соединительная линия 23" descr=""/>
          <p:cNvPicPr/>
          <p:nvPr/>
        </p:nvPicPr>
        <p:blipFill>
          <a:blip r:embed="rId6"/>
          <a:stretch/>
        </p:blipFill>
        <p:spPr>
          <a:xfrm>
            <a:off x="3956040" y="2243160"/>
            <a:ext cx="225360" cy="896760"/>
          </a:xfrm>
          <a:prstGeom prst="rect">
            <a:avLst/>
          </a:prstGeom>
          <a:ln w="0">
            <a:noFill/>
          </a:ln>
        </p:spPr>
      </p:pic>
      <p:pic>
        <p:nvPicPr>
          <p:cNvPr id="506" name="Прямая соединительная линия 27" descr=""/>
          <p:cNvPicPr/>
          <p:nvPr/>
        </p:nvPicPr>
        <p:blipFill>
          <a:blip r:embed="rId7"/>
          <a:stretch/>
        </p:blipFill>
        <p:spPr>
          <a:xfrm>
            <a:off x="3975120" y="2225520"/>
            <a:ext cx="468360" cy="21924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28"/>
          <p:cNvSpPr/>
          <p:nvPr/>
        </p:nvSpPr>
        <p:spPr>
          <a:xfrm>
            <a:off x="435780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у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Прямая соединительная линия 29" descr=""/>
          <p:cNvPicPr/>
          <p:nvPr/>
        </p:nvPicPr>
        <p:blipFill>
          <a:blip r:embed="rId8"/>
          <a:stretch/>
        </p:blipFill>
        <p:spPr>
          <a:xfrm>
            <a:off x="5334120" y="2225520"/>
            <a:ext cx="401400" cy="219240"/>
          </a:xfrm>
          <a:prstGeom prst="rect">
            <a:avLst/>
          </a:prstGeom>
          <a:ln w="0">
            <a:noFill/>
          </a:ln>
        </p:spPr>
      </p:pic>
      <p:pic>
        <p:nvPicPr>
          <p:cNvPr id="509" name="Прямая со стрелкой 30" descr=""/>
          <p:cNvPicPr/>
          <p:nvPr/>
        </p:nvPicPr>
        <p:blipFill>
          <a:blip r:embed="rId9"/>
          <a:stretch/>
        </p:blipFill>
        <p:spPr>
          <a:xfrm>
            <a:off x="5383080" y="2243160"/>
            <a:ext cx="517680" cy="113328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18"/>
          <p:cNvSpPr/>
          <p:nvPr/>
        </p:nvSpPr>
        <p:spPr>
          <a:xfrm>
            <a:off x="2286000" y="4000680"/>
            <a:ext cx="564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сть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пределяемое слов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авшие с дере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частный обор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9"/>
          <p:cNvSpPr/>
          <p:nvPr/>
        </p:nvSpPr>
        <p:spPr>
          <a:xfrm rot="2830800">
            <a:off x="2759760" y="4197960"/>
            <a:ext cx="2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6"/>
          <p:cNvSpPr/>
          <p:nvPr/>
        </p:nvSpPr>
        <p:spPr>
          <a:xfrm rot="5400000">
            <a:off x="2499120" y="4863240"/>
            <a:ext cx="8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__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4"/>
          <p:cNvSpPr/>
          <p:nvPr/>
        </p:nvSpPr>
        <p:spPr>
          <a:xfrm>
            <a:off x="3143160" y="485784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граница причастного обо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33"/>
          <p:cNvSpPr/>
          <p:nvPr/>
        </p:nvSpPr>
        <p:spPr>
          <a:xfrm>
            <a:off x="1357200" y="5572080"/>
            <a:ext cx="75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~~~~~~~~~~~~~~~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распространённое 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0"/>
          <p:cNvSpPr/>
          <p:nvPr/>
        </p:nvSpPr>
        <p:spPr>
          <a:xfrm>
            <a:off x="357120" y="16430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Листья,  опавшие  с  дерева, шуршат под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Опавшие с дерева листья шуршат под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1"/>
          <p:cNvSpPr/>
          <p:nvPr/>
        </p:nvSpPr>
        <p:spPr>
          <a:xfrm>
            <a:off x="3357720" y="35712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Срав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3"/>
          <p:cNvSpPr/>
          <p:nvPr/>
        </p:nvSpPr>
        <p:spPr>
          <a:xfrm>
            <a:off x="928800" y="3929040"/>
            <a:ext cx="753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мните: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причастный оборот выделяется (обособляется) запятыми, если стоит после определяемого слова. </a:t>
            </a:r>
            <a:r>
              <a:rPr b="1" lang="ru-RU" sz="2400" spc="-1" strike="noStrike" u="sng">
                <a:solidFill>
                  <a:srgbClr val="2e2925"/>
                </a:solidFill>
                <a:uFillTx/>
                <a:latin typeface="Times New Roman"/>
              </a:rPr>
              <a:t>Предложени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Если причастный оборот стоит перед определяем словом, то запятыми он не выделяется (не обособляется). </a:t>
            </a:r>
            <a:r>
              <a:rPr b="1" lang="ru-RU" sz="2400" spc="-1" strike="noStrike" u="sng">
                <a:solidFill>
                  <a:srgbClr val="2e2925"/>
                </a:solidFill>
                <a:uFillTx/>
                <a:latin typeface="Times New Roman"/>
              </a:rPr>
              <a:t>Предложе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7:06:58Z</dcterms:created>
  <dc:creator>Евгения</dc:creator>
  <dc:description>http://aida.ucoz.ru</dc:description>
  <dc:language>en-US</dc:language>
  <cp:lastModifiedBy>Наташа</cp:lastModifiedBy>
  <dcterms:modified xsi:type="dcterms:W3CDTF">2020-11-14T14:36:02Z</dcterms:modified>
  <cp:revision>59</cp:revision>
  <dc:subject/>
  <dc:title>Слайд 1</dc:title>
</cp:coreProperties>
</file>