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465-3A3B-4FF8-B6D0-1F4983A3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5321-3285-4921-AEB6-AD657494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A908D-66B3-4FDE-95E4-0B02F79E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258C0-B75E-4560-9DBD-E172FA0A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790DE-A046-4A58-9CAD-4727FC09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0AAD2-C354-4DB0-A160-7815DED0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C949B-CE3F-4F60-A59D-196F1CC0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36D3B-4521-4D76-8A3D-AE6546A7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5FC6A-2378-4F84-BF86-3C2280B2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E1C64-94FD-45A0-9987-01A113F9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EE01D-0896-4831-9FA8-58633C8D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DEFCE-D9BF-45D3-AB0D-68998536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6F0-68D1-462F-930E-09D19C24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96B55-4241-4256-A4AD-C2D8E244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106CD-77EC-4F44-85E3-D8967C3A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DC9AD-298D-496A-9DA1-1029FC80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64430-7CC7-426C-ADEA-9AF2C296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54CAA-42DC-4531-B2E1-97DE4E67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46C17-C201-49E0-A789-0478A038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B06B1-1A6C-47DA-8553-B32CFEDE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A0408-24A7-4BE1-B83D-802C5CDE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8F986-ECDA-46BC-B4FD-7846F7AD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5DD9B-AB9F-4F5C-A953-67FB181E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555-06D8-4378-8E69-45D4CE45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6EE96-0311-46C2-BB94-64E32537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3F96-457F-4789-88DF-8D691A62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1DBC-C753-44E2-8AA7-2B803E7A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0057-3BA0-45FC-97EA-C4772DE4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E33D-D132-4C5F-AF7D-F0041364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8A9F-5CC1-4CD9-AD28-CCF0F1E6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3EDD-0A2C-45CD-B0BA-BB4C9DF0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5B24-1E15-4201-8FE9-FB16F9AE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FA9-4263-4CD1-858A-77EB0A3F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C1E5-B157-4AF4-BF48-39E26D62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2B67-78C4-4ECF-9D00-994CCE53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7FA0-72B6-499B-AE9C-B733B348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2A7C-D545-4DB3-8DE8-568FB9AF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143D-3125-4E16-81F5-DDA313B7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66FDB-B73A-4295-9CF3-0A7E7EFA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B1EF8-DBDB-4C7A-9E8A-24886D20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73B82-E2F1-4E78-AD9F-F1BF5D84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3ECEE-D4E5-468B-BC31-8EC8E4D7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553C2-5C5C-47FB-A39C-A9D3D774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E29-EE2A-4535-987B-2AEFBC8B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91B3F-0987-4291-BDD5-88EF82B0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4D952-458D-4676-95EA-BBCAD134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6C29-EA25-4B2C-A7B6-2AD3D577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6620F-70B7-42D4-B9D0-5A76849A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E3527-5F89-465C-886F-273FE57A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D881A-F5E7-4D38-8CEC-9C8C34D1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AFDA6-CC14-4B72-82E3-0D29B03B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F068B-DF74-4DC4-9157-2C9391BC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F350B-BAC6-4837-B857-0577ED3D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0AA9B-BF04-4929-B2C4-D808F8C9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EF7-A1D6-43E1-8676-11981C1E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4A718-3480-4021-9530-187ED0E7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466CE-D325-490F-8BEE-F0F371BB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E4C19-500B-4C99-8240-715E0C8B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CDD61-8D31-472A-930D-386A750D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B0781-259A-4892-98A9-8EFFDA63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0B466-3CFA-4EE5-BF20-0289DB31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03941-275E-4A3D-8AFA-32030DD7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A2628-2143-46E7-AA64-8E2BD8E1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09A11-1CF9-411B-A894-095FF027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38431-6EA9-4730-A1A6-72FA7749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94E-3469-4BF7-BD1C-594DDF0E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91494-2F30-49EC-AC94-B51590F0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7D44B-D1BA-40E6-8117-9F3A446A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2362A-6FF0-4392-A014-1C13E494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99B50-A26E-423D-A5BC-E257D021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2288E-2CB3-45F2-8976-01A3CB63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8CBFD-B17E-4A06-ADE6-16FCB5BC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F013F-2FB6-44A2-899A-16C3120A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C7632-F469-40A8-8FE3-AB5A5BA4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7C6FB-FEAD-45D4-B982-4F624804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5CBE2-215E-4420-ABAC-64C77147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DC8-9254-4340-8BDC-39BACE91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5D5B0-7A7E-4260-9037-675B8054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5822B-7C6D-43BC-BC91-56C33036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F4745-29F5-4F4B-8F95-FB31DFCC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667CC-AF7C-4DBC-AE4A-CCFF622A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E3405-1B86-45E5-B0E0-1A2EC427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E27ED-567A-482A-B8BE-F62D3EC9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80AC5-417A-4527-8358-AB57D6B6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A3178-05BB-45B0-B5DB-F82DF6CC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3E5D8-12C8-4E4E-92DA-06487C82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5C62B-E4CF-4AA0-A1A3-277DB0FF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FE8-986D-4A21-98BA-8B809BC3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83AD0-F93D-4F0E-875D-BF4554E8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FA1EF-4B6D-458E-A153-254DAB7C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434B2-8383-4175-A474-F6F79696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4DDAF-3E53-47F4-9CCB-3F372596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8B16E-AAF7-4B77-B25D-7FF3D2C2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715FB-A87F-4AFB-98BB-3FBB0B71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89FB9-64C6-4EA1-BF64-2DDFE9E7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25D00-F607-46B7-B409-75A7F9D2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2CC9D-7B30-4C4F-9CEE-B80D63B3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DCD5F-8DED-4309-8646-045BC545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58F-8F10-4F29-BF05-F5C5386B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509E2-39F2-4FD0-A398-7CEF6264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95D48-EC30-4921-84DE-82192EB9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64F91-9D54-41A0-A63C-9876B7F6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8816C-F445-40EC-A3BC-C904A9FF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75F30-85CB-4264-B4E1-6CC682A0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FEFB7-BA16-491B-BB22-72F231DB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E4F14-62DD-4BFE-ABA7-4052014B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A63EC-18DA-4B8C-A8BE-1DD79061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F4C98-F1AE-4246-8BC2-DBD4B7F6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03298-4C2A-4A44-9128-136EC44E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43C9-4423-44D2-A618-1F4F1D24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D774C-0FD2-423D-92DD-46EBE687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905D3-8FE5-4592-B83F-33D66FC6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62A55-490F-493E-9FA6-1D38125A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7CAF3-1AF5-42E3-9219-889E7901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744E5-F15C-4984-9BFA-7087063A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966EB-B5E2-4988-AEB9-DA8E5546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D6199-3497-4524-92F3-1DA69E17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09C48-7039-41AD-8711-DEAF7434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FA7CE-2A94-428F-AFA4-49AA9785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E637B-A3F7-4A57-8A4B-ABACD13D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E7F8-AD6F-4260-9574-AE0FE432B2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B844-9DFC-4FDE-AE64-3EAF23A5B25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EFD0-523C-40A7-9583-AA376BBA3D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0AF7-A4A4-4E95-BFC9-ED3714ECD62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6C73-1F2A-4ABF-A71F-1A778D9CB13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ED68-2C40-4B9E-B387-0BF1A462843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62BA-686B-4837-8279-9B3BA9F747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66E9-BE2D-4BC4-91EF-8036FD78ACC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F456-877C-46DD-A36B-EED72285C65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B8CB-EE10-40DF-B078-9526AD7453F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3"/>
          <p:cNvSpPr/>
          <p:nvPr/>
        </p:nvSpPr>
        <p:spPr>
          <a:xfrm>
            <a:off x="1714680" y="1143000"/>
            <a:ext cx="5616360" cy="1297080"/>
          </a:xfrm>
          <a:prstGeom prst="rect">
            <a:avLst/>
          </a:prstGeom>
          <a:solidFill>
            <a:srgbClr val="ffc0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частный обор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3500280" y="4286160"/>
            <a:ext cx="539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лдугина Наталья Николаевна, 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БОУ «Колыванская СОШ №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2286000" y="2500200"/>
            <a:ext cx="49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рок русского языка в 7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128592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Колыванская средняя общеобразовательная школа № 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2" descr="C:\Users\Наташа\Desktop\фото\jvYHlX0CFhM.jpg"/>
          <p:cNvPicPr/>
          <p:nvPr/>
        </p:nvPicPr>
        <p:blipFill>
          <a:blip r:embed="rId1"/>
          <a:stretch/>
        </p:blipFill>
        <p:spPr>
          <a:xfrm>
            <a:off x="571680" y="3357720"/>
            <a:ext cx="26431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856800" y="1000080"/>
            <a:ext cx="71708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Задание1 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шите в тетрадь и найдите причастные оборот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1) спеющая рожь;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2) лаявшая на людей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3) расчищенная от снега;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4) читающий мальчик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5) развевающиеся знамена;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6) очарованный музыко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4"/>
          <p:cNvSpPr/>
          <p:nvPr/>
        </p:nvSpPr>
        <p:spPr>
          <a:xfrm>
            <a:off x="500040" y="1000080"/>
            <a:ext cx="844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Задание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аспределите словосочетания на две груп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рич + сущ                                2. прич + су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482760" y="2857680"/>
            <a:ext cx="844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бросанные ребёнком, растаявшие льдины, освещённая луной, напуганная стуком, рассказанный стариком, в написанных словах, дремлющий океан, прочитавшего книгу, обнаруженный противник, обнаруженный против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04920" y="1071720"/>
            <a:ext cx="86868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Franklin Gothic Book"/>
              </a:rPr>
              <a:t>ПРОВЕРЬТЕ СЕБ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357120" y="328608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Растаявшие льди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 написанных слов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дремлющий оке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бнаруженный проти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4572000" y="3214800"/>
            <a:ext cx="43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Разбросанные ребёнком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свещённая лу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апуганная стук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рассказанный старик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рочитавшего книгу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бнаруженный против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5"/>
          <p:cNvSpPr/>
          <p:nvPr/>
        </p:nvSpPr>
        <p:spPr>
          <a:xfrm>
            <a:off x="428760" y="221472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ич + сущ                                      2. прич + су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1042920" y="404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Каким членом предложения является причастный оборо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476360" y="1989000"/>
            <a:ext cx="635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частный оборот  = 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1547640" y="3573360"/>
            <a:ext cx="635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частный оборот, выделенный запятыми  = обособленное 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4"/>
          <p:cNvSpPr/>
          <p:nvPr/>
        </p:nvSpPr>
        <p:spPr>
          <a:xfrm>
            <a:off x="179280" y="1720440"/>
            <a:ext cx="864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ут в голове моей родился замысел, как традиционный поход превратить в увлекательное приклю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2) Дома у меня была оригинальной формы малахитовая шкатулка, подаренная когда-то  отцо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3) В этой шкатулке хранились значки, которые я лениво коллекционировал в дет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4) Шкатулку я решил использовать в качестве кл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13824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574560" y="433800"/>
            <a:ext cx="83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реди предложений 1-4 найдите предложение с обособленным определением. Напишите это предложение и укажите причастный 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WordArt 12"/>
          <p:cNvSpPr txBox="1"/>
          <p:nvPr/>
        </p:nvSpPr>
        <p:spPr>
          <a:xfrm>
            <a:off x="2411280" y="189000"/>
            <a:ext cx="43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4"/>
          <p:cNvSpPr/>
          <p:nvPr/>
        </p:nvSpPr>
        <p:spPr>
          <a:xfrm>
            <a:off x="357120" y="23745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)Королёв безмерно гордился подвигом Гагарина и радовался его успеху куда больше, чем собственному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2) Один из его друзей и соратников, удивлённый ликованием  Королёва, спросил как-то раз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3) - Сергей Павлович, неужели ты считаешь, что другие космонавты справились бы с заданием хуже, чем это сделал Гагари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4) - Ничуть! — горячо откликнулся Королё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5) - Быть может, наступит время, когда каждый из них превзойдёт Гагар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7704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Среди предложений 1 – 5 найдите предложение с обособленным определением. Напишите это предложение и укажите причастный 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5" descr="сова3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8360" y="260280"/>
            <a:ext cx="2160720" cy="212724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6"/>
          <p:cNvSpPr/>
          <p:nvPr/>
        </p:nvSpPr>
        <p:spPr>
          <a:xfrm>
            <a:off x="1928880" y="1268280"/>
            <a:ext cx="6786360" cy="1297080"/>
          </a:xfrm>
          <a:prstGeom prst="rect">
            <a:avLst/>
          </a:prstGeom>
          <a:solidFill>
            <a:srgbClr val="99ff66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ыберите условные знаки, соответств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ашей работе на уроке (запишите его в тетрад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7"/>
          <p:cNvSpPr/>
          <p:nvPr/>
        </p:nvSpPr>
        <p:spPr>
          <a:xfrm>
            <a:off x="1547640" y="2781360"/>
            <a:ext cx="914400" cy="91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8"/>
          <p:cNvSpPr/>
          <p:nvPr/>
        </p:nvSpPr>
        <p:spPr>
          <a:xfrm>
            <a:off x="1547640" y="3789360"/>
            <a:ext cx="914400" cy="91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9"/>
          <p:cNvSpPr/>
          <p:nvPr/>
        </p:nvSpPr>
        <p:spPr>
          <a:xfrm>
            <a:off x="1476360" y="4797360"/>
            <a:ext cx="914400" cy="91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2627280" y="3068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Мне всё понятно, я всё усво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2627280" y="407664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Я понял, но мне надо еще потрениро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2627280" y="50846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Я ничего не поня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3" name="Picture 2" descr="C:\Users\Наташа\Desktop\фото\img25.jpg"/>
          <p:cNvPicPr/>
          <p:nvPr/>
        </p:nvPicPr>
        <p:blipFill>
          <a:blip r:embed="rId1"/>
          <a:stretch/>
        </p:blipFill>
        <p:spPr>
          <a:xfrm>
            <a:off x="285840" y="285840"/>
            <a:ext cx="869292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2286000" y="571320"/>
            <a:ext cx="66866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, дорогие ребята! К сожалению, вторая четверть 2020 года началась для нас в дистанционном режиме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аникуйте и сохраняйте спокойствие!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йтесь задавать вопросы, если что-то показалось вам непонятным, и это не отразится на вашей оценке. 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а задача заключаетс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тветственном отношении к учёбе, приложив значительные волевые усилия на мотивировку к получению информации из учебников, других книг и сети «Интернет». Я в вас верю, вы сможете преодолеть все трудности и успешно закончить учёбу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а цель сейчас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научиться принимать от учителя и сохранять учебную задачу, контролировать свои действия и понимать личную ответственность за будущий результат, научиться извлекать информацию из разных источников и анализировать её, обобщать, определять в диалоге с учителем выполненные задания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5" name="Picture 2" descr="C:\Users\Наташа\Desktop\фото\vosklitsatelnyy-znak.jpg"/>
          <p:cNvPicPr/>
          <p:nvPr/>
        </p:nvPicPr>
        <p:blipFill>
          <a:blip r:embed="rId1"/>
          <a:stretch/>
        </p:blipFill>
        <p:spPr>
          <a:xfrm>
            <a:off x="285840" y="571680"/>
            <a:ext cx="21430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12600" y="85680"/>
            <a:ext cx="9155160" cy="1577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H:\Documents and Settings\Aida\Рабочий стол\ПРО создание презнетаций шаблонов... и всё!\Картинки к 1 сентября\lqoeyiomhoedxyztswryo.png"/>
          <p:cNvPicPr/>
          <p:nvPr/>
        </p:nvPicPr>
        <p:blipFill>
          <a:blip r:embed="rId2"/>
          <a:stretch/>
        </p:blipFill>
        <p:spPr>
          <a:xfrm flipH="1" rot="1484400">
            <a:off x="463320" y="216000"/>
            <a:ext cx="610920" cy="60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8" name="TextBox 6"/>
          <p:cNvSpPr/>
          <p:nvPr/>
        </p:nvSpPr>
        <p:spPr>
          <a:xfrm>
            <a:off x="99000" y="6500880"/>
            <a:ext cx="106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3b9b3"/>
                </a:solidFill>
                <a:latin typeface="Franklin Gothic Book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"/>
          <p:cNvSpPr/>
          <p:nvPr/>
        </p:nvSpPr>
        <p:spPr>
          <a:xfrm>
            <a:off x="1116000" y="2602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Шестнадцатое нояб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(запись числа в тетр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Давайте с вами вспомним как отличить причастие от прилагательн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4"/>
          <p:cNvSpPr/>
          <p:nvPr/>
        </p:nvSpPr>
        <p:spPr>
          <a:xfrm>
            <a:off x="108000" y="1700280"/>
            <a:ext cx="4714920" cy="4692600"/>
          </a:xfrm>
          <a:prstGeom prst="verticalScroll">
            <a:avLst>
              <a:gd name="adj" fmla="val 12500"/>
            </a:avLst>
          </a:prstGeom>
          <a:solidFill>
            <a:srgbClr val="fde6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4"/>
          <p:cNvSpPr/>
          <p:nvPr/>
        </p:nvSpPr>
        <p:spPr>
          <a:xfrm>
            <a:off x="4284720" y="1700280"/>
            <a:ext cx="4714920" cy="4692600"/>
          </a:xfrm>
          <a:prstGeom prst="verticalScroll">
            <a:avLst>
              <a:gd name="adj" fmla="val 12500"/>
            </a:avLst>
          </a:prstGeom>
          <a:solidFill>
            <a:srgbClr val="fde6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6"/>
          <p:cNvSpPr/>
          <p:nvPr/>
        </p:nvSpPr>
        <p:spPr>
          <a:xfrm>
            <a:off x="1403280" y="17002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рилагательные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7"/>
          <p:cNvSpPr/>
          <p:nvPr/>
        </p:nvSpPr>
        <p:spPr>
          <a:xfrm>
            <a:off x="5940360" y="17002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ричас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4"/>
          <p:cNvSpPr/>
          <p:nvPr/>
        </p:nvSpPr>
        <p:spPr>
          <a:xfrm>
            <a:off x="826920" y="2421000"/>
            <a:ext cx="3286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e2925"/>
                </a:solidFill>
                <a:latin typeface="Times New Roman"/>
              </a:rPr>
              <a:t>(какой?) образуются от существительных и обозначают признак предмета: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деревянный дом, белые ромашки, морская волн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5"/>
          <p:cNvSpPr/>
          <p:nvPr/>
        </p:nvSpPr>
        <p:spPr>
          <a:xfrm>
            <a:off x="4859280" y="2421000"/>
            <a:ext cx="3641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2e2925"/>
                </a:solidFill>
                <a:latin typeface="Times New Roman"/>
              </a:rPr>
              <a:t>(какой?) образуются 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925"/>
                </a:solidFill>
                <a:latin typeface="Times New Roman"/>
              </a:rPr>
              <a:t>глаголов и обозначают признак предмета по действию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построенный  дом, цветущие ромашки, набежавшая волн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4"/>
          <p:cNvSpPr/>
          <p:nvPr/>
        </p:nvSpPr>
        <p:spPr>
          <a:xfrm>
            <a:off x="99000" y="6500880"/>
            <a:ext cx="106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3b9b3"/>
                </a:solidFill>
                <a:latin typeface="Franklin Gothic Book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4"/>
          <p:cNvSpPr/>
          <p:nvPr/>
        </p:nvSpPr>
        <p:spPr>
          <a:xfrm>
            <a:off x="1214280" y="14292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Распределите слова по частям речи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запишите в тет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"/>
          <p:cNvSpPr/>
          <p:nvPr/>
        </p:nvSpPr>
        <p:spPr>
          <a:xfrm>
            <a:off x="928800" y="20718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илагательные: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3"/>
          <p:cNvSpPr/>
          <p:nvPr/>
        </p:nvSpPr>
        <p:spPr>
          <a:xfrm>
            <a:off x="6143760" y="20718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ичаст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5"/>
          <p:cNvSpPr/>
          <p:nvPr/>
        </p:nvSpPr>
        <p:spPr>
          <a:xfrm>
            <a:off x="825480" y="3143160"/>
            <a:ext cx="788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925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2e2925"/>
                </a:solidFill>
                <a:latin typeface="Times New Roman"/>
              </a:rPr>
              <a:t>Желавший, длинный, красный, простой, обучавшийся, летящий, круглый, скучающий, каменный, засыпанный, волчий, развитый, разрушенный, добрый, скучный, гуляющий, постаревший, радостный, пылающий, яблоч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5"/>
          <p:cNvSpPr/>
          <p:nvPr/>
        </p:nvSpPr>
        <p:spPr>
          <a:xfrm>
            <a:off x="826920" y="1700280"/>
            <a:ext cx="280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длинный, крас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прост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круглый, каменный,  волч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добр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скучный, радостный, ябл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2"/>
          <p:cNvSpPr/>
          <p:nvPr/>
        </p:nvSpPr>
        <p:spPr>
          <a:xfrm>
            <a:off x="1042920" y="1125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Прилагательные: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5"/>
          <p:cNvSpPr/>
          <p:nvPr/>
        </p:nvSpPr>
        <p:spPr>
          <a:xfrm>
            <a:off x="4859280" y="1700280"/>
            <a:ext cx="331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желавший, обучавшийся, летящий,  скучающий, засыпанный,  развитый, разрушенный,  гуляющий, постаревший, пыл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3"/>
          <p:cNvSpPr/>
          <p:nvPr/>
        </p:nvSpPr>
        <p:spPr>
          <a:xfrm>
            <a:off x="5435640" y="112536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Причастия: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2916360" y="333360"/>
            <a:ext cx="34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Проверьте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4"/>
          <p:cNvSpPr/>
          <p:nvPr/>
        </p:nvSpPr>
        <p:spPr>
          <a:xfrm>
            <a:off x="1547640" y="333360"/>
            <a:ext cx="62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Наблюдаем и делаем 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285920" y="27860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шенная т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 flipV="1">
            <a:off x="3571920" y="244764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7"/>
          <p:cNvSpPr/>
          <p:nvPr/>
        </p:nvSpPr>
        <p:spPr>
          <a:xfrm flipV="1">
            <a:off x="3429000" y="257184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8"/>
          <p:cNvSpPr/>
          <p:nvPr/>
        </p:nvSpPr>
        <p:spPr>
          <a:xfrm flipH="1">
            <a:off x="1928880" y="2571840"/>
            <a:ext cx="151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9"/>
          <p:cNvSpPr/>
          <p:nvPr/>
        </p:nvSpPr>
        <p:spPr>
          <a:xfrm>
            <a:off x="1928880" y="257184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2143080" y="19288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500040" y="4286160"/>
            <a:ext cx="43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шенная вчера веч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1573200" y="3929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3"/>
          <p:cNvSpPr/>
          <p:nvPr/>
        </p:nvSpPr>
        <p:spPr>
          <a:xfrm flipV="1">
            <a:off x="2214720" y="41432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2214720" y="414324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5"/>
          <p:cNvSpPr/>
          <p:nvPr/>
        </p:nvSpPr>
        <p:spPr>
          <a:xfrm>
            <a:off x="3429000" y="41432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2214720" y="35002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57840" y="421488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- причастный 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5"/>
          <p:cNvSpPr/>
          <p:nvPr/>
        </p:nvSpPr>
        <p:spPr>
          <a:xfrm>
            <a:off x="4643280" y="2643120"/>
            <a:ext cx="39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одиночное причас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6"/>
          <p:cNvSpPr/>
          <p:nvPr/>
        </p:nvSpPr>
        <p:spPr>
          <a:xfrm>
            <a:off x="1357200" y="121428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шенная вчера вечером т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астный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орот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это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частие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с зависимыми словами. Главным словом в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частном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ороте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всегда является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частие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частный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орот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в предложении  является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пределением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частный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орот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всегда является одним членом предложения, а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пределяемое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слово не входит в состав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частного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орота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Заголовок 2" descr=""/>
          <p:cNvPicPr/>
          <p:nvPr/>
        </p:nvPicPr>
        <p:blipFill>
          <a:blip r:embed="rId1"/>
          <a:stretch/>
        </p:blipFill>
        <p:spPr>
          <a:xfrm>
            <a:off x="1352520" y="669960"/>
            <a:ext cx="6585120" cy="1171440"/>
          </a:xfrm>
          <a:prstGeom prst="rect">
            <a:avLst/>
          </a:prstGeom>
          <a:ln w="0">
            <a:noFill/>
          </a:ln>
        </p:spPr>
      </p:pic>
      <p:sp>
        <p:nvSpPr>
          <p:cNvPr id="495" name="Прямоугольник 2"/>
          <p:cNvSpPr/>
          <p:nvPr/>
        </p:nvSpPr>
        <p:spPr>
          <a:xfrm>
            <a:off x="1643040" y="1928880"/>
            <a:ext cx="725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стья,  опавшие     с     дере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шуршат под  н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3"/>
          <p:cNvSpPr/>
          <p:nvPr/>
        </p:nvSpPr>
        <p:spPr>
          <a:xfrm rot="18678000">
            <a:off x="1943640" y="2317680"/>
            <a:ext cx="12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4"/>
          <p:cNvSpPr/>
          <p:nvPr/>
        </p:nvSpPr>
        <p:spPr>
          <a:xfrm rot="16200000">
            <a:off x="2170800" y="271944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6"/>
          <p:cNvSpPr/>
          <p:nvPr/>
        </p:nvSpPr>
        <p:spPr>
          <a:xfrm rot="5400000">
            <a:off x="5932800" y="285804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__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7"/>
          <p:cNvSpPr/>
          <p:nvPr/>
        </p:nvSpPr>
        <p:spPr>
          <a:xfrm>
            <a:off x="2857680" y="3214800"/>
            <a:ext cx="32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~~~~~~~~~~~~~~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Прямая соединительная линия 8" descr=""/>
          <p:cNvPicPr/>
          <p:nvPr/>
        </p:nvPicPr>
        <p:blipFill>
          <a:blip r:embed="rId2"/>
          <a:stretch/>
        </p:blipFill>
        <p:spPr>
          <a:xfrm>
            <a:off x="2243160" y="2243160"/>
            <a:ext cx="225360" cy="682560"/>
          </a:xfrm>
          <a:prstGeom prst="rect">
            <a:avLst/>
          </a:prstGeom>
          <a:ln w="0">
            <a:noFill/>
          </a:ln>
        </p:spPr>
      </p:pic>
      <p:pic>
        <p:nvPicPr>
          <p:cNvPr id="501" name="Прямая соединительная линия 12" descr=""/>
          <p:cNvPicPr/>
          <p:nvPr/>
        </p:nvPicPr>
        <p:blipFill>
          <a:blip r:embed="rId3"/>
          <a:stretch/>
        </p:blipFill>
        <p:spPr>
          <a:xfrm>
            <a:off x="2262240" y="2225520"/>
            <a:ext cx="468360" cy="219240"/>
          </a:xfrm>
          <a:prstGeom prst="rect">
            <a:avLst/>
          </a:prstGeom>
          <a:ln w="0">
            <a:noFill/>
          </a:ln>
        </p:spPr>
      </p:pic>
      <p:pic>
        <p:nvPicPr>
          <p:cNvPr id="502" name="Прямая соединительная линия 13" descr=""/>
          <p:cNvPicPr/>
          <p:nvPr/>
        </p:nvPicPr>
        <p:blipFill>
          <a:blip r:embed="rId4"/>
          <a:stretch/>
        </p:blipFill>
        <p:spPr>
          <a:xfrm>
            <a:off x="3475080" y="2225520"/>
            <a:ext cx="401760" cy="219240"/>
          </a:xfrm>
          <a:prstGeom prst="rect">
            <a:avLst/>
          </a:prstGeom>
          <a:ln w="0">
            <a:noFill/>
          </a:ln>
        </p:spPr>
      </p:pic>
      <p:sp>
        <p:nvSpPr>
          <p:cNvPr id="503" name="Прямоугольник 15"/>
          <p:cNvSpPr/>
          <p:nvPr/>
        </p:nvSpPr>
        <p:spPr>
          <a:xfrm>
            <a:off x="2571840" y="200016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Прямая со стрелкой 17" descr=""/>
          <p:cNvPicPr/>
          <p:nvPr/>
        </p:nvPicPr>
        <p:blipFill>
          <a:blip r:embed="rId5"/>
          <a:stretch/>
        </p:blipFill>
        <p:spPr>
          <a:xfrm>
            <a:off x="3524400" y="2243160"/>
            <a:ext cx="517320" cy="1133280"/>
          </a:xfrm>
          <a:prstGeom prst="rect">
            <a:avLst/>
          </a:prstGeom>
          <a:ln w="0">
            <a:noFill/>
          </a:ln>
        </p:spPr>
      </p:pic>
      <p:pic>
        <p:nvPicPr>
          <p:cNvPr id="505" name="Прямая соединительная линия 23" descr=""/>
          <p:cNvPicPr/>
          <p:nvPr/>
        </p:nvPicPr>
        <p:blipFill>
          <a:blip r:embed="rId6"/>
          <a:stretch/>
        </p:blipFill>
        <p:spPr>
          <a:xfrm>
            <a:off x="3956040" y="2243160"/>
            <a:ext cx="225360" cy="896760"/>
          </a:xfrm>
          <a:prstGeom prst="rect">
            <a:avLst/>
          </a:prstGeom>
          <a:ln w="0">
            <a:noFill/>
          </a:ln>
        </p:spPr>
      </p:pic>
      <p:pic>
        <p:nvPicPr>
          <p:cNvPr id="506" name="Прямая соединительная линия 27" descr=""/>
          <p:cNvPicPr/>
          <p:nvPr/>
        </p:nvPicPr>
        <p:blipFill>
          <a:blip r:embed="rId7"/>
          <a:stretch/>
        </p:blipFill>
        <p:spPr>
          <a:xfrm>
            <a:off x="3975120" y="2225520"/>
            <a:ext cx="468360" cy="219240"/>
          </a:xfrm>
          <a:prstGeom prst="rect">
            <a:avLst/>
          </a:prstGeom>
          <a:ln w="0">
            <a:noFill/>
          </a:ln>
        </p:spPr>
      </p:pic>
      <p:sp>
        <p:nvSpPr>
          <p:cNvPr id="507" name="Прямоугольник 28"/>
          <p:cNvSpPr/>
          <p:nvPr/>
        </p:nvSpPr>
        <p:spPr>
          <a:xfrm>
            <a:off x="4357800" y="2071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Прямая соединительная линия 29" descr=""/>
          <p:cNvPicPr/>
          <p:nvPr/>
        </p:nvPicPr>
        <p:blipFill>
          <a:blip r:embed="rId8"/>
          <a:stretch/>
        </p:blipFill>
        <p:spPr>
          <a:xfrm>
            <a:off x="5334120" y="2225520"/>
            <a:ext cx="401400" cy="219240"/>
          </a:xfrm>
          <a:prstGeom prst="rect">
            <a:avLst/>
          </a:prstGeom>
          <a:ln w="0">
            <a:noFill/>
          </a:ln>
        </p:spPr>
      </p:pic>
      <p:pic>
        <p:nvPicPr>
          <p:cNvPr id="509" name="Прямая со стрелкой 30" descr=""/>
          <p:cNvPicPr/>
          <p:nvPr/>
        </p:nvPicPr>
        <p:blipFill>
          <a:blip r:embed="rId9"/>
          <a:stretch/>
        </p:blipFill>
        <p:spPr>
          <a:xfrm>
            <a:off x="5383080" y="2243160"/>
            <a:ext cx="517680" cy="113328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18"/>
          <p:cNvSpPr/>
          <p:nvPr/>
        </p:nvSpPr>
        <p:spPr>
          <a:xfrm>
            <a:off x="2286000" y="4000680"/>
            <a:ext cx="564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сть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пределяемое слов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авшие с дере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ичастный обо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19"/>
          <p:cNvSpPr/>
          <p:nvPr/>
        </p:nvSpPr>
        <p:spPr>
          <a:xfrm rot="2830800">
            <a:off x="2759760" y="4197960"/>
            <a:ext cx="2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6"/>
          <p:cNvSpPr/>
          <p:nvPr/>
        </p:nvSpPr>
        <p:spPr>
          <a:xfrm rot="5400000">
            <a:off x="2499120" y="4863240"/>
            <a:ext cx="8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__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24"/>
          <p:cNvSpPr/>
          <p:nvPr/>
        </p:nvSpPr>
        <p:spPr>
          <a:xfrm>
            <a:off x="3143160" y="48578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граница причастного обор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33"/>
          <p:cNvSpPr/>
          <p:nvPr/>
        </p:nvSpPr>
        <p:spPr>
          <a:xfrm>
            <a:off x="1357200" y="5572080"/>
            <a:ext cx="75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~~~~~~~~~~~~~~~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распространённое 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0"/>
          <p:cNvSpPr/>
          <p:nvPr/>
        </p:nvSpPr>
        <p:spPr>
          <a:xfrm>
            <a:off x="357120" y="16430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Листья,  опавшие  с  дерева, шуршат под но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Опавшие с дерева листья шуршат под но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1"/>
          <p:cNvSpPr/>
          <p:nvPr/>
        </p:nvSpPr>
        <p:spPr>
          <a:xfrm>
            <a:off x="3357720" y="35712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Сравн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3"/>
          <p:cNvSpPr/>
          <p:nvPr/>
        </p:nvSpPr>
        <p:spPr>
          <a:xfrm>
            <a:off x="928800" y="3929040"/>
            <a:ext cx="753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мните: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причастный оборот выделяется (обособляется) запятыми, если стоит после определяемого слова. </a:t>
            </a:r>
            <a:r>
              <a:rPr b="1" lang="ru-RU" sz="2400" spc="-1" strike="noStrike" u="sng">
                <a:solidFill>
                  <a:srgbClr val="2e2925"/>
                </a:solidFill>
                <a:uFillTx/>
                <a:latin typeface="Times New Roman"/>
              </a:rPr>
              <a:t>Предложе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Если причастный оборот стоит перед определяем словом, то запятыми он не выделяется (не обособляется). </a:t>
            </a:r>
            <a:r>
              <a:rPr b="1" lang="ru-RU" sz="2400" spc="-1" strike="noStrike" u="sng">
                <a:solidFill>
                  <a:srgbClr val="2e2925"/>
                </a:solidFill>
                <a:uFillTx/>
                <a:latin typeface="Times New Roman"/>
              </a:rPr>
              <a:t>Предложе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7:06:58Z</dcterms:created>
  <dc:creator>Евгения</dc:creator>
  <dc:description>http://aida.ucoz.ru</dc:description>
  <dc:language>en-US</dc:language>
  <cp:lastModifiedBy>Наташа</cp:lastModifiedBy>
  <dcterms:modified xsi:type="dcterms:W3CDTF">2020-11-14T14:36:02Z</dcterms:modified>
  <cp:revision>59</cp:revision>
  <dc:subject/>
  <dc:title>Слайд 1</dc:title>
</cp:coreProperties>
</file>