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6C0-CB92-4E2E-AE30-52F285BD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DD9-6860-49CA-BDB6-674DDEB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DF6-277F-43D9-B1D2-4DEDE4E5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939-2DA1-4C71-9F9A-B16C8E5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EFD9-C624-4231-AAFD-2EDA9DF6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0A1-0538-4F3B-AB39-389158F5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7D1-926D-4A3F-A9C3-5EDE569E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84FC-345E-462C-9F94-E01DD4E6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68A8-EBCF-456A-A2D2-67151CBD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00A4-0418-4D31-9561-414E8A0C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1E71-561D-4FC3-994B-E50C39C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F45-0F0C-4E12-9466-F03C940D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0850-AE73-4C9F-B396-4B2CCCE5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9C4-B774-4D3E-B520-CCB303FA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6C11-8B23-4EBF-B47C-FA5847FA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67D2-CCB0-43F7-9062-6A3EF531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896D-4D07-4335-BB89-C4C7303D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6C433-7880-412A-93C5-D3DA950D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A4216-7407-4DBD-A79C-2B665E14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C4D34-880C-4F9F-B0FA-0657E16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E63CB-971B-40FA-88A4-5A09052E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E7DCC-EA47-40F2-9C65-88EE0EC4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95C-1C2A-4A3F-95AA-A3F953C6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26D5E-BBFC-42B3-8F38-89EB7F5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9C658-7093-4C2F-AF42-6DB295D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CE4A3-0057-421F-8866-1815E522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D80ED-7686-4F64-B601-89AC528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BD634-C581-4765-9B3B-6AFF5112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168F2-F50F-4DCD-A38F-4429ACD4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BB6EF-3A51-4B0C-AB1F-3FF08270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D7F7-305C-4AFF-94F3-EBFAC51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E5C7-85B1-40C2-8DEE-986C3BE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05D6-69C2-41BF-AA19-26A79CD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BAF-1BCB-47DA-8B51-D86BAAA0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A12A-4257-4400-94C5-2A5ACA6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6A02-AC57-4E2A-A78A-B2F130AF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115C4-034A-4A30-91FA-28F18566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3E2E-452F-4463-BFC9-D38D256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B43FF-45AC-4B5F-BC2D-856C74D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4943-AF16-428A-A34A-75C6721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A290-8A06-49BC-B57A-67861D7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6FE5-E2ED-4D79-B738-742F2BA0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593B-F26E-4690-A1AE-59BF7EF1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37C04-5B03-4159-8E2B-69AD7F92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3A0-C706-4993-A849-4D9FCDB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08521-4E40-45C8-8357-75FA863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0EFD8-5D39-473B-9FE6-8592E10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2BA74-78EB-46CC-A535-12FE5A5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1A19C-41E7-4A78-82B8-6869872F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5DAE4D-CF27-4118-8F99-A7BD844D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01EF4-D170-4B8A-A05C-F234E85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E12AB-D6C2-476D-BAD5-E874527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DD1C8-95CA-4F29-95F0-0A74B63F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D0FDB-4D57-44FF-8617-49D261D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21820-46C5-44E9-AB0D-C46BC8EA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98E-6409-412E-BA1B-DB56DF11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C41BF-4AC7-431A-AB70-06331CE7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1CB-7908-4F15-B9F9-722D4CC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BF0-FF48-4C71-BAA3-DA1AEA9E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947-BA33-4A97-958E-4129671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F871-0A20-4D87-AC5F-0DF6D94BE0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A0F-6E14-46BB-AF1A-3F4462E08F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A7F3-294F-4752-8BCB-51C4B43A4A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5571-E960-4BB5-87CB-9EBB5C7C00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3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4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A1C5-3AB4-4EC6-B47F-297919B5F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5"/>
          </p:nvPr>
        </p:nvSpPr>
        <p:spPr>
          <a:xfrm>
            <a:off x="456840" y="63241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2"/>
          <p:cNvSpPr/>
          <p:nvPr/>
        </p:nvSpPr>
        <p:spPr>
          <a:xfrm>
            <a:off x="579132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Company  Lo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Дата 4"/>
          <p:cNvSpPr/>
          <p:nvPr/>
        </p:nvSpPr>
        <p:spPr>
          <a:xfrm>
            <a:off x="457200" y="63244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themegalle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38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635280" y="5589720"/>
            <a:ext cx="194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11280" y="907920"/>
            <a:ext cx="3852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684360" y="3932280"/>
            <a:ext cx="3852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7" name="Текст 1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53548a"/>
              </a:solidFill>
              <a:latin typeface="Trebuchet MS"/>
            </a:endParaRPr>
          </a:p>
        </p:txBody>
      </p:sp>
      <p:sp>
        <p:nvSpPr>
          <p:cNvPr id="279" name="Rectangle 118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0764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8086"/>
                </a:solidFill>
                <a:latin typeface="Arial"/>
              </a:rPr>
              <a:t>Классный час. Урок-тренинг.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"/>
          <p:cNvSpPr/>
          <p:nvPr/>
        </p:nvSpPr>
        <p:spPr>
          <a:xfrm flipV="1" rot="10800000">
            <a:off x="392040" y="4253760"/>
            <a:ext cx="83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хматуллина Айгуль Назгат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и химии МБОУ «Криничненская СШ»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елогорского района Республики Кр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Эпиграф: 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«Бог создал семью, чтобы обеспечить человеку максимальную любовь, поддержку и мораль. Это наилучший пример, который можно себе представить»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Джерри Фалуэл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Дата 4"/>
          <p:cNvSpPr/>
          <p:nvPr/>
        </p:nvSpPr>
        <p:spPr>
          <a:xfrm>
            <a:off x="658332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ижний колонтитул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187280" y="1860480"/>
            <a:ext cx="6913800" cy="183672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3548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763640" y="836640"/>
            <a:ext cx="545148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7afbd"/>
              </a:gs>
              <a:gs pos="50000">
                <a:srgbClr val="9dccd5"/>
              </a:gs>
              <a:gs pos="100000">
                <a:srgbClr val="67afb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адии семейных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738360" y="3105000"/>
            <a:ext cx="1728720" cy="1551240"/>
            <a:chOff x="738360" y="3105000"/>
            <a:chExt cx="1728720" cy="1551240"/>
          </a:xfrm>
        </p:grpSpPr>
        <p:grpSp>
          <p:nvGrpSpPr>
            <p:cNvPr id="293" name="Group 8"/>
            <p:cNvGrpSpPr/>
            <p:nvPr/>
          </p:nvGrpSpPr>
          <p:grpSpPr>
            <a:xfrm>
              <a:off x="738360" y="3105000"/>
              <a:ext cx="1728720" cy="1551240"/>
              <a:chOff x="738360" y="3105000"/>
              <a:chExt cx="1728720" cy="1551240"/>
            </a:xfrm>
          </p:grpSpPr>
          <p:sp>
            <p:nvSpPr>
              <p:cNvPr id="294" name="Oval 9"/>
              <p:cNvSpPr/>
              <p:nvPr/>
            </p:nvSpPr>
            <p:spPr>
              <a:xfrm>
                <a:off x="738360" y="3105000"/>
                <a:ext cx="1728720" cy="1551240"/>
              </a:xfrm>
              <a:prstGeom prst="ellipse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2b51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936000" y="3130560"/>
                <a:ext cx="1333440" cy="58536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585360"/>
                  <a:gd name="textAreaBottom" fmla="*/ 585360 h 58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380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1"/>
            <p:cNvSpPr/>
            <p:nvPr/>
          </p:nvSpPr>
          <p:spPr>
            <a:xfrm>
              <a:off x="941400" y="378288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Влюблен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ость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4"/>
          <p:cNvGrpSpPr/>
          <p:nvPr/>
        </p:nvGrpSpPr>
        <p:grpSpPr>
          <a:xfrm>
            <a:off x="2651040" y="3041640"/>
            <a:ext cx="1776600" cy="1558800"/>
            <a:chOff x="2651040" y="3041640"/>
            <a:chExt cx="1776600" cy="1558800"/>
          </a:xfrm>
        </p:grpSpPr>
        <p:sp>
          <p:nvSpPr>
            <p:cNvPr id="298" name="Oval 15"/>
            <p:cNvSpPr/>
            <p:nvPr/>
          </p:nvSpPr>
          <p:spPr>
            <a:xfrm>
              <a:off x="2651040" y="3041640"/>
              <a:ext cx="1776600" cy="1558800"/>
            </a:xfrm>
            <a:prstGeom prst="ellipse">
              <a:avLst/>
            </a:prstGeom>
            <a:gradFill rotWithShape="0">
              <a:gsLst>
                <a:gs pos="0">
                  <a:srgbClr val="67afbd"/>
                </a:gs>
                <a:gs pos="100000">
                  <a:srgbClr val="355a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6"/>
            <p:cNvSpPr/>
            <p:nvPr/>
          </p:nvSpPr>
          <p:spPr>
            <a:xfrm>
              <a:off x="2854080" y="3066480"/>
              <a:ext cx="1370520" cy="588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7af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17"/>
          <p:cNvSpPr/>
          <p:nvPr/>
        </p:nvSpPr>
        <p:spPr>
          <a:xfrm>
            <a:off x="2738520" y="3652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фр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8"/>
          <p:cNvGrpSpPr/>
          <p:nvPr/>
        </p:nvGrpSpPr>
        <p:grpSpPr>
          <a:xfrm>
            <a:off x="4594320" y="2997360"/>
            <a:ext cx="1848960" cy="1558800"/>
            <a:chOff x="4594320" y="2997360"/>
            <a:chExt cx="1848960" cy="1558800"/>
          </a:xfrm>
        </p:grpSpPr>
        <p:grpSp>
          <p:nvGrpSpPr>
            <p:cNvPr id="302" name="Group 20"/>
            <p:cNvGrpSpPr/>
            <p:nvPr/>
          </p:nvGrpSpPr>
          <p:grpSpPr>
            <a:xfrm>
              <a:off x="4594320" y="2997360"/>
              <a:ext cx="1848960" cy="1558800"/>
              <a:chOff x="4594320" y="2997360"/>
              <a:chExt cx="1848960" cy="1558800"/>
            </a:xfrm>
          </p:grpSpPr>
          <p:sp>
            <p:nvSpPr>
              <p:cNvPr id="303" name="Oval 21"/>
              <p:cNvSpPr/>
              <p:nvPr/>
            </p:nvSpPr>
            <p:spPr>
              <a:xfrm>
                <a:off x="4594320" y="2997360"/>
                <a:ext cx="1848960" cy="1558800"/>
              </a:xfrm>
              <a:prstGeom prst="ellipse">
                <a:avLst/>
              </a:prstGeom>
              <a:gradFill rotWithShape="0">
                <a:gsLst>
                  <a:gs pos="0">
                    <a:srgbClr val="53548a"/>
                  </a:gs>
                  <a:gs pos="100000">
                    <a:srgbClr val="2b2b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2"/>
              <p:cNvSpPr/>
              <p:nvPr/>
            </p:nvSpPr>
            <p:spPr>
              <a:xfrm>
                <a:off x="4805640" y="3022200"/>
                <a:ext cx="1426320" cy="588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354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23"/>
            <p:cNvSpPr/>
            <p:nvPr/>
          </p:nvSpPr>
          <p:spPr>
            <a:xfrm>
              <a:off x="4686840" y="3638520"/>
              <a:ext cx="166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Компромисс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7"/>
          <p:cNvGrpSpPr/>
          <p:nvPr/>
        </p:nvGrpSpPr>
        <p:grpSpPr>
          <a:xfrm>
            <a:off x="6659640" y="2997360"/>
            <a:ext cx="1779480" cy="1569960"/>
            <a:chOff x="6659640" y="2997360"/>
            <a:chExt cx="1779480" cy="1569960"/>
          </a:xfrm>
        </p:grpSpPr>
        <p:grpSp>
          <p:nvGrpSpPr>
            <p:cNvPr id="307" name="Group 27"/>
            <p:cNvGrpSpPr/>
            <p:nvPr/>
          </p:nvGrpSpPr>
          <p:grpSpPr>
            <a:xfrm>
              <a:off x="6659640" y="2997360"/>
              <a:ext cx="1779480" cy="1569960"/>
              <a:chOff x="6659640" y="2997360"/>
              <a:chExt cx="1779480" cy="1569960"/>
            </a:xfrm>
          </p:grpSpPr>
          <p:sp>
            <p:nvSpPr>
              <p:cNvPr id="308" name="Oval 28"/>
              <p:cNvSpPr/>
              <p:nvPr/>
            </p:nvSpPr>
            <p:spPr>
              <a:xfrm>
                <a:off x="6659640" y="2997360"/>
                <a:ext cx="1779480" cy="1569960"/>
              </a:xfrm>
              <a:prstGeom prst="ellipse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2f29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9"/>
              <p:cNvSpPr/>
              <p:nvPr/>
            </p:nvSpPr>
            <p:spPr>
              <a:xfrm>
                <a:off x="6863040" y="3023280"/>
                <a:ext cx="1372680" cy="592560"/>
              </a:xfrm>
              <a:custGeom>
                <a:avLst/>
                <a:gdLst>
                  <a:gd name="textAreaLeft" fmla="*/ 0 w 1372680"/>
                  <a:gd name="textAreaRight" fmla="*/ 1373040 w 1372680"/>
                  <a:gd name="textAreaTop" fmla="*/ 0 h 592560"/>
                  <a:gd name="textAreaBottom" fmla="*/ 592920 h 5925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a8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30"/>
            <p:cNvSpPr/>
            <p:nvPr/>
          </p:nvSpPr>
          <p:spPr>
            <a:xfrm>
              <a:off x="6929280" y="357984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Терпение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0"/>
          <p:cNvGrpSpPr/>
          <p:nvPr/>
        </p:nvGrpSpPr>
        <p:grpSpPr>
          <a:xfrm>
            <a:off x="3693960" y="4884840"/>
            <a:ext cx="1735200" cy="1552320"/>
            <a:chOff x="3693960" y="4884840"/>
            <a:chExt cx="1735200" cy="1552320"/>
          </a:xfrm>
        </p:grpSpPr>
        <p:sp>
          <p:nvSpPr>
            <p:cNvPr id="312" name="Oval 36"/>
            <p:cNvSpPr/>
            <p:nvPr/>
          </p:nvSpPr>
          <p:spPr>
            <a:xfrm>
              <a:off x="3693960" y="4884840"/>
              <a:ext cx="1735200" cy="1552320"/>
            </a:xfrm>
            <a:prstGeom prst="ellipse">
              <a:avLst/>
            </a:prstGeom>
            <a:gradFill rotWithShape="0">
              <a:gsLst>
                <a:gs pos="0">
                  <a:srgbClr val="438086"/>
                </a:gs>
                <a:gs pos="100000">
                  <a:srgbClr val="2b51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3892680" y="4910040"/>
              <a:ext cx="1338120" cy="585720"/>
            </a:xfrm>
            <a:custGeom>
              <a:avLst/>
              <a:gdLst>
                <a:gd name="textAreaLeft" fmla="*/ 0 w 1338120"/>
                <a:gd name="textAreaRight" fmla="*/ 1338120 w 1338120"/>
                <a:gd name="textAreaTop" fmla="*/ 0 h 585720"/>
                <a:gd name="textAreaBottom" fmla="*/ 586080 h 585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380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38"/>
            <p:cNvSpPr/>
            <p:nvPr/>
          </p:nvSpPr>
          <p:spPr>
            <a:xfrm>
              <a:off x="3978000" y="5516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Довер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9"/>
          <p:cNvGrpSpPr/>
          <p:nvPr/>
        </p:nvGrpSpPr>
        <p:grpSpPr>
          <a:xfrm>
            <a:off x="1619280" y="4869000"/>
            <a:ext cx="1776240" cy="1558800"/>
            <a:chOff x="1619280" y="4869000"/>
            <a:chExt cx="1776240" cy="1558800"/>
          </a:xfrm>
        </p:grpSpPr>
        <p:grpSp>
          <p:nvGrpSpPr>
            <p:cNvPr id="316" name="Group 39"/>
            <p:cNvGrpSpPr/>
            <p:nvPr/>
          </p:nvGrpSpPr>
          <p:grpSpPr>
            <a:xfrm>
              <a:off x="1619280" y="4869000"/>
              <a:ext cx="1776240" cy="1558800"/>
              <a:chOff x="1619280" y="4869000"/>
              <a:chExt cx="1776240" cy="1558800"/>
            </a:xfrm>
          </p:grpSpPr>
          <p:sp>
            <p:nvSpPr>
              <p:cNvPr id="317" name="Oval 40"/>
              <p:cNvSpPr/>
              <p:nvPr/>
            </p:nvSpPr>
            <p:spPr>
              <a:xfrm>
                <a:off x="1619280" y="4869000"/>
                <a:ext cx="1776240" cy="1558800"/>
              </a:xfrm>
              <a:prstGeom prst="ellipse">
                <a:avLst/>
              </a:prstGeom>
              <a:gradFill rotWithShape="0">
                <a:gsLst>
                  <a:gs pos="0">
                    <a:srgbClr val="67afbd"/>
                  </a:gs>
                  <a:gs pos="100000">
                    <a:srgbClr val="355a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41"/>
              <p:cNvSpPr/>
              <p:nvPr/>
            </p:nvSpPr>
            <p:spPr>
              <a:xfrm>
                <a:off x="1822320" y="4893840"/>
                <a:ext cx="1370160" cy="588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af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Text Box 42"/>
            <p:cNvSpPr/>
            <p:nvPr/>
          </p:nvSpPr>
          <p:spPr>
            <a:xfrm>
              <a:off x="1707840" y="54910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Уважение</a:t>
              </a: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1"/>
          <p:cNvGrpSpPr/>
          <p:nvPr/>
        </p:nvGrpSpPr>
        <p:grpSpPr>
          <a:xfrm>
            <a:off x="5651640" y="4797360"/>
            <a:ext cx="1776240" cy="1559160"/>
            <a:chOff x="5651640" y="4797360"/>
            <a:chExt cx="1776240" cy="1559160"/>
          </a:xfrm>
        </p:grpSpPr>
        <p:grpSp>
          <p:nvGrpSpPr>
            <p:cNvPr id="321" name="Group 43"/>
            <p:cNvGrpSpPr/>
            <p:nvPr/>
          </p:nvGrpSpPr>
          <p:grpSpPr>
            <a:xfrm>
              <a:off x="5651640" y="4797360"/>
              <a:ext cx="1776240" cy="1559160"/>
              <a:chOff x="5651640" y="4797360"/>
              <a:chExt cx="1776240" cy="1559160"/>
            </a:xfrm>
          </p:grpSpPr>
          <p:sp>
            <p:nvSpPr>
              <p:cNvPr id="322" name="Oval 44"/>
              <p:cNvSpPr/>
              <p:nvPr/>
            </p:nvSpPr>
            <p:spPr>
              <a:xfrm>
                <a:off x="5651640" y="4797360"/>
                <a:ext cx="1776240" cy="1559160"/>
              </a:xfrm>
              <a:prstGeom prst="ellipse">
                <a:avLst/>
              </a:prstGeom>
              <a:gradFill rotWithShape="0">
                <a:gsLst>
                  <a:gs pos="0">
                    <a:srgbClr val="53548a"/>
                  </a:gs>
                  <a:gs pos="100000">
                    <a:srgbClr val="2b2b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5"/>
              <p:cNvSpPr/>
              <p:nvPr/>
            </p:nvSpPr>
            <p:spPr>
              <a:xfrm>
                <a:off x="5854680" y="4822200"/>
                <a:ext cx="1370160" cy="589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3548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46"/>
            <p:cNvSpPr/>
            <p:nvPr/>
          </p:nvSpPr>
          <p:spPr>
            <a:xfrm>
              <a:off x="5738760" y="53928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3"/>
          <p:cNvSpPr/>
          <p:nvPr/>
        </p:nvSpPr>
        <p:spPr>
          <a:xfrm flipH="1">
            <a:off x="5435640" y="1773360"/>
            <a:ext cx="3168720" cy="3849480"/>
          </a:xfrm>
          <a:custGeom>
            <a:avLst/>
            <a:gdLst>
              <a:gd name="textAreaLeft" fmla="*/ 360 w 3168720"/>
              <a:gd name="textAreaRight" fmla="*/ 3169440 w 3168720"/>
              <a:gd name="textAreaTop" fmla="*/ 0 h 3849480"/>
              <a:gd name="textAreaBottom" fmla="*/ 3849840 h 384948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ecffc"/>
              </a:gs>
              <a:gs pos="100000">
                <a:srgbClr val="67afb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6"/>
          <p:cNvGrpSpPr/>
          <p:nvPr/>
        </p:nvGrpSpPr>
        <p:grpSpPr>
          <a:xfrm>
            <a:off x="673560" y="1404720"/>
            <a:ext cx="5130720" cy="4769640"/>
            <a:chOff x="673560" y="1404720"/>
            <a:chExt cx="5130720" cy="4769640"/>
          </a:xfrm>
        </p:grpSpPr>
        <p:sp>
          <p:nvSpPr>
            <p:cNvPr id="327" name="AutoShape 5"/>
            <p:cNvSpPr/>
            <p:nvPr/>
          </p:nvSpPr>
          <p:spPr>
            <a:xfrm rot="5433000">
              <a:off x="3972960" y="28270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Ува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6"/>
            <p:cNvSpPr/>
            <p:nvPr/>
          </p:nvSpPr>
          <p:spPr>
            <a:xfrm rot="5433000">
              <a:off x="3088800" y="14428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Де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7"/>
            <p:cNvSpPr/>
            <p:nvPr/>
          </p:nvSpPr>
          <p:spPr>
            <a:xfrm rot="5433000">
              <a:off x="3184920" y="4271040"/>
              <a:ext cx="1852560" cy="1793880"/>
            </a:xfrm>
            <a:prstGeom prst="hexagon">
              <a:avLst>
                <a:gd name="adj" fmla="val 25818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доровь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9"/>
            <p:cNvSpPr/>
            <p:nvPr/>
          </p:nvSpPr>
          <p:spPr>
            <a:xfrm rot="5433000">
              <a:off x="1453680" y="151740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юбов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"/>
            <p:cNvSpPr/>
            <p:nvPr/>
          </p:nvSpPr>
          <p:spPr>
            <a:xfrm rot="5433000">
              <a:off x="1518840" y="4343400"/>
              <a:ext cx="1852560" cy="1792080"/>
            </a:xfrm>
            <a:prstGeom prst="hexagon">
              <a:avLst>
                <a:gd name="adj" fmla="val 25844"/>
                <a:gd name="vf" fmla="val 115470"/>
              </a:avLst>
            </a:prstGeom>
            <a:gradFill rotWithShape="0">
              <a:gsLst>
                <a:gs pos="0">
                  <a:srgbClr val="305157"/>
                </a:gs>
                <a:gs pos="50000">
                  <a:srgbClr val="67afbd"/>
                </a:gs>
                <a:gs pos="100000">
                  <a:srgbClr val="30515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заим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ним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"/>
            <p:cNvSpPr/>
            <p:nvPr/>
          </p:nvSpPr>
          <p:spPr>
            <a:xfrm rot="5433000">
              <a:off x="651960" y="2960280"/>
              <a:ext cx="1852560" cy="1792440"/>
            </a:xfrm>
            <a:prstGeom prst="hexagon">
              <a:avLst>
                <a:gd name="adj" fmla="val 25839"/>
                <a:gd name="vf" fmla="val 115470"/>
              </a:avLst>
            </a:prstGeom>
            <a:gradFill rotWithShape="0">
              <a:gsLst>
                <a:gs pos="0">
                  <a:srgbClr val="1f3b3e"/>
                </a:gs>
                <a:gs pos="50000">
                  <a:srgbClr val="438086"/>
                </a:gs>
                <a:gs pos="100000">
                  <a:srgbClr val="1f3b3e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5362560" y="20937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13"/>
          <p:cNvSpPr/>
          <p:nvPr/>
        </p:nvSpPr>
        <p:spPr>
          <a:xfrm>
            <a:off x="4500720" y="7650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емейные ц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37" name="Group 44"/>
          <p:cNvGrpSpPr/>
          <p:nvPr/>
        </p:nvGrpSpPr>
        <p:grpSpPr>
          <a:xfrm>
            <a:off x="684360" y="1844640"/>
            <a:ext cx="5686200" cy="3827160"/>
            <a:chOff x="684360" y="1844640"/>
            <a:chExt cx="5686200" cy="3827160"/>
          </a:xfrm>
        </p:grpSpPr>
        <p:sp>
          <p:nvSpPr>
            <p:cNvPr id="338" name="Rectangle 4"/>
            <p:cNvSpPr/>
            <p:nvPr/>
          </p:nvSpPr>
          <p:spPr>
            <a:xfrm>
              <a:off x="684360" y="4976640"/>
              <a:ext cx="5338800" cy="65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a87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5"/>
            <p:cNvGrpSpPr/>
            <p:nvPr/>
          </p:nvGrpSpPr>
          <p:grpSpPr>
            <a:xfrm>
              <a:off x="5383080" y="4736880"/>
              <a:ext cx="987480" cy="933480"/>
              <a:chOff x="5383080" y="4736880"/>
              <a:chExt cx="987480" cy="933480"/>
            </a:xfrm>
          </p:grpSpPr>
          <p:sp>
            <p:nvSpPr>
              <p:cNvPr id="340" name="Oval 6"/>
              <p:cNvSpPr/>
              <p:nvPr/>
            </p:nvSpPr>
            <p:spPr>
              <a:xfrm>
                <a:off x="5383080" y="4736880"/>
                <a:ext cx="987480" cy="933480"/>
              </a:xfrm>
              <a:prstGeom prst="ellipse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2f29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"/>
              <p:cNvSpPr/>
              <p:nvPr/>
            </p:nvSpPr>
            <p:spPr>
              <a:xfrm>
                <a:off x="5495760" y="4752360"/>
                <a:ext cx="761760" cy="35208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2a8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 Box 8"/>
            <p:cNvSpPr/>
            <p:nvPr/>
          </p:nvSpPr>
          <p:spPr>
            <a:xfrm>
              <a:off x="5790960" y="4797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684360" y="3047760"/>
              <a:ext cx="3794040" cy="659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4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11"/>
            <p:cNvGrpSpPr/>
            <p:nvPr/>
          </p:nvGrpSpPr>
          <p:grpSpPr>
            <a:xfrm>
              <a:off x="4165560" y="2816280"/>
              <a:ext cx="972720" cy="921960"/>
              <a:chOff x="4165560" y="2816280"/>
              <a:chExt cx="972720" cy="921960"/>
            </a:xfrm>
          </p:grpSpPr>
          <p:grpSp>
            <p:nvGrpSpPr>
              <p:cNvPr id="345" name="Group 12"/>
              <p:cNvGrpSpPr/>
              <p:nvPr/>
            </p:nvGrpSpPr>
            <p:grpSpPr>
              <a:xfrm>
                <a:off x="4165560" y="2816280"/>
                <a:ext cx="972720" cy="921960"/>
                <a:chOff x="4165560" y="2816280"/>
                <a:chExt cx="972720" cy="921960"/>
              </a:xfrm>
            </p:grpSpPr>
            <p:sp>
              <p:nvSpPr>
                <p:cNvPr id="346" name="Oval 13"/>
                <p:cNvSpPr/>
                <p:nvPr/>
              </p:nvSpPr>
              <p:spPr>
                <a:xfrm>
                  <a:off x="4165560" y="2816280"/>
                  <a:ext cx="97272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48a"/>
                    </a:gs>
                    <a:gs pos="100000">
                      <a:srgbClr val="1919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4"/>
                <p:cNvSpPr/>
                <p:nvPr/>
              </p:nvSpPr>
              <p:spPr>
                <a:xfrm>
                  <a:off x="4276800" y="2831400"/>
                  <a:ext cx="750240" cy="347760"/>
                </a:xfrm>
                <a:custGeom>
                  <a:avLst/>
                  <a:gdLst>
                    <a:gd name="textAreaLeft" fmla="*/ 0 w 750240"/>
                    <a:gd name="textAreaRight" fmla="*/ 750600 w 750240"/>
                    <a:gd name="textAreaTop" fmla="*/ 0 h 347760"/>
                    <a:gd name="textAreaBottom" fmla="*/ 348120 h 3477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354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15"/>
              <p:cNvSpPr/>
              <p:nvPr/>
            </p:nvSpPr>
            <p:spPr>
              <a:xfrm>
                <a:off x="4466520" y="2943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17"/>
            <p:cNvSpPr/>
            <p:nvPr/>
          </p:nvSpPr>
          <p:spPr>
            <a:xfrm>
              <a:off x="684360" y="399564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7af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Group 19"/>
            <p:cNvGrpSpPr/>
            <p:nvPr/>
          </p:nvGrpSpPr>
          <p:grpSpPr>
            <a:xfrm>
              <a:off x="4869000" y="3738600"/>
              <a:ext cx="909360" cy="928440"/>
              <a:chOff x="4869000" y="3738600"/>
              <a:chExt cx="909360" cy="928440"/>
            </a:xfrm>
          </p:grpSpPr>
          <p:sp>
            <p:nvSpPr>
              <p:cNvPr id="351" name="Oval 20"/>
              <p:cNvSpPr/>
              <p:nvPr/>
            </p:nvSpPr>
            <p:spPr>
              <a:xfrm>
                <a:off x="4869000" y="3738600"/>
                <a:ext cx="909360" cy="928440"/>
              </a:xfrm>
              <a:prstGeom prst="ellipse">
                <a:avLst/>
              </a:prstGeom>
              <a:gradFill rotWithShape="0">
                <a:gsLst>
                  <a:gs pos="0">
                    <a:srgbClr val="67afbd"/>
                  </a:gs>
                  <a:gs pos="100000">
                    <a:srgbClr val="192b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1"/>
              <p:cNvSpPr/>
              <p:nvPr/>
            </p:nvSpPr>
            <p:spPr>
              <a:xfrm>
                <a:off x="4972680" y="3753720"/>
                <a:ext cx="701640" cy="35028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afb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2"/>
            <p:cNvSpPr/>
            <p:nvPr/>
          </p:nvSpPr>
          <p:spPr>
            <a:xfrm>
              <a:off x="5196240" y="3787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3"/>
            <p:cNvGrpSpPr/>
            <p:nvPr/>
          </p:nvGrpSpPr>
          <p:grpSpPr>
            <a:xfrm>
              <a:off x="684360" y="1844640"/>
              <a:ext cx="3883680" cy="917280"/>
              <a:chOff x="684360" y="1844640"/>
              <a:chExt cx="3883680" cy="917280"/>
            </a:xfrm>
          </p:grpSpPr>
          <p:sp>
            <p:nvSpPr>
              <p:cNvPr id="355" name="Rectangle 24"/>
              <p:cNvSpPr/>
              <p:nvPr/>
            </p:nvSpPr>
            <p:spPr>
              <a:xfrm>
                <a:off x="684360" y="2097360"/>
                <a:ext cx="3439440" cy="6588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80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Group 25"/>
              <p:cNvGrpSpPr/>
              <p:nvPr/>
            </p:nvGrpSpPr>
            <p:grpSpPr>
              <a:xfrm>
                <a:off x="3673080" y="1844640"/>
                <a:ext cx="894960" cy="917280"/>
                <a:chOff x="3673080" y="1844640"/>
                <a:chExt cx="894960" cy="917280"/>
              </a:xfrm>
            </p:grpSpPr>
            <p:grpSp>
              <p:nvGrpSpPr>
                <p:cNvPr id="357" name="Group 26"/>
                <p:cNvGrpSpPr/>
                <p:nvPr/>
              </p:nvGrpSpPr>
              <p:grpSpPr>
                <a:xfrm>
                  <a:off x="3673080" y="1844640"/>
                  <a:ext cx="894960" cy="917280"/>
                  <a:chOff x="3673080" y="1844640"/>
                  <a:chExt cx="894960" cy="917280"/>
                </a:xfrm>
              </p:grpSpPr>
              <p:sp>
                <p:nvSpPr>
                  <p:cNvPr id="358" name="Oval 27"/>
                  <p:cNvSpPr/>
                  <p:nvPr/>
                </p:nvSpPr>
                <p:spPr>
                  <a:xfrm>
                    <a:off x="3673080" y="1844640"/>
                    <a:ext cx="894960" cy="917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38086"/>
                      </a:gs>
                      <a:gs pos="100000">
                        <a:srgbClr val="1a323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28"/>
                  <p:cNvSpPr/>
                  <p:nvPr/>
                </p:nvSpPr>
                <p:spPr>
                  <a:xfrm>
                    <a:off x="3775320" y="1859760"/>
                    <a:ext cx="690480" cy="345960"/>
                  </a:xfrm>
                  <a:custGeom>
                    <a:avLst/>
                    <a:gdLst>
                      <a:gd name="textAreaLeft" fmla="*/ 0 w 690480"/>
                      <a:gd name="textAreaRight" fmla="*/ 690840 w 690480"/>
                      <a:gd name="textAreaTop" fmla="*/ 0 h 345960"/>
                      <a:gd name="textAreaBottom" fmla="*/ 346320 h 3459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3808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0" name="Text Box 29"/>
                <p:cNvSpPr/>
                <p:nvPr/>
              </p:nvSpPr>
              <p:spPr>
                <a:xfrm>
                  <a:off x="3967920" y="1946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Verdana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Text Box 30"/>
            <p:cNvSpPr/>
            <p:nvPr/>
          </p:nvSpPr>
          <p:spPr>
            <a:xfrm>
              <a:off x="912960" y="2238480"/>
              <a:ext cx="252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Пап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31"/>
            <p:cNvSpPr/>
            <p:nvPr/>
          </p:nvSpPr>
          <p:spPr>
            <a:xfrm>
              <a:off x="762120" y="3029040"/>
              <a:ext cx="32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а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32"/>
            <p:cNvSpPr/>
            <p:nvPr/>
          </p:nvSpPr>
          <p:spPr>
            <a:xfrm>
              <a:off x="1050840" y="3965400"/>
              <a:ext cx="36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Сы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3"/>
            <p:cNvSpPr/>
            <p:nvPr/>
          </p:nvSpPr>
          <p:spPr>
            <a:xfrm>
              <a:off x="2284560" y="5151240"/>
              <a:ext cx="29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Доч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utoShape 34"/>
          <p:cNvSpPr/>
          <p:nvPr/>
        </p:nvSpPr>
        <p:spPr>
          <a:xfrm>
            <a:off x="4788000" y="1125360"/>
            <a:ext cx="2538360" cy="1814760"/>
          </a:xfrm>
          <a:prstGeom prst="wedgeRoundRectCallout">
            <a:avLst>
              <a:gd name="adj1" fmla="val -33990"/>
              <a:gd name="adj2" fmla="val 84731"/>
              <a:gd name="adj3" fmla="val 16667"/>
            </a:avLst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деальн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468360" y="6308640"/>
            <a:ext cx="820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3" descr="os47117"/>
          <p:cNvPicPr/>
          <p:nvPr/>
        </p:nvPicPr>
        <p:blipFill>
          <a:blip r:embed="rId1"/>
          <a:stretch/>
        </p:blipFill>
        <p:spPr>
          <a:xfrm>
            <a:off x="6119640" y="1700280"/>
            <a:ext cx="356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одном селе жила семья из 100 человек. В ней царила особая атмосфера мира, согласия и взаимопонимания. Никогда здесь ни ссорились, ни ругались. Этот слух дошел до правителя страны. Решил он проверить, так ли это на самом деле. Приехал владыка в село, нашел главу семьи и спросил о том, как ему удается сохранять гармонию между близкими людьми. Старик взял лист бумаги, долго на нем писал, а потом вручил его правителю. На бумаге было начертано 3 слова: "Любовь", "Терпение" и "Прощение". «И это все?» - удивился правитель. На что старик ответил: «Да! Это основа не только хорошей семьи, но и мира в целом…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4:34:02Z</dcterms:created>
  <dc:creator>cashik</dc:creator>
  <dc:description/>
  <dc:language>en-US</dc:language>
  <cp:lastModifiedBy>Биолог</cp:lastModifiedBy>
  <dcterms:modified xsi:type="dcterms:W3CDTF">2020-11-14T16:13:16Z</dcterms:modified>
  <cp:revision>28</cp:revision>
  <dc:subject/>
  <dc:title>СОЦИАЛЬНО-ПСИХОЛОГИЧЕСКАЯ МОДЕЛЬ СЕМЕЙНЫХ ОТНОШЕНИИ</dc:title>
</cp:coreProperties>
</file>