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59E-0B85-4F79-A85D-1560682D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91C-2BD3-4EA8-9D23-4B8BDC40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D7C8-846C-421B-98C2-2F6BDFA5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253-17A3-4E8D-8D03-E658C557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2470-4DE0-4BB1-A118-24785650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1E75-29D5-4673-B594-8653E45A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D16D-01EC-46C4-ACFF-06267246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EE2F-4D18-44C3-B1F1-CC84F60D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0C72-1581-477F-8A07-8F1859EE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1802-8E29-4DFC-A109-76301F8C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25F0-47E8-4947-839C-CF1F9D0E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4819-0C3E-4FB6-AF18-C21FA8CA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61AF-315B-4ABC-A517-51C8AA68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DB7F-87D1-45AA-AD67-77C13691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3D2B-C1D4-4ED1-853A-2631BCAE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8C29-F46E-45DB-81A4-8AB0BF31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A194-C984-4D6C-AACE-CE990EB7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A588E-4308-4A2F-8869-2D53BAEC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04863-05AB-4FEC-9BA1-22027360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284BF-AA08-4E70-AB76-124DEB4C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5821C-580B-40F7-8E7B-E90640FE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B0E98-85CC-47ED-B14B-73D58BF6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A9BE-2C00-4992-8080-83C4E1D2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E6A79-AA0D-4D60-895D-6E75E508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912BF-20B9-48FE-AD78-1A1B80F5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64EB7-0E10-410C-8FEB-2E576E59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C120B-F14D-495F-9ABD-2A798AF6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A02B8E-7161-4FF0-9E48-7F118FC5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09897-9AE8-438C-A04F-058029D3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7E3E6-0FA1-4A80-9409-CB5ED23E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9495D-EBCE-4A4E-B226-7F3E8E24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248D9-084B-49F1-9EBA-C16CC203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D2468-E04E-4CE7-AA1B-6CAEA8F9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917-5855-4EAB-8D5D-1FFE5034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4A6F2-8797-4F54-BBE7-CA47CFAF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6C832-21F5-415A-A1FF-F0B017E8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37E0A-AAE3-4E01-957E-97A75EFC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7F485-6E12-4CC7-990A-94AA83B0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F2911-F49B-4685-A852-9FAFC558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3C4DC-848B-4ADE-B7C3-413F3E3C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70968-BEA1-44D0-BADB-488ED8C5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A0384-8A05-4284-BE19-32788A74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90B59-2E0D-472E-8D73-94C09FD6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3379A-8520-4C65-A3CC-582DDEE8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31AB-D94B-4B6C-AD66-F4E4F8CC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8217F0-A2A2-4F79-A781-9950CFC1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FD9264-253A-4FDB-826C-580536DF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93A960-F256-4B9C-BC27-F3C63AB4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CA7C5E-2C27-4C2C-B241-556EE765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3BD82-0F15-49EF-B248-B2B44C20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697A70-65E9-4F3B-B659-4A8CB76A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969D9D-39D6-4567-B3F1-11ACFB5B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63457E-9137-4929-B5BB-ACF17362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F05624-4BD3-4F3D-991B-7436CD12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DA5E07-5D65-491D-80D2-9D5C55CE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3EF-D659-4220-BA11-C4715334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B002F-5898-4CE2-8CA3-06E7FA41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F4E-1CC8-45E1-AFF2-8E263E52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A20-9995-4CC3-BC49-9E387AFB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A67-CE8A-46E7-8481-7FE964A8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www.themegallery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Company  Lo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0BCC-AB83-4079-94D7-507194C3E5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A11B-BAA5-4D58-88C8-7337AE0170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www.themegallery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2611-B29F-411D-B817-0CB996721E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Company  Lo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www.themegallery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Company  Lo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D6E9-5262-4A95-B2D5-701F65C7BE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3"/>
          </p:nvPr>
        </p:nvSpPr>
        <p:spPr>
          <a:xfrm>
            <a:off x="5790960" y="6248520"/>
            <a:ext cx="289548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Company  Lo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4"/>
          </p:nvPr>
        </p:nvSpPr>
        <p:spPr>
          <a:xfrm>
            <a:off x="3428640" y="63385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185A-1CE9-425A-8E81-5D6373F8FA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dt" idx="15"/>
          </p:nvPr>
        </p:nvSpPr>
        <p:spPr>
          <a:xfrm>
            <a:off x="456840" y="63241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www.themegallery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ижний колонтитул 2"/>
          <p:cNvSpPr/>
          <p:nvPr/>
        </p:nvSpPr>
        <p:spPr>
          <a:xfrm>
            <a:off x="5791320" y="6248520"/>
            <a:ext cx="28954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Company  Lo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Дата 4"/>
          <p:cNvSpPr/>
          <p:nvPr/>
        </p:nvSpPr>
        <p:spPr>
          <a:xfrm>
            <a:off x="457200" y="63244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www.themegalle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385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3635280" y="5589720"/>
            <a:ext cx="1944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468360" y="6308640"/>
            <a:ext cx="8207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611280" y="907920"/>
            <a:ext cx="38527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684360" y="3932280"/>
            <a:ext cx="3852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1360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пасибо за внимание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7" name="Текст 12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5344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53548a"/>
              </a:solidFill>
              <a:latin typeface="Trebuchet MS"/>
            </a:endParaRPr>
          </a:p>
        </p:txBody>
      </p:sp>
      <p:sp>
        <p:nvSpPr>
          <p:cNvPr id="279" name="Rectangle 118"/>
          <p:cNvSpPr/>
          <p:nvPr/>
        </p:nvSpPr>
        <p:spPr>
          <a:xfrm>
            <a:off x="468360" y="6308640"/>
            <a:ext cx="8207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20764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38086"/>
                </a:solidFill>
                <a:latin typeface="Arial"/>
              </a:rPr>
              <a:t>Классный час. Урок-тренинг.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Психология семейных отношений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"/>
          <p:cNvSpPr/>
          <p:nvPr/>
        </p:nvSpPr>
        <p:spPr>
          <a:xfrm flipV="1" rot="10800000">
            <a:off x="392040" y="4253760"/>
            <a:ext cx="836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хматуллина Айгуль Назгат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и химии МБОУ «Криничненская СШ»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Белогорского района Республики Кр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Эпиграф: 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«Бог создал семью, чтобы обеспечить человеку максимальную любовь, поддержку и мораль. Это наилучший пример, который можно себе представить»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Джерри Фалуэл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Дата 4"/>
          <p:cNvSpPr/>
          <p:nvPr/>
        </p:nvSpPr>
        <p:spPr>
          <a:xfrm>
            <a:off x="658332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Нижний колонтитул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468360" y="6308640"/>
            <a:ext cx="8207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1187280" y="1860480"/>
            <a:ext cx="6913800" cy="183672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53548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1763640" y="836640"/>
            <a:ext cx="5451480" cy="82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7afbd"/>
              </a:gs>
              <a:gs pos="50000">
                <a:srgbClr val="9dccd5"/>
              </a:gs>
              <a:gs pos="100000">
                <a:srgbClr val="67afbd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адии семейных 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738360" y="3105000"/>
            <a:ext cx="1728720" cy="1551240"/>
            <a:chOff x="738360" y="3105000"/>
            <a:chExt cx="1728720" cy="1551240"/>
          </a:xfrm>
        </p:grpSpPr>
        <p:grpSp>
          <p:nvGrpSpPr>
            <p:cNvPr id="293" name="Group 8"/>
            <p:cNvGrpSpPr/>
            <p:nvPr/>
          </p:nvGrpSpPr>
          <p:grpSpPr>
            <a:xfrm>
              <a:off x="738360" y="3105000"/>
              <a:ext cx="1728720" cy="1551240"/>
              <a:chOff x="738360" y="3105000"/>
              <a:chExt cx="1728720" cy="1551240"/>
            </a:xfrm>
          </p:grpSpPr>
          <p:sp>
            <p:nvSpPr>
              <p:cNvPr id="294" name="Oval 9"/>
              <p:cNvSpPr/>
              <p:nvPr/>
            </p:nvSpPr>
            <p:spPr>
              <a:xfrm>
                <a:off x="738360" y="3105000"/>
                <a:ext cx="1728720" cy="1551240"/>
              </a:xfrm>
              <a:prstGeom prst="ellipse">
                <a:avLst/>
              </a:prstGeom>
              <a:gradFill rotWithShape="0">
                <a:gsLst>
                  <a:gs pos="0">
                    <a:srgbClr val="438086"/>
                  </a:gs>
                  <a:gs pos="100000">
                    <a:srgbClr val="2b51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0"/>
              <p:cNvSpPr/>
              <p:nvPr/>
            </p:nvSpPr>
            <p:spPr>
              <a:xfrm>
                <a:off x="936000" y="3130560"/>
                <a:ext cx="1333440" cy="58536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585360"/>
                  <a:gd name="textAreaBottom" fmla="*/ 585360 h 5853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380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Text Box 11"/>
            <p:cNvSpPr/>
            <p:nvPr/>
          </p:nvSpPr>
          <p:spPr>
            <a:xfrm>
              <a:off x="941400" y="378288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Влюблен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ность.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14"/>
          <p:cNvGrpSpPr/>
          <p:nvPr/>
        </p:nvGrpSpPr>
        <p:grpSpPr>
          <a:xfrm>
            <a:off x="2651040" y="3041640"/>
            <a:ext cx="1776600" cy="1558800"/>
            <a:chOff x="2651040" y="3041640"/>
            <a:chExt cx="1776600" cy="1558800"/>
          </a:xfrm>
        </p:grpSpPr>
        <p:sp>
          <p:nvSpPr>
            <p:cNvPr id="298" name="Oval 15"/>
            <p:cNvSpPr/>
            <p:nvPr/>
          </p:nvSpPr>
          <p:spPr>
            <a:xfrm>
              <a:off x="2651040" y="3041640"/>
              <a:ext cx="1776600" cy="1558800"/>
            </a:xfrm>
            <a:prstGeom prst="ellipse">
              <a:avLst/>
            </a:prstGeom>
            <a:gradFill rotWithShape="0">
              <a:gsLst>
                <a:gs pos="0">
                  <a:srgbClr val="67afbd"/>
                </a:gs>
                <a:gs pos="100000">
                  <a:srgbClr val="355a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6"/>
            <p:cNvSpPr/>
            <p:nvPr/>
          </p:nvSpPr>
          <p:spPr>
            <a:xfrm>
              <a:off x="2854080" y="3066480"/>
              <a:ext cx="1370520" cy="588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7af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Text Box 17"/>
          <p:cNvSpPr/>
          <p:nvPr/>
        </p:nvSpPr>
        <p:spPr>
          <a:xfrm>
            <a:off x="2738520" y="3652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фро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т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58"/>
          <p:cNvGrpSpPr/>
          <p:nvPr/>
        </p:nvGrpSpPr>
        <p:grpSpPr>
          <a:xfrm>
            <a:off x="4594320" y="2997360"/>
            <a:ext cx="1848960" cy="1558800"/>
            <a:chOff x="4594320" y="2997360"/>
            <a:chExt cx="1848960" cy="1558800"/>
          </a:xfrm>
        </p:grpSpPr>
        <p:grpSp>
          <p:nvGrpSpPr>
            <p:cNvPr id="302" name="Group 20"/>
            <p:cNvGrpSpPr/>
            <p:nvPr/>
          </p:nvGrpSpPr>
          <p:grpSpPr>
            <a:xfrm>
              <a:off x="4594320" y="2997360"/>
              <a:ext cx="1848960" cy="1558800"/>
              <a:chOff x="4594320" y="2997360"/>
              <a:chExt cx="1848960" cy="1558800"/>
            </a:xfrm>
          </p:grpSpPr>
          <p:sp>
            <p:nvSpPr>
              <p:cNvPr id="303" name="Oval 21"/>
              <p:cNvSpPr/>
              <p:nvPr/>
            </p:nvSpPr>
            <p:spPr>
              <a:xfrm>
                <a:off x="4594320" y="2997360"/>
                <a:ext cx="1848960" cy="1558800"/>
              </a:xfrm>
              <a:prstGeom prst="ellipse">
                <a:avLst/>
              </a:prstGeom>
              <a:gradFill rotWithShape="0">
                <a:gsLst>
                  <a:gs pos="0">
                    <a:srgbClr val="53548a"/>
                  </a:gs>
                  <a:gs pos="100000">
                    <a:srgbClr val="2b2b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2"/>
              <p:cNvSpPr/>
              <p:nvPr/>
            </p:nvSpPr>
            <p:spPr>
              <a:xfrm>
                <a:off x="4805640" y="3022200"/>
                <a:ext cx="1426320" cy="588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3548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Text Box 23"/>
            <p:cNvSpPr/>
            <p:nvPr/>
          </p:nvSpPr>
          <p:spPr>
            <a:xfrm>
              <a:off x="4686840" y="3638520"/>
              <a:ext cx="166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Компромисс</a:t>
              </a:r>
              <a:r>
                <a:rPr b="0" lang="ru-RU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57"/>
          <p:cNvGrpSpPr/>
          <p:nvPr/>
        </p:nvGrpSpPr>
        <p:grpSpPr>
          <a:xfrm>
            <a:off x="6659640" y="2997360"/>
            <a:ext cx="1779480" cy="1569960"/>
            <a:chOff x="6659640" y="2997360"/>
            <a:chExt cx="1779480" cy="1569960"/>
          </a:xfrm>
        </p:grpSpPr>
        <p:grpSp>
          <p:nvGrpSpPr>
            <p:cNvPr id="307" name="Group 27"/>
            <p:cNvGrpSpPr/>
            <p:nvPr/>
          </p:nvGrpSpPr>
          <p:grpSpPr>
            <a:xfrm>
              <a:off x="6659640" y="2997360"/>
              <a:ext cx="1779480" cy="1569960"/>
              <a:chOff x="6659640" y="2997360"/>
              <a:chExt cx="1779480" cy="1569960"/>
            </a:xfrm>
          </p:grpSpPr>
          <p:sp>
            <p:nvSpPr>
              <p:cNvPr id="308" name="Oval 28"/>
              <p:cNvSpPr/>
              <p:nvPr/>
            </p:nvSpPr>
            <p:spPr>
              <a:xfrm>
                <a:off x="6659640" y="2997360"/>
                <a:ext cx="1779480" cy="1569960"/>
              </a:xfrm>
              <a:prstGeom prst="ellipse">
                <a:avLst/>
              </a:prstGeom>
              <a:gradFill rotWithShape="0">
                <a:gsLst>
                  <a:gs pos="0">
                    <a:srgbClr val="c2a874"/>
                  </a:gs>
                  <a:gs pos="100000">
                    <a:srgbClr val="2f29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9"/>
              <p:cNvSpPr/>
              <p:nvPr/>
            </p:nvSpPr>
            <p:spPr>
              <a:xfrm>
                <a:off x="6863040" y="3023280"/>
                <a:ext cx="1372680" cy="592560"/>
              </a:xfrm>
              <a:custGeom>
                <a:avLst/>
                <a:gdLst>
                  <a:gd name="textAreaLeft" fmla="*/ 0 w 1372680"/>
                  <a:gd name="textAreaRight" fmla="*/ 1373040 w 1372680"/>
                  <a:gd name="textAreaTop" fmla="*/ 0 h 592560"/>
                  <a:gd name="textAreaBottom" fmla="*/ 592920 h 5925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2a8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Text Box 30"/>
            <p:cNvSpPr/>
            <p:nvPr/>
          </p:nvSpPr>
          <p:spPr>
            <a:xfrm>
              <a:off x="6929280" y="357984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Терпение</a:t>
              </a:r>
              <a:r>
                <a:rPr b="0" lang="ru-RU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60"/>
          <p:cNvGrpSpPr/>
          <p:nvPr/>
        </p:nvGrpSpPr>
        <p:grpSpPr>
          <a:xfrm>
            <a:off x="3693960" y="4884840"/>
            <a:ext cx="1735200" cy="1552320"/>
            <a:chOff x="3693960" y="4884840"/>
            <a:chExt cx="1735200" cy="1552320"/>
          </a:xfrm>
        </p:grpSpPr>
        <p:sp>
          <p:nvSpPr>
            <p:cNvPr id="312" name="Oval 36"/>
            <p:cNvSpPr/>
            <p:nvPr/>
          </p:nvSpPr>
          <p:spPr>
            <a:xfrm>
              <a:off x="3693960" y="4884840"/>
              <a:ext cx="1735200" cy="1552320"/>
            </a:xfrm>
            <a:prstGeom prst="ellipse">
              <a:avLst/>
            </a:prstGeom>
            <a:gradFill rotWithShape="0">
              <a:gsLst>
                <a:gs pos="0">
                  <a:srgbClr val="438086"/>
                </a:gs>
                <a:gs pos="100000">
                  <a:srgbClr val="2b51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7"/>
            <p:cNvSpPr/>
            <p:nvPr/>
          </p:nvSpPr>
          <p:spPr>
            <a:xfrm>
              <a:off x="3892680" y="4910040"/>
              <a:ext cx="1338120" cy="585720"/>
            </a:xfrm>
            <a:custGeom>
              <a:avLst/>
              <a:gdLst>
                <a:gd name="textAreaLeft" fmla="*/ 0 w 1338120"/>
                <a:gd name="textAreaRight" fmla="*/ 1338120 w 1338120"/>
                <a:gd name="textAreaTop" fmla="*/ 0 h 585720"/>
                <a:gd name="textAreaBottom" fmla="*/ 586080 h 585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380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38"/>
            <p:cNvSpPr/>
            <p:nvPr/>
          </p:nvSpPr>
          <p:spPr>
            <a:xfrm>
              <a:off x="3978000" y="551664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Довер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59"/>
          <p:cNvGrpSpPr/>
          <p:nvPr/>
        </p:nvGrpSpPr>
        <p:grpSpPr>
          <a:xfrm>
            <a:off x="1619280" y="4869000"/>
            <a:ext cx="1776240" cy="1558800"/>
            <a:chOff x="1619280" y="4869000"/>
            <a:chExt cx="1776240" cy="1558800"/>
          </a:xfrm>
        </p:grpSpPr>
        <p:grpSp>
          <p:nvGrpSpPr>
            <p:cNvPr id="316" name="Group 39"/>
            <p:cNvGrpSpPr/>
            <p:nvPr/>
          </p:nvGrpSpPr>
          <p:grpSpPr>
            <a:xfrm>
              <a:off x="1619280" y="4869000"/>
              <a:ext cx="1776240" cy="1558800"/>
              <a:chOff x="1619280" y="4869000"/>
              <a:chExt cx="1776240" cy="1558800"/>
            </a:xfrm>
          </p:grpSpPr>
          <p:sp>
            <p:nvSpPr>
              <p:cNvPr id="317" name="Oval 40"/>
              <p:cNvSpPr/>
              <p:nvPr/>
            </p:nvSpPr>
            <p:spPr>
              <a:xfrm>
                <a:off x="1619280" y="4869000"/>
                <a:ext cx="1776240" cy="1558800"/>
              </a:xfrm>
              <a:prstGeom prst="ellipse">
                <a:avLst/>
              </a:prstGeom>
              <a:gradFill rotWithShape="0">
                <a:gsLst>
                  <a:gs pos="0">
                    <a:srgbClr val="67afbd"/>
                  </a:gs>
                  <a:gs pos="100000">
                    <a:srgbClr val="355a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41"/>
              <p:cNvSpPr/>
              <p:nvPr/>
            </p:nvSpPr>
            <p:spPr>
              <a:xfrm>
                <a:off x="1822320" y="4893840"/>
                <a:ext cx="1370160" cy="588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afb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Text Box 42"/>
            <p:cNvSpPr/>
            <p:nvPr/>
          </p:nvSpPr>
          <p:spPr>
            <a:xfrm>
              <a:off x="1707840" y="549108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Уважение</a:t>
              </a:r>
              <a:r>
                <a:rPr b="0" lang="ru-RU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61"/>
          <p:cNvGrpSpPr/>
          <p:nvPr/>
        </p:nvGrpSpPr>
        <p:grpSpPr>
          <a:xfrm>
            <a:off x="5651640" y="4797360"/>
            <a:ext cx="1776240" cy="1559160"/>
            <a:chOff x="5651640" y="4797360"/>
            <a:chExt cx="1776240" cy="1559160"/>
          </a:xfrm>
        </p:grpSpPr>
        <p:grpSp>
          <p:nvGrpSpPr>
            <p:cNvPr id="321" name="Group 43"/>
            <p:cNvGrpSpPr/>
            <p:nvPr/>
          </p:nvGrpSpPr>
          <p:grpSpPr>
            <a:xfrm>
              <a:off x="5651640" y="4797360"/>
              <a:ext cx="1776240" cy="1559160"/>
              <a:chOff x="5651640" y="4797360"/>
              <a:chExt cx="1776240" cy="1559160"/>
            </a:xfrm>
          </p:grpSpPr>
          <p:sp>
            <p:nvSpPr>
              <p:cNvPr id="322" name="Oval 44"/>
              <p:cNvSpPr/>
              <p:nvPr/>
            </p:nvSpPr>
            <p:spPr>
              <a:xfrm>
                <a:off x="5651640" y="4797360"/>
                <a:ext cx="1776240" cy="1559160"/>
              </a:xfrm>
              <a:prstGeom prst="ellipse">
                <a:avLst/>
              </a:prstGeom>
              <a:gradFill rotWithShape="0">
                <a:gsLst>
                  <a:gs pos="0">
                    <a:srgbClr val="53548a"/>
                  </a:gs>
                  <a:gs pos="100000">
                    <a:srgbClr val="2b2b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45"/>
              <p:cNvSpPr/>
              <p:nvPr/>
            </p:nvSpPr>
            <p:spPr>
              <a:xfrm>
                <a:off x="5854680" y="4822200"/>
                <a:ext cx="1370160" cy="589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3548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 Box 46"/>
            <p:cNvSpPr/>
            <p:nvPr/>
          </p:nvSpPr>
          <p:spPr>
            <a:xfrm>
              <a:off x="5738760" y="53928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Любов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3"/>
          <p:cNvSpPr/>
          <p:nvPr/>
        </p:nvSpPr>
        <p:spPr>
          <a:xfrm flipH="1">
            <a:off x="5435640" y="1773360"/>
            <a:ext cx="3168720" cy="3849480"/>
          </a:xfrm>
          <a:custGeom>
            <a:avLst/>
            <a:gdLst>
              <a:gd name="textAreaLeft" fmla="*/ 360 w 3168720"/>
              <a:gd name="textAreaRight" fmla="*/ 3169440 w 3168720"/>
              <a:gd name="textAreaTop" fmla="*/ 0 h 3849480"/>
              <a:gd name="textAreaBottom" fmla="*/ 3849840 h 384948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ecffc"/>
              </a:gs>
              <a:gs pos="100000">
                <a:srgbClr val="67afb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16"/>
          <p:cNvGrpSpPr/>
          <p:nvPr/>
        </p:nvGrpSpPr>
        <p:grpSpPr>
          <a:xfrm>
            <a:off x="673560" y="1404720"/>
            <a:ext cx="5130720" cy="4769640"/>
            <a:chOff x="673560" y="1404720"/>
            <a:chExt cx="5130720" cy="4769640"/>
          </a:xfrm>
        </p:grpSpPr>
        <p:sp>
          <p:nvSpPr>
            <p:cNvPr id="327" name="AutoShape 5"/>
            <p:cNvSpPr/>
            <p:nvPr/>
          </p:nvSpPr>
          <p:spPr>
            <a:xfrm rot="5433000">
              <a:off x="3972960" y="2827080"/>
              <a:ext cx="1852560" cy="1792440"/>
            </a:xfrm>
            <a:prstGeom prst="hexagon">
              <a:avLst>
                <a:gd name="adj" fmla="val 25839"/>
                <a:gd name="vf" fmla="val 115470"/>
              </a:avLst>
            </a:prstGeom>
            <a:gradFill rotWithShape="0">
              <a:gsLst>
                <a:gs pos="0">
                  <a:srgbClr val="305157"/>
                </a:gs>
                <a:gs pos="50000">
                  <a:srgbClr val="67afbd"/>
                </a:gs>
                <a:gs pos="100000">
                  <a:srgbClr val="305157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ва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6"/>
            <p:cNvSpPr/>
            <p:nvPr/>
          </p:nvSpPr>
          <p:spPr>
            <a:xfrm rot="5433000">
              <a:off x="3088800" y="1442880"/>
              <a:ext cx="1852560" cy="1792440"/>
            </a:xfrm>
            <a:prstGeom prst="hexagon">
              <a:avLst>
                <a:gd name="adj" fmla="val 25839"/>
                <a:gd name="vf" fmla="val 115470"/>
              </a:avLst>
            </a:prstGeom>
            <a:gradFill rotWithShape="0">
              <a:gsLst>
                <a:gs pos="0">
                  <a:srgbClr val="1f3b3e"/>
                </a:gs>
                <a:gs pos="50000">
                  <a:srgbClr val="438086"/>
                </a:gs>
                <a:gs pos="100000">
                  <a:srgbClr val="1f3b3e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Де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7"/>
            <p:cNvSpPr/>
            <p:nvPr/>
          </p:nvSpPr>
          <p:spPr>
            <a:xfrm rot="5433000">
              <a:off x="3184920" y="4271040"/>
              <a:ext cx="1852560" cy="1793880"/>
            </a:xfrm>
            <a:prstGeom prst="hexagon">
              <a:avLst>
                <a:gd name="adj" fmla="val 25818"/>
                <a:gd name="vf" fmla="val 115470"/>
              </a:avLst>
            </a:prstGeom>
            <a:gradFill rotWithShape="0">
              <a:gsLst>
                <a:gs pos="0">
                  <a:srgbClr val="1f3b3e"/>
                </a:gs>
                <a:gs pos="50000">
                  <a:srgbClr val="438086"/>
                </a:gs>
                <a:gs pos="100000">
                  <a:srgbClr val="1f3b3e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доровь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9"/>
            <p:cNvSpPr/>
            <p:nvPr/>
          </p:nvSpPr>
          <p:spPr>
            <a:xfrm rot="5433000">
              <a:off x="1453680" y="1517400"/>
              <a:ext cx="1852560" cy="1792440"/>
            </a:xfrm>
            <a:prstGeom prst="hexagon">
              <a:avLst>
                <a:gd name="adj" fmla="val 25839"/>
                <a:gd name="vf" fmla="val 115470"/>
              </a:avLst>
            </a:prstGeom>
            <a:gradFill rotWithShape="0">
              <a:gsLst>
                <a:gs pos="0">
                  <a:srgbClr val="305157"/>
                </a:gs>
                <a:gs pos="50000">
                  <a:srgbClr val="67afbd"/>
                </a:gs>
                <a:gs pos="100000">
                  <a:srgbClr val="305157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Любов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0"/>
            <p:cNvSpPr/>
            <p:nvPr/>
          </p:nvSpPr>
          <p:spPr>
            <a:xfrm rot="5433000">
              <a:off x="1518840" y="4343400"/>
              <a:ext cx="1852560" cy="1792080"/>
            </a:xfrm>
            <a:prstGeom prst="hexagon">
              <a:avLst>
                <a:gd name="adj" fmla="val 25844"/>
                <a:gd name="vf" fmla="val 115470"/>
              </a:avLst>
            </a:prstGeom>
            <a:gradFill rotWithShape="0">
              <a:gsLst>
                <a:gs pos="0">
                  <a:srgbClr val="305157"/>
                </a:gs>
                <a:gs pos="50000">
                  <a:srgbClr val="67afbd"/>
                </a:gs>
                <a:gs pos="100000">
                  <a:srgbClr val="305157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заим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оним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11"/>
            <p:cNvSpPr/>
            <p:nvPr/>
          </p:nvSpPr>
          <p:spPr>
            <a:xfrm rot="5433000">
              <a:off x="651960" y="2960280"/>
              <a:ext cx="1852560" cy="1792440"/>
            </a:xfrm>
            <a:prstGeom prst="hexagon">
              <a:avLst>
                <a:gd name="adj" fmla="val 25839"/>
                <a:gd name="vf" fmla="val 115470"/>
              </a:avLst>
            </a:prstGeom>
            <a:gradFill rotWithShape="0">
              <a:gsLst>
                <a:gs pos="0">
                  <a:srgbClr val="1f3b3e"/>
                </a:gs>
                <a:gs pos="50000">
                  <a:srgbClr val="438086"/>
                </a:gs>
                <a:gs pos="100000">
                  <a:srgbClr val="1f3b3e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бо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2"/>
            <p:cNvSpPr/>
            <p:nvPr/>
          </p:nvSpPr>
          <p:spPr>
            <a:xfrm>
              <a:off x="5362560" y="209376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ectangle 13"/>
          <p:cNvSpPr/>
          <p:nvPr/>
        </p:nvSpPr>
        <p:spPr>
          <a:xfrm>
            <a:off x="4500720" y="76500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емейные ц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4"/>
          <p:cNvSpPr/>
          <p:nvPr/>
        </p:nvSpPr>
        <p:spPr>
          <a:xfrm>
            <a:off x="468360" y="6308640"/>
            <a:ext cx="8207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337" name="Group 44"/>
          <p:cNvGrpSpPr/>
          <p:nvPr/>
        </p:nvGrpSpPr>
        <p:grpSpPr>
          <a:xfrm>
            <a:off x="684360" y="1844640"/>
            <a:ext cx="5686200" cy="3827160"/>
            <a:chOff x="684360" y="1844640"/>
            <a:chExt cx="5686200" cy="3827160"/>
          </a:xfrm>
        </p:grpSpPr>
        <p:sp>
          <p:nvSpPr>
            <p:cNvPr id="338" name="Rectangle 4"/>
            <p:cNvSpPr/>
            <p:nvPr/>
          </p:nvSpPr>
          <p:spPr>
            <a:xfrm>
              <a:off x="684360" y="4976640"/>
              <a:ext cx="5338800" cy="658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2a87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Group 5"/>
            <p:cNvGrpSpPr/>
            <p:nvPr/>
          </p:nvGrpSpPr>
          <p:grpSpPr>
            <a:xfrm>
              <a:off x="5383080" y="4736880"/>
              <a:ext cx="987480" cy="933480"/>
              <a:chOff x="5383080" y="4736880"/>
              <a:chExt cx="987480" cy="933480"/>
            </a:xfrm>
          </p:grpSpPr>
          <p:sp>
            <p:nvSpPr>
              <p:cNvPr id="340" name="Oval 6"/>
              <p:cNvSpPr/>
              <p:nvPr/>
            </p:nvSpPr>
            <p:spPr>
              <a:xfrm>
                <a:off x="5383080" y="4736880"/>
                <a:ext cx="987480" cy="933480"/>
              </a:xfrm>
              <a:prstGeom prst="ellipse">
                <a:avLst/>
              </a:prstGeom>
              <a:gradFill rotWithShape="0">
                <a:gsLst>
                  <a:gs pos="0">
                    <a:srgbClr val="c2a874"/>
                  </a:gs>
                  <a:gs pos="100000">
                    <a:srgbClr val="2f29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7"/>
              <p:cNvSpPr/>
              <p:nvPr/>
            </p:nvSpPr>
            <p:spPr>
              <a:xfrm>
                <a:off x="5495760" y="4752360"/>
                <a:ext cx="761760" cy="35208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352080"/>
                  <a:gd name="textAreaBottom" fmla="*/ 352440 h 3520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2a8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Text Box 8"/>
            <p:cNvSpPr/>
            <p:nvPr/>
          </p:nvSpPr>
          <p:spPr>
            <a:xfrm>
              <a:off x="5790960" y="4797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684360" y="3047760"/>
              <a:ext cx="3794040" cy="659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11"/>
            <p:cNvGrpSpPr/>
            <p:nvPr/>
          </p:nvGrpSpPr>
          <p:grpSpPr>
            <a:xfrm>
              <a:off x="4165560" y="2816280"/>
              <a:ext cx="972720" cy="921960"/>
              <a:chOff x="4165560" y="2816280"/>
              <a:chExt cx="972720" cy="921960"/>
            </a:xfrm>
          </p:grpSpPr>
          <p:grpSp>
            <p:nvGrpSpPr>
              <p:cNvPr id="345" name="Group 12"/>
              <p:cNvGrpSpPr/>
              <p:nvPr/>
            </p:nvGrpSpPr>
            <p:grpSpPr>
              <a:xfrm>
                <a:off x="4165560" y="2816280"/>
                <a:ext cx="972720" cy="921960"/>
                <a:chOff x="4165560" y="2816280"/>
                <a:chExt cx="972720" cy="921960"/>
              </a:xfrm>
            </p:grpSpPr>
            <p:sp>
              <p:nvSpPr>
                <p:cNvPr id="346" name="Oval 13"/>
                <p:cNvSpPr/>
                <p:nvPr/>
              </p:nvSpPr>
              <p:spPr>
                <a:xfrm>
                  <a:off x="4165560" y="2816280"/>
                  <a:ext cx="972720" cy="92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548a"/>
                    </a:gs>
                    <a:gs pos="100000">
                      <a:srgbClr val="1919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14"/>
                <p:cNvSpPr/>
                <p:nvPr/>
              </p:nvSpPr>
              <p:spPr>
                <a:xfrm>
                  <a:off x="4276800" y="2831400"/>
                  <a:ext cx="750240" cy="347760"/>
                </a:xfrm>
                <a:custGeom>
                  <a:avLst/>
                  <a:gdLst>
                    <a:gd name="textAreaLeft" fmla="*/ 0 w 750240"/>
                    <a:gd name="textAreaRight" fmla="*/ 750600 w 750240"/>
                    <a:gd name="textAreaTop" fmla="*/ 0 h 347760"/>
                    <a:gd name="textAreaBottom" fmla="*/ 348120 h 3477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3548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15"/>
              <p:cNvSpPr/>
              <p:nvPr/>
            </p:nvSpPr>
            <p:spPr>
              <a:xfrm>
                <a:off x="4466520" y="2943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Rectangle 17"/>
            <p:cNvSpPr/>
            <p:nvPr/>
          </p:nvSpPr>
          <p:spPr>
            <a:xfrm>
              <a:off x="684360" y="3995640"/>
              <a:ext cx="4706640" cy="662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f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Group 19"/>
            <p:cNvGrpSpPr/>
            <p:nvPr/>
          </p:nvGrpSpPr>
          <p:grpSpPr>
            <a:xfrm>
              <a:off x="4869000" y="3738600"/>
              <a:ext cx="909360" cy="928440"/>
              <a:chOff x="4869000" y="3738600"/>
              <a:chExt cx="909360" cy="928440"/>
            </a:xfrm>
          </p:grpSpPr>
          <p:sp>
            <p:nvSpPr>
              <p:cNvPr id="351" name="Oval 20"/>
              <p:cNvSpPr/>
              <p:nvPr/>
            </p:nvSpPr>
            <p:spPr>
              <a:xfrm>
                <a:off x="4869000" y="3738600"/>
                <a:ext cx="909360" cy="928440"/>
              </a:xfrm>
              <a:prstGeom prst="ellipse">
                <a:avLst/>
              </a:prstGeom>
              <a:gradFill rotWithShape="0">
                <a:gsLst>
                  <a:gs pos="0">
                    <a:srgbClr val="67afbd"/>
                  </a:gs>
                  <a:gs pos="100000">
                    <a:srgbClr val="192b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21"/>
              <p:cNvSpPr/>
              <p:nvPr/>
            </p:nvSpPr>
            <p:spPr>
              <a:xfrm>
                <a:off x="4972680" y="3753720"/>
                <a:ext cx="701640" cy="350280"/>
              </a:xfrm>
              <a:custGeom>
                <a:avLst/>
                <a:gdLst>
                  <a:gd name="textAreaLeft" fmla="*/ 0 w 701640"/>
                  <a:gd name="textAreaRight" fmla="*/ 702000 w 70164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afb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22"/>
            <p:cNvSpPr/>
            <p:nvPr/>
          </p:nvSpPr>
          <p:spPr>
            <a:xfrm>
              <a:off x="5196240" y="3787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Group 23"/>
            <p:cNvGrpSpPr/>
            <p:nvPr/>
          </p:nvGrpSpPr>
          <p:grpSpPr>
            <a:xfrm>
              <a:off x="684360" y="1844640"/>
              <a:ext cx="3883680" cy="917280"/>
              <a:chOff x="684360" y="1844640"/>
              <a:chExt cx="3883680" cy="917280"/>
            </a:xfrm>
          </p:grpSpPr>
          <p:sp>
            <p:nvSpPr>
              <p:cNvPr id="355" name="Rectangle 24"/>
              <p:cNvSpPr/>
              <p:nvPr/>
            </p:nvSpPr>
            <p:spPr>
              <a:xfrm>
                <a:off x="684360" y="2097360"/>
                <a:ext cx="3439440" cy="6588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80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Group 25"/>
              <p:cNvGrpSpPr/>
              <p:nvPr/>
            </p:nvGrpSpPr>
            <p:grpSpPr>
              <a:xfrm>
                <a:off x="3673080" y="1844640"/>
                <a:ext cx="894960" cy="917280"/>
                <a:chOff x="3673080" y="1844640"/>
                <a:chExt cx="894960" cy="917280"/>
              </a:xfrm>
            </p:grpSpPr>
            <p:grpSp>
              <p:nvGrpSpPr>
                <p:cNvPr id="357" name="Group 26"/>
                <p:cNvGrpSpPr/>
                <p:nvPr/>
              </p:nvGrpSpPr>
              <p:grpSpPr>
                <a:xfrm>
                  <a:off x="3673080" y="1844640"/>
                  <a:ext cx="894960" cy="917280"/>
                  <a:chOff x="3673080" y="1844640"/>
                  <a:chExt cx="894960" cy="917280"/>
                </a:xfrm>
              </p:grpSpPr>
              <p:sp>
                <p:nvSpPr>
                  <p:cNvPr id="358" name="Oval 27"/>
                  <p:cNvSpPr/>
                  <p:nvPr/>
                </p:nvSpPr>
                <p:spPr>
                  <a:xfrm>
                    <a:off x="3673080" y="1844640"/>
                    <a:ext cx="894960" cy="917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38086"/>
                      </a:gs>
                      <a:gs pos="100000">
                        <a:srgbClr val="1a323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Freeform 28"/>
                  <p:cNvSpPr/>
                  <p:nvPr/>
                </p:nvSpPr>
                <p:spPr>
                  <a:xfrm>
                    <a:off x="3775320" y="1859760"/>
                    <a:ext cx="690480" cy="345960"/>
                  </a:xfrm>
                  <a:custGeom>
                    <a:avLst/>
                    <a:gdLst>
                      <a:gd name="textAreaLeft" fmla="*/ 0 w 690480"/>
                      <a:gd name="textAreaRight" fmla="*/ 690840 w 690480"/>
                      <a:gd name="textAreaTop" fmla="*/ 0 h 345960"/>
                      <a:gd name="textAreaBottom" fmla="*/ 346320 h 34596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3808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0" name="Text Box 29"/>
                <p:cNvSpPr/>
                <p:nvPr/>
              </p:nvSpPr>
              <p:spPr>
                <a:xfrm>
                  <a:off x="3967920" y="19465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1" name="Text Box 30"/>
            <p:cNvSpPr/>
            <p:nvPr/>
          </p:nvSpPr>
          <p:spPr>
            <a:xfrm>
              <a:off x="912960" y="2238480"/>
              <a:ext cx="252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Пап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31"/>
            <p:cNvSpPr/>
            <p:nvPr/>
          </p:nvSpPr>
          <p:spPr>
            <a:xfrm>
              <a:off x="762120" y="3029040"/>
              <a:ext cx="322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Мам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32"/>
            <p:cNvSpPr/>
            <p:nvPr/>
          </p:nvSpPr>
          <p:spPr>
            <a:xfrm>
              <a:off x="1050840" y="3965400"/>
              <a:ext cx="361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Сы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33"/>
            <p:cNvSpPr/>
            <p:nvPr/>
          </p:nvSpPr>
          <p:spPr>
            <a:xfrm>
              <a:off x="2284560" y="5151240"/>
              <a:ext cx="29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Доч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AutoShape 34"/>
          <p:cNvSpPr/>
          <p:nvPr/>
        </p:nvSpPr>
        <p:spPr>
          <a:xfrm>
            <a:off x="4788000" y="1125360"/>
            <a:ext cx="2538360" cy="1814760"/>
          </a:xfrm>
          <a:prstGeom prst="wedgeRoundRectCallout">
            <a:avLst>
              <a:gd name="adj1" fmla="val -33990"/>
              <a:gd name="adj2" fmla="val 84731"/>
              <a:gd name="adj3" fmla="val 16667"/>
            </a:avLst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деаль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8"/>
          <p:cNvSpPr/>
          <p:nvPr/>
        </p:nvSpPr>
        <p:spPr>
          <a:xfrm>
            <a:off x="468360" y="6308640"/>
            <a:ext cx="8207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3" descr="os47117"/>
          <p:cNvPicPr/>
          <p:nvPr/>
        </p:nvPicPr>
        <p:blipFill>
          <a:blip r:embed="rId1"/>
          <a:stretch/>
        </p:blipFill>
        <p:spPr>
          <a:xfrm>
            <a:off x="6119640" y="1700280"/>
            <a:ext cx="3565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одном селе жила семья из 100 человек. В ней царила особая атмосфера мира, согласия и взаимопонимания. Никогда здесь ни ссорились, ни ругались. Этот слух дошел до правителя страны. Решил он проверить, так ли это на самом деле. Приехал владыка в село, нашел главу семьи и спросил о том, как ему удается сохранять гармонию между близкими людьми. Старик взял лист бумаги, долго на нем писал, а потом вручил его правителю. На бумаге было начертано 3 слова: "Любовь", "Терпение" и "Прощение". «И это все?» - удивился правитель. На что старик ответил: «Да! Это основа не только хорошей семьи, но и мира в целом…»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34:02Z</dcterms:created>
  <dc:creator>cashik</dc:creator>
  <dc:description/>
  <dc:language>en-US</dc:language>
  <cp:lastModifiedBy>Биолог</cp:lastModifiedBy>
  <dcterms:modified xsi:type="dcterms:W3CDTF">2020-11-14T16:13:16Z</dcterms:modified>
  <cp:revision>28</cp:revision>
  <dc:subject/>
  <dc:title>СОЦИАЛЬНО-ПСИХОЛОГИЧЕСКАЯ МОДЕЛЬ СЕМЕЙНЫХ ОТНОШЕНИИ</dc:title>
</cp:coreProperties>
</file>