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F97-BFF9-4F57-8B68-C77A2779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464-FB99-4C33-B2B2-B973822C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FC5-4CD9-4BF4-8D22-75E52864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C51-52BD-4FE4-AD75-A7863266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63DD-9F37-46CE-8CFC-3D41406E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4DA1-32B3-4A98-8CE6-DD7ED5DF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1ED5-3453-4CA0-A90D-C73E1249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D16E-112C-44DB-A8EB-FAC26B0C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A41-371F-4EA6-B80F-77DD431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F15F-7E11-48D0-9B34-6564B22D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162B-B2FC-4571-82F0-3D8EB93B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1DB-1478-4691-9100-D4529B3D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F368-65EF-475E-AF7D-6BE2928B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1793-92EF-4997-A69F-D8D2B4C7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033A-68CD-404C-8DDB-668A8327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EF02-FB40-49E8-94AF-52EBFFE9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6E20-2A6A-47F1-9970-BEA6EC54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F67-1C48-4D7C-8FE3-6F44E0E8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88E-5E21-4EC5-AD49-046A02F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417-55FC-41BA-917F-014C8358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637-092E-4C2F-A1B1-C56B2C73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4F3-D125-4F56-96C6-CD2F7A6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98F-60F2-4B3B-8FEE-1E6961C2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7A1-B3BB-4540-927F-4599DE0B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367D-54D6-4B14-9B83-2ADC7CBCD9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2F4D-F00E-4E18-997B-AF6D389962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221059"/>
          <p:cNvPicPr/>
          <p:nvPr/>
        </p:nvPicPr>
        <p:blipFill>
          <a:blip r:embed="rId1"/>
          <a:srcRect l="0" t="0" r="4" b="-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7"/>
          <p:cNvSpPr txBox="1"/>
          <p:nvPr/>
        </p:nvSpPr>
        <p:spPr>
          <a:xfrm>
            <a:off x="304920" y="457200"/>
            <a:ext cx="85341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2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ebe600"/>
                    </a:gs>
                    <a:gs pos="100000">
                      <a:srgbClr val="ffff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“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ebe600"/>
                    </a:gs>
                    <a:gs pos="100000">
                      <a:srgbClr val="ffff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астлив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ebe600"/>
                  </a:gs>
                  <a:gs pos="100000">
                    <a:srgbClr val="ffff99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ebe600"/>
                    </a:gs>
                    <a:gs pos="100000">
                      <a:srgbClr val="ffff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ья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ebe600"/>
                  </a:gs>
                  <a:gs pos="100000">
                    <a:srgbClr val="ffff99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890960" y="609588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и: уч-ся 8 класса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Манина Г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Безимени-14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Любите! И цените счастье!</a:t>
            </a:r>
            <a:br>
              <a:rPr sz="4400"/>
            </a:b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Оно рождается в семье,</a:t>
            </a:r>
            <a:br>
              <a:rPr sz="4400"/>
            </a:b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Что может быть ее дороже</a:t>
            </a:r>
            <a:br>
              <a:rPr sz="4400"/>
            </a:b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На этой сказочной земле!</a:t>
            </a: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9" descr="Безимени-15"/>
          <p:cNvPicPr/>
          <p:nvPr/>
        </p:nvPicPr>
        <p:blipFill>
          <a:blip r:embed="rId1">
            <a:lum contrast="12000"/>
          </a:blip>
          <a:srcRect l="0" t="0" r="3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56ec"/>
                </a:solidFill>
                <a:latin typeface="Calibri"/>
              </a:rPr>
              <a:t>Семейное счастье не будет полным, если в семье нет детей.</a:t>
            </a:r>
            <a:endParaRPr b="0" lang="en-US" sz="40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5720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b4fb"/>
                </a:solidFill>
                <a:latin typeface="Arial"/>
              </a:rPr>
              <a:t>У Ларисы Орловой – два сы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334120" y="2133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b4fb"/>
                </a:solidFill>
                <a:latin typeface="Arial"/>
              </a:rPr>
              <a:t>Геннад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276720" y="304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b4fb"/>
                </a:solidFill>
                <a:latin typeface="Arial"/>
              </a:rPr>
              <a:t>Ник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3648"/>
                </a:solidFill>
                <a:latin typeface="Calibri"/>
              </a:rPr>
              <a:t>Мы безгранично любим свой родной край, свой город!</a:t>
            </a:r>
            <a:endParaRPr b="0" lang="en-US" sz="6000" spc="-1" strike="noStrike">
              <a:solidFill>
                <a:srgbClr val="cebd40"/>
              </a:solidFill>
              <a:latin typeface="Calibri"/>
            </a:endParaRPr>
          </a:p>
        </p:txBody>
      </p:sp>
    </p:spTree>
  </p:cSld>
  <p:transition spd="med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2209680" y="1752480"/>
            <a:ext cx="6705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Мой город – здесь я прижила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Так светил и чист предо мн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Уеду я вдаль – не тая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Душою и сердцем с тоб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304920" y="30492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Мой город! Дарю все цвет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И хочется песен рождень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С красивой строкою сти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Тебе посвятить без сомнен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Picture 4" descr="Изображение 1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Безимени-11"/>
          <p:cNvPicPr/>
          <p:nvPr/>
        </p:nvPicPr>
        <p:blipFill>
          <a:blip r:embed="rId1"/>
          <a:srcRect l="0" t="0" r="-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537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2133720"/>
            <a:ext cx="7086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bff"/>
                </a:solidFill>
                <a:latin typeface="Calibri"/>
              </a:rPr>
              <a:t>“</a:t>
            </a:r>
            <a:r>
              <a:rPr b="1" lang="ru-RU" sz="6000" spc="-1" strike="noStrike">
                <a:solidFill>
                  <a:srgbClr val="ff3bff"/>
                </a:solidFill>
                <a:latin typeface="Calibri"/>
              </a:rPr>
              <a:t>Счастливая семья</a:t>
            </a:r>
            <a:r>
              <a:rPr b="1" lang="en-US" sz="7200" spc="-1" strike="noStrike">
                <a:solidFill>
                  <a:srgbClr val="ff3bff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52280" y="594360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bedd4"/>
                </a:solidFill>
                <a:latin typeface="Arial"/>
              </a:rPr>
              <a:t>г. Десногор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Calibri"/>
              </a:rPr>
              <a:t>Цели:</a:t>
            </a:r>
            <a:endParaRPr b="0" lang="en-US" sz="48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.) Воспитание у учащихся чувства любви и уважения к семье, к родителям и близким людя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.) Формирование отношения к семье как к основной ценности общест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.) Развитие коммуникативных навыков, положительных эмоций и чувств, связанных со взаимоотношениями в семь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3648"/>
                </a:solidFill>
                <a:latin typeface="Times New Roman"/>
              </a:rPr>
              <a:t>“</a:t>
            </a:r>
            <a:r>
              <a:rPr b="1" lang="ru-RU" sz="4800" spc="-1" strike="noStrike">
                <a:solidFill>
                  <a:srgbClr val="f83648"/>
                </a:solidFill>
                <a:latin typeface="Times New Roman"/>
              </a:rPr>
              <a:t>Счастлив тот, кто счастлив у себя дома</a:t>
            </a:r>
            <a:r>
              <a:rPr b="1" lang="en-US" sz="4800" spc="-1" strike="noStrike">
                <a:solidFill>
                  <a:srgbClr val="f83648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715000" y="12193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3648"/>
                </a:solidFill>
                <a:latin typeface="Arial"/>
              </a:rPr>
              <a:t>Л.Н. Толс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"/>
          <p:cNvPicPr/>
          <p:nvPr/>
        </p:nvPicPr>
        <p:blipFill>
          <a:blip r:embed="rId1"/>
          <a:srcRect l="0" t="0" r="0" b="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3648"/>
                </a:solidFill>
                <a:latin typeface="Calibri"/>
              </a:rPr>
              <a:t>Именно благодаря любви у нас создалась здоровая, крепкая, дружная семья.</a:t>
            </a:r>
            <a:br>
              <a:rPr sz="3600"/>
            </a:br>
            <a:r>
              <a:rPr b="1" lang="ru-RU" sz="3600" spc="-1" strike="noStrike">
                <a:solidFill>
                  <a:srgbClr val="f83648"/>
                </a:solidFill>
                <a:latin typeface="Calibri"/>
              </a:rPr>
              <a:t>Вот это и есть счастье!</a:t>
            </a:r>
            <a:endParaRPr b="0" lang="en-US" sz="3600" spc="-1" strike="noStrike">
              <a:solidFill>
                <a:srgbClr val="cebd40"/>
              </a:solidFill>
              <a:latin typeface="Calibri"/>
            </a:endParaRPr>
          </a:p>
        </p:txBody>
      </p:sp>
    </p:spTree>
  </p:cSld>
  <p:transition spd="med"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055f"/>
                </a:solidFill>
                <a:latin typeface="Calibri"/>
              </a:rPr>
              <a:t>Что может быть семьи дороже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055f"/>
                </a:solidFill>
                <a:latin typeface="Calibri"/>
              </a:rPr>
              <a:t>Теплом встречает отчий дом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055f"/>
                </a:solidFill>
                <a:latin typeface="Calibri"/>
              </a:rPr>
              <a:t>Здесь ждут тебя всегда с любовью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055f"/>
                </a:solidFill>
                <a:latin typeface="Calibri"/>
              </a:rPr>
              <a:t>И провожают в путь с добром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Безимени-8"/>
          <p:cNvPicPr/>
          <p:nvPr/>
        </p:nvPicPr>
        <p:blipFill>
          <a:blip r:embed="rId1"/>
          <a:srcRect l="0" t="0" r="2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3648"/>
                </a:solidFill>
                <a:latin typeface="Calibri"/>
              </a:rPr>
              <a:t>“</a:t>
            </a:r>
            <a:r>
              <a:rPr b="1" lang="ru-RU" sz="5400" spc="-1" strike="noStrike">
                <a:solidFill>
                  <a:srgbClr val="f83648"/>
                </a:solidFill>
                <a:latin typeface="Calibri"/>
              </a:rPr>
              <a:t>Запах детства</a:t>
            </a:r>
            <a:r>
              <a:rPr b="1" lang="en-US" sz="5400" spc="-1" strike="noStrike">
                <a:solidFill>
                  <a:srgbClr val="f83648"/>
                </a:solidFill>
                <a:latin typeface="Calibri"/>
              </a:rPr>
              <a:t>”</a:t>
            </a:r>
            <a:endParaRPr b="0" lang="en-US" sz="5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28600" y="114300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о дворе береза бел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ахнет яблоневый ц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 рябины ветвь неспел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 черемухи бук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 совсем незлой, несмел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оет ветер за ок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-весеннему согрет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стучится тихо в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2666880" y="1143000"/>
            <a:ext cx="6324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Лает старая соба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Охраняет верно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Так тепло, и, как когда-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Так светло, уютно в н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Безимени-13"/>
          <p:cNvPicPr/>
          <p:nvPr/>
        </p:nvPicPr>
        <p:blipFill>
          <a:blip r:embed="rId1"/>
          <a:srcRect l="0" t="0" r="0" b="-10"/>
          <a:stretch/>
        </p:blipFill>
        <p:spPr>
          <a:xfrm>
            <a:off x="4329000" y="0"/>
            <a:ext cx="4815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47246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3648"/>
                </a:solidFill>
                <a:latin typeface="Calibri"/>
              </a:rPr>
              <a:t>“</a:t>
            </a:r>
            <a:r>
              <a:rPr b="1" lang="ru-RU" sz="7200" spc="-1" strike="noStrike">
                <a:solidFill>
                  <a:srgbClr val="f83648"/>
                </a:solidFill>
                <a:latin typeface="Calibri"/>
              </a:rPr>
              <a:t>Всем</a:t>
            </a:r>
            <a:br>
              <a:rPr sz="7200"/>
            </a:br>
            <a:r>
              <a:rPr b="1" lang="ru-RU" sz="7200" spc="-1" strike="noStrike">
                <a:solidFill>
                  <a:srgbClr val="f83648"/>
                </a:solidFill>
                <a:latin typeface="Calibri"/>
              </a:rPr>
              <a:t>матерям</a:t>
            </a:r>
            <a:r>
              <a:rPr b="1" lang="en-US" sz="7200" spc="-1" strike="noStrike">
                <a:solidFill>
                  <a:srgbClr val="f83648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52280" y="3352680"/>
            <a:ext cx="7010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аша жизнь – для себя и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сю Вы делите душу на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 прожить для здоровых детей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от для мамы великое счасть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Безимени-7"/>
          <p:cNvPicPr/>
          <p:nvPr/>
        </p:nvPicPr>
        <p:blipFill>
          <a:blip r:embed="rId1"/>
          <a:srcRect l="0" t="0" r="-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Самое дорогое для каждого – это семья…</a:t>
            </a: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</p:spTree>
  </p:cSld>
  <p:transition spd="med">
    <p:split dir="in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Безимени-5"/>
          <p:cNvPicPr/>
          <p:nvPr/>
        </p:nvPicPr>
        <p:blipFill>
          <a:blip r:embed="rId1"/>
          <a:srcRect l="0" t="0" r="1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3648"/>
                </a:solidFill>
                <a:latin typeface="Calibri"/>
              </a:rPr>
              <a:t>Зачастую первым слушателем бывает мой муж…</a:t>
            </a:r>
            <a:endParaRPr b="0" lang="en-US" sz="40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295280" y="4648320"/>
            <a:ext cx="78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Ты во мне как божественный анге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дохновитель моей любв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сполнитель заветных желаний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Сохрани эти чувства мо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0-11-01T12:35:1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c0000000000010290110207f7000400038000</vt:lpwstr>
  </property>
  <property fmtid="{D5CDD505-2E9C-101B-9397-08002B2CF9AE}" pid="3" name="Version">
    <vt:r8>1</vt:r8>
  </property>
</Properties>
</file>