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352-0071-4E11-807F-98E416B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D25-D3D7-4647-98AA-9CD9270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AB0-BFBE-4C30-A196-D66CFF52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E5C-5565-45F4-B421-B2BEA781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B7EF-F84D-42D5-B020-EC50345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2855-1716-4436-AFF0-73483B0D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FEB2-BD3C-44D9-B2F4-5916FFE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79FC-F518-462E-8345-CA2E23C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D12D-B6AD-420E-8B15-BAE2691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53A1-D2B1-463A-A1D4-A1496FE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16FB-00E9-4A53-959C-3265AE45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68A-B6A8-4373-A5FD-40F1E533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304-933C-43C6-97F7-5FB9D1F9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A20D-CF56-42AC-9C0B-38C2634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B8A5-2F8F-4F9D-B77A-3232BBF0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AF0C-9332-4D0D-94AD-F65CAE5C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046-DA4D-47C8-A95A-79F0E7A8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D33-5B21-418C-9688-2D63D142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27E-7133-451C-80D0-DF9D74C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C9D-8481-4888-93F4-53862E9D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8A9-E757-4AEA-A005-9299EFF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715-6DA3-48AA-BD5B-DC02B27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351-9D08-4093-BD03-7A97933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A5C-A2AA-4AB4-80B5-EC04F04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B68-B9F7-40FD-B05C-6E14C0F78B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7F2B-2518-4976-B608-709E18D8DA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221059"/>
          <p:cNvPicPr/>
          <p:nvPr/>
        </p:nvPicPr>
        <p:blipFill>
          <a:blip r:embed="rId1"/>
          <a:srcRect l="0" t="0" r="4" b="-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7"/>
          <p:cNvSpPr txBox="1"/>
          <p:nvPr/>
        </p:nvSpPr>
        <p:spPr>
          <a:xfrm>
            <a:off x="304920" y="457200"/>
            <a:ext cx="85341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2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“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частлив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ebe600"/>
                  </a:gs>
                  <a:gs pos="100000">
                    <a:srgbClr val="ffff99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50000">
                      <a:srgbClr val="ebe600"/>
                    </a:gs>
                    <a:gs pos="100000">
                      <a:srgbClr val="ffff99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мья”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50000">
                    <a:srgbClr val="ebe600"/>
                  </a:gs>
                  <a:gs pos="100000">
                    <a:srgbClr val="ffff99"/>
                  </a:gs>
                </a:gsLst>
                <a:lin ang="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4890960" y="609588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: уч-ся 8 класса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Манина Г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Безимени-14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Любите! И цените счастье!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Оно рождается в семье,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Что может быть ее дороже</a:t>
            </a:r>
            <a:br>
              <a:rPr sz="4400"/>
            </a:b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На этой сказочной земле!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9" descr="Безимени-15"/>
          <p:cNvPicPr/>
          <p:nvPr/>
        </p:nvPicPr>
        <p:blipFill>
          <a:blip r:embed="rId1">
            <a:lum contrast="12000"/>
          </a:blip>
          <a:srcRect l="0" t="0" r="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e56ec"/>
                </a:solidFill>
                <a:latin typeface="Calibri"/>
              </a:rPr>
              <a:t>Семейное счастье не будет полным, если в семье нет детей.</a:t>
            </a:r>
            <a:endParaRPr b="0" lang="en-US" sz="40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57200" y="1523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b4fb"/>
                </a:solidFill>
                <a:latin typeface="Arial"/>
              </a:rPr>
              <a:t>У Ларисы Орловой – два сын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34120" y="2133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b4fb"/>
                </a:solidFill>
                <a:latin typeface="Arial"/>
              </a:rPr>
              <a:t>Геннад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27672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b4fb"/>
                </a:solidFill>
                <a:latin typeface="Arial"/>
              </a:rPr>
              <a:t>Ник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83648"/>
                </a:solidFill>
                <a:latin typeface="Calibri"/>
              </a:rPr>
              <a:t>Мы безгранично любим свой родной край, свой город!</a:t>
            </a:r>
            <a:endParaRPr b="0" lang="en-US" sz="60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cover dir="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209680" y="1752480"/>
            <a:ext cx="6705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Мой город – здесь я прижила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Так светил и чист предо мн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Уеду я вдаль – не тая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Душою и сердцем с тоб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304920" y="30492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Мой город! Дарю все цвет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И хочется песен рожден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С красивой строкою стих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3648"/>
                </a:solidFill>
                <a:latin typeface="Arial"/>
              </a:rPr>
              <a:t>Тебе посвятить без сомнен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Picture 4" descr="Изображение 1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Безимени-11"/>
          <p:cNvPicPr/>
          <p:nvPr/>
        </p:nvPicPr>
        <p:blipFill>
          <a:blip r:embed="rId1"/>
          <a:srcRect l="0" t="0" r="-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537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213372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bff"/>
                </a:solidFill>
                <a:latin typeface="Calibri"/>
              </a:rPr>
              <a:t>“</a:t>
            </a:r>
            <a:r>
              <a:rPr b="1" lang="ru-RU" sz="6000" spc="-1" strike="noStrike">
                <a:solidFill>
                  <a:srgbClr val="ff3bff"/>
                </a:solidFill>
                <a:latin typeface="Calibri"/>
              </a:rPr>
              <a:t>Счастливая семья</a:t>
            </a:r>
            <a:r>
              <a:rPr b="1" lang="en-US" sz="7200" spc="-1" strike="noStrike">
                <a:solidFill>
                  <a:srgbClr val="ff3bff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52280" y="5943600"/>
            <a:ext cx="3353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bedd4"/>
                </a:solidFill>
                <a:latin typeface="Arial"/>
              </a:rPr>
              <a:t>г. Десногор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99"/>
                </a:solidFill>
                <a:latin typeface="Calibri"/>
              </a:rPr>
              <a:t>Цели:</a:t>
            </a:r>
            <a:endParaRPr b="0" lang="en-US" sz="48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1.) Воспитание у учащихся чувства любви и уважения к семье, к родителям и близким людя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2.) Формирование отношения к семье как к основной ценности обществ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3.) Развитие коммуникативных навыков, положительных эмоций и чувств, связанных со взаимоотношениями в семь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3648"/>
                </a:solidFill>
                <a:latin typeface="Times New Roman"/>
              </a:rPr>
              <a:t>“</a:t>
            </a:r>
            <a:r>
              <a:rPr b="1" lang="ru-RU" sz="4800" spc="-1" strike="noStrike">
                <a:solidFill>
                  <a:srgbClr val="f83648"/>
                </a:solidFill>
                <a:latin typeface="Times New Roman"/>
              </a:rPr>
              <a:t>Счастлив тот, кто счастлив у себя дома</a:t>
            </a:r>
            <a:r>
              <a:rPr b="1" lang="en-US" sz="4800" spc="-1" strike="noStrike">
                <a:solidFill>
                  <a:srgbClr val="f83648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715000" y="1219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3648"/>
                </a:solidFill>
                <a:latin typeface="Arial"/>
              </a:rPr>
              <a:t>Л.Н. Толс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rcRect l="0" t="0" r="0" b="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3648"/>
                </a:solidFill>
                <a:latin typeface="Calibri"/>
              </a:rPr>
              <a:t>Именно благодаря любви у нас создалась здоровая, крепкая, дружная семья.</a:t>
            </a:r>
            <a:br>
              <a:rPr sz="3600"/>
            </a:br>
            <a:r>
              <a:rPr b="1" lang="ru-RU" sz="3600" spc="-1" strike="noStrike">
                <a:solidFill>
                  <a:srgbClr val="f83648"/>
                </a:solidFill>
                <a:latin typeface="Calibri"/>
              </a:rPr>
              <a:t>Вот это и есть счастье!</a:t>
            </a:r>
            <a:endParaRPr b="0" lang="en-US" sz="36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Что может быть семьи дорож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Теплом встречает отчий дом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Здесь ждут тебя всегда с любовью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1055f"/>
                </a:solidFill>
                <a:latin typeface="Calibri"/>
              </a:rPr>
              <a:t>И провожают в путь с добром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Безимени-8"/>
          <p:cNvPicPr/>
          <p:nvPr/>
        </p:nvPicPr>
        <p:blipFill>
          <a:blip r:embed="rId1"/>
          <a:srcRect l="0" t="0" r="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3648"/>
                </a:solidFill>
                <a:latin typeface="Calibri"/>
              </a:rPr>
              <a:t>“</a:t>
            </a:r>
            <a:r>
              <a:rPr b="1" lang="ru-RU" sz="5400" spc="-1" strike="noStrike">
                <a:solidFill>
                  <a:srgbClr val="f83648"/>
                </a:solidFill>
                <a:latin typeface="Calibri"/>
              </a:rPr>
              <a:t>Запах детства</a:t>
            </a:r>
            <a:r>
              <a:rPr b="1" lang="en-US" sz="5400" spc="-1" strike="noStrike">
                <a:solidFill>
                  <a:srgbClr val="f83648"/>
                </a:solidFill>
                <a:latin typeface="Calibri"/>
              </a:rPr>
              <a:t>”</a:t>
            </a:r>
            <a:endParaRPr b="0" lang="en-US" sz="54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28600" y="114300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 дворе береза бел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ахнет яблоневый ц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рябины ветвь неспел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черемухи бук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совсем незлой, несмел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ет ветер за ок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-весеннему согре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остучится тихо в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2666880" y="1143000"/>
            <a:ext cx="6324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Лает старая соба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храняет верно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ак тепло, и, как когда-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ак светло, уютно в н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Безимени-13"/>
          <p:cNvPicPr/>
          <p:nvPr/>
        </p:nvPicPr>
        <p:blipFill>
          <a:blip r:embed="rId1"/>
          <a:srcRect l="0" t="0" r="0" b="-10"/>
          <a:stretch/>
        </p:blipFill>
        <p:spPr>
          <a:xfrm>
            <a:off x="4329000" y="0"/>
            <a:ext cx="4815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47246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3648"/>
                </a:solidFill>
                <a:latin typeface="Calibri"/>
              </a:rPr>
              <a:t>“</a:t>
            </a:r>
            <a:r>
              <a:rPr b="1" lang="ru-RU" sz="7200" spc="-1" strike="noStrike">
                <a:solidFill>
                  <a:srgbClr val="f83648"/>
                </a:solidFill>
                <a:latin typeface="Calibri"/>
              </a:rPr>
              <a:t>Всем</a:t>
            </a:r>
            <a:br>
              <a:rPr sz="7200"/>
            </a:br>
            <a:r>
              <a:rPr b="1" lang="ru-RU" sz="7200" spc="-1" strike="noStrike">
                <a:solidFill>
                  <a:srgbClr val="f83648"/>
                </a:solidFill>
                <a:latin typeface="Calibri"/>
              </a:rPr>
              <a:t>матерям</a:t>
            </a:r>
            <a:r>
              <a:rPr b="1" lang="en-US" sz="7200" spc="-1" strike="noStrike">
                <a:solidFill>
                  <a:srgbClr val="f83648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52280" y="3352680"/>
            <a:ext cx="7010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аша жизнь – для себя и люд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сю Вы делите душу на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 прожить для здоровых дете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от для мамы великое счаст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Безимени-7"/>
          <p:cNvPicPr/>
          <p:nvPr/>
        </p:nvPicPr>
        <p:blipFill>
          <a:blip r:embed="rId1"/>
          <a:srcRect l="0" t="0" r="-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3648"/>
                </a:solidFill>
                <a:latin typeface="Calibri"/>
              </a:rPr>
              <a:t>Самое дорогое для каждого – это семья…</a:t>
            </a:r>
            <a:endParaRPr b="0" lang="en-US" sz="4400" spc="-1" strike="noStrike">
              <a:solidFill>
                <a:srgbClr val="cebd40"/>
              </a:solidFill>
              <a:latin typeface="Calibri"/>
            </a:endParaRPr>
          </a:p>
        </p:txBody>
      </p:sp>
    </p:spTree>
  </p:cSld>
  <p:transition spd="med"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Безимени-5"/>
          <p:cNvPicPr/>
          <p:nvPr/>
        </p:nvPicPr>
        <p:blipFill>
          <a:blip r:embed="rId1"/>
          <a:srcRect l="0" t="0" r="1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3648"/>
                </a:solidFill>
                <a:latin typeface="Calibri"/>
              </a:rPr>
              <a:t>Зачастую первым слушателем бывает мой муж…</a:t>
            </a:r>
            <a:endParaRPr b="0" lang="en-US" sz="4000" spc="-1" strike="noStrike">
              <a:solidFill>
                <a:srgbClr val="cebd40"/>
              </a:solidFill>
              <a:latin typeface="Calibri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295280" y="4648320"/>
            <a:ext cx="78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Ты во мне как божественный анг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Вдохновитель моей любв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сполнитель заветных желаний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Сохрани эти чувства мо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0-11-01T12:35:1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1c0000000000010290110207f7000400038000</vt:lpwstr>
  </property>
  <property fmtid="{D5CDD505-2E9C-101B-9397-08002B2CF9AE}" pid="3" name="Version">
    <vt:r8>1</vt:r8>
  </property>
</Properties>
</file>