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A901-9170-4F81-93E0-1B34EA7F80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4358-56C6-441C-8742-8B92ABB2EF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F043-ED87-471D-9A0E-D037308153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8A3A-28C1-400B-9829-6C4D84414A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4D13-EA65-471A-A491-774E4AE3F3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F328-1F22-4078-A1EB-000CA98E22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A3A0-B9DC-4B19-83D5-3666028585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E950-B470-4F21-B272-F1DAAAA095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0661-C59B-45AB-9F29-AF4469DE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9217-E18E-4005-A405-6FEDDE69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E7AD-F3CB-41A8-A645-C0525DFC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85C7-FE0F-4494-86A1-72562EE4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2B4C-C1FD-41A7-A49D-DA0B21A4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B54B-D038-4E81-B881-8D854F86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061D-16D0-4DE3-8E9C-CF869F15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94D5-F522-419C-8687-411A15FA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3140-C1B8-4026-AFB6-65BEF136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9784-C217-4400-A9C0-DDC6AA7F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6E85-1F39-44C6-96B3-F2CD856D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2AB-66A8-4F53-B4F3-005EC2F5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86F8-145A-488F-B449-02B6BBA6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BBCA-F868-4079-A39C-1E7C3406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E0CD-8B99-4D23-98EA-F2DDCE09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897B-FED1-464F-8D44-B85C6ECC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4F98-8354-455A-8A87-3E4CB1C6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EAF3-DE1F-48AA-89FA-5A9BE54D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022C-84DD-4686-9F43-E0087550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98F3-5DF8-4E23-83EE-F21DB7D1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B940-8759-46BB-9F1E-7D32369B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4944-7CC5-4832-BF6C-02B8B60C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E872-24C6-4EC2-A28C-428D7640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44E8-3C99-48A9-8F07-315469D6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DF22-71AF-413C-89CB-0EC4FDE3EA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svetofor4pq.gif"/>
          <p:cNvPicPr/>
          <p:nvPr/>
        </p:nvPicPr>
        <p:blipFill>
          <a:blip r:embed="rId3"/>
          <a:stretch/>
        </p:blipFill>
        <p:spPr>
          <a:xfrm>
            <a:off x="184320" y="214200"/>
            <a:ext cx="8799480" cy="642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6A08-D5F7-4298-8D99-A2CADB2A55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3080" y="691920"/>
            <a:ext cx="7345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Государственное бюджетное дошкольное образовательное учреждение детский сад № 45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ушкинского района Санкт-Петербурга</a:t>
            </a:r>
            <a:br>
              <a:rPr sz="2000"/>
            </a:br>
            <a:br>
              <a:rPr sz="20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Создание макета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жилого района  с детьми старшего дошкольного возраст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1258920" y="4029120"/>
            <a:ext cx="3384360" cy="211932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6443640" y="3860640"/>
            <a:ext cx="1441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5508720" y="4352760"/>
            <a:ext cx="251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сильева Н.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атель высшей 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11280" y="764640"/>
            <a:ext cx="7345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4" descr=""/>
          <p:cNvPicPr/>
          <p:nvPr/>
        </p:nvPicPr>
        <p:blipFill>
          <a:blip r:embed="rId1"/>
          <a:stretch/>
        </p:blipFill>
        <p:spPr>
          <a:xfrm>
            <a:off x="2195640" y="907920"/>
            <a:ext cx="5040360" cy="39610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1476360" y="53737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готовим для макета транспорт и пеше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подготовленные части поставим на осн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ение раб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Объект 3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3240360" cy="38293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4" descr=""/>
          <p:cNvPicPr/>
          <p:nvPr/>
        </p:nvPicPr>
        <p:blipFill>
          <a:blip r:embed="rId2"/>
          <a:stretch/>
        </p:blipFill>
        <p:spPr>
          <a:xfrm>
            <a:off x="4619520" y="2924280"/>
            <a:ext cx="36514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Объект 3" descr=""/>
          <p:cNvPicPr/>
          <p:nvPr/>
        </p:nvPicPr>
        <p:blipFill>
          <a:blip r:embed="rId1"/>
          <a:stretch/>
        </p:blipFill>
        <p:spPr>
          <a:xfrm>
            <a:off x="1285920" y="1125360"/>
            <a:ext cx="6789600" cy="31388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1258920" y="450864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ш макет района готов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нем хорошо видны улицы, дома, наш детский сад, школа, в которую многие из вас будут ходить. Найдите на макете свой дом? Покажите свой путь от дома  до детского сада. Покажите путь от дома до шко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340000" y="2637000"/>
            <a:ext cx="4464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Девочки и мальчи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се, без исключени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облюдайте  прави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рожного движения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4678560" cy="2390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1273320" y="539424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Мы живем в новом микрорайоне Славянк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города Санкт-Петербурга. Прежде, чем строить район, инженеры-строители разрабатывают план  и макет райо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4191120" y="2781360"/>
            <a:ext cx="392256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10960" y="720720"/>
            <a:ext cx="7281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делаем игровой макет  нашего района своими ру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3" descr=""/>
          <p:cNvPicPr/>
          <p:nvPr/>
        </p:nvPicPr>
        <p:blipFill>
          <a:blip r:embed="rId1"/>
          <a:stretch/>
        </p:blipFill>
        <p:spPr>
          <a:xfrm>
            <a:off x="2411280" y="2349360"/>
            <a:ext cx="4897440" cy="28656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1258920" y="5446800"/>
            <a:ext cx="6697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Чтобы правильно сделать макет, надо вспомни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как устроена ул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ешеходный переход и остановка транспор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8" descr=""/>
          <p:cNvPicPr/>
          <p:nvPr/>
        </p:nvPicPr>
        <p:blipFill>
          <a:blip r:embed="rId1"/>
          <a:stretch/>
        </p:blipFill>
        <p:spPr>
          <a:xfrm>
            <a:off x="1028880" y="1628640"/>
            <a:ext cx="4305240" cy="3672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>
            <a:off x="1187280" y="551664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а улицах обозначены места для переходов. Какие виды пешеходных переходов вы знаете? Какие переходы есть в Славян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515772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Объект 3" descr=""/>
          <p:cNvPicPr/>
          <p:nvPr/>
        </p:nvPicPr>
        <p:blipFill>
          <a:blip r:embed="rId2"/>
          <a:stretch/>
        </p:blipFill>
        <p:spPr>
          <a:xfrm>
            <a:off x="5415120" y="1989000"/>
            <a:ext cx="2901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ветоф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195640" y="1789200"/>
            <a:ext cx="5113080" cy="30798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"/>
          <p:cNvSpPr/>
          <p:nvPr/>
        </p:nvSpPr>
        <p:spPr>
          <a:xfrm>
            <a:off x="1258920" y="5229360"/>
            <a:ext cx="681336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Есть в нашем районе и светофор.  Светофор – наш главный помощник на улице, знать и понимать его сигналы  очень важно. Давайте вспомним значение сигналов светоф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Как сделать макет своими руками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42560" y="119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3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4514760" cy="32403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1476360" y="5373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ачала надо приготовить основу. Разметить линии дорог, места пешеходных перех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618920" y="1341360"/>
            <a:ext cx="65739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5132520" y="2565360"/>
            <a:ext cx="2709720" cy="12747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" descr=""/>
          <p:cNvPicPr/>
          <p:nvPr/>
        </p:nvPicPr>
        <p:blipFill>
          <a:blip r:embed="rId2"/>
          <a:stretch/>
        </p:blipFill>
        <p:spPr>
          <a:xfrm>
            <a:off x="1619280" y="2360520"/>
            <a:ext cx="3008160" cy="21146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1403280" y="5084640"/>
            <a:ext cx="64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а можно сделать из старых деревянных кубиков, обклеенных цветной плён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755280" y="907560"/>
            <a:ext cx="7853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рожные зна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1" descr=""/>
          <p:cNvPicPr/>
          <p:nvPr/>
        </p:nvPicPr>
        <p:blipFill>
          <a:blip r:embed="rId1"/>
          <a:stretch/>
        </p:blipFill>
        <p:spPr>
          <a:xfrm>
            <a:off x="1258920" y="1581120"/>
            <a:ext cx="3112920" cy="21700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" descr=""/>
          <p:cNvPicPr/>
          <p:nvPr/>
        </p:nvPicPr>
        <p:blipFill>
          <a:blip r:embed="rId2"/>
          <a:stretch/>
        </p:blipFill>
        <p:spPr>
          <a:xfrm>
            <a:off x="4573440" y="1484280"/>
            <a:ext cx="3038760" cy="21844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"/>
          <p:cNvPicPr/>
          <p:nvPr/>
        </p:nvPicPr>
        <p:blipFill>
          <a:blip r:embed="rId3"/>
          <a:stretch/>
        </p:blipFill>
        <p:spPr>
          <a:xfrm>
            <a:off x="1994040" y="3860640"/>
            <a:ext cx="1468440" cy="16513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"/>
          <p:cNvPicPr/>
          <p:nvPr/>
        </p:nvPicPr>
        <p:blipFill>
          <a:blip r:embed="rId4"/>
          <a:stretch/>
        </p:blipFill>
        <p:spPr>
          <a:xfrm>
            <a:off x="5361120" y="3830760"/>
            <a:ext cx="968400" cy="1827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"/>
          <p:cNvSpPr/>
          <p:nvPr/>
        </p:nvSpPr>
        <p:spPr>
          <a:xfrm>
            <a:off x="1442880" y="5661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дороги нужно поставить дорожные знаки. Сделаем их из бумаги, деревянной палочки и подста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3964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рев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1"/>
          <a:stretch/>
        </p:blipFill>
        <p:spPr>
          <a:xfrm>
            <a:off x="1469880" y="1450800"/>
            <a:ext cx="1970280" cy="24688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"/>
          <p:cNvPicPr/>
          <p:nvPr/>
        </p:nvPicPr>
        <p:blipFill>
          <a:blip r:embed="rId2"/>
          <a:stretch/>
        </p:blipFill>
        <p:spPr>
          <a:xfrm>
            <a:off x="3643200" y="1495440"/>
            <a:ext cx="2940120" cy="23796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5" descr=""/>
          <p:cNvPicPr/>
          <p:nvPr/>
        </p:nvPicPr>
        <p:blipFill>
          <a:blip r:embed="rId3"/>
          <a:stretch/>
        </p:blipFill>
        <p:spPr>
          <a:xfrm>
            <a:off x="6804000" y="1538280"/>
            <a:ext cx="1459080" cy="17272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7" descr=""/>
          <p:cNvPicPr/>
          <p:nvPr/>
        </p:nvPicPr>
        <p:blipFill>
          <a:blip r:embed="rId4"/>
          <a:stretch/>
        </p:blipFill>
        <p:spPr>
          <a:xfrm>
            <a:off x="6851520" y="3414600"/>
            <a:ext cx="1043280" cy="17240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9"/>
          <p:cNvSpPr/>
          <p:nvPr/>
        </p:nvSpPr>
        <p:spPr>
          <a:xfrm>
            <a:off x="1042920" y="5138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ет нужно украсить деревьями. Сделаем их такж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дорожные 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15:55:50Z</dcterms:created>
  <dc:creator>Admin</dc:creator>
  <dc:description/>
  <dc:language>en-US</dc:language>
  <cp:lastModifiedBy>79522648683</cp:lastModifiedBy>
  <dcterms:modified xsi:type="dcterms:W3CDTF">2020-11-14T17:14:14Z</dcterms:modified>
  <cp:revision>34</cp:revision>
  <dc:subject/>
  <dc:title>Слайд 1</dc:title>
</cp:coreProperties>
</file>