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1CE8-708B-47ED-A7BD-80D9E85E6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87A7-9E15-469B-B48D-C5DF4BDBE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734B-4EBE-4FDF-8C0D-1B2920E34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7430-1F1F-429D-B561-F1D8147BC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9B0D-BD0A-41D6-A368-158836F72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DAC-C616-449A-B81B-ABF60EA44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7D45-8DFA-4922-A5C8-5EA71B300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1D2-D209-4D43-812F-856BDB2ED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7AB-DD05-40D6-9317-E42D3114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0F4-80C1-409C-9571-F9497F05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714-3174-47ED-93D5-78D18821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20B-0D18-405E-A1B2-A90453A6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F44-1295-4B3D-8151-E6A31A19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015D-D920-4F14-A88A-26E4EC15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53AA-FD5D-4ECC-B62B-1674566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D250-414C-4957-A1D3-271ED54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E41F-14AF-42ED-9B8A-2F323EF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C04-BBC8-4303-9BE5-23557C04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7270-02B7-4B47-9583-C49CC43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45A-B3BE-4FE8-BA91-5684955A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5D45-BEB3-4422-AB34-97FBEE9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1C33-A1BD-4687-BEF0-9B46CB8C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1EAA-7190-423A-AB3A-5253CB0F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AE30-F736-4EC9-B9DE-9BE7BF28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A98C-8ADD-4A43-99E3-AE873347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A2F-0195-4200-A49F-7EE75D12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AB9-E3EA-495A-BE47-9499CDB5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40F-8AEA-451B-97C2-D5617BD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58E-C360-47B1-AE41-A82466FA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83E-3C94-4EE8-B66C-AEFDFC4F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EF8-8079-4640-B2BF-5E2932B9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B31-5608-4D49-85B3-0705B72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B6AB-F266-44B6-9B63-B0E6521B8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BA3-49EF-4AF3-8282-F48947ED4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3080" y="69192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ое бюджетное дошкольное образовательное учреждение детский сад № 45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ушкинского района Санкт-Петербурга</a:t>
            </a: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здание макет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жилого района  с детьми старшего дошкольного возрас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1258920" y="4029120"/>
            <a:ext cx="3384360" cy="21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6443640" y="3860640"/>
            <a:ext cx="144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508720" y="43527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силье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11280" y="764640"/>
            <a:ext cx="7345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040360" cy="39610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476360" y="5373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товим для макета транспорт и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одготовленные части поставим на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ение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240360" cy="3829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4619520" y="2924280"/>
            <a:ext cx="36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1285920" y="1125360"/>
            <a:ext cx="6789600" cy="313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258920" y="450864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 макет района гото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м хорошо видны улицы, дома, наш детский сад, школа, в которую многие из вас будут ходить. Найдите на макете свой дом? Покажите свой путь от дома  до детского сада. Покажите путь от дома до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40000" y="2637000"/>
            <a:ext cx="446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вочки и мальчи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се, без исключе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блюдайте  прав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рожного движени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678560" cy="239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273320" y="53942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ы живем в новом микрорайоне Славян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рода Санкт-Петербурга. Прежде, чем строить район, инженеры-строители разрабатывают план  и макет райо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191120" y="2781360"/>
            <a:ext cx="39225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0960" y="720720"/>
            <a:ext cx="7281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делаем игровой макет  нашего района своими ру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897440" cy="2865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258920" y="5446800"/>
            <a:ext cx="6697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Чтобы правильно сделать макет, надо вспомн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ак устроена у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ешеходный переход и остановка транспо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8" descr=""/>
          <p:cNvPicPr/>
          <p:nvPr/>
        </p:nvPicPr>
        <p:blipFill>
          <a:blip r:embed="rId1"/>
          <a:stretch/>
        </p:blipFill>
        <p:spPr>
          <a:xfrm>
            <a:off x="1028880" y="1628640"/>
            <a:ext cx="430524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1187280" y="5516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 улицах обозначены места для переходов. Какие виды пешеходных переходов вы знаете? Какие переходы есть в Славян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2"/>
          <a:stretch/>
        </p:blipFill>
        <p:spPr>
          <a:xfrm>
            <a:off x="5415120" y="1989000"/>
            <a:ext cx="2901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ветоф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195640" y="1789200"/>
            <a:ext cx="511308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1258920" y="5229360"/>
            <a:ext cx="68133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Есть в нашем районе и светофор.  Светофор – наш главный помощник на улице, знать и понимать его сигналы  очень важно. Давайте вспомним значение сигналов светоф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к сделать макет своими рукам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560" y="119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451476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47636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надо приготовить основу. Разметить линии дорог, места пешеходных пер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8920" y="1341360"/>
            <a:ext cx="65739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5132520" y="2565360"/>
            <a:ext cx="2709720" cy="12747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2"/>
          <a:stretch/>
        </p:blipFill>
        <p:spPr>
          <a:xfrm>
            <a:off x="1619280" y="2360520"/>
            <a:ext cx="3008160" cy="2114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1403280" y="508464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 можно сделать из старых деревянных кубиков, обклеенных цветной плён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55280" y="907560"/>
            <a:ext cx="7853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жные 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258920" y="1581120"/>
            <a:ext cx="3112920" cy="2170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4573440" y="1484280"/>
            <a:ext cx="3038760" cy="2184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3"/>
          <a:stretch/>
        </p:blipFill>
        <p:spPr>
          <a:xfrm>
            <a:off x="1994040" y="3860640"/>
            <a:ext cx="1468440" cy="1651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4"/>
          <a:stretch/>
        </p:blipFill>
        <p:spPr>
          <a:xfrm>
            <a:off x="5361120" y="3830760"/>
            <a:ext cx="968400" cy="1827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1442880" y="566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роги нужно поставить дорожные знаки. Сделаем их из бумаги, деревянной палочки и подст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1469880" y="1450800"/>
            <a:ext cx="1970280" cy="2468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3643200" y="1495440"/>
            <a:ext cx="2940120" cy="2379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"/>
          <p:cNvPicPr/>
          <p:nvPr/>
        </p:nvPicPr>
        <p:blipFill>
          <a:blip r:embed="rId3"/>
          <a:stretch/>
        </p:blipFill>
        <p:spPr>
          <a:xfrm>
            <a:off x="6804000" y="1538280"/>
            <a:ext cx="145908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4"/>
          <a:stretch/>
        </p:blipFill>
        <p:spPr>
          <a:xfrm>
            <a:off x="6851520" y="3414600"/>
            <a:ext cx="1043280" cy="1724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1042920" y="5138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нужно украсить деревьями. Сделаем их так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рожны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79522648683</cp:lastModifiedBy>
  <dcterms:modified xsi:type="dcterms:W3CDTF">2020-11-14T17:14:14Z</dcterms:modified>
  <cp:revision>34</cp:revision>
  <dc:subject/>
  <dc:title>Слайд 1</dc:title>
</cp:coreProperties>
</file>