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2E0-77D2-4F54-99A5-699592FD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FA7-DF75-4DC5-BB5B-1A919CB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8C4-5E49-4D1E-97BF-B629A631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293-7250-4114-B6FA-55DB2DAA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7F8-3222-40A1-9BC2-526A284E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652-BA3E-46A7-9339-C22BD44E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DB8-A1F4-419F-BEC0-E8234976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6AE-51AD-4B20-897A-EC22DBF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337-2B43-4E8A-8AFA-95BA88E8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84A-765C-4D38-874B-DFDCBF51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8C7-8E11-4FBB-BAD1-1B581E7E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030-9522-4AC5-87D4-F2F78D1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7182-2994-49C8-A8CC-FDB4654C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Задание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редставьте, что вы громко разговаривали в маршрутке и женщина, сидевшая рядом, сделала вам очень резкое замечание. Какой, скорее всего, будет ваша реакция? Выберите и подчеркните один ответ из предложенных или напишите св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) вы извини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б) вы станете разговаривать ти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) вы станете разговаривать громч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г) вы ей возраз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) вы отшути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е) вы очень расстрои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ж) другая реа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1125360"/>
            <a:ext cx="76327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оспитываем харак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емперам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Меланхо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легма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ангви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Холе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Четверг, 31 января 2008. Мой Маленький Принц. мир не справед…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Определите характер геро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лан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столюб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ья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знесм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онарщ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ог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-3 балла- слабый контроль; вы не меняете своего поведения в зависимости от ситуации, вы искренни, но многие считают вас излишне прямолинейным и поэтому неудобным в камп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-6 баллов- средний контроль; вы искренни, но сдержаны. Иногда это расценивают как невнимательность к окружаю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7-10 баллов- высокий контроль; вы легко входите в любую роль и можете производить впечатление на других людей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Д/З §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тветьте на вопрос: «Какие игрушки у вас были любимыми в детстве?» При затруднении с ответом обратитесь к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0:51:36Z</dcterms:created>
  <dc:creator>1</dc:creator>
  <dc:description/>
  <dc:language>en-US</dc:language>
  <cp:lastModifiedBy>1</cp:lastModifiedBy>
  <dcterms:modified xsi:type="dcterms:W3CDTF">2014-11-17T11:10:08Z</dcterms:modified>
  <cp:revision>2</cp:revision>
  <dc:subject/>
  <dc:title>Тема урока</dc:title>
</cp:coreProperties>
</file>