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F89-0D4E-42B6-934B-35C7CCF2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06D-297B-4FB2-A9E6-75F9971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355-AC74-4A86-9F5F-000958FD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91D-98A3-4E8D-A101-EE498E7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CEA-E767-46B7-99A4-E90D71F9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EE3-6770-4E00-AAD7-CB612C78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A79-F53B-400E-96DC-09E0B30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3B2-BC80-4FB9-B944-84097DA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103-2E20-40B4-9CE4-05D0119D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784-BAB3-42AB-9FA4-4038D20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675-CBCA-449D-A418-C0B1AA5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CC3-90D7-4B9A-8CB1-D8F8B66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FC3-CA53-42D9-9A27-7C29BD068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Задание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едставьте, что вы громко разговаривали в маршрутке и женщина, сидевшая рядом, сделала вам очень резкое замечание. Какой, скорее всего, будет ваша реакция? Выберите и подчеркните один ответ из предложенных или напишите св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) вы извин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) вы станете разговаривать ти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) вы станете разговаривать гром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г) вы ей возраз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) вы отшут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е) вы очень расстро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ж) друг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125360"/>
            <a:ext cx="7632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спитываем харак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емперам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Меланхо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легма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ангви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оле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Четверг, 31 января 2008. Мой Маленький Принц. мир не справед…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пределите характер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лан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столюб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ья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знесм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онар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ог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-3 балла- слабый контроль; вы не меняете своего поведения в зависимости от ситуации, вы искренни, но многие считают вас излишне прямолинейным и поэтому неудобным в ка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-6 баллов- средний контроль; вы искренни, но сдержаны. Иногда это расценивают как невнимательность к окружаю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7-10 баллов- высокий контроль; вы легко входите в любую роль и можете производить впечатление на других людей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/З §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тветьте на вопрос: «Какие игрушки у вас были любимыми в детстве?» При затруднении с ответом обратитесь к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0:51:36Z</dcterms:created>
  <dc:creator>1</dc:creator>
  <dc:description/>
  <dc:language>en-US</dc:language>
  <cp:lastModifiedBy>1</cp:lastModifiedBy>
  <dcterms:modified xsi:type="dcterms:W3CDTF">2014-11-17T11:10:08Z</dcterms:modified>
  <cp:revision>2</cp:revision>
  <dc:subject/>
  <dc:title>Тема урока</dc:title>
</cp:coreProperties>
</file>