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F931-6558-44AA-A0CD-8A7620790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FB98-15AF-43FA-B8D6-A4742DAD9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8BE8-4903-4B88-8508-4E7C2134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158D-69FA-44DB-9592-F578E58E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1EDC-D62C-41EE-AD87-14D70CF2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37E2-0782-40CC-B692-F86C1C82A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6BE-5C22-4195-9BEC-4FD4D12A1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AEA1-AFB8-408C-AD97-0766566F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790-993D-448F-A31C-95C17F69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35BB-0606-4AA8-8E06-C54E591F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A51A-8B04-4183-9538-DC501103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5A4D-916F-41F7-B9A8-740D70E7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069F-D391-42A3-8CD9-E080A7F60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Задание №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Представьте, что вы громко разговаривали в маршрутке и женщина, сидевшая рядом, сделала вам очень резкое замечание. Какой, скорее всего, будет ваша реакция? Выберите и подчеркните один ответ из предложенных или напишите свой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а) вы извините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б) вы станете разговаривать тиш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в) вы станете разговаривать громч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г) вы ей возразит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) вы отшутите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е) вы очень расстроитес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ж) другая реак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4360" y="1125360"/>
            <a:ext cx="763272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Воспитываем характ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Темперамен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Меланхол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Флегмат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Сангвин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Холе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Четверг, 31 января 2008. Мой Маленький Принц. мир не справед…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43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Определите характер герое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лан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редставите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Корол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Честолюбе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Пьяниц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Бизнесме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Фонарщ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№</a:t>
                      </a: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Геогра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Результаты те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0-3 балла- слабый контроль; вы не меняете своего поведения в зависимости от ситуации, вы искренни, но многие считают вас излишне прямолинейным и поэтому неудобным в кампа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4-6 баллов- средний контроль; вы искренни, но сдержаны. Иногда это расценивают как невнимательность к окружающ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7-10 баллов- высокий контроль; вы легко входите в любую роль и можете производить впечатление на других людей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Д/З § 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Ответьте на вопрос: «Какие игрушки у вас были любимыми в детстве?» При затруднении с ответом обратитесь к родите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7T10:51:36Z</dcterms:created>
  <dc:creator>1</dc:creator>
  <dc:description/>
  <dc:language>en-US</dc:language>
  <cp:lastModifiedBy>1</cp:lastModifiedBy>
  <dcterms:modified xsi:type="dcterms:W3CDTF">2014-11-17T11:10:08Z</dcterms:modified>
  <cp:revision>2</cp:revision>
  <dc:subject/>
  <dc:title>Тема урока</dc:title>
</cp:coreProperties>
</file>