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4.png" ContentType="image/png"/>
  <Override PartName="/ppt/media/image25.wmf" ContentType="image/x-wmf"/>
  <Override PartName="/ppt/media/image23.jpeg" ContentType="image/jpeg"/>
  <Override PartName="/ppt/media/image21.wmf" ContentType="image/x-wmf"/>
  <Override PartName="/ppt/media/image7.wmf" ContentType="image/x-wmf"/>
  <Override PartName="/ppt/media/image33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31.jpeg" ContentType="image/jpeg"/>
  <Override PartName="/ppt/media/image10.wmf" ContentType="image/x-wmf"/>
  <Override PartName="/ppt/media/image9.gif" ContentType="image/gif"/>
  <Override PartName="/ppt/media/image22.wmf" ContentType="image/x-wmf"/>
  <Override PartName="/ppt/media/image30.wmf" ContentType="image/x-wmf"/>
  <Override PartName="/ppt/media/image32.gif" ContentType="image/gif"/>
  <Override PartName="/ppt/media/image18.wmf" ContentType="image/x-wmf"/>
  <Override PartName="/ppt/media/image20.wmf" ContentType="image/x-wmf"/>
  <Override PartName="/ppt/media/image5.png" ContentType="image/png"/>
  <Override PartName="/ppt/media/image3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.jpeg" ContentType="image/jpeg"/>
  <Override PartName="/ppt/media/image15.png" ContentType="image/png"/>
  <Override PartName="/ppt/media/image1.jpeg" ContentType="image/jpeg"/>
  <Override PartName="/ppt/media/image27.gif" ContentType="image/gif"/>
  <Override PartName="/ppt/media/image14.wmf" ContentType="image/x-wmf"/>
  <Override PartName="/ppt/media/image29.png" ContentType="image/png"/>
  <Override PartName="/ppt/media/image12.wmf" ContentType="image/x-wmf"/>
  <Override PartName="/ppt/media/image16.gif" ContentType="image/gif"/>
  <Override PartName="/ppt/media/image13.wmf" ContentType="image/x-wmf"/>
  <Override PartName="/ppt/media/image17.gif" ContentType="image/gif"/>
  <Override PartName="/ppt/media/image1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6D6-05CA-4ADB-8F93-FA7C4C2F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4F5-44FF-4AEB-A787-8FB9AAAD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194-920F-4841-8F09-7BE18A9C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C0E-454C-420C-B532-E2185BA5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1396-8A84-4D34-855D-7A47DF26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64CC-6EAC-4D6C-8377-1F259A68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542A-E751-41B7-81C5-AA6839E5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C54E-7E6C-4728-BCE3-9BEA6D89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A192-20D9-46AA-8A7B-30F0DDAF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6393-2CBC-4D1A-BA5A-A2871A86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4F03-1042-4316-9B80-3C94D54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5B0-2993-41FA-94E9-08D9E275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B9DF-75B7-4262-9523-2E2BB929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3B33-D705-4391-B7CF-35D6EDDB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5582-CD55-4DE6-8583-37B66F3A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4BC7-E679-4C6F-9D48-EC2E1733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79A5-A6ED-4CAE-A661-A2264094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DB6-56AF-49E8-BFC0-F104B380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42E-2049-401A-8C3B-F658AFC5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553-AE11-4466-B03B-FA0B3EC6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A36-41BF-4424-8002-655A9280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1A9-496B-43A6-8DB7-6033C09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3D1-62B2-4A46-8BB4-E2C5443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A4B-FF05-4546-B631-778BB1FB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1429-9271-477B-A35A-FC609D8F0D4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8A6B-E383-42BB-8D87-4C2B0FB208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jpeg"/><Relationship Id="rId8" Type="http://schemas.openxmlformats.org/officeDocument/2006/relationships/image" Target="../media/image32.gif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.jpeg"/><Relationship Id="rId3" Type="http://schemas.openxmlformats.org/officeDocument/2006/relationships/image" Target="../media/image34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037040" y="5970600"/>
            <a:ext cx="18302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 класс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07880" y="4046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 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Законность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правопоряд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Укрепление законности и правопоряд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901960" y="692280"/>
            <a:ext cx="3686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вни факто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31400" y="1219320"/>
            <a:ext cx="2239560" cy="1031760"/>
            <a:chOff x="131400" y="1219320"/>
            <a:chExt cx="2239560" cy="1031760"/>
          </a:xfrm>
        </p:grpSpPr>
        <p:pic>
          <p:nvPicPr>
            <p:cNvPr id="294" name="" descr=""/>
            <p:cNvPicPr/>
            <p:nvPr/>
          </p:nvPicPr>
          <p:blipFill>
            <a:blip r:embed="rId1"/>
            <a:stretch/>
          </p:blipFill>
          <p:spPr>
            <a:xfrm>
              <a:off x="826920" y="1219320"/>
              <a:ext cx="86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31400" y="1882800"/>
              <a:ext cx="22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Общесоциа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692440" y="1325520"/>
            <a:ext cx="1846440" cy="903240"/>
            <a:chOff x="2692440" y="1325520"/>
            <a:chExt cx="1846440" cy="903240"/>
          </a:xfrm>
        </p:grpSpPr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3148200" y="1325520"/>
              <a:ext cx="93636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692440" y="1860480"/>
              <a:ext cx="184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Региона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908600" y="1147680"/>
            <a:ext cx="1400040" cy="1103040"/>
            <a:chOff x="4908600" y="1147680"/>
            <a:chExt cx="1400040" cy="1103040"/>
          </a:xfrm>
        </p:grpSpPr>
        <p:pic>
          <p:nvPicPr>
            <p:cNvPr id="300" name="" descr=""/>
            <p:cNvPicPr/>
            <p:nvPr/>
          </p:nvPicPr>
          <p:blipFill>
            <a:blip r:embed="rId3"/>
            <a:stretch/>
          </p:blipFill>
          <p:spPr>
            <a:xfrm>
              <a:off x="5227200" y="114768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4908600" y="1882440"/>
              <a:ext cx="14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Группово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666480" y="1125360"/>
            <a:ext cx="2175480" cy="1103400"/>
            <a:chOff x="6666480" y="1125360"/>
            <a:chExt cx="2175480" cy="1103400"/>
          </a:xfrm>
        </p:grpSpPr>
        <p:pic>
          <p:nvPicPr>
            <p:cNvPr id="303" name="" descr=""/>
            <p:cNvPicPr/>
            <p:nvPr/>
          </p:nvPicPr>
          <p:blipFill>
            <a:blip r:embed="rId4"/>
            <a:stretch/>
          </p:blipFill>
          <p:spPr>
            <a:xfrm>
              <a:off x="7399080" y="1125360"/>
              <a:ext cx="70956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6666480" y="18604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Индивидуа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79280" y="2371680"/>
            <a:ext cx="8856720" cy="1417680"/>
            <a:chOff x="179280" y="2371680"/>
            <a:chExt cx="8856720" cy="1417680"/>
          </a:xfrm>
        </p:grpSpPr>
        <p:sp>
          <p:nvSpPr>
            <p:cNvPr id="306" name=""/>
            <p:cNvSpPr/>
            <p:nvPr/>
          </p:nvSpPr>
          <p:spPr>
            <a:xfrm>
              <a:off x="250920" y="2371680"/>
              <a:ext cx="8642160" cy="504720"/>
            </a:xfrm>
            <a:prstGeom prst="downArrowCallout">
              <a:avLst>
                <a:gd name="adj1" fmla="val -39664"/>
                <a:gd name="adj2" fmla="val 73247"/>
                <a:gd name="adj3" fmla="val 34278"/>
                <a:gd name="adj4" fmla="val 46542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79280" y="2852640"/>
              <a:ext cx="885672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формируется личность с определенным уровнем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равового,политического и нравственного сознан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08" name=""/>
          <p:cNvSpPr txBox="1"/>
          <p:nvPr/>
        </p:nvSpPr>
        <p:spPr>
          <a:xfrm>
            <a:off x="1979640" y="3789360"/>
            <a:ext cx="52005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виды влияния факторов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136520" y="4221000"/>
            <a:ext cx="3435120" cy="2184120"/>
            <a:chOff x="1136520" y="4221000"/>
            <a:chExt cx="3435120" cy="2184120"/>
          </a:xfrm>
        </p:grpSpPr>
        <p:grpSp>
          <p:nvGrpSpPr>
            <p:cNvPr id="310" name=""/>
            <p:cNvGrpSpPr/>
            <p:nvPr/>
          </p:nvGrpSpPr>
          <p:grpSpPr>
            <a:xfrm>
              <a:off x="1136520" y="4941720"/>
              <a:ext cx="3015720" cy="1463400"/>
              <a:chOff x="1136520" y="4941720"/>
              <a:chExt cx="3015720" cy="146340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1136520" y="4941720"/>
                <a:ext cx="1143000" cy="1463400"/>
                <a:chOff x="1136520" y="4941720"/>
                <a:chExt cx="1143000" cy="1463400"/>
              </a:xfrm>
            </p:grpSpPr>
            <p:pic>
              <p:nvPicPr>
                <p:cNvPr id="3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36520" y="4941720"/>
                  <a:ext cx="1143000" cy="89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3" name=""/>
                <p:cNvSpPr/>
                <p:nvPr/>
              </p:nvSpPr>
              <p:spPr>
                <a:xfrm>
                  <a:off x="1191960" y="6036840"/>
                  <a:ext cx="1031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ffffff"/>
                      </a:solidFill>
                      <a:latin typeface="Tahoma"/>
                    </a:rPr>
                    <a:t>прямое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2491560" y="5170320"/>
                <a:ext cx="16606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Фактор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Сознание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Поведен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H="1">
              <a:off x="1979280" y="4221000"/>
              <a:ext cx="2592360" cy="86364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572000" y="4221000"/>
            <a:ext cx="3756960" cy="2162520"/>
            <a:chOff x="4572000" y="4221000"/>
            <a:chExt cx="3756960" cy="2162520"/>
          </a:xfrm>
        </p:grpSpPr>
        <p:grpSp>
          <p:nvGrpSpPr>
            <p:cNvPr id="317" name=""/>
            <p:cNvGrpSpPr/>
            <p:nvPr/>
          </p:nvGrpSpPr>
          <p:grpSpPr>
            <a:xfrm>
              <a:off x="5026320" y="5064120"/>
              <a:ext cx="3302640" cy="1319400"/>
              <a:chOff x="5026320" y="5064120"/>
              <a:chExt cx="3302640" cy="131940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5026320" y="5064120"/>
                <a:ext cx="1370880" cy="1319400"/>
                <a:chOff x="5026320" y="5064120"/>
                <a:chExt cx="1370880" cy="1319400"/>
              </a:xfrm>
            </p:grpSpPr>
            <p:pic>
              <p:nvPicPr>
                <p:cNvPr id="31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208480" y="5064120"/>
                  <a:ext cx="1008000" cy="81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5026320" y="6015240"/>
                  <a:ext cx="137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ffffff"/>
                      </a:solidFill>
                      <a:latin typeface="Tahoma"/>
                    </a:rPr>
                    <a:t>косвенное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668280" y="5067360"/>
                <a:ext cx="166068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Фактор1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Фактор2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Сознание-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ccff"/>
                    </a:solidFill>
                    <a:latin typeface="Tahoma"/>
                  </a:rPr>
                  <a:t>Поведени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572000" y="4221000"/>
              <a:ext cx="1152360" cy="79236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Укрепление законности и правопоряд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68360" y="801720"/>
            <a:ext cx="8470080" cy="720720"/>
            <a:chOff x="468360" y="801720"/>
            <a:chExt cx="8470080" cy="720720"/>
          </a:xfrm>
        </p:grpSpPr>
        <p:sp>
          <p:nvSpPr>
            <p:cNvPr id="325" name=""/>
            <p:cNvSpPr txBox="1"/>
            <p:nvPr/>
          </p:nvSpPr>
          <p:spPr>
            <a:xfrm>
              <a:off x="468360" y="801720"/>
              <a:ext cx="244800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000066"/>
                  </a:solidFill>
                  <a:latin typeface="Arial"/>
                </a:rPr>
                <a:t>прямо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000066"/>
                  </a:solidFill>
                  <a:latin typeface="Arial"/>
                </a:rPr>
                <a:t>воздействи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Arial"/>
                <a:ea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74440" y="801720"/>
              <a:ext cx="5364000" cy="642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Идеологические и психологические фактор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и правовые факторы в конкретной ситу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68360" y="1844640"/>
            <a:ext cx="8451360" cy="720720"/>
            <a:chOff x="468360" y="1844640"/>
            <a:chExt cx="8451360" cy="720720"/>
          </a:xfrm>
        </p:grpSpPr>
        <p:sp>
          <p:nvSpPr>
            <p:cNvPr id="328" name=""/>
            <p:cNvSpPr txBox="1"/>
            <p:nvPr/>
          </p:nvSpPr>
          <p:spPr>
            <a:xfrm>
              <a:off x="468360" y="1844640"/>
              <a:ext cx="244800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000066"/>
                  </a:solidFill>
                  <a:latin typeface="Arial"/>
                </a:rPr>
                <a:t>косвенно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000066"/>
                  </a:solidFill>
                  <a:latin typeface="Arial"/>
                </a:rPr>
                <a:t>воздействие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66"/>
                </a:solidFill>
                <a:latin typeface="Arial"/>
                <a:ea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7960" y="1844640"/>
              <a:ext cx="535176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Экономические, социально-политические и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др.факторы действуют опосредован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5280" y="2924280"/>
            <a:ext cx="8781480" cy="1225440"/>
            <a:chOff x="395280" y="2924280"/>
            <a:chExt cx="8781480" cy="1225440"/>
          </a:xfrm>
        </p:grpSpPr>
        <p:sp>
          <p:nvSpPr>
            <p:cNvPr id="331" name=""/>
            <p:cNvSpPr txBox="1"/>
            <p:nvPr/>
          </p:nvSpPr>
          <p:spPr>
            <a:xfrm>
              <a:off x="395280" y="2997360"/>
              <a:ext cx="324000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законность как режим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енной жизн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71280" y="2924280"/>
              <a:ext cx="5505480" cy="1191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2f2d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Состоит из актов индивидуального поведения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Состояние законности складывается из соот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ношения законного и противозаконного пове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д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"/>
          <p:cNvSpPr txBox="1"/>
          <p:nvPr/>
        </p:nvSpPr>
        <p:spPr>
          <a:xfrm>
            <a:off x="1000080" y="4292640"/>
            <a:ext cx="7172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состояние законности зависит от: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-3600" y="4941720"/>
            <a:ext cx="4529520" cy="1851840"/>
            <a:chOff x="-3600" y="4941720"/>
            <a:chExt cx="4529520" cy="1851840"/>
          </a:xfrm>
        </p:grpSpPr>
        <p:grpSp>
          <p:nvGrpSpPr>
            <p:cNvPr id="335" name=""/>
            <p:cNvGrpSpPr/>
            <p:nvPr/>
          </p:nvGrpSpPr>
          <p:grpSpPr>
            <a:xfrm>
              <a:off x="-3600" y="4941720"/>
              <a:ext cx="2155680" cy="1851840"/>
              <a:chOff x="-3600" y="4941720"/>
              <a:chExt cx="2155680" cy="1851840"/>
            </a:xfrm>
          </p:grpSpPr>
          <p:pic>
            <p:nvPicPr>
              <p:cNvPr id="3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640" y="4941720"/>
                <a:ext cx="770040" cy="8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-3600" y="5602320"/>
                <a:ext cx="2155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Факторов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относящихс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к личност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2091240" y="5257800"/>
              <a:ext cx="2434680" cy="11912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Общая культура,п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литическое созна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ние,интеллект,тем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перамент и др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662720" y="4869000"/>
            <a:ext cx="4446360" cy="1877040"/>
            <a:chOff x="4662720" y="4869000"/>
            <a:chExt cx="4446360" cy="1877040"/>
          </a:xfrm>
        </p:grpSpPr>
        <p:grpSp>
          <p:nvGrpSpPr>
            <p:cNvPr id="340" name=""/>
            <p:cNvGrpSpPr/>
            <p:nvPr/>
          </p:nvGrpSpPr>
          <p:grpSpPr>
            <a:xfrm>
              <a:off x="4662720" y="4869000"/>
              <a:ext cx="1634760" cy="1877040"/>
              <a:chOff x="4662720" y="4869000"/>
              <a:chExt cx="1634760" cy="1877040"/>
            </a:xfrm>
          </p:grpSpPr>
          <p:pic>
            <p:nvPicPr>
              <p:cNvPr id="34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76640" y="4869000"/>
                <a:ext cx="1008000" cy="77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4662720" y="5554800"/>
                <a:ext cx="1634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Факторов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внешне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ahoma"/>
                  </a:rPr>
                  <a:t>среды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77040" y="4869000"/>
              <a:ext cx="2732040" cy="1739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Состояние экономик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государственных инс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титутов,органов охра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на правопорядка,ур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вень законодатель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ва и др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Роль правоохранительных органов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79280" y="806400"/>
            <a:ext cx="8853480" cy="1830240"/>
            <a:chOff x="179280" y="806400"/>
            <a:chExt cx="8853480" cy="1830240"/>
          </a:xfrm>
        </p:grpSpPr>
        <p:grpSp>
          <p:nvGrpSpPr>
            <p:cNvPr id="346" name=""/>
            <p:cNvGrpSpPr/>
            <p:nvPr/>
          </p:nvGrpSpPr>
          <p:grpSpPr>
            <a:xfrm>
              <a:off x="179280" y="806400"/>
              <a:ext cx="1009800" cy="1830240"/>
              <a:chOff x="179280" y="806400"/>
              <a:chExt cx="1009800" cy="1830240"/>
            </a:xfrm>
          </p:grpSpPr>
          <p:sp>
            <p:nvSpPr>
              <p:cNvPr id="347" name=""/>
              <p:cNvSpPr txBox="1"/>
              <p:nvPr/>
            </p:nvSpPr>
            <p:spPr>
              <a:xfrm>
                <a:off x="179280" y="2103120"/>
                <a:ext cx="1009800" cy="533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ОВД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3920" y="806400"/>
                <a:ext cx="922320" cy="1191960"/>
              </a:xfrm>
              <a:prstGeom prst="rect">
                <a:avLst/>
              </a:prstGeom>
              <a:ln w="38160">
                <a:solidFill>
                  <a:srgbClr val="993366"/>
                </a:solidFill>
                <a:miter/>
              </a:ln>
            </p:spPr>
          </p:pic>
        </p:grpSp>
        <p:sp>
          <p:nvSpPr>
            <p:cNvPr id="349" name=""/>
            <p:cNvSpPr/>
            <p:nvPr/>
          </p:nvSpPr>
          <p:spPr>
            <a:xfrm>
              <a:off x="1346400" y="1179360"/>
              <a:ext cx="7686360" cy="1008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-охрана общественного порядка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-борьба с преступностью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-обеспечение безопасности дорожного движения, и др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39640" y="2637000"/>
            <a:ext cx="8089560" cy="1296720"/>
            <a:chOff x="539640" y="2637000"/>
            <a:chExt cx="8089560" cy="1296720"/>
          </a:xfrm>
        </p:grpSpPr>
        <p:grpSp>
          <p:nvGrpSpPr>
            <p:cNvPr id="351" name=""/>
            <p:cNvGrpSpPr/>
            <p:nvPr/>
          </p:nvGrpSpPr>
          <p:grpSpPr>
            <a:xfrm>
              <a:off x="539640" y="3068640"/>
              <a:ext cx="8089560" cy="865080"/>
              <a:chOff x="539640" y="3068640"/>
              <a:chExt cx="8089560" cy="865080"/>
            </a:xfrm>
          </p:grpSpPr>
          <p:pic>
            <p:nvPicPr>
              <p:cNvPr id="3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9640" y="3068640"/>
                <a:ext cx="792000" cy="86508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1881720" y="3112920"/>
                <a:ext cx="6747480" cy="703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ahoma"/>
                  </a:rPr>
                  <a:t>Деятельность органов охраны правопорядк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ahoma"/>
                  </a:rPr>
                  <a:t>регулируется специальным законодательством.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611280" y="2637000"/>
              <a:ext cx="288720" cy="2872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4156200" y="4840200"/>
            <a:ext cx="84744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овд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800320" y="4076640"/>
            <a:ext cx="3164760" cy="2589120"/>
            <a:chOff x="5800320" y="4076640"/>
            <a:chExt cx="3164760" cy="2589120"/>
          </a:xfrm>
        </p:grpSpPr>
        <p:sp>
          <p:nvSpPr>
            <p:cNvPr id="357" name=""/>
            <p:cNvSpPr txBox="1"/>
            <p:nvPr/>
          </p:nvSpPr>
          <p:spPr>
            <a:xfrm>
              <a:off x="6012000" y="4076640"/>
              <a:ext cx="27352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нешняя</a:t>
              </a:r>
              <a:endParaRPr b="1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cc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фера</a:t>
              </a:r>
              <a:endParaRPr b="1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00320" y="4925880"/>
              <a:ext cx="3164760" cy="17398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Борьба с преступностью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контроль за соблюдение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общественного порядк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соблюдением законности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пожарной безопасностью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и т.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14920" y="4076640"/>
            <a:ext cx="3052080" cy="2473560"/>
            <a:chOff x="214920" y="4076640"/>
            <a:chExt cx="3052080" cy="2473560"/>
          </a:xfrm>
        </p:grpSpPr>
        <p:sp>
          <p:nvSpPr>
            <p:cNvPr id="360" name=""/>
            <p:cNvSpPr txBox="1"/>
            <p:nvPr/>
          </p:nvSpPr>
          <p:spPr>
            <a:xfrm>
              <a:off x="372960" y="4076640"/>
              <a:ext cx="27352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внутренняя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сфера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4920" y="5084640"/>
              <a:ext cx="3052080" cy="14655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Соответствие закону дея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тельности самих орган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внутренних дел, их под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разделений и сотруднии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ков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5.Роль правоохранительных органов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498120" y="692280"/>
            <a:ext cx="2297520" cy="1810800"/>
            <a:chOff x="3498120" y="692280"/>
            <a:chExt cx="2297520" cy="1810800"/>
          </a:xfrm>
        </p:grpSpPr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4184640" y="692280"/>
              <a:ext cx="922320" cy="1191960"/>
            </a:xfrm>
            <a:prstGeom prst="rect">
              <a:avLst/>
            </a:prstGeom>
            <a:ln w="38160">
              <a:solidFill>
                <a:srgbClr val="993366"/>
              </a:solidFill>
              <a:miter/>
            </a:ln>
          </p:spPr>
        </p:pic>
        <p:sp>
          <p:nvSpPr>
            <p:cNvPr id="365" name=""/>
            <p:cNvSpPr/>
            <p:nvPr/>
          </p:nvSpPr>
          <p:spPr>
            <a:xfrm>
              <a:off x="3498120" y="1860480"/>
              <a:ext cx="229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Аспект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Деятельности ОВ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19640" y="836640"/>
            <a:ext cx="3999240" cy="1513800"/>
            <a:chOff x="5219640" y="836640"/>
            <a:chExt cx="3999240" cy="1513800"/>
          </a:xfrm>
        </p:grpSpPr>
        <p:grpSp>
          <p:nvGrpSpPr>
            <p:cNvPr id="367" name=""/>
            <p:cNvGrpSpPr/>
            <p:nvPr/>
          </p:nvGrpSpPr>
          <p:grpSpPr>
            <a:xfrm>
              <a:off x="6090840" y="836640"/>
              <a:ext cx="3128040" cy="1513800"/>
              <a:chOff x="6090840" y="836640"/>
              <a:chExt cx="3128040" cy="1513800"/>
            </a:xfrm>
          </p:grpSpPr>
          <p:sp>
            <p:nvSpPr>
              <p:cNvPr id="368" name=""/>
              <p:cNvSpPr txBox="1"/>
              <p:nvPr/>
            </p:nvSpPr>
            <p:spPr>
              <a:xfrm>
                <a:off x="6489720" y="836640"/>
                <a:ext cx="2330280" cy="431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нравственный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0840" y="1433520"/>
                <a:ext cx="3128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Укрепление законност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не может достигатьс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ценой нарушения закона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219640" y="1125360"/>
              <a:ext cx="1152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9520" y="836640"/>
            <a:ext cx="4037760" cy="1513800"/>
            <a:chOff x="29520" y="836640"/>
            <a:chExt cx="4037760" cy="1513800"/>
          </a:xfrm>
        </p:grpSpPr>
        <p:grpSp>
          <p:nvGrpSpPr>
            <p:cNvPr id="372" name=""/>
            <p:cNvGrpSpPr/>
            <p:nvPr/>
          </p:nvGrpSpPr>
          <p:grpSpPr>
            <a:xfrm>
              <a:off x="29520" y="836640"/>
              <a:ext cx="3260880" cy="1513800"/>
              <a:chOff x="29520" y="836640"/>
              <a:chExt cx="3260880" cy="1513800"/>
            </a:xfrm>
          </p:grpSpPr>
          <p:sp>
            <p:nvSpPr>
              <p:cNvPr id="373" name=""/>
              <p:cNvSpPr txBox="1"/>
              <p:nvPr/>
            </p:nvSpPr>
            <p:spPr>
              <a:xfrm>
                <a:off x="495360" y="836640"/>
                <a:ext cx="233028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ffffff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политический</a:t>
                </a:r>
                <a:endPara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520" y="1433520"/>
                <a:ext cx="326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Представляют государство,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обязаны защищать прав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и свобод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 flipH="1">
              <a:off x="2914560" y="1125360"/>
              <a:ext cx="1152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50920" y="2565360"/>
            <a:ext cx="8713800" cy="965160"/>
            <a:chOff x="250920" y="2565360"/>
            <a:chExt cx="8713800" cy="965160"/>
          </a:xfrm>
        </p:grpSpPr>
        <p:sp>
          <p:nvSpPr>
            <p:cNvPr id="377" name=""/>
            <p:cNvSpPr/>
            <p:nvPr/>
          </p:nvSpPr>
          <p:spPr>
            <a:xfrm>
              <a:off x="250920" y="2565360"/>
              <a:ext cx="8713800" cy="504720"/>
            </a:xfrm>
            <a:prstGeom prst="downArrowCallout">
              <a:avLst>
                <a:gd name="adj1" fmla="val -34295"/>
                <a:gd name="adj2" fmla="val 66820"/>
                <a:gd name="adj3" fmla="val 31759"/>
                <a:gd name="adj4" fmla="val 46542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506520" y="2997360"/>
              <a:ext cx="81691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Возрастает роль личности сотрудника ОВД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-117720" y="3476520"/>
            <a:ext cx="94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Tahoma"/>
              </a:rPr>
              <a:t>Факторы влияющие на формирование личности  сотруд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-93600" y="4062240"/>
            <a:ext cx="9397800" cy="2533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1.Отбор при приеме на работу,расстановка обучение кадров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2.Экономические стимулы(заработная плата,льготы,техническое обес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3.Состояние правового регулирования ОВ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4.Уровень профессиональной культуры ОВД в целом и соответствующ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рга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5.Оптимальность организации и и функционирования ОВ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6.Организация внешних свя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1.Соотношение законности и правопоряд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2.Принципы и требования зако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3.Роль законности и правопорядка в жизни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4.Укрепление законности и правопоряд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5.Роль правоохранительных органов в укреплении законности и правопоряд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Соотношение законности и правопорядк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5280" y="1108080"/>
            <a:ext cx="258120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законность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12720" y="836640"/>
            <a:ext cx="56458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Принцип, метод и режим строгого, неукло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соблюдения, исполнения норм права все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Tahoma"/>
              </a:rPr>
              <a:t>участниками общественных отнош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5280" y="2284560"/>
            <a:ext cx="8406000" cy="642600"/>
            <a:chOff x="395280" y="2284560"/>
            <a:chExt cx="8406000" cy="642600"/>
          </a:xfrm>
        </p:grpSpPr>
        <p:sp>
          <p:nvSpPr>
            <p:cNvPr id="162" name=""/>
            <p:cNvSpPr txBox="1"/>
            <p:nvPr/>
          </p:nvSpPr>
          <p:spPr>
            <a:xfrm>
              <a:off x="395280" y="2419200"/>
              <a:ext cx="258120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равопорядок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71840" y="2284560"/>
              <a:ext cx="5329440" cy="64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Состояние упорядоченности общественны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0033"/>
                  </a:solidFill>
                  <a:latin typeface="Tahoma"/>
                </a:rPr>
                <a:t>отношений, основанное на законност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4920" y="2627280"/>
            <a:ext cx="9248760" cy="1734120"/>
            <a:chOff x="34920" y="2627280"/>
            <a:chExt cx="9248760" cy="1734120"/>
          </a:xfrm>
        </p:grpSpPr>
        <p:sp>
          <p:nvSpPr>
            <p:cNvPr id="165" name=""/>
            <p:cNvSpPr/>
            <p:nvPr/>
          </p:nvSpPr>
          <p:spPr>
            <a:xfrm>
              <a:off x="250920" y="2987640"/>
              <a:ext cx="90327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ahoma"/>
                </a:rPr>
                <a:t>Конечный результат реализации законности!!!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ahoma"/>
                </a:rPr>
                <a:t>Цель правового регулирования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20" y="2627280"/>
              <a:ext cx="289080" cy="100800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76400 h 1008000"/>
                <a:gd name="textAreaBottom" fmla="*/ 730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79280" y="4219560"/>
            <a:ext cx="8964720" cy="504720"/>
          </a:xfrm>
          <a:prstGeom prst="downArrowCallout">
            <a:avLst>
              <a:gd name="adj1" fmla="val -37192"/>
              <a:gd name="adj2" fmla="val 56492"/>
              <a:gd name="adj3" fmla="val 34278"/>
              <a:gd name="adj4" fmla="val 44023"/>
            </a:avLst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00" y="4836960"/>
            <a:ext cx="903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правопорядок обеспечивается совершенствованием правового регу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рования и обеспечения законнос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укрепление законности закономерно и неизбежно приводит к укреп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нию правопоряд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содержание правопорядка зависит от содержания зако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Соотношение законности и правопорядк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9280" y="907920"/>
            <a:ext cx="31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законность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авопорядок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04800" y="907920"/>
            <a:ext cx="444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висят от политиче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ж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050920" y="1628640"/>
            <a:ext cx="4972320" cy="824040"/>
            <a:chOff x="2050920" y="1628640"/>
            <a:chExt cx="4972320" cy="824040"/>
          </a:xfrm>
        </p:grpSpPr>
        <p:sp>
          <p:nvSpPr>
            <p:cNvPr id="173" name=""/>
            <p:cNvSpPr txBox="1"/>
            <p:nvPr/>
          </p:nvSpPr>
          <p:spPr>
            <a:xfrm>
              <a:off x="2050920" y="2060640"/>
              <a:ext cx="497232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latin typeface="Impact"/>
                </a:rPr>
                <a:t>содержание зависит от сторон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19640" y="1628640"/>
              <a:ext cx="108108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-197640" y="2543040"/>
            <a:ext cx="942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едметной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о что должно соответствовать правовым требованиям(дея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ьность лю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бъектной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остав субъектов на которых распространяется действ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овых нор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рмативной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руг правовых предписаний обязательных для испол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5280" y="4508640"/>
            <a:ext cx="825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оотношение законодательства и законности?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2480" y="5013360"/>
            <a:ext cx="6191280" cy="882000"/>
            <a:chOff x="222480" y="5013360"/>
            <a:chExt cx="6191280" cy="882000"/>
          </a:xfrm>
        </p:grpSpPr>
        <p:sp>
          <p:nvSpPr>
            <p:cNvPr id="178" name=""/>
            <p:cNvSpPr/>
            <p:nvPr/>
          </p:nvSpPr>
          <p:spPr>
            <a:xfrm>
              <a:off x="222480" y="5435640"/>
              <a:ext cx="619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пределяет содержание законности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340000" y="5013360"/>
              <a:ext cx="2160720" cy="574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900000" y="6093000"/>
            <a:ext cx="7421400" cy="533160"/>
            <a:chOff x="900000" y="6093000"/>
            <a:chExt cx="7421400" cy="533160"/>
          </a:xfrm>
        </p:grpSpPr>
        <p:sp>
          <p:nvSpPr>
            <p:cNvPr id="181" name=""/>
            <p:cNvSpPr txBox="1"/>
            <p:nvPr/>
          </p:nvSpPr>
          <p:spPr>
            <a:xfrm>
              <a:off x="900000" y="6093000"/>
              <a:ext cx="8287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НО!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68920" y="6154560"/>
              <a:ext cx="6252480" cy="368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Нормы права не элемент, а предпосылка законности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Принципы и требования зако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9160" y="981000"/>
            <a:ext cx="8848440" cy="922320"/>
            <a:chOff x="119160" y="981000"/>
            <a:chExt cx="8848440" cy="922320"/>
          </a:xfrm>
        </p:grpSpPr>
        <p:sp>
          <p:nvSpPr>
            <p:cNvPr id="185" name=""/>
            <p:cNvSpPr txBox="1"/>
            <p:nvPr/>
          </p:nvSpPr>
          <p:spPr>
            <a:xfrm>
              <a:off x="119160" y="981000"/>
              <a:ext cx="2076480" cy="92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ринципы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законност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40160" y="981000"/>
              <a:ext cx="642744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ahoma"/>
                </a:rPr>
                <a:t>Это основные идеи, начала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ahoma"/>
                </a:rPr>
                <a:t>выражающие содержание закон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8680" y="2165400"/>
            <a:ext cx="8906040" cy="1191240"/>
            <a:chOff x="58680" y="2165400"/>
            <a:chExt cx="8906040" cy="1191240"/>
          </a:xfrm>
        </p:grpSpPr>
        <p:sp>
          <p:nvSpPr>
            <p:cNvPr id="188" name=""/>
            <p:cNvSpPr txBox="1"/>
            <p:nvPr/>
          </p:nvSpPr>
          <p:spPr>
            <a:xfrm>
              <a:off x="58680" y="2335320"/>
              <a:ext cx="2136960" cy="92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требовани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законност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73280" y="2165400"/>
              <a:ext cx="639144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ahoma"/>
                </a:rPr>
                <a:t>Сформированные в общем виде пра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ahoma"/>
                </a:rPr>
                <a:t>вовые предписания, соблюд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ahoma"/>
                </a:rPr>
                <a:t>которых делает явление законны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3676680" y="3576600"/>
            <a:ext cx="2190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принципы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055960" y="4005360"/>
            <a:ext cx="523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1.верховенство закона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8240" y="4516560"/>
            <a:ext cx="85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енство закона,подчиненность закону всех нормативных актов, ак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ализации права и всех иных объек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011320" y="5372280"/>
            <a:ext cx="523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2.единство законности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560" y="5883120"/>
            <a:ext cx="84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диная направленность правотворчества и правореализации в террит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альном и субъектном пл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Принципы и требования законно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63640" y="765000"/>
            <a:ext cx="575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3.целесообразность законности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7840" y="1276200"/>
            <a:ext cx="83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обходимость выбора строго в рамках закона наиболее оптима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ов правотворческои и правореализующе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допустимость противопоставления целесообразности и зако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011320" y="2276640"/>
            <a:ext cx="523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4.реальность законности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9000" y="2787480"/>
            <a:ext cx="89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ижение фактического исполнения правовых предписаний во всех вид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ятельности, неотвратимость ответственности за любое их наруш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8280" y="3400560"/>
            <a:ext cx="8926920" cy="1102680"/>
            <a:chOff x="98280" y="3400560"/>
            <a:chExt cx="8926920" cy="1102680"/>
          </a:xfrm>
        </p:grpSpPr>
        <p:sp>
          <p:nvSpPr>
            <p:cNvPr id="201" name=""/>
            <p:cNvSpPr txBox="1"/>
            <p:nvPr/>
          </p:nvSpPr>
          <p:spPr>
            <a:xfrm>
              <a:off x="581040" y="3400560"/>
              <a:ext cx="79819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cc00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"/>
                </a:rPr>
                <a:t>отличие требований от принципов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8280" y="3860640"/>
              <a:ext cx="89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-Связаны с отдельными видами деятельности отдельных субъектов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-Каждый из принципов может быть развернуты совокупность ее требован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 txBox="1"/>
          <p:nvPr/>
        </p:nvSpPr>
        <p:spPr>
          <a:xfrm>
            <a:off x="396720" y="5157720"/>
            <a:ext cx="25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верховенство 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закона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62360" y="4508640"/>
            <a:ext cx="626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-Все законы должны соответствовать Конститу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и вышестоящим зако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-Подзаконные акты должны соответствовать зако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-Акты правоприменения должны соответствовать з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конам и основанным на них подзаконным акт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-Акты индивидуального поведения должны соответс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твовать законам и соответственно подзаконным ак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Tahoma"/>
              </a:rPr>
              <a:t>там, актам правопри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Роль законности и правопорядка в жизни обществ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093080" y="1557360"/>
            <a:ext cx="1694160" cy="3168000"/>
            <a:chOff x="7093080" y="1557360"/>
            <a:chExt cx="1694160" cy="3168000"/>
          </a:xfrm>
        </p:grpSpPr>
        <p:grpSp>
          <p:nvGrpSpPr>
            <p:cNvPr id="207" name=""/>
            <p:cNvGrpSpPr/>
            <p:nvPr/>
          </p:nvGrpSpPr>
          <p:grpSpPr>
            <a:xfrm>
              <a:off x="7486200" y="2712960"/>
              <a:ext cx="1301040" cy="2012400"/>
              <a:chOff x="7486200" y="2712960"/>
              <a:chExt cx="1301040" cy="2012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24720" y="2712960"/>
                <a:ext cx="1224000" cy="105084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7486200" y="3808440"/>
                <a:ext cx="1301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Издает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правовы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норм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093080" y="1557360"/>
              <a:ext cx="358560" cy="1366920"/>
            </a:xfrm>
            <a:custGeom>
              <a:avLst/>
              <a:gdLst>
                <a:gd name="textAreaLeft" fmla="*/ 47880 w 358560"/>
                <a:gd name="textAreaRight" fmla="*/ 310680 w 358560"/>
                <a:gd name="textAreaTop" fmla="*/ 239040 h 1366920"/>
                <a:gd name="textAreaBottom" fmla="*/ 9910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cc00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790160" y="2708280"/>
            <a:ext cx="2589840" cy="1666440"/>
            <a:chOff x="4790160" y="2708280"/>
            <a:chExt cx="2589840" cy="1666440"/>
          </a:xfrm>
        </p:grpSpPr>
        <p:grpSp>
          <p:nvGrpSpPr>
            <p:cNvPr id="212" name=""/>
            <p:cNvGrpSpPr/>
            <p:nvPr/>
          </p:nvGrpSpPr>
          <p:grpSpPr>
            <a:xfrm>
              <a:off x="4790160" y="2708280"/>
              <a:ext cx="2117880" cy="1666440"/>
              <a:chOff x="4790160" y="2708280"/>
              <a:chExt cx="2117880" cy="16664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16240" y="2708280"/>
                <a:ext cx="1663920" cy="105408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4790160" y="3732120"/>
                <a:ext cx="2117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Обеспечивает и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выполнени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H="1">
              <a:off x="6732360" y="3213000"/>
              <a:ext cx="647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018960" y="1413000"/>
            <a:ext cx="4721760" cy="3164760"/>
            <a:chOff x="3018960" y="1413000"/>
            <a:chExt cx="4721760" cy="3164760"/>
          </a:xfrm>
        </p:grpSpPr>
        <p:sp>
          <p:nvSpPr>
            <p:cNvPr id="217" name=""/>
            <p:cNvSpPr/>
            <p:nvPr/>
          </p:nvSpPr>
          <p:spPr>
            <a:xfrm>
              <a:off x="3018960" y="3660840"/>
              <a:ext cx="205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Регулируе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все сфе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жизни общест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348000" y="1413000"/>
              <a:ext cx="4392720" cy="2311200"/>
              <a:chOff x="3348000" y="1413000"/>
              <a:chExt cx="4392720" cy="2311200"/>
            </a:xfrm>
          </p:grpSpPr>
          <p:pic>
            <p:nvPicPr>
              <p:cNvPr id="2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48000" y="2708280"/>
                <a:ext cx="1368720" cy="101592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20" name=""/>
              <p:cNvSpPr/>
              <p:nvPr/>
            </p:nvSpPr>
            <p:spPr>
              <a:xfrm flipH="1">
                <a:off x="4788000" y="1413000"/>
                <a:ext cx="2952720" cy="1224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684360" y="765000"/>
            <a:ext cx="8172720" cy="1953720"/>
            <a:chOff x="684360" y="765000"/>
            <a:chExt cx="8172720" cy="1953720"/>
          </a:xfrm>
        </p:grpSpPr>
        <p:grpSp>
          <p:nvGrpSpPr>
            <p:cNvPr id="222" name=""/>
            <p:cNvGrpSpPr/>
            <p:nvPr/>
          </p:nvGrpSpPr>
          <p:grpSpPr>
            <a:xfrm>
              <a:off x="3731040" y="765000"/>
              <a:ext cx="2201400" cy="1953720"/>
              <a:chOff x="3731040" y="765000"/>
              <a:chExt cx="2201400" cy="1953720"/>
            </a:xfrm>
          </p:grpSpPr>
          <p:pic>
            <p:nvPicPr>
              <p:cNvPr id="22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44680" y="765000"/>
                <a:ext cx="1371240" cy="13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3731040" y="2076120"/>
                <a:ext cx="2201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Роль законности,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правопорядк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333560" y="1017720"/>
              <a:ext cx="1523520" cy="1448640"/>
              <a:chOff x="7333560" y="1017720"/>
              <a:chExt cx="1523520" cy="1448640"/>
            </a:xfrm>
          </p:grpSpPr>
          <p:pic>
            <p:nvPicPr>
              <p:cNvPr id="2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556400" y="1017720"/>
                <a:ext cx="1079640" cy="79488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7333560" y="1823760"/>
                <a:ext cx="152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Интерес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государств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84360" y="981000"/>
              <a:ext cx="1484280" cy="1522080"/>
              <a:chOff x="684360" y="981000"/>
              <a:chExt cx="1484280" cy="1522080"/>
            </a:xfrm>
          </p:grpSpPr>
          <p:pic>
            <p:nvPicPr>
              <p:cNvPr id="22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360" y="981000"/>
                <a:ext cx="1484280" cy="85104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30" name=""/>
              <p:cNvSpPr/>
              <p:nvPr/>
            </p:nvSpPr>
            <p:spPr>
              <a:xfrm>
                <a:off x="778320" y="1860480"/>
                <a:ext cx="1297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Интерес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личност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651640" y="1413000"/>
              <a:ext cx="1728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266920" y="1413000"/>
              <a:ext cx="1728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-142200" y="1484280"/>
            <a:ext cx="7666920" cy="3093480"/>
            <a:chOff x="-142200" y="1484280"/>
            <a:chExt cx="7666920" cy="3093480"/>
          </a:xfrm>
        </p:grpSpPr>
        <p:grpSp>
          <p:nvGrpSpPr>
            <p:cNvPr id="234" name=""/>
            <p:cNvGrpSpPr/>
            <p:nvPr/>
          </p:nvGrpSpPr>
          <p:grpSpPr>
            <a:xfrm>
              <a:off x="-142200" y="2706840"/>
              <a:ext cx="3632760" cy="1870920"/>
              <a:chOff x="-142200" y="2706840"/>
              <a:chExt cx="3632760" cy="1870920"/>
            </a:xfrm>
          </p:grpSpPr>
          <p:pic>
            <p:nvPicPr>
              <p:cNvPr id="2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096920" y="2706840"/>
                <a:ext cx="1152720" cy="93816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-142200" y="3660840"/>
                <a:ext cx="3632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Государственное руководство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реализуется через правово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регулировани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flipH="1">
              <a:off x="2340000" y="1484280"/>
              <a:ext cx="5184720" cy="115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4920" y="1916280"/>
            <a:ext cx="2371680" cy="4466520"/>
            <a:chOff x="34920" y="1916280"/>
            <a:chExt cx="2371680" cy="4466520"/>
          </a:xfrm>
        </p:grpSpPr>
        <p:grpSp>
          <p:nvGrpSpPr>
            <p:cNvPr id="239" name=""/>
            <p:cNvGrpSpPr/>
            <p:nvPr/>
          </p:nvGrpSpPr>
          <p:grpSpPr>
            <a:xfrm>
              <a:off x="250920" y="4803840"/>
              <a:ext cx="2155680" cy="1578960"/>
              <a:chOff x="250920" y="4803840"/>
              <a:chExt cx="2155680" cy="1578960"/>
            </a:xfrm>
          </p:grpSpPr>
          <p:pic>
            <p:nvPicPr>
              <p:cNvPr id="2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49520" y="4803840"/>
                <a:ext cx="1150920" cy="904680"/>
              </a:xfrm>
              <a:prstGeom prst="rect">
                <a:avLst/>
              </a:prstGeom>
              <a:ln w="57240">
                <a:solidFill>
                  <a:srgbClr val="ffffff"/>
                </a:solidFill>
                <a:miter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50920" y="5740200"/>
                <a:ext cx="2155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Средство защит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прав и свобод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4920" y="1916280"/>
              <a:ext cx="431640" cy="4103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718200 h 4103640"/>
                <a:gd name="textAreaBottom" fmla="*/ 297540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cc0000"/>
                </a:gs>
                <a:gs pos="100000">
                  <a:srgbClr val="ff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050920" y="4795920"/>
            <a:ext cx="3058200" cy="1724760"/>
            <a:chOff x="2050920" y="4795920"/>
            <a:chExt cx="3058200" cy="1724760"/>
          </a:xfrm>
        </p:grpSpPr>
        <p:grpSp>
          <p:nvGrpSpPr>
            <p:cNvPr id="244" name=""/>
            <p:cNvGrpSpPr/>
            <p:nvPr/>
          </p:nvGrpSpPr>
          <p:grpSpPr>
            <a:xfrm>
              <a:off x="2066400" y="4795920"/>
              <a:ext cx="3042720" cy="1724760"/>
              <a:chOff x="2066400" y="4795920"/>
              <a:chExt cx="3042720" cy="1724760"/>
            </a:xfrm>
          </p:grpSpPr>
          <p:pic>
            <p:nvPicPr>
              <p:cNvPr id="24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375000" y="4795920"/>
                <a:ext cx="425160" cy="865080"/>
              </a:xfrm>
              <a:prstGeom prst="rect">
                <a:avLst/>
              </a:prstGeom>
              <a:ln w="38160">
                <a:solidFill>
                  <a:srgbClr val="ffffff"/>
                </a:solidFill>
                <a:miter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2066400" y="5603760"/>
                <a:ext cx="3042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Состояние правопорядк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определяет меру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прав и свобод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 flipH="1">
              <a:off x="2050920" y="5373720"/>
              <a:ext cx="1152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932360" y="4653000"/>
            <a:ext cx="4449960" cy="2016000"/>
            <a:chOff x="4932360" y="4653000"/>
            <a:chExt cx="4449960" cy="2016000"/>
          </a:xfrm>
        </p:grpSpPr>
        <p:sp>
          <p:nvSpPr>
            <p:cNvPr id="249" name=""/>
            <p:cNvSpPr/>
            <p:nvPr/>
          </p:nvSpPr>
          <p:spPr>
            <a:xfrm>
              <a:off x="4932360" y="4653000"/>
              <a:ext cx="358920" cy="2016000"/>
            </a:xfrm>
            <a:prstGeom prst="rightArrowCallout">
              <a:avLst>
                <a:gd name="adj1" fmla="val 41558"/>
                <a:gd name="adj2" fmla="val 55284"/>
                <a:gd name="adj3" fmla="val 34514"/>
                <a:gd name="adj4" fmla="val 42037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5867280" y="4726080"/>
              <a:ext cx="25923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5000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latin typeface="Arial"/>
                </a:rPr>
                <a:t>законность и 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5000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latin typeface="Arial"/>
                </a:rPr>
                <a:t>правопорядок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60880" y="5316480"/>
              <a:ext cx="432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Основа порядка в обществ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Необходимое условие демократ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Часть общечеловеческих ценност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Часть правовой культу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3.Роль законности и правопорядка в жизни обществ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836640"/>
            <a:ext cx="8799480" cy="50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направления развития законности и правопорядка в РФ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24000" y="1413000"/>
            <a:ext cx="8497800" cy="1436040"/>
            <a:chOff x="324000" y="1413000"/>
            <a:chExt cx="8497800" cy="1436040"/>
          </a:xfrm>
        </p:grpSpPr>
        <p:sp>
          <p:nvSpPr>
            <p:cNvPr id="255" name=""/>
            <p:cNvSpPr txBox="1"/>
            <p:nvPr/>
          </p:nvSpPr>
          <p:spPr>
            <a:xfrm>
              <a:off x="324000" y="1413000"/>
              <a:ext cx="8497800" cy="48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1.Расширение предметной стороны законност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1040" y="1932120"/>
              <a:ext cx="7803720" cy="916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В сферу законности попадут те объекты, которые рассматривал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как не правовые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Разрешено все то, что не запрещено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2200" y="3365640"/>
            <a:ext cx="8497800" cy="1140840"/>
            <a:chOff x="322200" y="3365640"/>
            <a:chExt cx="8497800" cy="1140840"/>
          </a:xfrm>
        </p:grpSpPr>
        <p:sp>
          <p:nvSpPr>
            <p:cNvPr id="258" name=""/>
            <p:cNvSpPr txBox="1"/>
            <p:nvPr/>
          </p:nvSpPr>
          <p:spPr>
            <a:xfrm>
              <a:off x="322200" y="3365640"/>
              <a:ext cx="8497800" cy="48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2.Изменение субъектной стороны законност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3160" y="3863880"/>
              <a:ext cx="8437680" cy="642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Все субъекты правоотношений реально станут носителями обязанност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строго соблюдать нормы законност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8360" y="5013360"/>
            <a:ext cx="8672400" cy="1493280"/>
            <a:chOff x="288360" y="5013360"/>
            <a:chExt cx="8672400" cy="1493280"/>
          </a:xfrm>
        </p:grpSpPr>
        <p:sp>
          <p:nvSpPr>
            <p:cNvPr id="261" name=""/>
            <p:cNvSpPr txBox="1"/>
            <p:nvPr/>
          </p:nvSpPr>
          <p:spPr>
            <a:xfrm>
              <a:off x="374760" y="5013360"/>
              <a:ext cx="8497800" cy="48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3.Совершенствование нормативной стороны законности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8360" y="5589720"/>
              <a:ext cx="8672400" cy="916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Содержание законодательства будет соответствовать прогрессу обществ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Демократизация нормотворчества, участие в этом процессе населения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Изменение структуры законодательства (основа-закон прямого действия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560" y="61920"/>
            <a:ext cx="910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4.Укрепление законности и правопоряд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11280" y="692280"/>
            <a:ext cx="2663640" cy="1671480"/>
            <a:chOff x="611280" y="692280"/>
            <a:chExt cx="2663640" cy="1671480"/>
          </a:xfrm>
        </p:grpSpPr>
        <p:sp>
          <p:nvSpPr>
            <p:cNvPr id="265" name=""/>
            <p:cNvSpPr txBox="1"/>
            <p:nvPr/>
          </p:nvSpPr>
          <p:spPr>
            <a:xfrm>
              <a:off x="611280" y="1644480"/>
              <a:ext cx="266364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еспеченность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законности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1"/>
            <a:stretch/>
          </p:blipFill>
          <p:spPr>
            <a:xfrm>
              <a:off x="1619280" y="692280"/>
              <a:ext cx="628560" cy="95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"/>
          <p:cNvGrpSpPr/>
          <p:nvPr/>
        </p:nvGrpSpPr>
        <p:grpSpPr>
          <a:xfrm>
            <a:off x="3346200" y="907920"/>
            <a:ext cx="5185080" cy="1231920"/>
            <a:chOff x="3346200" y="907920"/>
            <a:chExt cx="5185080" cy="1231920"/>
          </a:xfrm>
        </p:grpSpPr>
        <p:sp>
          <p:nvSpPr>
            <p:cNvPr id="268" name=""/>
            <p:cNvSpPr txBox="1"/>
            <p:nvPr/>
          </p:nvSpPr>
          <p:spPr>
            <a:xfrm>
              <a:off x="5075280" y="907920"/>
              <a:ext cx="3456000" cy="123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езультат </a:t>
              </a:r>
              <a:endPara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оздействия</a:t>
              </a:r>
              <a:endPara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арантий</a:t>
              </a:r>
              <a:endParaRPr b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345840" y="1343160"/>
              <a:ext cx="1584360" cy="360360"/>
            </a:xfrm>
            <a:custGeom>
              <a:avLst/>
              <a:gdLst>
                <a:gd name="textAreaLeft" fmla="*/ 246960 w 1584360"/>
                <a:gd name="textAreaRight" fmla="*/ 1386000 w 158436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-112320" y="2563920"/>
            <a:ext cx="2021760" cy="1298520"/>
            <a:chOff x="-112320" y="2563920"/>
            <a:chExt cx="2021760" cy="1298520"/>
          </a:xfrm>
        </p:grpSpPr>
        <p:sp>
          <p:nvSpPr>
            <p:cNvPr id="271" name=""/>
            <p:cNvSpPr/>
            <p:nvPr/>
          </p:nvSpPr>
          <p:spPr>
            <a:xfrm>
              <a:off x="-112320" y="3494160"/>
              <a:ext cx="20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Экономическ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358560" y="2563920"/>
              <a:ext cx="1079280" cy="99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1775880" y="2714760"/>
            <a:ext cx="1855440" cy="1147680"/>
            <a:chOff x="1775880" y="2714760"/>
            <a:chExt cx="1855440" cy="114768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2213280" y="2714760"/>
              <a:ext cx="981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75880" y="3494160"/>
              <a:ext cx="18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Политическ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496680" y="2616120"/>
            <a:ext cx="2049120" cy="1246320"/>
            <a:chOff x="3496680" y="2616120"/>
            <a:chExt cx="2049120" cy="1246320"/>
          </a:xfrm>
        </p:grpSpPr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4068720" y="2616120"/>
              <a:ext cx="904680" cy="9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496680" y="3494160"/>
              <a:ext cx="204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Идеологическ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396760" y="2611440"/>
            <a:ext cx="1767240" cy="1251000"/>
            <a:chOff x="5396760" y="2611440"/>
            <a:chExt cx="1767240" cy="1251000"/>
          </a:xfrm>
        </p:grpSpPr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5850000" y="2611440"/>
              <a:ext cx="8888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396760" y="3494160"/>
              <a:ext cx="17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Нормативн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7003440" y="2637000"/>
            <a:ext cx="2193840" cy="1377360"/>
            <a:chOff x="7003440" y="2637000"/>
            <a:chExt cx="2193840" cy="1377360"/>
          </a:xfrm>
        </p:grpSpPr>
        <p:pic>
          <p:nvPicPr>
            <p:cNvPr id="283" name="" descr=""/>
            <p:cNvPicPr/>
            <p:nvPr/>
          </p:nvPicPr>
          <p:blipFill>
            <a:blip r:embed="rId6"/>
            <a:stretch/>
          </p:blipFill>
          <p:spPr>
            <a:xfrm>
              <a:off x="7735680" y="2637000"/>
              <a:ext cx="72720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003440" y="3371760"/>
              <a:ext cx="21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Организационно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правов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8000" y="4005360"/>
            <a:ext cx="8964720" cy="1152360"/>
            <a:chOff x="108000" y="4005360"/>
            <a:chExt cx="8964720" cy="1152360"/>
          </a:xfrm>
        </p:grpSpPr>
        <p:sp>
          <p:nvSpPr>
            <p:cNvPr id="286" name=""/>
            <p:cNvSpPr/>
            <p:nvPr/>
          </p:nvSpPr>
          <p:spPr>
            <a:xfrm>
              <a:off x="108000" y="4005360"/>
              <a:ext cx="8964720" cy="647640"/>
            </a:xfrm>
            <a:prstGeom prst="downArrowCallout">
              <a:avLst>
                <a:gd name="adj1" fmla="val -37531"/>
                <a:gd name="adj2" fmla="val 75363"/>
                <a:gd name="adj3" fmla="val 38236"/>
                <a:gd name="adj4" fmla="val 43139"/>
              </a:avLst>
            </a:pr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887400" y="4648320"/>
              <a:ext cx="7429680" cy="50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озможны негативные воздействия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4920" y="1413000"/>
            <a:ext cx="8929800" cy="5184720"/>
            <a:chOff x="34920" y="1413000"/>
            <a:chExt cx="8929800" cy="5184720"/>
          </a:xfrm>
        </p:grpSpPr>
        <p:sp>
          <p:nvSpPr>
            <p:cNvPr id="289" name=""/>
            <p:cNvSpPr/>
            <p:nvPr/>
          </p:nvSpPr>
          <p:spPr>
            <a:xfrm>
              <a:off x="34920" y="1413000"/>
              <a:ext cx="504720" cy="518472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1024920 h 5184720"/>
                <a:gd name="textAreaBottom" fmla="*/ 3641400 h 518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0" stAng="-5400000" swAng="-5400000"/>
                  <a:lnTo>
                    <a:pt x="0" y="10900"/>
                  </a:lnTo>
                  <a:arcTo wR="21600" hR="8540" stAng="10800000" swAng="-2891751"/>
                  <a:lnTo>
                    <a:pt x="14400" y="21112"/>
                  </a:lnTo>
                  <a:lnTo>
                    <a:pt x="21600" y="18260"/>
                  </a:lnTo>
                  <a:lnTo>
                    <a:pt x="14400" y="14432"/>
                  </a:lnTo>
                  <a:lnTo>
                    <a:pt x="14400" y="16592"/>
                  </a:lnTo>
                  <a:arcTo wR="21600" hR="8540" stAng="7908249" swAng="2702322"/>
                  <a:lnTo>
                    <a:pt x="207" y="9720"/>
                  </a:lnTo>
                  <a:arcTo wR="21600" hR="8540" stAng="-10610570" swAng="5210570"/>
                  <a:close/>
                </a:path>
                <a:path fill="darkenLess" w="21600" h="21600">
                  <a:moveTo>
                    <a:pt x="21600" y="0"/>
                  </a:moveTo>
                  <a:arcTo wR="21600" hR="8540" stAng="-5400000" swAng="-5400000"/>
                  <a:lnTo>
                    <a:pt x="0" y="8540"/>
                  </a:lnTo>
                  <a:arcTo wR="21600" hR="8540" stAng="10800000" swAng="-189430"/>
                  <a:lnTo>
                    <a:pt x="207" y="9720"/>
                  </a:lnTo>
                  <a:arcTo wR="21600" hR="8540" stAng="-10610570" swAng="5210570"/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611280" y="5559480"/>
              <a:ext cx="8353440" cy="60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ffff"/>
                    </a:solidFill>
                    <a:miter/>
                  </a:ln>
                  <a:solidFill>
                    <a:srgbClr val="cc0000"/>
                  </a:solidFill>
                  <a:latin typeface="Arial"/>
                </a:rPr>
                <a:t>Зависит от комплекса факторов воздействующих на людей</a:t>
              </a:r>
              <a:endPara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Чернов Алексей</cp:lastModifiedBy>
  <dcterms:modified xsi:type="dcterms:W3CDTF">2002-05-06T17:03:38Z</dcterms:modified>
  <cp:revision>1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