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E27D-09A0-48C8-8FB4-E869FB6560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C07-3142-4EBF-AAAD-0F68482B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7B06-1CB7-4736-B412-6DF6A2C4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ECBD-7745-470F-8733-9AF182F0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634-5C63-4F68-8E88-87E1AA1F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3610-06DA-4049-8D4D-C816FD0B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BA14-B52A-4567-89CE-BD7112CD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B8B6-0770-4313-8982-47098183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B0EE-7805-488A-AFFB-01E07921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CD1D-A990-42A3-B016-833A444D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E95F-ADB2-4E98-93E7-66337D84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9EEB-3BD5-4074-A400-F7A3A563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EFD8-C604-4985-A219-24AA5FF4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E764-B323-4EB5-B6D1-7BDD6DE5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A4B5-6CC3-4C5A-8C83-278E487D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0767-CC1F-4200-9C93-B41D9A5E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83EF-356C-43D2-B4B3-902959F4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F89E-B11C-4F4F-ABD6-6E08F8C1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2627-85C6-463E-92E7-C883DE1F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A07F7-7ADD-40D0-9278-ED9F3E97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C47A3-C5B8-477A-910F-3F00B071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A157A-2D6E-4AAA-8D77-5557B435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8997F-19ED-4CF9-BE65-B4067D23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28F-14A7-4883-AE8D-FCB40D3C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88592-D1D2-4D22-B325-099893EB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CAD15-D676-4273-B7DF-40F7036B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8B082-7D61-4B1C-87AB-18BB2792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D8E1B-15DD-47CC-8217-D53AE42C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BE6C7-49F8-44C9-B1C9-D6946553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B8F12-3DE9-49C2-80BB-C05A1B1E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AB3F3-4619-4E23-8231-D1D3F617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4B0-49EE-427C-88BF-E22686BD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B30-FCC3-45FE-8867-1B712433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181-B4BF-4F1F-AB41-28DA9653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929-E149-4D62-825B-CFCC00BF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E7E6-4530-4C43-B2D1-131DFEB1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5154-455B-45D2-8F6D-1AAA18B5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E883-C69F-4ADF-BF66-5F6C38476B1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6A6A-7E7B-4B7F-A6C3-5C0BB3D5688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6436-7031-4A05-93D4-66599F52449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66579560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1816200" y="347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031840" y="333360"/>
            <a:ext cx="57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Математика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1 класс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826920" y="1916280"/>
            <a:ext cx="7480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Единицы измерения длины.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Сантиметр 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611280" y="5643720"/>
            <a:ext cx="47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одготовила: учитель начальных классов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Апухтина Ольга Анатольевн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20000"/>
                </a:solidFill>
                <a:latin typeface="Times New Roman"/>
              </a:rPr>
              <a:t>Устаревшие единицы измерени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локот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сажен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пяд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вершо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ладонь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яр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дюй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фут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539640" y="115920"/>
            <a:ext cx="7993080" cy="151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20000"/>
                </a:solidFill>
                <a:latin typeface="Times New Roman"/>
              </a:rPr>
              <a:t>Древние единицы измерения: 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rcRect l="68094" t="0" r="5598" b="48369"/>
          <a:stretch/>
        </p:blipFill>
        <p:spPr>
          <a:xfrm>
            <a:off x="1004760" y="1700280"/>
            <a:ext cx="3062520" cy="4753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rcRect l="24761" t="60215" r="44597" b="17276"/>
          <a:stretch/>
        </p:blipFill>
        <p:spPr>
          <a:xfrm>
            <a:off x="5219640" y="1757520"/>
            <a:ext cx="2737080" cy="203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rcRect l="54476" t="69101" r="24" b="2961"/>
          <a:stretch/>
        </p:blipFill>
        <p:spPr>
          <a:xfrm>
            <a:off x="5003640" y="4005360"/>
            <a:ext cx="3095640" cy="23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9" descr=""/>
          <p:cNvPicPr/>
          <p:nvPr/>
        </p:nvPicPr>
        <p:blipFill>
          <a:blip r:embed="rId1"/>
          <a:srcRect l="30333" t="19250" r="32215" b="45902"/>
          <a:stretch/>
        </p:blipFill>
        <p:spPr>
          <a:xfrm>
            <a:off x="900000" y="1916280"/>
            <a:ext cx="3494160" cy="4176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19" descr="Отсканировано 21"/>
          <p:cNvPicPr/>
          <p:nvPr/>
        </p:nvPicPr>
        <p:blipFill>
          <a:blip r:embed="rId2"/>
          <a:srcRect l="2476" t="81439" r="45213" b="0"/>
          <a:stretch/>
        </p:blipFill>
        <p:spPr>
          <a:xfrm>
            <a:off x="4788000" y="2637000"/>
            <a:ext cx="3671640" cy="29527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2"/>
          <p:cNvSpPr/>
          <p:nvPr/>
        </p:nvSpPr>
        <p:spPr>
          <a:xfrm>
            <a:off x="684360" y="404640"/>
            <a:ext cx="7704000" cy="1108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20000"/>
                </a:solidFill>
                <a:latin typeface="Times New Roman"/>
              </a:rPr>
              <a:t>Древние единицы измерения: 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«Да игрушечку-конь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Ростом толь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в три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вершка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На спине с двумя горб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Да с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аршинными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ушами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П.П.Ерш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«КОНЁК- ГОРБУНОК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2"/>
          <p:cNvSpPr/>
          <p:nvPr/>
        </p:nvSpPr>
        <p:spPr>
          <a:xfrm>
            <a:off x="755640" y="404640"/>
            <a:ext cx="7632720" cy="1108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20000"/>
                </a:solidFill>
                <a:latin typeface="Times New Roman"/>
              </a:rPr>
              <a:t>Древние единицы измерения: 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7" descr="ershov5_32.jpg"/>
          <p:cNvPicPr/>
          <p:nvPr/>
        </p:nvPicPr>
        <p:blipFill>
          <a:blip r:embed="rId1"/>
          <a:stretch/>
        </p:blipFill>
        <p:spPr>
          <a:xfrm>
            <a:off x="611280" y="2492280"/>
            <a:ext cx="310356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utoShape 2"/>
          <p:cNvSpPr/>
          <p:nvPr/>
        </p:nvSpPr>
        <p:spPr>
          <a:xfrm>
            <a:off x="395280" y="0"/>
            <a:ext cx="7993080" cy="151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20000"/>
                </a:solidFill>
                <a:latin typeface="Times New Roman"/>
              </a:rPr>
              <a:t>Древние единицы измерения: 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7" descr="Отсканировано 21"/>
          <p:cNvPicPr/>
          <p:nvPr/>
        </p:nvPicPr>
        <p:blipFill>
          <a:blip r:embed="rId1"/>
          <a:srcRect l="0" t="35537" r="71834" b="16781"/>
          <a:stretch/>
        </p:blipFill>
        <p:spPr>
          <a:xfrm>
            <a:off x="2771640" y="1628640"/>
            <a:ext cx="376092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AutoShape 2"/>
          <p:cNvSpPr/>
          <p:nvPr/>
        </p:nvSpPr>
        <p:spPr>
          <a:xfrm>
            <a:off x="395280" y="0"/>
            <a:ext cx="7993080" cy="151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20000"/>
                </a:solidFill>
                <a:latin typeface="Times New Roman"/>
              </a:rPr>
              <a:t>Древние единицы измерения: 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8" descr="Отсканировано 21"/>
          <p:cNvPicPr/>
          <p:nvPr/>
        </p:nvPicPr>
        <p:blipFill>
          <a:blip r:embed="rId1"/>
          <a:srcRect l="50760" t="52319" r="24" b="31095"/>
          <a:stretch/>
        </p:blipFill>
        <p:spPr>
          <a:xfrm>
            <a:off x="684360" y="2276640"/>
            <a:ext cx="7667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99"/>
                </a:solidFill>
                <a:latin typeface="Times New Roman"/>
              </a:rPr>
              <a:t>Сантиметр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979640" y="242100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9600" spc="-1" strike="noStrike">
                <a:solidFill>
                  <a:srgbClr val="ff3300"/>
                </a:solidFill>
                <a:latin typeface="Times New Roman"/>
              </a:rPr>
              <a:t>1 см</a:t>
            </a:r>
            <a:endParaRPr b="1" lang="en-US" sz="9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2411280" y="4219560"/>
            <a:ext cx="492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99"/>
                </a:solidFill>
                <a:latin typeface="Times New Roman"/>
              </a:rPr>
              <a:t>АК = 1 см</a:t>
            </a:r>
            <a:endParaRPr b="1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Отсканировано 27"/>
          <p:cNvPicPr/>
          <p:nvPr/>
        </p:nvPicPr>
        <p:blipFill>
          <a:blip r:embed="rId1"/>
          <a:stretch/>
        </p:blipFill>
        <p:spPr>
          <a:xfrm>
            <a:off x="1692360" y="1125360"/>
            <a:ext cx="51973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2286000" y="28335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Я узнал…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Мне было легко…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Мне было трудно…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Мне понравилось…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6" descr="C024"/>
          <p:cNvPicPr/>
          <p:nvPr/>
        </p:nvPicPr>
        <p:blipFill>
          <a:blip r:embed="rId1"/>
          <a:srcRect l="0" t="0" r="0" b="-1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1547640" y="1484280"/>
            <a:ext cx="5924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Я узнал…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- Мне было  легко…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- Мне было трудно…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- Мне понравилось…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2286000" y="28335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Я узнал…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Мне было легко…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Мне было трудно…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Мне понравилось…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6" descr="C024"/>
          <p:cNvPicPr/>
          <p:nvPr/>
        </p:nvPicPr>
        <p:blipFill>
          <a:blip r:embed="rId1"/>
          <a:srcRect l="0" t="0" r="0" b="-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1527120" y="1500120"/>
            <a:ext cx="59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187280" y="1268280"/>
            <a:ext cx="6731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ru-RU" sz="8000" spc="-1" strike="noStrike">
                <a:solidFill>
                  <a:srgbClr val="000099"/>
                </a:solidFill>
                <a:latin typeface="Times New Roman"/>
              </a:rPr>
              <a:t>Спасибо</a:t>
            </a:r>
            <a:endParaRPr b="1" lang="en-US" sz="8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8000" spc="-1" strike="noStrike">
                <a:solidFill>
                  <a:srgbClr val="000099"/>
                </a:solidFill>
                <a:latin typeface="Times New Roman"/>
              </a:rPr>
              <a:t>за  работу </a:t>
            </a:r>
            <a:endParaRPr b="1" lang="en-US" sz="8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imes New Roman"/>
              </a:rPr>
              <a:t>на уроке!</a:t>
            </a:r>
            <a:r>
              <a:rPr b="1" lang="ru-RU" sz="8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- Мы друг друга понимаем?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 - Хорошо всегда считаем?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 - А задачи мы решаем?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 - На уроке засыпаем?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Игры, шутки, всё для вас!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Пожелаем всем удачи – 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За работу, в добрый час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ahoma"/>
              </a:rPr>
              <a:t>Девиз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384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ы – умны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ы- дружны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ы- внимательны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ы – старательны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В первом классе учимся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Всё у нас получится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i?id=531831680-04-72&amp;n=21"/>
          <p:cNvPicPr/>
          <p:nvPr/>
        </p:nvPicPr>
        <p:blipFill>
          <a:blip r:embed="rId1"/>
          <a:stretch/>
        </p:blipFill>
        <p:spPr>
          <a:xfrm>
            <a:off x="4524480" y="1628640"/>
            <a:ext cx="3592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3333ff"/>
                </a:solidFill>
                <a:latin typeface="Tahoma"/>
              </a:rPr>
              <a:t>Найди лишнее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4+2         7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3+3         5+2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3333ff"/>
                </a:solidFill>
                <a:latin typeface="Tahoma"/>
              </a:rPr>
              <a:t>Найди лишнее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82296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2         7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&lt;6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+5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3333ff"/>
                </a:solidFill>
                <a:latin typeface="Tahoma"/>
              </a:rPr>
              <a:t>Найди лишнее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2646360"/>
            <a:ext cx="82296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15" descr="Безымянный"/>
          <p:cNvPicPr/>
          <p:nvPr/>
        </p:nvPicPr>
        <p:blipFill>
          <a:blip r:embed="rId1"/>
          <a:stretch/>
        </p:blipFill>
        <p:spPr>
          <a:xfrm>
            <a:off x="900000" y="1484280"/>
            <a:ext cx="734544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Times New Roman"/>
              </a:rPr>
              <a:t>Измерь длину отрезка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82296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0099"/>
                </a:solidFill>
                <a:latin typeface="Times New Roman"/>
              </a:rPr>
              <a:t>Чтобы измерить длину, надо выбрать мерку и узнать, сколько раз она содержится в измеряемой величине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1527120" y="5748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971640" y="5661000"/>
            <a:ext cx="719928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8 попугаев</a:t>
            </a:r>
            <a:endParaRPr b="1" lang="en-US" sz="7200" spc="1" strike="noStrike">
              <a:ln w="1908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5:38:02Z</dcterms:created>
  <dc:creator>Customer</dc:creator>
  <dc:description/>
  <dc:language>en-US</dc:language>
  <cp:lastModifiedBy>55</cp:lastModifiedBy>
  <dcterms:modified xsi:type="dcterms:W3CDTF">2020-11-15T17:08:28Z</dcterms:modified>
  <cp:revision>94</cp:revision>
  <dc:subject/>
  <dc:title>Сосна и Ель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110000000000010250600207b74006b004c800</vt:lpwstr>
  </property>
</Properties>
</file>