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042E-692B-40E6-8966-CD61AE5D35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83DC-B631-49CD-80CF-9365E738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0E6-C991-4709-8304-66FAAE83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5E0A-9D7B-4748-99B9-AE1D5CE8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3590-EA7C-4F48-979C-268C4F87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3AC5-5456-4E98-897F-AF08BE41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BE94-C30A-4DB3-ACA7-518F1C06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677C-49F4-4B34-8C0F-1490E80E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B387-1BBC-4B75-B944-91954F9C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FB00-9899-40D6-A748-39E1B4D9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C794-6B4B-41ED-B39F-4A96F455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B8DB-3F97-48A1-968C-FFDB29B6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59E-9681-47E5-9EDB-CFC6AD2F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AE9C-EA8A-4B55-9721-735079B0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58AF-87F9-4058-8985-AF8C3217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10C3-73F2-4AAB-B7E9-8B437D76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C455-24E0-4AA9-A27B-290DCC4E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AAB2-BD1A-4180-B8E2-A39B7FC0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A9FF3-E4E0-462D-88F1-F13B7DA9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D9D65-DC11-4B8A-9FAC-D3E7C8BE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44E0C-15EC-4C6F-8B6C-AA9E9102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53D29-324C-4547-A2FD-6449FC81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7D300-A928-4140-8979-4BEA20EC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EF7-7A19-4A15-A62B-D82FE2F7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C6BA8-B34D-4C2C-8B40-F5F219CE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8E4FB-A033-4A82-8751-DB3F2F91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89630-F744-434F-9288-92C4E056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A23FD-C3FC-42E1-990A-3DCA3A69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37860-4705-4185-A557-9311C558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CE83F-4696-4E07-8074-3350402C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2DB96-0C87-43E7-B98D-A8D305ED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B61-12BE-4A0A-93D4-EDB654DD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C9E-CC42-4FDB-B31A-52121828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B11-70AA-4884-8926-A783DD72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C83-D617-4432-81C8-957CDFA0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A93-E22D-4B74-A0D5-1251274F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3629-56EE-40BE-826F-E38F4547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29CA-C2B5-47ED-9E21-BE41DFEEBF3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3B4D-3E44-4EB5-B299-B14B63ACC7D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2672-B512-4A97-87DC-DDC8F36AF9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66579560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1816200" y="347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031840" y="333360"/>
            <a:ext cx="57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Математика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1 класс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826920" y="1916280"/>
            <a:ext cx="7480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Единицы измерения длины.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Сантиметр 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611280" y="5643720"/>
            <a:ext cx="47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одготовила: учитель начальных классов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Апухтина Ольга Анатольевна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20000"/>
                </a:solidFill>
                <a:latin typeface="Times New Roman"/>
              </a:rPr>
              <a:t>Устаревшие единицы измерени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локот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сажен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пяд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вершо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99"/>
                </a:solidFill>
                <a:latin typeface="Times New Roman"/>
              </a:rPr>
              <a:t>ладонь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яр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дюй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фут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539640" y="115920"/>
            <a:ext cx="7993080" cy="151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20000"/>
                </a:solidFill>
                <a:latin typeface="Times New Roman"/>
              </a:rPr>
              <a:t>Древние единицы измерения: 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rcRect l="68094" t="0" r="5598" b="48369"/>
          <a:stretch/>
        </p:blipFill>
        <p:spPr>
          <a:xfrm>
            <a:off x="1004760" y="1700280"/>
            <a:ext cx="3062520" cy="4753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rcRect l="24761" t="60215" r="44597" b="17276"/>
          <a:stretch/>
        </p:blipFill>
        <p:spPr>
          <a:xfrm>
            <a:off x="5219640" y="1757520"/>
            <a:ext cx="2737080" cy="203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rcRect l="54476" t="69101" r="24" b="2961"/>
          <a:stretch/>
        </p:blipFill>
        <p:spPr>
          <a:xfrm>
            <a:off x="5003640" y="4005360"/>
            <a:ext cx="3095640" cy="23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9" descr=""/>
          <p:cNvPicPr/>
          <p:nvPr/>
        </p:nvPicPr>
        <p:blipFill>
          <a:blip r:embed="rId1"/>
          <a:srcRect l="30333" t="19250" r="32215" b="45902"/>
          <a:stretch/>
        </p:blipFill>
        <p:spPr>
          <a:xfrm>
            <a:off x="900000" y="1916280"/>
            <a:ext cx="3494160" cy="4176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19" descr="Отсканировано 21"/>
          <p:cNvPicPr/>
          <p:nvPr/>
        </p:nvPicPr>
        <p:blipFill>
          <a:blip r:embed="rId2"/>
          <a:srcRect l="2476" t="81439" r="45213" b="0"/>
          <a:stretch/>
        </p:blipFill>
        <p:spPr>
          <a:xfrm>
            <a:off x="4788000" y="2637000"/>
            <a:ext cx="3671640" cy="295272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2"/>
          <p:cNvSpPr/>
          <p:nvPr/>
        </p:nvSpPr>
        <p:spPr>
          <a:xfrm>
            <a:off x="684360" y="404640"/>
            <a:ext cx="7704000" cy="1108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20000"/>
                </a:solidFill>
                <a:latin typeface="Times New Roman"/>
              </a:rPr>
              <a:t>Древние единицы измерения: 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«Да игрушечку-конь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Ростом толь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в три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вершка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На спине с двумя горб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Да с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аршинными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ушами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П.П.Ерш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«КОНЁК- ГОРБУНОК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2"/>
          <p:cNvSpPr/>
          <p:nvPr/>
        </p:nvSpPr>
        <p:spPr>
          <a:xfrm>
            <a:off x="755640" y="404640"/>
            <a:ext cx="7632720" cy="1108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20000"/>
                </a:solidFill>
                <a:latin typeface="Times New Roman"/>
              </a:rPr>
              <a:t>Древние единицы измерения: 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7" descr="ershov5_32.jpg"/>
          <p:cNvPicPr/>
          <p:nvPr/>
        </p:nvPicPr>
        <p:blipFill>
          <a:blip r:embed="rId1"/>
          <a:stretch/>
        </p:blipFill>
        <p:spPr>
          <a:xfrm>
            <a:off x="611280" y="2492280"/>
            <a:ext cx="310356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utoShape 2"/>
          <p:cNvSpPr/>
          <p:nvPr/>
        </p:nvSpPr>
        <p:spPr>
          <a:xfrm>
            <a:off x="395280" y="0"/>
            <a:ext cx="7993080" cy="151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20000"/>
                </a:solidFill>
                <a:latin typeface="Times New Roman"/>
              </a:rPr>
              <a:t>Древние единицы измерения: 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7" descr="Отсканировано 21"/>
          <p:cNvPicPr/>
          <p:nvPr/>
        </p:nvPicPr>
        <p:blipFill>
          <a:blip r:embed="rId1"/>
          <a:srcRect l="0" t="35537" r="71834" b="16781"/>
          <a:stretch/>
        </p:blipFill>
        <p:spPr>
          <a:xfrm>
            <a:off x="2771640" y="1628640"/>
            <a:ext cx="376092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AutoShape 2"/>
          <p:cNvSpPr/>
          <p:nvPr/>
        </p:nvSpPr>
        <p:spPr>
          <a:xfrm>
            <a:off x="395280" y="0"/>
            <a:ext cx="7993080" cy="151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666633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20000"/>
                </a:solidFill>
                <a:latin typeface="Times New Roman"/>
              </a:rPr>
              <a:t>Древние единицы измерения: 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8" descr="Отсканировано 21"/>
          <p:cNvPicPr/>
          <p:nvPr/>
        </p:nvPicPr>
        <p:blipFill>
          <a:blip r:embed="rId1"/>
          <a:srcRect l="50760" t="52319" r="24" b="31095"/>
          <a:stretch/>
        </p:blipFill>
        <p:spPr>
          <a:xfrm>
            <a:off x="684360" y="2276640"/>
            <a:ext cx="7667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99"/>
                </a:solidFill>
                <a:latin typeface="Times New Roman"/>
              </a:rPr>
              <a:t>Сантиметр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979640" y="242100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9600" spc="-1" strike="noStrike">
                <a:solidFill>
                  <a:srgbClr val="ff3300"/>
                </a:solidFill>
                <a:latin typeface="Times New Roman"/>
              </a:rPr>
              <a:t>1 см</a:t>
            </a:r>
            <a:endParaRPr b="1" lang="en-US" sz="9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2411280" y="4219560"/>
            <a:ext cx="492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99"/>
                </a:solidFill>
                <a:latin typeface="Times New Roman"/>
              </a:rPr>
              <a:t>АК = 1 см</a:t>
            </a:r>
            <a:endParaRPr b="1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Отсканировано 27"/>
          <p:cNvPicPr/>
          <p:nvPr/>
        </p:nvPicPr>
        <p:blipFill>
          <a:blip r:embed="rId1"/>
          <a:stretch/>
        </p:blipFill>
        <p:spPr>
          <a:xfrm>
            <a:off x="1692360" y="1125360"/>
            <a:ext cx="51973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2286000" y="28335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Я узнал…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Мне было легко…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Мне было трудно…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Мне понравилось…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6" descr="C024"/>
          <p:cNvPicPr/>
          <p:nvPr/>
        </p:nvPicPr>
        <p:blipFill>
          <a:blip r:embed="rId1"/>
          <a:srcRect l="0" t="0" r="0" b="-1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1547640" y="1484280"/>
            <a:ext cx="5924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Я узнал…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- Мне было  легко…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- Мне было трудно…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- Мне понравилось…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2286000" y="28335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Я узнал…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Мне было легко…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Мне было трудно…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Мне понравилось…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6" descr="C024"/>
          <p:cNvPicPr/>
          <p:nvPr/>
        </p:nvPicPr>
        <p:blipFill>
          <a:blip r:embed="rId1"/>
          <a:srcRect l="0" t="0" r="0" b="-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1527120" y="1500120"/>
            <a:ext cx="59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187280" y="1268280"/>
            <a:ext cx="6731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ru-RU" sz="8000" spc="-1" strike="noStrike">
                <a:solidFill>
                  <a:srgbClr val="000099"/>
                </a:solidFill>
                <a:latin typeface="Times New Roman"/>
              </a:rPr>
              <a:t>Спасибо</a:t>
            </a:r>
            <a:endParaRPr b="1" lang="en-US" sz="8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8000" spc="-1" strike="noStrike">
                <a:solidFill>
                  <a:srgbClr val="000099"/>
                </a:solidFill>
                <a:latin typeface="Times New Roman"/>
              </a:rPr>
              <a:t>за  работу </a:t>
            </a:r>
            <a:endParaRPr b="1" lang="en-US" sz="8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99"/>
                </a:solidFill>
                <a:latin typeface="Times New Roman"/>
              </a:rPr>
              <a:t>на уроке!</a:t>
            </a:r>
            <a:r>
              <a:rPr b="1" lang="ru-RU" sz="8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- Мы друг друга понимаем?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 - Хорошо всегда считаем?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 - А задачи мы решаем?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 - На уроке засыпаем?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Игры, шутки, всё для вас!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Пожелаем всем удачи – 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За работу, в добрый час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ahoma"/>
              </a:rPr>
              <a:t>Девиз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384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ы – умны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ы- дружны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ы- внимательны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Мы – старательны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В первом классе учимся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Всё у нас получится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i?id=531831680-04-72&amp;n=21"/>
          <p:cNvPicPr/>
          <p:nvPr/>
        </p:nvPicPr>
        <p:blipFill>
          <a:blip r:embed="rId1"/>
          <a:stretch/>
        </p:blipFill>
        <p:spPr>
          <a:xfrm>
            <a:off x="4524480" y="1628640"/>
            <a:ext cx="3592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3333ff"/>
                </a:solidFill>
                <a:latin typeface="Tahoma"/>
              </a:rPr>
              <a:t>Найди лишнее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4+2         7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3+3         5+2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3333ff"/>
                </a:solidFill>
                <a:latin typeface="Tahoma"/>
              </a:rPr>
              <a:t>Найди лишнее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82296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2         7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 &gt;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&lt;6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+5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3333ff"/>
                </a:solidFill>
                <a:latin typeface="Tahoma"/>
              </a:rPr>
              <a:t>Найди лишнее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2646360"/>
            <a:ext cx="82296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15" descr="Безымянный"/>
          <p:cNvPicPr/>
          <p:nvPr/>
        </p:nvPicPr>
        <p:blipFill>
          <a:blip r:embed="rId1"/>
          <a:stretch/>
        </p:blipFill>
        <p:spPr>
          <a:xfrm>
            <a:off x="900000" y="1484280"/>
            <a:ext cx="734544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Times New Roman"/>
              </a:rPr>
              <a:t>Измерь длину отрезка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646360"/>
            <a:ext cx="82296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0099"/>
                </a:solidFill>
                <a:latin typeface="Times New Roman"/>
              </a:rPr>
              <a:t>Чтобы измерить длину, надо выбрать мерку и узнать, сколько раз она содержится в измеряемой величине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1527120" y="5748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971640" y="5661000"/>
            <a:ext cx="719928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8 попугаев</a:t>
            </a:r>
            <a:endParaRPr b="1" lang="en-US" sz="7200" spc="1" strike="noStrike">
              <a:ln w="1908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5:38:02Z</dcterms:created>
  <dc:creator>Customer</dc:creator>
  <dc:description/>
  <dc:language>en-US</dc:language>
  <cp:lastModifiedBy>55</cp:lastModifiedBy>
  <dcterms:modified xsi:type="dcterms:W3CDTF">2020-11-15T17:08:28Z</dcterms:modified>
  <cp:revision>94</cp:revision>
  <dc:subject/>
  <dc:title>Сосна и Ель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110000000000010250600207b74006b004c800</vt:lpwstr>
  </property>
</Properties>
</file>