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E4A-4878-441D-93AD-B4FBB618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9AB-4DB3-419F-A9B4-C53BA19F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FB3-E15B-4DF8-99C6-DA468E80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72B-141D-4671-89B9-CC1055F4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5C98-5082-4D06-9FCD-782990A5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86F3-C7E5-493C-82B5-424ADA68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CF9D-333E-4E43-8734-913AC572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4572-1020-4373-814A-C42364D8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5A6B-E344-4433-A9D7-0E2FC894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2CE8-54D6-4FF3-8316-B4DB5BC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56B1-1087-403B-B33A-4915F2C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A47-6966-4FFA-9057-8B63BD7E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FB1F-84F3-4D7F-9A2A-CE55B51A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1C6F-10D3-48BE-8593-0428337D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DE94-DF1E-4752-B7DD-439DFC84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1F5E-FE47-483A-9503-8F6044CD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6E80-1EC4-4A63-B96C-E8CFE0BA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662D-2453-4F6D-952B-01C0F7D0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3A87-98E9-4BAA-B020-533462C5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EE83-5A01-4CA2-8D10-AD4E7EA4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6793-51A0-45D3-8909-68A8A6AA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7946-CD12-458A-BA60-2BD25B70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0D8-D473-476B-BE0B-76A9E014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3EBB-E64D-4CC0-B2DC-3DEA39D4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1B2A-C86B-4E59-BF5D-F4EB15AD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A6E57-331E-4C27-8101-485423B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F4B1-EBBA-4DC0-9ADC-760E3DA2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B6EE-BCE8-41DD-8167-C1613B78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AD7B-6E3C-45C3-A9BF-FA180C76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21EF2-30DE-483F-9F0E-51D59CF2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3B1C-97AB-4AC5-8AF0-F07EC3A5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9A691-C8DD-4091-9CA4-8C292D18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BE090-68C8-4129-9220-27BEAE32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DA3C-F19B-4746-94E2-9CBFD034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A0A81-8144-4971-9462-846CE858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D89EC-3AD7-4401-9AD4-21EC2B19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2BFA4-5B93-42C7-B15C-F3E74FA5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C0B4-44E3-42C5-8D44-05DF053F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3FF3-9D48-4996-A609-DF68E446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63294-A107-42F1-9521-CFF59DAF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7F44-DE4A-40F3-BCDC-0AC6AD0D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D90C-018D-4AE1-B25B-D867A688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84CE-6153-40D1-BE6A-E0D684D48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DDC-0974-4198-81F7-8678D7C8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1EE-6572-4FF6-A63F-6C7733A7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6DF-8610-4FAC-B703-DCB1FC51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27A-5911-43FC-9464-34555687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0BF-1DAC-4A63-8744-CAD5DB0D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FE61-6234-4523-B0A2-28A063B6299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20A1-AFAE-439A-B89B-A63DC6EC418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E3D4-6C99-4D3D-AAE3-A4191048374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D4DD-754E-4CAC-9058-72C92944763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706400" y="4492800"/>
            <a:ext cx="7224840" cy="14443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714240" y="3214800"/>
            <a:ext cx="78584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Школьный буллин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6"/>
          <p:cNvSpPr/>
          <p:nvPr/>
        </p:nvSpPr>
        <p:spPr>
          <a:xfrm>
            <a:off x="2357280" y="257184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C:\Users\Наталия\Desktop\image-bullying.jpg"/>
          <p:cNvPicPr/>
          <p:nvPr/>
        </p:nvPicPr>
        <p:blipFill>
          <a:blip r:embed="rId2"/>
          <a:stretch/>
        </p:blipFill>
        <p:spPr>
          <a:xfrm>
            <a:off x="2627280" y="260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C:\Users\Наталия\Desktop\image-bullying.jpg"/>
          <p:cNvPicPr/>
          <p:nvPr/>
        </p:nvPicPr>
        <p:blipFill>
          <a:blip r:embed="rId3"/>
          <a:stretch/>
        </p:blipFill>
        <p:spPr>
          <a:xfrm>
            <a:off x="2627280" y="260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C:\Users\Наталия\Desktop\image-bullying.jpg"/>
          <p:cNvPicPr/>
          <p:nvPr/>
        </p:nvPicPr>
        <p:blipFill>
          <a:blip r:embed="rId4"/>
          <a:stretch/>
        </p:blipFill>
        <p:spPr>
          <a:xfrm>
            <a:off x="2627280" y="33336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C:\Users\Наталия\Desktop\image-bullying.jpg"/>
          <p:cNvPicPr/>
          <p:nvPr/>
        </p:nvPicPr>
        <p:blipFill>
          <a:blip r:embed="rId5"/>
          <a:stretch/>
        </p:blipFill>
        <p:spPr>
          <a:xfrm>
            <a:off x="2556000" y="189000"/>
            <a:ext cx="4392360" cy="3095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C:\Users\Наталия\Desktop\image-bullying.jpg"/>
          <p:cNvPicPr/>
          <p:nvPr/>
        </p:nvPicPr>
        <p:blipFill>
          <a:blip r:embed="rId6"/>
          <a:stretch/>
        </p:blipFill>
        <p:spPr>
          <a:xfrm>
            <a:off x="2340000" y="189000"/>
            <a:ext cx="4392720" cy="3095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C:\Users\Наталия\Desktop\image-bullying.jpg"/>
          <p:cNvPicPr/>
          <p:nvPr/>
        </p:nvPicPr>
        <p:blipFill>
          <a:blip r:embed="rId7"/>
          <a:stretch/>
        </p:blipFill>
        <p:spPr>
          <a:xfrm>
            <a:off x="2492280" y="341280"/>
            <a:ext cx="4392720" cy="3095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Users\Наталия\Desktop\image-bullying.jpg"/>
          <p:cNvPicPr/>
          <p:nvPr/>
        </p:nvPicPr>
        <p:blipFill>
          <a:blip r:embed="rId8"/>
          <a:stretch/>
        </p:blipFill>
        <p:spPr>
          <a:xfrm>
            <a:off x="2484360" y="333360"/>
            <a:ext cx="43927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0" y="871920"/>
            <a:ext cx="9066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одарё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кичащихся достижениями своих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 имеющих электронных новинок или же имеющих самые дорогие из них, не доступные другим дет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вундеркин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интроверты с затруднённой коммуник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часто болеющие дети и пропускающие из-за этого уроки в школ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обычная манера речи, «необычное» в однокласснике с точки зрения его соучеников (а это, как вы и  понима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, может быть что угод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ети, не умеющие за себя постоять из-за своей деликатности или психологических особ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ети другой национальности, непопулярной в данной ст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его оскорбляют, дразнят, дают обидные прозвищ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на других детей он реагирует глупой улыбкой, старается отшутиться, убежать, плачет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хорошо ладит с учителям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 плохо со сверстник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опаздывает к началу занят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или поздно покидает школ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во время групповых игр, занятий, его игнорируют или выбирают последним.</a:t>
            </a:r>
            <a:r>
              <a:rPr b="1" lang="ru-RU" sz="2800" spc="-1" strike="noStrike">
                <a:solidFill>
                  <a:srgbClr val="000099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bullying"/>
          <p:cNvPicPr/>
          <p:nvPr/>
        </p:nvPicPr>
        <p:blipFill>
          <a:blip r:embed="rId1"/>
          <a:stretch/>
        </p:blipFill>
        <p:spPr>
          <a:xfrm>
            <a:off x="5292720" y="465300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stock-photo-young-school-boy-bullying-another-in-school-playground-1641910"/>
          <p:cNvPicPr/>
          <p:nvPr/>
        </p:nvPicPr>
        <p:blipFill>
          <a:blip r:embed="rId2"/>
          <a:stretch/>
        </p:blipFill>
        <p:spPr>
          <a:xfrm>
            <a:off x="5796000" y="1714680"/>
            <a:ext cx="28083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519120" y="757800"/>
            <a:ext cx="799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4.Влияние буллинга на его участников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Что получает агрессор в ситуации травли? Опять же, ощущение собственной «крутости», безнаказанности, «всемогущества». В дальнейшем это приводит к ещё большему развитию разрушающих личность качеств, девиантному поведению и как следствие – постановке на учет в Комиссию по делам несовершеннолетних и проблемам с пол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Что получают наблюдатели буллинга? Стыд и чувство вины за то, что не помогли жертве, проявили слаб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971640" y="17820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Психологи отмечают, что школьный буллинг сравним по тяжести последствий для психики с семейным насил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У жертвы травли начинают проявляться психосоматические расстройства: частые головные боли, проблемы со сном и аппетитом, могут обостриться хронические заболе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Плюс к этому – депрессивные расстройства, повышенная тревожность, невротические про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a424d"/>
                </a:solidFill>
                <a:latin typeface="Calibri"/>
                <a:ea typeface="Times New Roman"/>
              </a:rPr>
              <a:t>И самые серьёзные реакции на буллинг – это попытки суицида или скулшутинг, когда ребёнок больше не может терпеть насмешки и издевательства и решает отомстить обидчикам с применением взрывчатки или холодного оруж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826920" y="772920"/>
            <a:ext cx="72741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 Как противостоять буллингу. Советы ребенку-изг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аккуратное вмешательство взрослых в ситуацию тоже может распалить обидчиков и усилить трав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24000" y="1064880"/>
            <a:ext cx="8351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сещай секции , которые помогут давать отпор ,если тебя изби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Если вас травят в школе, обзывают, портят одежду и вещи, обязательно расскажите об этом взрослому: родителям, учителю, старшему товарищу. Запомните: попросить помощи – это не слабость, а решение взрослого человека, попавшего в б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Не стоит бояться, что «будет хуже», если вы кому-то расскажете о том, что происходит. Будет действительно хуже, если вы останетесь один на один со своей проблемой. Всегда найдется тот, кто сильнее ваших обидчиков и сможет вас защи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Если вас травят в интернете, обязательно сохраняйте все переписки, видео, голосовые сообщения, чтобы в дальнейшем использовать их как доказательства совершаемого кибербуллин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a42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Если предмет травли можно исправить – исправьте. Если нельзя – не считайте себя виноват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6.Вести себя ув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424d"/>
                </a:solidFill>
                <a:latin typeface="Calibri"/>
                <a:ea typeface="Times New Roman"/>
              </a:rPr>
              <a:t>7.Избегать ситуации , в которых возможен булл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27338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424d"/>
                </a:solidFill>
                <a:latin typeface="Calibri"/>
                <a:ea typeface="Times New Roman"/>
              </a:rPr>
              <a:t>8.Искать друзей среди одноклассников и сверстник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424d"/>
                </a:solidFill>
                <a:latin typeface="Calibri"/>
                <a:ea typeface="Times New Roman"/>
              </a:rPr>
              <a:t>9.Учиться использовать юмор -самое мощное оружие против словесной агресс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Users\Наталия\Desktop\30520_fullsize.jpg"/>
          <p:cNvPicPr/>
          <p:nvPr/>
        </p:nvPicPr>
        <p:blipFill>
          <a:blip r:embed="rId1"/>
          <a:stretch/>
        </p:blipFill>
        <p:spPr>
          <a:xfrm>
            <a:off x="4273560" y="210492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11280" y="691920"/>
            <a:ext cx="3884400" cy="56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10. Не надеяться отомстить  с помощью еще большей агрессии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 применять оруж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11.Заниматься с восстановлением своей самооценки  с помощью специалиста если это нужн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2" descr="C:\Users\Наталия\Desktop\i (3).jpg"/>
          <p:cNvPicPr/>
          <p:nvPr/>
        </p:nvPicPr>
        <p:blipFill>
          <a:blip r:embed="rId1"/>
          <a:stretch/>
        </p:blipFill>
        <p:spPr>
          <a:xfrm>
            <a:off x="5219640" y="1413000"/>
            <a:ext cx="352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4"/>
          <p:cNvSpPr/>
          <p:nvPr/>
        </p:nvSpPr>
        <p:spPr>
          <a:xfrm>
            <a:off x="1071720" y="435780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решение проблемы буллинга в наших руках. Удачи НАМ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5143680" y="214200"/>
            <a:ext cx="2571480" cy="39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Наталия\Desktop\shutterstock_108383702-617x416.jpg"/>
          <p:cNvPicPr/>
          <p:nvPr/>
        </p:nvPicPr>
        <p:blipFill>
          <a:blip r:embed="rId1"/>
          <a:stretch/>
        </p:blipFill>
        <p:spPr>
          <a:xfrm>
            <a:off x="2050920" y="260280"/>
            <a:ext cx="5877000" cy="3702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Users\Наталия\Desktop\shutterstock_108383702-617x416.jpg"/>
          <p:cNvPicPr/>
          <p:nvPr/>
        </p:nvPicPr>
        <p:blipFill>
          <a:blip r:embed="rId2"/>
          <a:stretch/>
        </p:blipFill>
        <p:spPr>
          <a:xfrm>
            <a:off x="2050920" y="260280"/>
            <a:ext cx="587700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50920" y="680400"/>
            <a:ext cx="813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Цель 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анной работы: опреде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ияния буллинга на его участников и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ля достижения указанной цели были поставлены следующие 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узнать, что такое булл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знакомиться с формами и типами буллин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узнать о последствиях буллин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разработка буклета –совета «Как противостоить буллинг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Объектом данной работы  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является влияние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Calibri"/>
              </a:rPr>
              <a:t>буллинга на процесс формирования личности подростк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а ,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предметом –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явление булл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95280" y="279360"/>
            <a:ext cx="8394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Я выдвинула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 гипотезу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, что буллинг – явление широко распространённое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школьной среде 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имеет влияния  на его участников и последствия.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1. сбор и изучение теоретическ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2. систематизация, обобщение и анализ собранн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Актуальность 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работы в том, что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телевидение и Интернет «пестря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видеороликами о жестокости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этому нельзя не воспринимать эту проблему всерье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Научная новизна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  работы заключается в том, что буллинг – я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распространённое, но малоизучен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6"/>
          <p:cNvSpPr/>
          <p:nvPr/>
        </p:nvSpPr>
        <p:spPr>
          <a:xfrm>
            <a:off x="285840" y="7142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Школьная травля или буллин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лительное физическое или психическое насилие со стороны индивида или группы в отношении индивида, не способного защитить себя в данной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500040" y="322668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жестокого обращения, когда физически или психически сильный индивид или группа таковых получает удовольствие, причиняя боль, насмехаясь, добиваясь покорности и уступок, завладевая имуществом более слабого. Пострадавшие чаще всего испытывают стыд и неуверенность в себе, но предпочитают не сообщать об издеватель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611280" y="777960"/>
            <a:ext cx="7561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ТИПЫ БУЛЛ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33"/>
                </a:solidFill>
                <a:latin typeface="Calibri"/>
                <a:ea typeface="Times New Roman"/>
              </a:rPr>
              <a:t>1. «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Косвенный» - социальная агресс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2.«Физический» - непосредственный - агрессия с физическим насил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3.«Поведенческий» - преследователь  вынуждает жертву перенести оскорбительные и унижающие для неё чувства собственного достоинства; вербальная агрессия: сплетни, интри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4.вымогательства, шантаж; возможны бойкоты жертве, различные «пакости» (похищение тетрадей с домашней работ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5«Словесный» - унижение непристойными словами, обзываниями, кли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G:\ДОКУМЕНТЫ\НАСИЛИЕ В ШКОЛЕ\violence-300.jpg"/>
          <p:cNvPicPr/>
          <p:nvPr/>
        </p:nvPicPr>
        <p:blipFill>
          <a:blip r:embed="rId1"/>
          <a:stretch/>
        </p:blipFill>
        <p:spPr>
          <a:xfrm>
            <a:off x="539640" y="4005360"/>
            <a:ext cx="3168720" cy="216036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3"/>
          <p:cNvSpPr/>
          <p:nvPr/>
        </p:nvSpPr>
        <p:spPr>
          <a:xfrm>
            <a:off x="3924360" y="393372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6.Новая  разновидность  школьного  буллинга -  «кибербуллинг»  - жертва получает оскорбления на свой электронный адрес или через другие электронные устро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324000" y="-160920"/>
            <a:ext cx="8351640" cy="52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Буллинг  бывет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1.Горизонтальным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. Агрессор и жертва находятся  являются школьн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Особняком идут случаи, когда мальчики травят девочек. Они очень распространен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поскольку мальчики в два раза чаще, чем девочки, выступают в качестве агрессоров, а девочки как более слаб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Количество агрессоров может быть неограниченным, нередко агрессорами становятся практически все одноклассник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 Вертикальный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 . В качестве жертвы или агрессора могут выступать учитель, директор, заву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Учителя, травящие детей, 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 не редкость, и обычно они прибегают к психологическим методам воздейств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которые не всегда можно заметить. Учитель может чаще вызывать определенных детей к дос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а если они не смогут ответить на вопросы, начинает унижать прилю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Также ученики могут начать травлю учителя, который им не нрав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Обычно в такой травле применяется только психологическое наси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0" y="-468360"/>
            <a:ext cx="853272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3.Социальная  структура  булл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Булли ( агрессор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1. дети, уверенные в том, что подчиняя,  гораздо легче будет добиваться своих ц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2. не  умеющие  сочувствовать своим жертв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3. физически  сильные  мальч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4. легко  возбудимые  и очень импульсивные, с агрессивным повед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Инициаторами травли также могут быть де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1. мечтающие   быть лидерами в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2. желающие быть в центре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3. с высоким уровнем притяз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4. уверенные   в своём превосходстве над жерт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5. дети, не признающие компроми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6. агрессивные дети, самоутверждающиеся  в жер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7. интуитивно  чувствующие - какие одноклассники не окажут сопротив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8. со слабым самоконтро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Союзники» или «зрители»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 булли  чаще всего де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1. боящиеся быть на месте жерт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2. не желающие выделяться из толпы однокласс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3. дорожащие своими отношениями с лиде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4.  поддающиеся  влиянию   «сильных мира сего » в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5. не умеющие  сопереживать и сочувствовать друг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Наиболее часто 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</a:rPr>
              <a:t>жертвами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школьного буллинга становятся дети, имеющие: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физические недостатк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сящие очки, со сниженным слухом или с двигательными нарушениями (например, при ДЦП), то есть те, кто не может защитить себя, физически слабее своих ровес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поведени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замкнутые, чувствительные, застенчивые, тревожные дети или дети с импульсивным поведением, не уверены в себе, несчастны и имеют низкое самоуваже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обенности внешности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рыжие волосы веснушки, оттопыренные уши, кривые ноги, особая форма головы, вес тела (полнота или худоба) и т.д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4" descr="d6bcb062e4374edfb1ad0cf06a2b"/>
          <p:cNvPicPr/>
          <p:nvPr/>
        </p:nvPicPr>
        <p:blipFill>
          <a:blip r:embed="rId1"/>
          <a:stretch/>
        </p:blipFill>
        <p:spPr>
          <a:xfrm>
            <a:off x="5940360" y="4941720"/>
            <a:ext cx="3024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259920"/>
            <a:ext cx="79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детей, являющихся жертвами, поведение их вызывает раздражение у одноклассников и учителей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иперактивность  и  повышенная возбудимос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лохая успеваемос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ябед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индром дефицита вним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юбимчики учител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трудом  усваивающие  чтение и письм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иперопекаемые родителя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ображал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вастун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«белые вороны» во внешности (например, заячья  губа, необычная форма ушей, сколиоз, шрамы, очки,  тики, косоглазие,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3" descr="14684744-izgoy"/>
          <p:cNvPicPr/>
          <p:nvPr/>
        </p:nvPicPr>
        <p:blipFill>
          <a:blip r:embed="rId1"/>
          <a:stretch/>
        </p:blipFill>
        <p:spPr>
          <a:xfrm>
            <a:off x="6084720" y="2781360"/>
            <a:ext cx="25894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9:27:16Z</dcterms:created>
  <dc:creator>409-1-н</dc:creator>
  <dc:description/>
  <dc:language>en-US</dc:language>
  <cp:lastModifiedBy>1</cp:lastModifiedBy>
  <dcterms:modified xsi:type="dcterms:W3CDTF">2020-01-12T13:57:51Z</dcterms:modified>
  <cp:revision>92</cp:revision>
  <dc:subject/>
  <dc:title>Психологическая безопасность образовательной среды в ДОЛ</dc:title>
</cp:coreProperties>
</file>