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01FC-7207-44D4-972F-28D11476C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8E40-2E37-4576-9BD7-BB095CFF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C824-446F-4D2C-B810-0BD9BD97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A903-6242-40E6-A88A-64A16C697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E3A5-9987-4EDD-8C14-1956BB92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B6A9-F789-4A87-9E2A-FFF9CC6D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E02B-F194-4A0B-AD05-BBA1328D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3A86-0D4A-45A7-BB41-47DA6783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4B3D-F792-4445-9853-BC775452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9E2D-7823-4876-A02C-7C5A0EBB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9560-5B9A-4923-853D-9BF0A271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F85E-C85D-431C-B4BA-850B465A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519E-503F-4D81-8F6A-4EEC878D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6B6C-3035-4B40-AA42-DF221F03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A7B0-F1B2-448A-ACB0-176C01A9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45CD-4D53-46FC-8478-C12D2CEEC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6818-85EB-4E48-BFEB-2E47F25C1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0F31E-8E23-48F3-9FF3-440B8D8B6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275F8-6587-432E-AF96-0A4D3188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5F723-B1CB-4AF8-AA01-A191EF46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4C1C5-EA36-4957-896A-78369090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285A4-865E-4DE2-9291-B091F0E3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51F9-B7D9-432F-AE99-C8799AC4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7FEE3-ADCC-4EF5-B362-0FCD927D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5A46D-6B2A-4DB1-BDEF-28731DAF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7BF22-1C22-4C00-9F0A-8F71FC68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7E714-F042-4E37-951A-296B5BE3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352F5-A007-4799-B197-05A70C64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6718C-DC5B-4739-9010-88C7B2DB7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F61A8-4B17-4519-AE99-A602A39AE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E9B7F-3001-4B75-917C-33CC8CFA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3ADAE-8116-4464-A545-A05123FC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0F3F0-57BF-412C-B577-334F5D2C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9547-12EE-4A77-9DA2-96DE0514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17E3A-6FD7-4810-BA6D-50F6B33F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E12A2-9FC3-47E8-AD6C-F46EEF54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D672B-1000-452F-9384-60DC27BA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0C337-6924-4015-8A1D-F904F42E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A514D-3C48-458B-89DC-43BE6B8A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2F513-AF3B-4C6A-9851-3573FF8D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E72FA-9B66-414E-B6A4-45B81B04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AA580-53FE-4776-B677-A3FA07B1D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9EE1D-539E-4C26-A635-B5EC4F6B8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FB2D-03B7-4333-BD3E-95B4B375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C244-5FA8-48C4-8BCE-4365CFEB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255F-81A5-421F-95CD-723F44CA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9B70-DB87-4CA1-8EBD-D2E77FF6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3929-E9D7-49FF-8893-7E759D09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2F06-2BFD-46AC-BAB6-EEF78AC0582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8704-1F57-4750-9B65-8FA35E3B8B0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51C0-36FA-4250-A791-221C5FEB034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F136-4A78-4B78-BA50-84BABFE62F8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1706400" y="4492800"/>
            <a:ext cx="7224840" cy="14443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>
            <a:off x="714240" y="3214800"/>
            <a:ext cx="78584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Times New Roman"/>
              </a:rPr>
              <a:t>Школьный буллинг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6"/>
          <p:cNvSpPr/>
          <p:nvPr/>
        </p:nvSpPr>
        <p:spPr>
          <a:xfrm>
            <a:off x="2357280" y="2571840"/>
            <a:ext cx="56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C:\Users\Наталия\Desktop\image-bullying.jpg"/>
          <p:cNvPicPr/>
          <p:nvPr/>
        </p:nvPicPr>
        <p:blipFill>
          <a:blip r:embed="rId2"/>
          <a:stretch/>
        </p:blipFill>
        <p:spPr>
          <a:xfrm>
            <a:off x="2627280" y="260280"/>
            <a:ext cx="4176720" cy="2881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C:\Users\Наталия\Desktop\image-bullying.jpg"/>
          <p:cNvPicPr/>
          <p:nvPr/>
        </p:nvPicPr>
        <p:blipFill>
          <a:blip r:embed="rId3"/>
          <a:stretch/>
        </p:blipFill>
        <p:spPr>
          <a:xfrm>
            <a:off x="2627280" y="260280"/>
            <a:ext cx="4176720" cy="2881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C:\Users\Наталия\Desktop\image-bullying.jpg"/>
          <p:cNvPicPr/>
          <p:nvPr/>
        </p:nvPicPr>
        <p:blipFill>
          <a:blip r:embed="rId4"/>
          <a:stretch/>
        </p:blipFill>
        <p:spPr>
          <a:xfrm>
            <a:off x="2627280" y="333360"/>
            <a:ext cx="417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C:\Users\Наталия\Desktop\image-bullying.jpg"/>
          <p:cNvPicPr/>
          <p:nvPr/>
        </p:nvPicPr>
        <p:blipFill>
          <a:blip r:embed="rId5"/>
          <a:stretch/>
        </p:blipFill>
        <p:spPr>
          <a:xfrm>
            <a:off x="2556000" y="189000"/>
            <a:ext cx="4392360" cy="3095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C:\Users\Наталия\Desktop\image-bullying.jpg"/>
          <p:cNvPicPr/>
          <p:nvPr/>
        </p:nvPicPr>
        <p:blipFill>
          <a:blip r:embed="rId6"/>
          <a:stretch/>
        </p:blipFill>
        <p:spPr>
          <a:xfrm>
            <a:off x="2340000" y="189000"/>
            <a:ext cx="4392720" cy="3095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C:\Users\Наталия\Desktop\image-bullying.jpg"/>
          <p:cNvPicPr/>
          <p:nvPr/>
        </p:nvPicPr>
        <p:blipFill>
          <a:blip r:embed="rId7"/>
          <a:stretch/>
        </p:blipFill>
        <p:spPr>
          <a:xfrm>
            <a:off x="2492280" y="341280"/>
            <a:ext cx="4392720" cy="3095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C:\Users\Наталия\Desktop\image-bullying.jpg"/>
          <p:cNvPicPr/>
          <p:nvPr/>
        </p:nvPicPr>
        <p:blipFill>
          <a:blip r:embed="rId8"/>
          <a:stretch/>
        </p:blipFill>
        <p:spPr>
          <a:xfrm>
            <a:off x="2484360" y="333360"/>
            <a:ext cx="439272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"/>
          <p:cNvSpPr/>
          <p:nvPr/>
        </p:nvSpPr>
        <p:spPr>
          <a:xfrm>
            <a:off x="0" y="871920"/>
            <a:ext cx="9066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одарён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кичащихся достижениями своих роди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не имеющих электронных новинок или же имеющих самые дорогие из них, не доступные другим детя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вундеркинд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интроверты с затруднённой коммуникац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часто болеющие дети и пропускающие из-за этого уроки в школ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необычная манера речи, «необычное» в однокласснике с точки зрения его соучеников (а это, как вы и  понимае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, может быть что угодно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дети, не умеющие за себя постоять из-за своей деликатности или психологических особен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дети другой национальности, непопулярной в данной стра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его оскорбляют, дразнят, дают обидные прозвища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на других детей он реагирует глупой улыбкой, старается отшутиться, убежать, плачет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хорошо ладит с учителям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и плохо со сверстникам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опаздывает к началу занятий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или поздно покидает школ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во время групповых игр, занятий, его игнорируют или выбирают последним.</a:t>
            </a:r>
            <a:r>
              <a:rPr b="1" lang="ru-RU" sz="2800" spc="-1" strike="noStrike">
                <a:solidFill>
                  <a:srgbClr val="000099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3" descr="bullying"/>
          <p:cNvPicPr/>
          <p:nvPr/>
        </p:nvPicPr>
        <p:blipFill>
          <a:blip r:embed="rId1"/>
          <a:stretch/>
        </p:blipFill>
        <p:spPr>
          <a:xfrm>
            <a:off x="5292720" y="4653000"/>
            <a:ext cx="2857680" cy="18954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stock-photo-young-school-boy-bullying-another-in-school-playground-1641910"/>
          <p:cNvPicPr/>
          <p:nvPr/>
        </p:nvPicPr>
        <p:blipFill>
          <a:blip r:embed="rId2"/>
          <a:stretch/>
        </p:blipFill>
        <p:spPr>
          <a:xfrm>
            <a:off x="5796000" y="1714680"/>
            <a:ext cx="280836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"/>
          <p:cNvSpPr/>
          <p:nvPr/>
        </p:nvSpPr>
        <p:spPr>
          <a:xfrm>
            <a:off x="519120" y="757800"/>
            <a:ext cx="7991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424d"/>
                </a:solidFill>
                <a:latin typeface="Calibri"/>
                <a:ea typeface="Times New Roman"/>
              </a:rPr>
              <a:t>4.Влияние буллинга на его участников и по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a424d"/>
                </a:solidFill>
                <a:latin typeface="Calibri"/>
                <a:ea typeface="Times New Roman"/>
              </a:rPr>
              <a:t>Что получает агрессор в ситуации травли? Опять же, ощущение собственной «крутости», безнаказанности, «всемогущества». В дальнейшем это приводит к ещё большему развитию разрушающих личность качеств, девиантному поведению и как следствие – постановке на учет в Комиссию по делам несовершеннолетних и проблемам с поли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a424d"/>
                </a:solidFill>
                <a:latin typeface="Calibri"/>
                <a:ea typeface="Times New Roman"/>
              </a:rPr>
              <a:t>Что получают наблюдатели буллинга? Стыд и чувство вины за то, что не помогли жертве, проявили слаб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"/>
          <p:cNvSpPr/>
          <p:nvPr/>
        </p:nvSpPr>
        <p:spPr>
          <a:xfrm>
            <a:off x="971640" y="178200"/>
            <a:ext cx="7345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a424d"/>
                </a:solidFill>
                <a:latin typeface="Calibri"/>
                <a:ea typeface="Times New Roman"/>
              </a:rPr>
              <a:t>Психологи отмечают, что школьный буллинг сравним по тяжести последствий для психики с семейным насил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a424d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a424d"/>
                </a:solidFill>
                <a:latin typeface="Calibri"/>
                <a:ea typeface="Times New Roman"/>
              </a:rPr>
              <a:t>У жертвы травли начинают проявляться психосоматические расстройства: частые головные боли, проблемы со сном и аппетитом, могут обостриться хронические заболе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a424d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a424d"/>
                </a:solidFill>
                <a:latin typeface="Calibri"/>
                <a:ea typeface="Times New Roman"/>
              </a:rPr>
              <a:t>Плюс к этому – депрессивные расстройства, повышенная тревожность, невротические проя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a424d"/>
                </a:solidFill>
                <a:latin typeface="Calibri"/>
                <a:ea typeface="Times New Roman"/>
              </a:rPr>
              <a:t>И самые серьёзные реакции на буллинг – это попытки суицида или скулшутинг, когда ребёнок больше не может терпеть насмешки и издевательства и решает отомстить обидчикам с применением взрывчатки или холодного оруж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"/>
          <p:cNvSpPr/>
          <p:nvPr/>
        </p:nvSpPr>
        <p:spPr>
          <a:xfrm>
            <a:off x="826920" y="772920"/>
            <a:ext cx="727416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5 Как противостоять буллингу. Советы ребенку-изго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аккуратное вмешательство взрослых в ситуацию тоже может распалить обидчиков и усилить трав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"/>
          <p:cNvSpPr/>
          <p:nvPr/>
        </p:nvSpPr>
        <p:spPr>
          <a:xfrm>
            <a:off x="324000" y="1064880"/>
            <a:ext cx="83516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Посещай секции , которые помогут давать отпор ,если тебя избив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a42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a424d"/>
                </a:solidFill>
                <a:latin typeface="Calibri"/>
                <a:ea typeface="Times New Roman"/>
              </a:rPr>
              <a:t>Если вас травят в школе, обзывают, портят одежду и вещи, обязательно расскажите об этом взрослому: родителям, учителю, старшему товарищу. Запомните: попросить помощи – это не слабость, а решение взрослого человека, попавшего в бе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a42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a424d"/>
                </a:solidFill>
                <a:latin typeface="Calibri"/>
                <a:ea typeface="Times New Roman"/>
              </a:rPr>
              <a:t>Не стоит бояться, что «будет хуже», если вы кому-то расскажете о том, что происходит. Будет действительно хуже, если вы останетесь один на один со своей проблемой. Всегда найдется тот, кто сильнее ваших обидчиков и сможет вас защит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a42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a424d"/>
                </a:solidFill>
                <a:latin typeface="Calibri"/>
                <a:ea typeface="Times New Roman"/>
              </a:rPr>
              <a:t>Если вас травят в интернете, обязательно сохраняйте все переписки, видео, голосовые сообщения, чтобы в дальнейшем использовать их как доказательства совершаемого кибербуллин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a42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a424d"/>
                </a:solidFill>
                <a:latin typeface="Calibri"/>
                <a:ea typeface="Times New Roman"/>
              </a:rPr>
              <a:t>Если предмет травли можно исправить – исправьте. Если нельзя – не считайте себя виноват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a424d"/>
                </a:solidFill>
                <a:latin typeface="Calibri"/>
                <a:ea typeface="Times New Roman"/>
              </a:rPr>
              <a:t>6.Вести себя увер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a424d"/>
                </a:solidFill>
                <a:latin typeface="Calibri"/>
                <a:ea typeface="Times New Roman"/>
              </a:rPr>
              <a:t>7.Избегать ситуации , в которых возможен буллин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273384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a424d"/>
                </a:solidFill>
                <a:latin typeface="Calibri"/>
                <a:ea typeface="Times New Roman"/>
              </a:rPr>
              <a:t>8.Искать друзей среди одноклассников и сверстников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a424d"/>
                </a:solidFill>
                <a:latin typeface="Calibri"/>
                <a:ea typeface="Times New Roman"/>
              </a:rPr>
              <a:t>9.Учиться использовать юмор -самое мощное оружие против словесной агресси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2" descr="C:\Users\Наталия\Desktop\30520_fullsize.jpg"/>
          <p:cNvPicPr/>
          <p:nvPr/>
        </p:nvPicPr>
        <p:blipFill>
          <a:blip r:embed="rId1"/>
          <a:stretch/>
        </p:blipFill>
        <p:spPr>
          <a:xfrm>
            <a:off x="4273560" y="2104920"/>
            <a:ext cx="37148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611280" y="691920"/>
            <a:ext cx="3884400" cy="56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10. Не надеяться отомстить  с помощью еще большей агрессии 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Не применять оружи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11.Заниматься с восстановлением своей самооценки  с помощью специалиста если это нужно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2" descr="C:\Users\Наталия\Desktop\i (3).jpg"/>
          <p:cNvPicPr/>
          <p:nvPr/>
        </p:nvPicPr>
        <p:blipFill>
          <a:blip r:embed="rId1"/>
          <a:stretch/>
        </p:blipFill>
        <p:spPr>
          <a:xfrm>
            <a:off x="5219640" y="1413000"/>
            <a:ext cx="35290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4"/>
          <p:cNvSpPr/>
          <p:nvPr/>
        </p:nvSpPr>
        <p:spPr>
          <a:xfrm>
            <a:off x="1071720" y="4357800"/>
            <a:ext cx="700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зрешение проблемы буллинга в наших руках. Удачи НАМ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5"/>
          <p:cNvSpPr/>
          <p:nvPr/>
        </p:nvSpPr>
        <p:spPr>
          <a:xfrm>
            <a:off x="5143680" y="214200"/>
            <a:ext cx="2571480" cy="39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C:\Users\Наталия\Desktop\shutterstock_108383702-617x416.jpg"/>
          <p:cNvPicPr/>
          <p:nvPr/>
        </p:nvPicPr>
        <p:blipFill>
          <a:blip r:embed="rId1"/>
          <a:stretch/>
        </p:blipFill>
        <p:spPr>
          <a:xfrm>
            <a:off x="2050920" y="260280"/>
            <a:ext cx="5877000" cy="37022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C:\Users\Наталия\Desktop\shutterstock_108383702-617x416.jpg"/>
          <p:cNvPicPr/>
          <p:nvPr/>
        </p:nvPicPr>
        <p:blipFill>
          <a:blip r:embed="rId2"/>
          <a:stretch/>
        </p:blipFill>
        <p:spPr>
          <a:xfrm>
            <a:off x="2050920" y="260280"/>
            <a:ext cx="5877000" cy="37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"/>
          <p:cNvSpPr/>
          <p:nvPr/>
        </p:nvSpPr>
        <p:spPr>
          <a:xfrm>
            <a:off x="250920" y="680400"/>
            <a:ext cx="8137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Цель </a:t>
            </a: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данной работы: определ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лияния буллинга на его участников и послед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Для достижения указанной цели были поставлены следующие </a:t>
            </a:r>
            <a:r>
              <a:rPr b="1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задачи</a:t>
            </a: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узнать, что такое буллин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познакомиться с формами и типами буллинг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узнать о последствиях буллинг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разработка буклета –совета «Как противостоить буллинг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Объектом данной работы  </a:t>
            </a: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является влияние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Calibri"/>
              </a:rPr>
              <a:t>буллинга на процесс формирования личности подростк</a:t>
            </a: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а ,</a:t>
            </a:r>
            <a:r>
              <a:rPr b="1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предметом –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явление булл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"/>
          <p:cNvSpPr/>
          <p:nvPr/>
        </p:nvSpPr>
        <p:spPr>
          <a:xfrm>
            <a:off x="395280" y="279360"/>
            <a:ext cx="8394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Я выдвинула</a:t>
            </a:r>
            <a:r>
              <a:rPr b="1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 гипотезу</a:t>
            </a: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, что буллинг – явление широко распространённое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школьной среде 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имеет влияния  на его участников и последствия.</a:t>
            </a: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Методы исслед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1. сбор и изучение теоретического материа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2. систематизация, обобщение и анализ собранной информ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Актуальность </a:t>
            </a: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работы в том, что</a:t>
            </a:r>
            <a:r>
              <a:rPr b="1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телевидение и Интернет «пестря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видеороликами о жестокости дет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поэтому нельзя не воспринимать эту проблему всерье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Научная новизна</a:t>
            </a: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  работы заключается в том, что буллинг – я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распространённое, но малоизучен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6"/>
          <p:cNvSpPr/>
          <p:nvPr/>
        </p:nvSpPr>
        <p:spPr>
          <a:xfrm>
            <a:off x="285840" y="714240"/>
            <a:ext cx="84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Школьная травля или буллинг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длительное физическое или психическое насилие со стороны индивида или группы в отношении индивида, не способного защитить себя в данной ситу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"/>
          <p:cNvSpPr/>
          <p:nvPr/>
        </p:nvSpPr>
        <p:spPr>
          <a:xfrm>
            <a:off x="500040" y="3226680"/>
            <a:ext cx="814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форма жестокого обращения, когда физически или психически сильный индивид или группа таковых получает удовольствие, причиняя боль, насмехаясь, добиваясь покорности и уступок, завладевая имуществом более слабого. Пострадавшие чаще всего испытывают стыд и неуверенность в себе, но предпочитают не сообщать об издевательств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611280" y="777960"/>
            <a:ext cx="75610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Calibri"/>
                <a:ea typeface="Times New Roman"/>
              </a:rPr>
              <a:t>ТИПЫ БУЛЛИН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Calibri"/>
                <a:ea typeface="Times New Roman"/>
              </a:rPr>
              <a:t>1. «</a:t>
            </a:r>
            <a:r>
              <a:rPr b="0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Косвенный» - социальная агресс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2.«Физический» - непосредственный - агрессия с физическим насили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3.«Поведенческий» - преследователь  вынуждает жертву перенести оскорбительные и унижающие для неё чувства собственного достоинства; вербальная агрессия: сплетни, интриг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4.вымогательства, шантаж; возможны бойкоты жертве, различные «пакости» (похищение тетрадей с домашней работо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5«Словесный» - унижение непристойными словами, обзываниями, клич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G:\ДОКУМЕНТЫ\НАСИЛИЕ В ШКОЛЕ\violence-300.jpg"/>
          <p:cNvPicPr/>
          <p:nvPr/>
        </p:nvPicPr>
        <p:blipFill>
          <a:blip r:embed="rId1"/>
          <a:stretch/>
        </p:blipFill>
        <p:spPr>
          <a:xfrm>
            <a:off x="539640" y="4005360"/>
            <a:ext cx="3168720" cy="2160360"/>
          </a:xfrm>
          <a:prstGeom prst="rect">
            <a:avLst/>
          </a:prstGeom>
          <a:ln w="0">
            <a:noFill/>
          </a:ln>
        </p:spPr>
      </p:pic>
      <p:sp>
        <p:nvSpPr>
          <p:cNvPr id="211" name="Прямоугольник 3"/>
          <p:cNvSpPr/>
          <p:nvPr/>
        </p:nvSpPr>
        <p:spPr>
          <a:xfrm>
            <a:off x="3924360" y="3933720"/>
            <a:ext cx="48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6.Новая  разновидность  школьного  буллинга -  «кибербуллинг»  - жертва получает оскорбления на свой электронный адрес или через другие электронные устрой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"/>
          <p:cNvSpPr/>
          <p:nvPr/>
        </p:nvSpPr>
        <p:spPr>
          <a:xfrm>
            <a:off x="324000" y="-160920"/>
            <a:ext cx="8351640" cy="52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Буллинг  бывет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1.Горизонтальным</a:t>
            </a: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. Агрессор и жертва находятся  являются школьни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Calibri"/>
              </a:rPr>
              <a:t>Особняком идут случаи, когда мальчики травят девочек. Они очень распространен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Calibri"/>
              </a:rPr>
              <a:t>поскольку мальчики в два раза чаще, чем девочки, выступают в качестве агрессоров, а девочки как более слабы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Calibri"/>
              </a:rPr>
              <a:t>Количество агрессоров может быть неограниченным, нередко агрессорами становятся практически все одноклассники реб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2.</a:t>
            </a:r>
            <a:r>
              <a:rPr b="1" lang="ru-RU" sz="2000" spc="-1" strike="noStrike">
                <a:solidFill>
                  <a:srgbClr val="333333"/>
                </a:solidFill>
                <a:latin typeface="Calibri"/>
                <a:ea typeface="Calibri"/>
              </a:rPr>
              <a:t> Вертикальный.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Calibri"/>
              </a:rPr>
              <a:t> . В качестве жертвы или агрессора могут выступать учитель, директор, заву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Calibri"/>
              </a:rPr>
              <a:t>Учителя, травящие детей, </a:t>
            </a: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Calibri"/>
              </a:rPr>
              <a:t>—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Calibri"/>
              </a:rPr>
              <a:t> не редкость, и обычно они прибегают к психологическим методам воздейств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Calibri"/>
              </a:rPr>
              <a:t>которые не всегда можно заметить. Учитель может чаще вызывать определенных детей к доск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Calibri"/>
              </a:rPr>
              <a:t>а если они не смогут ответить на вопросы, начинает унижать прилюд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Calibri"/>
              </a:rPr>
              <a:t>Также ученики могут начать травлю учителя, который им не нрави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Calibri"/>
              </a:rPr>
              <a:t>Обычно в такой травле применяется только психологическое насил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"/>
          <p:cNvSpPr/>
          <p:nvPr/>
        </p:nvSpPr>
        <p:spPr>
          <a:xfrm>
            <a:off x="0" y="-468360"/>
            <a:ext cx="8532720" cy="80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3.Социальная  структура  буллин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Булли ( агрессор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1. дети, уверенные в том, что подчиняя,  гораздо легче будет добиваться своих ц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2. не  умеющие  сочувствовать своим жертв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3. физически  сильные  мальч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4. легко  возбудимые  и очень импульсивные, с агрессивным повед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Инициаторами травли также могут быть де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1. мечтающие   быть лидерами в класс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2. желающие быть в центре вним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3. с высоким уровнем притяз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4. уверенные   в своём превосходстве над жертв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5. дети, не признающие компромис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6. агрессивные дети, самоутверждающиеся  в жертв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7. интуитивно  чувствующие - какие одноклассники не окажут сопротивл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8. со слабым самоконтрол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Союзники» или «зрители»</a:t>
            </a: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 булли  чаще всего де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1. боящиеся быть на месте жертв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2. не желающие выделяться из толпы однокласс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  </a:t>
            </a: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3. дорожащие своими отношениями с лидер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  </a:t>
            </a: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4.  поддающиеся  влиянию   «сильных мира сего » в класс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  </a:t>
            </a: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5. не умеющие  сопереживать и сочувствовать други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Наиболее часто </a:t>
            </a:r>
            <a:r>
              <a:rPr b="1" i="1" lang="ru-RU" sz="3000" spc="-1" strike="noStrike" u="sng">
                <a:solidFill>
                  <a:srgbClr val="ff0000"/>
                </a:solidFill>
                <a:uFillTx/>
                <a:latin typeface="Times New Roman"/>
              </a:rPr>
              <a:t>жертвами </a:t>
            </a: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школьного буллинга становятся дети, имеющие: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719000"/>
            <a:ext cx="8229600" cy="48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физические недостатки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носящие очки, со сниженным слухом или с двигательными нарушениями (например, при ДЦП), то есть те, кто не может защитить себя, физически слабее своих ровесников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особенности поведения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замкнутые, чувствительные, застенчивые, тревожные дети или дети с импульсивным поведением, не уверены в себе, несчастны и имеют низкое самоуважение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особенности внешности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рыжие волосы веснушки, оттопыренные уши, кривые ноги, особая форма головы, вес тела (полнота или худоба) и т.д.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4" descr="d6bcb062e4374edfb1ad0cf06a2b"/>
          <p:cNvPicPr/>
          <p:nvPr/>
        </p:nvPicPr>
        <p:blipFill>
          <a:blip r:embed="rId1"/>
          <a:stretch/>
        </p:blipFill>
        <p:spPr>
          <a:xfrm>
            <a:off x="5940360" y="4941720"/>
            <a:ext cx="30243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3640" y="259920"/>
            <a:ext cx="7993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обенности детей, являющихся жертвами, поведение их вызывает раздражение у одноклассников и учителей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иперактивность  и  повышенная возбудимость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лохая успеваемость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ябеды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индром дефицита вниман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любимчики учителе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 трудом  усваивающие  чтение и письмо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иперопекаемые родителям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оображалы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хвастуны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«белые вороны» во внешности (например, заячья  губа, необычная форма ушей, сколиоз, шрамы, очки,  тики, косоглазие,…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3" descr="14684744-izgoy"/>
          <p:cNvPicPr/>
          <p:nvPr/>
        </p:nvPicPr>
        <p:blipFill>
          <a:blip r:embed="rId1"/>
          <a:stretch/>
        </p:blipFill>
        <p:spPr>
          <a:xfrm>
            <a:off x="6084720" y="2781360"/>
            <a:ext cx="25894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9:27:16Z</dcterms:created>
  <dc:creator>409-1-н</dc:creator>
  <dc:description/>
  <dc:language>en-US</dc:language>
  <cp:lastModifiedBy>1</cp:lastModifiedBy>
  <dcterms:modified xsi:type="dcterms:W3CDTF">2020-01-12T13:57:51Z</dcterms:modified>
  <cp:revision>92</cp:revision>
  <dc:subject/>
  <dc:title>Психологическая безопасность образовательной среды в ДОЛ</dc:title>
</cp:coreProperties>
</file>