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08D-5473-4F92-BB8B-7AF39B43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5422-CA77-4B7C-830C-E021B970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EEF-921E-4B23-89CE-97DF4071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B498-AA17-48A0-A0B2-6A6B002B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A48F-B68C-4ABB-8D81-11BE9631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E032-FE24-4CA1-995A-65FCAC3E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CC00-3953-4B16-A899-CF2D54A3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1BC3-3B36-47EE-A38E-81255B64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B07F-67A4-453E-8AF4-998246AA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7846-F068-4CB6-9836-86D000C4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F0A7-5C2A-42B5-A135-E5C017EE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DA9-0F60-4CA2-B518-9CF7762C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E318-9852-4A5B-843D-DFA1DFB4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082E-37DC-4833-8295-B0F33B24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65D8-ABD6-4815-9F9F-7510912F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3E85-CCCC-4877-936A-30F415D2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8345-00AE-455F-8C11-C4D2E079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51406-D4FB-4B52-809E-2F179723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DB1AE-7C8D-41D9-B473-7770E022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0793F-183D-41E3-ACEE-A0A68E4D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2AD04-C56D-4418-818E-7B5379E6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75B23-B784-43E7-8CBA-2D51C9FA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7FF-B24C-4A65-8850-C173FCCE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D7607-1BF0-45E0-8EB1-ECE41DBD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F571C-A1DC-40BC-A6F4-6438BEF2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EA3AE-7A6D-4696-A5C5-16A55C5E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1B0E-E26D-44CA-A627-68620423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DED51-549B-46D4-BF4B-5BB931FE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10705-6589-4364-99C9-56B70998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40DD5-688C-4A77-B015-06DE235A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8B2ED-0A96-490D-A24D-FF10108E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563C1-2D8A-4036-9F53-5B60133E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B6B24-3CB2-444B-9652-56F92E95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F05B-A052-423D-BB57-FC8BFA93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AEA83-1851-48B5-BDE1-F0AE0E87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BFA7A-C13D-4BC4-8411-47F30D0C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EBD05-D31D-4623-BF34-7A581048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F121F-BBE3-4166-AB22-A3B81A57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51380-ECE5-484A-B73A-6924C825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3441D-90FE-49F2-89F7-579A7DD9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759B8-FC19-40DD-B1E7-A1D1A267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79FB6-BC50-4EDC-A9DB-365ECB32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4697D-6B2D-465B-A6B0-5631280E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D6F68-8FDB-4168-BA78-8596C8DE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1B6-03C8-47DF-848E-844A992D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0CF33-F1E2-4CE0-953C-A88E10A9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2E209-3F50-4B16-B16E-9F885E0D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6EC70-6C18-4AED-9EC1-A457DFC1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2C4CC-B4E7-4EAB-946B-B023A590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9B890-2314-4C0B-A74D-02ED4619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1D9B3-EF6F-4FDD-9FA5-B49E82C7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71ECA-7199-4D01-90C9-6DD919DF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264FB-5FD0-4AAC-8B20-72C5350F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CCBA3-D9F9-444C-9407-8D3F94A2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6FB4E-F40B-410B-A664-4C23B0E3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CFA-9049-4920-ABB3-BBADEAA8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7AD53-AB8B-47F1-AA39-8E6485A7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EEDAA-82EF-4BE7-8DC4-1579D3A3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8F412-826A-4506-BF0F-4207787B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9D894-EDFC-40A5-A1EC-4502140A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2420C-AEE6-4D73-891C-0DAF1686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0A157-C9F4-4218-ABE7-CEDE849D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72A2A-50E8-4636-91AD-5934D0A2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482D7-A2CD-423E-A724-440221A9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CCBF0-9650-4F12-85E3-98D55CD2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685A8-4EC8-4877-A93E-814EBB34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CFB7-B5F5-4DC8-94D3-13C1E9BC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EF7DF-3D1F-447D-9164-732C86E3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403FB-3F5F-4BDA-9C07-B448AB03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0C1EC-0610-4DD4-932B-53920D6B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3BA8-873A-48FA-B43D-44F9D71D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67F-FBF5-4023-9B79-8282DF95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DE1E-EDF1-43F0-A684-4096F1F3BC8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E7B9-3CED-43A1-9761-A372C3547F5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DDAD-2DDC-4022-BC19-9C2D69E8BA9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9385-C6C8-415D-B987-EDC95413884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9D62-F756-46A5-AC7E-C93912D9118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6A96-4659-4343-A43E-2FDB3F1D645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GCRR-Den-Narodn-Edins"/>
          <p:cNvPicPr/>
          <p:nvPr/>
        </p:nvPicPr>
        <p:blipFill>
          <a:blip r:embed="rId1"/>
          <a:stretch/>
        </p:blipFill>
        <p:spPr>
          <a:xfrm>
            <a:off x="1828800" y="304920"/>
            <a:ext cx="5348160" cy="6400800"/>
          </a:xfrm>
          <a:prstGeom prst="rect">
            <a:avLst/>
          </a:prstGeom>
          <a:ln w="0">
            <a:noFill/>
          </a:ln>
        </p:spPr>
      </p:pic>
      <p:pic>
        <p:nvPicPr>
          <p:cNvPr id="266" name="r_4.wav" descr=""/>
          <p:cNvPicPr/>
          <p:nvPr/>
        </p:nvPicPr>
        <p:blipFill>
          <a:blip r:embed="rId2"/>
          <a:stretch/>
        </p:blipFill>
        <p:spPr>
          <a:xfrm>
            <a:off x="6629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176585-1"/>
          <p:cNvPicPr/>
          <p:nvPr/>
        </p:nvPicPr>
        <p:blipFill>
          <a:blip r:embed="rId2"/>
          <a:stretch/>
        </p:blipFill>
        <p:spPr>
          <a:xfrm>
            <a:off x="457200" y="304920"/>
            <a:ext cx="4229280" cy="5486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Минин и Пожарский"/>
          <p:cNvPicPr/>
          <p:nvPr/>
        </p:nvPicPr>
        <p:blipFill>
          <a:blip r:embed="rId3"/>
          <a:stretch/>
        </p:blipFill>
        <p:spPr>
          <a:xfrm>
            <a:off x="4876920" y="304920"/>
            <a:ext cx="3676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6477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8d3e"/>
                </a:solidFill>
                <a:latin typeface="Verdana"/>
              </a:rPr>
              <a:t>Наши дни</a:t>
            </a:r>
            <a:endParaRPr b="1" lang="en-US" sz="8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post-3438-1134244639"/>
          <p:cNvPicPr/>
          <p:nvPr/>
        </p:nvPicPr>
        <p:blipFill>
          <a:blip r:embed="rId1"/>
          <a:stretch/>
        </p:blipFill>
        <p:spPr>
          <a:xfrm>
            <a:off x="2971800" y="1752480"/>
            <a:ext cx="3314880" cy="441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1-1"/>
          <p:cNvPicPr/>
          <p:nvPr/>
        </p:nvPicPr>
        <p:blipFill>
          <a:blip r:embed="rId2"/>
          <a:stretch/>
        </p:blipFill>
        <p:spPr>
          <a:xfrm>
            <a:off x="5334120" y="3049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thumb_1690"/>
          <p:cNvPicPr/>
          <p:nvPr/>
        </p:nvPicPr>
        <p:blipFill>
          <a:blip r:embed="rId3"/>
          <a:stretch/>
        </p:blipFill>
        <p:spPr>
          <a:xfrm>
            <a:off x="304920" y="30492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заставка"/>
          <p:cNvPicPr/>
          <p:nvPr/>
        </p:nvPicPr>
        <p:blipFill>
          <a:blip r:embed="rId2"/>
          <a:stretch/>
        </p:blipFill>
        <p:spPr>
          <a:xfrm>
            <a:off x="1295280" y="62856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Что такое 4 Ноября? 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 ноябр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– это день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единства всех российских народ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 ноябр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– это день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пасения Росси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от самой большой опасности, которая когда-либо ей грозил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 ноябр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– это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возрожденный праздник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о своей историей, а не просто замена 7 ноября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4 ноябр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– это день 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еальных дел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а не сомнительных марше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2200"/>
            </a:br>
            <a:br>
              <a:rPr sz="9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0" name="Picture 5" descr="открытка"/>
          <p:cNvPicPr/>
          <p:nvPr/>
        </p:nvPicPr>
        <p:blipFill>
          <a:blip r:embed="rId1"/>
          <a:stretch/>
        </p:blipFill>
        <p:spPr>
          <a:xfrm>
            <a:off x="1066680" y="609480"/>
            <a:ext cx="6705720" cy="5448600"/>
          </a:xfrm>
          <a:prstGeom prst="rect">
            <a:avLst/>
          </a:prstGeom>
          <a:ln w="0">
            <a:noFill/>
          </a:ln>
        </p:spPr>
      </p:pic>
      <p:pic>
        <p:nvPicPr>
          <p:cNvPr id="301" name="r_4.wav" descr=""/>
          <p:cNvPicPr/>
          <p:nvPr/>
        </p:nvPicPr>
        <p:blipFill>
          <a:blip r:embed="rId2"/>
          <a:stretch/>
        </p:blipFill>
        <p:spPr>
          <a:xfrm>
            <a:off x="72388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37916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2438280"/>
            <a:ext cx="6934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8d3e"/>
                </a:solidFill>
                <a:latin typeface="Verdana"/>
              </a:rPr>
              <a:t>… </a:t>
            </a:r>
            <a:r>
              <a:rPr b="1" lang="ru-RU" sz="5900" spc="-1" strike="noStrike">
                <a:solidFill>
                  <a:srgbClr val="ff8d3e"/>
                </a:solidFill>
                <a:latin typeface="Verdana"/>
              </a:rPr>
              <a:t>Из </a:t>
            </a:r>
            <a:r>
              <a:rPr b="1" lang="ru-RU" sz="7900" spc="-1" strike="noStrike">
                <a:solidFill>
                  <a:srgbClr val="ff8d3e"/>
                </a:solidFill>
                <a:latin typeface="Verdana"/>
              </a:rPr>
              <a:t>истории</a:t>
            </a:r>
            <a:endParaRPr b="1" lang="en-US" sz="79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Map15_3"/>
          <p:cNvPicPr/>
          <p:nvPr/>
        </p:nvPicPr>
        <p:blipFill>
          <a:blip r:embed="rId2"/>
          <a:srcRect l="0" t="0" r="0" b="-5909"/>
          <a:stretch/>
        </p:blipFill>
        <p:spPr>
          <a:xfrm>
            <a:off x="457200" y="304920"/>
            <a:ext cx="815976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15043"/>
          <p:cNvPicPr/>
          <p:nvPr/>
        </p:nvPicPr>
        <p:blipFill>
          <a:blip r:embed="rId1"/>
          <a:stretch/>
        </p:blipFill>
        <p:spPr>
          <a:xfrm>
            <a:off x="1143000" y="685800"/>
            <a:ext cx="7124760" cy="5245200"/>
          </a:xfrm>
          <a:prstGeom prst="rect">
            <a:avLst/>
          </a:prstGeom>
          <a:ln w="0">
            <a:noFill/>
          </a:ln>
        </p:spPr>
      </p:pic>
      <p:pic>
        <p:nvPicPr>
          <p:cNvPr id="272" name="main.wav" descr=""/>
          <p:cNvPicPr/>
          <p:nvPr/>
        </p:nvPicPr>
        <p:blipFill>
          <a:blip r:embed="rId2"/>
          <a:stretch/>
        </p:blipFill>
        <p:spPr>
          <a:xfrm>
            <a:off x="4419720" y="3052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69420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минин"/>
          <p:cNvPicPr/>
          <p:nvPr/>
        </p:nvPicPr>
        <p:blipFill>
          <a:blip r:embed="rId2"/>
          <a:stretch/>
        </p:blipFill>
        <p:spPr>
          <a:xfrm>
            <a:off x="990720" y="106668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кона Пресвятой Богородицы Казанской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6" name="Picture 7" descr="image028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95480" y="1752480"/>
            <a:ext cx="34927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00400" y="2130120"/>
            <a:ext cx="5943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8d3e"/>
                </a:solidFill>
                <a:latin typeface="Verdana"/>
              </a:rPr>
              <a:t>История установления</a:t>
            </a:r>
            <a:br>
              <a:rPr sz="6500"/>
            </a:br>
            <a:r>
              <a:rPr b="1" lang="ru-RU" sz="6500" spc="-1" strike="noStrike">
                <a:solidFill>
                  <a:srgbClr val="ff8d3e"/>
                </a:solidFill>
                <a:latin typeface="Verdana"/>
              </a:rPr>
              <a:t>праздника</a:t>
            </a:r>
            <a:endParaRPr b="1" lang="en-US" sz="65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gaz10_2005_p_1_tab_bg"/>
          <p:cNvPicPr/>
          <p:nvPr/>
        </p:nvPicPr>
        <p:blipFill>
          <a:blip r:embed="rId1"/>
          <a:stretch/>
        </p:blipFill>
        <p:spPr>
          <a:xfrm>
            <a:off x="457200" y="3276720"/>
            <a:ext cx="4029120" cy="3419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img53"/>
          <p:cNvPicPr/>
          <p:nvPr/>
        </p:nvPicPr>
        <p:blipFill>
          <a:blip r:embed="rId2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4" descr="icon"/>
          <p:cNvPicPr/>
          <p:nvPr/>
        </p:nvPicPr>
        <p:blipFill>
          <a:blip r:embed="rId3"/>
          <a:stretch/>
        </p:blipFill>
        <p:spPr>
          <a:xfrm>
            <a:off x="152280" y="304920"/>
            <a:ext cx="4572000" cy="2993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7" descr="image028"/>
          <p:cNvPicPr/>
          <p:nvPr/>
        </p:nvPicPr>
        <p:blipFill>
          <a:blip r:embed="rId4"/>
          <a:stretch/>
        </p:blipFill>
        <p:spPr>
          <a:xfrm>
            <a:off x="6324480" y="609480"/>
            <a:ext cx="18478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2900"/>
          <p:cNvPicPr/>
          <p:nvPr/>
        </p:nvPicPr>
        <p:blipFill>
          <a:blip r:embed="rId2"/>
          <a:stretch/>
        </p:blipFill>
        <p:spPr>
          <a:xfrm>
            <a:off x="1143000" y="609480"/>
            <a:ext cx="70866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09:44:49Z</dcterms:created>
  <dc:creator>Саша</dc:creator>
  <dc:description/>
  <dc:language>en-US</dc:language>
  <cp:lastModifiedBy>Пользователь</cp:lastModifiedBy>
  <dcterms:modified xsi:type="dcterms:W3CDTF">2020-11-05T09:19:51Z</dcterms:modified>
  <cp:revision>18</cp:revision>
  <dc:subject/>
  <dc:title>Слайд 1</dc:title>
</cp:coreProperties>
</file>