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4498-139E-4B85-B0A1-B61A174D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276F-4B07-44CA-9AE9-C04F4066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54F4-18CA-4C52-91AB-215AF5D6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8D7-3096-4B9D-9A36-1BE1C5F7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7326-111E-4D05-86DC-1317A5AE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4778-FC1E-41D9-BE1C-980D80EA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E754-D6C5-483B-947C-DAABFBEA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6515-649F-4E5E-87F2-9713163A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B561-0768-4190-899F-A381C3DF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0058-2C51-46B7-A176-46897CDD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6FCD-49C7-4742-81F9-6F8E7CAB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200-61B3-4E96-B838-D776B0A2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08CD-53AB-4C86-B8C6-9B5F2098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0E4A-993F-433C-9EE5-28820B8E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C426-CE00-4CE2-82C2-66068B44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97BA-5B91-4AF3-90D6-48DB931A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EECA-29DC-4E2E-AFA9-33D77C88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3D621-7E68-450D-95FA-FD10B225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05CD6-F8CA-451B-9A23-19A614E7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BA30E-A73F-4596-92C4-5A23836D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855AA-8189-4078-80EB-0AFE0037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CD66B-9CF3-4A7C-B3F2-B5356BBF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5757-A3B3-4A1E-BC3A-41542649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66B7C-C30E-499E-AB80-22A365DE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0ED7F-D3CA-4C31-9CE8-49BA9CA8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F3D8B-D994-4037-90BC-468B174F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55EB1-6387-4846-84D3-E0D46DE4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5774D-34B5-4BF2-A9A3-F6FDCBAB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C3560-DBDD-4D45-9DB8-DCC65CA7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76363-7CA4-4B2A-89D5-5EFB0482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94386-48E0-4D40-8427-AC77A4BF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84B96-ED14-4F8F-A45C-A0B62791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04A99-E1A2-4C7A-A0A3-08C2779C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E929-C428-4FC7-9091-6F7DAF3E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7FB15-DE88-46AE-8B8B-2CD722A8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C59ED-BB61-42B9-8754-C9D72BAB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0231B-C0B4-48CC-80AF-D9E861A4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6FDD7-2863-446D-9FE0-B049019B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4EBCB-0361-40C3-9DE0-60B5DD82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C372D-B228-4CA5-8DAB-1D134ED9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AF3E2-B5E4-4837-9100-43159AF5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1A322-26F2-431A-82DF-48C3B6D9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41B33-DB86-4414-AD17-9845120D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19656-D501-4385-AB6D-58F03731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199-E55F-486B-BDA4-C140F1DA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87A27-192D-4FB9-9256-93B977C0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E0DEF-99EE-4EDF-A93C-62C04936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A184C-124A-44B2-8895-4ADAAFF2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11C62-5E93-4F94-A4C2-688C1DC9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9C497-45BA-43AA-A2BC-83AF8A12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6FD7D-521F-40A7-B6D5-7D166497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C958E-8041-481A-BE3E-6A51342E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2B3A7-5448-4B67-B851-FE8102A3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B0F86-99D6-4B54-A4FF-24F57748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77D65-D6C1-45DD-AD11-7FDA52B5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F22D-1BB6-4CF6-8719-5D58FEB6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14CC7-734E-47FB-8A0A-49E229F7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46275-7BCB-4F73-8884-EC30AF15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93E20-B52C-484B-8B6A-302C91F6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0D0CB-9214-4993-A520-A08585C0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5A74E-124F-4FCF-AB81-ACB7DC4D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6C240-82DC-45C3-B339-07623857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BD996-E197-4745-A2A0-FD7E01A8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DE448-7839-4953-A8FB-E76F0686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D42E6-DAF5-468C-9B60-669BA4CC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30FD0-4306-440A-9417-445AC042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41E-1BA0-48A8-8636-22CCDC0D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28D71-6595-4782-B600-63400FCB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38A77-0543-4362-AAAC-379C43FC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35967-CBB8-4312-8EA3-B9C2AD88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0910-59DD-451B-96EB-C680C0DF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46D2-2D02-4E1A-9ECD-E9039F8B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9C27-E7EC-4827-8E96-DC8115FB2BB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FD5E-5B22-4167-BEEA-4C660FD835F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6B73-4292-4584-B0F5-50DC4AEE0DA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828F-2A53-4428-A878-8094F559114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6E8D-0375-4720-8789-A30AB775E05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A2EA-71D2-456B-A485-3001F57CF4A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GCRR-Den-Narodn-Edins"/>
          <p:cNvPicPr/>
          <p:nvPr/>
        </p:nvPicPr>
        <p:blipFill>
          <a:blip r:embed="rId1"/>
          <a:stretch/>
        </p:blipFill>
        <p:spPr>
          <a:xfrm>
            <a:off x="1828800" y="304920"/>
            <a:ext cx="5348160" cy="6400800"/>
          </a:xfrm>
          <a:prstGeom prst="rect">
            <a:avLst/>
          </a:prstGeom>
          <a:ln w="0">
            <a:noFill/>
          </a:ln>
        </p:spPr>
      </p:pic>
      <p:pic>
        <p:nvPicPr>
          <p:cNvPr id="266" name="r_4.wav" descr=""/>
          <p:cNvPicPr/>
          <p:nvPr/>
        </p:nvPicPr>
        <p:blipFill>
          <a:blip r:embed="rId2"/>
          <a:stretch/>
        </p:blipFill>
        <p:spPr>
          <a:xfrm>
            <a:off x="6629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176585-1"/>
          <p:cNvPicPr/>
          <p:nvPr/>
        </p:nvPicPr>
        <p:blipFill>
          <a:blip r:embed="rId2"/>
          <a:stretch/>
        </p:blipFill>
        <p:spPr>
          <a:xfrm>
            <a:off x="457200" y="304920"/>
            <a:ext cx="4229280" cy="5486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Минин и Пожарский"/>
          <p:cNvPicPr/>
          <p:nvPr/>
        </p:nvPicPr>
        <p:blipFill>
          <a:blip r:embed="rId3"/>
          <a:stretch/>
        </p:blipFill>
        <p:spPr>
          <a:xfrm>
            <a:off x="4876920" y="304920"/>
            <a:ext cx="3676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6477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8d3e"/>
                </a:solidFill>
                <a:latin typeface="Verdana"/>
              </a:rPr>
              <a:t>Наши дни</a:t>
            </a:r>
            <a:endParaRPr b="1" lang="en-US" sz="8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post-3438-1134244639"/>
          <p:cNvPicPr/>
          <p:nvPr/>
        </p:nvPicPr>
        <p:blipFill>
          <a:blip r:embed="rId1"/>
          <a:stretch/>
        </p:blipFill>
        <p:spPr>
          <a:xfrm>
            <a:off x="2971800" y="1752480"/>
            <a:ext cx="3314880" cy="441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1-1"/>
          <p:cNvPicPr/>
          <p:nvPr/>
        </p:nvPicPr>
        <p:blipFill>
          <a:blip r:embed="rId2"/>
          <a:stretch/>
        </p:blipFill>
        <p:spPr>
          <a:xfrm>
            <a:off x="5334120" y="3049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thumb_1690"/>
          <p:cNvPicPr/>
          <p:nvPr/>
        </p:nvPicPr>
        <p:blipFill>
          <a:blip r:embed="rId3"/>
          <a:stretch/>
        </p:blipFill>
        <p:spPr>
          <a:xfrm>
            <a:off x="304920" y="30492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заставка"/>
          <p:cNvPicPr/>
          <p:nvPr/>
        </p:nvPicPr>
        <p:blipFill>
          <a:blip r:embed="rId2"/>
          <a:stretch/>
        </p:blipFill>
        <p:spPr>
          <a:xfrm>
            <a:off x="1295280" y="62856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Что такое 4 Ноября? 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4 ноябр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– это день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единства всех российских народ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4 ноябр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– это день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пасения Росси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от самой большой опасности, которая когда-либо ей грозил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4 ноябр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– это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возрожденный праздник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о своей историей, а не просто замена 7 ноября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4 ноябр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– это день 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еальных дел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а не сомнительных марше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2200"/>
            </a:br>
            <a:br>
              <a:rPr sz="9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0" name="Picture 5" descr="открытка"/>
          <p:cNvPicPr/>
          <p:nvPr/>
        </p:nvPicPr>
        <p:blipFill>
          <a:blip r:embed="rId1"/>
          <a:stretch/>
        </p:blipFill>
        <p:spPr>
          <a:xfrm>
            <a:off x="1066680" y="609480"/>
            <a:ext cx="6705720" cy="5448600"/>
          </a:xfrm>
          <a:prstGeom prst="rect">
            <a:avLst/>
          </a:prstGeom>
          <a:ln w="0">
            <a:noFill/>
          </a:ln>
        </p:spPr>
      </p:pic>
      <p:pic>
        <p:nvPicPr>
          <p:cNvPr id="301" name="r_4.wav" descr=""/>
          <p:cNvPicPr/>
          <p:nvPr/>
        </p:nvPicPr>
        <p:blipFill>
          <a:blip r:embed="rId2"/>
          <a:stretch/>
        </p:blipFill>
        <p:spPr>
          <a:xfrm>
            <a:off x="72388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20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37916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2438280"/>
            <a:ext cx="6934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8d3e"/>
                </a:solidFill>
                <a:latin typeface="Verdana"/>
              </a:rPr>
              <a:t>… </a:t>
            </a:r>
            <a:r>
              <a:rPr b="1" lang="ru-RU" sz="5900" spc="-1" strike="noStrike">
                <a:solidFill>
                  <a:srgbClr val="ff8d3e"/>
                </a:solidFill>
                <a:latin typeface="Verdana"/>
              </a:rPr>
              <a:t>Из </a:t>
            </a:r>
            <a:r>
              <a:rPr b="1" lang="ru-RU" sz="7900" spc="-1" strike="noStrike">
                <a:solidFill>
                  <a:srgbClr val="ff8d3e"/>
                </a:solidFill>
                <a:latin typeface="Verdana"/>
              </a:rPr>
              <a:t>истории</a:t>
            </a:r>
            <a:endParaRPr b="1" lang="en-US" sz="79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Map15_3"/>
          <p:cNvPicPr/>
          <p:nvPr/>
        </p:nvPicPr>
        <p:blipFill>
          <a:blip r:embed="rId2"/>
          <a:srcRect l="0" t="0" r="0" b="-5909"/>
          <a:stretch/>
        </p:blipFill>
        <p:spPr>
          <a:xfrm>
            <a:off x="457200" y="304920"/>
            <a:ext cx="815976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15043"/>
          <p:cNvPicPr/>
          <p:nvPr/>
        </p:nvPicPr>
        <p:blipFill>
          <a:blip r:embed="rId1"/>
          <a:stretch/>
        </p:blipFill>
        <p:spPr>
          <a:xfrm>
            <a:off x="1143000" y="685800"/>
            <a:ext cx="7124760" cy="5245200"/>
          </a:xfrm>
          <a:prstGeom prst="rect">
            <a:avLst/>
          </a:prstGeom>
          <a:ln w="0">
            <a:noFill/>
          </a:ln>
        </p:spPr>
      </p:pic>
      <p:pic>
        <p:nvPicPr>
          <p:cNvPr id="272" name="main.wav" descr=""/>
          <p:cNvPicPr/>
          <p:nvPr/>
        </p:nvPicPr>
        <p:blipFill>
          <a:blip r:embed="rId2"/>
          <a:stretch/>
        </p:blipFill>
        <p:spPr>
          <a:xfrm>
            <a:off x="4419720" y="3052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69420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минин"/>
          <p:cNvPicPr/>
          <p:nvPr/>
        </p:nvPicPr>
        <p:blipFill>
          <a:blip r:embed="rId2"/>
          <a:stretch/>
        </p:blipFill>
        <p:spPr>
          <a:xfrm>
            <a:off x="990720" y="106668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кона Пресвятой Богородицы Казанской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6" name="Picture 7" descr="image028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895480" y="1752480"/>
            <a:ext cx="34927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00400" y="2130120"/>
            <a:ext cx="5943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8d3e"/>
                </a:solidFill>
                <a:latin typeface="Verdana"/>
              </a:rPr>
              <a:t>История установления</a:t>
            </a:r>
            <a:br>
              <a:rPr sz="6500"/>
            </a:br>
            <a:r>
              <a:rPr b="1" lang="ru-RU" sz="6500" spc="-1" strike="noStrike">
                <a:solidFill>
                  <a:srgbClr val="ff8d3e"/>
                </a:solidFill>
                <a:latin typeface="Verdana"/>
              </a:rPr>
              <a:t>праздника</a:t>
            </a:r>
            <a:endParaRPr b="1" lang="en-US" sz="65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gaz10_2005_p_1_tab_bg"/>
          <p:cNvPicPr/>
          <p:nvPr/>
        </p:nvPicPr>
        <p:blipFill>
          <a:blip r:embed="rId1"/>
          <a:stretch/>
        </p:blipFill>
        <p:spPr>
          <a:xfrm>
            <a:off x="457200" y="3276720"/>
            <a:ext cx="4029120" cy="3419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img53"/>
          <p:cNvPicPr/>
          <p:nvPr/>
        </p:nvPicPr>
        <p:blipFill>
          <a:blip r:embed="rId2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4" descr="icon"/>
          <p:cNvPicPr/>
          <p:nvPr/>
        </p:nvPicPr>
        <p:blipFill>
          <a:blip r:embed="rId3"/>
          <a:stretch/>
        </p:blipFill>
        <p:spPr>
          <a:xfrm>
            <a:off x="152280" y="304920"/>
            <a:ext cx="4572000" cy="2993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7" descr="image028"/>
          <p:cNvPicPr/>
          <p:nvPr/>
        </p:nvPicPr>
        <p:blipFill>
          <a:blip r:embed="rId4"/>
          <a:stretch/>
        </p:blipFill>
        <p:spPr>
          <a:xfrm>
            <a:off x="6324480" y="609480"/>
            <a:ext cx="18478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2900"/>
          <p:cNvPicPr/>
          <p:nvPr/>
        </p:nvPicPr>
        <p:blipFill>
          <a:blip r:embed="rId2"/>
          <a:stretch/>
        </p:blipFill>
        <p:spPr>
          <a:xfrm>
            <a:off x="1143000" y="609480"/>
            <a:ext cx="70866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09:44:49Z</dcterms:created>
  <dc:creator>Саша</dc:creator>
  <dc:description/>
  <dc:language>en-US</dc:language>
  <cp:lastModifiedBy>Пользователь</cp:lastModifiedBy>
  <dcterms:modified xsi:type="dcterms:W3CDTF">2020-11-05T09:19:51Z</dcterms:modified>
  <cp:revision>18</cp:revision>
  <dc:subject/>
  <dc:title>Слайд 1</dc:title>
</cp:coreProperties>
</file>