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08B-E24A-45A8-80AE-16A4F936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B20-B171-4F86-9218-1FAB3EBB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F37-1AA5-4445-B1A7-2420A9C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FA0-7DB7-461A-8B13-D0C6CDDF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9108-4753-4E8E-B6ED-E0E3064F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8DD7-7C28-449E-BC86-B5B9A033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A066-605B-4942-BA03-3F6F0220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3624-F7D9-4794-84CA-6B2B9EC8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3474-0B68-44E7-A228-BF2416C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DBC-D945-4275-9FE0-7EE96189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EBDE-8B46-4945-BF3D-7376DD0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880-F7F2-488A-B292-7412506B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E10E-2703-4507-A0B8-97EA48D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0B0A-6D97-4E41-9037-26BBCE0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4225-E274-43CA-855B-7273C0E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962-09F4-4697-AE98-AF1BC043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F70F-A2B5-4066-A7AE-8EB55797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3C77-953B-449A-80EA-100AF33E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2F4D-6B07-4E80-A267-F620603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E77C-9246-43C3-9362-E4D1B2D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27F5-6A3F-4D80-B520-20E4E0D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E48C-4752-4EDD-A132-2D5D189D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6644-1300-440F-8A9B-C5C3A8A2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E346-E92D-40CB-BEDE-A792BC1A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070A-0211-4943-81BD-699EA3B0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EE93-A39D-4BAD-939A-6B8D821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28BB9-7273-4125-9509-D965539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7D38-C93F-4846-86D8-34CE2A93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BDE76-DDA5-4445-9CD8-C950A8FA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3047-F56C-481A-9BF2-EC13F843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8617-B4BD-479B-B03B-4B8225A2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B02B-3F78-4581-B1E0-9F03C405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043E8-E99B-4D67-850A-42CB73B1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414-8E38-4765-9A9A-91EF3F89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1880-28E7-4AB2-A7AE-1935135D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2691-959B-4AD0-B4F4-FE08A8B4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9802-A682-4245-A261-D2780E94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536E-96A2-47B9-BEA2-090D592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2C70-15D3-4081-886D-AA780A24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A6AF-B7BE-47DB-A8A4-8EE5F6EF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C9AA-6291-47B6-B81E-26FA1D15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9D2D-16C6-4DE7-A314-6EA7CDA6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2706-B7A3-476B-93D0-296A6A02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37C-84AC-4B06-B619-C45D3BA8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78A-B029-4CBE-9B40-D6A0CB9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C48-7787-4FD2-B064-B07A42D6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5CD-9BFC-4DBB-B627-C42EA01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E80-58C7-4BE7-B915-E8C2097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7A99-28C8-40D4-9A79-2EC6FA1A1B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360" y="-1440"/>
            <a:ext cx="12192480" cy="6859440"/>
            <a:chOff x="-360" y="-1440"/>
            <a:chExt cx="12192480" cy="685944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6480"/>
              <a:ext cx="842760" cy="56606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4BA-6DFA-4E6D-ADEB-5B70B2DCBAC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7A5-DDA0-4AA7-96B1-4EC8140C59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-1440"/>
            <a:ext cx="12192120" cy="6859440"/>
            <a:chOff x="0" y="-1440"/>
            <a:chExt cx="12192120" cy="685944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6480"/>
              <a:ext cx="1218960" cy="68515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4600"/>
              <a:ext cx="4764240" cy="31734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1440"/>
              <a:ext cx="3006720" cy="685944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1440"/>
              <a:ext cx="2589120" cy="685944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51720"/>
              <a:ext cx="3259080" cy="38062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1440"/>
              <a:ext cx="2854080" cy="685944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1440"/>
              <a:ext cx="1290600" cy="685944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1440"/>
              <a:ext cx="1249200" cy="685944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92440"/>
              <a:ext cx="1817640" cy="326556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5800"/>
              <a:ext cx="449280" cy="284220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5EB4-8DE6-430B-B3C7-096A9207F1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91440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</a:rPr>
              <a:t>             </a:t>
            </a:r>
            <a:r>
              <a:rPr b="0" lang="en-US" sz="5400" spc="-1" strike="noStrike">
                <a:solidFill>
                  <a:srgbClr val="3f7819"/>
                </a:solidFill>
                <a:latin typeface="Trebuchet MS"/>
              </a:rPr>
              <a:t>Кризис 3-х лет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Рисунок 4" descr=""/>
          <p:cNvPicPr/>
          <p:nvPr/>
        </p:nvPicPr>
        <p:blipFill>
          <a:blip r:embed="rId2"/>
          <a:stretch/>
        </p:blipFill>
        <p:spPr>
          <a:xfrm>
            <a:off x="798480" y="384120"/>
            <a:ext cx="2548080" cy="263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5467320" y="2341440"/>
            <a:ext cx="3524400" cy="69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76280" y="65160"/>
            <a:ext cx="771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Причины кризиса: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 -ребёнок начинает осознавать себя самостоятельной</a:t>
            </a: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 личностью  и проявлять собственную волю</a:t>
            </a:r>
            <a:br>
              <a:rPr sz="2200"/>
            </a:br>
            <a:r>
              <a:rPr b="0" lang="en-US" sz="2200" spc="-1" strike="noStrike">
                <a:solidFill>
                  <a:srgbClr val="002060"/>
                </a:solidFill>
                <a:latin typeface="Trebuchet MS"/>
              </a:rPr>
              <a:t>- биологическая перестройка организма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30520" y="2173320"/>
            <a:ext cx="51818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i="1" lang="en-US" sz="2200" spc="-1" strike="noStrike">
                <a:solidFill>
                  <a:srgbClr val="404040"/>
                </a:solidFill>
                <a:latin typeface="Trebuchet MS"/>
              </a:rPr>
              <a:t>в результате этого наблюдаетс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Схема 16" descr=""/>
          <p:cNvPicPr/>
          <p:nvPr/>
        </p:nvPicPr>
        <p:blipFill>
          <a:blip r:embed="rId2"/>
          <a:stretch/>
        </p:blipFill>
        <p:spPr>
          <a:xfrm>
            <a:off x="1633680" y="2682720"/>
            <a:ext cx="8826480" cy="35229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3" descr=""/>
          <p:cNvPicPr/>
          <p:nvPr/>
        </p:nvPicPr>
        <p:blipFill>
          <a:blip r:embed="rId3"/>
          <a:stretch/>
        </p:blipFill>
        <p:spPr>
          <a:xfrm>
            <a:off x="324000" y="158760"/>
            <a:ext cx="1828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0680" y="320760"/>
            <a:ext cx="1954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1" name="Схема 2" descr=""/>
          <p:cNvPicPr/>
          <p:nvPr/>
        </p:nvPicPr>
        <p:blipFill>
          <a:blip r:embed="rId2"/>
          <a:stretch/>
        </p:blipFill>
        <p:spPr>
          <a:xfrm>
            <a:off x="219240" y="401760"/>
            <a:ext cx="11386800" cy="645624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"/>
          <p:cNvPicPr/>
          <p:nvPr/>
        </p:nvPicPr>
        <p:blipFill>
          <a:blip r:embed="rId3"/>
          <a:stretch/>
        </p:blipFill>
        <p:spPr>
          <a:xfrm>
            <a:off x="195120" y="219240"/>
            <a:ext cx="217512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7819"/>
                </a:solidFill>
                <a:latin typeface="Trebuchet MS"/>
              </a:rPr>
              <a:t>Как вести себя родителям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8960" y="2161800"/>
            <a:ext cx="85964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Создать приятные перспективы - иногда это помогает успокоить. Например, мама говорит: «Ваня, ты раскричался, потому что очень хотел посмотреть мультик. Но сейчас мы пойдем покупать хлеб и по пути купим фломастеры - будем рисовать»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Наконец малыш успокоился. Заодно понял, что метод не работает. Не критикуйте его: «Чего ты орал, мне стыдно, на тебя люди смотрят…». Лучше скажите с горечью: «Мне жаль, что ты не сдержался…» или «Я так сердита, мне прямо кричать хочется!». Такие фразы учат ребенка выражать свои эмоции. Позже он тоже будет говорить примерно так: «Мне обидно, что ты не заметила моих стараний!». И самому легче, когда проговоришь чувства, и другим понятно, каковы причины вспышки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Рисунок 3" descr=""/>
          <p:cNvPicPr/>
          <p:nvPr/>
        </p:nvPicPr>
        <p:blipFill>
          <a:blip r:embed="rId2"/>
          <a:stretch/>
        </p:blipFill>
        <p:spPr>
          <a:xfrm>
            <a:off x="7281720" y="55440"/>
            <a:ext cx="3019680" cy="2105280"/>
          </a:xfrm>
          <a:prstGeom prst="rect">
            <a:avLst/>
          </a:prstGeom>
          <a:ln w="0">
            <a:noFill/>
          </a:ln>
        </p:spPr>
      </p:pic>
      <p:sp>
        <p:nvSpPr>
          <p:cNvPr id="236" name="Объект 2"/>
          <p:cNvSpPr/>
          <p:nvPr/>
        </p:nvSpPr>
        <p:spPr>
          <a:xfrm>
            <a:off x="728640" y="4262400"/>
            <a:ext cx="85964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rebuchet MS"/>
              </a:rPr>
              <a:t>На ультимативное требование говорим твердое и жесткое «Нет!». И отворачиваемся. Главное, сохранить внешние спокойствие и бесстрастность - как бы тяжело это ни давалось. Малыш кричит, падает на пол, стучит ногами, прохожие смотрят осуждающе… Придется терпеть. Пойдешь на поводу - и истерика станет у ребенка привычным инструментом достижения цели в общении с родителями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rebuchet MS"/>
              </a:rPr>
              <a:t>Если маленький строптивец демонстративно упал в лужу или на проезжую часть, берем в охапку, переносим в безопасное местечко и кладем как взяли - пусть там покричит. Увы, увещевания в такой момент могут не помочь - придется просто подождать, когда буря минует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7819"/>
                </a:solidFill>
                <a:latin typeface="Trebuchet MS"/>
              </a:rPr>
              <a:t>Как себя вести, чтобы победителями вышли все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Пятиугольник 7"/>
          <p:cNvSpPr/>
          <p:nvPr/>
        </p:nvSpPr>
        <p:spPr>
          <a:xfrm>
            <a:off x="698400" y="1725480"/>
            <a:ext cx="8247240" cy="1473480"/>
          </a:xfrm>
          <a:custGeom>
            <a:avLst/>
            <a:gdLst>
              <a:gd name="textAreaLeft" fmla="*/ 0 w 8247240"/>
              <a:gd name="textAreaRight" fmla="*/ 8247600 w 82472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95" y="0"/>
                </a:lnTo>
                <a:lnTo>
                  <a:pt x="21600" y="10800"/>
                </a:lnTo>
                <a:lnTo>
                  <a:pt x="190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d5e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Сменить тактику и стратегию общения с ребенком: пора признать, что он взрослый (ну почти!), уважать его мнение и стремление к самостоятельности. Не надо делать за ребенка то, что он может сделать сам, пусть как можно больше пробует - все, что не опасно для жизни: моет пол, накрывает на стол, стирает. Ну развезет воду, разобьет пару тарелок - не велика потеря… Зато сколькому научится и как самоутвердится!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Пятиугольник 8"/>
          <p:cNvSpPr/>
          <p:nvPr/>
        </p:nvSpPr>
        <p:spPr>
          <a:xfrm>
            <a:off x="681120" y="3146400"/>
            <a:ext cx="8396280" cy="1255680"/>
          </a:xfrm>
          <a:custGeom>
            <a:avLst/>
            <a:gdLst>
              <a:gd name="textAreaLeft" fmla="*/ 0 w 8396280"/>
              <a:gd name="textAreaRight" fmla="*/ 8396640 w 8396280"/>
              <a:gd name="textAreaTop" fmla="*/ 0 h 1255680"/>
              <a:gd name="textAreaBottom" fmla="*/ 1256040 h 125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35" y="0"/>
                </a:lnTo>
                <a:lnTo>
                  <a:pt x="21600" y="10800"/>
                </a:lnTo>
                <a:lnTo>
                  <a:pt x="187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eaf6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Постоянно предлагать выбор (либо иллюзию выбора - такая вот хитрость во благо всем). Скажем, мама знает - пора на прогулку, и предлагает: «Костик, мы гулять пойдем пешком по ступенькам или на лифте?». (Варианты: в черной куртке или зеленой? Ты есть будешь борщ или кашу? Из тарелки с цветком или машинкой?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ятиугольник 3"/>
          <p:cNvSpPr/>
          <p:nvPr/>
        </p:nvSpPr>
        <p:spPr>
          <a:xfrm>
            <a:off x="666720" y="4122720"/>
            <a:ext cx="8210520" cy="1508040"/>
          </a:xfrm>
          <a:custGeom>
            <a:avLst/>
            <a:gdLst>
              <a:gd name="textAreaLeft" fmla="*/ 0 w 8210520"/>
              <a:gd name="textAreaRight" fmla="*/ 8210880 w 821052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9" y="0"/>
                </a:lnTo>
                <a:lnTo>
                  <a:pt x="21600" y="10800"/>
                </a:lnTo>
                <a:lnTo>
                  <a:pt x="189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eaf6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Не заставлять, а просить помочь: «Катенька, переведи меня за руку через дорогу, а то мне страшно». И вот уже дочка крепко цепляет маму за руку - ситуация под контролем и без конфликт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Пятиугольник 4"/>
          <p:cNvSpPr/>
          <p:nvPr/>
        </p:nvSpPr>
        <p:spPr>
          <a:xfrm>
            <a:off x="650880" y="5318280"/>
            <a:ext cx="8210520" cy="1292040"/>
          </a:xfrm>
          <a:custGeom>
            <a:avLst/>
            <a:gdLst>
              <a:gd name="textAreaLeft" fmla="*/ 0 w 8210520"/>
              <a:gd name="textAreaRight" fmla="*/ 8210880 w 8210520"/>
              <a:gd name="textAreaTop" fmla="*/ 0 h 1292040"/>
              <a:gd name="textAreaBottom" fmla="*/ 129240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6" y="0"/>
                </a:lnTo>
                <a:lnTo>
                  <a:pt x="21600" y="10800"/>
                </a:lnTo>
                <a:lnTo>
                  <a:pt x="189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f6d1"/>
          </a:solidFill>
          <a:ln cap="rnd" w="12600">
            <a:solidFill>
              <a:srgbClr val="eaf6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rebuchet MS"/>
              </a:rPr>
              <a:t>Рассчитывать, что ребенку на все надо больше времени, чем взрослому, ведь у него пока другие тип нервной системы и ритм жизни. Скажем, маме надо несколько минут, чтобы одеться самой и одеть ребенка, но ведь он теперь одевается сам - значит начинать процесс надо на полчаса раньше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Вертикальный свиток 4"/>
          <p:cNvSpPr/>
          <p:nvPr/>
        </p:nvSpPr>
        <p:spPr>
          <a:xfrm>
            <a:off x="255600" y="307800"/>
            <a:ext cx="10294920" cy="5915160"/>
          </a:xfrm>
          <a:prstGeom prst="verticalScroll">
            <a:avLst>
              <a:gd name="adj" fmla="val 12500"/>
            </a:avLst>
          </a:prstGeom>
          <a:solidFill>
            <a:srgbClr val="f5e3a5"/>
          </a:solidFill>
          <a:ln cap="rnd" w="19080">
            <a:solidFill>
              <a:srgbClr val="54a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rebuchet MS"/>
              </a:rPr>
              <a:t>Кризис трех лет должен состояться в жизни каждого ребенка обязательно. Если его нет, с малышом что-то не так. Кризис - это хорошо! Да, вас ждет трудный период, но он определяет новую ступень развития ребен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7819"/>
                </a:solidFill>
                <a:latin typeface="Trebuchet MS"/>
              </a:rPr>
              <a:t>Любите своего ребёнка таким, какой он есть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5320" y="954000"/>
            <a:ext cx="8596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f7819"/>
                </a:solidFill>
                <a:latin typeface="Trebuchet MS"/>
              </a:rPr>
              <a:t>Кста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Рисунок 7" descr=""/>
          <p:cNvPicPr/>
          <p:nvPr/>
        </p:nvPicPr>
        <p:blipFill>
          <a:blip r:embed="rId2"/>
          <a:stretch/>
        </p:blipFill>
        <p:spPr>
          <a:xfrm>
            <a:off x="8906040" y="4737240"/>
            <a:ext cx="704520" cy="11332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8" descr=""/>
          <p:cNvPicPr/>
          <p:nvPr/>
        </p:nvPicPr>
        <p:blipFill>
          <a:blip r:embed="rId3"/>
          <a:stretch/>
        </p:blipFill>
        <p:spPr>
          <a:xfrm>
            <a:off x="1130400" y="1100160"/>
            <a:ext cx="637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1:57:04Z</dcterms:created>
  <dc:creator>InterUser</dc:creator>
  <dc:description/>
  <dc:language>en-US</dc:language>
  <cp:lastModifiedBy>Пользователь Windows</cp:lastModifiedBy>
  <dcterms:modified xsi:type="dcterms:W3CDTF">2020-11-14T21:11:37Z</dcterms:modified>
  <cp:revision>4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