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004-A831-42D7-B083-DF759A4A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19E-FB81-4DF2-A0CF-6A19E645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077-3B2B-4C4A-B233-AB56B56B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68E-CFC0-4C93-9E97-9B782694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40AD-15C5-4875-A238-3D3F7E34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782B-6425-4B86-9F62-3901D8A5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545F-82E5-4EDA-A9C6-77C7466F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83FE-97DC-4865-A2BD-D72950CF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132-582E-4A22-B0AB-21D854AA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94CD-771A-4F1B-8CD0-609EBA6B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C5B-5AB6-43E2-800A-2064CFF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37D-AF09-4B2B-9E06-1A225AD5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8602-737C-4B7E-A133-6E7C9E9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67DF-65D7-490B-A544-848B9DC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7D53-0A63-4243-91E4-502AD5A3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FAC-571D-4166-83FA-C4E1F439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F220-C81B-4623-AA3C-22BCF73E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2FF1-CD08-4109-AA96-E8795130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440F-F288-4C28-B7D6-9ABEDBB2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40DB-123B-42ED-A4F2-318EB742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A2A1-5760-4F97-8AF7-8C12A66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6363-36BC-44AA-8832-455519E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F21-3C31-4F94-BC21-C2210590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EDBE-6053-4098-AA59-BA51DF51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16D8-180B-44C0-A523-431893F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2B9C-4B7E-4C26-8245-6078E2C7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7E6D-485E-4056-8DE8-819F155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6FA8-3E90-4354-AB9F-D210718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56EE-B1CD-49F3-9898-22079F0A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4D802-28FF-4024-B699-CD2D834A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E3BD-AB39-4C60-A6AC-2C396255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DC3F-C02A-481D-8AFE-A453408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D930-686B-488C-882B-DA168196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BFC-5E35-40E2-84DF-292B5B19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A303-5E1C-44AB-B7F8-067CDA1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560D-3D15-48DC-8C7E-7FFBD5E8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C2EF-ABEE-4E16-BEC0-2CF399A1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7A61C-7F77-45D4-A751-8145522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8DC0-C77D-4979-B040-7A748A7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9FB0-E034-46FA-A2EB-093C8CA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15DF-A3CB-4B47-B09C-3F0201A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0D41-AF16-4289-B57F-9717C911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AC18-7623-4C87-AA6A-3DC2110C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7C5-2BFE-4767-9819-F30E4429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3B4-F8A7-42AB-9E1E-510E9169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463-C8F6-4144-B038-570D142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10F-6CB5-4E23-9472-136BDC9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28D-993C-4234-8BB7-E3D6CED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152-49C3-489E-A6FA-AC386D8DF91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360" y="-1440"/>
            <a:ext cx="12192480" cy="6859440"/>
            <a:chOff x="-360" y="-1440"/>
            <a:chExt cx="12192480" cy="685944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6480"/>
              <a:ext cx="842760" cy="56606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CE03-7975-43B2-AD0D-A869542C36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C91A-17F0-4BD8-ACB3-010F6519DC0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3D8-CD60-41A4-B524-0DC72632E7C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             </a:t>
            </a:r>
            <a:r>
              <a:rPr b="0" lang="en-US" sz="5400" spc="-1" strike="noStrike">
                <a:solidFill>
                  <a:srgbClr val="3f7819"/>
                </a:solidFill>
                <a:latin typeface="Trebuchet MS"/>
              </a:rPr>
              <a:t>Кризис 3-х лет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Рисунок 4" descr=""/>
          <p:cNvPicPr/>
          <p:nvPr/>
        </p:nvPicPr>
        <p:blipFill>
          <a:blip r:embed="rId2"/>
          <a:stretch/>
        </p:blipFill>
        <p:spPr>
          <a:xfrm>
            <a:off x="798480" y="384120"/>
            <a:ext cx="2548080" cy="263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5467320" y="2341440"/>
            <a:ext cx="3524400" cy="69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76280" y="65160"/>
            <a:ext cx="771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Причины кризиса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 -ребёнок начинает осознавать себя самостоятельной</a:t>
            </a: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 личностью  и проявлять собственную волю</a:t>
            </a: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- биологическая перестройка организма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30520" y="2173320"/>
            <a:ext cx="51818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в результате этого наблюдаетс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Схема 16" descr=""/>
          <p:cNvPicPr/>
          <p:nvPr/>
        </p:nvPicPr>
        <p:blipFill>
          <a:blip r:embed="rId2"/>
          <a:stretch/>
        </p:blipFill>
        <p:spPr>
          <a:xfrm>
            <a:off x="1633680" y="2682720"/>
            <a:ext cx="8826480" cy="3522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3" descr=""/>
          <p:cNvPicPr/>
          <p:nvPr/>
        </p:nvPicPr>
        <p:blipFill>
          <a:blip r:embed="rId3"/>
          <a:stretch/>
        </p:blipFill>
        <p:spPr>
          <a:xfrm>
            <a:off x="324000" y="158760"/>
            <a:ext cx="1828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680" y="320760"/>
            <a:ext cx="1954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Схема 2" descr=""/>
          <p:cNvPicPr/>
          <p:nvPr/>
        </p:nvPicPr>
        <p:blipFill>
          <a:blip r:embed="rId2"/>
          <a:stretch/>
        </p:blipFill>
        <p:spPr>
          <a:xfrm>
            <a:off x="219240" y="401760"/>
            <a:ext cx="11386800" cy="64562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"/>
          <p:cNvPicPr/>
          <p:nvPr/>
        </p:nvPicPr>
        <p:blipFill>
          <a:blip r:embed="rId3"/>
          <a:stretch/>
        </p:blipFill>
        <p:spPr>
          <a:xfrm>
            <a:off x="195120" y="219240"/>
            <a:ext cx="21751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7819"/>
                </a:solidFill>
                <a:latin typeface="Trebuchet MS"/>
              </a:rPr>
              <a:t>Как вести себя родителям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8960" y="2161800"/>
            <a:ext cx="85964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Создать приятные перспективы - иногда это помогает успокоить. Например, мама говорит: «Ваня, ты раскричался, потому что очень хотел посмотреть мультик. Но сейчас мы пойдем покупать хлеб и по пути купим фломастеры - будем рисовать»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Наконец малыш успокоился. Заодно понял, что метод не работает. Не критикуйте его: «Чего ты орал, мне стыдно, на тебя люди смотрят…». Лучше скажите с горечью: «Мне жаль, что ты не сдержался…» или «Я так сердита, мне прямо кричать хочется!». Такие фразы учат ребенка выражать свои эмоции. Позже он тоже будет говорить примерно так: «Мне обидно, что ты не заметила моих стараний!». И самому легче, когда проговоришь чувства, и другим понятно, каковы причины вспышки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Рисунок 3" descr=""/>
          <p:cNvPicPr/>
          <p:nvPr/>
        </p:nvPicPr>
        <p:blipFill>
          <a:blip r:embed="rId2"/>
          <a:stretch/>
        </p:blipFill>
        <p:spPr>
          <a:xfrm>
            <a:off x="7281720" y="55440"/>
            <a:ext cx="3019680" cy="2105280"/>
          </a:xfrm>
          <a:prstGeom prst="rect">
            <a:avLst/>
          </a:prstGeom>
          <a:ln w="0">
            <a:noFill/>
          </a:ln>
        </p:spPr>
      </p:pic>
      <p:sp>
        <p:nvSpPr>
          <p:cNvPr id="236" name="Объект 2"/>
          <p:cNvSpPr/>
          <p:nvPr/>
        </p:nvSpPr>
        <p:spPr>
          <a:xfrm>
            <a:off x="728640" y="4262400"/>
            <a:ext cx="85964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rebuchet MS"/>
              </a:rPr>
              <a:t>На ультимативное требование говорим твердое и жесткое «Нет!». И отворачиваемся. Главное, сохранить внешние спокойствие и бесстрастность - как бы тяжело это ни давалось. Малыш кричит, падает на пол, стучит ногами, прохожие смотрят осуждающе… Придется терпеть. Пойдешь на поводу - и истерика станет у ребенка привычным инструментом достижения цели в общении с родителями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rebuchet MS"/>
              </a:rPr>
              <a:t>Если маленький строптивец демонстративно упал в лужу или на проезжую часть, берем в охапку, переносим в безопасное местечко и кладем как взяли - пусть там покричит. Увы, увещевания в такой момент могут не помочь - придется просто подождать, когда буря минует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7819"/>
                </a:solidFill>
                <a:latin typeface="Trebuchet MS"/>
              </a:rPr>
              <a:t>Как себя вести, чтобы победителями вышли все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Пятиугольник 7"/>
          <p:cNvSpPr/>
          <p:nvPr/>
        </p:nvSpPr>
        <p:spPr>
          <a:xfrm>
            <a:off x="698400" y="1725480"/>
            <a:ext cx="8247240" cy="1473480"/>
          </a:xfrm>
          <a:custGeom>
            <a:avLst/>
            <a:gdLst>
              <a:gd name="textAreaLeft" fmla="*/ 0 w 8247240"/>
              <a:gd name="textAreaRight" fmla="*/ 8247600 w 82472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5" y="0"/>
                </a:lnTo>
                <a:lnTo>
                  <a:pt x="21600" y="10800"/>
                </a:lnTo>
                <a:lnTo>
                  <a:pt x="190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d5e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Сменить тактику и стратегию общения с ребенком: пора признать, что он взрослый (ну почти!), уважать его мнение и стремление к самостоятельности. Не надо делать за ребенка то, что он может сделать сам, пусть как можно больше пробует - все, что не опасно для жизни: моет пол, накрывает на стол, стирает. Ну развезет воду, разобьет пару тарелок - не велика потеря… Зато сколькому научится и как самоутвердится!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ятиугольник 8"/>
          <p:cNvSpPr/>
          <p:nvPr/>
        </p:nvSpPr>
        <p:spPr>
          <a:xfrm>
            <a:off x="681120" y="3146400"/>
            <a:ext cx="8396280" cy="1255680"/>
          </a:xfrm>
          <a:custGeom>
            <a:avLst/>
            <a:gdLst>
              <a:gd name="textAreaLeft" fmla="*/ 0 w 8396280"/>
              <a:gd name="textAreaRight" fmla="*/ 8396640 w 8396280"/>
              <a:gd name="textAreaTop" fmla="*/ 0 h 1255680"/>
              <a:gd name="textAreaBottom" fmla="*/ 1256040 h 12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eaf6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Постоянно предлагать выбор (либо иллюзию выбора - такая вот хитрость во благо всем). Скажем, мама знает - пора на прогулку, и предлагает: «Костик, мы гулять пойдем пешком по ступенькам или на лифте?». (Варианты: в черной куртке или зеленой? Ты есть будешь борщ или кашу? Из тарелки с цветком или машинкой?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ятиугольник 3"/>
          <p:cNvSpPr/>
          <p:nvPr/>
        </p:nvSpPr>
        <p:spPr>
          <a:xfrm>
            <a:off x="666720" y="4122720"/>
            <a:ext cx="8210520" cy="1508040"/>
          </a:xfrm>
          <a:custGeom>
            <a:avLst/>
            <a:gdLst>
              <a:gd name="textAreaLeft" fmla="*/ 0 w 8210520"/>
              <a:gd name="textAreaRight" fmla="*/ 8210880 w 821052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9" y="0"/>
                </a:lnTo>
                <a:lnTo>
                  <a:pt x="21600" y="10800"/>
                </a:lnTo>
                <a:lnTo>
                  <a:pt x="189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eaf6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Не заставлять, а просить помочь: «Катенька, переведи меня за руку через дорогу, а то мне страшно». И вот уже дочка крепко цепляет маму за руку - ситуация под контролем и без конфликт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ятиугольник 4"/>
          <p:cNvSpPr/>
          <p:nvPr/>
        </p:nvSpPr>
        <p:spPr>
          <a:xfrm>
            <a:off x="650880" y="5318280"/>
            <a:ext cx="8210520" cy="1292040"/>
          </a:xfrm>
          <a:custGeom>
            <a:avLst/>
            <a:gdLst>
              <a:gd name="textAreaLeft" fmla="*/ 0 w 8210520"/>
              <a:gd name="textAreaRight" fmla="*/ 8210880 w 821052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6" y="0"/>
                </a:lnTo>
                <a:lnTo>
                  <a:pt x="21600" y="10800"/>
                </a:lnTo>
                <a:lnTo>
                  <a:pt x="189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eaf6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Рассчитывать, что ребенку на все надо больше времени, чем взрослому, ведь у него пока другие тип нервной системы и ритм жизни. Скажем, маме надо несколько минут, чтобы одеться самой и одеть ребенка, но ведь он теперь одевается сам - значит начинать процесс надо на полчаса раньше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Вертикальный свиток 4"/>
          <p:cNvSpPr/>
          <p:nvPr/>
        </p:nvSpPr>
        <p:spPr>
          <a:xfrm>
            <a:off x="255600" y="307800"/>
            <a:ext cx="10294920" cy="5915160"/>
          </a:xfrm>
          <a:prstGeom prst="verticalScroll">
            <a:avLst>
              <a:gd name="adj" fmla="val 12500"/>
            </a:avLst>
          </a:prstGeom>
          <a:solidFill>
            <a:srgbClr val="f5e3a5"/>
          </a:solidFill>
          <a:ln cap="rnd" w="1908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Кризис трех лет должен состояться в жизни каждого ребенка обязательно. Если его нет, с малышом что-то не так. Кризис - это хорошо! Да, вас ждет трудный период, но он определяет новую ступень развития ребен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7819"/>
                </a:solidFill>
                <a:latin typeface="Trebuchet MS"/>
              </a:rPr>
              <a:t>Любите своего ребёнка таким, какой он есть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5320" y="954000"/>
            <a:ext cx="8596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7819"/>
                </a:solidFill>
                <a:latin typeface="Trebuchet MS"/>
              </a:rPr>
              <a:t>Кста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Рисунок 7" descr=""/>
          <p:cNvPicPr/>
          <p:nvPr/>
        </p:nvPicPr>
        <p:blipFill>
          <a:blip r:embed="rId2"/>
          <a:stretch/>
        </p:blipFill>
        <p:spPr>
          <a:xfrm>
            <a:off x="8906040" y="4737240"/>
            <a:ext cx="704520" cy="1133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"/>
          <p:cNvPicPr/>
          <p:nvPr/>
        </p:nvPicPr>
        <p:blipFill>
          <a:blip r:embed="rId3"/>
          <a:stretch/>
        </p:blipFill>
        <p:spPr>
          <a:xfrm>
            <a:off x="1130400" y="1100160"/>
            <a:ext cx="637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57:04Z</dcterms:created>
  <dc:creator>InterUser</dc:creator>
  <dc:description/>
  <dc:language>en-US</dc:language>
  <cp:lastModifiedBy>Пользователь Windows</cp:lastModifiedBy>
  <dcterms:modified xsi:type="dcterms:W3CDTF">2020-11-14T21:11:37Z</dcterms:modified>
  <cp:revision>4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