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wmf" ContentType="image/x-wmf"/>
  <Override PartName="/ppt/media/image4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DBB24-78E5-44A4-B0FC-70C3BF11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720" y="259596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0FCFE-9F93-4DB6-9342-3D7BF552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5708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0E1CD-B5A9-47CE-AE06-75E6CE7A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536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72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9472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536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0BACD-133F-4A80-9CD4-A04D5C2B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AFF82-E856-4114-BF34-525B6622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133720" y="685800"/>
            <a:ext cx="60955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F3CEE-C204-4446-BCCA-D267DB78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60955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3A300-4886-45DF-917F-E07C0CA6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BF0F0-714E-43D0-B6CD-E7B78FFC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F9C1F-67B9-4E99-8B41-AB2CC789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77240" y="4876920"/>
            <a:ext cx="75434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F4659-532A-4543-B67B-085CB2DB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1D1E6-4C50-454F-98FB-C8271718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720" y="685800"/>
            <a:ext cx="60955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116F2-71F2-4DBB-95DF-012F963C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5708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DA842-5A0B-46FA-8066-7734E773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72126-EBA6-46C4-A9D5-5A6B87A8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133720" y="259596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5B8DF-5CB3-40FC-A682-C8D5B9EA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5708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2E305-91D7-427A-BC7A-458C1B7F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5536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13372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472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25536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E990A-E721-41D9-9421-C60836B4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133720" y="685800"/>
            <a:ext cx="60955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60955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60955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7742B-4CBC-45F9-8287-E9F3539C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77240" y="4876920"/>
            <a:ext cx="75434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5708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133720" y="259596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5708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5536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13372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19472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5536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A403E6-9995-4502-B0C2-E5681490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133720" y="685800"/>
            <a:ext cx="60955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D70BC-187F-4386-945B-CCAC8678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60955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5C9F64-57BE-4469-8055-1B03D636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EB5C6-5653-4E1E-93FC-21866E5A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83BFD-C06F-4BE5-93EA-B50F2105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0255B7-EC48-4DE0-8C1F-9A78B907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" y="4876920"/>
            <a:ext cx="75434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A08C6-0F30-420B-8E3D-C7BE710D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76EBE0-4FD2-4C6E-9D73-B147FA1B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25708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BFC6D7-E6E5-49B8-A7C4-E2053E2B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D44D5-7CA5-46AF-A07C-4CFE9407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133720" y="259596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325F26-06E2-4A35-B243-8AA11765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25708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63CEDF-65A3-4271-BDEC-A9C10316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5536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13372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19472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25536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63319-DDE2-4BF5-90F6-038662B6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9A111F-98CB-44C2-9D93-6D162789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A6584-48D6-4044-8B65-51647BB4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2133720" y="685800"/>
            <a:ext cx="60955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D385A7-7E58-4EBD-9491-F8A22293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60955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EF54EF-7957-4365-AFAF-8D4AAB1A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5523E1-6402-4EF4-AD44-8F7309B1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6A28B0-33D7-4D57-B09D-CFCD4F06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777240" y="4876920"/>
            <a:ext cx="75434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77C00F-2734-42AD-A287-4D38B7AA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A82BE5-06A8-413A-8265-31BF8DA5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25708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30BDEF-F5A3-4825-A2BD-61850101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58FEAF-4495-401F-A20D-E8D8F820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133720" y="259596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D833C2-0088-4BBD-A0F2-B93E6AF4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25708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860A92-3D98-46C2-8288-6BDC23D7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77240" y="4876920"/>
            <a:ext cx="75434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FA30A-8B8E-4524-B4FC-FF632D0C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5536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213372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19472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25536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5B613B-C79D-4AAE-8CB5-2DC5B6F4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072D3A-B0AE-4BE8-89F7-68A27D85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2133720" y="685800"/>
            <a:ext cx="60955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8B80B7-A2A9-439C-B770-1AA7BA08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60955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DCDFEE-AD3A-4B7E-BD1F-2517329E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FD98BC-78BA-4597-8CDB-9A1DB3EB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5FA56B-C604-4D05-BAD1-790A238A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777240" y="4876920"/>
            <a:ext cx="75434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4797AC-158B-406C-BFA7-887803C9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85A373-6B93-43C0-AC40-192986A0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25708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9E699A-9579-4ADF-B4FF-0E929702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FEDBF1-F588-4E12-924D-79812481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04934-798C-4445-8AB1-4A573EBF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133720" y="259596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32D08B-FFBC-48DE-8CC3-F6379FED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25708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6592BC-0ED2-4C24-9201-162E2E18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5536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213372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419472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25536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21C448-805B-4FBF-94DF-33C2C229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5708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DA3FC-9061-4531-AFD8-FDECC2A7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FE499-A109-4B23-B4C8-1F98058A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" name="Oval 7"/>
          <p:cNvSpPr/>
          <p:nvPr/>
        </p:nvSpPr>
        <p:spPr>
          <a:xfrm rot="19724400">
            <a:off x="1373040" y="1038600"/>
            <a:ext cx="7240320" cy="5706720"/>
          </a:xfrm>
          <a:prstGeom prst="ellipse">
            <a:avLst/>
          </a:prstGeom>
          <a:gradFill rotWithShape="0">
            <a:gsLst>
              <a:gs pos="0">
                <a:srgbClr val="c4bcc6">
                  <a:alpha val="7058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2" name="Oval 8"/>
          <p:cNvSpPr/>
          <p:nvPr/>
        </p:nvSpPr>
        <p:spPr>
          <a:xfrm rot="17656800">
            <a:off x="-273960" y="1165680"/>
            <a:ext cx="5538240" cy="448020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3" name="Oval 9"/>
          <p:cNvSpPr/>
          <p:nvPr/>
        </p:nvSpPr>
        <p:spPr>
          <a:xfrm rot="19724400">
            <a:off x="3277800" y="117000"/>
            <a:ext cx="6478920" cy="475452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2133720" y="685800"/>
            <a:ext cx="6095520" cy="36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55960">
              <a:lnSpc>
                <a:spcPct val="100000"/>
              </a:lnSpc>
              <a:spcBef>
                <a:spcPts val="42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Образец текста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40080" indent="-255960">
              <a:lnSpc>
                <a:spcPct val="100000"/>
              </a:lnSpc>
              <a:spcBef>
                <a:spcPts val="380"/>
              </a:spcBef>
              <a:buClr>
                <a:srgbClr val="ffffff"/>
              </a:buClr>
              <a:buSzPct val="60000"/>
              <a:buFont typeface="Wingdings" charset="2"/>
              <a:buChar char=""/>
            </a:pPr>
            <a:r>
              <a:rPr b="0" lang="ru-RU" sz="1900" spc="-1" strike="noStrike">
                <a:solidFill>
                  <a:srgbClr val="ffffff"/>
                </a:solidFill>
                <a:latin typeface="Palatino Linotype"/>
              </a:rPr>
              <a:t>Второй уровень</a:t>
            </a:r>
            <a:endParaRPr b="0" lang="ru-RU" sz="19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5840" indent="-255960">
              <a:lnSpc>
                <a:spcPct val="100000"/>
              </a:lnSpc>
              <a:spcBef>
                <a:spcPts val="340"/>
              </a:spcBef>
              <a:buClr>
                <a:srgbClr val="ffffff"/>
              </a:buClr>
              <a:buSzPct val="60000"/>
              <a:buFont typeface="Wingdings" charset="2"/>
              <a:buChar char=""/>
            </a:pPr>
            <a:r>
              <a:rPr b="0" lang="ru-RU" sz="1700" spc="-1" strike="noStrike">
                <a:solidFill>
                  <a:srgbClr val="ffffff"/>
                </a:solidFill>
                <a:latin typeface="Palatino Linotype"/>
              </a:rPr>
              <a:t>Третий уровень</a:t>
            </a:r>
            <a:endParaRPr b="0" lang="ru-RU" sz="17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96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SzPct val="60000"/>
              <a:buFont typeface="Wingdings" charset="2"/>
              <a:buChar char=""/>
            </a:pPr>
            <a:r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5920" indent="-25596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1500" spc="-1" strike="noStrike">
                <a:solidFill>
                  <a:srgbClr val="ffffff"/>
                </a:solidFill>
                <a:latin typeface="Palatino Linotype"/>
              </a:rPr>
              <a:t>Пятый уровень</a:t>
            </a:r>
            <a:endParaRPr b="0" lang="ru-RU" sz="15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Образец заголовка</a:t>
            </a: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172200" y="61545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22960" y="584208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9851301-C762-4A10-8877-1182B711678F}" type="slidenum">
              <a: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822960" y="6154560"/>
            <a:ext cx="45716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 rot="19724400">
            <a:off x="1373040" y="1038600"/>
            <a:ext cx="7240320" cy="5706720"/>
          </a:xfrm>
          <a:prstGeom prst="ellipse">
            <a:avLst/>
          </a:prstGeom>
          <a:gradFill rotWithShape="0">
            <a:gsLst>
              <a:gs pos="0">
                <a:srgbClr val="c4bcc6">
                  <a:alpha val="7058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 rot="17656800">
            <a:off x="-273960" y="1165680"/>
            <a:ext cx="5538240" cy="448020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8" name="Oval 9"/>
          <p:cNvSpPr/>
          <p:nvPr/>
        </p:nvSpPr>
        <p:spPr>
          <a:xfrm rot="19724400">
            <a:off x="3277800" y="117000"/>
            <a:ext cx="6478920" cy="475452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5329080" y="1774440"/>
            <a:ext cx="456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838080" y="685800"/>
            <a:ext cx="4343040" cy="34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5596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40080" indent="-25596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60000"/>
              <a:buFont typeface="Wingdings" charset="2"/>
              <a:buChar char=""/>
            </a:pPr>
            <a:r>
              <a:rPr b="0" lang="ru-RU" sz="2200" spc="-1" strike="noStrike">
                <a:solidFill>
                  <a:srgbClr val="ffffff"/>
                </a:solidFill>
                <a:latin typeface="Palatino Linotype"/>
              </a:rPr>
              <a:t>Второй уровень</a:t>
            </a:r>
            <a:endParaRPr b="0" lang="ru-RU" sz="22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5840" indent="-255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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96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SzPct val="60000"/>
              <a:buFont typeface="Wingdings" charset="2"/>
              <a:buChar char=""/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5920" indent="-25596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5715000" y="685800"/>
            <a:ext cx="2590560" cy="34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Образец текста</a:t>
            </a:r>
            <a:endParaRPr b="0" lang="ru-RU" sz="1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2200" y="61545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22960" y="584208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09DF148-8C39-4164-A950-B07ABA3EB14B}" type="slidenum">
              <a: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822960" y="6154560"/>
            <a:ext cx="45716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Образец заголовка</a:t>
            </a: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3" descr=""/>
          <p:cNvPicPr/>
          <p:nvPr/>
        </p:nvPicPr>
        <p:blipFill>
          <a:blip r:embed="rId2"/>
          <a:stretch/>
        </p:blipFill>
        <p:spPr>
          <a:xfrm>
            <a:off x="7199640" y="5671080"/>
            <a:ext cx="1785960" cy="958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e6e6e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32" name="Oval 7"/>
          <p:cNvSpPr/>
          <p:nvPr/>
        </p:nvSpPr>
        <p:spPr>
          <a:xfrm rot="19724400">
            <a:off x="1373040" y="1038600"/>
            <a:ext cx="7240320" cy="5706720"/>
          </a:xfrm>
          <a:prstGeom prst="ellipse">
            <a:avLst/>
          </a:prstGeom>
          <a:gradFill rotWithShape="0">
            <a:gsLst>
              <a:gs pos="0">
                <a:srgbClr val="c4bcc6">
                  <a:alpha val="7058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33" name="Oval 8"/>
          <p:cNvSpPr/>
          <p:nvPr/>
        </p:nvSpPr>
        <p:spPr>
          <a:xfrm rot="17656800">
            <a:off x="-273960" y="1165680"/>
            <a:ext cx="5538240" cy="448020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34" name="Oval 9"/>
          <p:cNvSpPr/>
          <p:nvPr/>
        </p:nvSpPr>
        <p:spPr>
          <a:xfrm rot="19724400">
            <a:off x="3277800" y="117000"/>
            <a:ext cx="6478920" cy="475452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Образец заголовка</a:t>
            </a: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7"/>
          </p:nvPr>
        </p:nvSpPr>
        <p:spPr>
          <a:xfrm>
            <a:off x="6172200" y="61545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8"/>
          </p:nvPr>
        </p:nvSpPr>
        <p:spPr>
          <a:xfrm>
            <a:off x="822960" y="584208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F68BB1C-B983-4686-B432-F5F519551335}" type="slidenum">
              <a: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9"/>
          </p:nvPr>
        </p:nvSpPr>
        <p:spPr>
          <a:xfrm>
            <a:off x="822960" y="6154560"/>
            <a:ext cx="45716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7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ru-RU" sz="17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5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ru-RU" sz="1500" spc="-1" strike="noStrike">
              <a:solidFill>
                <a:srgbClr val="ffffff"/>
              </a:solidFill>
              <a:latin typeface="Palatino Linotype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77" name="Oval 7"/>
          <p:cNvSpPr/>
          <p:nvPr/>
        </p:nvSpPr>
        <p:spPr>
          <a:xfrm rot="19724400">
            <a:off x="1373040" y="1038600"/>
            <a:ext cx="7240320" cy="5706720"/>
          </a:xfrm>
          <a:prstGeom prst="ellipse">
            <a:avLst/>
          </a:prstGeom>
          <a:gradFill rotWithShape="0">
            <a:gsLst>
              <a:gs pos="0">
                <a:srgbClr val="c4bcc6">
                  <a:alpha val="7058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78" name="Oval 8"/>
          <p:cNvSpPr/>
          <p:nvPr/>
        </p:nvSpPr>
        <p:spPr>
          <a:xfrm rot="17656800">
            <a:off x="-273960" y="1165680"/>
            <a:ext cx="5538240" cy="448020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79" name="Oval 9"/>
          <p:cNvSpPr/>
          <p:nvPr/>
        </p:nvSpPr>
        <p:spPr>
          <a:xfrm rot="19724400">
            <a:off x="3277800" y="117000"/>
            <a:ext cx="6478920" cy="475452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6172200" y="61545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ldNum" idx="11"/>
          </p:nvPr>
        </p:nvSpPr>
        <p:spPr>
          <a:xfrm>
            <a:off x="822960" y="584208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45B1732-1A96-4771-A03E-6CD78CD31130}" type="slidenum">
              <a: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12"/>
          </p:nvPr>
        </p:nvSpPr>
        <p:spPr>
          <a:xfrm>
            <a:off x="822960" y="6154560"/>
            <a:ext cx="45716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7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ru-RU" sz="17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5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ru-RU" sz="1500" spc="-1" strike="noStrike">
              <a:solidFill>
                <a:srgbClr val="ffffff"/>
              </a:solidFill>
              <a:latin typeface="Palatino Linotype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222" name="Oval 7"/>
          <p:cNvSpPr/>
          <p:nvPr/>
        </p:nvSpPr>
        <p:spPr>
          <a:xfrm rot="19724400">
            <a:off x="1373040" y="1038600"/>
            <a:ext cx="7240320" cy="5706720"/>
          </a:xfrm>
          <a:prstGeom prst="ellipse">
            <a:avLst/>
          </a:prstGeom>
          <a:gradFill rotWithShape="0">
            <a:gsLst>
              <a:gs pos="0">
                <a:srgbClr val="c4bcc6">
                  <a:alpha val="7058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223" name="Oval 8"/>
          <p:cNvSpPr/>
          <p:nvPr/>
        </p:nvSpPr>
        <p:spPr>
          <a:xfrm rot="17656800">
            <a:off x="-273960" y="1165680"/>
            <a:ext cx="5538240" cy="448020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224" name="Oval 9"/>
          <p:cNvSpPr/>
          <p:nvPr/>
        </p:nvSpPr>
        <p:spPr>
          <a:xfrm rot="19724400">
            <a:off x="3277800" y="117000"/>
            <a:ext cx="6478920" cy="475452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dt" idx="13"/>
          </p:nvPr>
        </p:nvSpPr>
        <p:spPr>
          <a:xfrm>
            <a:off x="6172200" y="61545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ldNum" idx="14"/>
          </p:nvPr>
        </p:nvSpPr>
        <p:spPr>
          <a:xfrm>
            <a:off x="822960" y="584208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1409E12-C8A1-453D-B401-615B39292B5A}" type="slidenum">
              <a: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15"/>
          </p:nvPr>
        </p:nvSpPr>
        <p:spPr>
          <a:xfrm>
            <a:off x="822960" y="6154560"/>
            <a:ext cx="45716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Образец заголовка</a:t>
            </a: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body"/>
          </p:nvPr>
        </p:nvSpPr>
        <p:spPr>
          <a:xfrm>
            <a:off x="1344240" y="658440"/>
            <a:ext cx="3273120" cy="34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55960">
              <a:lnSpc>
                <a:spcPct val="100000"/>
              </a:lnSpc>
              <a:spcBef>
                <a:spcPts val="42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Образец текста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40080" indent="-255960">
              <a:lnSpc>
                <a:spcPct val="100000"/>
              </a:lnSpc>
              <a:spcBef>
                <a:spcPts val="380"/>
              </a:spcBef>
              <a:buClr>
                <a:srgbClr val="ffffff"/>
              </a:buClr>
              <a:buSzPct val="60000"/>
              <a:buFont typeface="Wingdings" charset="2"/>
              <a:buChar char=""/>
            </a:pPr>
            <a:r>
              <a:rPr b="0" lang="ru-RU" sz="1900" spc="-1" strike="noStrike">
                <a:solidFill>
                  <a:srgbClr val="ffffff"/>
                </a:solidFill>
                <a:latin typeface="Palatino Linotype"/>
              </a:rPr>
              <a:t>Второй уровень</a:t>
            </a:r>
            <a:endParaRPr b="0" lang="ru-RU" sz="19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5840" indent="-255960">
              <a:lnSpc>
                <a:spcPct val="100000"/>
              </a:lnSpc>
              <a:spcBef>
                <a:spcPts val="340"/>
              </a:spcBef>
              <a:buClr>
                <a:srgbClr val="ffffff"/>
              </a:buClr>
              <a:buSzPct val="60000"/>
              <a:buFont typeface="Wingdings" charset="2"/>
              <a:buChar char=""/>
            </a:pPr>
            <a:r>
              <a:rPr b="0" lang="ru-RU" sz="1700" spc="-1" strike="noStrike">
                <a:solidFill>
                  <a:srgbClr val="ffffff"/>
                </a:solidFill>
                <a:latin typeface="Palatino Linotype"/>
              </a:rPr>
              <a:t>Третий уровень</a:t>
            </a:r>
            <a:endParaRPr b="0" lang="ru-RU" sz="17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96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SzPct val="60000"/>
              <a:buFont typeface="Wingdings" charset="2"/>
              <a:buChar char=""/>
            </a:pPr>
            <a:r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5920" indent="-25596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1500" spc="-1" strike="noStrike">
                <a:solidFill>
                  <a:srgbClr val="ffffff"/>
                </a:solidFill>
                <a:latin typeface="Palatino Linotype"/>
              </a:rPr>
              <a:t>Пятый уровень</a:t>
            </a:r>
            <a:endParaRPr b="0" lang="ru-RU" sz="15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 type="body"/>
          </p:nvPr>
        </p:nvSpPr>
        <p:spPr>
          <a:xfrm>
            <a:off x="5029200" y="658440"/>
            <a:ext cx="3273120" cy="34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55960">
              <a:lnSpc>
                <a:spcPct val="100000"/>
              </a:lnSpc>
              <a:spcBef>
                <a:spcPts val="42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Образец текста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40080" indent="-255960">
              <a:lnSpc>
                <a:spcPct val="100000"/>
              </a:lnSpc>
              <a:spcBef>
                <a:spcPts val="380"/>
              </a:spcBef>
              <a:buClr>
                <a:srgbClr val="ffffff"/>
              </a:buClr>
              <a:buSzPct val="60000"/>
              <a:buFont typeface="Wingdings" charset="2"/>
              <a:buChar char=""/>
            </a:pPr>
            <a:r>
              <a:rPr b="0" lang="ru-RU" sz="1900" spc="-1" strike="noStrike">
                <a:solidFill>
                  <a:srgbClr val="ffffff"/>
                </a:solidFill>
                <a:latin typeface="Palatino Linotype"/>
              </a:rPr>
              <a:t>Второй уровень</a:t>
            </a:r>
            <a:endParaRPr b="0" lang="ru-RU" sz="19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5840" indent="-255960">
              <a:lnSpc>
                <a:spcPct val="100000"/>
              </a:lnSpc>
              <a:spcBef>
                <a:spcPts val="340"/>
              </a:spcBef>
              <a:buClr>
                <a:srgbClr val="ffffff"/>
              </a:buClr>
              <a:buSzPct val="60000"/>
              <a:buFont typeface="Wingdings" charset="2"/>
              <a:buChar char=""/>
            </a:pPr>
            <a:r>
              <a:rPr b="0" lang="ru-RU" sz="1700" spc="-1" strike="noStrike">
                <a:solidFill>
                  <a:srgbClr val="ffffff"/>
                </a:solidFill>
                <a:latin typeface="Palatino Linotype"/>
              </a:rPr>
              <a:t>Третий уровень</a:t>
            </a:r>
            <a:endParaRPr b="0" lang="ru-RU" sz="17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96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SzPct val="60000"/>
              <a:buFont typeface="Wingdings" charset="2"/>
              <a:buChar char=""/>
            </a:pPr>
            <a:r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5920" indent="-25596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1500" spc="-1" strike="noStrike">
                <a:solidFill>
                  <a:srgbClr val="ffffff"/>
                </a:solidFill>
                <a:latin typeface="Palatino Linotype"/>
              </a:rPr>
              <a:t>Пятый уровень</a:t>
            </a:r>
            <a:endParaRPr b="0" lang="ru-RU" sz="15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260640"/>
            <a:ext cx="8229240" cy="55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360" indent="0" algn="ctr">
              <a:lnSpc>
                <a:spcPct val="15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оект </a:t>
            </a:r>
            <a:endParaRPr b="0" lang="ru-RU" sz="4800" spc="-1" strike="noStrike">
              <a:solidFill>
                <a:srgbClr val="ffffff"/>
              </a:solidFill>
              <a:latin typeface="Palatino Linotype"/>
            </a:endParaRPr>
          </a:p>
          <a:p>
            <a:pPr marL="18360" indent="0" algn="ctr">
              <a:lnSpc>
                <a:spcPct val="15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грязнение реки Кубань.</a:t>
            </a:r>
            <a:endParaRPr b="0" lang="ru-RU" sz="48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 algn="r">
              <a:lnSpc>
                <a:spcPct val="100000"/>
              </a:lnSpc>
              <a:spcBef>
                <a:spcPts val="28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Palatino Linotype"/>
                <a:ea typeface="Calibri"/>
              </a:rPr>
              <a:t>Проект подготовили ученики 11б класса средней школы № 80</a:t>
            </a:r>
            <a:endParaRPr b="0" lang="ru-RU" sz="14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 algn="r">
              <a:lnSpc>
                <a:spcPct val="100000"/>
              </a:lnSpc>
              <a:spcBef>
                <a:spcPts val="28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Palatino Linotype"/>
                <a:ea typeface="Calibri"/>
              </a:rPr>
              <a:t>Екатерина Ходкевич, Крень Вадим, </a:t>
            </a:r>
            <a:endParaRPr b="0" lang="ru-RU" sz="14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 algn="r">
              <a:lnSpc>
                <a:spcPct val="100000"/>
              </a:lnSpc>
              <a:spcBef>
                <a:spcPts val="28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Palatino Linotype"/>
                <a:ea typeface="Calibri"/>
              </a:rPr>
              <a:t>Васильева Даша, Комбарова Влада, Загребаев Дима,</a:t>
            </a:r>
            <a:endParaRPr b="0" lang="ru-RU" sz="14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 algn="r">
              <a:lnSpc>
                <a:spcPct val="100000"/>
              </a:lnSpc>
              <a:spcBef>
                <a:spcPts val="28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Palatino Linotype"/>
                <a:ea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Palatino Linotype"/>
                <a:ea typeface="Calibri"/>
              </a:rPr>
              <a:t>Вероника Кравченко, Соня Склярова.</a:t>
            </a:r>
            <a:endParaRPr b="0" lang="ru-RU" sz="14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 algn="r">
              <a:lnSpc>
                <a:spcPct val="100000"/>
              </a:lnSpc>
              <a:spcBef>
                <a:spcPts val="28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ahnschrift"/>
                <a:ea typeface="Calibri"/>
              </a:rPr>
              <a:t>Руководитель: учитель кубановедения  Чуприна И.П.</a:t>
            </a:r>
            <a:endParaRPr b="0" lang="ru-RU" sz="1400" spc="-1" strike="noStrike">
              <a:solidFill>
                <a:srgbClr val="ffffff"/>
              </a:solidFill>
              <a:latin typeface="Palatino Linotype"/>
            </a:endParaRPr>
          </a:p>
          <a:p>
            <a:pPr indent="0" algn="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28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2720" indent="0">
              <a:lnSpc>
                <a:spcPct val="150000"/>
              </a:lnSpc>
              <a:spcBef>
                <a:spcPts val="159"/>
              </a:spcBef>
              <a:buNone/>
              <a:tabLst>
                <a:tab algn="l" pos="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ru-RU" sz="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640" y="54864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2000"/>
            </a:br>
            <a:r>
              <a:rPr b="0" lang="ru-RU" sz="4900" spc="-1" strike="noStrike">
                <a:solidFill>
                  <a:srgbClr val="ffffff"/>
                </a:solidFill>
                <a:latin typeface="Times New Roman"/>
                <a:ea typeface="Calibri"/>
              </a:rPr>
              <a:t>Цвет воды</a:t>
            </a:r>
            <a:br>
              <a:rPr sz="7200"/>
            </a:b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251640" y="3357000"/>
            <a:ext cx="6171840" cy="68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"/>
          </a:bodyPr>
          <a:p>
            <a:pPr marL="76680" indent="-71640">
              <a:lnSpc>
                <a:spcPct val="100000"/>
              </a:lnSpc>
              <a:spcBef>
                <a:spcPts val="42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 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76680" indent="-7164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1" lang="ru-RU" sz="8000" spc="-1" strike="noStrike">
                <a:solidFill>
                  <a:srgbClr val="ffffff"/>
                </a:solidFill>
                <a:latin typeface="Palatino Linotype"/>
              </a:rPr>
              <a:t>Цвет (окраска)  -  </a:t>
            </a:r>
            <a:r>
              <a:rPr b="0" lang="ru-RU" sz="8000" spc="-1" strike="noStrike">
                <a:solidFill>
                  <a:srgbClr val="ffffff"/>
                </a:solidFill>
                <a:latin typeface="Palatino Linotype"/>
              </a:rPr>
              <a:t>Диагностика цвета – один из показателей состояния водоема. Для определения цветности воды нужны стеклянный сосуд и лист белой бумаги. В сосуд набирают воду и на фоне бумаги определяют цвет воды (голубой, зеленый, серый, желтый, коричневый) – показатель определенного вида загрязнений. В реке Кубань вода серо-желтого цвета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76680" indent="-71640" algn="just">
              <a:lnSpc>
                <a:spcPct val="150000"/>
              </a:lnSpc>
              <a:spcBef>
                <a:spcPts val="1440"/>
              </a:spcBef>
              <a:buClr>
                <a:srgbClr val="ffffff"/>
              </a:buClr>
              <a:buSzPct val="60000"/>
              <a:buFont typeface="Symbol"/>
              <a:buChar char=""/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 загрязнении водоема стоками промышленных предприятий вода может иметь окраску, не свойственную цветности природных вод. Для источников хозяйственно-питьевого водоснабжения окраска не должна обнаруживаться в столбике высотой 20 см, Для водоемов культурно-бытового значения – 10 см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600" y="0"/>
            <a:ext cx="9140040" cy="587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4320" indent="-255960" algn="just">
              <a:lnSpc>
                <a:spcPct val="150000"/>
              </a:lnSpc>
              <a:spcBef>
                <a:spcPts val="720"/>
              </a:spcBef>
              <a:buClr>
                <a:srgbClr val="ffffff"/>
              </a:buClr>
              <a:buSzPct val="60000"/>
              <a:buFont typeface="Symbol"/>
              <a:buChar char=""/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озрачность</a:t>
            </a:r>
            <a:endParaRPr b="0" lang="ru-RU" sz="3600" spc="-1" strike="noStrike">
              <a:solidFill>
                <a:srgbClr val="ffffff"/>
              </a:solidFill>
              <a:latin typeface="Palatino Linotype"/>
            </a:endParaRPr>
          </a:p>
          <a:p>
            <a:pPr indent="0" algn="just">
              <a:lnSpc>
                <a:spcPct val="150000"/>
              </a:lnSpc>
              <a:spcBef>
                <a:spcPts val="720"/>
              </a:spcBef>
              <a:buNone/>
            </a:pPr>
            <a:endParaRPr b="0" lang="ru-RU" sz="36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 algn="just">
              <a:lnSpc>
                <a:spcPct val="150000"/>
              </a:lnSpc>
              <a:spcBef>
                <a:spcPts val="561"/>
              </a:spcBef>
              <a:buClr>
                <a:srgbClr val="ffffff"/>
              </a:buClr>
              <a:buSzPct val="60000"/>
              <a:buFont typeface="Symbol"/>
              <a:buChar char=""/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озрачность воды зависит от нескольких факторов: количества взвешенных частиц ила, глины, песка, микроорганизмов, содержания химических соединений.</a:t>
            </a: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 algn="just">
              <a:lnSpc>
                <a:spcPct val="150000"/>
              </a:lnSpc>
              <a:spcBef>
                <a:spcPts val="561"/>
              </a:spcBef>
              <a:buClr>
                <a:srgbClr val="ffffff"/>
              </a:buClr>
              <a:buSzPct val="60000"/>
              <a:buFont typeface="Symbol"/>
              <a:buChar char="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оду в реке нельзя назвать прозрачной</a:t>
            </a: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 rot="10800000">
            <a:off x="777240" y="5791320"/>
            <a:ext cx="7543440" cy="45360"/>
          </a:xfrm>
          <a:prstGeom prst="rect">
            <a:avLst/>
          </a:prstGeom>
          <a:noFill/>
          <a:ln w="0">
            <a:noFill/>
          </a:ln>
        </p:spPr>
        <p:txBody>
          <a:bodyPr tIns="22680" bIns="22680" anchor="b">
            <a:noAutofit/>
          </a:bodyPr>
          <a:p>
            <a:pPr indent="0">
              <a:buNone/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67640" y="11664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marL="257760" indent="-240480" algn="ctr">
              <a:lnSpc>
                <a:spcPct val="150000"/>
              </a:lnSpc>
              <a:spcBef>
                <a:spcPts val="720"/>
              </a:spcBef>
              <a:buClr>
                <a:srgbClr val="ffffff"/>
              </a:buClr>
              <a:buSzPct val="60000"/>
              <a:buFont typeface="Symbol"/>
              <a:buChar char=""/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пах</a:t>
            </a:r>
            <a:endParaRPr b="0" lang="ru-RU" sz="3600" spc="-1" strike="noStrike">
              <a:solidFill>
                <a:srgbClr val="ffffff"/>
              </a:solidFill>
              <a:latin typeface="Palatino Linotype"/>
            </a:endParaRPr>
          </a:p>
          <a:p>
            <a:pPr indent="0" algn="ctr">
              <a:lnSpc>
                <a:spcPct val="150000"/>
              </a:lnSpc>
              <a:spcBef>
                <a:spcPts val="720"/>
              </a:spcBef>
              <a:buNone/>
            </a:pPr>
            <a:endParaRPr b="0" lang="ru-RU" sz="3600" spc="-1" strike="noStrike">
              <a:solidFill>
                <a:srgbClr val="ffffff"/>
              </a:solidFill>
              <a:latin typeface="Palatino Linotype"/>
            </a:endParaRPr>
          </a:p>
          <a:p>
            <a:pPr marL="257760" indent="-240480" algn="just">
              <a:lnSpc>
                <a:spcPct val="150000"/>
              </a:lnSpc>
              <a:spcBef>
                <a:spcPts val="519"/>
              </a:spcBef>
              <a:buClr>
                <a:srgbClr val="ffffff"/>
              </a:buClr>
              <a:buSzPct val="60000"/>
              <a:buFont typeface="Symbol"/>
              <a:buChar char=""/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пах воды обусловлен наличием в ней пахнущих веществ, которые попадают в нее естественным путем или со сточными водами. Характер и интенсивность определяют по предполагаемой методике.</a:t>
            </a:r>
            <a:endParaRPr b="0" lang="ru-RU" sz="2600" spc="-1" strike="noStrike">
              <a:solidFill>
                <a:srgbClr val="ffffff"/>
              </a:solidFill>
              <a:latin typeface="Palatino Linotype"/>
            </a:endParaRPr>
          </a:p>
          <a:p>
            <a:pPr marL="257760" indent="-240480" algn="just">
              <a:lnSpc>
                <a:spcPct val="150000"/>
              </a:lnSpc>
              <a:spcBef>
                <a:spcPts val="519"/>
              </a:spcBef>
              <a:buClr>
                <a:srgbClr val="ffffff"/>
              </a:buClr>
              <a:buSzPct val="60000"/>
              <a:buFont typeface="Symbol"/>
              <a:buChar char=""/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пах воды следует определять в помещении, в котором воздух не имеет постороннего запаха. Желательно, чтобы интенсивность запаха отмечали несколько исследователей.</a:t>
            </a:r>
            <a:endParaRPr b="0" lang="ru-RU" sz="2600" spc="-1" strike="noStrike">
              <a:solidFill>
                <a:srgbClr val="ffffff"/>
              </a:solidFill>
              <a:latin typeface="Palatino Linotype"/>
            </a:endParaRPr>
          </a:p>
          <a:p>
            <a:pPr marL="257760" indent="-240480" algn="just">
              <a:lnSpc>
                <a:spcPct val="150000"/>
              </a:lnSpc>
              <a:spcBef>
                <a:spcPts val="519"/>
              </a:spcBef>
              <a:buClr>
                <a:srgbClr val="ffffff"/>
              </a:buClr>
              <a:buSzPct val="60000"/>
              <a:buFont typeface="Symbol"/>
              <a:buChar char=""/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пах воды был оценен по данной таблице. Оценка- 3 балла</a:t>
            </a:r>
            <a:endParaRPr b="0" lang="ru-RU" sz="26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777240" y="6858000"/>
            <a:ext cx="7543440" cy="9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44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899640" y="1556640"/>
            <a:ext cx="7200360" cy="41040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3640" y="54864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Интенсивность запаха воды</a:t>
            </a: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07640" y="836640"/>
            <a:ext cx="835272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4320" indent="-255960" algn="just">
              <a:lnSpc>
                <a:spcPct val="100000"/>
              </a:lnSpc>
              <a:spcBef>
                <a:spcPts val="42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Значение  pH воды водоемов хозяйственного, питьевого, культурно-бытового назначения регламентируется в пределах 6,5-8,5.Оценивать значение pH можно разными способами.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 algn="just">
              <a:lnSpc>
                <a:spcPct val="100000"/>
              </a:lnSpc>
              <a:spcBef>
                <a:spcPts val="42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ближенное значение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pH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 определяется следующим образом. В пробирку наливают  5 мл исследуемой воды, 0,1 мл универсального индикатора, перемешивают и по окраске раствора определяют pH или определяют  с помощью индикаторных  полосок.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 algn="just">
              <a:lnSpc>
                <a:spcPct val="100000"/>
              </a:lnSpc>
              <a:spcBef>
                <a:spcPts val="42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- розово-желтая – pH около 5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 algn="just">
              <a:lnSpc>
                <a:spcPct val="100000"/>
              </a:lnSpc>
              <a:spcBef>
                <a:spcPts val="42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- 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светло-желтая – 6;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 algn="just">
              <a:lnSpc>
                <a:spcPct val="100000"/>
              </a:lnSpc>
              <a:spcBef>
                <a:spcPts val="42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- зеленовато-голубая – 8.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 algn="just">
              <a:lnSpc>
                <a:spcPct val="100000"/>
              </a:lnSpc>
              <a:spcBef>
                <a:spcPts val="42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Водородный показатель реки Кубань равен 6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 algn="just">
              <a:lnSpc>
                <a:spcPct val="100000"/>
              </a:lnSpc>
              <a:spcBef>
                <a:spcPts val="42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Значение Водородного показателя было взято из информационных источников.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67640" y="548640"/>
            <a:ext cx="8229240" cy="106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27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Водородный показатель (pH)</a:t>
            </a:r>
            <a:br>
              <a:rPr sz="3200"/>
            </a:br>
            <a:br>
              <a:rPr sz="3200"/>
            </a:br>
            <a:endParaRPr b="0" lang="ru-RU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107640" y="1917000"/>
            <a:ext cx="892872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55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Состав загрязняющих веществ в сточных водах и их концентрации зависят от источника загрязнения, характера и технологии производственного процесса, при этом загрязняющие вещества могут находиться в различных агрегатных состояниях.</a:t>
            </a:r>
            <a:endParaRPr b="0" lang="ru-RU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107640" y="141264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1000"/>
          </a:bodyPr>
          <a:p>
            <a:pPr marL="155880" indent="0">
              <a:lnSpc>
                <a:spcPct val="150000"/>
              </a:lnSpc>
              <a:spcBef>
                <a:spcPts val="720"/>
              </a:spcBef>
              <a:buNone/>
              <a:tabLst>
                <a:tab algn="l" pos="0"/>
              </a:tabLst>
            </a:pPr>
            <a:br>
              <a:rPr sz="28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грязняющие вещества в сточных водах реки Кубань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br>
              <a:rPr sz="3600"/>
            </a:br>
            <a:endParaRPr b="0" lang="ru-RU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251640" y="260640"/>
            <a:ext cx="842472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4320" indent="-2559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Степень загрязнения дождевых стоков зависит от общей санитарной обстановки г. Краснодара. Общепринятая технология уборки улиц не обеспечивает полного удаления загрязнений. Мусор с проезжей части содержит не только кусочки почвы, песок или глину (на поверхности таких частиц  могут находиться патогенные микроорганизмы и вирусы), но и значительное количество органических веществ, биогенов, нефтепродуктов (бензин, мазут), поваренной соли и других реагентов, используемых для таяния льда и снега в зимнее время, солей тяжелых металлов. </a:t>
            </a: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611640" y="602136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179640" y="116640"/>
            <a:ext cx="8856720" cy="568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4320" indent="-255960" algn="just">
              <a:lnSpc>
                <a:spcPct val="150000"/>
              </a:lnSpc>
              <a:spcBef>
                <a:spcPts val="479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Сточные воды металлургических заводов, предприятий, производящих строительные материалы, горно-обогатительных комбинатов содержат взвешенные частицы </a:t>
            </a:r>
            <a:endParaRPr b="0" lang="ru-RU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 algn="just">
              <a:lnSpc>
                <a:spcPct val="150000"/>
              </a:lnSpc>
              <a:spcBef>
                <a:spcPts val="479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неорганических веществ. Поверхностные стоки золоотвалов ТЭЦ, деревообрабатывающих и целлюлозно-бумажных комбинатов содержат фенолы в различных агрегатных состояниях.</a:t>
            </a:r>
            <a:endParaRPr b="0" lang="ru-RU" sz="24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7689600" cy="489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559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Много загрязняющих веществ содержится в сточных водах машиностроительных заводов: соли, кислоты, щелочи, хром, свинец, медь, алюминий, краски, органические соединения, масла и т. п. На энергетических предприятиях (кроме атомных электростанций) вода, используемая для охлаждения различных агрегатов, остается практически чистой и может (после охлаждения) использоваться в оборотных системах без очистки. Однако сброс в водоемы чистой, но теплой воды из систем охлаждения – опасное для водной биоты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тепловое загрязн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. </a:t>
            </a: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683640" y="609336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23640" y="685800"/>
            <a:ext cx="7905600" cy="519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269280" indent="-251280" algn="just">
              <a:lnSpc>
                <a:spcPct val="150000"/>
              </a:lnSpc>
              <a:spcBef>
                <a:spcPts val="561"/>
              </a:spcBef>
              <a:buClr>
                <a:srgbClr val="ffffff"/>
              </a:buClr>
              <a:buSzPct val="60000"/>
              <a:buFont typeface="Symbol"/>
              <a:buChar char="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Достаточно распространенный вид загрязнения, носящий сезонный характер, - загрязнение водоемов поваренной солью NaCl, которую используют для таяния льда и снега в зимнее время. Поваренная соль в широком диапазоне концентраций нетоксична для большинства живых организмов. Но при очень сильном загрязнении водоемов хлоридами происходит гибель высшей водной биоты – рыбы.</a:t>
            </a: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683640" y="609336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23640" y="3213000"/>
            <a:ext cx="7704360" cy="1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55960">
              <a:lnSpc>
                <a:spcPct val="200000"/>
              </a:lnSpc>
              <a:spcBef>
                <a:spcPts val="72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и и задачи</a:t>
            </a:r>
            <a:endParaRPr b="0" lang="ru-RU" sz="36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>
              <a:lnSpc>
                <a:spcPct val="200000"/>
              </a:lnSpc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данного проекта:  изучить  экологическое  состояние реки Кубань, оценить  степень  влияния  загрязняющих  веществ  на живые  организмы. Показать, что лежит на дне реки и на её берегах.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рассмотреть выявить степень загрязнения реки Кубань и её роль в жизнедеятельности  организмов. Для достижения поставленных задач  были использованы методы, направленные   на изучение  качества  и  степени  загрязнённости водоёма при  проведении  биомониторинга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были взяты пробы воды реки Кубань и сделан её анализ.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107640" y="188640"/>
            <a:ext cx="885672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55960" algn="just">
              <a:lnSpc>
                <a:spcPct val="150000"/>
              </a:lnSpc>
              <a:spcBef>
                <a:spcPts val="561"/>
              </a:spcBef>
              <a:buClr>
                <a:srgbClr val="ffffff"/>
              </a:buClr>
              <a:buSzPct val="60000"/>
              <a:buFont typeface="Symbol"/>
              <a:buChar char="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падание в воду тяжелых металлов связано с деятельностью предприятий различных отраслей, а также вымыванием этих металлов из свалок промышленных и бытовых отходов атмосферными осадками и поступлением их в грунтовые воды. </a:t>
            </a: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683640" y="602136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79640" y="188640"/>
            <a:ext cx="8856720" cy="532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290160" indent="-270720" algn="just">
              <a:lnSpc>
                <a:spcPct val="150000"/>
              </a:lnSpc>
              <a:spcBef>
                <a:spcPts val="561"/>
              </a:spcBef>
              <a:buClr>
                <a:srgbClr val="ffffff"/>
              </a:buClr>
              <a:buSzPct val="60000"/>
              <a:buFont typeface="Symbol"/>
              <a:buChar char="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ычно тяжелые металлы скапливаются в донных отложениях реки в виде карбонатов, сульфатов или сульфитов, адсорбируются минеральными и органическими осадками. Переход тяжелых металлов из донных отложений  в воду возможен  при повышении кислотности воды. Находясь в воде, тяжелые металлы включаются в сети питания живых организмов – водорослей, зоопланктона, рыб, человека.</a:t>
            </a: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683640" y="594360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5940000" y="2133000"/>
            <a:ext cx="2590560" cy="34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В бассейне реки Кубань обитает около 106 видов рыб. А также насчитывается около 400 видов форм зоопланктона. И все они страдают от загрязнения воды.</a:t>
            </a:r>
            <a:endParaRPr b="0" lang="ru-RU" sz="24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323640" y="69264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ЖИВОТНЫЙ МИР КУБАНИ</a:t>
            </a: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5" name="Объект 7" descr=""/>
          <p:cNvPicPr/>
          <p:nvPr/>
        </p:nvPicPr>
        <p:blipFill>
          <a:blip r:embed="rId1"/>
          <a:stretch/>
        </p:blipFill>
        <p:spPr>
          <a:xfrm>
            <a:off x="395640" y="1845000"/>
            <a:ext cx="53283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1640" y="-581760"/>
            <a:ext cx="7543440" cy="123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958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Palatino Linotype"/>
              </a:rPr>
              <a:t>КТО ОБИТАЕТ В РЕКЕ КУБАНЬ</a:t>
            </a:r>
            <a:endParaRPr b="0" lang="ru-RU" sz="2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251640" y="620640"/>
            <a:ext cx="8339040" cy="21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В бассейне реки Кубань обитает более 106 видов рыб, характер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только для нашего региона: тарань, толстолобик, сазан, судак, рыбец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шемая, кубанский усач, кавказский голавль, лещ, сом, чехонь, бычо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жерех, карась, окунь, краснопѐр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А так же насчитывается около 400 видов и форм зоопланкто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в том числе коловратки, черви, веслоногие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ветвистоусые рачки, моллюски. Большинство из этих ви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чутко реагируют на изменения качества в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Рисунок 3" descr=""/>
          <p:cNvPicPr/>
          <p:nvPr/>
        </p:nvPicPr>
        <p:blipFill>
          <a:blip r:embed="rId1"/>
          <a:stretch/>
        </p:blipFill>
        <p:spPr>
          <a:xfrm>
            <a:off x="4310640" y="3461760"/>
            <a:ext cx="4832640" cy="3330720"/>
          </a:xfrm>
          <a:prstGeom prst="rect">
            <a:avLst/>
          </a:prstGeom>
          <a:ln w="0">
            <a:noFill/>
          </a:ln>
        </p:spPr>
      </p:pic>
      <p:sp>
        <p:nvSpPr>
          <p:cNvPr id="319" name="TextBox 4"/>
          <p:cNvSpPr/>
          <p:nvPr/>
        </p:nvSpPr>
        <p:spPr>
          <a:xfrm>
            <a:off x="264240" y="3645000"/>
            <a:ext cx="320904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HG Mincho Light J"/>
              </a:rPr>
              <a:t>1.Краснопёрк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HG Mincho Light J"/>
              </a:rPr>
              <a:t>2.Чухонь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HG Mincho Light J"/>
              </a:rPr>
              <a:t>3.Шемая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HG Mincho Light J"/>
              </a:rPr>
              <a:t>4.Кубанский усач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HG Mincho Light J"/>
              </a:rPr>
              <a:t>5.Вестоусые рачки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1"/>
          <p:cNvSpPr/>
          <p:nvPr/>
        </p:nvSpPr>
        <p:spPr>
          <a:xfrm rot="1200">
            <a:off x="1175400" y="75960"/>
            <a:ext cx="679140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HG Mincho Light J"/>
              </a:rPr>
              <a:t>Живая природа – самый точный индикатор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Box 2"/>
          <p:cNvSpPr/>
          <p:nvPr/>
        </p:nvSpPr>
        <p:spPr>
          <a:xfrm>
            <a:off x="126000" y="720720"/>
            <a:ext cx="8352720" cy="58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Бурное развитие других сине-зеленых водоросле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 например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осциллятории – хороший индикатор опасного загрязнения в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органическим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соединени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Фитопланктон – важнейший компонент водных систем, актив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участвует в формировании качества воды и является чутким показател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состояния водных экосистем и водоема в цел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Трубочник образует огромные скопления в илу сильно загрязненных ре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в незначительных количествах встречаются также на песча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и каменисты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грунтах более чистых р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О чистоте пресного водоема можно суди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и по видовому разнообраз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животного насе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Таким образом, необходимо постоянно отслеживать и улучш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состояние реки Кубань, чтобы она не превратилась в зону экологическ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бедств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Для этого необходимо принимать все меры воздействия, включая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уголовную ответственность за нанесение вреда окружающей сре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3640" y="-268560"/>
            <a:ext cx="7543440" cy="123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ЧТО ЛЕЖИТ НА ДНЕ?</a:t>
            </a:r>
            <a:endParaRPr b="0" lang="ru-RU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3" name="Рисунок 2" descr=""/>
          <p:cNvPicPr/>
          <p:nvPr/>
        </p:nvPicPr>
        <p:blipFill>
          <a:blip r:embed="rId1"/>
          <a:stretch/>
        </p:blipFill>
        <p:spPr>
          <a:xfrm>
            <a:off x="326520" y="1251000"/>
            <a:ext cx="2873160" cy="282672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3" descr=""/>
          <p:cNvPicPr/>
          <p:nvPr/>
        </p:nvPicPr>
        <p:blipFill>
          <a:blip r:embed="rId2"/>
          <a:stretch/>
        </p:blipFill>
        <p:spPr>
          <a:xfrm>
            <a:off x="3396240" y="1110240"/>
            <a:ext cx="2415960" cy="296748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4" descr=""/>
          <p:cNvPicPr/>
          <p:nvPr/>
        </p:nvPicPr>
        <p:blipFill>
          <a:blip r:embed="rId3"/>
          <a:stretch/>
        </p:blipFill>
        <p:spPr>
          <a:xfrm>
            <a:off x="6073920" y="1175760"/>
            <a:ext cx="2612160" cy="290232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5" descr=""/>
          <p:cNvPicPr/>
          <p:nvPr/>
        </p:nvPicPr>
        <p:blipFill>
          <a:blip r:embed="rId4"/>
          <a:srcRect l="-194" t="0" r="0" b="7956"/>
          <a:stretch/>
        </p:blipFill>
        <p:spPr>
          <a:xfrm>
            <a:off x="3492000" y="4221000"/>
            <a:ext cx="4907520" cy="228420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6" descr=""/>
          <p:cNvPicPr/>
          <p:nvPr/>
        </p:nvPicPr>
        <p:blipFill>
          <a:blip r:embed="rId5"/>
          <a:stretch/>
        </p:blipFill>
        <p:spPr>
          <a:xfrm>
            <a:off x="457200" y="4274280"/>
            <a:ext cx="2546640" cy="219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640" y="-520200"/>
            <a:ext cx="7543440" cy="123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ffff"/>
                </a:solidFill>
                <a:latin typeface="Palatino Linotype"/>
              </a:rPr>
              <a:t>МЕТОДЫ РЕШЕНИЯ</a:t>
            </a:r>
            <a:endParaRPr b="0" lang="ru-RU" sz="33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7118280" cy="516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04000" indent="-432000">
              <a:lnSpc>
                <a:spcPct val="100000"/>
              </a:lnSpc>
              <a:spcBef>
                <a:spcPts val="660"/>
              </a:spcBef>
              <a:buClr>
                <a:srgbClr val="ff9966"/>
              </a:buClr>
              <a:buSzPct val="75000"/>
              <a:buFont typeface="StarSymbol"/>
              <a:buChar char="➲"/>
            </a:pPr>
            <a:r>
              <a:rPr b="0" lang="en-US" sz="3300" spc="-1" strike="noStrike">
                <a:solidFill>
                  <a:srgbClr val="e6e6e6"/>
                </a:solidFill>
                <a:latin typeface="Arial"/>
                <a:ea typeface="HG Mincho Light J"/>
              </a:rPr>
              <a:t>1.Запретить слив неочищенных бытовых стоков в водоём.</a:t>
            </a:r>
            <a:endParaRPr b="0" lang="ru-RU" sz="3300" spc="-1" strike="noStrike">
              <a:solidFill>
                <a:srgbClr val="ffffff"/>
              </a:solidFill>
              <a:latin typeface="Palatino Linotype"/>
            </a:endParaRPr>
          </a:p>
          <a:p>
            <a:pPr marL="504000" indent="-432000">
              <a:lnSpc>
                <a:spcPct val="100000"/>
              </a:lnSpc>
              <a:spcBef>
                <a:spcPts val="660"/>
              </a:spcBef>
              <a:buClr>
                <a:srgbClr val="ff9966"/>
              </a:buClr>
              <a:buSzPct val="75000"/>
              <a:buFont typeface="StarSymbol"/>
              <a:buChar char="➲"/>
            </a:pPr>
            <a:r>
              <a:rPr b="0" lang="en-US" sz="3300" spc="-1" strike="noStrike">
                <a:solidFill>
                  <a:srgbClr val="e6e6e6"/>
                </a:solidFill>
                <a:latin typeface="Arial"/>
                <a:ea typeface="HG Mincho Light J"/>
              </a:rPr>
              <a:t>2.Создать отч</a:t>
            </a:r>
            <a:r>
              <a:rPr b="0" lang="ru-RU" sz="3300" spc="-1" strike="noStrike">
                <a:solidFill>
                  <a:srgbClr val="e6e6e6"/>
                </a:solidFill>
                <a:latin typeface="Arial"/>
                <a:ea typeface="HG Mincho Light J"/>
              </a:rPr>
              <a:t>и</a:t>
            </a:r>
            <a:r>
              <a:rPr b="0" lang="en-US" sz="3300" spc="-1" strike="noStrike">
                <a:solidFill>
                  <a:srgbClr val="e6e6e6"/>
                </a:solidFill>
                <a:latin typeface="Arial"/>
                <a:ea typeface="HG Mincho Light J"/>
              </a:rPr>
              <a:t>стные сооружения для</a:t>
            </a:r>
            <a:r>
              <a:rPr b="0" lang="ru-RU" sz="3300" spc="-1" strike="noStrike">
                <a:solidFill>
                  <a:srgbClr val="e6e6e6"/>
                </a:solidFill>
                <a:latin typeface="Arial"/>
                <a:ea typeface="HG Mincho Light J"/>
              </a:rPr>
              <a:t> </a:t>
            </a:r>
            <a:r>
              <a:rPr b="0" lang="en-US" sz="3300" spc="-1" strike="noStrike">
                <a:solidFill>
                  <a:srgbClr val="e6e6e6"/>
                </a:solidFill>
                <a:latin typeface="Arial"/>
                <a:ea typeface="HG Mincho Light J"/>
              </a:rPr>
              <a:t>сточных вод.</a:t>
            </a:r>
            <a:endParaRPr b="0" lang="ru-RU" sz="3300" spc="-1" strike="noStrike">
              <a:solidFill>
                <a:srgbClr val="ffffff"/>
              </a:solidFill>
              <a:latin typeface="Palatino Linotype"/>
            </a:endParaRPr>
          </a:p>
          <a:p>
            <a:pPr marL="504000" indent="-432000">
              <a:lnSpc>
                <a:spcPct val="100000"/>
              </a:lnSpc>
              <a:spcBef>
                <a:spcPts val="660"/>
              </a:spcBef>
              <a:buClr>
                <a:srgbClr val="ff9966"/>
              </a:buClr>
              <a:buSzPct val="75000"/>
              <a:buFont typeface="StarSymbol"/>
              <a:buChar char="➲"/>
            </a:pPr>
            <a:r>
              <a:rPr b="0" lang="en-US" sz="3300" spc="-1" strike="noStrike">
                <a:solidFill>
                  <a:srgbClr val="e6e6e6"/>
                </a:solidFill>
                <a:latin typeface="Arial"/>
                <a:ea typeface="HG Mincho Light J"/>
              </a:rPr>
              <a:t>3.Не расходовать  чистую воду напрасно.</a:t>
            </a:r>
            <a:endParaRPr b="0" lang="ru-RU" sz="3300" spc="-1" strike="noStrike">
              <a:solidFill>
                <a:srgbClr val="ffffff"/>
              </a:solidFill>
              <a:latin typeface="Palatino Linotype"/>
            </a:endParaRPr>
          </a:p>
          <a:p>
            <a:pPr marL="504000" indent="-432000">
              <a:lnSpc>
                <a:spcPct val="100000"/>
              </a:lnSpc>
              <a:spcBef>
                <a:spcPts val="660"/>
              </a:spcBef>
              <a:buClr>
                <a:srgbClr val="ff9966"/>
              </a:buClr>
              <a:buSzPct val="75000"/>
              <a:buFont typeface="StarSymbol"/>
              <a:buChar char="➲"/>
            </a:pPr>
            <a:r>
              <a:rPr b="0" lang="en-US" sz="3300" spc="-1" strike="noStrike">
                <a:solidFill>
                  <a:srgbClr val="e6e6e6"/>
                </a:solidFill>
                <a:latin typeface="Arial"/>
                <a:ea typeface="HG Mincho Light J"/>
              </a:rPr>
              <a:t>4.Совершенствовать  отчистные сооружения на промышленных производствах</a:t>
            </a:r>
            <a:endParaRPr b="0" lang="ru-RU" sz="33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0" name="Полилиния 3"/>
          <p:cNvSpPr/>
          <p:nvPr/>
        </p:nvSpPr>
        <p:spPr>
          <a:xfrm>
            <a:off x="6988320" y="5356800"/>
            <a:ext cx="2161800" cy="1424160"/>
          </a:xfrm>
          <a:custGeom>
            <a:avLst/>
            <a:gdLst>
              <a:gd name="textAreaLeft" fmla="*/ 0 w 2161800"/>
              <a:gd name="textAreaRight" fmla="*/ 2162160 w 2161800"/>
              <a:gd name="textAreaTop" fmla="*/ 0 h 1424160"/>
              <a:gd name="textAreaBottom" fmla="*/ 1424520 h 1424160"/>
            </a:gdLst>
            <a:ahLst/>
            <a:rect l="textAreaLeft" t="textAreaTop" r="textAreaRight" b="textAreaBottom"/>
            <a:pathLst>
              <a:path w="6622" h="4363">
                <a:moveTo>
                  <a:pt x="93" y="4363"/>
                </a:moveTo>
                <a:lnTo>
                  <a:pt x="0" y="23"/>
                </a:lnTo>
                <a:lnTo>
                  <a:pt x="6530" y="0"/>
                </a:lnTo>
                <a:lnTo>
                  <a:pt x="6622" y="433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Arial"/>
              <a:ea typeface="HG Mincho Light J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51640" y="472500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0000"/>
          </a:bodyPr>
          <a:p>
            <a:pPr indent="0">
              <a:lnSpc>
                <a:spcPct val="100000"/>
              </a:lnSpc>
              <a:buNone/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кая некрасивая вода,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Отравлена железом и мазутом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Она не замерзает никогда,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Шумит, шумит в любое время суток!</a:t>
            </a:r>
            <a:br>
              <a:rPr sz="4900"/>
            </a:br>
            <a:endParaRPr b="0" lang="ru-RU" sz="22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39240" y="34560"/>
            <a:ext cx="9072720" cy="3384000"/>
          </a:xfrm>
          <a:prstGeom prst="rect">
            <a:avLst/>
          </a:prstGeom>
          <a:ln w="0">
            <a:noFill/>
          </a:ln>
        </p:spPr>
      </p:pic>
      <p:pic>
        <p:nvPicPr>
          <p:cNvPr id="333" name="Объект 8" descr=""/>
          <p:cNvPicPr/>
          <p:nvPr/>
        </p:nvPicPr>
        <p:blipFill>
          <a:blip r:embed="rId2"/>
          <a:stretch/>
        </p:blipFill>
        <p:spPr>
          <a:xfrm>
            <a:off x="4356000" y="3717000"/>
            <a:ext cx="4715640" cy="28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251640" y="1124640"/>
            <a:ext cx="8496720" cy="48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 marL="18360" indent="0" algn="ctr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дя исследования, пришли к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ода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ru-RU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3960" indent="-255600" algn="just">
              <a:lnSpc>
                <a:spcPct val="150000"/>
              </a:lnSpc>
              <a:spcBef>
                <a:spcPts val="479"/>
              </a:spcBef>
              <a:buClr>
                <a:srgbClr val="ffffff"/>
              </a:buClr>
              <a:buSzPct val="60000"/>
              <a:buFont typeface="Palatino Linotype"/>
              <a:buAutoNum type="arabicPeriod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Окружающая среда на территории   Краснодарского  края остается загрязненной. Необходимо принимать меры  по  её очистке;</a:t>
            </a:r>
            <a:endParaRPr b="0" lang="ru-RU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3960" indent="-255600" algn="just">
              <a:lnSpc>
                <a:spcPct val="150000"/>
              </a:lnSpc>
              <a:spcBef>
                <a:spcPts val="479"/>
              </a:spcBef>
              <a:buClr>
                <a:srgbClr val="ffffff"/>
              </a:buClr>
              <a:buSzPct val="60000"/>
              <a:buFont typeface="Palatino Linotype"/>
              <a:buAutoNum type="arabicPeriod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Ее последствия привели к ухудшению водного и почвенного покрова;</a:t>
            </a:r>
            <a:endParaRPr b="0" lang="ru-RU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3960" indent="-255600" algn="just">
              <a:lnSpc>
                <a:spcPct val="150000"/>
              </a:lnSpc>
              <a:spcBef>
                <a:spcPts val="479"/>
              </a:spcBef>
              <a:buClr>
                <a:srgbClr val="ffffff"/>
              </a:buClr>
              <a:buSzPct val="60000"/>
              <a:buFont typeface="Palatino Linotype"/>
              <a:buAutoNum type="arabicPeriod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 этом концентрация отдельных вредных для здоровья людей веществ превосходит ПДК в десятки и сотни раз! Все это сказывается на состоянии здоровья населения;</a:t>
            </a:r>
            <a:endParaRPr b="0" lang="ru-RU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3960" indent="-255600" algn="just">
              <a:lnSpc>
                <a:spcPct val="150000"/>
              </a:lnSpc>
              <a:spcBef>
                <a:spcPts val="479"/>
              </a:spcBef>
              <a:buClr>
                <a:srgbClr val="ffffff"/>
              </a:buClr>
              <a:buSzPct val="60000"/>
              <a:buFont typeface="Palatino Linotype"/>
              <a:buAutoNum type="arabicPeriod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Очень сильно страдает животный и растительный мир реки Кубань.</a:t>
            </a:r>
            <a:endParaRPr b="0" lang="ru-RU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8360" indent="0" algn="just">
              <a:lnSpc>
                <a:spcPct val="2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14760" y="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Выводы:</a:t>
            </a: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683640" y="1556640"/>
            <a:ext cx="7545600" cy="36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3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Palatino Linotype"/>
              </a:rPr>
              <a:t>Спасибо  за внимание!</a:t>
            </a:r>
            <a:endParaRPr b="0" lang="ru-RU" sz="8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79640" y="685800"/>
            <a:ext cx="8049600" cy="519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559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Актуальность данной темы заключается в экологической проблеме реки Кубань,  которая протекает через населенные пункты Краснодарского края и впадает в Азовское море. В последнее время всё большую актуальность приобретает тема экологии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. 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777240" y="692640"/>
            <a:ext cx="7543440" cy="71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Актуальность</a:t>
            </a: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Объект 6" descr=""/>
          <p:cNvPicPr/>
          <p:nvPr/>
        </p:nvPicPr>
        <p:blipFill>
          <a:blip r:embed="rId1"/>
          <a:stretch/>
        </p:blipFill>
        <p:spPr>
          <a:xfrm>
            <a:off x="323640" y="548640"/>
            <a:ext cx="4857840" cy="3888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652000" y="332640"/>
            <a:ext cx="3168000" cy="41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Проблема загрязнения почв, воды, атмосферы городов и прилежащих к ним территорий затрагивает всех нас - жителей крупных городов, в том числе и г. Краснодара. Экологическая обстановка в г. Краснодаре остаётся достаточно напряжённой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Проблема загрязнения</a:t>
            </a: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179640" y="548640"/>
            <a:ext cx="7751880" cy="532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5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Возникают всё новые и новые экологические проблемы города. Краснодарский край – это не только административно-хозяйственная  система в Российской Федерации, но и экологическая система.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777240" y="404640"/>
            <a:ext cx="7543440" cy="15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Экологические проблемы</a:t>
            </a: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240" y="188640"/>
            <a:ext cx="7543440" cy="100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Река Кубань</a:t>
            </a: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79" name="Объект 3" descr=""/>
          <p:cNvPicPr/>
          <p:nvPr/>
        </p:nvPicPr>
        <p:blipFill>
          <a:blip r:embed="rId1"/>
          <a:stretch/>
        </p:blipFill>
        <p:spPr>
          <a:xfrm>
            <a:off x="827640" y="1484640"/>
            <a:ext cx="7344360" cy="43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7400" y="-144720"/>
            <a:ext cx="78076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e6e6e6"/>
                </a:solidFill>
                <a:latin typeface="Arial"/>
              </a:rPr>
              <a:t>ЗНАЧЕНИЕ РЕКИ КУБАНЬ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2"/>
          <p:cNvSpPr/>
          <p:nvPr/>
        </p:nvSpPr>
        <p:spPr>
          <a:xfrm>
            <a:off x="130680" y="764640"/>
            <a:ext cx="8425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Главной водной артерией Краснодарского края является река Кубан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Она имеет особое значение для края не только как баз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Водоснабжен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но и как приемник промышленных и хозяйственно-бытовы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сточных вод 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Вода реки Кубань, как и большинства водоемов мира, подверж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нерациональном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использованию со стороны человека и, как одно из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последстви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происходит ее загрязн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Рисунок 3" descr=""/>
          <p:cNvPicPr/>
          <p:nvPr/>
        </p:nvPicPr>
        <p:blipFill>
          <a:blip r:embed="rId1"/>
          <a:stretch/>
        </p:blipFill>
        <p:spPr>
          <a:xfrm>
            <a:off x="130680" y="2682000"/>
            <a:ext cx="8890560" cy="41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95640" y="258840"/>
            <a:ext cx="7833600" cy="136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55960">
              <a:lnSpc>
                <a:spcPct val="100000"/>
              </a:lnSpc>
              <a:spcBef>
                <a:spcPts val="879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Исследование проблемы</a:t>
            </a:r>
            <a:endParaRPr b="0" lang="ru-RU" sz="44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4900"/>
            </a:br>
            <a:br>
              <a:rPr sz="4900"/>
            </a:br>
            <a:br>
              <a:rPr sz="4900"/>
            </a:b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5" name="Прямоугольник 6"/>
          <p:cNvSpPr/>
          <p:nvPr/>
        </p:nvSpPr>
        <p:spPr>
          <a:xfrm>
            <a:off x="826920" y="1132200"/>
            <a:ext cx="5742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Нашей группой было проведено исследование</a:t>
            </a: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Прямоугольник 8"/>
          <p:cNvSpPr/>
          <p:nvPr/>
        </p:nvSpPr>
        <p:spPr>
          <a:xfrm>
            <a:off x="467640" y="1939680"/>
            <a:ext cx="72723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algn="just">
              <a:lnSpc>
                <a:spcPct val="15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ектом исследования является река Кубань. Оценка  её загрязнения и степень влияния загрязняющих веществ на организ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0" y="332640"/>
            <a:ext cx="9143640" cy="61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360" indent="0">
              <a:lnSpc>
                <a:spcPct val="100000"/>
              </a:lnSpc>
              <a:spcBef>
                <a:spcPts val="1380"/>
              </a:spcBef>
              <a:buNone/>
              <a:tabLst>
                <a:tab algn="l" pos="0"/>
              </a:tabLst>
            </a:pPr>
            <a:r>
              <a:rPr b="0" lang="ru-RU" sz="6900" spc="-1" strike="noStrike">
                <a:solidFill>
                  <a:srgbClr val="ffffff"/>
                </a:solidFill>
                <a:latin typeface="Palatino Linotype"/>
              </a:rPr>
              <a:t>План исследования</a:t>
            </a:r>
            <a:endParaRPr b="0" lang="ru-RU" sz="6900" spc="-1" strike="noStrike">
              <a:solidFill>
                <a:srgbClr val="ffffff"/>
              </a:solidFill>
              <a:latin typeface="Palatino Linotype"/>
            </a:endParaRPr>
          </a:p>
          <a:p>
            <a:pPr marL="183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Цвет воды</a:t>
            </a: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Прозрачность</a:t>
            </a: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Запах</a:t>
            </a: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Водородный показатель</a:t>
            </a: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Пути загрязнения</a:t>
            </a: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6000"/>
          </a:bodyPr>
          <a:p>
            <a:pPr marL="136800" indent="0">
              <a:lnSpc>
                <a:spcPct val="200000"/>
              </a:lnSpc>
              <a:spcBef>
                <a:spcPts val="459"/>
              </a:spcBef>
              <a:buNone/>
              <a:tabLst>
                <a:tab algn="l" pos="0"/>
              </a:tabLst>
            </a:pPr>
            <a:br>
              <a:rPr sz="2000"/>
            </a:br>
            <a:br>
              <a:rPr sz="2000"/>
            </a:br>
            <a:br>
              <a:rPr sz="2300"/>
            </a:b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Базовая">
  <a:themeElements>
    <a:clrScheme name="Базовая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азовая">
  <a:themeElements>
    <a:clrScheme name="Базовая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rs-strategy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Базовая">
  <a:themeElements>
    <a:clrScheme name="Базовая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Базовая">
  <a:themeElements>
    <a:clrScheme name="Базовая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Базовая">
  <a:themeElements>
    <a:clrScheme name="Базовая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lemental</Template>
  <TotalTime>140</TotalTime>
  <Application>LibreOffice/7.4.7.2$Linux_X86_64 LibreOffice_project/40$Build-2</Application>
  <AppVersion>15.0000</AppVersion>
  <Words>1269</Words>
  <Paragraphs>12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03:10:27Z</dcterms:created>
  <dc:creator>Vovan</dc:creator>
  <dc:description/>
  <dc:language>en-US</dc:language>
  <cp:lastModifiedBy>Home</cp:lastModifiedBy>
  <cp:lastPrinted>2013-11-07T03:57:07Z</cp:lastPrinted>
  <dcterms:modified xsi:type="dcterms:W3CDTF">2020-11-15T19:45:58Z</dcterms:modified>
  <cp:revision>26</cp:revision>
  <dc:subject/>
  <dc:title>Школьная научно – практическая  конференция «Интерес»   «Экологические  проблемы  реки   Кубань» Научно – исследовательский проект 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177654</vt:lpwstr>
  </property>
  <property fmtid="{D5CDD505-2E9C-101B-9397-08002B2CF9AE}" pid="3" name="NXPowerLiteSettings">
    <vt:lpwstr>C7000400038000</vt:lpwstr>
  </property>
  <property fmtid="{D5CDD505-2E9C-101B-9397-08002B2CF9AE}" pid="4" name="NXPowerLiteVersion">
    <vt:lpwstr>S9.0.1</vt:lpwstr>
  </property>
  <property fmtid="{D5CDD505-2E9C-101B-9397-08002B2CF9AE}" pid="5" name="Notes">
    <vt:r8>5</vt:r8>
  </property>
  <property fmtid="{D5CDD505-2E9C-101B-9397-08002B2CF9AE}" pid="6" name="PresentationFormat">
    <vt:lpwstr>Экран (4:3)</vt:lpwstr>
  </property>
  <property fmtid="{D5CDD505-2E9C-101B-9397-08002B2CF9AE}" pid="7" name="Slides">
    <vt:r8>29</vt:r8>
  </property>
</Properties>
</file>