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8A666-51A3-4434-B00C-7EDE9620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53C85-EAC4-47D8-8D39-879EBA46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C6EDF-834E-462E-BAD7-E0D75D41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536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4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536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D3CCC-9757-4559-A3E2-6383A532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DB29C-BF28-469C-8B98-E9286FA8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DCE10-D58C-44B8-A03D-5141883F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81087-5B60-4CC5-85D5-A103AD2C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19164-902B-41CC-AD62-0BDB968C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6DA7D-7E4A-449E-8AB3-035B7DE5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77240" y="4876920"/>
            <a:ext cx="75434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158E6-73B1-43E8-977F-F8EE3B8E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6DC85-8BDE-4D92-A64E-CC134E30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66C06-F019-418A-A756-F7D92A98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49F1E-BC4D-4A72-AE1D-02CAA735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334DF-95B6-488F-AC7E-FA3CB9CC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BFA9A-F5A9-4344-BB2D-6FCBC29B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BC0B7-9A1A-4074-A63C-F3605526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5536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133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4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5536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8E5CD-2296-4332-924E-5A82BEB0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C0A18-16B5-4339-A5E6-F853A838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77240" y="4876920"/>
            <a:ext cx="75434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5536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133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194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5536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FABB4-3338-40E1-B720-389440F4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2785A7-C509-4EDE-AF7D-FECAEBFE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9ACF0-54D0-4C64-BF1C-FDE724D8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8193E-F974-43B7-8B6D-C3BF7B07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D6F82-168F-4437-BFC5-3C6BA58C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136CD-5247-4B58-AEAC-E08E5E2A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" y="4876920"/>
            <a:ext cx="75434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3D391-1E68-43E8-AA44-DF1B5F85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7811B-B645-487C-8AF4-73B74BB5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79C4A-675B-4DEE-97FD-8446520D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4D33A5-82F3-4E39-8BB5-81C18CEE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9D16C-6BAE-44BB-A1D9-D2B8ED3E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C3F602-6B37-4AE9-9ADE-C87E859D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5536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133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194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5536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8620E-EE5A-44ED-B353-44C1B866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2ADC90-98D2-4612-932D-932DEDCA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4FCE-041D-4443-90F6-30CAC906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6392C-28B4-400C-AD93-380C4DA3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FD6355-2BEB-4F06-B28C-CA9D4422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B16E31-4A9E-4422-BB54-D354447B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0D8CDB-6500-4D71-8C9F-BCA2BA1D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777240" y="4876920"/>
            <a:ext cx="75434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0740EB-4602-4FEB-B0FE-C896F2A4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1C2AD2-514F-4746-9A0C-72A8F3F8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EF320F-2F9F-4B5D-A257-E4700C2A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A5E8FE-C712-4F94-B0F4-15F59D45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5427E5-D5E0-40FD-9B7F-304C47B0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13E767-7FC8-4EC7-9FDF-4A2B0195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77240" y="4876920"/>
            <a:ext cx="75434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7D034-D24C-4243-BE7E-A6414865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536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2133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194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536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4F928F-456C-416E-B413-268BC40C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F8B141-6771-4DB1-AECE-E88B92D0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F2605-E448-414D-8CDF-DEF49F1F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A17F5-E1E5-415F-BFF6-F519B2F1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B70D58-B1DA-401C-A401-90696CDC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98CA2-B521-4583-BC22-45F144C0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777240" y="4876920"/>
            <a:ext cx="75434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7A8C03-9CCA-4C07-A6CD-62D15380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463C3E-7ED7-4069-82AB-2D4A8917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C9876D-BF63-4A45-88D6-25C27542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9FCE8F-FDCA-45B4-845E-0FF63C15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3AAB6-1A7B-4DE1-94AC-430AB072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5D781F-9ED0-4C6D-B1EC-5069AC39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F507D-CFAA-48AC-8E29-032D686E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55360" y="68580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2133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419472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255360" y="2595960"/>
            <a:ext cx="196236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F8F44C-389C-4584-A770-84A70C40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36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57080" y="259596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D2909-A47E-4908-A3BD-87629FA0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72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3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720" y="2595960"/>
            <a:ext cx="6095520" cy="17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5E196-F60D-4F8E-B39C-61C1AFC6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3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2133720" y="685800"/>
            <a:ext cx="6095520" cy="36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55960">
              <a:lnSpc>
                <a:spcPct val="100000"/>
              </a:lnSpc>
              <a:spcBef>
                <a:spcPts val="4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Образец текста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40080" indent="-255960">
              <a:lnSpc>
                <a:spcPct val="100000"/>
              </a:lnSpc>
              <a:spcBef>
                <a:spcPts val="380"/>
              </a:spcBef>
              <a:buClr>
                <a:srgbClr val="ffffff"/>
              </a:buClr>
              <a:buSzPct val="60000"/>
              <a:buFont typeface="Wingdings" charset="2"/>
              <a:buChar char=""/>
            </a:pPr>
            <a:r>
              <a:rPr b="0" lang="ru-RU" sz="1900" spc="-1" strike="noStrike">
                <a:solidFill>
                  <a:srgbClr val="ffffff"/>
                </a:solidFill>
                <a:latin typeface="Palatino Linotype"/>
              </a:rPr>
              <a:t>Второй уровень</a:t>
            </a:r>
            <a:endParaRPr b="0" lang="ru-RU" sz="19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5840" indent="-255960">
              <a:lnSpc>
                <a:spcPct val="100000"/>
              </a:lnSpc>
              <a:spcBef>
                <a:spcPts val="340"/>
              </a:spcBef>
              <a:buClr>
                <a:srgbClr val="ffffff"/>
              </a:buClr>
              <a:buSzPct val="60000"/>
              <a:buFont typeface="Wingdings" charset="2"/>
              <a:buChar char="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Третий уровень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96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SzPct val="60000"/>
              <a:buFont typeface="Wingdings" charset="2"/>
              <a:buChar char="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5920" indent="-25596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Пятый уровень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Образец заголовка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A61B997-57A4-4166-968C-0982E85157A5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8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329080" y="1774440"/>
            <a:ext cx="456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838080" y="685800"/>
            <a:ext cx="4343040" cy="34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5596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Образец текста</a:t>
            </a: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40080" indent="-25596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60000"/>
              <a:buFont typeface="Wingdings" charset="2"/>
              <a:buChar char=""/>
            </a:pPr>
            <a:r>
              <a:rPr b="0" lang="ru-RU" sz="2200" spc="-1" strike="noStrike">
                <a:solidFill>
                  <a:srgbClr val="ffffff"/>
                </a:solidFill>
                <a:latin typeface="Palatino Linotype"/>
              </a:rPr>
              <a:t>Второй уровень</a:t>
            </a:r>
            <a:endParaRPr b="0" lang="ru-RU" sz="22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5840" indent="-255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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96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SzPct val="60000"/>
              <a:buFont typeface="Wingdings" charset="2"/>
              <a:buChar char=""/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5920" indent="-25596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715000" y="685800"/>
            <a:ext cx="2590560" cy="34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Образец текста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638FD08-A7AE-4724-B894-E8BEF918C468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Образец заголовка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"/>
          <p:cNvPicPr/>
          <p:nvPr/>
        </p:nvPicPr>
        <p:blipFill>
          <a:blip r:embed="rId2"/>
          <a:stretch/>
        </p:blipFill>
        <p:spPr>
          <a:xfrm>
            <a:off x="7199640" y="5671080"/>
            <a:ext cx="1785960" cy="958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e6e6e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32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33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34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Образец заголовка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7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8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88719BA-810D-40C6-80D1-FD00D1A31732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9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77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78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79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ldNum" idx="11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81487C3-A173-4027-9B47-5287F4D3A8D7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12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22" name="Oval 7"/>
          <p:cNvSpPr/>
          <p:nvPr/>
        </p:nvSpPr>
        <p:spPr>
          <a:xfrm rot="19724400">
            <a:off x="1373040" y="1038600"/>
            <a:ext cx="7240320" cy="5706720"/>
          </a:xfrm>
          <a:prstGeom prst="ellipse">
            <a:avLst/>
          </a:prstGeom>
          <a:gradFill rotWithShape="0">
            <a:gsLst>
              <a:gs pos="0">
                <a:srgbClr val="c4bcc6">
                  <a:alpha val="7058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23" name="Oval 8"/>
          <p:cNvSpPr/>
          <p:nvPr/>
        </p:nvSpPr>
        <p:spPr>
          <a:xfrm rot="17656800">
            <a:off x="-273960" y="1165680"/>
            <a:ext cx="5538240" cy="448020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24" name="Oval 9"/>
          <p:cNvSpPr/>
          <p:nvPr/>
        </p:nvSpPr>
        <p:spPr>
          <a:xfrm rot="19724400">
            <a:off x="3277800" y="117000"/>
            <a:ext cx="6478920" cy="4754520"/>
          </a:xfrm>
          <a:prstGeom prst="ellipse">
            <a:avLst/>
          </a:prstGeom>
          <a:gradFill rotWithShape="0">
            <a:gsLst>
              <a:gs pos="0">
                <a:srgbClr val="c4bcc6">
                  <a:alpha val="8235"/>
                </a:srgbClr>
              </a:gs>
              <a:gs pos="100000">
                <a:srgbClr val="242852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dt" idx="13"/>
          </p:nvPr>
        </p:nvSpPr>
        <p:spPr>
          <a:xfrm>
            <a:off x="6172200" y="61545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Num" idx="14"/>
          </p:nvPr>
        </p:nvSpPr>
        <p:spPr>
          <a:xfrm>
            <a:off x="822960" y="584208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A0F8DB1-ACDD-4FB2-AB77-93E319CB9EDE}" type="slidenum">
              <a:rPr b="0" lang="ru-RU" sz="1600" spc="-1" strike="noStrike">
                <a:solidFill>
                  <a:srgbClr val="ffffff">
                    <a:alpha val="60000"/>
                  </a:srgbClr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15"/>
          </p:nvPr>
        </p:nvSpPr>
        <p:spPr>
          <a:xfrm>
            <a:off x="822960" y="6154560"/>
            <a:ext cx="45716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Образец заголовка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body"/>
          </p:nvPr>
        </p:nvSpPr>
        <p:spPr>
          <a:xfrm>
            <a:off x="1344240" y="658440"/>
            <a:ext cx="3273120" cy="34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55960">
              <a:lnSpc>
                <a:spcPct val="100000"/>
              </a:lnSpc>
              <a:spcBef>
                <a:spcPts val="4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Образец текста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40080" indent="-255960">
              <a:lnSpc>
                <a:spcPct val="100000"/>
              </a:lnSpc>
              <a:spcBef>
                <a:spcPts val="380"/>
              </a:spcBef>
              <a:buClr>
                <a:srgbClr val="ffffff"/>
              </a:buClr>
              <a:buSzPct val="60000"/>
              <a:buFont typeface="Wingdings" charset="2"/>
              <a:buChar char=""/>
            </a:pPr>
            <a:r>
              <a:rPr b="0" lang="ru-RU" sz="1900" spc="-1" strike="noStrike">
                <a:solidFill>
                  <a:srgbClr val="ffffff"/>
                </a:solidFill>
                <a:latin typeface="Palatino Linotype"/>
              </a:rPr>
              <a:t>Второй уровень</a:t>
            </a:r>
            <a:endParaRPr b="0" lang="ru-RU" sz="19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5840" indent="-255960">
              <a:lnSpc>
                <a:spcPct val="100000"/>
              </a:lnSpc>
              <a:spcBef>
                <a:spcPts val="340"/>
              </a:spcBef>
              <a:buClr>
                <a:srgbClr val="ffffff"/>
              </a:buClr>
              <a:buSzPct val="60000"/>
              <a:buFont typeface="Wingdings" charset="2"/>
              <a:buChar char="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Третий уровень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96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SzPct val="60000"/>
              <a:buFont typeface="Wingdings" charset="2"/>
              <a:buChar char="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5920" indent="-25596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Пятый уровень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body"/>
          </p:nvPr>
        </p:nvSpPr>
        <p:spPr>
          <a:xfrm>
            <a:off x="5029200" y="658440"/>
            <a:ext cx="3273120" cy="34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55960">
              <a:lnSpc>
                <a:spcPct val="100000"/>
              </a:lnSpc>
              <a:spcBef>
                <a:spcPts val="4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Образец текста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40080" indent="-255960">
              <a:lnSpc>
                <a:spcPct val="100000"/>
              </a:lnSpc>
              <a:spcBef>
                <a:spcPts val="380"/>
              </a:spcBef>
              <a:buClr>
                <a:srgbClr val="ffffff"/>
              </a:buClr>
              <a:buSzPct val="60000"/>
              <a:buFont typeface="Wingdings" charset="2"/>
              <a:buChar char=""/>
            </a:pPr>
            <a:r>
              <a:rPr b="0" lang="ru-RU" sz="1900" spc="-1" strike="noStrike">
                <a:solidFill>
                  <a:srgbClr val="ffffff"/>
                </a:solidFill>
                <a:latin typeface="Palatino Linotype"/>
              </a:rPr>
              <a:t>Второй уровень</a:t>
            </a:r>
            <a:endParaRPr b="0" lang="ru-RU" sz="19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5840" indent="-255960">
              <a:lnSpc>
                <a:spcPct val="100000"/>
              </a:lnSpc>
              <a:spcBef>
                <a:spcPts val="340"/>
              </a:spcBef>
              <a:buClr>
                <a:srgbClr val="ffffff"/>
              </a:buClr>
              <a:buSzPct val="60000"/>
              <a:buFont typeface="Wingdings" charset="2"/>
              <a:buChar char=""/>
            </a:pPr>
            <a:r>
              <a:rPr b="0" lang="ru-RU" sz="1700" spc="-1" strike="noStrike">
                <a:solidFill>
                  <a:srgbClr val="ffffff"/>
                </a:solidFill>
                <a:latin typeface="Palatino Linotype"/>
              </a:rPr>
              <a:t>Третий уровень</a:t>
            </a:r>
            <a:endParaRPr b="0" lang="ru-RU" sz="17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960">
              <a:lnSpc>
                <a:spcPct val="100000"/>
              </a:lnSpc>
              <a:spcBef>
                <a:spcPts val="320"/>
              </a:spcBef>
              <a:buClr>
                <a:srgbClr val="ffffff"/>
              </a:buClr>
              <a:buSzPct val="60000"/>
              <a:buFont typeface="Wingdings" charset="2"/>
              <a:buChar char=""/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5920" indent="-255960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1500" spc="-1" strike="noStrike">
                <a:solidFill>
                  <a:srgbClr val="ffffff"/>
                </a:solidFill>
                <a:latin typeface="Palatino Linotype"/>
              </a:rPr>
              <a:t>Пятый уровень</a:t>
            </a:r>
            <a:endParaRPr b="0" lang="ru-RU" sz="15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260640"/>
            <a:ext cx="8229240" cy="55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360" indent="0" algn="ctr">
              <a:lnSpc>
                <a:spcPct val="15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оект </a:t>
            </a:r>
            <a:endParaRPr b="0" lang="ru-RU" sz="4800" spc="-1" strike="noStrike">
              <a:solidFill>
                <a:srgbClr val="ffffff"/>
              </a:solidFill>
              <a:latin typeface="Palatino Linotype"/>
            </a:endParaRPr>
          </a:p>
          <a:p>
            <a:pPr marL="18360" indent="0" algn="ctr">
              <a:lnSpc>
                <a:spcPct val="15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грязнение реки Кубань.</a:t>
            </a:r>
            <a:endParaRPr b="0" lang="ru-RU" sz="48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r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Palatino Linotype"/>
                <a:ea typeface="Calibri"/>
              </a:rPr>
              <a:t>Проект подготовили ученики 11б класса средней школы № 80</a:t>
            </a:r>
            <a:endParaRPr b="0" lang="ru-RU" sz="14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r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Palatino Linotype"/>
                <a:ea typeface="Calibri"/>
              </a:rPr>
              <a:t>Екатерина Ходкевич, Крень Вадим, </a:t>
            </a:r>
            <a:endParaRPr b="0" lang="ru-RU" sz="14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r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Palatino Linotype"/>
                <a:ea typeface="Calibri"/>
              </a:rPr>
              <a:t>Васильева Даша, Комбарова Влада, Загребаев Дима,</a:t>
            </a:r>
            <a:endParaRPr b="0" lang="ru-RU" sz="14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r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Palatino Linotype"/>
                <a:ea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Palatino Linotype"/>
                <a:ea typeface="Calibri"/>
              </a:rPr>
              <a:t>Вероника Кравченко, Соня Склярова.</a:t>
            </a:r>
            <a:endParaRPr b="0" lang="ru-RU" sz="14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r">
              <a:lnSpc>
                <a:spcPct val="100000"/>
              </a:lnSpc>
              <a:spcBef>
                <a:spcPts val="28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ahnschrift"/>
                <a:ea typeface="Calibri"/>
              </a:rPr>
              <a:t>Руководитель: учитель кубановедения  Чуприна И.П.</a:t>
            </a:r>
            <a:endParaRPr b="0" lang="ru-RU" sz="1400" spc="-1" strike="noStrike">
              <a:solidFill>
                <a:srgbClr val="ffffff"/>
              </a:solidFill>
              <a:latin typeface="Palatino Linotype"/>
            </a:endParaRPr>
          </a:p>
          <a:p>
            <a:pPr indent="0" algn="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28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2720" indent="0">
              <a:lnSpc>
                <a:spcPct val="150000"/>
              </a:lnSpc>
              <a:spcBef>
                <a:spcPts val="159"/>
              </a:spcBef>
              <a:buNone/>
              <a:tabLst>
                <a:tab algn="l" pos="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ru-RU" sz="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640" y="54864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4900" spc="-1" strike="noStrike">
                <a:solidFill>
                  <a:srgbClr val="ffffff"/>
                </a:solidFill>
                <a:latin typeface="Times New Roman"/>
                <a:ea typeface="Calibri"/>
              </a:rPr>
              <a:t>Цвет воды</a:t>
            </a:r>
            <a:br>
              <a:rPr sz="7200"/>
            </a:b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251640" y="3357000"/>
            <a:ext cx="617184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"/>
          </a:bodyPr>
          <a:p>
            <a:pPr marL="76680" indent="-71640">
              <a:lnSpc>
                <a:spcPct val="100000"/>
              </a:lnSpc>
              <a:spcBef>
                <a:spcPts val="4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 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76680" indent="-7164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1" lang="ru-RU" sz="8000" spc="-1" strike="noStrike">
                <a:solidFill>
                  <a:srgbClr val="ffffff"/>
                </a:solidFill>
                <a:latin typeface="Palatino Linotype"/>
              </a:rPr>
              <a:t>Цвет (окраска)  -  </a:t>
            </a:r>
            <a:r>
              <a:rPr b="0" lang="ru-RU" sz="8000" spc="-1" strike="noStrike">
                <a:solidFill>
                  <a:srgbClr val="ffffff"/>
                </a:solidFill>
                <a:latin typeface="Palatino Linotype"/>
              </a:rPr>
              <a:t>Диагностика цвета – один из показателей состояния водоема. Для определения цветности воды нужны стеклянный сосуд и лист белой бумаги. В сосуд набирают воду и на фоне бумаги определяют цвет воды (голубой, зеленый, серый, желтый, коричневый) – показатель определенного вида загрязнений. В реке Кубань вода серо-желтого цвета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76680" indent="-71640" algn="just">
              <a:lnSpc>
                <a:spcPct val="150000"/>
              </a:lnSpc>
              <a:spcBef>
                <a:spcPts val="1440"/>
              </a:spcBef>
              <a:buClr>
                <a:srgbClr val="ffffff"/>
              </a:buClr>
              <a:buSzPct val="60000"/>
              <a:buFont typeface="Symbol"/>
              <a:buChar char=""/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 загрязнении водоема стоками промышленных предприятий вода может иметь окраску, не свойственную цветности природных вод. Для источников хозяйственно-питьевого водоснабжения окраска не должна обнаруживаться в столбике высотой 20 см, Для водоемов культурно-бытового значения – 10 см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600" y="0"/>
            <a:ext cx="9140040" cy="587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4320" indent="-255960" algn="just">
              <a:lnSpc>
                <a:spcPct val="150000"/>
              </a:lnSpc>
              <a:spcBef>
                <a:spcPts val="720"/>
              </a:spcBef>
              <a:buClr>
                <a:srgbClr val="ffffff"/>
              </a:buClr>
              <a:buSzPct val="60000"/>
              <a:buFont typeface="Symbol"/>
              <a:buChar char=""/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озрачность</a:t>
            </a:r>
            <a:endParaRPr b="0" lang="ru-RU" sz="3600" spc="-1" strike="noStrike">
              <a:solidFill>
                <a:srgbClr val="ffffff"/>
              </a:solidFill>
              <a:latin typeface="Palatino Linotype"/>
            </a:endParaRPr>
          </a:p>
          <a:p>
            <a:pPr indent="0" algn="just">
              <a:lnSpc>
                <a:spcPct val="150000"/>
              </a:lnSpc>
              <a:spcBef>
                <a:spcPts val="720"/>
              </a:spcBef>
              <a:buNone/>
            </a:pPr>
            <a:endParaRPr b="0" lang="ru-RU" sz="36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just">
              <a:lnSpc>
                <a:spcPct val="15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Symbol"/>
              <a:buChar char=""/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озрачность воды зависит от нескольких факторов: количества взвешенных частиц ила, глины, песка, микроорганизмов, содержания химических соединений.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just">
              <a:lnSpc>
                <a:spcPct val="15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Symbol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оду в реке нельзя назвать прозрачной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 rot="10800000">
            <a:off x="777240" y="5791320"/>
            <a:ext cx="7543440" cy="45360"/>
          </a:xfrm>
          <a:prstGeom prst="rect">
            <a:avLst/>
          </a:prstGeom>
          <a:noFill/>
          <a:ln w="0">
            <a:noFill/>
          </a:ln>
        </p:spPr>
        <p:txBody>
          <a:bodyPr tIns="22680" bIns="22680" anchor="b">
            <a:noAutofit/>
          </a:bodyPr>
          <a:p>
            <a:pPr indent="0">
              <a:buNone/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67640" y="11664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marL="257760" indent="-240480" algn="ctr">
              <a:lnSpc>
                <a:spcPct val="150000"/>
              </a:lnSpc>
              <a:spcBef>
                <a:spcPts val="720"/>
              </a:spcBef>
              <a:buClr>
                <a:srgbClr val="ffffff"/>
              </a:buClr>
              <a:buSzPct val="60000"/>
              <a:buFont typeface="Symbol"/>
              <a:buChar char=""/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пах</a:t>
            </a:r>
            <a:endParaRPr b="0" lang="ru-RU" sz="3600" spc="-1" strike="noStrike">
              <a:solidFill>
                <a:srgbClr val="ffffff"/>
              </a:solidFill>
              <a:latin typeface="Palatino Linotype"/>
            </a:endParaRPr>
          </a:p>
          <a:p>
            <a:pPr indent="0" algn="ctr">
              <a:lnSpc>
                <a:spcPct val="150000"/>
              </a:lnSpc>
              <a:spcBef>
                <a:spcPts val="720"/>
              </a:spcBef>
              <a:buNone/>
            </a:pPr>
            <a:endParaRPr b="0" lang="ru-RU" sz="3600" spc="-1" strike="noStrike">
              <a:solidFill>
                <a:srgbClr val="ffffff"/>
              </a:solidFill>
              <a:latin typeface="Palatino Linotype"/>
            </a:endParaRPr>
          </a:p>
          <a:p>
            <a:pPr marL="257760" indent="-240480" algn="just">
              <a:lnSpc>
                <a:spcPct val="150000"/>
              </a:lnSpc>
              <a:spcBef>
                <a:spcPts val="519"/>
              </a:spcBef>
              <a:buClr>
                <a:srgbClr val="ffffff"/>
              </a:buClr>
              <a:buSzPct val="60000"/>
              <a:buFont typeface="Symbol"/>
              <a:buChar char=""/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пах воды обусловлен наличием в ней пахнущих веществ, которые попадают в нее естественным путем или со сточными водами. Характер и интенсивность определяют по предполагаемой методике.</a:t>
            </a:r>
            <a:endParaRPr b="0" lang="ru-RU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7760" indent="-240480" algn="just">
              <a:lnSpc>
                <a:spcPct val="150000"/>
              </a:lnSpc>
              <a:spcBef>
                <a:spcPts val="519"/>
              </a:spcBef>
              <a:buClr>
                <a:srgbClr val="ffffff"/>
              </a:buClr>
              <a:buSzPct val="60000"/>
              <a:buFont typeface="Symbol"/>
              <a:buChar char=""/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пах воды следует определять в помещении, в котором воздух не имеет постороннего запаха. Желательно, чтобы интенсивность запаха отмечали несколько исследователей.</a:t>
            </a:r>
            <a:endParaRPr b="0" lang="ru-RU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7760" indent="-240480" algn="just">
              <a:lnSpc>
                <a:spcPct val="150000"/>
              </a:lnSpc>
              <a:spcBef>
                <a:spcPts val="519"/>
              </a:spcBef>
              <a:buClr>
                <a:srgbClr val="ffffff"/>
              </a:buClr>
              <a:buSzPct val="60000"/>
              <a:buFont typeface="Symbol"/>
              <a:buChar char=""/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пах воды был оценен по данной таблице. Оценка- 3 балла</a:t>
            </a:r>
            <a:endParaRPr b="0" lang="ru-RU" sz="26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777240" y="6858000"/>
            <a:ext cx="7543440" cy="9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44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899640" y="1556640"/>
            <a:ext cx="7200360" cy="4104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3640" y="54864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Интенсивность запаха воды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07640" y="836640"/>
            <a:ext cx="835272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4320" indent="-255960" algn="just">
              <a:lnSpc>
                <a:spcPct val="100000"/>
              </a:lnSpc>
              <a:spcBef>
                <a:spcPts val="4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Значение  pH воды водоемов хозяйственного, питьевого, культурно-бытового назначения регламентируется в пределах 6,5-8,5.Оценивать значение pH можно разными способами.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just">
              <a:lnSpc>
                <a:spcPct val="100000"/>
              </a:lnSpc>
              <a:spcBef>
                <a:spcPts val="4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ближенное значение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pH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 определяется следующим образом. В пробирку наливают  5 мл исследуемой воды, 0,1 мл универсального индикатора, перемешивают и по окраске раствора определяют pH или определяют  с помощью индикаторных  полосок.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just">
              <a:lnSpc>
                <a:spcPct val="100000"/>
              </a:lnSpc>
              <a:spcBef>
                <a:spcPts val="4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- розово-желтая – pH около 5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just">
              <a:lnSpc>
                <a:spcPct val="100000"/>
              </a:lnSpc>
              <a:spcBef>
                <a:spcPts val="4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- </a:t>
            </a:r>
            <a:r>
              <a:rPr b="1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светло-желтая – 6;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just">
              <a:lnSpc>
                <a:spcPct val="100000"/>
              </a:lnSpc>
              <a:spcBef>
                <a:spcPts val="4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- зеленовато-голубая – 8.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just">
              <a:lnSpc>
                <a:spcPct val="100000"/>
              </a:lnSpc>
              <a:spcBef>
                <a:spcPts val="4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Водородный показатель реки Кубань равен 6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just">
              <a:lnSpc>
                <a:spcPct val="100000"/>
              </a:lnSpc>
              <a:spcBef>
                <a:spcPts val="4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Значение Водородного показателя было взято из информационных источников.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06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27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Водородный показатель (pH)</a:t>
            </a:r>
            <a:br>
              <a:rPr sz="3200"/>
            </a:br>
            <a:br>
              <a:rPr sz="3200"/>
            </a:br>
            <a:endParaRPr b="0" lang="ru-RU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07640" y="1917000"/>
            <a:ext cx="892872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55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став загрязняющих веществ в сточных водах и их концентрации зависят от источника загрязнения, характера и технологии производственного процесса, при этом загрязняющие вещества могут находиться в различных агрегатных состояниях.</a:t>
            </a:r>
            <a:endParaRPr b="0" lang="ru-RU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107640" y="141264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1000"/>
          </a:bodyPr>
          <a:p>
            <a:pPr marL="155880" indent="0">
              <a:lnSpc>
                <a:spcPct val="150000"/>
              </a:lnSpc>
              <a:spcBef>
                <a:spcPts val="720"/>
              </a:spcBef>
              <a:buNone/>
              <a:tabLst>
                <a:tab algn="l" pos="0"/>
              </a:tabLst>
            </a:pPr>
            <a:br>
              <a:rPr sz="28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грязняющие вещества в сточных водах реки Кубань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br>
              <a:rPr sz="3600"/>
            </a:br>
            <a:endParaRPr b="0" lang="ru-RU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51640" y="26064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4320" indent="-2559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тепень загрязнения дождевых стоков зависит от общей санитарной обстановки г. Краснодара. Общепринятая технология уборки улиц не обеспечивает полного удаления загрязнений. Мусор с проезжей части содержит не только кусочки почвы, песок или глину (на поверхности таких частиц  могут находиться патогенные микроорганизмы и вирусы), но и значительное количество органических веществ, биогенов, нефтепродуктов (бензин, мазут), поваренной соли и других реагентов, используемых для таяния льда и снега в зимнее время, солей тяжелых металлов. 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611640" y="602136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179640" y="116640"/>
            <a:ext cx="8856720" cy="56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4320" indent="-255960" algn="just">
              <a:lnSpc>
                <a:spcPct val="150000"/>
              </a:lnSpc>
              <a:spcBef>
                <a:spcPts val="479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Сточные воды металлургических заводов, предприятий, производящих строительные материалы, горно-обогатительных комбинатов содержат взвешенные частицы </a:t>
            </a: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 algn="just">
              <a:lnSpc>
                <a:spcPct val="150000"/>
              </a:lnSpc>
              <a:spcBef>
                <a:spcPts val="479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неорганических веществ. Поверхностные стоки золоотвалов ТЭЦ, деревообрабатывающих и целлюлозно-бумажных комбинатов содержат фенолы в различных агрегатных состояниях.</a:t>
            </a: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7689600" cy="489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559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Много загрязняющих веществ содержится в сточных водах машиностроительных заводов: соли, кислоты, щелочи, хром, свинец, медь, алюминий, краски, органические соединения, масла и т. п. На энергетических предприятиях (кроме атомных электростанций) вода, используемая для охлаждения различных агрегатов, остается практически чистой и может (после охлаждения) использоваться в оборотных системах без очистки. Однако сброс в водоемы чистой, но теплой воды из систем охлаждения – опасное для водной биоты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тепловое загрязн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683640" y="609336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23640" y="685800"/>
            <a:ext cx="7905600" cy="519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269280" indent="-251280" algn="just">
              <a:lnSpc>
                <a:spcPct val="15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Symbol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Достаточно распространенный вид загрязнения, носящий сезонный характер, - загрязнение водоемов поваренной солью NaCl, которую используют для таяния льда и снега в зимнее время. Поваренная соль в широком диапазоне концентраций нетоксична для большинства живых организмов. Но при очень сильном загрязнении водоемов хлоридами происходит гибель высшей водной биоты – рыбы.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683640" y="609336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23640" y="3213000"/>
            <a:ext cx="7704360" cy="1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55960">
              <a:lnSpc>
                <a:spcPct val="200000"/>
              </a:lnSpc>
              <a:spcBef>
                <a:spcPts val="72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и и задачи</a:t>
            </a:r>
            <a:endParaRPr b="0" lang="ru-RU" sz="36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>
              <a:lnSpc>
                <a:spcPct val="20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данного проекта:  изучить  экологическое  состояние реки Кубань, оценить  степень  влияния  загрязняющих  веществ  на живые  организмы. Показать, что лежит на дне реки и на её берегах.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рассмотреть выявить степень загрязнения реки Кубань и её роль в жизнедеятельности  организмов. Для достижения поставленных задач  были использованы методы, направленные   на изучение  качества  и  степени  загрязнённости водоёма при  проведении  биомониторинга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были взяты пробы воды реки Кубань и сделан её анализ.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107640" y="18864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55960" algn="just">
              <a:lnSpc>
                <a:spcPct val="15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Symbol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падание в воду тяжелых металлов связано с деятельностью предприятий различных отраслей, а также вымыванием этих металлов из свалок промышленных и бытовых отходов атмосферными осадками и поступлением их в грунтовые воды. 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683640" y="602136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79640" y="188640"/>
            <a:ext cx="8856720" cy="532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290160" indent="-270720" algn="just">
              <a:lnSpc>
                <a:spcPct val="15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Symbol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ычно тяжелые металлы скапливаются в донных отложениях реки в виде карбонатов, сульфатов или сульфитов, адсорбируются минеральными и органическими осадками. Переход тяжелых металлов из донных отложений  в воду возможен  при повышении кислотности воды. Находясь в воде, тяжелые металлы включаются в сети питания живых организмов – водорослей, зоопланктона, рыб, человека.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683640" y="594360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5940000" y="2133000"/>
            <a:ext cx="2590560" cy="34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В бассейне реки Кубань обитает около 106 видов рыб. А также насчитывается около 400 видов форм зоопланктона. И все они страдают от загрязнения воды.</a:t>
            </a: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323640" y="69264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ЖИВОТНЫЙ МИР КУБАНИ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5" name="Объект 7" descr=""/>
          <p:cNvPicPr/>
          <p:nvPr/>
        </p:nvPicPr>
        <p:blipFill>
          <a:blip r:embed="rId1"/>
          <a:stretch/>
        </p:blipFill>
        <p:spPr>
          <a:xfrm>
            <a:off x="395640" y="1845000"/>
            <a:ext cx="5328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1640" y="-581760"/>
            <a:ext cx="7543440" cy="123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958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Palatino Linotype"/>
              </a:rPr>
              <a:t>КТО ОБИТАЕТ В РЕКЕ КУБАНЬ</a:t>
            </a:r>
            <a:endParaRPr b="0" lang="ru-RU" sz="2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251640" y="620640"/>
            <a:ext cx="8339040" cy="21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В бассейне реки Кубань обитает более 106 видов рыб, характер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только для нашего региона: тарань, толстолобик, сазан, судак, рыбец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шемая, кубанский усач, кавказский голавль, лещ, сом, чехонь, бычо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жерех, карась, окунь, краснопѐр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А так же насчитывается около 400 видов и форм зоопланкто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в том числе коловратки, черви, веслоногие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ветвистоусые рачки, моллюски. Большинство из этих ви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чутко реагируют на изменения качества в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Рисунок 3" descr=""/>
          <p:cNvPicPr/>
          <p:nvPr/>
        </p:nvPicPr>
        <p:blipFill>
          <a:blip r:embed="rId1"/>
          <a:stretch/>
        </p:blipFill>
        <p:spPr>
          <a:xfrm>
            <a:off x="4310640" y="3461760"/>
            <a:ext cx="4832640" cy="3330720"/>
          </a:xfrm>
          <a:prstGeom prst="rect">
            <a:avLst/>
          </a:prstGeom>
          <a:ln w="0">
            <a:noFill/>
          </a:ln>
        </p:spPr>
      </p:pic>
      <p:sp>
        <p:nvSpPr>
          <p:cNvPr id="319" name="TextBox 4"/>
          <p:cNvSpPr/>
          <p:nvPr/>
        </p:nvSpPr>
        <p:spPr>
          <a:xfrm>
            <a:off x="264240" y="3645000"/>
            <a:ext cx="320904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HG Mincho Light J"/>
              </a:rPr>
              <a:t>1.Краснопёрк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HG Mincho Light J"/>
              </a:rPr>
              <a:t>2.Чухонь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HG Mincho Light J"/>
              </a:rPr>
              <a:t>3.Шемая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HG Mincho Light J"/>
              </a:rPr>
              <a:t>4.Кубанский усач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HG Mincho Light J"/>
              </a:rPr>
              <a:t>5.Вестоусые рачки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1"/>
          <p:cNvSpPr/>
          <p:nvPr/>
        </p:nvSpPr>
        <p:spPr>
          <a:xfrm rot="1200">
            <a:off x="1175400" y="75960"/>
            <a:ext cx="67914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HG Mincho Light J"/>
              </a:rPr>
              <a:t>Живая природа – самый точный индикато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2"/>
          <p:cNvSpPr/>
          <p:nvPr/>
        </p:nvSpPr>
        <p:spPr>
          <a:xfrm>
            <a:off x="126000" y="720720"/>
            <a:ext cx="835272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Бурное развитие других сине-зеленых водоросле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 например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осциллятории – хороший индикатор опасного загрязнения в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органическим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соединен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Фитопланктон – важнейший компонент водных систем, актив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участвует в формировании качества воды и является чутким показател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состояния водных экосистем и водоема в цел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Трубочник образует огромные скопления в илу сильно загрязненных ре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в незначительных количествах встречаются также на песча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и каменисты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грунтах более чистых р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О чистоте пресного водоема можно суди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и по видовому разнообраз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животного насе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Таким образом, необходимо постоянно отслеживать и улучш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состояние реки Кубань, чтобы она не превратилась в зону экологиче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бедств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Для этого необходимо принимать все меры воздействия, включая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HG Mincho Light J"/>
              </a:rPr>
              <a:t>уголовную ответственность за нанесение вреда окружающей сре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3640" y="-268560"/>
            <a:ext cx="7543440" cy="123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ЧТО ЛЕЖИТ НА ДНЕ?</a:t>
            </a:r>
            <a:endParaRPr b="0" lang="ru-RU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3" name="Рисунок 2" descr=""/>
          <p:cNvPicPr/>
          <p:nvPr/>
        </p:nvPicPr>
        <p:blipFill>
          <a:blip r:embed="rId1"/>
          <a:stretch/>
        </p:blipFill>
        <p:spPr>
          <a:xfrm>
            <a:off x="326520" y="1251000"/>
            <a:ext cx="2873160" cy="282672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3" descr=""/>
          <p:cNvPicPr/>
          <p:nvPr/>
        </p:nvPicPr>
        <p:blipFill>
          <a:blip r:embed="rId2"/>
          <a:stretch/>
        </p:blipFill>
        <p:spPr>
          <a:xfrm>
            <a:off x="3396240" y="1110240"/>
            <a:ext cx="2415960" cy="296748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4" descr=""/>
          <p:cNvPicPr/>
          <p:nvPr/>
        </p:nvPicPr>
        <p:blipFill>
          <a:blip r:embed="rId3"/>
          <a:stretch/>
        </p:blipFill>
        <p:spPr>
          <a:xfrm>
            <a:off x="6073920" y="1175760"/>
            <a:ext cx="2612160" cy="290232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5" descr=""/>
          <p:cNvPicPr/>
          <p:nvPr/>
        </p:nvPicPr>
        <p:blipFill>
          <a:blip r:embed="rId4"/>
          <a:srcRect l="-194" t="0" r="0" b="7956"/>
          <a:stretch/>
        </p:blipFill>
        <p:spPr>
          <a:xfrm>
            <a:off x="3492000" y="4221000"/>
            <a:ext cx="4907520" cy="228420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6" descr=""/>
          <p:cNvPicPr/>
          <p:nvPr/>
        </p:nvPicPr>
        <p:blipFill>
          <a:blip r:embed="rId5"/>
          <a:stretch/>
        </p:blipFill>
        <p:spPr>
          <a:xfrm>
            <a:off x="457200" y="4274280"/>
            <a:ext cx="2546640" cy="219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640" y="-520200"/>
            <a:ext cx="7543440" cy="123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ffffff"/>
                </a:solidFill>
                <a:latin typeface="Palatino Linotype"/>
              </a:rPr>
              <a:t>МЕТОДЫ РЕШЕНИЯ</a:t>
            </a:r>
            <a:endParaRPr b="0" lang="ru-RU" sz="33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7118280" cy="516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04000" indent="-432000">
              <a:lnSpc>
                <a:spcPct val="100000"/>
              </a:lnSpc>
              <a:spcBef>
                <a:spcPts val="660"/>
              </a:spcBef>
              <a:buClr>
                <a:srgbClr val="ff9966"/>
              </a:buClr>
              <a:buSzPct val="75000"/>
              <a:buFont typeface="StarSymbol"/>
              <a:buChar char="➲"/>
            </a:pPr>
            <a:r>
              <a:rPr b="0" lang="en-US" sz="3300" spc="-1" strike="noStrike">
                <a:solidFill>
                  <a:srgbClr val="e6e6e6"/>
                </a:solidFill>
                <a:latin typeface="Arial"/>
                <a:ea typeface="HG Mincho Light J"/>
              </a:rPr>
              <a:t>1.Запретить слив неочищенных бытовых стоков в водоём.</a:t>
            </a:r>
            <a:endParaRPr b="0" lang="ru-RU" sz="3300" spc="-1" strike="noStrike">
              <a:solidFill>
                <a:srgbClr val="ffffff"/>
              </a:solidFill>
              <a:latin typeface="Palatino Linotype"/>
            </a:endParaRPr>
          </a:p>
          <a:p>
            <a:pPr marL="504000" indent="-432000">
              <a:lnSpc>
                <a:spcPct val="100000"/>
              </a:lnSpc>
              <a:spcBef>
                <a:spcPts val="660"/>
              </a:spcBef>
              <a:buClr>
                <a:srgbClr val="ff9966"/>
              </a:buClr>
              <a:buSzPct val="75000"/>
              <a:buFont typeface="StarSymbol"/>
              <a:buChar char="➲"/>
            </a:pPr>
            <a:r>
              <a:rPr b="0" lang="en-US" sz="3300" spc="-1" strike="noStrike">
                <a:solidFill>
                  <a:srgbClr val="e6e6e6"/>
                </a:solidFill>
                <a:latin typeface="Arial"/>
                <a:ea typeface="HG Mincho Light J"/>
              </a:rPr>
              <a:t>2.Создать отч</a:t>
            </a:r>
            <a:r>
              <a:rPr b="0" lang="ru-RU" sz="3300" spc="-1" strike="noStrike">
                <a:solidFill>
                  <a:srgbClr val="e6e6e6"/>
                </a:solidFill>
                <a:latin typeface="Arial"/>
                <a:ea typeface="HG Mincho Light J"/>
              </a:rPr>
              <a:t>и</a:t>
            </a:r>
            <a:r>
              <a:rPr b="0" lang="en-US" sz="3300" spc="-1" strike="noStrike">
                <a:solidFill>
                  <a:srgbClr val="e6e6e6"/>
                </a:solidFill>
                <a:latin typeface="Arial"/>
                <a:ea typeface="HG Mincho Light J"/>
              </a:rPr>
              <a:t>стные сооружения для</a:t>
            </a:r>
            <a:r>
              <a:rPr b="0" lang="ru-RU" sz="3300" spc="-1" strike="noStrike">
                <a:solidFill>
                  <a:srgbClr val="e6e6e6"/>
                </a:solidFill>
                <a:latin typeface="Arial"/>
                <a:ea typeface="HG Mincho Light J"/>
              </a:rPr>
              <a:t> </a:t>
            </a:r>
            <a:r>
              <a:rPr b="0" lang="en-US" sz="3300" spc="-1" strike="noStrike">
                <a:solidFill>
                  <a:srgbClr val="e6e6e6"/>
                </a:solidFill>
                <a:latin typeface="Arial"/>
                <a:ea typeface="HG Mincho Light J"/>
              </a:rPr>
              <a:t>сточных вод.</a:t>
            </a:r>
            <a:endParaRPr b="0" lang="ru-RU" sz="3300" spc="-1" strike="noStrike">
              <a:solidFill>
                <a:srgbClr val="ffffff"/>
              </a:solidFill>
              <a:latin typeface="Palatino Linotype"/>
            </a:endParaRPr>
          </a:p>
          <a:p>
            <a:pPr marL="504000" indent="-432000">
              <a:lnSpc>
                <a:spcPct val="100000"/>
              </a:lnSpc>
              <a:spcBef>
                <a:spcPts val="660"/>
              </a:spcBef>
              <a:buClr>
                <a:srgbClr val="ff9966"/>
              </a:buClr>
              <a:buSzPct val="75000"/>
              <a:buFont typeface="StarSymbol"/>
              <a:buChar char="➲"/>
            </a:pPr>
            <a:r>
              <a:rPr b="0" lang="en-US" sz="3300" spc="-1" strike="noStrike">
                <a:solidFill>
                  <a:srgbClr val="e6e6e6"/>
                </a:solidFill>
                <a:latin typeface="Arial"/>
                <a:ea typeface="HG Mincho Light J"/>
              </a:rPr>
              <a:t>3.Не расходовать  чистую воду напрасно.</a:t>
            </a:r>
            <a:endParaRPr b="0" lang="ru-RU" sz="3300" spc="-1" strike="noStrike">
              <a:solidFill>
                <a:srgbClr val="ffffff"/>
              </a:solidFill>
              <a:latin typeface="Palatino Linotype"/>
            </a:endParaRPr>
          </a:p>
          <a:p>
            <a:pPr marL="504000" indent="-432000">
              <a:lnSpc>
                <a:spcPct val="100000"/>
              </a:lnSpc>
              <a:spcBef>
                <a:spcPts val="660"/>
              </a:spcBef>
              <a:buClr>
                <a:srgbClr val="ff9966"/>
              </a:buClr>
              <a:buSzPct val="75000"/>
              <a:buFont typeface="StarSymbol"/>
              <a:buChar char="➲"/>
            </a:pPr>
            <a:r>
              <a:rPr b="0" lang="en-US" sz="3300" spc="-1" strike="noStrike">
                <a:solidFill>
                  <a:srgbClr val="e6e6e6"/>
                </a:solidFill>
                <a:latin typeface="Arial"/>
                <a:ea typeface="HG Mincho Light J"/>
              </a:rPr>
              <a:t>4.Совершенствовать  отчистные сооружения на промышленных производствах</a:t>
            </a:r>
            <a:endParaRPr b="0" lang="ru-RU" sz="33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Полилиния 3"/>
          <p:cNvSpPr/>
          <p:nvPr/>
        </p:nvSpPr>
        <p:spPr>
          <a:xfrm>
            <a:off x="6988320" y="5356800"/>
            <a:ext cx="2161800" cy="1424160"/>
          </a:xfrm>
          <a:custGeom>
            <a:avLst/>
            <a:gdLst>
              <a:gd name="textAreaLeft" fmla="*/ 0 w 2161800"/>
              <a:gd name="textAreaRight" fmla="*/ 2162160 w 2161800"/>
              <a:gd name="textAreaTop" fmla="*/ 0 h 1424160"/>
              <a:gd name="textAreaBottom" fmla="*/ 1424520 h 1424160"/>
            </a:gdLst>
            <a:ahLst/>
            <a:rect l="textAreaLeft" t="textAreaTop" r="textAreaRight" b="textAreaBottom"/>
            <a:pathLst>
              <a:path w="6622" h="4363">
                <a:moveTo>
                  <a:pt x="93" y="4363"/>
                </a:moveTo>
                <a:lnTo>
                  <a:pt x="0" y="23"/>
                </a:lnTo>
                <a:lnTo>
                  <a:pt x="6530" y="0"/>
                </a:lnTo>
                <a:lnTo>
                  <a:pt x="6622" y="433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Arial"/>
              <a:ea typeface="HG Mincho Light J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1640" y="472500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0000"/>
          </a:bodyPr>
          <a:p>
            <a:pPr indent="0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ая некрасивая вода,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Отравлена железом и мазутом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Она не замерзает никогда,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Шумит, шумит в любое время суток!</a:t>
            </a:r>
            <a:br>
              <a:rPr sz="4900"/>
            </a:br>
            <a:endParaRPr b="0" lang="ru-RU" sz="22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39240" y="34560"/>
            <a:ext cx="9072720" cy="3384000"/>
          </a:xfrm>
          <a:prstGeom prst="rect">
            <a:avLst/>
          </a:prstGeom>
          <a:ln w="0">
            <a:noFill/>
          </a:ln>
        </p:spPr>
      </p:pic>
      <p:pic>
        <p:nvPicPr>
          <p:cNvPr id="333" name="Объект 8" descr=""/>
          <p:cNvPicPr/>
          <p:nvPr/>
        </p:nvPicPr>
        <p:blipFill>
          <a:blip r:embed="rId2"/>
          <a:stretch/>
        </p:blipFill>
        <p:spPr>
          <a:xfrm>
            <a:off x="4356000" y="3717000"/>
            <a:ext cx="4715640" cy="28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51640" y="1124640"/>
            <a:ext cx="8496720" cy="48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marL="18360" indent="0" algn="ctr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я исследования, пришли к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а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3960" indent="-255600" algn="just">
              <a:lnSpc>
                <a:spcPct val="150000"/>
              </a:lnSpc>
              <a:spcBef>
                <a:spcPts val="479"/>
              </a:spcBef>
              <a:buClr>
                <a:srgbClr val="ffffff"/>
              </a:buClr>
              <a:buSzPct val="60000"/>
              <a:buFont typeface="Palatino Linotype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Окружающая среда на территории   Краснодарского  края остается загрязненной. Необходимо принимать меры  по  её очистке;</a:t>
            </a: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3960" indent="-255600" algn="just">
              <a:lnSpc>
                <a:spcPct val="150000"/>
              </a:lnSpc>
              <a:spcBef>
                <a:spcPts val="479"/>
              </a:spcBef>
              <a:buClr>
                <a:srgbClr val="ffffff"/>
              </a:buClr>
              <a:buSzPct val="60000"/>
              <a:buFont typeface="Palatino Linotype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Ее последствия привели к ухудшению водного и почвенного покрова;</a:t>
            </a: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3960" indent="-255600" algn="just">
              <a:lnSpc>
                <a:spcPct val="150000"/>
              </a:lnSpc>
              <a:spcBef>
                <a:spcPts val="479"/>
              </a:spcBef>
              <a:buClr>
                <a:srgbClr val="ffffff"/>
              </a:buClr>
              <a:buSzPct val="60000"/>
              <a:buFont typeface="Palatino Linotype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 этом концентрация отдельных вредных для здоровья людей веществ превосходит ПДК в десятки и сотни раз! Все это сказывается на состоянии здоровья населения;</a:t>
            </a: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3960" indent="-255600" algn="just">
              <a:lnSpc>
                <a:spcPct val="150000"/>
              </a:lnSpc>
              <a:spcBef>
                <a:spcPts val="479"/>
              </a:spcBef>
              <a:buClr>
                <a:srgbClr val="ffffff"/>
              </a:buClr>
              <a:buSzPct val="60000"/>
              <a:buFont typeface="Palatino Linotype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Очень сильно страдает животный и растительный мир реки Кубань.</a:t>
            </a: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  <a:p>
            <a:pPr marL="18360" indent="0" algn="just">
              <a:lnSpc>
                <a:spcPct val="2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14760" y="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Выводы: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83640" y="1556640"/>
            <a:ext cx="7545600" cy="36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3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Palatino Linotype"/>
              </a:rPr>
              <a:t>Спасибо  за внимание!</a:t>
            </a:r>
            <a:endParaRPr b="0" lang="ru-RU" sz="8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79640" y="685800"/>
            <a:ext cx="8049600" cy="519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559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Актуальность данной темы заключается в экологической проблеме реки Кубань,  которая протекает через населенные пункты Краснодарского края и впадает в Азовское море. В последнее время всё большую актуальность приобретает тема экологии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777240" y="692640"/>
            <a:ext cx="7543440" cy="7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Актуальность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Объект 6" descr=""/>
          <p:cNvPicPr/>
          <p:nvPr/>
        </p:nvPicPr>
        <p:blipFill>
          <a:blip r:embed="rId1"/>
          <a:stretch/>
        </p:blipFill>
        <p:spPr>
          <a:xfrm>
            <a:off x="323640" y="548640"/>
            <a:ext cx="4857840" cy="3888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652000" y="332640"/>
            <a:ext cx="3168000" cy="41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Проблема загрязнения почв, воды, атмосферы городов и прилежащих к ним территорий затрагивает всех нас - жителей крупных городов, в том числе и г. Краснодара. Экологическая обстановка в г. Краснодаре остаётся достаточно напряжённой</a:t>
            </a: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Проблема загрязнения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79640" y="548640"/>
            <a:ext cx="7751880" cy="532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Calibri"/>
              </a:rPr>
              <a:t>Возникают всё новые и новые экологические проблемы города. Краснодарский край – это не только административно-хозяйственная  система в Российской Федерации, но и экологическая система.</a:t>
            </a: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777240" y="404640"/>
            <a:ext cx="754344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Экологические проблемы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240" y="188640"/>
            <a:ext cx="7543440" cy="100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Река Кубань</a:t>
            </a: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79" name="Объект 3" descr=""/>
          <p:cNvPicPr/>
          <p:nvPr/>
        </p:nvPicPr>
        <p:blipFill>
          <a:blip r:embed="rId1"/>
          <a:stretch/>
        </p:blipFill>
        <p:spPr>
          <a:xfrm>
            <a:off x="827640" y="1484640"/>
            <a:ext cx="7344360" cy="43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7400" y="-144720"/>
            <a:ext cx="78076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e6e6e6"/>
                </a:solidFill>
                <a:latin typeface="Arial"/>
              </a:rPr>
              <a:t>ЗНАЧЕНИЕ РЕКИ КУБАНЬ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2"/>
          <p:cNvSpPr/>
          <p:nvPr/>
        </p:nvSpPr>
        <p:spPr>
          <a:xfrm>
            <a:off x="130680" y="764640"/>
            <a:ext cx="8425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Главной водной артерией Краснодарского края является река Кубан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Она имеет особое значение для края не только как баз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Водоснабжен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но и как приемник промышленных и хозяйственно-бытовы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сточных вод 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Вода реки Кубань, как и большинства водоемов мира, подверж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нерациональном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использованию со стороны человека и, как одно из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последстви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G Mincho Light J"/>
              </a:rPr>
              <a:t>происходит ее загрязн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Рисунок 3" descr=""/>
          <p:cNvPicPr/>
          <p:nvPr/>
        </p:nvPicPr>
        <p:blipFill>
          <a:blip r:embed="rId1"/>
          <a:stretch/>
        </p:blipFill>
        <p:spPr>
          <a:xfrm>
            <a:off x="130680" y="2682000"/>
            <a:ext cx="8890560" cy="41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95640" y="258840"/>
            <a:ext cx="7833600" cy="136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4320" indent="-255960">
              <a:lnSpc>
                <a:spcPct val="100000"/>
              </a:lnSpc>
              <a:spcBef>
                <a:spcPts val="879"/>
              </a:spcBef>
              <a:buClr>
                <a:srgbClr val="ffffff"/>
              </a:buClr>
              <a:buSzPct val="60000"/>
              <a:buFont typeface="Wingdings" charset="2"/>
              <a:buChar char=""/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Исследование проблемы</a:t>
            </a:r>
            <a:endParaRPr b="0" lang="ru-RU" sz="44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4900"/>
            </a:br>
            <a:br>
              <a:rPr sz="4900"/>
            </a:br>
            <a:br>
              <a:rPr sz="4900"/>
            </a:b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5" name="Прямоугольник 6"/>
          <p:cNvSpPr/>
          <p:nvPr/>
        </p:nvSpPr>
        <p:spPr>
          <a:xfrm>
            <a:off x="826920" y="1132200"/>
            <a:ext cx="5742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Нашей группой было проведено исследование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ямоугольник 8"/>
          <p:cNvSpPr/>
          <p:nvPr/>
        </p:nvSpPr>
        <p:spPr>
          <a:xfrm>
            <a:off x="467640" y="1939680"/>
            <a:ext cx="72723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algn="just">
              <a:lnSpc>
                <a:spcPct val="15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ктом исследования является река Кубань. Оценка  её загрязнения и степень влияния загрязняющих веществ на организ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332640"/>
            <a:ext cx="9143640" cy="61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360" indent="0">
              <a:lnSpc>
                <a:spcPct val="100000"/>
              </a:lnSpc>
              <a:spcBef>
                <a:spcPts val="1380"/>
              </a:spcBef>
              <a:buNone/>
              <a:tabLst>
                <a:tab algn="l" pos="0"/>
              </a:tabLst>
            </a:pPr>
            <a:r>
              <a:rPr b="0" lang="ru-RU" sz="6900" spc="-1" strike="noStrike">
                <a:solidFill>
                  <a:srgbClr val="ffffff"/>
                </a:solidFill>
                <a:latin typeface="Palatino Linotype"/>
              </a:rPr>
              <a:t>План исследования</a:t>
            </a:r>
            <a:endParaRPr b="0" lang="ru-RU" sz="6900" spc="-1" strike="noStrike">
              <a:solidFill>
                <a:srgbClr val="ffffff"/>
              </a:solidFill>
              <a:latin typeface="Palatino Linotype"/>
            </a:endParaRPr>
          </a:p>
          <a:p>
            <a:pPr marL="183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Цвет воды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Прозрачность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Запах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Водородный показатель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4320" indent="-2559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Пути загрязнения</a:t>
            </a:r>
            <a:endParaRPr b="0" lang="ru-RU" sz="28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ru-RU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777240" y="4876920"/>
            <a:ext cx="7543440" cy="91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6000"/>
          </a:bodyPr>
          <a:p>
            <a:pPr marL="136800" indent="0">
              <a:lnSpc>
                <a:spcPct val="200000"/>
              </a:lnSpc>
              <a:spcBef>
                <a:spcPts val="459"/>
              </a:spcBef>
              <a:buNone/>
              <a:tabLst>
                <a:tab algn="l" pos="0"/>
              </a:tabLst>
            </a:pPr>
            <a:br>
              <a:rPr sz="2000"/>
            </a:br>
            <a:br>
              <a:rPr sz="2000"/>
            </a:br>
            <a:br>
              <a:rPr sz="2300"/>
            </a:br>
            <a:endParaRPr b="0" lang="ru-RU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rs-strategy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Базовая">
  <a:themeElements>
    <a:clrScheme name="Базовая">
      <a:dk1>
        <a:srgbClr val="000000"/>
      </a:dk1>
      <a:lt1>
        <a:srgbClr val="ffffff"/>
      </a:lt1>
      <a:dk2>
        <a:srgbClr val="242852"/>
      </a:dk2>
      <a:lt2>
        <a:srgbClr val="accbf9"/>
      </a:lt2>
      <a:accent1>
        <a:srgbClr val="629dd1"/>
      </a:accent1>
      <a:accent2>
        <a:srgbClr val="297fd5"/>
      </a:accent2>
      <a:accent3>
        <a:srgbClr val="7f8fa9"/>
      </a:accent3>
      <a:accent4>
        <a:srgbClr val="4a66ac"/>
      </a:accent4>
      <a:accent5>
        <a:srgbClr val="5aa2ae"/>
      </a:accent5>
      <a:accent6>
        <a:srgbClr val="9d90a0"/>
      </a:accent6>
      <a:hlink>
        <a:srgbClr val="9454c3"/>
      </a:hlink>
      <a:folHlink>
        <a:srgbClr val="3ebbf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lemental</Template>
  <TotalTime>140</TotalTime>
  <Application>LibreOffice/7.4.7.2$Linux_X86_64 LibreOffice_project/40$Build-2</Application>
  <AppVersion>15.0000</AppVersion>
  <Words>1269</Words>
  <Paragraphs>12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03:10:27Z</dcterms:created>
  <dc:creator>Vovan</dc:creator>
  <dc:description/>
  <dc:language>en-US</dc:language>
  <cp:lastModifiedBy>Home</cp:lastModifiedBy>
  <cp:lastPrinted>2013-11-07T03:57:07Z</cp:lastPrinted>
  <dcterms:modified xsi:type="dcterms:W3CDTF">2020-11-15T19:45:58Z</dcterms:modified>
  <cp:revision>26</cp:revision>
  <dc:subject/>
  <dc:title>Школьная научно – практическая  конференция «Интерес»   «Экологические  проблемы  реки   Кубань» Научно – исследовательский проект 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177654</vt:lpwstr>
  </property>
  <property fmtid="{D5CDD505-2E9C-101B-9397-08002B2CF9AE}" pid="3" name="NXPowerLiteSettings">
    <vt:lpwstr>C7000400038000</vt:lpwstr>
  </property>
  <property fmtid="{D5CDD505-2E9C-101B-9397-08002B2CF9AE}" pid="4" name="NXPowerLiteVersion">
    <vt:lpwstr>S9.0.1</vt:lpwstr>
  </property>
  <property fmtid="{D5CDD505-2E9C-101B-9397-08002B2CF9AE}" pid="5" name="Notes">
    <vt:r8>5</vt:r8>
  </property>
  <property fmtid="{D5CDD505-2E9C-101B-9397-08002B2CF9AE}" pid="6" name="PresentationFormat">
    <vt:lpwstr>Экран (4:3)</vt:lpwstr>
  </property>
  <property fmtid="{D5CDD505-2E9C-101B-9397-08002B2CF9AE}" pid="7" name="Slides">
    <vt:r8>29</vt:r8>
  </property>
</Properties>
</file>