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4F1-1E48-4E6D-A8B7-5B4F2D34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53C-17B3-4311-81B8-95F62314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06A-06AF-4C58-B9E8-CC0AA1A8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B73-88A8-451A-A119-4A7F3021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F8C9-2976-4468-B63D-572153DA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9118-9A41-463D-893F-1CB3811C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A9E9-F11A-4EB7-B357-41213184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7F23-DCCC-4ED3-8D0C-FE38D91A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CB20-CB92-4D25-AE22-B1425B56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0800-DBA3-4C76-80BC-CC066920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7149-3893-4135-A363-B195205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DA3-9A43-4D0C-BFEA-ED8FEFD6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1AB8-A148-4FBC-857B-92DEF188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F0F2-5BAD-44D1-9FC5-81648161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2A85-9B8C-4C43-A912-AF8CB94A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2625-A968-46D3-9183-6B878539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3203-A22C-4A58-936B-CD866C80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25942-EFE3-4B19-A016-8A87B221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948E8-BA99-43AA-BC14-D00DB33B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32A27-9D4E-4DE1-9AFE-356BD204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87836-73B7-469D-82A7-CCA2B07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4BB3C-EAE0-4265-B402-4B6E65A5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AA5-C3B1-42AB-8227-1C6DBF95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A9A17-502D-4E6B-AA35-B67AD3E4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91A0C-D595-4DD5-9BAF-1168E415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E8944-B384-473F-A177-D294C784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A8719-2671-4999-A96C-2CC50ACC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0464F-3755-471C-98E7-E36B739B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DE4DA-6515-4F81-86D0-D8C41823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50A86-FDA2-4B0B-9846-4A46AE00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013FB-86F4-4EF9-8733-6DF1BD86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52CBF-C268-4FEB-B84F-433C7E4B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5E437-EC31-4B84-A647-7EF59226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0E6-C380-4C44-B9F6-0EF2649C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CFFA1-0210-47EA-B291-F9DB3284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03147-B290-47FE-BAAC-FE5FEA3C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B8F51-0699-4520-8AD5-B052C44D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E936-6DE1-4E90-AD41-FB78932B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E45A-10FF-4DD5-8650-EB0490E3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561D-65E5-4B51-B597-6D4CD1FA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1122C-6C8E-4251-9963-0C8AD79F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FA10-0491-46C5-ABF7-C366C114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B956A-B829-4559-A748-C6E6D20C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4F234-512A-4664-AC15-E84985C7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617-BD4C-4490-B22B-43A6C94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EEF4BF-77A6-4302-B056-6F907EFE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7052CD-76C6-4CB9-A0BC-BF6765CD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F569F-6FA0-465F-9092-808803DA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6289C-1139-4890-84F0-E1932014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4D8629-73DE-4D50-B662-15136161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CEF68-9E8A-4964-B450-215D2DFC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9D9C6-FD60-4EAD-8AC5-F62F50F0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FA6E1-061F-4E44-BF0F-A51C6C14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30133-9B9C-403F-B5DC-9CDCDA8B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E36A9-04CE-4584-B3C5-4B6959B8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D86-D889-4B26-A660-7163984A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6AD2C-DFCA-4FC5-A1B2-72C6B3C4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27A72-9D47-4940-97A3-64382BDE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28474-12C6-4218-BB2E-D031C380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AA603-CFA1-4EA0-918C-405D360E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E2A70-4CF1-4A0C-A2D2-AE363445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A7A1C8-D2A3-4589-9E11-6B18756F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0C06F-F5CE-4062-A5CF-0D4EC8E5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13E99-4878-4775-8848-CE918D25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65542-3329-48B4-A016-E3EC26FE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806B6-7A13-4C84-92A8-68373754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B75-AD3B-48F5-9A15-9D9BF2F9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0B9D4-C30A-4AE4-9914-866B8EF8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0EDD2-F8A5-4D7B-A4E4-342AA44D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97366-DF99-45F2-A2C1-3F3E754B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4DA55C-A5AC-4466-A61A-D7973EA8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1B656-3DFC-41D3-B211-38AD1D72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5FFF2-C84D-4639-BCF8-52502564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A438E-FAE5-4385-9B7F-E7DFFFEE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9D372-0565-4FF2-B80E-7CFCD8CE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43A38-912B-46AA-9BE3-72D3E489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4880EF-26A3-4722-B7D0-BF4CDA4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24C-F7A5-4E6B-BD1C-300A3535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989DE5-B5F9-477E-A72C-144754AF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21CC9-2C90-4E48-94A2-94E2F19C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BB9E3-487A-4A6F-A85C-0FE89693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0BE7CA-FC35-4F46-B272-4CDC8E72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131E9-2D42-47DD-A8C2-95536525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B99-8CD4-425D-9A94-C16E6BE0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8B0B-7E61-438F-944B-6AF43913C3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104E-DA76-4330-B118-F4C301CF33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9947-367F-45A6-BD7E-2B489513384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45EE-E8FD-4D35-A051-2FBB3595477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C65B-B586-402C-A37B-9FE43B1AC1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5CAF-179E-4DE2-8615-4AC95EFEB47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34F7-1A15-4921-8A87-4C00370984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88640"/>
            <a:ext cx="61722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4800" spc="-1" strike="noStrike">
                <a:solidFill>
                  <a:srgbClr val="575f6d"/>
                </a:solidFill>
                <a:latin typeface="Century Schoolbook"/>
              </a:rPr>
              <a:t>МОЯ ЛЮБИМАЯ ПОРА ГОДА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аяся 3 А клас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рь Елизавет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1" descr="3.jpg"/>
          <p:cNvPicPr/>
          <p:nvPr/>
        </p:nvPicPr>
        <p:blipFill>
          <a:blip r:embed="rId1"/>
          <a:stretch/>
        </p:blipFill>
        <p:spPr>
          <a:xfrm>
            <a:off x="0" y="0"/>
            <a:ext cx="795672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5" name="Содержимое 5" descr="лето.jpg"/>
          <p:cNvPicPr/>
          <p:nvPr/>
        </p:nvPicPr>
        <p:blipFill>
          <a:blip r:embed="rId1"/>
          <a:stretch/>
        </p:blipFill>
        <p:spPr>
          <a:xfrm>
            <a:off x="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7" name="Содержимое 5" descr="лето2.jpg"/>
          <p:cNvPicPr/>
          <p:nvPr/>
        </p:nvPicPr>
        <p:blipFill>
          <a:blip r:embed="rId1"/>
          <a:stretch/>
        </p:blipFill>
        <p:spPr>
          <a:xfrm>
            <a:off x="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" descr="приметы-лета.jpg"/>
          <p:cNvPicPr/>
          <p:nvPr/>
        </p:nvPicPr>
        <p:blipFill>
          <a:blip r:embed="rId1"/>
          <a:stretch/>
        </p:blipFill>
        <p:spPr>
          <a:xfrm>
            <a:off x="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1" descr="6.jpg"/>
          <p:cNvPicPr/>
          <p:nvPr/>
        </p:nvPicPr>
        <p:blipFill>
          <a:blip r:embed="rId1"/>
          <a:stretch/>
        </p:blipFill>
        <p:spPr>
          <a:xfrm>
            <a:off x="0" y="0"/>
            <a:ext cx="80643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" descr="5.jpg"/>
          <p:cNvPicPr/>
          <p:nvPr/>
        </p:nvPicPr>
        <p:blipFill>
          <a:blip r:embed="rId1"/>
          <a:stretch/>
        </p:blipFill>
        <p:spPr>
          <a:xfrm>
            <a:off x="0" y="0"/>
            <a:ext cx="81723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1" descr="kartinka-spasibo-za-vnimanie-dlya-prezentacii-49.jpg"/>
          <p:cNvPicPr/>
          <p:nvPr/>
        </p:nvPicPr>
        <p:blipFill>
          <a:blip r:embed="rId1"/>
          <a:stretch/>
        </p:blipFill>
        <p:spPr>
          <a:xfrm>
            <a:off x="0" y="4680"/>
            <a:ext cx="8101080" cy="684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5T09:52:18Z</dcterms:created>
  <dc:creator>Vladimir aka punsh</dc:creator>
  <dc:description/>
  <dc:language>en-US</dc:language>
  <cp:lastModifiedBy>Acer</cp:lastModifiedBy>
  <dcterms:modified xsi:type="dcterms:W3CDTF">2020-11-15T05:05:08Z</dcterms:modified>
  <cp:revision>9</cp:revision>
  <dc:subject/>
  <dc:title>Привет</dc:title>
</cp:coreProperties>
</file>