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CF0-F476-40C7-90D6-543F1E3C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1D2-7E33-49D5-9445-0F1EEB00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6B7-501A-41DD-8E84-5F238250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06B-72A7-4E31-9DBE-267ABCD1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F241-CB75-4F5C-84A7-646E673F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D250-E3C6-4ABE-882D-2EB55326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9CBC-ED77-4CCF-9823-2E13D504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E16-1C28-42FE-8F18-340E0AA6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9D57-2851-4AFD-8880-1C28A742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2389-FEC3-41EB-9DB4-352DC6DA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DE67-6266-4897-8500-5C8AFEF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922-2902-408B-B267-80B20F7C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EB1A-C81C-4A93-9C81-CF7407B3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C8C7-2259-4502-ABE2-7980712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4FFC-565C-4D60-9615-D670A5A7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F553-D189-40AA-A6D2-301C600A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170A-45CA-4DC3-BA01-3943F49E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E16BD-5DA7-4233-A4B1-C94DC24D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3C4A4-A605-4F7D-BE24-7A768A6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853D4-6D96-4203-864F-89F727D6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7F899-D956-49EF-8759-A5E23803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7B485-3B0D-45E1-8766-E2C514B8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D14-63C3-447F-917B-AF6C853B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D6E20-AA5C-4720-8FF9-090F104F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BE6D0-29DD-4A17-95B8-3E434334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4F170-1BD7-4974-B93D-60762F6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195B3-3E80-4965-A0A4-1F911429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DCA41-C2DD-4C89-9FB1-61C2C069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13C6C-ABDD-44A8-8D23-2B716EAA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0EB46-8554-4A97-B979-21CA5CD1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EFA79-0211-4ED6-B76E-099091D9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B7E15-6596-4995-8722-CF7D1824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A38D-73B6-4303-A1E6-4265192F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9D1-2C25-4C56-96DB-51DE8558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0CB1-63E7-4656-AF37-3B0CBA21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62A4-CAC4-44FF-808E-D2548FFC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3C66-E885-4F49-8587-7C22C8A7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CEDA6-B65B-4AEB-8337-AC2AAFF9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57CF-AAAD-417B-8C6B-BF1F2B54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7A7B9-EAF6-4821-BC7E-F4D9CA61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14BE-BCB9-4830-A96C-17715C0A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A300-BD97-4D40-A21F-C9523595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E2C1-4BDA-472C-97E4-87B01B9D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86D87-8D2E-4C95-A1BD-F27C8E28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2C3-9E87-4437-8CFE-31CF9C2E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499A1-E53D-43E2-B8D9-BFFBDF4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73773-95BE-4D6D-8D20-55E4ED3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293CA-6646-4C11-B256-A80A6B02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248C7-4F1B-4FC1-A126-48BC02EC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CD96A-3189-4E5A-9C08-2F20282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1C266-DD88-4F7C-B70C-EDA72AAD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7DF62-155E-458E-816D-55537BD8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E8E5C-E6E1-4036-B2DA-E150B3C3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C8CD0-EE44-41C4-8666-C40DF130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E90A3-7CF0-4FB5-9C95-D3BA845E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B86-E147-45DA-94CD-5D4DC261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DF630-54B3-432B-9399-8D2CC3AE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3C53E-5DAE-454D-AC55-90E4DBBD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47032-A33D-441B-875B-DC0E8011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BB0CF-A86B-40C6-BB4E-CD55CC4C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EEFDDE-3151-475E-B37A-D111E838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FD7C2-4B6D-496F-85C2-A5095A8F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10B5D-A108-417A-8BC2-79E72F4B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6127C-42DD-43C1-A38A-86FFAEF7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7F82A-FE1D-4115-BB0A-E35D406D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885AE-5065-471E-BC52-9887B910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BEB-5D56-4EAA-8881-CF38741A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B731A-D910-4163-BFD5-DE031E34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4AE78-8EF7-4479-9251-EFBF16F3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14751-EDA0-4EBE-A4D5-3D59D138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CC4DC-6096-4F1F-A165-2F0EDE58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376E1-9AF6-491F-88C7-0FD2DF70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51B81-B657-4B87-9060-1507B921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2E6623-7DD9-4BC6-8C06-0AB14479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400EC-467E-44A3-A4B2-D78FE072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49B8A-75FD-420B-9EBF-FB55B85A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D036B-F908-4701-9257-DF40E07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DE6-B402-46A4-B295-53AB7B6B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C65D6-C5EE-4D4C-B6EC-4C75C37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C69BD-028F-41D8-9E2C-D9FD5A5E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E98BC3-DD5C-4436-B6FC-86CD07DC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B0541-1AA6-42CA-A7BD-E5085657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0FB49-A881-41C9-A933-49157D71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831-5270-486A-A9ED-E94887C3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3FBE-B90A-49AD-9BFD-B5AC74D2CB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495D-2D88-4A31-BD41-0382F350E0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57D-419F-485C-AE04-D1F886CFD3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C6E9-63E4-4C47-A7B2-03468C2046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ADFB-5D77-4122-B2D2-F22EFF4299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DEEA-FF4F-4188-B82C-31BEA6CAAA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32A-0B90-4BBC-BFFD-D7B614E0A0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88640"/>
            <a:ext cx="61722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МОЯ ЛЮБИМАЯ ПОРА ГОД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яся 3 А кла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рь Елизавет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3.jpg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Содержимое 5" descr="лето.jpg"/>
          <p:cNvPicPr/>
          <p:nvPr/>
        </p:nvPicPr>
        <p:blipFill>
          <a:blip r:embed="rId1"/>
          <a:stretch/>
        </p:blipFill>
        <p:spPr>
          <a:xfrm>
            <a:off x="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Содержимое 5" descr="лето2.jpg"/>
          <p:cNvPicPr/>
          <p:nvPr/>
        </p:nvPicPr>
        <p:blipFill>
          <a:blip r:embed="rId1"/>
          <a:stretch/>
        </p:blipFill>
        <p:spPr>
          <a:xfrm>
            <a:off x="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приметы-лета.jpg"/>
          <p:cNvPicPr/>
          <p:nvPr/>
        </p:nvPicPr>
        <p:blipFill>
          <a:blip r:embed="rId1"/>
          <a:stretch/>
        </p:blipFill>
        <p:spPr>
          <a:xfrm>
            <a:off x="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5.jpg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kartinka-spasibo-za-vnimanie-dlya-prezentacii-49.jpg"/>
          <p:cNvPicPr/>
          <p:nvPr/>
        </p:nvPicPr>
        <p:blipFill>
          <a:blip r:embed="rId1"/>
          <a:stretch/>
        </p:blipFill>
        <p:spPr>
          <a:xfrm>
            <a:off x="0" y="4680"/>
            <a:ext cx="8101080" cy="684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5T09:52:18Z</dcterms:created>
  <dc:creator>Vladimir aka punsh</dc:creator>
  <dc:description/>
  <dc:language>en-US</dc:language>
  <cp:lastModifiedBy>Acer</cp:lastModifiedBy>
  <dcterms:modified xsi:type="dcterms:W3CDTF">2020-11-15T05:05:08Z</dcterms:modified>
  <cp:revision>9</cp:revision>
  <dc:subject/>
  <dc:title>Привет</dc:title>
</cp:coreProperties>
</file>