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09C5-E779-41F0-9DC9-B92F7681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CE3D-8569-4F51-AFEB-143381A2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CC47-6317-4000-802D-3D169EC7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F0E8-17BA-4C29-BFE5-91922090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AE26-0CA5-455D-B56B-E2DD410A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F462-DEA3-4042-B410-BCFF3DE0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5335-495A-425B-9CBA-8E23EF97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335E-BB5F-4417-93EE-4E035D8D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6500-A647-4362-893B-F5BEC4B3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9D31-91CE-4732-BCA1-6708CA69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1676-011F-4321-B497-0C014ADD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8182-B325-468A-ABDA-DF181EBA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F3C5-5083-4BB9-8F59-13083B2188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ация образовательной деятельности в контексте ФГОС ДО «Оптимизация форм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аимодействия с  семьей»</a:t>
            </a: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сультация для воспита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252360" y="0"/>
            <a:ext cx="9720360" cy="7174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ЛАН РАБОТЫ РОДИТЕЛЬСКОГО КЛУБ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50920" y="1600200"/>
          <a:ext cx="8435880" cy="4846680"/>
        </p:xfrm>
        <a:graphic>
          <a:graphicData uri="http://schemas.openxmlformats.org/drawingml/2006/table">
            <a:tbl>
              <a:tblPr/>
              <a:tblGrid>
                <a:gridCol w="1406520"/>
                <a:gridCol w="1404720"/>
                <a:gridCol w="1406520"/>
                <a:gridCol w="1405080"/>
                <a:gridCol w="1406520"/>
                <a:gridCol w="1406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СТ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ЯВЛЕНИЕ ТРУДНОСТИ У РОДИТЕЛ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НОСТИ РОДИТЕЛ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ОСНИК, ДИАЛО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09.15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ЕНЬ РОДИТЕЛЬСКИХ ТРУД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ВОЕНИЕ ЗДОРОВЬЕСБЕРЕГАЮЩИХ 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ОРОВЬЕСБЕРЕГАЮЩИЕ ТЕХН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НИНГ, МАСТЕР-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, МЕДСЕС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0.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3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ИКИ, ПРИЕМЫ ЗО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ЕНИЕ РЕЧЕВЫХ, ВОЗРАСТНЫХ ОСОБЕННОСТЕЙ ДЕ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ВОЕНИЕ ПРИЕМОВ  С НАРУШЕНИЕМ РЕ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НИ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ОПЕ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1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4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Ы РАБОТЫ С ДЕТЬ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И СОЗДАНИЙ СЕМЕЙНЫХ ТРАДИ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ЕНИЕ СЕМЕЙНЫХ ТРАДИ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ТЕР-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И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2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2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АЯ ТРАДИ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C:\Users\user_c35a\Desktop\картинки семья\images.jpg"/>
          <p:cNvPicPr/>
          <p:nvPr/>
        </p:nvPicPr>
        <p:blipFill>
          <a:blip r:embed="rId1"/>
          <a:stretch/>
        </p:blipFill>
        <p:spPr>
          <a:xfrm>
            <a:off x="2050920" y="2608200"/>
            <a:ext cx="547380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\\\\\\\\\\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Федеральный закон № 273-ФЗ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«Об образовании в Российской Федерации»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действует с 1 сентября 2013г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тья 44. Права, обязанности и ответственность в сфере образования родителей (законных представителей) несовершеннолетних обучаю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Родители (законные представители) несовершеннолетних обучающихся имеют преимущественное право на обучение и воспитание детей перед всеми другими лицами. Они обязаны заложить основы физического, нравственного и интеллектуального развития личности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рганы государственной власти и органы местного самоуправления, образовательные организации оказывают помощь родителям (законным представителям) несовершеннолетних обучающихся в воспитании детей, охране и укреплении их физического и психического здоровья, развитии индивидуальных способностей и необходимой коррекции нарушений их разви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структивное взаимодейств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приказывать(Вы должны, Вам нужно, Вам необходимо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угрожать (Если поведение Вашего ребенка не исправиться, то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проповедовать (Вы как мать должны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поучать (Если бы Вы меня послушали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подсказывать решения (На Вашем месте я бы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выносить суждений (Вам необходимо больше времени проводить с ребенком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оправдывать и не оправдываться (поведение Вашего сына не так уж и плохо на первый взгляд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ставить диагноз (Ваш ребенок слишком нервны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выпытывать (вопросы не имеющие отношение к пед. процессу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провоцировать конфли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Государственный Образовательный Стандар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ет с 1января2014г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25"/>
              </a:spcBef>
              <a:buClr>
                <a:srgbClr val="262673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buClr>
                <a:srgbClr val="262673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3.2.1. Для успешной реализации Программы должны быть обеспечены следующие психолого-педагогические условия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 8) поддержка родителей (законных представителей) в воспитании детей, охране и укреплении их здоровья, вовлечение семей непосредственно в образовательную деятельность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buClr>
                <a:srgbClr val="262673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 3.2.5. Условия, необходимые для создания социальной ситуации развития детей, соответствующей специфике дошкольного возраста, предполагают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. 5) взаимодействие с родителями (законными представителями) по вопросам образования ребенка, непосредственного вовлечения их в образовательную деятельность, в том числе посредством создания образовательных проектов совместно с семьей на основе выявления потребностей и поддержки образовательных инициатив семь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buClr>
                <a:srgbClr val="26267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62673"/>
                </a:solidFill>
                <a:latin typeface="Arial"/>
              </a:rPr>
              <a:t>п 3.2.6. В целях эффективной реализации Программы должны быть созданы условия для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..2) консультативной поддержки педагогических работников и родителей (законных представителей) по вопросам образования и охраны здоровья детей, в том числе инклюзивного образования (в случае его организации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6480" y="475920"/>
            <a:ext cx="81471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Алгоритм проведения первой родительской встреч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148392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изовать 100% явку родителе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СМИ, объявление на сайте ДОО, смс-сообщения, личные встречи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тиваровать родителей на изменение взаимодействия с ДОО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езентация воспитателя, представление нормативно-правовой базы, выдача текстового документа ФГОС ДО каждой семье, знакомство с ООП ДО и д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явить трудности родителей в вопросах воспитания и образования дете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предварительный опрос, диалог и д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авить перечень выявленных трудносте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фиксация на доске, представление в электронном виде, выделение первоочередных проблем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формить совместный план действий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пределить содержание совместной работ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ставить тематический план груп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ить участие каждой семьи в непосредственно образо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ановить сроки проведения совместных встре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дать родителям план мероприятий с датой и временем сбы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ор формы совмест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сьте в приемной табель или календарь, в котором члены семей воспитанников могли бы отметить удобный для себя день. Подкрепите календарь расчетом: в месяце 21 день (только рабочие дни), нас – 48 (все члены семей, принимающие деятельное участие в жизни ребенка), следовательно, только 1 раз в два месяца нужно найти время и прийти в группу на 30–40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имайте родителей в любое удобное для них время: утром, во время занятий, на прогулке, во вторую половину дня и даже в тихий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анализируйте записи в календаре и заранее обсудите с родителями то, чем бы они хотели заняться в группе: поиграть с детьми, почитать им, починить что-либо, научить чему-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осите, какая помощь им нуж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ьте памятки для родителей о том, что и как можно делать на разных занят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бадривайте родителей, подходите к ним во время их присутствия в группе, но если видите, что все в порядке, не задавайте лишних вопросов и не мешай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о и искренне благодарите, привлекайте к обсуждению жизни детей в групп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о делать воспитателю, чтобы             родители захотели принимать участие в жизни ребенка в детском саду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ция о дет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Записи наблюдений за детьми вести обязательно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Записи наблюдений вывешивать для чтения родителя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формировать родителей о том, как ребенок провел день, чему научился, каких успехов достиг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дивидуальные записки о неуспехах ребенк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абушкам, дедушкам – информация дается только с разрешения родителе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споряжения родит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я ребенка ________________________    дата 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 Что следует предпринять сотрудникам детского сада в случае, если в течение дня у ребен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явились признаки нездоровья…………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ко изменилась погода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енок отказывается от дневного сна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еды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 задерживаетесь………………………………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 предупреждения не приводите ребенка в группу после выходных и праздничных дней…………………………………………………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да мы можем позвонить, чтобы найти ВАС?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пись родителей (законного представителя ребенка)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ы взаимодействия детского сада с род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способы организации их совместной деятельности и общ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сех видов форм взаимодействия ДОУ с семьёй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становление доверительных отношений с детьми, родителями и педагогами, объединение их в одну команду, воспитание потребности делиться друг с другом своими проблемами и совместно их решать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04:22:32Z</dcterms:created>
  <dc:creator>Customer</dc:creator>
  <dc:description/>
  <dc:language>en-US</dc:language>
  <cp:lastModifiedBy>admin</cp:lastModifiedBy>
  <dcterms:modified xsi:type="dcterms:W3CDTF">2020-11-15T18:02:57Z</dcterms:modified>
  <cp:revision>158</cp:revision>
  <dc:subject/>
  <dc:title>Слайд 1</dc:title>
</cp:coreProperties>
</file>