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1F7A-0911-48BF-98F8-EB8C611D7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C694-8B3B-4EC0-BC6E-5BB9DC059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B84C-D53F-4C38-A815-DC8B109A2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2FB5-6C0E-4577-BF04-74F9EBC6C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EFA3-79A8-427A-9AB7-7BE8FF136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3097-4DED-4297-8474-2024B374D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0889-F836-403E-A4E6-0ED20E675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7DF9-D0C5-4584-98A8-F331CC69B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CE25-226B-4FFD-8113-769CC3364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DC5F-6D1C-4F5F-8803-13A49844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8A3E-95FF-40EC-9581-FA7ADDDD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1E2D-554D-4661-9B98-647272FF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6D0F5-7244-4C23-A225-6F6879BFB3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ганизация образовательной деятельности в контексте ФГОС ДО «Оптимизация форм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заимодействия с  семьей»</a:t>
            </a:r>
            <a:br>
              <a:rPr sz="2800"/>
            </a:br>
            <a:br>
              <a:rPr sz="28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сультация для воспита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-252360" y="0"/>
            <a:ext cx="9720360" cy="71740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ЛАН РАБОТЫ РОДИТЕЛЬСКОГО КЛУБ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50920" y="1600200"/>
          <a:ext cx="8435880" cy="4846680"/>
        </p:xfrm>
        <a:graphic>
          <a:graphicData uri="http://schemas.openxmlformats.org/drawingml/2006/table">
            <a:tbl>
              <a:tblPr/>
              <a:tblGrid>
                <a:gridCol w="1406520"/>
                <a:gridCol w="1404720"/>
                <a:gridCol w="1406520"/>
                <a:gridCol w="1405080"/>
                <a:gridCol w="1406520"/>
                <a:gridCol w="14065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Ч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ВЕТСТВЕН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ЯВЛЕНИЕ ТРУДНОСТИ У РОДИТЕЛЕ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УДНОСТИ РОДИТЕЛЕ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РОСНИК, ДИАЛОГ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ДАГ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09.15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ЧЕНЬ РОДИТЕЛЬСКИХ ТРУД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ВОЕНИЕ ЗДОРОВЬЕСБЕРЕГАЮЩИХ ТЕХНОЛОГ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ДОРОВЬЕСБЕРЕГАЮЩИЕ ТЕХНОЛОГ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ЕНИНГ, МАСТЕР-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ДАГОГ, МЕДСЕСТ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10.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03.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ХНИКИ, ПРИЕМЫ ЗО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ЛЕНИЕ РЕЧЕВЫХ, ВОЗРАСТНЫХ ОСОБЕННОСТЕЙ ДЕТЕ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ВОЕНИЕ ПРИЕМОВ  С НАРУШЕНИЕМ РЕ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ЕНИН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ГОПЕ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11.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04.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ЕМЫ РАБОТЫ С ДЕТЬ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УЧЕНИЕ И СОЗДАНИЙ СЕМЕЙНЫХ ТРАДИ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ЛЕНИЕ СЕМЕЙНЫХ ТРАДИ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ТЕР-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ДИ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12.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02.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ВАЯ ТРАДИ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C:\Users\user_c35a\Desktop\картинки семья\images.jpg"/>
          <p:cNvPicPr/>
          <p:nvPr/>
        </p:nvPicPr>
        <p:blipFill>
          <a:blip r:embed="rId1"/>
          <a:stretch/>
        </p:blipFill>
        <p:spPr>
          <a:xfrm>
            <a:off x="2050920" y="2608200"/>
            <a:ext cx="5473800" cy="31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\\\\\\\\\\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Федеральный закон № 273-ФЗ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«Об образовании в Российской Федерации»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действует с 1 сентября 2013г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атья 44. Права, обязанности и ответственность в сфере образования родителей (законных представителей) несовершеннолетних обучающих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Родители (законные представители) несовершеннолетних обучающихся имеют преимущественное право на обучение и воспитание детей перед всеми другими лицами. Они обязаны заложить основы физического, нравственного и интеллектуального развития личности ребен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Органы государственной власти и органы местного самоуправления, образовательные организации оказывают помощь родителям (законным представителям) несовершеннолетних обучающихся в воспитании детей, охране и укреплении их физического и психического здоровья, развитии индивидуальных способностей и необходимой коррекции нарушений их развит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структивное взаимодейств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е приказывать(Вы должны, Вам нужно, Вам необходимо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е угрожать (Если поведение Вашего ребенка не исправиться, то.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е проповедовать (Вы как мать должны.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е поучать (Если бы Вы меня послушали.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е подсказывать решения (На Вашем месте я бы.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е выносить суждений (Вам необходимо больше времени проводить с ребенком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е оправдывать и не оправдываться (поведение Вашего сына не так уж и плохо на первый взгляд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е ставить диагноз (Ваш ребенок слишком нервный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е выпытывать (вопросы не имеющие отношение к пед. процессу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е провоцировать конфликт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Государственный Образовательный Стандарт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ует с 1января2014г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425"/>
              </a:spcBef>
              <a:buClr>
                <a:srgbClr val="262673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425"/>
              </a:spcBef>
              <a:buClr>
                <a:srgbClr val="262673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п3.2.1. Для успешной реализации Программы должны быть обеспечены следующие психолого-педагогические условия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 8) поддержка родителей (законных представителей) в воспитании детей, охране и укреплении их здоровья, вовлечение семей непосредственно в образовательную деятельность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425"/>
              </a:spcBef>
              <a:buClr>
                <a:srgbClr val="262673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п 3.2.5. Условия, необходимые для создания социальной ситуации развития детей, соответствующей специфике дошкольного возраста, предполагают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. 5) взаимодействие с родителями (законными представителями) по вопросам образования ребенка, непосредственного вовлечения их в образовательную деятельность, в том числе посредством создания образовательных проектов совместно с семьей на основе выявления потребностей и поддержки образовательных инициатив семь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425"/>
              </a:spcBef>
              <a:buClr>
                <a:srgbClr val="262673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62673"/>
                </a:solidFill>
                <a:latin typeface="Arial"/>
              </a:rPr>
              <a:t>п 3.2.6. В целях эффективной реализации Программы должны быть созданы условия для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..2) консультативной поддержки педагогических работников и родителей (законных представителей) по вопросам образования и охраны здоровья детей, в том числе инклюзивного образования (в случае его организации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6480" y="475920"/>
            <a:ext cx="814716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Алгоритм проведения первой родительской встреч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8360" y="1483920"/>
            <a:ext cx="8362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62960" indent="-46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рганизовать 100% явку родителей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(СМИ, объявление на сайте ДОО, смс-сообщения, личные встречи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тиваровать родителей на изменение взаимодействия с ДОО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резентация воспитателя, представление нормативно-правовой базы, выдача текстового документа ФГОС ДО каждой семье, знакомство с ООП ДО и др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явить трудности родителей в вопросах воспитания и образования детей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(предварительный опрос, диалог и др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ставить перечень выявленных трудностей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(фиксация на доске, представление в электронном виде, выделение первоочередных проблем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формить совместный план действий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пределить содержание совместной работ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ставить тематический план групп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ределить участие каждой семьи в непосредственно образовательн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становить сроки проведения совместных встре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дать родителям план мероприятий с датой и временем сбыт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бор формы совместной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есьте в приемной табель или календарь, в котором члены семей воспитанников могли бы отметить удобный для себя день. Подкрепите календарь расчетом: в месяце 21 день (только рабочие дни), нас – 48 (все члены семей, принимающие деятельное участие в жизни ребенка), следовательно, только 1 раз в два месяца нужно найти время и прийти в группу на 30–40 мину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имайте родителей в любое удобное для них время: утром, во время занятий, на прогулке, во вторую половину дня и даже в тихий ч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анализируйте записи в календаре и заранее обсудите с родителями то, чем бы они хотели заняться в группе: поиграть с детьми, почитать им, починить что-либо, научить чему-т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росите, какая помощь им нуж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ьте памятки для родителей о том, что и как можно делать на разных занят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бадривайте родителей, подходите к ним во время их присутствия в группе, но если видите, что все в порядке, не задавайте лишних вопросов и не мешай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крыто и искренне благодарите, привлекайте к обсуждению жизни детей в групп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о делать воспитателю, чтобы             родители захотели принимать участие в жизни ребенка в детском саду…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формация о дет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Записи наблюдений за детьми вести обязательно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Записи наблюдений вывешивать для чтения родителя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Информировать родителей о том, как ребенок провел день, чему научился, каких успехов достиг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Индивидуальные записки о неуспехах ребенк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абушкам, дедушкам – информация дается только с разрешения родителей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аспоряжения родител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я ребенка ________________________    дата 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 Что следует предпринять сотрудникам детского сада в случае, если в течение дня у ребен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явились признаки нездоровья……………………………………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ко изменилась погода……………………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бенок отказывается от дневного сна……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еды……………………………………………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 задерживаетесь……………………………………………………………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з предупреждения не приводите ребенка в группу после выходных и праздничных дней…………………………………………………………………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да мы можем позвонить, чтобы найти ВАС?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пись родителей (законного представителя ребенка)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рмы взаимодействия детского сада с родител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способы организации их совместной деятельности и общ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Це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сех видов форм взаимодействия ДОУ с семьёй: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установление доверительных отношений с детьми, родителями и педагогами, объединение их в одну команду, воспитание потребности делиться друг с другом своими проблемами и совместно их решать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6T04:22:32Z</dcterms:created>
  <dc:creator>Customer</dc:creator>
  <dc:description/>
  <dc:language>en-US</dc:language>
  <cp:lastModifiedBy>admin</cp:lastModifiedBy>
  <dcterms:modified xsi:type="dcterms:W3CDTF">2020-11-15T18:02:57Z</dcterms:modified>
  <cp:revision>158</cp:revision>
  <dc:subject/>
  <dc:title>Слайд 1</dc:title>
</cp:coreProperties>
</file>