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64D-0050-485E-AFF2-E027FAFA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ADD-5CD5-4C63-9E0F-78C839F8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B61-E7E5-4BE2-AEFE-D37B9FAA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AF0-7F7B-4ECA-99E5-55A837A1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9DFA-91EF-42D0-AA7A-D8F8AE42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7115-D64F-4439-B3CD-A01730E1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4126-113F-4ED5-8362-6A64CD7F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454A-325B-4F55-B978-E4BFE012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CC2D-78A0-42E0-AA2E-271E35C5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4A49-E8E2-41EE-866F-232239F4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DE75-3875-4CA1-BDD4-64355D85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5EF7-A5D0-400C-888B-1629CA1D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8876-DDD2-405B-84DD-A144B28C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E406-2BEF-4411-A780-0A817A27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F751-0E75-486C-9AD1-DDF1D1C3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6F97-5809-45DC-93AC-E0C47A5B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DF09-CF32-4A03-8580-3E7EE7F6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EDD35-78FD-4235-B397-924684BA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1443B-91B5-4500-B9AF-CA0E9E9B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3ECDA-6C94-4CBA-B55E-C5843E5A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96D01-FF4E-487D-9CF1-D6A9CD4B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8F4AC-50D4-4630-AA3B-55CEBADB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646-2B35-47D3-BEDB-EB02C2D4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67D8D-AAA6-4034-8826-B4399BE6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52ED2-505F-40C7-AFDB-C35993E7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10CF-E6D9-41A4-89FB-3C1B7736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64E98-8104-49FB-9E0A-64800D8F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E8872-2A43-40A3-A466-C95C4A08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09CAF-14D4-4B28-9DFC-EC51C93F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3F9C9-693D-4F83-B333-31471E95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18BEC-8E1F-430D-8ED6-4AF0607B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B9127-EA06-45DF-A4A5-DF462E58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4339A-38C4-452B-8F6D-E19DBE63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7E4-F4FD-4A8E-9164-0AA3C914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69C75-E2F9-401F-89DF-75940346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F9783-3952-42B1-9373-69427129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44D24-CBDE-4280-A2C3-9DE64FF7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338BD-CD7B-4BAB-B7CB-3D48E52C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E6AE9-230E-4D9F-9CDC-391DE63F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0545C-6F5B-4E7D-9D8B-1F69B4FE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548DA-DA23-4468-B9E7-40054A72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8F47C-E76C-4BCB-884A-AB6F51E0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FBE47-C082-4A15-AC9C-158D185F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58B3-154A-4A23-8F53-27F040A2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CD3-EAE6-4B2B-9658-B39E457F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629C-1F6A-4EDA-BB0D-3447D879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EEF-299F-41CD-B40C-575C1B73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7CF-A0DD-4C7B-8598-C19463AE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F72C-E907-4FE6-B1DA-C2F907190F7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38EB-0D96-4F65-A6C9-62ED5FBD78B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24DA-3EDF-419D-A9FD-AABF05E3F18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EFB7-1F1E-405F-B0A9-D55003F9AE7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6"/>
          <p:cNvSpPr/>
          <p:nvPr/>
        </p:nvSpPr>
        <p:spPr>
          <a:xfrm>
            <a:off x="642960" y="228600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«УЧАСТИЕ В СОЦИАЛЬНО-ПСИХОЛОГИЧЕСКОМ ТЕСТИРОВАНИИ НА ПРЕДМЕТ РАННЕГО ВЫЯВЛЕНИЯ НЕЗАКОННОГО ПОТРЕБЛЕНИЯ НАРКОТИЧЕСКИХ СРЕДСТ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 ПСИХОТРОПНЫХ ВЕЩЕСТ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1785960" y="1357200"/>
            <a:ext cx="57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оциально-психологическое тестиров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85840" y="1856880"/>
            <a:ext cx="85010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водится в соответствии с приказом Министерства просвещения Российской Федерации от 20 февраля 2020 года № 59 «Об утверждении Порядка проведения социально-психологического тестирования обучающихся в общеобразовательных организациях и профессиональных образовательных организациях», приказом департамента образования Ямало-Ненецкого автономного округа от 28 июля 2020 года № 497 «Об организации проведения социально-психологического тестирования обучающихся в муниципальных общеобразовательных организациях, государственных профессиональных образовательных организациях Ямало-Ненецкого автономного округа в 2020-2021 учебном году»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сновные задачи социально-психологического тестиро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выявление у обучающихся психологических «факторов риска» с целью их последующей психологической коррекци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организации адресной и системной работ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 обучающимися образовательной организации, направленной на профилактику вовлеч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потребление НС и П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формирование контингента обучающихся, направляемых на профилактические медицинские осмотр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сновные принципы проведения социально-психологического тестирова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инцип добровольност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учающиеся от 15 лет самостоятельно, от 13 до 15 лет их родители (законные представители) дают информированное добровольное согласие на прохождение социально-психологического тестирова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инцип конфиденциальност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зультаты социально-психологического тестирования сообщаются только лично обучающемуся, прошедшему тестирование, или родителям (законным представителям), при условии его несовершеннолет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28760" y="128592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инцип ненаказуемост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зультаты социально-психологического тестирования не являются основанием для применения мер дисциплинарного наказан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инцип помощ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 результатам тестирования можно обратиться за помощь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 психолог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0004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оциально-психологическое тестирование-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это психодиагностическое обследование, позволяющее выявлять исключительно психологические «факторы риска» возможного вовлечения в зависимое поведение, связанные с дефицитом ресурсов психологической «устойчивости» личност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оциально-психологическое тестирование не выявляет факта незаконного потребления НС и П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езультаты социально-педагогического тестиро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не являются достаточным основанием для постановки тестируемого на какой-либо вид учета (внутришкольный, наркологический учет или постановки иного диагноза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могут лишь мотивировать тестируемого обратиться за консультацией к психологу, а также воспользоваться предложениями по участи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программах или мероприятиях, направленных на развитие профилактической компетентности, навыков личностно-доверительного общения, качеств личности, обеспечивающих оптимальную социально-психологическую адаптацию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позволяют тестируемому получить информацию о самом себе, содействуя развитию у него навыков рефлексии, позволяющей адекватно оценивать свои возмож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71680" y="1356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обобщенные (не персональные) результаты социально-психологического тестирования позволяют организовать эффективные психопрофилактические мероприятия на уровне муниципальных образований и каждой конкретной школ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циально-психологическое тестирование –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то лишь первый этап выявления затруднений, который может выполнять функцию «старта работы над собой»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сле этого при благоприятном развитии ситуации должен следовать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этап мобилизации социально-психологических ресурсов»,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торый включает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28760" y="121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формирование у обучающихся личностных качеств, необходимых для конструктивного, успешного и ответственного поведения в обществ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развитие стрессоустойчивости и навыков совладания со стрессом: принятия решений, обращения за социальной поддержкой, избегания опасных ситуац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развитие навыков саморегуляции и самоорганизации лич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содействие осознания обучающимися ценности экологически целесообразного, здорового и безопасного образа жизн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формирование установки на систематические занятия физической культурой и спортом, готовности к выбору индивидуальных режимов двигательной активности на основе осознания собственных возможносте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6T14:39:08Z</dcterms:created>
  <dc:creator>PC</dc:creator>
  <dc:description/>
  <dc:language>en-US</dc:language>
  <cp:lastModifiedBy>Raybook</cp:lastModifiedBy>
  <dcterms:modified xsi:type="dcterms:W3CDTF">2020-09-16T12:42:16Z</dcterms:modified>
  <cp:revision>61</cp:revision>
  <dc:subject/>
  <dc:title>Слайд 1</dc:title>
</cp:coreProperties>
</file>