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985-1116-4415-AC24-8B020201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43C-3002-4867-9758-363A798C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E82-969D-47DB-A089-287B4ED4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60A-F5B9-412E-A682-5BE615E7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14C9-E415-419C-A282-C584ABBA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3858-CB27-4A69-B713-7F973291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F24B-3CFA-4278-8686-7B7F95D6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4EF5-F06C-4F0A-8293-CE73BA0E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8C94-06FF-41D0-8AF5-24C61EAF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296E-D8E9-47C6-BF24-D7DEDAB5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2006-0D74-4D5A-8804-644EE8B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226-0264-4AB5-B51C-796A9346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542E-E622-4D83-B58F-E3BF6F7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AD5C-C9AE-4DEE-9CE0-49F0D73A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8D46-B6C1-480A-A109-B1ACA5B9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04A9-E2CC-4457-9392-0951AEA6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7C77-0310-4ADF-B4CC-BD47C258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03AC-7D3D-43F9-8D20-F74C5512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FB7C-93E3-4116-B6A2-729E71AB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16A4-7110-4223-A1F0-8C641551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BB2C-F03D-4172-A61E-E524AF53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AE99-AE8F-4640-AE10-FF6CD334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5A3-15BA-4912-98F3-E233E39C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D37CB-9112-4C68-87ED-652F2DFC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A503-9517-4F0D-801D-5BEBA042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2B94-62EB-4F05-ADC0-A19595C5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920FC-4C8A-41CF-AF08-6B56A6D1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65024-2798-4CE1-A3D8-EF428A6B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F6E8-85C3-464E-87D0-1AD5D359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E3FA-F474-4248-833E-B1AA656B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2CE9F-1D09-4D47-9BBD-294DD030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DCAD7-4DC7-482F-9737-AEEF89B2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0393-2550-4B53-82EA-EE2B1009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043-8FBF-4C0D-92DF-8B570A78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11253-7B51-4C8D-BCEF-8C1B99EB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B620-A666-4FB0-B967-3835C98E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723E4-AFF6-498B-B2DC-47DE2901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92A11-67B4-4CCE-81C2-228FBECD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2A043-AA27-46A5-A17F-57F7372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B2F0C-7862-4E4C-B43A-247AE67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B0DC-4ABC-449B-B170-ACF66824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7D17C-5766-4071-B704-F2BA4F6E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CD99-E30D-42F9-9929-49F75848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B2E-6EA3-4907-BAD9-29EB6EFF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3DA-7D68-463B-8A80-AA3DF33A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24D-3110-4D7A-9915-2E99A4F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CC4-47E2-4DD9-BA73-C5E00B2F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FD2-1325-48BE-9ECB-A8847055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3820-0F93-457A-A605-35758E059FF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010B-BA8E-440E-AC91-6B323FD3A4C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04DA-95CB-4A20-9026-D7B69EDA4C9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FC49-AF67-4763-9333-5AD798CB4B7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6"/>
          <p:cNvSpPr/>
          <p:nvPr/>
        </p:nvSpPr>
        <p:spPr>
          <a:xfrm>
            <a:off x="642960" y="22860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УЧАСТИЕ В СОЦИАЛЬНО-ПСИХОЛОГИЧЕСКОМ ТЕСТИРОВАНИИ НА ПРЕДМЕТ РАННЕГО ВЫЯВЛЕНИЯ НЕЗАКОННОГО ПОТРЕБЛЕНИЯ НАРКОТИЧЕСКИХ СРЕДСТ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ПСИХОТРОПНЫХ ВЕЩЕСТ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1785960" y="135720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оциально-психологическое тестиров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85840" y="1856880"/>
            <a:ext cx="85010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водится в соответствии с приказом Министерства просвещения Российской Федерации от 20 февраля 2020 года № 59 «Об утверждении Порядка проведения социально-психологического тестирования обучающихся в общеобразовательных организациях и профессиональных образовательных организациях», приказом департамента образования Ямало-Ненецкого автономного округа от 28 июля 2020 года № 497 «Об организации проведения социально-психологического тестирования обучающихся в муниципальных общеобразовательных организациях, государственных профессиональных образовательных организациях Ямало-Ненецкого автономного округа в 2020-2021 учебном году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ные задачи социально-психологического тестиро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выявление у обучающихся психологических «факторов риска» с целью их последующей психологической коррекци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организации адресной и системной работ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обучающимися образовательной организации, направленной на профилактику вовлеч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отребление НС и П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формирование контингента обучающихся, направляемых на профилактические медицинские осмот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сновные принципы проведения социально-психологического тестиро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нцип добровольнос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учающиеся от 15 лет самостоятельно, от 13 до 15 лет их родители (законные представители) дают информированное добровольное согласие на прохождение социально-психологического тестиров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нцип конфиденциальнос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зультаты социально-психологического тестирования сообщаются только лично обучающемуся, прошедшему тестирование, или родителям (законным представителям), при условии его несовершеннолет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28760" y="128592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нцип ненаказуемос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зультаты социально-психологического тестирования не являются основанием для применения мер дисциплинарного наказ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нцип помощ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 результатам тестирования можно обратиться за помощь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 психолог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0004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оциально-психологическое тестирование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то психодиагностическое обследование, позволяющее выявлять исключительно психологические «факторы риска» возможного вовлечения в зависимое поведение, связанные с дефицитом ресурсов психологической «устойчивости» лич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оциально-психологическое тестирование не выявляет факта незаконного потребления НС и П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езультаты социально-педагогического тестиро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не являются достаточным основанием для постановки тестируемого на какой-либо вид учета (внутришкольный, наркологический учет или постановки иного диагноз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могут лишь мотивировать тестируемого обратиться за консультацией к психологу, а также воспользоваться предложениями по участ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граммах или мероприятиях, направленных на развитие профилактической компетентности, навыков личностно-доверительного общения, качеств личности, обеспечивающих оптимальную социально-психологическую адаптаци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позволяют тестируемому получить информацию о самом себе, содействуя развитию у него навыков рефлексии, позволяющей адекватно оценивать свои возмож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68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обобщенные (не персональные) результаты социально-психологического тестирования позволяют организовать эффективные психопрофилактические мероприятия на уровне муниципальных образований и каждой конкретной школ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циально-психологическое тестирование –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то лишь первый этап выявления затруднений, который может выполнять функцию «старта работы над собой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сле этого при благоприятном развитии ситуации должен следовать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этап мобилизации социально-психологических ресурсов»,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торый включает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28760" y="121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формирование у обучающихся личностных качеств, необходимых для конструктивного, успешного и ответственного поведения в обществ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развитие стрессоустойчивости и навыков совладания со стрессом: принятия решений, обращения за социальной поддержкой, избегания опасных ситуац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развитие навыков саморегуляции и самоорганизации лич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содействие осознания обучающимися ценности экологически целесообразного, здорового и безопасного образа жизн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формирование установки на систематические занятия физической культурой и спортом, готовности к выбору индивидуальных режимов двигательной активности на основе осознания собственных возможнос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14:39:08Z</dcterms:created>
  <dc:creator>PC</dc:creator>
  <dc:description/>
  <dc:language>en-US</dc:language>
  <cp:lastModifiedBy>Raybook</cp:lastModifiedBy>
  <dcterms:modified xsi:type="dcterms:W3CDTF">2020-09-16T12:42:16Z</dcterms:modified>
  <cp:revision>61</cp:revision>
  <dc:subject/>
  <dc:title>Слайд 1</dc:title>
</cp:coreProperties>
</file>