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4840" y="812880"/>
            <a:ext cx="53452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move the slide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ECC80-6B0A-4400-B37D-AD808463CE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62D7F-A4D4-43D8-8628-8BEDFB7313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B8558-2E88-4B7F-9866-53C07EF57B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7A78E-F0E3-4EC0-9FFF-62CAEF7675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BC17A-C171-4618-BFB2-09F3DBE18C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1C0AC-3C44-43D4-8CFE-CA528AD31F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1B496-6CAD-4660-B1CA-1171E2FEE6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0323F-76DA-44AE-BB41-2CFCCA3AD8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47DD5-2045-4F07-BE1A-314510D6FD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C401C-D829-4301-910A-1B0AB98E1F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20DB6-39C1-4FAE-93BD-33E3B4DEFA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697B7-F241-4E26-8E13-ABD35CC5DE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0EB38-0C29-478D-A226-082D8B4028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F539D-CB79-48D0-9359-1604A725A7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B76B3-EF33-494B-8CA1-CF1B25BE3C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CDD4E-30CE-4027-9EA0-4A5A4BA0E6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9D12-2586-4220-8946-A691EA9C1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7E10-54B6-4145-973E-AF9A2DC2C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7FDA-2448-4CA3-BE5E-55A92BE12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BAAB-B8A6-447E-81D5-7581F4412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51B2C-0BC5-4501-822F-05673F81C3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156D2-CF77-4791-843B-26DC8291B2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9A327-5F4E-4786-B7B8-19BC427018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00810-87E7-4F39-8F6D-3DC0837445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7AC1B-D057-456D-B4DE-77E81644DC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-43200"/>
            <a:ext cx="906768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B50E5-D381-4B71-AF54-8B9581A7BF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C8ED-839C-4DF6-B462-FCBE9555C1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9266-5D44-454E-AB8E-E9904A3EA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9435D-370F-4358-B3C7-67843C7CD9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764A8-9FB2-4287-BFFD-D4B9EB4478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48E03-DC6B-47BE-B3FD-ABE53BB90C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71D6E-F362-47E5-B190-11F16ABB72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B80E8-BF67-4EC2-91E4-8A091E3448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1A0A-13F9-4289-878E-E35002324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C9D5-D43B-47F6-A535-3F9F15F7E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A57C-3C4B-4BC2-8566-D3608FD48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-43200"/>
            <a:ext cx="906768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8EC1-8106-488D-8865-61CB091D4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0D25-413E-43B8-A29C-898D6DF1A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F0F5-270B-443D-B063-F42F32182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FA0E-30A0-4B8D-B23A-C90643752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CFA100-5042-4CFF-9B09-58E7078077A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0" y="0"/>
            <a:ext cx="10080720" cy="3780000"/>
          </a:xfrm>
          <a:prstGeom prst="roundRect">
            <a:avLst>
              <a:gd name="adj" fmla="val 42"/>
            </a:avLst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-43200"/>
            <a:ext cx="90676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smincho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834568-075F-4365-B341-829D83E36A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39640" y="720720"/>
            <a:ext cx="921564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Тема урок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«Конкретный смысл действия деления (решение задач на деление на равные части)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УМК «Школа Росси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Учебник: М.И.Моро, М.А.Бантова и др. Математика, М.: Просвещение, 20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Учитель начальных классов: Скрабуно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Татьяна Анатольев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503280" y="360360"/>
            <a:ext cx="9215280" cy="63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Краткая характеристика класса, особенности развития обучающих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Во 2 классе обучается 4 человека, соответствующие возрастной норме. Дети  имеют положительную мотивацию к учебной деятельности. Родители оказывают помощь в подготовке к урокам и внеурочной деятельности. Ребята собраны, на уроках активны, внимательны. Уровень обученности средний, каждый из них способен воспроизводить знания на новом уровне, в новой ситуации, но испытывают затруднения в практическом переносе знан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503280" y="360360"/>
            <a:ext cx="9215280" cy="63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Тип урок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Место данного урока в системе уро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Тип урока: Урок «открытия» нового зн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Урок в структуре учебной программы по математике идёт после темы: «Конкретный смысл действия деления(решение задач на деление  по содержанию», это первый урок в данной теме, на котором формируются первоначальные способы деления на равные части, совершенствуются предметные, метапредметные, личностные, коммуникативные УУ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360360" y="179280"/>
            <a:ext cx="9215280" cy="71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795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Цели  и задачи урока, оценка их оптимальности, пути их реал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79560" algn="just">
              <a:lnSpc>
                <a:spcPct val="100000"/>
              </a:lnSpc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4700b8"/>
                </a:solidFill>
                <a:latin typeface="Times New Roman"/>
                <a:ea typeface="msmincho"/>
              </a:rPr>
              <a:t>Предметные: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msmincho"/>
              </a:rPr>
              <a:t> разъяснить смысл действия деления; совершенствовать вычислительные навыки, мыслительные операции сравнения, анализа, обобщения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79560" algn="just">
              <a:lnSpc>
                <a:spcPct val="100000"/>
              </a:lnSpc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msmincho"/>
              </a:rPr>
              <a:t>воспитывать интерес  изучению предмета и  умение работать в парах, группе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79560">
              <a:lnSpc>
                <a:spcPct val="100000"/>
              </a:lnSpc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4700b8"/>
                </a:solidFill>
                <a:latin typeface="Times New Roman"/>
                <a:ea typeface="msmincho"/>
              </a:rPr>
              <a:t> </a:t>
            </a:r>
            <a:r>
              <a:rPr b="1" lang="ru-RU" sz="2300" spc="-1" strike="noStrike">
                <a:solidFill>
                  <a:srgbClr val="4700b8"/>
                </a:solidFill>
                <a:latin typeface="Times New Roman"/>
                <a:ea typeface="msmincho"/>
              </a:rPr>
              <a:t>Метапредметные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79560">
              <a:lnSpc>
                <a:spcPct val="100000"/>
              </a:lnSpc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262699"/>
                </a:solidFill>
                <a:latin typeface="Times New Roman"/>
                <a:ea typeface="msmincho"/>
              </a:rPr>
              <a:t>Личностные: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msmincho"/>
              </a:rPr>
              <a:t>воспитывать положительное отношение к изучению математики, понимание и  значение математики в жизни человек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79560">
              <a:lnSpc>
                <a:spcPct val="100000"/>
              </a:lnSpc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4700b8"/>
                </a:solidFill>
                <a:latin typeface="Times New Roman"/>
                <a:ea typeface="msmincho"/>
              </a:rPr>
              <a:t>Регулятивные: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msmincho"/>
              </a:rPr>
              <a:t> учить адекватно воспринимать оценку своей работы учителем, товарищами и самим собой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79560" algn="just">
              <a:lnSpc>
                <a:spcPct val="100000"/>
              </a:lnSpc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4700b8"/>
                </a:solidFill>
                <a:latin typeface="Times New Roman"/>
                <a:ea typeface="msmincho"/>
              </a:rPr>
              <a:t>Познавательные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795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msmincho"/>
              </a:rPr>
              <a:t>учить ориентироваться в собственной системе знаний,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795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msmincho"/>
              </a:rPr>
              <a:t>добывать новые знания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795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msmincho"/>
              </a:rPr>
              <a:t>находить ответы на вопросы, используя учебник, свой жизненный опыт и информацию из различных источников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79560" algn="just">
              <a:lnSpc>
                <a:spcPct val="100000"/>
              </a:lnSpc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4700b8"/>
                </a:solidFill>
                <a:latin typeface="Times New Roman"/>
                <a:ea typeface="msmincho"/>
              </a:rPr>
              <a:t>Коммуникативные: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msmincho"/>
              </a:rPr>
              <a:t>учить работать в парах и группе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179280" y="0"/>
            <a:ext cx="9685440" cy="73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4a4a"/>
                </a:solidFill>
                <a:latin typeface="Times New Roman"/>
                <a:ea typeface="msmincho"/>
              </a:rPr>
              <a:t>Оценка содержания каждого этапа ур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В основу Стандарта положен системно - деятельностный подход, базирующийся на обеспечении соответствия учебной деятельности обучающихся их возрасту и индивидуальным особенностям. На уроке была реализована система дидактических принципов,  обусловленных Стандартом НОО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Times New Roman"/>
                <a:ea typeface="msmincho"/>
              </a:rPr>
              <a:t>принцип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Times New Roman"/>
                <a:ea typeface="msmincho"/>
              </a:rPr>
              <a:t>принцип  нагляд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Times New Roman"/>
                <a:ea typeface="msmincho"/>
              </a:rPr>
              <a:t>принцип науч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Times New Roman"/>
                <a:ea typeface="msmincho"/>
              </a:rPr>
              <a:t>принцип минимак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Times New Roman"/>
                <a:ea typeface="msmincho"/>
              </a:rPr>
              <a:t>принцип психологической комфорт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Урок выдержан в соответствии  здоровьесберегающей технологи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79280" y="179280"/>
            <a:ext cx="9720360" cy="71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158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4a4a"/>
                </a:solidFill>
                <a:latin typeface="Times New Roman"/>
                <a:ea typeface="msmincho"/>
              </a:rPr>
              <a:t>Оценка оптимальности выбранных форм и методов обучения. Их педагогическая целесообраз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158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На уроке были использованы следующие формы и  методы обуч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158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Symbol" charset="2"/>
              <a:buChar char="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Times New Roman"/>
                <a:ea typeface="msmincho"/>
              </a:rPr>
              <a:t>словесн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(устное сообщение, диалог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158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Symbol" charset="2"/>
              <a:buChar char="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Times New Roman"/>
                <a:ea typeface="msmincho"/>
              </a:rPr>
              <a:t>нагляд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 (презентац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158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Symbol" charset="2"/>
              <a:buChar char="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Times New Roman"/>
                <a:ea typeface="msmincho"/>
              </a:rPr>
              <a:t>методы самоконтроля и взаимоконтро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158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Symbol" charset="2"/>
              <a:buChar char="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Times New Roman"/>
                <a:ea typeface="msmincho"/>
              </a:rPr>
              <a:t>практическ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(участие в делении ленты на равные части 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158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Symbol" charset="2"/>
              <a:buChar char="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Times New Roman"/>
                <a:ea typeface="msmincho"/>
              </a:rPr>
              <a:t>проблемно-поисковый мет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(как разделить на равные части лент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158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В ходе урока были использованы различные формы работы учащих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158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Times New Roman"/>
                <a:ea typeface="msmincho"/>
              </a:rPr>
              <a:t>-индивидуальная;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Times New Roman"/>
                <a:ea typeface="msmincho"/>
              </a:rPr>
              <a:t> -в парах; </a:t>
            </a:r>
            <a:br>
              <a:rPr sz="2400"/>
            </a:br>
            <a:r>
              <a:rPr b="0" lang="ru-RU" sz="2400" spc="-1" strike="noStrike">
                <a:solidFill>
                  <a:srgbClr val="262699"/>
                </a:solidFill>
                <a:latin typeface="Times New Roman"/>
                <a:ea typeface="msmincho"/>
              </a:rPr>
              <a:t> - группов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1640" indent="158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503280" y="301680"/>
            <a:ext cx="90694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itstream Vera Sans"/>
                <a:ea typeface="msmincho"/>
              </a:rPr>
              <a:t>На уроке применялись следующие педагогические технолог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  <a:ea typeface="msmincho"/>
              </a:rPr>
              <a:t>Методы работы:</a:t>
            </a:r>
            <a:r>
              <a:rPr b="0" lang="ru-RU" sz="3200" spc="-1" strike="noStrike">
                <a:solidFill>
                  <a:srgbClr val="262699"/>
                </a:solidFill>
                <a:latin typeface="Times New Roman"/>
                <a:ea typeface="msmincho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практико–ориентированный, проблемный диалог, словесный, системно - деятельност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  <a:ea typeface="msmincho"/>
              </a:rPr>
              <a:t>Педагогические технологии:</a:t>
            </a:r>
            <a:r>
              <a:rPr b="0" lang="ru-RU" sz="3200" spc="-1" strike="noStrike">
                <a:solidFill>
                  <a:srgbClr val="262699"/>
                </a:solidFill>
                <a:latin typeface="Times New Roman"/>
                <a:ea typeface="msmincho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личностно - ориентированное обучение, элементы технологии системно-деятельностного подхода, метод проблемного обучения, здоровьесберегающая технолог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503280" y="360360"/>
            <a:ext cx="9215280" cy="63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68536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На уроке с целью активизации деятельности,  были использованы различные виды проверок:  самопроверка,взаимопроверка выполненной работы в парах. Оценка заданий дала возможность каждому ребёнку оценить свои знания, увидеть, первичные затруднения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68536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Дидактический материал, подобранный для  данного урока был доступен для всех учащихся этого класса. Выбранный тип и форма проведения урока себя оправдал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68536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Цели урока были достигнуты, дидактические принципы реализова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22160"/>
                <a:tab algn="l" pos="1446120"/>
                <a:tab algn="l" pos="21718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5280"/>
                <a:tab algn="l" pos="7237440"/>
                <a:tab algn="l" pos="7961400"/>
                <a:tab algn="l" pos="868536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16:41Z</dcterms:created>
  <dc:creator>pochta </dc:creator>
  <dc:description/>
  <dc:language>en-US</dc:language>
  <cp:lastModifiedBy>РРЦ</cp:lastModifiedBy>
  <dcterms:modified xsi:type="dcterms:W3CDTF">2013-03-18T05:06:07Z</dcterms:modified>
  <cp:revision>7</cp:revision>
  <dc:subject/>
  <dc:title>Слайд 1</dc:title>
</cp:coreProperties>
</file>