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30E0F-FE96-4FD3-BDCB-0291B5F375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817B1-E3FA-4EC1-BA9D-60253B539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FE6B8-50D3-44B6-B5A9-730D07D36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EF96B-8527-4B81-B67B-9EF89BD7A4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EF80-306B-4A13-B24D-6DFD9289A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FA00-B6B4-44C5-9A71-6C2A57AD53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08F4-A868-4CE8-BB2F-EF66358BFF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06452-D1C3-48DB-A180-97C723577A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6E6B6-37DB-4154-9A13-B07A7EE1F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7473-CD0D-433F-9651-2138B73307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4AE4F-3D45-40C9-A6D3-498D1201FD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64767-C91E-449D-A07D-9CF95E6469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6A5F-0D26-4C1E-8D79-C882E15BF1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6268A-1FAB-4223-BD00-763A18354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56223-C2AC-4F47-A9F3-D21B91B9F3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E5BB0-EEEB-43A7-A791-47C5ECBF4B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1BFB-99BF-46D1-B1AD-AE00EE94D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2CCD-F2EC-4E46-91C6-E8E381C9F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3AE5-97CE-4D53-9775-E28D14154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663D-6106-4266-9B04-3A257E5C6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E67B-C5DA-4B37-A213-0FD0928435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50AD-4484-404A-93D0-E60F685824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5D39-A750-406E-A6D0-82E17CA0C7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E86F-BEA2-4533-8FBA-46E14B0D63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A50E-00DC-4883-81FE-18876408A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72AC-85C2-429B-90EB-4F8855C4A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A85B-EB90-4CC4-B98F-3BF66B097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9C29-C0CD-49F1-BA85-951E464CE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9671-1800-40E8-AE7B-40D1EADFB4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0730-377C-4F71-9661-6206C9346D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35D2-B939-4882-AE06-AF0E1D53BB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AC12-3CD4-488A-BF2B-DC5F579DBB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2C43-0C93-4F80-920F-39397CA02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F9B0-7965-446A-8AB0-B268A39CD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6D3A-E532-4F7F-A0F5-90170F1D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E961-0692-4C95-ADF2-8811A4CC7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CACD-6B92-48BF-8B28-22BCD343C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5103-87D1-4557-B66C-8BD903E89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9B81-90AA-4621-B81E-7105778EA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18E3-FCDA-44F4-92C8-0ADE3DAA1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81A420-9325-4D6D-BF98-542D561EF18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9AEA4C-1D19-49F3-B1FC-BE9F910A6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39640" y="720720"/>
            <a:ext cx="92156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м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Конкретный смысл действия деления (решение задач на деление на равные части)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МК «Школа Росс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ебник: М.И.Моро, М.А.Бантова и др. Математика, М.: Просвещение, 20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ель начальных классов: Скрабун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атьяна Анатольев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Краткая характеристика класса, особенности развития обучаю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 2 классе обучается 4 человека, соответствующие возрастной норме. Дети  имеют положительную мотивацию к учебной деятельности. Родители оказывают помощь в подготовке к урокам и внеурочной деятельности. Ребята собраны, на уроках активны, внимательны. Уровень обученности средний, каждый из них способен воспроизводить знания на новом уровне, в новой ситуации, но испытывают затруднения в практическом переносе зна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ип уро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есто данного урока в системе уро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ип урока: Урок «открытия» нового зн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рок в структуре учебной программы по математике идёт после темы: «Конкретный смысл действия деления(решение задач на деление  по содержанию», это первый урок в данной теме, на котором формируются первоначальные способы деления на равные части, совершенствуются предметные, метапредметные, личностные, коммуникативные У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60360" y="179280"/>
            <a:ext cx="92152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795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Цели  и задачи урока, оценка их оптимальности, пути их ре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Предметные: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разъяснить смысл действия деления; совершенствовать вычислительные навыки, мыслительные операции сравнения, анализа, обобщения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ывать интерес  изучению предмета и  умение работать в парах, групп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 </a:t>
            </a: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Метапредметны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262699"/>
                </a:solidFill>
                <a:latin typeface="Times New Roman"/>
                <a:ea typeface="msmincho"/>
              </a:rPr>
              <a:t>Личностные: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ывать положительное отношение к изучению математики, понимание и  значение математики в жизни челов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Регулятивные: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учить адекватно воспринимать оценку своей работы учителем, товарищами и самим собо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Познавательны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ь ориентироваться в собственной системе знаний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обывать новые знания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ходить ответы на вопросы, используя учебник, свой жизненный опыт и информацию из различных источник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Коммуникативные: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ь работать в парах и групп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79280" y="0"/>
            <a:ext cx="9685440" cy="73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a4a"/>
                </a:solidFill>
                <a:latin typeface="Times New Roman"/>
                <a:ea typeface="msmincho"/>
              </a:rPr>
              <a:t>Оценка содержания каждого этапа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основу Стандарта положен системно - деятельностный подход, базирующийся на обеспечении соответствия учебной деятельности обучающихся их возрасту и индивидуальным особенностям. На уроке была реализована система дидактических принципов,  обусловленных Стандартом НО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 нагляд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нау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минима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рок выдержан в соответствии  здоровьесберегающей технолог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179280"/>
            <a:ext cx="972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158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a4a"/>
                </a:solidFill>
                <a:latin typeface="Times New Roman"/>
                <a:ea typeface="msmincho"/>
              </a:rPr>
              <a:t>Оценка оптимальности выбранных форм и методов обучения. Их педагогическая целесообраз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 уроке были использованы следующие формы и  методы обу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словес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устное сообщение, диалог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нагляд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(презентац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методы самоконтроля и взаимо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акт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участие в делении ленты на равные части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облемно-поисковый мет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как разделить на равные части лен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ходе урока были использованы различные формы работы учащих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-индивидуальная;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 -в парах; 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 - группов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На уроке применялись следующие педагогические техноло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Методы работы: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практико–ориентированный, проблемный диалог, словесный, системно - деятельн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Педагогические технологии: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личностно - ориентированное обучение, элементы технологии системно-деятельностного подхода, метод проблемного обучения, здоровьесберегающая техн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 уроке с целью активизации деятельности,  были использованы различные виды проверок:  самопроверка,взаимопроверка выполненной работы в парах. Оценка заданий дала возможность каждому ребёнку оценить свои знания, увидеть, первичные затрудн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идактический материал, подобранный для  данного урока был доступен для всех учащихся этого класса. Выбранный тип и форма проведения урока себя оправда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Цели урока были достигнуты, дидактические принципы реализов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16:41Z</dcterms:created>
  <dc:creator>pochta </dc:creator>
  <dc:description/>
  <dc:language>en-US</dc:language>
  <cp:lastModifiedBy>РРЦ</cp:lastModifiedBy>
  <dcterms:modified xsi:type="dcterms:W3CDTF">2013-03-18T05:06:07Z</dcterms:modified>
  <cp:revision>7</cp:revision>
  <dc:subject/>
  <dc:title>Слайд 1</dc:title>
</cp:coreProperties>
</file>