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215438" cy="69119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E45AE-CD47-4F19-B838-C090E9402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0080" y="276120"/>
            <a:ext cx="8296200" cy="11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0080" y="1612440"/>
            <a:ext cx="8296200" cy="217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0080" y="3994920"/>
            <a:ext cx="8296200" cy="217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732FA-F5C4-404F-BA46-5F81C7E6A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0080" y="276120"/>
            <a:ext cx="8296200" cy="11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0080" y="1612440"/>
            <a:ext cx="4048200" cy="217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10960" y="1612440"/>
            <a:ext cx="4048200" cy="217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0080" y="3994920"/>
            <a:ext cx="4048200" cy="217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10960" y="3994920"/>
            <a:ext cx="4048200" cy="217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E1DCF-C6A9-4223-803B-0AE98A2DA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0080" y="276120"/>
            <a:ext cx="8296200" cy="11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0080" y="1612440"/>
            <a:ext cx="2671200" cy="217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65200" y="1612440"/>
            <a:ext cx="2671200" cy="217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0320" y="1612440"/>
            <a:ext cx="2671200" cy="217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0080" y="3994920"/>
            <a:ext cx="2671200" cy="217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65200" y="3994920"/>
            <a:ext cx="2671200" cy="217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0320" y="3994920"/>
            <a:ext cx="2671200" cy="217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FB56F-EF4F-4B3B-A36D-0D778747D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1E8AB-BE36-4E02-BCBE-13ADEF5DB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0080" y="276120"/>
            <a:ext cx="8296200" cy="11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60080" y="1612440"/>
            <a:ext cx="829620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3ABE3-733A-4D50-9331-B92D13D35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0080" y="276120"/>
            <a:ext cx="8296200" cy="11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0080" y="1612440"/>
            <a:ext cx="8296200" cy="456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5E7CE-FD38-4EEC-AE56-DD22DA3BE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0080" y="276120"/>
            <a:ext cx="8296200" cy="11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0080" y="1612440"/>
            <a:ext cx="4048200" cy="456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0960" y="1612440"/>
            <a:ext cx="4048200" cy="456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00FE7-9047-4511-95C5-ABAE4E2D6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0080" y="276120"/>
            <a:ext cx="8296200" cy="11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83A3E-D137-4049-9C94-24FD0169C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60080" y="276120"/>
            <a:ext cx="8296200" cy="53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1EC55-C0BE-4398-ADEE-8FE0B8F80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0080" y="276120"/>
            <a:ext cx="8296200" cy="11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0080" y="1612440"/>
            <a:ext cx="4048200" cy="217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0960" y="1612440"/>
            <a:ext cx="4048200" cy="456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0080" y="3994920"/>
            <a:ext cx="4048200" cy="217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5E945-2043-4918-BE8C-23AF4581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0080" y="276120"/>
            <a:ext cx="8296200" cy="11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60080" y="1612440"/>
            <a:ext cx="829620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09D66-502D-4818-9460-5AD3E5B01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0080" y="276120"/>
            <a:ext cx="8296200" cy="11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0080" y="1612440"/>
            <a:ext cx="4048200" cy="456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0960" y="1612440"/>
            <a:ext cx="4048200" cy="217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10960" y="3994920"/>
            <a:ext cx="4048200" cy="217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D571F-FDD2-44F2-9674-5096F5DC0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0080" y="276120"/>
            <a:ext cx="8296200" cy="11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0080" y="1612440"/>
            <a:ext cx="4048200" cy="217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0960" y="1612440"/>
            <a:ext cx="4048200" cy="217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0080" y="3994920"/>
            <a:ext cx="8296200" cy="217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74786-8B82-4EA5-AC69-16B79B7A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0080" y="276120"/>
            <a:ext cx="8296200" cy="11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0080" y="1612440"/>
            <a:ext cx="8296200" cy="217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0080" y="3994920"/>
            <a:ext cx="8296200" cy="217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9C595-9586-489D-AF12-C2E35BB10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0080" y="276120"/>
            <a:ext cx="8296200" cy="11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0080" y="1612440"/>
            <a:ext cx="4048200" cy="217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10960" y="1612440"/>
            <a:ext cx="4048200" cy="217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0080" y="3994920"/>
            <a:ext cx="4048200" cy="217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10960" y="3994920"/>
            <a:ext cx="4048200" cy="217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4D661-7C65-4409-ADA3-B5E67ED5D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0080" y="276120"/>
            <a:ext cx="8296200" cy="11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0080" y="1612440"/>
            <a:ext cx="2671200" cy="217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65200" y="1612440"/>
            <a:ext cx="2671200" cy="217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0320" y="1612440"/>
            <a:ext cx="2671200" cy="217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0080" y="3994920"/>
            <a:ext cx="2671200" cy="217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65200" y="3994920"/>
            <a:ext cx="2671200" cy="217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0320" y="3994920"/>
            <a:ext cx="2671200" cy="217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8F1AD-0B9D-42F4-9DD8-B93C998FF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0080" y="276120"/>
            <a:ext cx="8296200" cy="11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0080" y="1612440"/>
            <a:ext cx="8296200" cy="456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2E269-D9B0-4E4D-9513-E1DBA95B7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0080" y="276120"/>
            <a:ext cx="8296200" cy="11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0080" y="1612440"/>
            <a:ext cx="4048200" cy="456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0960" y="1612440"/>
            <a:ext cx="4048200" cy="456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32E64-8368-46B7-92B9-1BECCBA3D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0080" y="276120"/>
            <a:ext cx="8296200" cy="11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B603C-8CBD-4C2E-8362-3F1C8E474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60080" y="276120"/>
            <a:ext cx="8296200" cy="53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BED4B-DBCA-42E0-8ACF-43D357F56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0080" y="276120"/>
            <a:ext cx="8296200" cy="11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0080" y="1612440"/>
            <a:ext cx="4048200" cy="217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0960" y="1612440"/>
            <a:ext cx="4048200" cy="456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080" y="3994920"/>
            <a:ext cx="4048200" cy="217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0AF89-518A-4642-8DC3-6320FA05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0080" y="276120"/>
            <a:ext cx="8296200" cy="11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0080" y="1612440"/>
            <a:ext cx="4048200" cy="456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0960" y="1612440"/>
            <a:ext cx="4048200" cy="217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0960" y="3994920"/>
            <a:ext cx="4048200" cy="217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84DB2-262E-49A6-91A4-FE2725EA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0080" y="276120"/>
            <a:ext cx="8296200" cy="11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0080" y="1612440"/>
            <a:ext cx="4048200" cy="217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0960" y="1612440"/>
            <a:ext cx="4048200" cy="217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0080" y="3994920"/>
            <a:ext cx="8296200" cy="217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1A656-4FAC-4F7C-A8A4-D3FB5ED8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60080" y="6300720"/>
            <a:ext cx="2151000" cy="47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05280" y="6297480"/>
            <a:ext cx="2151000" cy="47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8C0F3-26E7-4B18-AE01-E26AB3B0542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213480" cy="6903360"/>
            <a:chOff x="0" y="0"/>
            <a:chExt cx="9213480" cy="6903360"/>
          </a:xfrm>
        </p:grpSpPr>
        <p:grpSp>
          <p:nvGrpSpPr>
            <p:cNvPr id="3" name="Group 5"/>
            <p:cNvGrpSpPr/>
            <p:nvPr/>
          </p:nvGrpSpPr>
          <p:grpSpPr>
            <a:xfrm>
              <a:off x="2764800" y="3567960"/>
              <a:ext cx="6443280" cy="3335400"/>
              <a:chOff x="2764800" y="3567960"/>
              <a:chExt cx="6443280" cy="333540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64800" y="4230000"/>
                <a:ext cx="4611240" cy="2673360"/>
              </a:xfrm>
              <a:custGeom>
                <a:avLst/>
                <a:gdLst>
                  <a:gd name="textAreaLeft" fmla="*/ 0 w 4611240"/>
                  <a:gd name="textAreaRight" fmla="*/ 4611600 w 4611240"/>
                  <a:gd name="textAreaTop" fmla="*/ 0 h 2673360"/>
                  <a:gd name="textAreaBottom" fmla="*/ 2673720 h 267336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72240" y="4273200"/>
                <a:ext cx="2014200" cy="1299240"/>
              </a:xfrm>
              <a:custGeom>
                <a:avLst/>
                <a:gdLst>
                  <a:gd name="textAreaLeft" fmla="*/ 0 w 2014200"/>
                  <a:gd name="textAreaRight" fmla="*/ 2014560 w 2014200"/>
                  <a:gd name="textAreaTop" fmla="*/ 0 h 1299240"/>
                  <a:gd name="textAreaBottom" fmla="*/ 1299600 h 129924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40040" y="5354640"/>
                <a:ext cx="4558320" cy="1548720"/>
              </a:xfrm>
              <a:custGeom>
                <a:avLst/>
                <a:gdLst>
                  <a:gd name="textAreaLeft" fmla="*/ 0 w 4558320"/>
                  <a:gd name="textAreaRight" fmla="*/ 4558680 w 4558320"/>
                  <a:gd name="textAreaTop" fmla="*/ 0 h 1548720"/>
                  <a:gd name="textAreaBottom" fmla="*/ 1549080 h 154872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96680" y="3567960"/>
                <a:ext cx="4811400" cy="3335400"/>
              </a:xfrm>
              <a:custGeom>
                <a:avLst/>
                <a:gdLst>
                  <a:gd name="textAreaLeft" fmla="*/ 0 w 4811400"/>
                  <a:gd name="textAreaRight" fmla="*/ 4811760 w 4811400"/>
                  <a:gd name="textAreaTop" fmla="*/ 0 h 3335400"/>
                  <a:gd name="textAreaBottom" fmla="*/ 3335760 h 333540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201800" y="3708720"/>
                <a:ext cx="1996560" cy="862200"/>
              </a:xfrm>
              <a:custGeom>
                <a:avLst/>
                <a:gdLst>
                  <a:gd name="textAreaLeft" fmla="*/ 0 w 1996560"/>
                  <a:gd name="textAreaRight" fmla="*/ 1996920 w 1996560"/>
                  <a:gd name="textAreaTop" fmla="*/ 0 h 862200"/>
                  <a:gd name="textAreaBottom" fmla="*/ 862560 h 86220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315760" y="2145240"/>
              <a:ext cx="2918520" cy="2459160"/>
            </a:xfrm>
            <a:custGeom>
              <a:avLst/>
              <a:gdLst>
                <a:gd name="textAreaLeft" fmla="*/ 0 w 2918520"/>
                <a:gd name="textAreaRight" fmla="*/ 2918880 w 2918520"/>
                <a:gd name="textAreaTop" fmla="*/ 0 h 2459160"/>
                <a:gd name="textAreaBottom" fmla="*/ 2459160 h 245916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213480" cy="284148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60080" y="276120"/>
            <a:ext cx="8296200" cy="11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49280" y="6297480"/>
            <a:ext cx="2917800" cy="47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60080" y="1612440"/>
            <a:ext cx="8296200" cy="456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5960" indent="-345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9160" indent="-28872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52360" indent="-23004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12800" indent="-2300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73240" indent="-230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73240" indent="-23004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73240" indent="-23004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213480" cy="6903360"/>
            <a:chOff x="0" y="0"/>
            <a:chExt cx="9213480" cy="6903360"/>
          </a:xfrm>
        </p:grpSpPr>
        <p:grpSp>
          <p:nvGrpSpPr>
            <p:cNvPr id="51" name="Group 3"/>
            <p:cNvGrpSpPr/>
            <p:nvPr/>
          </p:nvGrpSpPr>
          <p:grpSpPr>
            <a:xfrm>
              <a:off x="2764800" y="3567960"/>
              <a:ext cx="6443280" cy="3335400"/>
              <a:chOff x="2764800" y="3567960"/>
              <a:chExt cx="6443280" cy="333540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64800" y="4230000"/>
                <a:ext cx="4611240" cy="2673360"/>
              </a:xfrm>
              <a:custGeom>
                <a:avLst/>
                <a:gdLst>
                  <a:gd name="textAreaLeft" fmla="*/ 0 w 4611240"/>
                  <a:gd name="textAreaRight" fmla="*/ 4611600 w 4611240"/>
                  <a:gd name="textAreaTop" fmla="*/ 0 h 2673360"/>
                  <a:gd name="textAreaBottom" fmla="*/ 2673720 h 267336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72240" y="4273200"/>
                <a:ext cx="2014200" cy="1299240"/>
              </a:xfrm>
              <a:custGeom>
                <a:avLst/>
                <a:gdLst>
                  <a:gd name="textAreaLeft" fmla="*/ 0 w 2014200"/>
                  <a:gd name="textAreaRight" fmla="*/ 2014560 w 2014200"/>
                  <a:gd name="textAreaTop" fmla="*/ 0 h 1299240"/>
                  <a:gd name="textAreaBottom" fmla="*/ 1299600 h 129924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40040" y="5354640"/>
                <a:ext cx="4558320" cy="1548720"/>
              </a:xfrm>
              <a:custGeom>
                <a:avLst/>
                <a:gdLst>
                  <a:gd name="textAreaLeft" fmla="*/ 0 w 4558320"/>
                  <a:gd name="textAreaRight" fmla="*/ 4558680 w 4558320"/>
                  <a:gd name="textAreaTop" fmla="*/ 0 h 1548720"/>
                  <a:gd name="textAreaBottom" fmla="*/ 1549080 h 154872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96680" y="3567960"/>
                <a:ext cx="4811400" cy="3335400"/>
              </a:xfrm>
              <a:custGeom>
                <a:avLst/>
                <a:gdLst>
                  <a:gd name="textAreaLeft" fmla="*/ 0 w 4811400"/>
                  <a:gd name="textAreaRight" fmla="*/ 4811760 w 4811400"/>
                  <a:gd name="textAreaTop" fmla="*/ 0 h 3335400"/>
                  <a:gd name="textAreaBottom" fmla="*/ 3335760 h 333540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201800" y="3708720"/>
                <a:ext cx="1996560" cy="862200"/>
              </a:xfrm>
              <a:custGeom>
                <a:avLst/>
                <a:gdLst>
                  <a:gd name="textAreaLeft" fmla="*/ 0 w 1996560"/>
                  <a:gd name="textAreaRight" fmla="*/ 1996920 w 1996560"/>
                  <a:gd name="textAreaTop" fmla="*/ 0 h 862200"/>
                  <a:gd name="textAreaBottom" fmla="*/ 862560 h 86220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315760" y="2145240"/>
              <a:ext cx="2918520" cy="2459160"/>
            </a:xfrm>
            <a:custGeom>
              <a:avLst/>
              <a:gdLst>
                <a:gd name="textAreaLeft" fmla="*/ 0 w 2918520"/>
                <a:gd name="textAreaRight" fmla="*/ 2918880 w 2918520"/>
                <a:gd name="textAreaTop" fmla="*/ 0 h 2459160"/>
                <a:gd name="textAreaBottom" fmla="*/ 2459160 h 245916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213480" cy="284148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0080" y="276120"/>
            <a:ext cx="8296200" cy="11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60080" y="1612440"/>
            <a:ext cx="8296200" cy="456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5960" indent="-345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9160" indent="-28872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52360" indent="-23004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12800" indent="-2300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73240" indent="-230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73240" indent="-23004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73240" indent="-23004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60080" y="6297480"/>
            <a:ext cx="2151000" cy="47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49280" y="6300720"/>
            <a:ext cx="2917800" cy="47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605280" y="6303960"/>
            <a:ext cx="2151000" cy="47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0C2C2-5F14-4E8C-81EF-F2BB2628367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15.xml"/><Relationship Id="rId14" Type="http://schemas.openxmlformats.org/officeDocument/2006/relationships/slide" Target="slide16.xml"/><Relationship Id="rId15" Type="http://schemas.openxmlformats.org/officeDocument/2006/relationships/slide" Target="slide17.xml"/><Relationship Id="rId16" Type="http://schemas.openxmlformats.org/officeDocument/2006/relationships/slide" Target="slide18.xml"/><Relationship Id="rId1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90120" y="1750680"/>
            <a:ext cx="7836120" cy="19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1" lang="ru-RU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82400" y="3916440"/>
            <a:ext cx="645156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5" descr="СИЛого"/>
          <p:cNvPicPr/>
          <p:nvPr/>
        </p:nvPicPr>
        <p:blipFill>
          <a:blip r:embed="rId1"/>
          <a:stretch/>
        </p:blipFill>
        <p:spPr>
          <a:xfrm>
            <a:off x="0" y="0"/>
            <a:ext cx="9217080" cy="691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0080" y="276120"/>
            <a:ext cx="8296200" cy="11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Black"/>
              </a:rPr>
              <a:t>30</a:t>
            </a:r>
            <a:br>
              <a:rPr sz="4800"/>
            </a:br>
            <a:r>
              <a:rPr b="1" lang="ru-RU" sz="4000" spc="-1" strike="noStrike">
                <a:solidFill>
                  <a:srgbClr val="ffffcc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Исправь ошибку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31640" y="1008000"/>
            <a:ext cx="8151840" cy="271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8000"/>
          </a:bodyPr>
          <a:p>
            <a:pPr marL="235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235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дя на выборы в избирательный пункт вы имеете право требовать избирательный бюллетень без предъявления паспорта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0080" y="276120"/>
            <a:ext cx="8296200" cy="11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Black"/>
              </a:rPr>
              <a:t>40</a:t>
            </a:r>
            <a:br>
              <a:rPr sz="4800"/>
            </a:br>
            <a:r>
              <a:rPr b="1" lang="ru-RU" sz="4000" spc="-1" strike="noStrike">
                <a:solidFill>
                  <a:srgbClr val="ffffcc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Исправь ошибку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76360" y="1800000"/>
            <a:ext cx="7632720" cy="434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59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59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TextBox 3"/>
          <p:cNvSpPr/>
          <p:nvPr/>
        </p:nvSpPr>
        <p:spPr>
          <a:xfrm>
            <a:off x="792000" y="2448000"/>
            <a:ext cx="7704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нципы избирательной системы РФ закреплены в  Гражданском кодексе РФ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0080" y="276120"/>
            <a:ext cx="8296200" cy="11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Black"/>
              </a:rPr>
              <a:t>50</a:t>
            </a:r>
            <a:br>
              <a:rPr sz="4800"/>
            </a:br>
            <a:r>
              <a:rPr b="1" lang="ru-RU" sz="4000" spc="-1" strike="noStrike">
                <a:solidFill>
                  <a:srgbClr val="ffffcc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Исправь ошибку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47280" y="1942920"/>
            <a:ext cx="7993080" cy="432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59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640" y="2448000"/>
            <a:ext cx="7201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ндидат баллотирующийся на пост президента РФ обязан иметь высшее юридическое образование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0080" y="276120"/>
            <a:ext cx="8296200" cy="11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Black"/>
              </a:rPr>
              <a:t>10</a:t>
            </a:r>
            <a:br>
              <a:rPr sz="4800"/>
            </a:b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0080" y="1612440"/>
            <a:ext cx="8296200" cy="456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596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596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В какой стране зародились выборы?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31280" y="-360"/>
            <a:ext cx="8325000" cy="136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Black"/>
              </a:rPr>
              <a:t>20</a:t>
            </a:r>
            <a:br>
              <a:rPr sz="4800"/>
            </a:b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0080" y="1439640"/>
            <a:ext cx="8296200" cy="53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596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Times New Roman"/>
              </a:rPr>
              <a:t>Кто стал первым президентом РФ?</a:t>
            </a:r>
            <a:endParaRPr b="0" lang="en-US" sz="5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31640" y="205920"/>
            <a:ext cx="8353440" cy="130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ru-RU" sz="4600" spc="-1" strike="noStrike">
                <a:solidFill>
                  <a:srgbClr val="ffffcc"/>
                </a:solidFill>
                <a:latin typeface="Arial Black"/>
              </a:rPr>
              <a:t>30</a:t>
            </a:r>
            <a:br>
              <a:rPr sz="4700"/>
            </a:br>
            <a:endParaRPr b="1" lang="en-US" sz="4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16000" y="1511280"/>
            <a:ext cx="885672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596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то был первым и последним Президентом СССР.</a:t>
            </a:r>
            <a:br>
              <a:rPr sz="3600"/>
            </a:b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0080" y="276120"/>
            <a:ext cx="8296200" cy="11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Black"/>
              </a:rPr>
              <a:t>40</a:t>
            </a:r>
            <a:br>
              <a:rPr sz="4800"/>
            </a:b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0080" y="1511280"/>
            <a:ext cx="8296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596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При каком императоре в нашей стране были впервые проведены выборы в Государственную Думу?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31640" y="-360"/>
            <a:ext cx="8296560" cy="115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Black"/>
              </a:rPr>
              <a:t>50</a:t>
            </a:r>
            <a:br>
              <a:rPr sz="4800"/>
            </a:b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-360" y="1368360"/>
            <a:ext cx="9217080" cy="529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596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18 марта 2018г. состоялись очередные выборы президента РФ. Какого по счёту президента выбирали избиратели? 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0440" y="276120"/>
            <a:ext cx="8324640" cy="137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Black"/>
              </a:rPr>
              <a:t>10</a:t>
            </a:r>
            <a:br>
              <a:rPr sz="4800"/>
            </a:b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0080" y="2447640"/>
            <a:ext cx="8296200" cy="372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596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На какой срок избирается президент РФ?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0440" y="276120"/>
            <a:ext cx="8324640" cy="137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Black"/>
              </a:rPr>
              <a:t>20</a:t>
            </a:r>
            <a:br>
              <a:rPr sz="4800"/>
            </a:b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0080" y="2447640"/>
            <a:ext cx="8296200" cy="372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596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С какого возраста можно стать кандидатом на должность президента РФ?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0080" y="276120"/>
            <a:ext cx="8296200" cy="8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«Выборы в современном мире»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-360" y="286920"/>
            <a:ext cx="9217080" cy="588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6480" indent="0">
              <a:spcBef>
                <a:spcPts val="10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76480" indent="0">
              <a:spcBef>
                <a:spcPts val="1049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Избиратель                   </a:t>
            </a:r>
            <a:r>
              <a:rPr b="0" lang="ru-RU" sz="4200" spc="-1" strike="noStrike" u="sng">
                <a:solidFill>
                  <a:srgbClr val="ffcc00"/>
                </a:solidFill>
                <a:uFillTx/>
                <a:latin typeface="Garamond"/>
                <a:hlinkClick r:id="rId1" action="ppaction://hlinksldjump"/>
              </a:rPr>
              <a:t>10</a:t>
            </a:r>
            <a:r>
              <a:rPr b="1" lang="ru-RU" sz="4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4200" spc="-1" strike="noStrike" u="sng">
                <a:solidFill>
                  <a:srgbClr val="ffcc00"/>
                </a:solidFill>
                <a:uFillTx/>
                <a:latin typeface="Garamond"/>
                <a:hlinkClick r:id="rId2" action="ppaction://hlinksldjump"/>
              </a:rPr>
              <a:t>20</a:t>
            </a:r>
            <a:r>
              <a:rPr b="1" lang="ru-RU" sz="4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4200" spc="-1" strike="noStrike" u="sng">
                <a:solidFill>
                  <a:srgbClr val="ffcc00"/>
                </a:solidFill>
                <a:uFillTx/>
                <a:latin typeface="Garamond"/>
                <a:hlinkClick r:id="rId3" action="ppaction://hlinksldjump"/>
              </a:rPr>
              <a:t>30</a:t>
            </a:r>
            <a:r>
              <a:rPr b="1" lang="ru-RU" sz="4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4200" spc="-1" strike="noStrike" u="sng">
                <a:solidFill>
                  <a:srgbClr val="ffcc00"/>
                </a:solidFill>
                <a:uFillTx/>
                <a:latin typeface="Garamond"/>
                <a:hlinkClick r:id="rId4" action="ppaction://hlinksldjump"/>
              </a:rPr>
              <a:t>40</a:t>
            </a:r>
            <a:r>
              <a:rPr b="1" lang="ru-RU" sz="4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4200" spc="-1" strike="noStrike" u="sng">
                <a:solidFill>
                  <a:srgbClr val="ffcc00"/>
                </a:solidFill>
                <a:uFillTx/>
                <a:latin typeface="Garamond"/>
                <a:hlinkClick r:id="rId5" action="ppaction://hlinksldjump"/>
              </a:rPr>
              <a:t> 50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276480" indent="0">
              <a:spcBef>
                <a:spcPts val="1049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Исправь ошибку          </a:t>
            </a:r>
            <a:r>
              <a:rPr b="0" lang="ru-RU" sz="4200" spc="-1" strike="noStrike" u="sng">
                <a:solidFill>
                  <a:srgbClr val="ffcc00"/>
                </a:solidFill>
                <a:uFillTx/>
                <a:latin typeface="Garamond"/>
                <a:hlinkClick r:id="rId6" action="ppaction://hlinksldjump"/>
              </a:rPr>
              <a:t>10</a:t>
            </a:r>
            <a:r>
              <a:rPr b="1" lang="ru-RU" sz="4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4200" spc="-1" strike="noStrike" u="sng">
                <a:solidFill>
                  <a:srgbClr val="ffcc00"/>
                </a:solidFill>
                <a:uFillTx/>
                <a:latin typeface="Garamond"/>
                <a:hlinkClick r:id="rId7" action="ppaction://hlinksldjump"/>
              </a:rPr>
              <a:t>20</a:t>
            </a:r>
            <a:r>
              <a:rPr b="1" lang="ru-RU" sz="4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4200" spc="-1" strike="noStrike" u="sng">
                <a:solidFill>
                  <a:srgbClr val="ffcc00"/>
                </a:solidFill>
                <a:uFillTx/>
                <a:latin typeface="Garamond"/>
                <a:hlinkClick r:id="rId8" action="ppaction://hlinksldjump"/>
              </a:rPr>
              <a:t>30</a:t>
            </a:r>
            <a:r>
              <a:rPr b="1" lang="ru-RU" sz="4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4200" spc="-1" strike="noStrike" u="sng">
                <a:solidFill>
                  <a:srgbClr val="ffcc00"/>
                </a:solidFill>
                <a:uFillTx/>
                <a:latin typeface="Garamond"/>
                <a:hlinkClick r:id="rId9" action="ppaction://hlinksldjump"/>
              </a:rPr>
              <a:t>40</a:t>
            </a:r>
            <a:r>
              <a:rPr b="1" lang="ru-RU" sz="4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4200" spc="-1" strike="noStrike" u="sng">
                <a:solidFill>
                  <a:srgbClr val="ffcc00"/>
                </a:solidFill>
                <a:uFillTx/>
                <a:latin typeface="Garamond"/>
                <a:hlinkClick r:id="rId10" action="ppaction://hlinksldjump"/>
              </a:rPr>
              <a:t>50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276480" indent="0">
              <a:spcBef>
                <a:spcPts val="1049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История выборов        </a:t>
            </a:r>
            <a:r>
              <a:rPr b="0" lang="ru-RU" sz="4200" spc="-1" strike="noStrike" u="sng">
                <a:solidFill>
                  <a:srgbClr val="ffcc00"/>
                </a:solidFill>
                <a:uFillTx/>
                <a:latin typeface="Garamond"/>
                <a:hlinkClick r:id="rId11" action="ppaction://hlinksldjump"/>
              </a:rPr>
              <a:t>10</a:t>
            </a:r>
            <a:r>
              <a:rPr b="1" lang="ru-RU" sz="4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4200" spc="-1" strike="noStrike" u="sng">
                <a:solidFill>
                  <a:srgbClr val="ffcc00"/>
                </a:solidFill>
                <a:uFillTx/>
                <a:latin typeface="Garamond"/>
                <a:hlinkClick r:id="rId12" action="ppaction://hlinksldjump"/>
              </a:rPr>
              <a:t>20</a:t>
            </a:r>
            <a:r>
              <a:rPr b="1" lang="ru-RU" sz="4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4200" spc="-1" strike="noStrike" u="sng">
                <a:solidFill>
                  <a:srgbClr val="ffcc00"/>
                </a:solidFill>
                <a:uFillTx/>
                <a:latin typeface="Garamond"/>
                <a:hlinkClick r:id="rId13" action="ppaction://hlinksldjump"/>
              </a:rPr>
              <a:t>30</a:t>
            </a:r>
            <a:r>
              <a:rPr b="1" lang="ru-RU" sz="4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4200" spc="-1" strike="noStrike" u="sng">
                <a:solidFill>
                  <a:srgbClr val="ffcc00"/>
                </a:solidFill>
                <a:uFillTx/>
                <a:latin typeface="Garamond"/>
                <a:hlinkClick r:id="rId14" action="ppaction://hlinksldjump"/>
              </a:rPr>
              <a:t>40</a:t>
            </a:r>
            <a:r>
              <a:rPr b="1" lang="ru-RU" sz="4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4200" spc="-1" strike="noStrike" u="sng">
                <a:solidFill>
                  <a:srgbClr val="ffcc00"/>
                </a:solidFill>
                <a:uFillTx/>
                <a:latin typeface="Garamond"/>
                <a:hlinkClick r:id="rId15" action="ppaction://hlinksldjump"/>
              </a:rPr>
              <a:t>50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276480" indent="0">
              <a:spcBef>
                <a:spcPts val="1049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Сидящий впереди        </a:t>
            </a:r>
            <a:r>
              <a:rPr b="0" lang="ru-RU" sz="4200" spc="-1" strike="noStrike" u="sng">
                <a:solidFill>
                  <a:srgbClr val="ffcc00"/>
                </a:solidFill>
                <a:uFillTx/>
                <a:latin typeface="Garamond"/>
                <a:hlinkClick r:id="rId16" action="ppaction://hlinksldjump"/>
              </a:rPr>
              <a:t>10</a:t>
            </a:r>
            <a:r>
              <a:rPr b="1" lang="ru-RU" sz="4200" spc="-1" strike="noStrike">
                <a:solidFill>
                  <a:srgbClr val="ffffff"/>
                </a:solidFill>
                <a:latin typeface="Garamond"/>
              </a:rPr>
              <a:t>  20  30  40  50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276480" indent="0">
              <a:spcBef>
                <a:spcPts val="100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Избирательный процесс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76480" indent="0">
              <a:spcBef>
                <a:spcPts val="1049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                                           </a:t>
            </a:r>
            <a:r>
              <a:rPr b="1" lang="ru-RU" sz="4200" spc="-1" strike="noStrike">
                <a:solidFill>
                  <a:srgbClr val="ffffff"/>
                </a:solidFill>
                <a:latin typeface="Garamond"/>
              </a:rPr>
              <a:t>10  20  30  40  50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0440" y="276120"/>
            <a:ext cx="8324640" cy="137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Black"/>
              </a:rPr>
              <a:t>30</a:t>
            </a:r>
            <a:br>
              <a:rPr sz="4800"/>
            </a:b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31640" y="1439640"/>
            <a:ext cx="8296560" cy="372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596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Сколько сроков подряд один и тот же человек может занимать пост президента РФ?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0440" y="276120"/>
            <a:ext cx="8324640" cy="137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Black"/>
              </a:rPr>
              <a:t>40</a:t>
            </a:r>
            <a:br>
              <a:rPr sz="4800"/>
            </a:b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31640" y="1511280"/>
            <a:ext cx="8296560" cy="372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30096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В течении какого времени кандидат на пост президент РФ должен постоянно проживать на территории РФ?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0096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0440" y="276120"/>
            <a:ext cx="8324640" cy="137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Black"/>
              </a:rPr>
              <a:t>50</a:t>
            </a:r>
            <a:br>
              <a:rPr sz="4800"/>
            </a:b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4720" y="1655640"/>
            <a:ext cx="8296560" cy="372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300960" indent="0" algn="ctr">
              <a:spcBef>
                <a:spcPts val="1349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Garamond"/>
              </a:rPr>
              <a:t>Кем или чем, в соответствии с Конституцией РФ, назначаются выборы президента РФ?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00960" indent="0">
              <a:spcBef>
                <a:spcPts val="1349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0440" y="276120"/>
            <a:ext cx="8324640" cy="137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Black"/>
              </a:rPr>
              <a:t>10</a:t>
            </a:r>
            <a:br>
              <a:rPr sz="4800"/>
            </a:b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4360" y="2518920"/>
            <a:ext cx="9072720" cy="365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596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Times New Roman"/>
              </a:rPr>
              <a:t>Что необходимо при себе иметь избирателю для получения избирательного бюллетеня?</a:t>
            </a:r>
            <a:endParaRPr b="0" lang="en-US" sz="5000" spc="-1" strike="noStrike">
              <a:solidFill>
                <a:srgbClr val="ffffff"/>
              </a:solidFill>
              <a:latin typeface="Garamond"/>
            </a:endParaRPr>
          </a:p>
          <a:p>
            <a:pPr marL="34596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5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0440" y="276120"/>
            <a:ext cx="8324640" cy="137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Black"/>
              </a:rPr>
              <a:t>20</a:t>
            </a:r>
            <a:br>
              <a:rPr sz="4800"/>
            </a:b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44360" y="2518920"/>
            <a:ext cx="9072720" cy="365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596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Times New Roman"/>
              </a:rPr>
              <a:t>На какой день недели назначаются выборы?</a:t>
            </a:r>
            <a:endParaRPr b="0" lang="en-US" sz="5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0440" y="276120"/>
            <a:ext cx="8324640" cy="137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Black"/>
              </a:rPr>
              <a:t>30</a:t>
            </a:r>
            <a:br>
              <a:rPr sz="4800"/>
            </a:b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4360" y="1800000"/>
            <a:ext cx="9072720" cy="51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596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Times New Roman"/>
              </a:rPr>
              <a:t>Место для проведения голосования и подсчёта голосов избирателей</a:t>
            </a:r>
            <a:endParaRPr b="0" lang="en-US" sz="5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0440" y="276120"/>
            <a:ext cx="8324640" cy="137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Black"/>
              </a:rPr>
              <a:t>40</a:t>
            </a:r>
            <a:br>
              <a:rPr sz="4800"/>
            </a:b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63640" y="2518920"/>
            <a:ext cx="7848720" cy="365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596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Times New Roman"/>
              </a:rPr>
              <a:t>Назовите государственный орган,  организующий выборы и референдумы в стране.</a:t>
            </a:r>
            <a:endParaRPr b="0" lang="en-US" sz="5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0440" y="276120"/>
            <a:ext cx="8324640" cy="137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Black"/>
              </a:rPr>
              <a:t>50</a:t>
            </a:r>
            <a:br>
              <a:rPr sz="4800"/>
            </a:b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63640" y="1584000"/>
            <a:ext cx="763272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596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Как называется день накануне дня выборов, когда прекращена предвыборная агитация?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4360" y="934560"/>
            <a:ext cx="8325000" cy="188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Black"/>
              </a:rPr>
              <a:t>10</a:t>
            </a:r>
            <a:br>
              <a:rPr sz="4800"/>
            </a:br>
            <a:r>
              <a:rPr b="1" lang="ru-RU" sz="4800" spc="-1" strike="noStrike">
                <a:solidFill>
                  <a:srgbClr val="ffffcc"/>
                </a:solidFill>
                <a:latin typeface="Arial Black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В каком возрасте гражданин РФ обретает статус избирателя?</a:t>
            </a:r>
            <a:r>
              <a:rPr b="0" lang="ru-RU" sz="72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7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75760"/>
            <a:ext cx="8756640" cy="17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Black"/>
              </a:rPr>
              <a:t>20</a:t>
            </a:r>
            <a:br>
              <a:rPr sz="4800"/>
            </a:b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31640" y="1584360"/>
            <a:ext cx="8353440" cy="46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8240" indent="0" algn="ctr">
              <a:spcBef>
                <a:spcPts val="1349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Garamond"/>
              </a:rPr>
              <a:t>Может ли человек, признанный в судебном порядке недееспособным, принимать участие в выборах?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18240" indent="0" algn="ctr">
              <a:spcBef>
                <a:spcPts val="1349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1640" y="142560"/>
            <a:ext cx="8280720" cy="158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Black"/>
              </a:rPr>
              <a:t>30</a:t>
            </a:r>
            <a:br>
              <a:rPr sz="4800"/>
            </a:b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79640" y="1368000"/>
            <a:ext cx="7200720" cy="430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780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0780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Garamond"/>
              </a:rPr>
              <a:t>Чем отличается активное избирательное право от пассивного?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360" y="0"/>
            <a:ext cx="820764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Times New Roman"/>
              </a:rPr>
              <a:t>40</a:t>
            </a:r>
            <a:br>
              <a:rPr sz="4800"/>
            </a:b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360" y="718920"/>
            <a:ext cx="8207640" cy="401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80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Может ли гражданин РФ, находящийся за границей, принимать участие в выборах происходящих в РФ?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6000" y="275760"/>
            <a:ext cx="8540640" cy="188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Black"/>
              </a:rPr>
              <a:t>50 </a:t>
            </a:r>
            <a:br>
              <a:rPr sz="4800"/>
            </a:br>
            <a:r>
              <a:rPr b="0" lang="ru-RU" sz="72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7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84360" y="2231640"/>
            <a:ext cx="6192720" cy="394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596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Как называют круг избирателей голосующих на выборах?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5960" indent="0" algn="ctr">
              <a:spcBef>
                <a:spcPts val="1199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5960" indent="0" algn="ctr">
              <a:spcBef>
                <a:spcPts val="1199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5960" indent="0" algn="ctr">
              <a:spcBef>
                <a:spcPts val="1199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31640" y="287280"/>
            <a:ext cx="8296560" cy="11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Black"/>
              </a:rPr>
              <a:t>  </a:t>
            </a:r>
            <a:r>
              <a:rPr b="1" lang="ru-RU" sz="4800" spc="-1" strike="noStrike">
                <a:solidFill>
                  <a:srgbClr val="ffffcc"/>
                </a:solidFill>
                <a:latin typeface="Arial Black"/>
              </a:rPr>
              <a:t>10</a:t>
            </a:r>
            <a:r>
              <a:rPr b="1" lang="ru-RU" sz="4000" spc="-1" strike="noStrike">
                <a:solidFill>
                  <a:srgbClr val="ffffcc"/>
                </a:solidFill>
                <a:latin typeface="Garamond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ffffcc"/>
                </a:solidFill>
                <a:latin typeface="Garamond"/>
              </a:rPr>
              <a:t>   </a:t>
            </a: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Исправь ошибку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800000" y="2231640"/>
            <a:ext cx="6048360" cy="394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5960" indent="0" algn="ctr">
              <a:spcBef>
                <a:spcPts val="1349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5960" indent="0" algn="ctr">
              <a:spcBef>
                <a:spcPts val="1349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TextBox 3"/>
          <p:cNvSpPr/>
          <p:nvPr/>
        </p:nvSpPr>
        <p:spPr>
          <a:xfrm>
            <a:off x="1224000" y="2376360"/>
            <a:ext cx="6697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ждый гражданин РФ обязан участвовать в выборах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0080" y="276120"/>
            <a:ext cx="8296200" cy="11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Black"/>
              </a:rPr>
              <a:t>20</a:t>
            </a:r>
            <a:br>
              <a:rPr sz="4800"/>
            </a:br>
            <a:r>
              <a:rPr b="1" lang="ru-RU" sz="4000" spc="-1" strike="noStrike">
                <a:solidFill>
                  <a:srgbClr val="ffffcc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Исправь ошибку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08000" y="2160360"/>
            <a:ext cx="7748640" cy="401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59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59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1079640" y="2448000"/>
            <a:ext cx="676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жчины на выборах имеют 2 голоса, женщины – 1 голос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3T19:15:27Z</dcterms:created>
  <dc:creator>dom</dc:creator>
  <dc:description/>
  <dc:language>en-US</dc:language>
  <cp:lastModifiedBy>Анна</cp:lastModifiedBy>
  <dcterms:modified xsi:type="dcterms:W3CDTF">2019-02-19T17:49:55Z</dcterms:modified>
  <cp:revision>20</cp:revision>
  <dc:subject/>
  <dc:title>Слайд 1</dc:title>
</cp:coreProperties>
</file>