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215438" cy="6911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EE7B-2A11-4B47-ACC0-2A05521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42C8-E0B5-45CA-BE2E-2A8E7180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B5C7-CF25-41D3-AE1C-A38AF320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6520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032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008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6520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032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18DE-9803-4261-BC21-7DD4D4A8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6E16-5133-464D-B941-D1107ADE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EF8-25FE-45AD-B012-ABEB7D7D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7394-7FD8-4658-8188-E2597FC2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162-51CD-4631-954F-99EB1EA5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2F1-188F-4A12-B73E-0215B89C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0080" y="276120"/>
            <a:ext cx="82962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4771-F2EC-4D70-A8F0-111E37B5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7006-7E2D-42F0-9945-4B9068C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1A66-D60C-4E5C-9E69-1678940E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40E-98FE-46CD-A2C0-BE1E447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A9B6-2F76-4454-9194-C348676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2C0-839C-410D-96F7-B9CD7498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F5BF-B899-45D5-9EC5-158A52C6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6520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032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008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6520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032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92F-2B37-4383-AA25-835543AC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D761-F4D1-4E20-B83D-B6890C1B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8A14-8D56-4C88-BA81-19BBB1F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891F-FF80-4B9B-A1E3-F68F5B8D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0080" y="276120"/>
            <a:ext cx="82962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C3C5-C98B-4AF5-8509-9E33E9E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272C-C1D6-43B0-917E-8381795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6113-6A70-4F5A-AEC8-E64EA076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6EA8-3365-41C4-A606-734565C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60080" y="630072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05280" y="629748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F2B-8D7C-4D43-85A6-A55C3808BF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213480" cy="6903360"/>
            <a:chOff x="0" y="0"/>
            <a:chExt cx="9213480" cy="6903360"/>
          </a:xfrm>
        </p:grpSpPr>
        <p:grpSp>
          <p:nvGrpSpPr>
            <p:cNvPr id="3" name="Group 5"/>
            <p:cNvGrpSpPr/>
            <p:nvPr/>
          </p:nvGrpSpPr>
          <p:grpSpPr>
            <a:xfrm>
              <a:off x="2764800" y="3567960"/>
              <a:ext cx="6443280" cy="3335400"/>
              <a:chOff x="2764800" y="3567960"/>
              <a:chExt cx="6443280" cy="333540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64800" y="4230000"/>
                <a:ext cx="4611240" cy="2673360"/>
              </a:xfrm>
              <a:custGeom>
                <a:avLst/>
                <a:gdLst>
                  <a:gd name="textAreaLeft" fmla="*/ 0 w 4611240"/>
                  <a:gd name="textAreaRight" fmla="*/ 4611600 w 4611240"/>
                  <a:gd name="textAreaTop" fmla="*/ 0 h 2673360"/>
                  <a:gd name="textAreaBottom" fmla="*/ 2673720 h 2673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72240" y="4273200"/>
                <a:ext cx="2014200" cy="1299240"/>
              </a:xfrm>
              <a:custGeom>
                <a:avLst/>
                <a:gdLst>
                  <a:gd name="textAreaLeft" fmla="*/ 0 w 2014200"/>
                  <a:gd name="textAreaRight" fmla="*/ 2014560 w 201420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40040" y="5354640"/>
                <a:ext cx="4558320" cy="1548720"/>
              </a:xfrm>
              <a:custGeom>
                <a:avLst/>
                <a:gdLst>
                  <a:gd name="textAreaLeft" fmla="*/ 0 w 4558320"/>
                  <a:gd name="textAreaRight" fmla="*/ 4558680 w 4558320"/>
                  <a:gd name="textAreaTop" fmla="*/ 0 h 1548720"/>
                  <a:gd name="textAreaBottom" fmla="*/ 1549080 h 154872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96680" y="3567960"/>
                <a:ext cx="4811400" cy="3335400"/>
              </a:xfrm>
              <a:custGeom>
                <a:avLst/>
                <a:gdLst>
                  <a:gd name="textAreaLeft" fmla="*/ 0 w 4811400"/>
                  <a:gd name="textAreaRight" fmla="*/ 4811760 w 4811400"/>
                  <a:gd name="textAreaTop" fmla="*/ 0 h 3335400"/>
                  <a:gd name="textAreaBottom" fmla="*/ 3335760 h 3335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201800" y="3708720"/>
                <a:ext cx="1996560" cy="862200"/>
              </a:xfrm>
              <a:custGeom>
                <a:avLst/>
                <a:gdLst>
                  <a:gd name="textAreaLeft" fmla="*/ 0 w 1996560"/>
                  <a:gd name="textAreaRight" fmla="*/ 1996920 w 199656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315760" y="2145240"/>
              <a:ext cx="2918520" cy="24591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2459160"/>
                <a:gd name="textAreaBottom" fmla="*/ 2459160 h 24591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213480" cy="284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49280" y="6297480"/>
            <a:ext cx="2917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9160" indent="-288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52360" indent="-23004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12800" indent="-230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73240" indent="-230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213480" cy="6903360"/>
            <a:chOff x="0" y="0"/>
            <a:chExt cx="9213480" cy="6903360"/>
          </a:xfrm>
        </p:grpSpPr>
        <p:grpSp>
          <p:nvGrpSpPr>
            <p:cNvPr id="51" name="Group 3"/>
            <p:cNvGrpSpPr/>
            <p:nvPr/>
          </p:nvGrpSpPr>
          <p:grpSpPr>
            <a:xfrm>
              <a:off x="2764800" y="3567960"/>
              <a:ext cx="6443280" cy="3335400"/>
              <a:chOff x="2764800" y="3567960"/>
              <a:chExt cx="6443280" cy="333540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64800" y="4230000"/>
                <a:ext cx="4611240" cy="2673360"/>
              </a:xfrm>
              <a:custGeom>
                <a:avLst/>
                <a:gdLst>
                  <a:gd name="textAreaLeft" fmla="*/ 0 w 4611240"/>
                  <a:gd name="textAreaRight" fmla="*/ 4611600 w 4611240"/>
                  <a:gd name="textAreaTop" fmla="*/ 0 h 2673360"/>
                  <a:gd name="textAreaBottom" fmla="*/ 2673720 h 2673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72240" y="4273200"/>
                <a:ext cx="2014200" cy="1299240"/>
              </a:xfrm>
              <a:custGeom>
                <a:avLst/>
                <a:gdLst>
                  <a:gd name="textAreaLeft" fmla="*/ 0 w 2014200"/>
                  <a:gd name="textAreaRight" fmla="*/ 2014560 w 201420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40040" y="5354640"/>
                <a:ext cx="4558320" cy="1548720"/>
              </a:xfrm>
              <a:custGeom>
                <a:avLst/>
                <a:gdLst>
                  <a:gd name="textAreaLeft" fmla="*/ 0 w 4558320"/>
                  <a:gd name="textAreaRight" fmla="*/ 4558680 w 4558320"/>
                  <a:gd name="textAreaTop" fmla="*/ 0 h 1548720"/>
                  <a:gd name="textAreaBottom" fmla="*/ 1549080 h 154872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96680" y="3567960"/>
                <a:ext cx="4811400" cy="3335400"/>
              </a:xfrm>
              <a:custGeom>
                <a:avLst/>
                <a:gdLst>
                  <a:gd name="textAreaLeft" fmla="*/ 0 w 4811400"/>
                  <a:gd name="textAreaRight" fmla="*/ 4811760 w 4811400"/>
                  <a:gd name="textAreaTop" fmla="*/ 0 h 3335400"/>
                  <a:gd name="textAreaBottom" fmla="*/ 3335760 h 3335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201800" y="3708720"/>
                <a:ext cx="1996560" cy="862200"/>
              </a:xfrm>
              <a:custGeom>
                <a:avLst/>
                <a:gdLst>
                  <a:gd name="textAreaLeft" fmla="*/ 0 w 1996560"/>
                  <a:gd name="textAreaRight" fmla="*/ 1996920 w 199656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315760" y="2145240"/>
              <a:ext cx="2918520" cy="24591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2459160"/>
                <a:gd name="textAreaBottom" fmla="*/ 2459160 h 24591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213480" cy="284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9160" indent="-288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52360" indent="-23004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12800" indent="-230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73240" indent="-230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60080" y="629748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49280" y="6300720"/>
            <a:ext cx="2917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605280" y="630396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8059-B2DB-4191-8404-0A9E8177C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0120" y="1750680"/>
            <a:ext cx="7836120" cy="19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82400" y="3916440"/>
            <a:ext cx="64515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СИЛого"/>
          <p:cNvPicPr/>
          <p:nvPr/>
        </p:nvPicPr>
        <p:blipFill>
          <a:blip r:embed="rId1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640" y="1008000"/>
            <a:ext cx="8151840" cy="27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5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35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дя на выборы в избирательный пункт вы имеете право требовать избирательный бюллетень без предъявления паспорта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6360" y="1800000"/>
            <a:ext cx="7632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792000" y="2448000"/>
            <a:ext cx="77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избирательной системы РФ закреплены в  Гражданском кодексе РФ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280" y="1942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640" y="244800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 баллотирующийся на пост президента РФ обязан иметь высшее юридическое образование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какой стране зародились выборы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3250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0080" y="1439640"/>
            <a:ext cx="82962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Кто стал первым президентом РФ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640" y="205920"/>
            <a:ext cx="8353440" cy="13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700"/>
            </a:br>
            <a:endParaRPr b="1" lang="en-US" sz="4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511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был первым и последним Президентом СССР.</a:t>
            </a:r>
            <a:br>
              <a:rPr sz="36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0080" y="1511280"/>
            <a:ext cx="829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и каком императоре в нашей стране были впервые проведены выборы в Государственную Думу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965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368360"/>
            <a:ext cx="9217080" cy="52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8 марта 2018г. состоялись очередные выборы президента РФ. Какого по счёту президента выбирали избиратели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0080" y="2447640"/>
            <a:ext cx="82962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На какой срок избирается президент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0080" y="2447640"/>
            <a:ext cx="82962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 какого возраста можно стать кандидатом на должность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Выборы в современном мир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286920"/>
            <a:ext cx="921708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6480" indent="0">
              <a:spcBef>
                <a:spcPts val="10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биратель           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правь ошибку  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тория выборов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идящий впереди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20  30  40 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бирательный процес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10  20  30  40 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1640" y="1439640"/>
            <a:ext cx="829656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колько сроков подряд один и тот же человек может занимать пост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829656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00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течении какого времени кандидат на пост президент РФ должен постоянно проживать на территории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0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655640"/>
            <a:ext cx="829656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00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Кем или чем, в соответствии с Конституцией РФ, назначаются выборы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0960" indent="0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360" y="2518920"/>
            <a:ext cx="9072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Что необходимо при себе иметь избирателю для получения избирательного бюллетеня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360" y="2518920"/>
            <a:ext cx="9072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На какой день недели назначаются выборы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360" y="1800000"/>
            <a:ext cx="9072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Место для проведения голосования и подсчёта голосов избирателей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640" y="2518920"/>
            <a:ext cx="7848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Назовите государственный орган,  организующий выборы и референдумы в стране.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3640" y="158400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ак называется день накануне дня выборов, когда прекращена предвыборная агитация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360" y="934560"/>
            <a:ext cx="8325000" cy="18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каком возрасте гражданин РФ обретает статус избирателя?</a:t>
            </a:r>
            <a:r>
              <a:rPr b="0" lang="ru-RU" sz="7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875664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1640" y="1584360"/>
            <a:ext cx="83534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824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Может ли человек, признанный в судебном порядке недееспособным, принимать участие в выборах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24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807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640" y="1368000"/>
            <a:ext cx="720072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7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7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Чем отличается активное избирательное право от пассивного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360" y="0"/>
            <a:ext cx="820764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360" y="718920"/>
            <a:ext cx="8207640" cy="40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80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Может ли гражданин РФ, находящийся за границей, принимать участие в выборах происходящих в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275760"/>
            <a:ext cx="8540640" cy="18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 </a:t>
            </a:r>
            <a:br>
              <a:rPr sz="4800"/>
            </a:br>
            <a:r>
              <a:rPr b="0" lang="ru-RU" sz="7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84360" y="2231640"/>
            <a:ext cx="6192720" cy="39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называют круг избирателей голосующих на выборах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640" y="287280"/>
            <a:ext cx="829656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0000" y="2231640"/>
            <a:ext cx="6048360" cy="39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24000" y="2376360"/>
            <a:ext cx="66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гражданин РФ обязан участвовать в выборах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8000" y="2160360"/>
            <a:ext cx="7748640" cy="40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079640" y="2448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чины на выборах имеют 2 голоса, женщины – 1 голос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9:15:27Z</dcterms:created>
  <dc:creator>dom</dc:creator>
  <dc:description/>
  <dc:language>en-US</dc:language>
  <cp:lastModifiedBy>Анна</cp:lastModifiedBy>
  <dcterms:modified xsi:type="dcterms:W3CDTF">2019-02-19T17:49:55Z</dcterms:modified>
  <cp:revision>20</cp:revision>
  <dc:subject/>
  <dc:title>Слайд 1</dc:title>
</cp:coreProperties>
</file>