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20F3-CF1A-4BC9-BD8F-C1079FBE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E2E2-4CFA-46CF-A4D8-4DCCFFF2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4F1C-D515-49E1-8770-C89ABF8D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8DDA-6153-427B-88DE-E4C70666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02AB-FDE1-4A6F-BFF2-7553895C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89E6-D237-4698-AD18-7FDB95C8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6BE6-7A98-4521-B7D9-8E6B6698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86CC-00EF-4B1B-A23B-D3FEC7EF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D2E0-2E31-439E-B04D-7AE75666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A4E5-F92C-4B77-A670-EC80A63A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9FFD-D063-4BFB-AEBC-560D044D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2727-6960-4655-A7BC-22868B0E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957D-6721-4313-A4A8-BD6E01AD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2A45-68A5-458E-A697-4B96BECB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F132-3EE1-489F-86C0-3976622E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48C1-E566-4F4B-9DFE-02196CAF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42BB-557C-4BC7-A773-CE35B550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1AA1A-DA11-4A02-AD64-7B46FA8F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61499-2512-48FC-9D12-913C4A60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0010E-9FBD-4C39-B9C4-F819FF84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71672-47D2-47BE-9100-FFA6F541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5F895-532D-4B75-BE39-C73D1AA6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3DE4-9927-49CB-B73B-DA903760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62ED4-E03D-4C64-8B5A-43276875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38379-D610-4BC3-B21E-3D3C3655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2455A-6C8B-4DBD-8A6E-10E256B2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70F63-921B-4127-9B69-06F1B150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55919-844B-45D5-B0A2-F5B98A44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79D4E-62E5-42AC-AB6A-571BB9F0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0D740-C423-4E3B-A25C-BC43FD19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49008-9303-464B-A1A9-84F5A83F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8CC52-D1E3-4942-9C48-90003123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4EC80-44E4-4704-AD57-1B467E5A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B3FB-3E3B-4A27-89AA-937B45FE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A44C0-7CE2-4972-B6F3-9DC067CB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DBBFB-9C59-4379-8DFB-974CC38F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2AA2E-52D5-45C4-AAD4-6BAE1B05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62556-63E2-4727-A3B8-03CFDAF6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D58B0-34C1-4A90-BFA2-A2B03D6C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968B4-D955-4348-A31B-B2304DE6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4580F-030B-41BD-A08B-AB0DE3A8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CF153-32A8-4F1C-9863-DE9023E2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ADA0F-99C2-46FF-AEE6-FD17ACB7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D3719-79A3-4782-B172-89A0A779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E216-7C9A-4AE7-857F-0552515E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ADED2-871A-47BB-B7AD-1D7CFBC1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EEB6D-2A77-4F2B-98D2-0F750EE9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05AB9-F2FF-4ADF-AB3B-BB463AD7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4561C-BF83-411D-B143-1DB57EA4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DE37F-455B-41CC-95D6-A71A0F75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DCF58-AB38-4BA1-8D69-CA075BB0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8C3ED-6E17-4F3B-A768-B8D6C46B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024B9-B494-4ED6-8E96-6CA802FE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91188-4018-49B8-BE8D-B12B17E0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3564E-DEE2-4310-A3B9-4CB19005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A364-BAC5-4E05-BBA1-7B9DD4EB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65ED8-0595-4D43-9FCC-7538C8FC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05079-CAE9-42DE-B244-76146CC4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2C8D6-7C90-4ED9-9AA9-D3977372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8D46D-BE88-458F-98E3-3B7FF39C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C1AAF-4D88-4F69-B090-9BED19AC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AB632-7925-4060-8DDF-E0ED6425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9CAD1-D653-4114-AE58-D9E880F7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F7620-866E-4CE5-8143-B8DCEFAA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D77D2-251C-452E-8B2E-5D1F3925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1B364-3B1C-4026-B475-63250681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F8A8-3EB1-42A7-AD53-4693D8CF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09710-7840-4F35-B3F0-0FF28E54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DC35A-865F-4729-BA42-EFD92841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BEA93-E8C5-4B5F-8075-D1E73951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EABD4-A1B5-4612-931A-0C479080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E145B-CBCF-43AA-B41A-FA6FE274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876BA-F7BF-4F58-A6C1-9B82B28F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B32A8-A122-470B-930E-872F384C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51E32-886E-4686-AC41-282CEE8C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82C20-BEB0-423D-922A-C1350FFF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5D8AB-4975-44D4-9DA6-415BB1CC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98AD-C59D-4AC6-A752-9904D463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FAF4F-C467-4461-96E8-0F0023FB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9397F-8CBA-4947-ADCF-F2A3A7DF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F280D-9077-4CEA-9448-453A31EC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69B24-6C34-4B4F-ADD7-42378FC6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8E349-98A3-47F5-90B0-14853BDD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E069-6F97-4A7A-8CDE-94A9CB5D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8b8b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D0D219-3DA3-41C2-90BC-C8A4FDAB4BEE}" type="datetime">
              <a:rPr b="0" lang="en-US" sz="9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7EAEF4-364F-4682-9015-02D03F4439E0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8b8b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03E288-9C2C-492F-8E45-91B41002170D}" type="datetime">
              <a:rPr b="0" lang="en-US" sz="9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086296-B452-4D11-8BA5-C5CC787EE4EE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8b8b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9FBF09-700B-4AE1-87FA-58A1588939E3}" type="datetime">
              <a:rPr b="0" lang="en-US" sz="9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01FD82-48AC-4D61-9904-1151EDBE438C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8b8b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009A1-DB8C-48F6-89F9-799802772A91}" type="datetime">
              <a:rPr b="0" lang="en-US" sz="9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A8A89B-EDCA-4222-A7EE-4EC084A3A2D8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8b8b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4051440" cy="6858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040280" y="0"/>
            <a:ext cx="6336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65120" y="6459480"/>
            <a:ext cx="261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AB0ADD-305E-4C24-A4B9-08904B1CC863}" type="datetime">
              <a:rPr b="0" lang="en-US" sz="9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4800600" y="6459480"/>
            <a:ext cx="464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696464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F29B4A-5AD0-44BB-A7A5-A54C4C5122B8}" type="slidenum">
              <a:rPr b="0" lang="en-US" sz="1000" spc="-1" strike="noStrike">
                <a:solidFill>
                  <a:srgbClr val="696464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8b8b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12188880" cy="19051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12188880" cy="63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6B604D-4399-404F-8436-08B943CC3E9B}" type="datetime">
              <a:rPr b="0" lang="en-US" sz="9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48F7B-9B26-4EF6-B310-5A6727A97C41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8b8b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9EE19E-C5AA-43C3-AE92-9CAC4B328AA4}" type="datetime">
              <a:rPr b="0" lang="en-US" sz="9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42769-1689-4698-83E7-EB4466B2F2BB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97960" y="0"/>
            <a:ext cx="1106028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оздание проблемной ситуации на уроках литературы в старших классах</a:t>
            </a:r>
            <a:endParaRPr b="0" lang="en-US" sz="5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373040" y="4468320"/>
            <a:ext cx="10058400" cy="13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учитель русского языка и литературы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СОШ №2 г.Нерехта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витова Т.Г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TextBox 3"/>
          <p:cNvSpPr/>
          <p:nvPr/>
        </p:nvSpPr>
        <p:spPr>
          <a:xfrm>
            <a:off x="5273640" y="595008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ерехта,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5"/>
          <p:cNvSpPr/>
          <p:nvPr/>
        </p:nvSpPr>
        <p:spPr>
          <a:xfrm>
            <a:off x="11511000" y="6375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Рисунок 1" descr=""/>
          <p:cNvPicPr/>
          <p:nvPr/>
        </p:nvPicPr>
        <p:blipFill>
          <a:blip r:embed="rId1"/>
          <a:stretch/>
        </p:blipFill>
        <p:spPr>
          <a:xfrm>
            <a:off x="1765440" y="1197000"/>
            <a:ext cx="8661240" cy="5027760"/>
          </a:xfrm>
          <a:prstGeom prst="rect">
            <a:avLst/>
          </a:prstGeom>
          <a:ln w="0">
            <a:noFill/>
          </a:ln>
        </p:spPr>
      </p:pic>
      <p:sp>
        <p:nvSpPr>
          <p:cNvPr id="344" name="Прямоугольник 2"/>
          <p:cNvSpPr/>
          <p:nvPr/>
        </p:nvSpPr>
        <p:spPr>
          <a:xfrm>
            <a:off x="2705040" y="120600"/>
            <a:ext cx="60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Маяковский и Т. Яковл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 или вымысе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4"/>
          <p:cNvSpPr/>
          <p:nvPr/>
        </p:nvSpPr>
        <p:spPr>
          <a:xfrm>
            <a:off x="11530800" y="6342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3"/>
          <p:cNvSpPr/>
          <p:nvPr/>
        </p:nvSpPr>
        <p:spPr>
          <a:xfrm>
            <a:off x="1943280" y="324000"/>
            <a:ext cx="836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на Ивановна Цветаева (1892 –1941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Рисунок 4" descr=""/>
          <p:cNvPicPr/>
          <p:nvPr/>
        </p:nvPicPr>
        <p:blipFill>
          <a:blip r:embed="rId1"/>
          <a:stretch/>
        </p:blipFill>
        <p:spPr>
          <a:xfrm>
            <a:off x="1352520" y="1019160"/>
            <a:ext cx="3600360" cy="5221440"/>
          </a:xfrm>
          <a:prstGeom prst="rect">
            <a:avLst/>
          </a:prstGeom>
          <a:ln w="0">
            <a:noFill/>
          </a:ln>
        </p:spPr>
      </p:pic>
      <p:sp>
        <p:nvSpPr>
          <p:cNvPr id="348" name="Прямоугольник 7"/>
          <p:cNvSpPr/>
          <p:nvPr/>
        </p:nvSpPr>
        <p:spPr>
          <a:xfrm>
            <a:off x="11522160" y="63500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"/>
          <p:cNvSpPr/>
          <p:nvPr/>
        </p:nvSpPr>
        <p:spPr>
          <a:xfrm>
            <a:off x="5738760" y="1990800"/>
            <a:ext cx="61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ение полнейшего одиночества и заброшенности, ощущение собственной ненужности, роковое убеждение, что она ничего не уме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"/>
          <p:cNvGraphicFramePr/>
          <p:nvPr/>
        </p:nvGraphicFramePr>
        <p:xfrm>
          <a:off x="347760" y="163440"/>
          <a:ext cx="11504520" cy="3513240"/>
        </p:xfrm>
        <a:graphic>
          <a:graphicData uri="http://schemas.openxmlformats.org/drawingml/2006/table">
            <a:tbl>
              <a:tblPr/>
              <a:tblGrid>
                <a:gridCol w="2300040"/>
                <a:gridCol w="2302200"/>
                <a:gridCol w="2608200"/>
                <a:gridCol w="1993680"/>
                <a:gridCol w="2300400"/>
              </a:tblGrid>
              <a:tr h="335160">
                <a:tc>
                  <a:txBody>
                    <a:bodyPr rIns="200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2001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rIns="200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ози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2001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rIns="200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2001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rIns="200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ихотвор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2001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rIns="200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мента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2001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57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 M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вердцители Тамара Михайл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вердцители Тамара Михайл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Молитв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ьбом «Посвящение женщине» (200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09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 тебя отвою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утой Игорь Яковле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легрова Ирина Александр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Я тебя отвоюю у всех земель, у всех небе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ьбом «Угонщица» (1994). Видеоклип на песню (реж. Т. Кеосаян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1211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не нравится, что вы больны не м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ривердиев Микаэл Леоно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угачёва, Алла Борисовна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рганова и Орк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Мне нравится, что вы больны не мно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евизионный художественный фильм «Ирония судьбы, или С лёгким паром!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1" name="Прямоугольник 4"/>
          <p:cNvSpPr/>
          <p:nvPr/>
        </p:nvSpPr>
        <p:spPr>
          <a:xfrm>
            <a:off x="11439720" y="6365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Рисунок 3" descr=""/>
          <p:cNvPicPr/>
          <p:nvPr/>
        </p:nvPicPr>
        <p:blipFill>
          <a:blip r:embed="rId1"/>
          <a:stretch/>
        </p:blipFill>
        <p:spPr>
          <a:xfrm>
            <a:off x="8342280" y="3848040"/>
            <a:ext cx="3602160" cy="288756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7" descr=""/>
          <p:cNvPicPr/>
          <p:nvPr/>
        </p:nvPicPr>
        <p:blipFill>
          <a:blip r:embed="rId2"/>
          <a:stretch/>
        </p:blipFill>
        <p:spPr>
          <a:xfrm>
            <a:off x="347760" y="3848040"/>
            <a:ext cx="3419280" cy="288756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5" descr=""/>
          <p:cNvPicPr/>
          <p:nvPr/>
        </p:nvPicPr>
        <p:blipFill>
          <a:blip r:embed="rId3"/>
          <a:stretch/>
        </p:blipFill>
        <p:spPr>
          <a:xfrm>
            <a:off x="3359160" y="3848040"/>
            <a:ext cx="5481720" cy="288756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29"/>
          <p:cNvSpPr/>
          <p:nvPr/>
        </p:nvSpPr>
        <p:spPr>
          <a:xfrm>
            <a:off x="347760" y="3848040"/>
            <a:ext cx="341928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1" descr=""/>
          <p:cNvPicPr/>
          <p:nvPr/>
        </p:nvPicPr>
        <p:blipFill>
          <a:blip r:embed="rId1"/>
          <a:stretch/>
        </p:blipFill>
        <p:spPr>
          <a:xfrm>
            <a:off x="263520" y="216000"/>
            <a:ext cx="4322880" cy="575136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3" descr=""/>
          <p:cNvPicPr/>
          <p:nvPr/>
        </p:nvPicPr>
        <p:blipFill>
          <a:blip r:embed="rId2"/>
          <a:stretch/>
        </p:blipFill>
        <p:spPr>
          <a:xfrm>
            <a:off x="4686480" y="838080"/>
            <a:ext cx="3547800" cy="25020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4"/>
          <p:cNvSpPr/>
          <p:nvPr/>
        </p:nvSpPr>
        <p:spPr>
          <a:xfrm>
            <a:off x="4876920" y="3821040"/>
            <a:ext cx="6904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 понимали её поэзию, не принимали. Умерла на Родине нечитаемая, почти неизвестная. Родина, которую она так любила, отвергла её, отвернула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Рисунок 2" descr=""/>
          <p:cNvPicPr/>
          <p:nvPr/>
        </p:nvPicPr>
        <p:blipFill>
          <a:blip r:embed="rId3"/>
          <a:stretch/>
        </p:blipFill>
        <p:spPr>
          <a:xfrm>
            <a:off x="8018640" y="291960"/>
            <a:ext cx="3798720" cy="279900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6"/>
          <p:cNvSpPr/>
          <p:nvPr/>
        </p:nvSpPr>
        <p:spPr>
          <a:xfrm>
            <a:off x="11523600" y="6365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2" descr=""/>
          <p:cNvPicPr/>
          <p:nvPr/>
        </p:nvPicPr>
        <p:blipFill>
          <a:blip r:embed="rId1"/>
          <a:stretch/>
        </p:blipFill>
        <p:spPr>
          <a:xfrm>
            <a:off x="2014560" y="1239840"/>
            <a:ext cx="3417840" cy="49244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7047000" y="1201680"/>
            <a:ext cx="3639960" cy="5000760"/>
          </a:xfrm>
          <a:prstGeom prst="rect">
            <a:avLst/>
          </a:prstGeom>
          <a:ln w="0">
            <a:noFill/>
          </a:ln>
        </p:spPr>
      </p:pic>
      <p:sp>
        <p:nvSpPr>
          <p:cNvPr id="363" name="Прямоугольник 5"/>
          <p:cNvSpPr/>
          <p:nvPr/>
        </p:nvSpPr>
        <p:spPr>
          <a:xfrm>
            <a:off x="2254680" y="298440"/>
            <a:ext cx="827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м трагичность судьбы Цветаев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6"/>
          <p:cNvSpPr/>
          <p:nvPr/>
        </p:nvSpPr>
        <p:spPr>
          <a:xfrm>
            <a:off x="11377800" y="6372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Номер слайда 1"/>
          <p:cNvSpPr/>
          <p:nvPr/>
        </p:nvSpPr>
        <p:spPr>
          <a:xfrm>
            <a:off x="10559880" y="6459480"/>
            <a:ext cx="150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2"/>
          <p:cNvSpPr/>
          <p:nvPr/>
        </p:nvSpPr>
        <p:spPr>
          <a:xfrm>
            <a:off x="1312920" y="1274760"/>
            <a:ext cx="924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проблемного обучения способствует развитию познавательной, практической, творческой деятельности обучающихся. Создание проблемных ситуаций с удивлением влекут за собой эмоциональный отклик: ученики широко распахивают глаза, открывают рты и …в результате ставят перед собой ещё не изученную проблему и открывают новое зн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ов надо заинтересовать, задеть за живое их чем-то интересным в содержании урока, и они на следующее занятие обязательно придут готовыми к разговору: перечитают много разной литературы, поработают с различными источниками информации. С ними можно будет вести диалог, которого так не хватает на уроке. Ведь каждому учителю хочется, чтобы проходило «учение с увлечением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3"/>
          <p:cNvSpPr/>
          <p:nvPr/>
        </p:nvSpPr>
        <p:spPr>
          <a:xfrm>
            <a:off x="1828800" y="504720"/>
            <a:ext cx="79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3"/>
          <p:cNvSpPr/>
          <p:nvPr/>
        </p:nvSpPr>
        <p:spPr>
          <a:xfrm>
            <a:off x="1506600" y="2413080"/>
            <a:ext cx="965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5"/>
          <p:cNvSpPr/>
          <p:nvPr/>
        </p:nvSpPr>
        <p:spPr>
          <a:xfrm>
            <a:off x="11544480" y="6369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Рисунок 1" descr=""/>
          <p:cNvPicPr/>
          <p:nvPr/>
        </p:nvPicPr>
        <p:blipFill>
          <a:blip r:embed="rId1"/>
          <a:stretch/>
        </p:blipFill>
        <p:spPr>
          <a:xfrm>
            <a:off x="8134200" y="488880"/>
            <a:ext cx="3694320" cy="504828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2" descr=""/>
          <p:cNvPicPr/>
          <p:nvPr/>
        </p:nvPicPr>
        <p:blipFill>
          <a:blip r:embed="rId2"/>
          <a:stretch/>
        </p:blipFill>
        <p:spPr>
          <a:xfrm>
            <a:off x="4546440" y="474840"/>
            <a:ext cx="3399120" cy="507672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3"/>
          <p:cNvSpPr/>
          <p:nvPr/>
        </p:nvSpPr>
        <p:spPr>
          <a:xfrm>
            <a:off x="185760" y="812880"/>
            <a:ext cx="4362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на Леонидовна Мельников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втор технологии проблемного обучения). Лауреат премии Правительства РФ в области образования, кандидат психологических наук, доцент кафедры начального и дошкольного. образования Академии ПКиППРО (г. Москв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5"/>
          <p:cNvSpPr/>
          <p:nvPr/>
        </p:nvSpPr>
        <p:spPr>
          <a:xfrm>
            <a:off x="11530800" y="6380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Рисунок 1" descr=""/>
          <p:cNvPicPr/>
          <p:nvPr/>
        </p:nvPicPr>
        <p:blipFill>
          <a:blip r:embed="rId1"/>
          <a:stretch/>
        </p:blipFill>
        <p:spPr>
          <a:xfrm>
            <a:off x="2793960" y="1038240"/>
            <a:ext cx="6688080" cy="5143320"/>
          </a:xfrm>
          <a:prstGeom prst="rect">
            <a:avLst/>
          </a:prstGeom>
          <a:ln w="0">
            <a:noFill/>
          </a:ln>
        </p:spPr>
      </p:pic>
      <p:sp>
        <p:nvSpPr>
          <p:cNvPr id="313" name="TextBox 2"/>
          <p:cNvSpPr/>
          <p:nvPr/>
        </p:nvSpPr>
        <p:spPr>
          <a:xfrm>
            <a:off x="2243160" y="136440"/>
            <a:ext cx="782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ы создания проблемных ситуа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 «Школа 210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5"/>
          <p:cNvSpPr/>
          <p:nvPr/>
        </p:nvSpPr>
        <p:spPr>
          <a:xfrm>
            <a:off x="11530800" y="6356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3"/>
          <p:cNvSpPr/>
          <p:nvPr/>
        </p:nvSpPr>
        <p:spPr>
          <a:xfrm>
            <a:off x="3138120" y="47520"/>
            <a:ext cx="583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роблемного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 «Школа 210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6"/>
          <p:cNvSpPr/>
          <p:nvPr/>
        </p:nvSpPr>
        <p:spPr>
          <a:xfrm>
            <a:off x="11570400" y="6383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5" descr="C:\Users\Елена Кулябина\Pictures\Рис.jpg"/>
          <p:cNvPicPr/>
          <p:nvPr/>
        </p:nvPicPr>
        <p:blipFill>
          <a:blip r:embed="rId1"/>
          <a:stretch/>
        </p:blipFill>
        <p:spPr>
          <a:xfrm>
            <a:off x="1525680" y="1227240"/>
            <a:ext cx="839952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Рисунок 1" descr=""/>
          <p:cNvPicPr/>
          <p:nvPr/>
        </p:nvPicPr>
        <p:blipFill>
          <a:blip r:embed="rId1"/>
          <a:stretch/>
        </p:blipFill>
        <p:spPr>
          <a:xfrm>
            <a:off x="1382760" y="944640"/>
            <a:ext cx="4089240" cy="542916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2" descr=""/>
          <p:cNvPicPr/>
          <p:nvPr/>
        </p:nvPicPr>
        <p:blipFill>
          <a:blip r:embed="rId2"/>
          <a:stretch/>
        </p:blipFill>
        <p:spPr>
          <a:xfrm>
            <a:off x="6550200" y="944640"/>
            <a:ext cx="4203360" cy="5429160"/>
          </a:xfrm>
          <a:prstGeom prst="rect">
            <a:avLst/>
          </a:prstGeom>
          <a:ln w="0">
            <a:noFill/>
          </a:ln>
        </p:spPr>
      </p:pic>
      <p:sp>
        <p:nvSpPr>
          <p:cNvPr id="320" name="Прямоугольник 3"/>
          <p:cNvSpPr/>
          <p:nvPr/>
        </p:nvSpPr>
        <p:spPr>
          <a:xfrm>
            <a:off x="920880" y="169920"/>
            <a:ext cx="106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Ю. Лермонтов «Герой нашего времени», 1838-1840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5"/>
          <p:cNvSpPr/>
          <p:nvPr/>
        </p:nvSpPr>
        <p:spPr>
          <a:xfrm>
            <a:off x="11534040" y="6373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2"/>
          <p:cNvSpPr/>
          <p:nvPr/>
        </p:nvSpPr>
        <p:spPr>
          <a:xfrm>
            <a:off x="4194000" y="98280"/>
            <a:ext cx="321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о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3" name="Прямая со стрелкой 4"/>
          <p:cNvCxnSpPr/>
          <p:nvPr/>
        </p:nvCxnSpPr>
        <p:spPr>
          <a:xfrm flipH="1">
            <a:off x="2758680" y="868320"/>
            <a:ext cx="1572480" cy="737280"/>
          </a:xfrm>
          <a:prstGeom prst="straightConnector1">
            <a:avLst/>
          </a:prstGeom>
          <a:ln w="38160">
            <a:solidFill>
              <a:srgbClr val="9b2d1f"/>
            </a:solidFill>
            <a:miter/>
            <a:tailEnd len="med" type="triangle" w="med"/>
          </a:ln>
        </p:spPr>
      </p:cxnSp>
      <p:cxnSp>
        <p:nvCxnSpPr>
          <p:cNvPr id="324" name="Прямая со стрелкой 6"/>
          <p:cNvCxnSpPr/>
          <p:nvPr/>
        </p:nvCxnSpPr>
        <p:spPr>
          <a:xfrm>
            <a:off x="7547040" y="867960"/>
            <a:ext cx="1573920" cy="739080"/>
          </a:xfrm>
          <a:prstGeom prst="straightConnector1">
            <a:avLst/>
          </a:prstGeom>
          <a:ln w="38160">
            <a:solidFill>
              <a:srgbClr val="9b2d1f"/>
            </a:solidFill>
            <a:miter/>
            <a:tailEnd len="med" type="triangle" w="med"/>
          </a:ln>
        </p:spPr>
      </p:cxnSp>
      <p:sp>
        <p:nvSpPr>
          <p:cNvPr id="325" name="TextBox 9"/>
          <p:cNvSpPr/>
          <p:nvPr/>
        </p:nvSpPr>
        <p:spPr>
          <a:xfrm>
            <a:off x="1515600" y="1582560"/>
            <a:ext cx="148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10"/>
          <p:cNvSpPr/>
          <p:nvPr/>
        </p:nvSpPr>
        <p:spPr>
          <a:xfrm>
            <a:off x="8547120" y="1604880"/>
            <a:ext cx="182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Рисунок 11" descr=""/>
          <p:cNvPicPr/>
          <p:nvPr/>
        </p:nvPicPr>
        <p:blipFill>
          <a:blip r:embed="rId1"/>
          <a:stretch/>
        </p:blipFill>
        <p:spPr>
          <a:xfrm>
            <a:off x="5321160" y="1058760"/>
            <a:ext cx="1239840" cy="210816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12" descr=""/>
          <p:cNvPicPr/>
          <p:nvPr/>
        </p:nvPicPr>
        <p:blipFill>
          <a:blip r:embed="rId2"/>
          <a:stretch/>
        </p:blipFill>
        <p:spPr>
          <a:xfrm>
            <a:off x="614520" y="2373480"/>
            <a:ext cx="3085920" cy="384012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13" descr=""/>
          <p:cNvPicPr/>
          <p:nvPr/>
        </p:nvPicPr>
        <p:blipFill>
          <a:blip r:embed="rId3"/>
          <a:stretch/>
        </p:blipFill>
        <p:spPr>
          <a:xfrm>
            <a:off x="4511520" y="2346480"/>
            <a:ext cx="3021120" cy="389412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14" descr=""/>
          <p:cNvPicPr/>
          <p:nvPr/>
        </p:nvPicPr>
        <p:blipFill>
          <a:blip r:embed="rId4"/>
          <a:stretch/>
        </p:blipFill>
        <p:spPr>
          <a:xfrm>
            <a:off x="8345520" y="2416320"/>
            <a:ext cx="2760480" cy="3854160"/>
          </a:xfrm>
          <a:prstGeom prst="rect">
            <a:avLst/>
          </a:prstGeom>
          <a:ln w="0">
            <a:noFill/>
          </a:ln>
        </p:spPr>
      </p:pic>
      <p:sp>
        <p:nvSpPr>
          <p:cNvPr id="331" name="Прямоугольник 16"/>
          <p:cNvSpPr/>
          <p:nvPr/>
        </p:nvSpPr>
        <p:spPr>
          <a:xfrm>
            <a:off x="11530800" y="6380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extBox 1" descr=""/>
          <p:cNvPicPr/>
          <p:nvPr/>
        </p:nvPicPr>
        <p:blipFill>
          <a:blip r:embed="rId1"/>
          <a:stretch/>
        </p:blipFill>
        <p:spPr>
          <a:xfrm>
            <a:off x="3249720" y="274680"/>
            <a:ext cx="5479920" cy="2176560"/>
          </a:xfrm>
          <a:prstGeom prst="rect">
            <a:avLst/>
          </a:prstGeom>
          <a:ln w="0">
            <a:noFill/>
          </a:ln>
        </p:spPr>
      </p:pic>
      <p:pic>
        <p:nvPicPr>
          <p:cNvPr id="333" name="TextBox 2" descr=""/>
          <p:cNvPicPr/>
          <p:nvPr/>
        </p:nvPicPr>
        <p:blipFill>
          <a:blip r:embed="rId2"/>
          <a:stretch/>
        </p:blipFill>
        <p:spPr>
          <a:xfrm>
            <a:off x="2944800" y="3608280"/>
            <a:ext cx="6296040" cy="242748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5"/>
          <p:cNvSpPr/>
          <p:nvPr/>
        </p:nvSpPr>
        <p:spPr>
          <a:xfrm>
            <a:off x="11475360" y="6342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6" descr="C:\Users\Елена Кулябина\Pictures\Рисунок3.png"/>
          <p:cNvPicPr/>
          <p:nvPr/>
        </p:nvPicPr>
        <p:blipFill>
          <a:blip r:embed="rId3"/>
          <a:srcRect l="0" t="0" r="5445" b="46015"/>
          <a:stretch/>
        </p:blipFill>
        <p:spPr>
          <a:xfrm>
            <a:off x="4705200" y="1911240"/>
            <a:ext cx="243864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1"/>
          <p:cNvSpPr/>
          <p:nvPr/>
        </p:nvSpPr>
        <p:spPr>
          <a:xfrm>
            <a:off x="5175360" y="1846440"/>
            <a:ext cx="6095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его судьбе сплелось столько невероятного и трагического, что, пожалуй, хватило бы не на одного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Рисунок 2" descr=""/>
          <p:cNvPicPr/>
          <p:nvPr/>
        </p:nvPicPr>
        <p:blipFill>
          <a:blip r:embed="rId1"/>
          <a:stretch/>
        </p:blipFill>
        <p:spPr>
          <a:xfrm>
            <a:off x="689040" y="1209600"/>
            <a:ext cx="3660840" cy="465300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4"/>
          <p:cNvSpPr/>
          <p:nvPr/>
        </p:nvSpPr>
        <p:spPr>
          <a:xfrm>
            <a:off x="11535480" y="6356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1"/>
          <p:cNvSpPr/>
          <p:nvPr/>
        </p:nvSpPr>
        <p:spPr>
          <a:xfrm>
            <a:off x="4861800" y="109440"/>
            <a:ext cx="22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А.Ф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2"/>
          <p:cNvSpPr/>
          <p:nvPr/>
        </p:nvSpPr>
        <p:spPr>
          <a:xfrm>
            <a:off x="5205240" y="752400"/>
            <a:ext cx="6662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 последний сборник 70-летний поэт выпустил в 600 экземплярах – тираж для известного поэта крайне мизерный. Но это было лишь одно звено в цепи многочисленных неудач и невзгод, преследовавших его с первых лет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кладывалась жизнь А. Фе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это за борьба, которая длилась в течение 40 л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Рисунок 3" descr=""/>
          <p:cNvPicPr/>
          <p:nvPr/>
        </p:nvPicPr>
        <p:blipFill>
          <a:blip r:embed="rId1"/>
          <a:stretch/>
        </p:blipFill>
        <p:spPr>
          <a:xfrm>
            <a:off x="792000" y="561960"/>
            <a:ext cx="4132440" cy="5211720"/>
          </a:xfrm>
          <a:prstGeom prst="rect">
            <a:avLst/>
          </a:prstGeom>
          <a:ln w="0">
            <a:noFill/>
          </a:ln>
        </p:spPr>
      </p:pic>
      <p:sp>
        <p:nvSpPr>
          <p:cNvPr id="342" name="Прямоугольник 5"/>
          <p:cNvSpPr/>
          <p:nvPr/>
        </p:nvSpPr>
        <p:spPr>
          <a:xfrm>
            <a:off x="11570400" y="6342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20T15:41:05Z</dcterms:created>
  <dc:creator>RePack by Diakov</dc:creator>
  <dc:description/>
  <dc:language>en-US</dc:language>
  <cp:lastModifiedBy>Елена Кулябина</cp:lastModifiedBy>
  <dcterms:modified xsi:type="dcterms:W3CDTF">2020-11-15T14:46:42Z</dcterms:modified>
  <cp:revision>28</cp:revision>
  <dc:subject/>
  <dc:title>Создание проблемной ситуации на уроках литературы в старших классах</dc:title>
</cp:coreProperties>
</file>