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195-0ED7-426B-A6BE-0704BA1F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216-1B0E-41B9-8D99-EB869C57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AC0-02D2-453E-9EFA-A28406B7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3F8-7BD2-4355-A0EE-2BB09C60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B74C-A96F-413C-A077-33853340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B8C6-01A4-403A-A101-A85C046C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589E-092F-4B9C-A458-0A7351ED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E423-9E3F-4B5E-A393-6A7C37A0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69E1-D97B-4235-B387-51E0EAF1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928E-E493-4E1F-A29E-194BF60D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474D-DE86-41F1-A269-1C35EB63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48B-C8DD-48A8-BB43-E416187D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28DA-64E7-472A-B1B4-6A5C6FF4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8A7F-33F8-4205-93A6-FEC7F159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0353-1400-4404-A6F3-872C6940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0479-5F55-4720-B1AA-D47A940D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9052-3080-4316-BAC8-B1BB8B85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08A10-891B-4B97-A1AB-123A2797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1BC2B-462C-443B-85EA-36554BE3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8ADC-58B1-48CC-A692-FF00762C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AD1C-5B0B-48B5-BAE7-D3AF3F05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E08A-EA9D-4416-B5C5-D066093C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F8E-0CBD-4FB0-9F4C-D0EFCF3E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546F6-3B11-4903-85E2-EF8A8E58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252B0-2017-4D4C-A9E9-063ADF17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9A10E-42E3-49DB-81DA-B3C05056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EB56-21C5-4D39-B106-A9E9951A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661C-EAF5-4C1D-A5AB-17EC9A40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68A1-7BC7-4CFD-8123-F09241DB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81C9-7150-4C33-BE11-B26D8FFD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7444E-5634-4BBF-AD11-53451538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3163-0B12-48F2-B70B-582B45E8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3F7B6-805C-413C-9702-6C586589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BEF-F8D9-4FD1-A82A-A8F11BFF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0E845-8127-4853-989D-98A9A0A2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0A10F-7562-4C3A-B08C-7F5699AD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A5B1E-586C-4A74-9216-B86B5026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C7461-9C77-4018-AFDD-93A5587C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4FE0-7A42-4E04-A835-9494DE40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2C644-3286-42DD-A302-EF78639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4F03E-D51B-4DEB-9FD8-18C4B9AA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E0CF-08D9-42D5-8214-EE600DAB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BCA1C-8581-4726-8BCE-92556A1A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8C5D1-3422-42F0-BEC5-FA586F97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C4A-0CA6-43DB-9477-64531B89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1F66-C85C-41C1-90B9-9AB57979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D3A91-207A-4024-BCFC-A281094D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1A6C7-1D74-445A-BAC5-235EB754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43608-5C63-4372-9E9F-22F4AC4F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6088B-33A4-4FC1-971A-CD91F9BF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19D6-1AB0-4228-AB55-246313DD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71F81-95E4-4A58-B1B4-1654B5C2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3CF70-4B11-4A97-BA75-A3C25A24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3138-2F6A-412B-9B29-8457A55C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5C1B-BB06-47BF-A049-A9E2DD07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8BA-1F09-4000-83CE-C6364CE4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FF078-8F4E-4E85-8F38-240C87A7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5D1A1-0D94-426A-BCCB-EEC14FA1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A900C-9120-4FC5-8710-950E1211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11E82-EC49-4CCE-96D2-877C9556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52C4A-AF9D-4671-B71A-9A43E853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C188C-6468-4D2D-9B67-3767F37D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717DF-B9E8-4ABA-A2D6-0100B6FC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2719C-55DB-4375-82F3-5DA8DF41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71C2-019B-41AC-B574-56752200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1FDE1-450D-4018-AE26-4D2A81F5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D3E-6ED9-4BAC-A8DD-DBA646F2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7D66-9005-45D6-9C5F-FE8EDFD4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427A2-AC28-4C5D-8DF9-24142CDF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D5C9D-CED1-4628-8C97-3B9B6639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2BABF-3A82-4406-9A43-F444D2A9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4F101-1FA0-42BD-A28B-21F88A26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22F41-AF6C-43A3-9D0F-AB88C6D9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52F80-AD7D-4A83-B4C9-DE2921D1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790D4-5F19-42DE-9232-FA351D23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2077E-AE6C-4AF9-B9C1-B72517C7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CD945-0668-4A55-9D6B-C1979CFF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3D1-464F-46D6-A18B-EABBBF1E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EC976-E755-4B40-8699-4F7AACF3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52D41-1F2A-4B06-9AFF-F2225EF4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6D443-A25D-448D-813A-761F7751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F980B-60B6-4266-BD83-3B03986B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EE4F7-AABC-43CC-9489-5EE63786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303-CE33-4CA0-84F3-4AA4AD19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81F1B-8742-4F7C-AA2E-A8C1E795B7B5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48165-133A-428E-BC01-E51AF80271D9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7FD59-289B-429E-A88D-898F04B34AEE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9B1CF-D541-4EB8-A903-22C36FE9286C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903DD-8248-49FA-A643-A1E7426E76F4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76025-73BE-4993-B0DF-526662D3C07D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45FC9-2A6C-478F-8862-D3D2C7C831CB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52572-B075-4826-9253-08F43D9EB23E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4D2CA-5B52-4280-A92A-279EB38B7EAB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9646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D589B-C5EC-4099-A100-92C23E41EA3C}" type="slidenum">
              <a:rPr b="0" lang="en-US" sz="1000" spc="-1" strike="noStrike">
                <a:solidFill>
                  <a:srgbClr val="696464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87534-D5BB-42E3-A14E-BE741639E853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F2663-5FDE-4DDD-A995-ADA2ADA23728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8b8b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d34817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CD8E7-F5E9-49CB-8B74-9D161FA20B58}" type="datetime">
              <a:rPr b="0" lang="en-US" sz="9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EF747-6174-4C2B-B1AB-377FDB41AAED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97960" y="0"/>
            <a:ext cx="1106028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здание проблемной ситуации на уроках литературы в старших классах</a:t>
            </a:r>
            <a:endParaRPr b="0" lang="en-US" sz="5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3040" y="4468320"/>
            <a:ext cx="10058400" cy="13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учитель русского языка и литературы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2 г.Нерехта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витова Т.Г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5273640" y="59500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ерехта,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11511000" y="6375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Рисунок 1" descr=""/>
          <p:cNvPicPr/>
          <p:nvPr/>
        </p:nvPicPr>
        <p:blipFill>
          <a:blip r:embed="rId1"/>
          <a:stretch/>
        </p:blipFill>
        <p:spPr>
          <a:xfrm>
            <a:off x="1765440" y="1197000"/>
            <a:ext cx="8661240" cy="502776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2"/>
          <p:cNvSpPr/>
          <p:nvPr/>
        </p:nvSpPr>
        <p:spPr>
          <a:xfrm>
            <a:off x="2705040" y="1206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аяковский и Т. Яковл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 или вымысе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4"/>
          <p:cNvSpPr/>
          <p:nvPr/>
        </p:nvSpPr>
        <p:spPr>
          <a:xfrm>
            <a:off x="11530800" y="6342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3"/>
          <p:cNvSpPr/>
          <p:nvPr/>
        </p:nvSpPr>
        <p:spPr>
          <a:xfrm>
            <a:off x="1943280" y="324000"/>
            <a:ext cx="83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на Ивановна Цветаева (1892 –194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Рисунок 4" descr=""/>
          <p:cNvPicPr/>
          <p:nvPr/>
        </p:nvPicPr>
        <p:blipFill>
          <a:blip r:embed="rId1"/>
          <a:stretch/>
        </p:blipFill>
        <p:spPr>
          <a:xfrm>
            <a:off x="1352520" y="1019160"/>
            <a:ext cx="3600360" cy="522144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7"/>
          <p:cNvSpPr/>
          <p:nvPr/>
        </p:nvSpPr>
        <p:spPr>
          <a:xfrm>
            <a:off x="11522160" y="6350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5738760" y="1990800"/>
            <a:ext cx="61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полнейшего одиночества и заброшенности, ощущение собственной ненужности, роковое убеждение, что она ничего не у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"/>
          <p:cNvGraphicFramePr/>
          <p:nvPr/>
        </p:nvGraphicFramePr>
        <p:xfrm>
          <a:off x="347760" y="163440"/>
          <a:ext cx="11504520" cy="3513240"/>
        </p:xfrm>
        <a:graphic>
          <a:graphicData uri="http://schemas.openxmlformats.org/drawingml/2006/table">
            <a:tbl>
              <a:tblPr/>
              <a:tblGrid>
                <a:gridCol w="2300040"/>
                <a:gridCol w="2302200"/>
                <a:gridCol w="2608200"/>
                <a:gridCol w="1993680"/>
                <a:gridCol w="2300400"/>
              </a:tblGrid>
              <a:tr h="335160">
                <a:tc>
                  <a:txBody>
                    <a:bodyPr rIns="20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2001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rIns="20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ози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2001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rIns="20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2001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rIns="20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хотвор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2001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rIns="200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ент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2001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57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 M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ердцители Тамара Михайл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ердцители Тамара Михайл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олитв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ьбом «Посвящение женщине» (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09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тебя отвою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той Игорь Яковле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легрова Ирина Александро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тебя отвоюю у всех земель, у всех небе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ьбом «Угонщица» (1994). Видеоклип на песню (реж. Т. Кеосая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211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е нравится, что вы больны не м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ивердиев Микаэл Леонови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гачёва, Алла Борисовн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рганова и Орк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не нравится, что вы больны не мно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евизионный художественный фильм «Ирония судьбы, или С лёгким паром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1" name="Прямоугольник 4"/>
          <p:cNvSpPr/>
          <p:nvPr/>
        </p:nvSpPr>
        <p:spPr>
          <a:xfrm>
            <a:off x="11439720" y="6365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3" descr=""/>
          <p:cNvPicPr/>
          <p:nvPr/>
        </p:nvPicPr>
        <p:blipFill>
          <a:blip r:embed="rId1"/>
          <a:stretch/>
        </p:blipFill>
        <p:spPr>
          <a:xfrm>
            <a:off x="8342280" y="3848040"/>
            <a:ext cx="3602160" cy="288756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7" descr=""/>
          <p:cNvPicPr/>
          <p:nvPr/>
        </p:nvPicPr>
        <p:blipFill>
          <a:blip r:embed="rId2"/>
          <a:stretch/>
        </p:blipFill>
        <p:spPr>
          <a:xfrm>
            <a:off x="347760" y="3848040"/>
            <a:ext cx="3419280" cy="28875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"/>
          <p:cNvPicPr/>
          <p:nvPr/>
        </p:nvPicPr>
        <p:blipFill>
          <a:blip r:embed="rId3"/>
          <a:stretch/>
        </p:blipFill>
        <p:spPr>
          <a:xfrm>
            <a:off x="3359160" y="3848040"/>
            <a:ext cx="5481720" cy="288756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29"/>
          <p:cNvSpPr/>
          <p:nvPr/>
        </p:nvSpPr>
        <p:spPr>
          <a:xfrm>
            <a:off x="347760" y="3848040"/>
            <a:ext cx="341928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263520" y="216000"/>
            <a:ext cx="4322880" cy="575136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3" descr=""/>
          <p:cNvPicPr/>
          <p:nvPr/>
        </p:nvPicPr>
        <p:blipFill>
          <a:blip r:embed="rId2"/>
          <a:stretch/>
        </p:blipFill>
        <p:spPr>
          <a:xfrm>
            <a:off x="4686480" y="838080"/>
            <a:ext cx="3547800" cy="2502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4876920" y="3821040"/>
            <a:ext cx="690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нимали её поэзию, не принимали. Умерла на Родине нечитаемая, почти неизвестная. Родина, которую она так любила, отвергла её, отверну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Рисунок 2" descr=""/>
          <p:cNvPicPr/>
          <p:nvPr/>
        </p:nvPicPr>
        <p:blipFill>
          <a:blip r:embed="rId3"/>
          <a:stretch/>
        </p:blipFill>
        <p:spPr>
          <a:xfrm>
            <a:off x="8018640" y="291960"/>
            <a:ext cx="3798720" cy="279900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6"/>
          <p:cNvSpPr/>
          <p:nvPr/>
        </p:nvSpPr>
        <p:spPr>
          <a:xfrm>
            <a:off x="11523600" y="6365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2" descr=""/>
          <p:cNvPicPr/>
          <p:nvPr/>
        </p:nvPicPr>
        <p:blipFill>
          <a:blip r:embed="rId1"/>
          <a:stretch/>
        </p:blipFill>
        <p:spPr>
          <a:xfrm>
            <a:off x="2014560" y="1239840"/>
            <a:ext cx="3417840" cy="4924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7047000" y="1201680"/>
            <a:ext cx="3639960" cy="500076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5"/>
          <p:cNvSpPr/>
          <p:nvPr/>
        </p:nvSpPr>
        <p:spPr>
          <a:xfrm>
            <a:off x="2254680" y="298440"/>
            <a:ext cx="82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трагичность судьбы Цветаев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6"/>
          <p:cNvSpPr/>
          <p:nvPr/>
        </p:nvSpPr>
        <p:spPr>
          <a:xfrm>
            <a:off x="11377800" y="6372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Номер слайда 1"/>
          <p:cNvSpPr/>
          <p:nvPr/>
        </p:nvSpPr>
        <p:spPr>
          <a:xfrm>
            <a:off x="10559880" y="6459480"/>
            <a:ext cx="150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1312920" y="1274760"/>
            <a:ext cx="924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блемного обучения способствует развитию познавательной, практической, творческой деятельности обучающихся. Создание проблемных ситуаций с удивлением влекут за собой эмоциональный отклик: ученики широко распахивают глаза, открывают рты и …в результате ставят перед собой ещё не изученную проблему и открывают новое 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ов надо заинтересовать, задеть за живое их чем-то интересным в содержании урока, и они на следующее занятие обязательно придут готовыми к разговору: перечитают много разной литературы, поработают с различными источниками информации. С ними можно будет вести диалог, которого так не хватает на уроке. Ведь каждому учителю хочется, чтобы проходило «учение с увлечением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3"/>
          <p:cNvSpPr/>
          <p:nvPr/>
        </p:nvSpPr>
        <p:spPr>
          <a:xfrm>
            <a:off x="1828800" y="504720"/>
            <a:ext cx="79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3"/>
          <p:cNvSpPr/>
          <p:nvPr/>
        </p:nvSpPr>
        <p:spPr>
          <a:xfrm>
            <a:off x="1506600" y="2413080"/>
            <a:ext cx="96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5"/>
          <p:cNvSpPr/>
          <p:nvPr/>
        </p:nvSpPr>
        <p:spPr>
          <a:xfrm>
            <a:off x="11544480" y="6369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8134200" y="488880"/>
            <a:ext cx="3694320" cy="504828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2" descr=""/>
          <p:cNvPicPr/>
          <p:nvPr/>
        </p:nvPicPr>
        <p:blipFill>
          <a:blip r:embed="rId2"/>
          <a:stretch/>
        </p:blipFill>
        <p:spPr>
          <a:xfrm>
            <a:off x="4546440" y="474840"/>
            <a:ext cx="3399120" cy="507672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3"/>
          <p:cNvSpPr/>
          <p:nvPr/>
        </p:nvSpPr>
        <p:spPr>
          <a:xfrm>
            <a:off x="185760" y="812880"/>
            <a:ext cx="436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на Леонидовна Мельников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 технологии проблемного обучения). Лауреат премии Правительства РФ в области образования, кандидат психологических наук, доцент кафедры начального и дошкольного. образования Академии ПКиППРО (г. Москв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11530800" y="638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1" descr=""/>
          <p:cNvPicPr/>
          <p:nvPr/>
        </p:nvPicPr>
        <p:blipFill>
          <a:blip r:embed="rId1"/>
          <a:stretch/>
        </p:blipFill>
        <p:spPr>
          <a:xfrm>
            <a:off x="2793960" y="1038240"/>
            <a:ext cx="6688080" cy="5143320"/>
          </a:xfrm>
          <a:prstGeom prst="rect">
            <a:avLst/>
          </a:prstGeom>
          <a:ln w="0">
            <a:noFill/>
          </a:ln>
        </p:spPr>
      </p:pic>
      <p:sp>
        <p:nvSpPr>
          <p:cNvPr id="313" name="TextBox 2"/>
          <p:cNvSpPr/>
          <p:nvPr/>
        </p:nvSpPr>
        <p:spPr>
          <a:xfrm>
            <a:off x="2243160" y="13644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создания проблемных ситу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5"/>
          <p:cNvSpPr/>
          <p:nvPr/>
        </p:nvSpPr>
        <p:spPr>
          <a:xfrm>
            <a:off x="11530800" y="635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3"/>
          <p:cNvSpPr/>
          <p:nvPr/>
        </p:nvSpPr>
        <p:spPr>
          <a:xfrm>
            <a:off x="3138120" y="47520"/>
            <a:ext cx="583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блемно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11570400" y="6383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C:\Users\Елена Кулябина\Pictures\Рис.jpg"/>
          <p:cNvPicPr/>
          <p:nvPr/>
        </p:nvPicPr>
        <p:blipFill>
          <a:blip r:embed="rId1"/>
          <a:stretch/>
        </p:blipFill>
        <p:spPr>
          <a:xfrm>
            <a:off x="1525680" y="1227240"/>
            <a:ext cx="839952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"/>
          <p:cNvPicPr/>
          <p:nvPr/>
        </p:nvPicPr>
        <p:blipFill>
          <a:blip r:embed="rId1"/>
          <a:stretch/>
        </p:blipFill>
        <p:spPr>
          <a:xfrm>
            <a:off x="1382760" y="944640"/>
            <a:ext cx="4089240" cy="542916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2" descr=""/>
          <p:cNvPicPr/>
          <p:nvPr/>
        </p:nvPicPr>
        <p:blipFill>
          <a:blip r:embed="rId2"/>
          <a:stretch/>
        </p:blipFill>
        <p:spPr>
          <a:xfrm>
            <a:off x="6550200" y="944640"/>
            <a:ext cx="4203360" cy="542916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3"/>
          <p:cNvSpPr/>
          <p:nvPr/>
        </p:nvSpPr>
        <p:spPr>
          <a:xfrm>
            <a:off x="920880" y="169920"/>
            <a:ext cx="106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 «Герой нашего времени», 1838-1840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5"/>
          <p:cNvSpPr/>
          <p:nvPr/>
        </p:nvSpPr>
        <p:spPr>
          <a:xfrm>
            <a:off x="11534040" y="6373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2"/>
          <p:cNvSpPr/>
          <p:nvPr/>
        </p:nvSpPr>
        <p:spPr>
          <a:xfrm>
            <a:off x="4194000" y="98280"/>
            <a:ext cx="321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о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Прямая со стрелкой 4"/>
          <p:cNvCxnSpPr/>
          <p:nvPr/>
        </p:nvCxnSpPr>
        <p:spPr>
          <a:xfrm flipH="1">
            <a:off x="2758680" y="868320"/>
            <a:ext cx="1572480" cy="737280"/>
          </a:xfrm>
          <a:prstGeom prst="straightConnector1">
            <a:avLst/>
          </a:prstGeom>
          <a:ln w="38160">
            <a:solidFill>
              <a:srgbClr val="9b2d1f"/>
            </a:solidFill>
            <a:miter/>
            <a:tailEnd len="med" type="triangle" w="med"/>
          </a:ln>
        </p:spPr>
      </p:cxnSp>
      <p:cxnSp>
        <p:nvCxnSpPr>
          <p:cNvPr id="324" name="Прямая со стрелкой 6"/>
          <p:cNvCxnSpPr/>
          <p:nvPr/>
        </p:nvCxnSpPr>
        <p:spPr>
          <a:xfrm>
            <a:off x="7547040" y="867960"/>
            <a:ext cx="1573920" cy="739080"/>
          </a:xfrm>
          <a:prstGeom prst="straightConnector1">
            <a:avLst/>
          </a:prstGeom>
          <a:ln w="38160">
            <a:solidFill>
              <a:srgbClr val="9b2d1f"/>
            </a:solidFill>
            <a:miter/>
            <a:tailEnd len="med" type="triangle" w="med"/>
          </a:ln>
        </p:spPr>
      </p:cxnSp>
      <p:sp>
        <p:nvSpPr>
          <p:cNvPr id="325" name="TextBox 9"/>
          <p:cNvSpPr/>
          <p:nvPr/>
        </p:nvSpPr>
        <p:spPr>
          <a:xfrm>
            <a:off x="1515600" y="1582560"/>
            <a:ext cx="14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0"/>
          <p:cNvSpPr/>
          <p:nvPr/>
        </p:nvSpPr>
        <p:spPr>
          <a:xfrm>
            <a:off x="8547120" y="1604880"/>
            <a:ext cx="18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11" descr=""/>
          <p:cNvPicPr/>
          <p:nvPr/>
        </p:nvPicPr>
        <p:blipFill>
          <a:blip r:embed="rId1"/>
          <a:stretch/>
        </p:blipFill>
        <p:spPr>
          <a:xfrm>
            <a:off x="5321160" y="1058760"/>
            <a:ext cx="1239840" cy="210816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12" descr=""/>
          <p:cNvPicPr/>
          <p:nvPr/>
        </p:nvPicPr>
        <p:blipFill>
          <a:blip r:embed="rId2"/>
          <a:stretch/>
        </p:blipFill>
        <p:spPr>
          <a:xfrm>
            <a:off x="614520" y="2373480"/>
            <a:ext cx="3085920" cy="384012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13" descr=""/>
          <p:cNvPicPr/>
          <p:nvPr/>
        </p:nvPicPr>
        <p:blipFill>
          <a:blip r:embed="rId3"/>
          <a:stretch/>
        </p:blipFill>
        <p:spPr>
          <a:xfrm>
            <a:off x="4511520" y="2346480"/>
            <a:ext cx="3021120" cy="389412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14" descr=""/>
          <p:cNvPicPr/>
          <p:nvPr/>
        </p:nvPicPr>
        <p:blipFill>
          <a:blip r:embed="rId4"/>
          <a:stretch/>
        </p:blipFill>
        <p:spPr>
          <a:xfrm>
            <a:off x="8345520" y="2416320"/>
            <a:ext cx="2760480" cy="385416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16"/>
          <p:cNvSpPr/>
          <p:nvPr/>
        </p:nvSpPr>
        <p:spPr>
          <a:xfrm>
            <a:off x="11530800" y="6380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Box 1" descr=""/>
          <p:cNvPicPr/>
          <p:nvPr/>
        </p:nvPicPr>
        <p:blipFill>
          <a:blip r:embed="rId1"/>
          <a:stretch/>
        </p:blipFill>
        <p:spPr>
          <a:xfrm>
            <a:off x="3249720" y="274680"/>
            <a:ext cx="5479920" cy="2176560"/>
          </a:xfrm>
          <a:prstGeom prst="rect">
            <a:avLst/>
          </a:prstGeom>
          <a:ln w="0">
            <a:noFill/>
          </a:ln>
        </p:spPr>
      </p:pic>
      <p:pic>
        <p:nvPicPr>
          <p:cNvPr id="333" name="TextBox 2" descr=""/>
          <p:cNvPicPr/>
          <p:nvPr/>
        </p:nvPicPr>
        <p:blipFill>
          <a:blip r:embed="rId2"/>
          <a:stretch/>
        </p:blipFill>
        <p:spPr>
          <a:xfrm>
            <a:off x="2944800" y="3608280"/>
            <a:ext cx="6296040" cy="2427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5"/>
          <p:cNvSpPr/>
          <p:nvPr/>
        </p:nvSpPr>
        <p:spPr>
          <a:xfrm>
            <a:off x="11475360" y="634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C:\Users\Елена Кулябина\Pictures\Рисунок3.png"/>
          <p:cNvPicPr/>
          <p:nvPr/>
        </p:nvPicPr>
        <p:blipFill>
          <a:blip r:embed="rId3"/>
          <a:srcRect l="0" t="0" r="5445" b="46015"/>
          <a:stretch/>
        </p:blipFill>
        <p:spPr>
          <a:xfrm>
            <a:off x="4705200" y="1911240"/>
            <a:ext cx="24386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1"/>
          <p:cNvSpPr/>
          <p:nvPr/>
        </p:nvSpPr>
        <p:spPr>
          <a:xfrm>
            <a:off x="5175360" y="1846440"/>
            <a:ext cx="609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го судьбе сплелось столько невероятного и трагического, что, пожалуй, хватило бы не на одн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2" descr=""/>
          <p:cNvPicPr/>
          <p:nvPr/>
        </p:nvPicPr>
        <p:blipFill>
          <a:blip r:embed="rId1"/>
          <a:stretch/>
        </p:blipFill>
        <p:spPr>
          <a:xfrm>
            <a:off x="689040" y="1209600"/>
            <a:ext cx="3660840" cy="465300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4"/>
          <p:cNvSpPr/>
          <p:nvPr/>
        </p:nvSpPr>
        <p:spPr>
          <a:xfrm>
            <a:off x="11535480" y="635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"/>
          <p:cNvSpPr/>
          <p:nvPr/>
        </p:nvSpPr>
        <p:spPr>
          <a:xfrm>
            <a:off x="4861800" y="109440"/>
            <a:ext cx="22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А.Ф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2"/>
          <p:cNvSpPr/>
          <p:nvPr/>
        </p:nvSpPr>
        <p:spPr>
          <a:xfrm>
            <a:off x="5205240" y="752400"/>
            <a:ext cx="6662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 последний сборник 70-летний поэт выпустил в 600 экземплярах – тираж для известного поэта крайне мизерный. Но это было лишь одно звено в цепи многочисленных неудач и невзгод, преследовавших его с первых лет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ладывалась жизнь А. Ф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за борьба, которая длилась в течение 40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3" descr=""/>
          <p:cNvPicPr/>
          <p:nvPr/>
        </p:nvPicPr>
        <p:blipFill>
          <a:blip r:embed="rId1"/>
          <a:stretch/>
        </p:blipFill>
        <p:spPr>
          <a:xfrm>
            <a:off x="792000" y="561960"/>
            <a:ext cx="4132440" cy="52117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5"/>
          <p:cNvSpPr/>
          <p:nvPr/>
        </p:nvSpPr>
        <p:spPr>
          <a:xfrm>
            <a:off x="11570400" y="634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0T15:41:05Z</dcterms:created>
  <dc:creator>RePack by Diakov</dc:creator>
  <dc:description/>
  <dc:language>en-US</dc:language>
  <cp:lastModifiedBy>Елена Кулябина</cp:lastModifiedBy>
  <dcterms:modified xsi:type="dcterms:W3CDTF">2020-11-15T14:46:42Z</dcterms:modified>
  <cp:revision>28</cp:revision>
  <dc:subject/>
  <dc:title>Создание проблемной ситуации на уроках литературы в старших классах</dc:title>
</cp:coreProperties>
</file>