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2DF-52EB-4B48-9923-0838A6B8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EC7-60EA-4C5E-B8C9-16FA1DEB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934-B72B-4B78-AE7D-B8C98362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4A9-5831-48EA-AEE8-D4072E90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9A14-CDEE-4F05-9C71-DDC24A8C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85BD-2E1A-43F7-B254-56BDEFFC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2327-933F-4BFA-A93E-7A4C85C0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88AB-B1F3-4FB6-A770-254E3B67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C8D8-D337-4C03-8242-A82C5A6A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D42F-DB49-4238-8624-215D08B4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BEEE-3469-402A-A2D9-C315DF83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BE4-BA49-47B6-8CF1-4A936BBA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C9A0-8412-4FCF-8298-06BC9D34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E2F7-4EDD-4C85-AB95-1C8BFEBC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7040-AE38-4329-8467-F84A62C0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1039-88B6-4541-85C0-109732D3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94D9-4375-4F78-9B67-DFAC35A0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0589C-CB62-4D37-A769-49A9A82F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3E135-6E73-4A17-8B72-84E2742A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E3781-0C52-4D9F-9E65-262482A3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E37F4-17A2-4620-90BB-C14339A7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88803-E08A-4220-A3A5-26383F49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4F1-284D-4A37-83D1-09A94756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16FBA-4FAF-42B3-B816-C49E474E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47B1F-99ED-43C5-A2BB-3FE84CA2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2B3A3-65A6-498A-8C67-DB8F3F35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804F6-7C6E-44FC-A6F9-DB90B9B7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E42BA-12B0-452E-A9B1-A29AE48D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DA45A-7DE8-4076-B15C-82EFEEDA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66C7-6C85-4A66-AD58-C6A9E527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58D9D-E0E3-4183-8D3D-5BA4AC12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BAF6E-6235-445F-B3DA-8AF0859E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18A29-05EB-4810-B03D-7852AE14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C34-0E17-4AD8-94D2-1B455AAC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CB55F-A55F-4499-AB2E-C2976ECD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E3D37-2F82-4BC5-87A0-FBD72E89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B0C0A-F421-45E0-A48E-3BACA930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9AD3A-4AF4-4BC6-B2EA-F7D2BA64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959BF-61B4-477D-8C0A-4A21DF74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C30EE-992A-480A-9E67-EFD7C598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C3BD2-8334-4F96-8751-7EA291C1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D797-2A93-4966-BA0B-7F492601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0853-3145-4988-8754-0ECAA4DA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E39B-F72D-4411-B082-EF46841F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6D02-4FB6-4F23-BE4A-EC6EBAAB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6D4-EEE9-4B1A-861B-911AFA54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94C-5EFA-467C-8FFA-FD46DEC1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5537-5E8B-40F9-ABA1-68D932FB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61C0-71DC-463E-B331-E118874E568B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15AB-ACB6-426C-B549-26EECF8616C0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8816-3230-461C-B6B4-F9157646F036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7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4062-996E-45D5-9EBE-F38146E1FDF7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image" Target="../media/image1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000080" y="1087560"/>
            <a:ext cx="68580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МУНИЦИПАЛЬНОЕ  БЮДЖЕТНОЕ ДОШКО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БРАЗОВАТЕЛЬНОЕ УЧРЕЖДЕНИЕ  ДЕТСКИЙ САД №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ДЮЙМОВО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  КОМБИНИРОВАННОГО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ПРЕЗЕНТАЦИЯ: ЧЕЙ ЛИСТ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Владикавказ 2017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солн.png"/>
          <p:cNvPicPr/>
          <p:nvPr/>
        </p:nvPicPr>
        <p:blipFill>
          <a:blip r:embed="rId1"/>
          <a:stretch/>
        </p:blipFill>
        <p:spPr>
          <a:xfrm>
            <a:off x="2124000" y="836640"/>
            <a:ext cx="4351320" cy="45720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2"/>
          <p:cNvSpPr txBox="1"/>
          <p:nvPr/>
        </p:nvSpPr>
        <p:spPr>
          <a:xfrm>
            <a:off x="1835280" y="4869000"/>
            <a:ext cx="51847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олодцы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1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береза.jpg"/>
          <p:cNvPicPr/>
          <p:nvPr/>
        </p:nvPicPr>
        <p:blipFill>
          <a:blip r:embed="rId1"/>
          <a:stretch/>
        </p:blipFill>
        <p:spPr>
          <a:xfrm>
            <a:off x="250920" y="1049400"/>
            <a:ext cx="3673440" cy="55213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" descr="лист бер.jpg"/>
          <p:cNvPicPr/>
          <p:nvPr/>
        </p:nvPicPr>
        <p:blipFill>
          <a:blip r:embed="rId2"/>
          <a:stretch/>
        </p:blipFill>
        <p:spPr>
          <a:xfrm>
            <a:off x="3995640" y="2637000"/>
            <a:ext cx="2239920" cy="36637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3" descr="лист березо.jpg"/>
          <p:cNvPicPr/>
          <p:nvPr/>
        </p:nvPicPr>
        <p:blipFill>
          <a:blip r:embed="rId3"/>
          <a:stretch/>
        </p:blipFill>
        <p:spPr>
          <a:xfrm>
            <a:off x="6095880" y="2852640"/>
            <a:ext cx="2703600" cy="338796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1195920" y="33336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5302080" y="476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дуб.jpg"/>
          <p:cNvPicPr/>
          <p:nvPr/>
        </p:nvPicPr>
        <p:blipFill>
          <a:blip r:embed="rId1"/>
          <a:stretch/>
        </p:blipFill>
        <p:spPr>
          <a:xfrm>
            <a:off x="250920" y="2276640"/>
            <a:ext cx="5646600" cy="35287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" descr="дуба лист.jpg"/>
          <p:cNvPicPr/>
          <p:nvPr/>
        </p:nvPicPr>
        <p:blipFill>
          <a:blip r:embed="rId2"/>
          <a:stretch/>
        </p:blipFill>
        <p:spPr>
          <a:xfrm>
            <a:off x="6084720" y="4365720"/>
            <a:ext cx="2664000" cy="19969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3" descr="дубов.jpg"/>
          <p:cNvPicPr/>
          <p:nvPr/>
        </p:nvPicPr>
        <p:blipFill>
          <a:blip r:embed="rId3"/>
          <a:stretch/>
        </p:blipFill>
        <p:spPr>
          <a:xfrm>
            <a:off x="5975280" y="1773360"/>
            <a:ext cx="3168720" cy="2106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486160" y="83664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7020000" y="1052640"/>
            <a:ext cx="112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6372360" y="98100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1" descr="клен.jpg"/>
          <p:cNvPicPr/>
          <p:nvPr/>
        </p:nvPicPr>
        <p:blipFill>
          <a:blip r:embed="rId1"/>
          <a:stretch/>
        </p:blipFill>
        <p:spPr>
          <a:xfrm>
            <a:off x="395280" y="1461960"/>
            <a:ext cx="3672000" cy="48960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2" descr="лист кл.jpg"/>
          <p:cNvPicPr/>
          <p:nvPr/>
        </p:nvPicPr>
        <p:blipFill>
          <a:blip r:embed="rId2"/>
          <a:stretch/>
        </p:blipFill>
        <p:spPr>
          <a:xfrm>
            <a:off x="4284720" y="1341360"/>
            <a:ext cx="2663640" cy="19954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3" descr="ж кл лист.jpg"/>
          <p:cNvPicPr/>
          <p:nvPr/>
        </p:nvPicPr>
        <p:blipFill>
          <a:blip r:embed="rId3"/>
          <a:stretch/>
        </p:blipFill>
        <p:spPr>
          <a:xfrm>
            <a:off x="6588000" y="2637000"/>
            <a:ext cx="2298960" cy="23875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лист кленаа.jpg"/>
          <p:cNvPicPr/>
          <p:nvPr/>
        </p:nvPicPr>
        <p:blipFill>
          <a:blip r:embed="rId4"/>
          <a:stretch/>
        </p:blipFill>
        <p:spPr>
          <a:xfrm>
            <a:off x="4572000" y="3789360"/>
            <a:ext cx="2160720" cy="26575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1554120" y="549360"/>
            <a:ext cx="11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736240" y="47628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1" descr="рябина.jpg"/>
          <p:cNvPicPr/>
          <p:nvPr/>
        </p:nvPicPr>
        <p:blipFill>
          <a:blip r:embed="rId1"/>
          <a:stretch/>
        </p:blipFill>
        <p:spPr>
          <a:xfrm>
            <a:off x="325440" y="1773360"/>
            <a:ext cx="5048280" cy="43923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2" descr="рябинов.jpg"/>
          <p:cNvPicPr/>
          <p:nvPr/>
        </p:nvPicPr>
        <p:blipFill>
          <a:blip r:embed="rId2"/>
          <a:stretch/>
        </p:blipFill>
        <p:spPr>
          <a:xfrm>
            <a:off x="5580000" y="1197000"/>
            <a:ext cx="3564000" cy="23763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" descr="рябиновый л.jpg"/>
          <p:cNvPicPr/>
          <p:nvPr/>
        </p:nvPicPr>
        <p:blipFill>
          <a:blip r:embed="rId3"/>
          <a:stretch/>
        </p:blipFill>
        <p:spPr>
          <a:xfrm>
            <a:off x="5435640" y="3789360"/>
            <a:ext cx="3708360" cy="2448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1978560" y="333360"/>
            <a:ext cx="14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б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5880600" y="33336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береза.jpg"/>
          <p:cNvPicPr/>
          <p:nvPr/>
        </p:nvPicPr>
        <p:blipFill>
          <a:blip r:embed="rId1"/>
          <a:stretch/>
        </p:blipFill>
        <p:spPr>
          <a:xfrm>
            <a:off x="3132000" y="981000"/>
            <a:ext cx="3240360" cy="487044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" descr="дуба лист.jpg"/>
          <p:cNvPicPr/>
          <p:nvPr/>
        </p:nvPicPr>
        <p:blipFill>
          <a:blip r:embed="rId2"/>
          <a:stretch/>
        </p:blipFill>
        <p:spPr>
          <a:xfrm>
            <a:off x="0" y="836640"/>
            <a:ext cx="2622600" cy="19670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3" descr="ж кл лист.jpg"/>
          <p:cNvPicPr/>
          <p:nvPr/>
        </p:nvPicPr>
        <p:blipFill>
          <a:blip r:embed="rId3"/>
          <a:stretch/>
        </p:blipFill>
        <p:spPr>
          <a:xfrm>
            <a:off x="6370560" y="3357720"/>
            <a:ext cx="2773440" cy="28796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лист бер.jpg"/>
          <p:cNvPicPr/>
          <p:nvPr/>
        </p:nvPicPr>
        <p:blipFill>
          <a:blip r:embed="rId4"/>
          <a:stretch/>
        </p:blipFill>
        <p:spPr>
          <a:xfrm>
            <a:off x="0" y="3933720"/>
            <a:ext cx="3135240" cy="19162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5" descr="рябиновый л.jpg"/>
          <p:cNvPicPr/>
          <p:nvPr/>
        </p:nvPicPr>
        <p:blipFill>
          <a:blip r:embed="rId5"/>
          <a:stretch/>
        </p:blipFill>
        <p:spPr>
          <a:xfrm>
            <a:off x="6416640" y="1052640"/>
            <a:ext cx="2727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1" descr="дуб.jpg"/>
          <p:cNvPicPr/>
          <p:nvPr/>
        </p:nvPicPr>
        <p:blipFill>
          <a:blip r:embed="rId1"/>
          <a:stretch/>
        </p:blipFill>
        <p:spPr>
          <a:xfrm>
            <a:off x="1979640" y="333360"/>
            <a:ext cx="5184720" cy="32400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2" descr="дуба лист.jpg"/>
          <p:cNvPicPr/>
          <p:nvPr/>
        </p:nvPicPr>
        <p:blipFill>
          <a:blip r:embed="rId2"/>
          <a:stretch/>
        </p:blipFill>
        <p:spPr>
          <a:xfrm>
            <a:off x="1979640" y="4941720"/>
            <a:ext cx="2173320" cy="162900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3" descr="лист бер.jpg"/>
          <p:cNvPicPr/>
          <p:nvPr/>
        </p:nvPicPr>
        <p:blipFill>
          <a:blip r:embed="rId3"/>
          <a:stretch/>
        </p:blipFill>
        <p:spPr>
          <a:xfrm>
            <a:off x="0" y="3573360"/>
            <a:ext cx="2448000" cy="14954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4" descr="ж кл лист.jpg"/>
          <p:cNvPicPr/>
          <p:nvPr/>
        </p:nvPicPr>
        <p:blipFill>
          <a:blip r:embed="rId4"/>
          <a:stretch/>
        </p:blipFill>
        <p:spPr>
          <a:xfrm>
            <a:off x="3851280" y="3789360"/>
            <a:ext cx="2219400" cy="230364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5" descr="рябинов.jpg"/>
          <p:cNvPicPr/>
          <p:nvPr/>
        </p:nvPicPr>
        <p:blipFill>
          <a:blip r:embed="rId5"/>
          <a:stretch/>
        </p:blipFill>
        <p:spPr>
          <a:xfrm>
            <a:off x="6588000" y="4292640"/>
            <a:ext cx="2556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рябиновый л.jpg"/>
          <p:cNvPicPr/>
          <p:nvPr/>
        </p:nvPicPr>
        <p:blipFill>
          <a:blip r:embed="rId1"/>
          <a:stretch/>
        </p:blipFill>
        <p:spPr>
          <a:xfrm>
            <a:off x="2916360" y="981000"/>
            <a:ext cx="3108240" cy="47084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" descr="береза.jpg"/>
          <p:cNvPicPr/>
          <p:nvPr/>
        </p:nvPicPr>
        <p:blipFill>
          <a:blip r:embed="rId2"/>
          <a:stretch/>
        </p:blipFill>
        <p:spPr>
          <a:xfrm>
            <a:off x="250920" y="260280"/>
            <a:ext cx="2376360" cy="357192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3" descr="клен.jpg"/>
          <p:cNvPicPr/>
          <p:nvPr/>
        </p:nvPicPr>
        <p:blipFill>
          <a:blip r:embed="rId3"/>
          <a:stretch/>
        </p:blipFill>
        <p:spPr>
          <a:xfrm>
            <a:off x="6246720" y="333360"/>
            <a:ext cx="2538360" cy="33829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4" descr="рябина.jpg"/>
          <p:cNvPicPr/>
          <p:nvPr/>
        </p:nvPicPr>
        <p:blipFill>
          <a:blip r:embed="rId4"/>
          <a:stretch/>
        </p:blipFill>
        <p:spPr>
          <a:xfrm>
            <a:off x="324000" y="4292640"/>
            <a:ext cx="2589120" cy="22525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дуб.jpg"/>
          <p:cNvPicPr/>
          <p:nvPr/>
        </p:nvPicPr>
        <p:blipFill>
          <a:blip r:embed="rId5"/>
          <a:stretch/>
        </p:blipFill>
        <p:spPr>
          <a:xfrm>
            <a:off x="5940360" y="4221000"/>
            <a:ext cx="29545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1" descr="ж кл лист.jpg"/>
          <p:cNvPicPr/>
          <p:nvPr/>
        </p:nvPicPr>
        <p:blipFill>
          <a:blip r:embed="rId1"/>
          <a:stretch/>
        </p:blipFill>
        <p:spPr>
          <a:xfrm>
            <a:off x="2484360" y="1125360"/>
            <a:ext cx="3654360" cy="379764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2" descr="береза.jpg"/>
          <p:cNvPicPr/>
          <p:nvPr/>
        </p:nvPicPr>
        <p:blipFill>
          <a:blip r:embed="rId2"/>
          <a:stretch/>
        </p:blipFill>
        <p:spPr>
          <a:xfrm>
            <a:off x="395280" y="333360"/>
            <a:ext cx="2232000" cy="35272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3" descr="клен.jpg"/>
          <p:cNvPicPr/>
          <p:nvPr/>
        </p:nvPicPr>
        <p:blipFill>
          <a:blip r:embed="rId3"/>
          <a:stretch/>
        </p:blipFill>
        <p:spPr>
          <a:xfrm>
            <a:off x="6265800" y="404640"/>
            <a:ext cx="2536920" cy="33847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4" descr="дуб.jpg"/>
          <p:cNvPicPr/>
          <p:nvPr/>
        </p:nvPicPr>
        <p:blipFill>
          <a:blip r:embed="rId4"/>
          <a:stretch/>
        </p:blipFill>
        <p:spPr>
          <a:xfrm>
            <a:off x="324000" y="4149720"/>
            <a:ext cx="3263760" cy="225576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5" descr="рябина.jpg"/>
          <p:cNvPicPr/>
          <p:nvPr/>
        </p:nvPicPr>
        <p:blipFill>
          <a:blip r:embed="rId5"/>
          <a:stretch/>
        </p:blipFill>
        <p:spPr>
          <a:xfrm>
            <a:off x="6084720" y="4076640"/>
            <a:ext cx="27036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8:16:41Z</dcterms:created>
  <dc:creator>Дом</dc:creator>
  <dc:description/>
  <dc:language>en-US</dc:language>
  <cp:lastModifiedBy>Win7</cp:lastModifiedBy>
  <dcterms:modified xsi:type="dcterms:W3CDTF">2020-11-16T13:13:50Z</dcterms:modified>
  <cp:revision>9</cp:revision>
  <dc:subject/>
  <dc:title>Слайд 1</dc:title>
</cp:coreProperties>
</file>