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drumroll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  <p:custShowLst>
    <p:custShow name="Произвольный показ 1" id="0">
      <p:sldLst>
        <p:sld r:id="rId4"/>
        <p:sld r:id="rId6"/>
        <p:sld r:id="rId7"/>
        <p:sld r:id="rId8"/>
        <p:sld r:id="rId10"/>
        <p:sld r:id="rId11"/>
        <p:sld r:id="rId12"/>
        <p:sld r:id="rId14"/>
        <p:sld r:id="rId15"/>
      </p:sldLst>
    </p:custShow>
    <p:custShow name="Произвольный показ 2" id="1">
      <p:sldLst>
        <p:sld r:id="rId4"/>
        <p:sld r:id="rId6"/>
        <p:sld r:id="rId7"/>
        <p:sld r:id="rId8"/>
        <p:sld r:id="rId10"/>
        <p:sld r:id="rId11"/>
        <p:sld r:id="rId12"/>
        <p:sld r:id="rId14"/>
        <p:sld r:id="rId15"/>
      </p:sldLst>
    </p:custShow>
    <p:custShow name="Произвольный показ 3" id="2">
      <p:sldLst>
        <p:sld r:id="rId4"/>
        <p:sld r:id="rId6"/>
        <p:sld r:id="rId7"/>
        <p:sld r:id="rId8"/>
        <p:sld r:id="rId10"/>
        <p:sld r:id="rId11"/>
        <p:sld r:id="rId12"/>
        <p:sld r:id="rId14"/>
        <p:sld r:id="rId15"/>
      </p:sldLst>
    </p:custShow>
    <p:custShow name="Произвольный показ 5" id="3">
      <p:sldLst>
        <p:sld r:id="rId4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8088-AD27-4747-B0C5-E989FF4A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73877-531C-49EC-A910-26EE5743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875E-374C-4AEE-8B48-1A63BEBF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50C0-8479-4D2B-8993-899ED342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8B12-FECE-457D-8550-F083617D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7597-B19A-42E0-B55B-7E8C7DA8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BACC-6BBF-4E2D-89AB-A110B125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6B98-71CA-4EF7-BBB4-71D346A8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475C-D1CA-4858-A8BA-8B4B257A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8947-C4E2-49FD-A7C6-E27308F3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65E8-1CA8-49DB-A02D-061EFD40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E22DC-0B0D-47FD-8DE3-E27710C0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A9EA-96A1-4FE9-B3D9-C311EF49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2132-E430-4085-8F90-9C6BC803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1DA0-5C3F-4706-912C-9AAE85E5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783B-8733-469C-9658-CE5B9B95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7634-EFBF-4FDF-925E-1BD9EACE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D19C-227D-43E0-BDCD-E6F2C6B8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D00CB-3D6A-452A-B075-3871286C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1BD4-6F3D-4860-AE89-770DB9EC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45E7-5CA8-4265-8F7B-2295DEEB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1581-37E9-4705-A39D-F74023D6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09EE-761B-43C2-AFB4-4910F3B2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682C-431D-4D08-8FD7-F00F1D2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02EA-E9C3-4066-B571-35F81559B7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5AED-1542-4AC3-B9C1-2AE2F9858C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ДИСГРАФИЯ                          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43160" y="4286160"/>
            <a:ext cx="5848560" cy="17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-СОШ №17 г..Армав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ва Велла Дмитр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61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являю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искажении морфологической структуры слова, замене префиксов, суффиксов (захлестнула - "нахлестнула", козлята - "козлёнки");                                                                                             изменении падежных окончаний ("много деревов")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рушении предложных конструкций ( над столом -"на столом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зменении падежа местоимений ( около него -"около ним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числа существительных ("дети бежит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рушении согласования ( "бела дом"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трудности в конструировании сложных предложений,            пропуски членов предложения, нарушение последовательности слов в предложен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тическая дисграф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развитие    зрительного    гнозиса, анализа   и  синтеза, пространственных предста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является в заменах и искажениях графического образа букв на пись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 flipH="1">
            <a:off x="7596360" y="6784920"/>
            <a:ext cx="720720" cy="7308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ибки бывают двух вид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ны графически сходных букв – состоящих из одинаковых элементов,но различно, расположенных в пространстве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–д, т –ш, б-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ли букв, отличающихся одним элементом: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– ш. п – т, л – м, о –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ажение графического образа букв: зеркальное написание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,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уски элементов буквы, написание лишних элементов, неправильное расположение эле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8472600" cy="61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Arial"/>
              </a:rPr>
              <a:t>Симптоматика  дисграфии проявляется в стойких и повторяющихся ошибках в процессе письма, которые можно сгруппировать следующим образом:</a:t>
            </a:r>
            <a:br>
              <a:rPr sz="2800"/>
            </a:b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искажения и замены букв;</a:t>
            </a:r>
            <a:br>
              <a:rPr sz="2800"/>
            </a:b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искажения звуковой структуры слова;</a:t>
            </a:r>
            <a:br>
              <a:rPr sz="2800"/>
            </a:b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нарушения слитности написания отдельных слов и предложений;</a:t>
            </a:r>
            <a:br>
              <a:rPr sz="2800"/>
            </a:br>
            <a:r>
              <a:rPr b="1" i="1" lang="ru-RU" sz="2800" spc="-1" strike="noStrike">
                <a:solidFill>
                  <a:srgbClr val="00005e"/>
                </a:solidFill>
                <a:latin typeface="Arial"/>
              </a:rPr>
              <a:t>аграмматизмы в пись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329680" cy="59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графия (как и дислексия) у детей с нормальным интеллектом может вызвать различные отклонения в формировании личности, определённые психические насло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целенаправленном коррекционно-логопедическом воздействии постепенно симптоматика дисграфии сглажив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42976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Известные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Garamond"/>
              </a:rPr>
              <a:t>дисграфики и дислексики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ьфганг Амадей Моца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одержимое 3" descr="http://www.perevozki24.ru/images/Mozart-6.jpg"/>
          <p:cNvPicPr/>
          <p:nvPr/>
        </p:nvPicPr>
        <p:blipFill>
          <a:blip r:embed="rId1"/>
          <a:stretch/>
        </p:blipFill>
        <p:spPr>
          <a:xfrm>
            <a:off x="2928960" y="2286000"/>
            <a:ext cx="3705120" cy="29336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рльз Дар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928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http://lib.rus.ec/i/98/75698/any2fbimgloader4.jpeg"/>
          <p:cNvPicPr/>
          <p:nvPr/>
        </p:nvPicPr>
        <p:blipFill>
          <a:blip r:embed="rId1"/>
          <a:stretch/>
        </p:blipFill>
        <p:spPr>
          <a:xfrm>
            <a:off x="3214800" y="2214720"/>
            <a:ext cx="281304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онардо де Вин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928960" y="1928880"/>
            <a:ext cx="3085920" cy="43196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928960" y="1785960"/>
            <a:ext cx="301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дисграфия -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28960" y="421488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чное специфическое нарушение процессов  письма,  проявляющееся   в стойких   повторяющихся   ошибках, обусловленных несформированностью высших психических 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анс Христиан Андерс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2786040" y="2143080"/>
            <a:ext cx="3046320" cy="378000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жон Кенн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643120" y="1928880"/>
            <a:ext cx="3699000" cy="39592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олт Дис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000240" y="1785960"/>
            <a:ext cx="3173400" cy="414000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гата Кри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952800" y="3362400"/>
            <a:ext cx="1238400" cy="1123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2143080" y="1714680"/>
            <a:ext cx="4759200" cy="43192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applau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инстон Черч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571840" y="1785960"/>
            <a:ext cx="3906720" cy="37796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ьфред Эйншт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000160" y="1643040"/>
            <a:ext cx="5140440" cy="431964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м Кру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071880" y="1857240"/>
            <a:ext cx="3311280" cy="39592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applaus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КФЕЛ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143160" y="1785960"/>
            <a:ext cx="276876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дисграф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тикуляционно-акуст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уст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ушения языкового анализа и синте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ческ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ммат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тикуляционно-акустическа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осноязычие в письм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является в смешениях, заменах, пропусках букв, соответствующих заменам и пропускам в устной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устическа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ая речь сохран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исьме: замены букв, соответствующих фонетически близким звукам. Свистящие-шипящие, звонкие -глухие, аффрикаты и компоненты. входящие в их состав (ч-ть, ч-щ, ц-с,ц-т, с-ш, з-ж, б-п, д-т, г-к, в-ф, р-л),а также гласные о-у, е-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ины: неточность слуховой дифференциации звуков, нарушение фонематического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00960" cy="60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являетс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в заменах букв, обозначающих фонетически близкие звук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в нарушении обозначения мягкости согласных на письме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письменных работах преобладают следующие замен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шиваются буквы, обозначающи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свистящие и шипящие с-ш.з-ж.ч-щ,,ц-ч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звонкие и глухие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аффрикаты и  компоненты, входящие в их         состав: ч-ть, ц-т, ц-с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гласные: о-у, е-и, и-у, о-а, а-я, у-ю, ы-и,о-ё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329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сграфия на почве нарушения языкового анализа и синтез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3071520"/>
            <a:ext cx="822960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различных форм языкового анализа и синтеза - деление предложений на слова, слогового и фонематического анализа и синт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распространены следующие ошиб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и согласных при их стечении ( дожи- дожди, деки – деньки, состаляют – составляют, диктат-диктан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и гласных ( девчки – девочки, пошл – пошли, тчка – тачка, раскачивет – раскачивае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новки букв ( пакельки – капельки, кулка – кук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ие букв ( весная – весн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и, добавления, перестановки букв,слогов ( весипед – велосипед, сакамейка-скамейка,коно-окно,кота-комнат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тное написание слов, особенно предлогов; в раздельном написании слов, особенно приставок и корня ( Летам пареке      и  дут парходи. Вдоме убашки кот васка и сабака пушок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грамматическая дисграф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развитие грамматического строя речи: морфологических и синтаксических обоб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исьме отмечаются на уровне слова, словосочетания, предложения 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ДОМА (ЗА ДОМОМ) САРА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ЁПЛЫЯ СТРАН ЛЕТЯТ ГРАЧИ (Из тёплых стран летят грачи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СЯ И КОЛЯ ПИШЛИ РОЩУ ( Вася и Коля пришли в рощ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ЖАРКИ ДЕНЬ (Был жаркий ден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35:09Z</dcterms:created>
  <dc:creator>АНДРЕЙ</dc:creator>
  <dc:description/>
  <dc:language>en-US</dc:language>
  <cp:lastModifiedBy>12345</cp:lastModifiedBy>
  <dcterms:modified xsi:type="dcterms:W3CDTF">2020-11-16T19:49:15Z</dcterms:modified>
  <cp:revision>45</cp:revision>
  <dc:subject/>
  <dc:title>      Дисграфия-недуг                                               излечимый.но    противный! </dc:title>
</cp:coreProperties>
</file>