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drumroll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  <p:custShowLst>
    <p:custShow name="Произвольный показ 1" id="0">
      <p:sldLst>
        <p:sld r:id="rId4"/>
        <p:sld r:id="rId6"/>
        <p:sld r:id="rId7"/>
        <p:sld r:id="rId8"/>
        <p:sld r:id="rId10"/>
        <p:sld r:id="rId11"/>
        <p:sld r:id="rId12"/>
        <p:sld r:id="rId14"/>
        <p:sld r:id="rId15"/>
      </p:sldLst>
    </p:custShow>
    <p:custShow name="Произвольный показ 2" id="1">
      <p:sldLst>
        <p:sld r:id="rId4"/>
        <p:sld r:id="rId6"/>
        <p:sld r:id="rId7"/>
        <p:sld r:id="rId8"/>
        <p:sld r:id="rId10"/>
        <p:sld r:id="rId11"/>
        <p:sld r:id="rId12"/>
        <p:sld r:id="rId14"/>
        <p:sld r:id="rId15"/>
      </p:sldLst>
    </p:custShow>
    <p:custShow name="Произвольный показ 3" id="2">
      <p:sldLst>
        <p:sld r:id="rId4"/>
        <p:sld r:id="rId6"/>
        <p:sld r:id="rId7"/>
        <p:sld r:id="rId8"/>
        <p:sld r:id="rId10"/>
        <p:sld r:id="rId11"/>
        <p:sld r:id="rId12"/>
        <p:sld r:id="rId14"/>
        <p:sld r:id="rId15"/>
      </p:sldLst>
    </p:custShow>
    <p:custShow name="Произвольный показ 5" id="3">
      <p:sldLst>
        <p:sld r:id="rId4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B1AF-FB72-41C8-A4F5-4C3FD81E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9991-2F78-449A-92ED-52FFDD98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C6C16-48DB-4B64-BE61-52FF3BA2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95B3-6683-431F-B6FC-A5DECF57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2C48-71AB-4713-B22F-85B5FC64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B85-BC60-4DEE-9930-91FED8B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E87-4208-46F9-BF6D-C4E7CB7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B599-1D7F-4CD3-9780-1F6CBDE0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EEB8-155D-4DE5-A9EF-749A3AFF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591C-C2EB-4FBC-914F-70FC381F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3601-2EBA-47C9-95E5-D60BE0D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32A5-0B9C-40D9-B5F9-8CF59A3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A58B-7F5C-4422-8CFF-BA17C3AD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BFF7-ACC1-4B59-87FD-46E5EF2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D74-B356-48C0-AD27-C71832F3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B9FA-B406-4587-A11C-62DDEB43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5153-CA84-4C41-A626-67061AE2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16DF-A89C-4B26-96CE-8012F2F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7238-0CA2-4D16-BFD3-45BCE7F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4F9A-E451-4F52-8FAE-CA23FD80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AAA6-D311-477B-B0DB-3EDDBBB0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C9D0-F0D8-4B4B-9FC8-E53C402F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B2F6-9592-4CC1-BE00-27B664F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E9C6-49C8-4322-8433-F05385D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D339-E142-4F45-AC30-2FBE6F6249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B38-034B-4CA0-BEE6-2A3A587818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ДИСГРАФИЯ                         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43160" y="4286160"/>
            <a:ext cx="584856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-СОШ №17 г..Армав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ва Велла Дмит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61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я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искажении морфологической структуры слова, замене префиксов, суффиксов (захлестнула - "нахлестнула", козлята - "козлёнки");                                                                                             изменении падежных окончаний ("много деревов"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рушении предложных конструкций ( над столом -"на столом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зменении падежа местоимений ( около него -"около ним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числа существительных ("дети бежит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рушении согласования ( "бела дом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трудности в конструировании сложных предложений,            пропуски членов предложения, нарушение последовательности слов в предлож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тическая дисграф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развитие    зрительного    гнозиса, анализа   и  синтеза, пространственных предст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является в заменах и искажениях графического образа букв на пись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 flipH="1">
            <a:off x="7596360" y="6784920"/>
            <a:ext cx="720720" cy="7308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бывают двух вид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ны графически сходных букв – состоящих из одинаковых элементов,но различно, расположенных в пространстве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–д, т –ш, б-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ли букв, отличающихся одним элементом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– ш. п – т, л – м, о –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ажение графического образа букв: зеркальное написание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,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ски элементов буквы, написание лишних элементов, неправильное расположение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47260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Симптоматика  дисграфии проявляется в стойких и повторяющихся ошибках в процессе письма, которые можно сгруппировать следующим образом: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искажения и замены букв;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искажения звуковой структуры слова;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нарушения слитности написания отдельных слов и предложений;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аграмматизмы в пись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329680" cy="59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графия (как и дислексия) у детей с нормальным интеллектом может вызвать различные отклонения в формировании личности, определённые психические насло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целенаправленном коррекционно-логопедическом воздействии постепенно симптоматика дисграфии сглажи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42976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Известные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дисграфики и дислексики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ьфганг Амадей Моц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3" descr="http://www.perevozki24.ru/images/Mozart-6.jpg"/>
          <p:cNvPicPr/>
          <p:nvPr/>
        </p:nvPicPr>
        <p:blipFill>
          <a:blip r:embed="rId1"/>
          <a:stretch/>
        </p:blipFill>
        <p:spPr>
          <a:xfrm>
            <a:off x="2928960" y="2286000"/>
            <a:ext cx="370512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рльз Дар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http://lib.rus.ec/i/98/75698/any2fbimgloader4.jpeg"/>
          <p:cNvPicPr/>
          <p:nvPr/>
        </p:nvPicPr>
        <p:blipFill>
          <a:blip r:embed="rId1"/>
          <a:stretch/>
        </p:blipFill>
        <p:spPr>
          <a:xfrm>
            <a:off x="3214800" y="2214720"/>
            <a:ext cx="281304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онардо де Вин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928960" y="1928880"/>
            <a:ext cx="3085920" cy="4319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928960" y="1785960"/>
            <a:ext cx="301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дисграфия -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28960" y="421488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е специфическое нарушение процессов  письма,  проявляющееся   в стойких   повторяющихся   ошибках, обусловленных несформированностью высших психических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нс Христиан Андер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86040" y="2143080"/>
            <a:ext cx="3046320" cy="37800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643120" y="1928880"/>
            <a:ext cx="3699000" cy="3959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олт Дис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173400" cy="41400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гата Кри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952800" y="3362400"/>
            <a:ext cx="1238400" cy="1123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2143080" y="1714680"/>
            <a:ext cx="4759200" cy="4319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инстон Черч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571840" y="1785960"/>
            <a:ext cx="3906720" cy="3779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ьфред Эйншт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000160" y="1643040"/>
            <a:ext cx="5140440" cy="4319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м Кру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311280" cy="3959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КФЕЛ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143160" y="1785960"/>
            <a:ext cx="276876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дисграф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тикуляционно-акуст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уст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шения языкового анализа и синте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мма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тикуляционно-акустическа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сноязычие в письм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яется в смешениях, заменах, пропусках букв, соответствующих заменам и пропускам в устной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устическа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ая речь сохран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сьме: замены букв, соответствующих фонетически близким звукам. Свистящие-шипящие, звонкие -глухие, аффрикаты и компоненты. входящие в их состав (ч-ть, ч-щ, ц-с,ц-т, с-ш, з-ж, б-п, д-т, г-к, в-ф, р-л),а также гласные о-у, е-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: неточность слуховой дифференциации звуков, нарушение фонематического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0096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являетс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 заменах букв, обозначающих фонетически близкие звук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в нарушении обозначения мягкости согласных на письме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письменных работах преобладают следующие замен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шиваются буквы, обозначающи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свистящие и шипящие с-ш.з-ж.ч-щ,,ц-ч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звонкие и глухи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аффрикаты и  компоненты, входящие в их         состав: ч-ть, ц-т, ц-с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гласные: о-у, е-и, и-у, о-а, а-я, у-ю, ы-и,о-ё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3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сграфия на почве нарушения языкового анализа и синтез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715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различных форм языкового анализа и синтеза - деление предложений на слова, слогового и фонематического анализа и синт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ы следующие ошиб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 согласных при их стечении ( дожи- дожди, деки – деньки, состаляют – составляют, диктат-диктан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 гласных ( девчки – девочки, пошл – пошли, тчка – тачка, раскачивет – раскачива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новки букв ( пакельки – капельки, кулка – кук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букв ( весная – вес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, добавления, перестановки букв,слогов ( весипед – велосипед, сакамейка-скамейка,коно-окно,кота-комна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тное написание слов, особенно предлогов; в раздельном написании слов, особенно приставок и корня ( Летам пареке      и  дут парходи. Вдоме убашки кот васка и сабака пушо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грамматическая дисграф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развитие грамматического строя речи: морфологических и синтаксических обоб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исьме отмечаются на уровне слова, словосочетания, предложения 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ОМА (ЗА ДОМОМ) САРА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ЁПЛЫЯ СТРАН ЛЕТЯТ ГРАЧИ (Из тёплых стран летят грачи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Я И КОЛЯ ПИШЛИ РОЩУ ( Вася и Коля пришли в рощ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ЖАРКИ ДЕНЬ (Был жаркий де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35:09Z</dcterms:created>
  <dc:creator>АНДРЕЙ</dc:creator>
  <dc:description/>
  <dc:language>en-US</dc:language>
  <cp:lastModifiedBy>12345</cp:lastModifiedBy>
  <dcterms:modified xsi:type="dcterms:W3CDTF">2020-11-16T19:49:15Z</dcterms:modified>
  <cp:revision>45</cp:revision>
  <dc:subject/>
  <dc:title>      Дисграфия-недуг                                               излечимый.но    противный! </dc:title>
</cp:coreProperties>
</file>