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B9D5-3EF4-4623-A377-794B241A1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26FF-39C2-49F6-9E13-1CEC5BB7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EC6B-C5BF-4CE8-B8F3-942AA6C3C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E4A5-1568-4C26-8DE5-8868A7694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1D80-DB47-432A-8BAB-9230E219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B495-9C62-4186-9633-39CDFB15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F0DE-00C7-422E-B168-94709DB9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8819-3E34-48C8-9CB7-2EED7EBE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11B4-EAED-4DD2-95C0-DFDB9239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2957-5FFE-4B1F-BAC3-A1134BBB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7069-D4C1-4773-B271-1C180AE5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4D14-544D-47D9-887A-A87343C3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832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276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0801A0-E4BE-425A-B019-00E7A506EE1C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59500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22240" y="2138400"/>
            <a:ext cx="8406000" cy="4749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59788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092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99680" cy="12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068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22240" y="2138400"/>
            <a:ext cx="841536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7680" y="3110040"/>
            <a:ext cx="8607240" cy="149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Если хочешь быть здоров.</a:t>
            </a:r>
            <a:br>
              <a:rPr sz="3200"/>
            </a:b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Направление: здоровьесберегающее.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Выполнила: воспитатель ГПД 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Высоцкая Инна Васильевна</a:t>
            </a:r>
            <a:br>
              <a:rPr sz="2400"/>
            </a:b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МБОУ « Новоусманский лицей»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946080" y="666720"/>
            <a:ext cx="2127240" cy="2160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"/>
          <p:cNvPicPr/>
          <p:nvPr/>
        </p:nvPicPr>
        <p:blipFill>
          <a:blip r:embed="rId2"/>
          <a:stretch/>
        </p:blipFill>
        <p:spPr>
          <a:xfrm>
            <a:off x="7188120" y="561960"/>
            <a:ext cx="1933560" cy="2271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"/>
          <p:cNvPicPr/>
          <p:nvPr/>
        </p:nvPicPr>
        <p:blipFill>
          <a:blip r:embed="rId3"/>
          <a:stretch/>
        </p:blipFill>
        <p:spPr>
          <a:xfrm>
            <a:off x="3743280" y="4751280"/>
            <a:ext cx="2305080" cy="222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Чистота — залог здоровья!</a:t>
            </a:r>
            <a:endParaRPr b="1" i="1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1327320" y="2138400"/>
            <a:ext cx="740880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99284c"/>
                </a:solidFill>
                <a:latin typeface="Arial"/>
              </a:rPr>
              <a:t>Правила закаливания</a:t>
            </a:r>
            <a:endParaRPr b="1" i="1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52974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96800" indent="-4269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Закалятся нужно постепенно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96800" indent="-4269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Нельзя начинать закаливание во время болезни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96800" indent="-4269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Начал закаливание — не бросай, не делай перерывов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96800" indent="-4269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Используй разные способы закаливания: воздух, солнце,воду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96800" indent="-4269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Перед сном обязательно проветривай свою комнату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96800" indent="-4269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Контрасные ванночки для ног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96800" indent="-4269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Утром выполняй зарядку при открытой форточке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6119640" y="3456000"/>
            <a:ext cx="318312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99284c"/>
                </a:solidFill>
                <a:latin typeface="Arial"/>
              </a:rPr>
              <a:t>Вредные привычки</a:t>
            </a:r>
            <a:endParaRPr b="1" i="1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1533600" y="2138400"/>
            <a:ext cx="699768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99284c"/>
                </a:solidFill>
                <a:latin typeface="Arial"/>
              </a:rPr>
              <a:t>Занятия спортом</a:t>
            </a:r>
            <a:endParaRPr b="1" i="1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1459080" y="2138400"/>
            <a:ext cx="714348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79320" y="-147780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2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822240" y="792000"/>
            <a:ext cx="8418600" cy="609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99284c"/>
                </a:solidFill>
                <a:latin typeface="Arial"/>
              </a:rPr>
              <a:t>Спасибо за внимание!</a:t>
            </a:r>
            <a:endParaRPr b="1" i="1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822240" y="2592360"/>
            <a:ext cx="8248680" cy="413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20720" y="3239640"/>
            <a:ext cx="8607600" cy="182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Самое ценное у  </a:t>
            </a:r>
            <a:br>
              <a:rPr sz="3200"/>
            </a:b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человека — это жизнь, </a:t>
            </a:r>
            <a:br>
              <a:rPr sz="3200"/>
            </a:b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а самое ценное </a:t>
            </a:r>
            <a:br>
              <a:rPr sz="3200"/>
            </a:b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в жизни — это здоровье!</a:t>
            </a:r>
            <a:endParaRPr b="1" i="1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576360" y="714240"/>
            <a:ext cx="3095640" cy="26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1"/>
          <p:cNvSpPr/>
          <p:nvPr/>
        </p:nvSpPr>
        <p:spPr>
          <a:xfrm>
            <a:off x="741240" y="700200"/>
            <a:ext cx="8607600" cy="62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rmAutofit/>
          </a:bodyPr>
          <a:p>
            <a:pPr marL="216000" indent="-204840" algn="ctr"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Arial"/>
                <a:ea typeface="Microsoft YaHei"/>
              </a:rPr>
              <a:t>Цел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16000" indent="-204840" algn="ctr"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  <a:ea typeface="Microsoft YaHei"/>
              </a:rPr>
              <a:t>Формирование у младших школьник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04840" algn="ctr"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  <a:ea typeface="Microsoft YaHei"/>
              </a:rPr>
              <a:t>представлений о здоровом образе жи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04840" algn="ctr"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Arial"/>
                <a:ea typeface="Microsoft YaHei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16000" indent="-204840" algn="ctr"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  <a:ea typeface="Microsoft YaHei"/>
              </a:rPr>
              <a:t>Формировать убеждение о пользе здоров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04840" algn="ctr"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  <a:ea typeface="Microsoft YaHei"/>
              </a:rPr>
              <a:t>   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  <a:ea typeface="Microsoft YaHei"/>
              </a:rPr>
              <a:t>образа жизни, негативное отношение к вред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04840" algn="ctr"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  <a:ea typeface="Microsoft YaHei"/>
              </a:rPr>
              <a:t> 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  <a:ea typeface="Microsoft YaHei"/>
              </a:rPr>
              <a:t>привычка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04840" algn="ctr"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  <a:ea typeface="Microsoft YaHei"/>
              </a:rPr>
              <a:t>Воспитывать бережное отношение к свое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04840" algn="ctr"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  <a:ea typeface="Microsoft YaHei"/>
              </a:rPr>
              <a:t> 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  <a:ea typeface="Microsoft YaHei"/>
              </a:rPr>
              <a:t>здоровью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04840" algn="ctr"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  <a:ea typeface="Microsoft YaHei"/>
              </a:rPr>
              <a:t>               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  <a:ea typeface="Microsoft YaHei"/>
              </a:rPr>
              <a:t>Желание вести здоровый образ жизни.             </a:t>
            </a:r>
            <a:r>
              <a:rPr b="0" lang="ru-RU" sz="2400" spc="-1" strike="noStrike">
                <a:solidFill>
                  <a:srgbClr val="cc0066"/>
                </a:solidFill>
                <a:latin typeface="Arial"/>
                <a:ea typeface="Microsoft YaHei"/>
              </a:rPr>
              <a:t>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04840" algn="ctr">
              <a:lnSpc>
                <a:spcPct val="93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Что способствует сохранению</a:t>
            </a:r>
            <a:br>
              <a:rPr sz="3200"/>
            </a:b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 и укреплению здоровья?</a:t>
            </a:r>
            <a:endParaRPr b="1" i="1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1880" y="2138400"/>
            <a:ext cx="84186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4000"/>
          </a:bodyPr>
          <a:p>
            <a:pPr marL="462240" indent="-3967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Соблюдение режима труда и отдыха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62240" indent="-3967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Правильное питание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62240" indent="-3967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Личная гигиена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62240" indent="-3967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Закаливание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62240" indent="-3967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Двигательная активность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62240" indent="-3967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Безопасное поведение дома, на улице, в школе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62240" indent="-3967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Отказ от вредных превычек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1"/>
          <a:stretch/>
        </p:blipFill>
        <p:spPr>
          <a:xfrm>
            <a:off x="6983280" y="4640400"/>
            <a:ext cx="2271960" cy="22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Режим дня школьника</a:t>
            </a:r>
            <a:endParaRPr b="1" i="1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7720" y="1698120"/>
            <a:ext cx="501012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95360" indent="-4255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0099"/>
                </a:solidFill>
                <a:latin typeface="Arial"/>
              </a:rPr>
              <a:t>7.00 — подъем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95360" indent="-4255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0099"/>
                </a:solidFill>
                <a:latin typeface="Arial"/>
              </a:rPr>
              <a:t>7.00-7.30 — утренняя зарядка, водные процедуры, туалет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95360" indent="-4255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0099"/>
                </a:solidFill>
                <a:latin typeface="Arial"/>
              </a:rPr>
              <a:t>7.30-8.00 — завтрак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95360" indent="-4255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0099"/>
                </a:solidFill>
                <a:latin typeface="Arial"/>
              </a:rPr>
              <a:t>8.00 — 8.15 — дорога в школу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95360" indent="-4255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0099"/>
                </a:solidFill>
                <a:latin typeface="Arial"/>
              </a:rPr>
              <a:t>8.30 — 12.30 — занятия в школе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95360" indent="-4255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0099"/>
                </a:solidFill>
                <a:latin typeface="Arial"/>
              </a:rPr>
              <a:t>12.45 — 13.00 — дорога домой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95360" indent="-4255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0099"/>
                </a:solidFill>
                <a:latin typeface="Arial"/>
              </a:rPr>
              <a:t>13.30 — обед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95360" indent="-4255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0099"/>
                </a:solidFill>
                <a:latin typeface="Arial"/>
              </a:rPr>
              <a:t>14.00 — 16.00 — отдых, прогулка или сон, занятия в кружках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95360" indent="-4255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0099"/>
                </a:solidFill>
                <a:latin typeface="Arial"/>
              </a:rPr>
              <a:t>16.00 — 17.30 — выполнение домашних заданий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95360" indent="-4255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0099"/>
                </a:solidFill>
                <a:latin typeface="Arial"/>
              </a:rPr>
              <a:t>17.30 — 19.00 — свободное время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95360" indent="-4255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0099"/>
                </a:solidFill>
                <a:latin typeface="Arial"/>
              </a:rPr>
              <a:t>19.00 — ужин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95360" indent="-4255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0099"/>
                </a:solidFill>
                <a:latin typeface="Arial"/>
              </a:rPr>
              <a:t>19.30 — 20.30 — свободное время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95360" indent="-4255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0099"/>
                </a:solidFill>
                <a:latin typeface="Arial"/>
              </a:rPr>
              <a:t>20.30 — вечерние процедуры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95360" indent="-42552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0099"/>
                </a:solidFill>
                <a:latin typeface="Arial"/>
              </a:rPr>
              <a:t>21.00 - сон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6119640" y="3816360"/>
            <a:ext cx="3122640" cy="27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Правильное питание</a:t>
            </a:r>
            <a:endParaRPr b="1" i="1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847800" y="3456000"/>
            <a:ext cx="3471840" cy="344484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135400" y="21380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92120" indent="-4222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Есть необходимо в одно и то же время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92120" indent="-4222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Есть надо продукты, полезные для здоровья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92120" indent="-4222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Есть не торпясь,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92120" indent="-4222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тщательно пережевывая пищу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92120" indent="-4222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Главное — не переедать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92120" indent="-42228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Сладости есть только после основной еды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81200" y="971640"/>
            <a:ext cx="8602560" cy="1954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99284c"/>
                </a:solidFill>
                <a:latin typeface="Arial"/>
              </a:rPr>
              <a:t>Что разрушает здоровье, </a:t>
            </a:r>
            <a:br>
              <a:rPr sz="3200"/>
            </a:br>
            <a:r>
              <a:rPr b="1" i="1" lang="ru-RU" sz="3200" spc="-1" strike="noStrike">
                <a:solidFill>
                  <a:srgbClr val="99284c"/>
                </a:solidFill>
                <a:latin typeface="Arial"/>
              </a:rPr>
              <a:t>а что укрепляет?</a:t>
            </a:r>
            <a:br>
              <a:rPr sz="3200"/>
            </a:br>
            <a:br>
              <a:rPr sz="3200"/>
            </a:b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  Полезные продукты                Вредные продукты                                       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80840" y="2874960"/>
            <a:ext cx="4105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1480" indent="-430200">
              <a:lnSpc>
                <a:spcPct val="10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Рыба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1480" indent="-430200">
              <a:lnSpc>
                <a:spcPct val="10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Кефир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1480" indent="-430200">
              <a:lnSpc>
                <a:spcPct val="10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Геркулес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1480" indent="-430200">
              <a:lnSpc>
                <a:spcPct val="10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Подсолнечное масло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1480" indent="-430200">
              <a:lnSpc>
                <a:spcPct val="10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Морковь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1480" indent="-430200">
              <a:lnSpc>
                <a:spcPct val="10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Лук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1480" indent="-430200">
              <a:lnSpc>
                <a:spcPct val="10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Капуста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1480" indent="-430200">
              <a:lnSpc>
                <a:spcPct val="10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Яблоки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1480" indent="-430200">
              <a:lnSpc>
                <a:spcPct val="10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Груши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95880" y="287316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14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Чипсы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14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Пепси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14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Фанта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14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Жирное мясо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14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Торты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14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Шоколадные конфеты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14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Витамины</a:t>
            </a:r>
            <a:br>
              <a:rPr sz="3200"/>
            </a:b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Витамины помогают думать, двигаться, защищаться от токсинов и инфекций. 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822240" y="2465280"/>
            <a:ext cx="4106880" cy="41068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"/>
          <p:cNvPicPr/>
          <p:nvPr/>
        </p:nvPicPr>
        <p:blipFill>
          <a:blip r:embed="rId2"/>
          <a:stretch/>
        </p:blipFill>
        <p:spPr>
          <a:xfrm>
            <a:off x="5135400" y="2465280"/>
            <a:ext cx="4106880" cy="410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Витамины содержаться в овощах и фруктах.</a:t>
            </a:r>
            <a:endParaRPr b="1" i="1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820800" y="2463840"/>
            <a:ext cx="4106880" cy="41068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5133960" y="2463840"/>
            <a:ext cx="4106880" cy="4106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6T18:31:42Z</dcterms:created>
  <dc:creator/>
  <dc:description/>
  <dc:language>en-US</dc:language>
  <cp:lastModifiedBy>инна</cp:lastModifiedBy>
  <dcterms:modified xsi:type="dcterms:W3CDTF">2020-11-16T17:35:25Z</dcterms:modified>
  <cp:revision>6</cp:revision>
  <dc:subject/>
  <dc:title>Если хочешь быть здоров. Направление: здоровьесберегающее. Выполнила: воспитатель ГПД  Высоцкая Инна Васильевна МБОУ « Новоусманский лицей»</dc:title>
</cp:coreProperties>
</file>