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8EE-B61D-4D3F-B86F-BF81E690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4BA-BBEC-4D2D-B918-EDE52467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8E0A-A53E-4729-8A0E-E5548A45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AB3-5988-476E-8A05-16BA9BC5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7E4-E12B-44F8-93CD-7F0CCAEA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58F-930A-47A8-A668-94B39352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ADA8-FE11-4873-906D-B91339B5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A7F-E745-495D-A70A-F6142173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D1E-8B56-482F-A1AF-0981B624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0D9-01EF-40AC-B4C5-CBFEB267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01F-6FE0-4010-8A79-6BBCEC36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2B0-F43E-46E0-9156-FE8B94BB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43AC9-1EC8-4DD4-94FA-1F3E70C554A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59500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2240" y="2138400"/>
            <a:ext cx="840600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092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7680" y="3110040"/>
            <a:ext cx="860724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Если хочешь быть здоров.</a:t>
            </a:r>
            <a:br>
              <a:rPr sz="3200"/>
            </a:b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Направление: здоровьесберегающее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Выполнила: воспитатель ГПД 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Высоцкая Инна Васильевна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МБОУ « Новоусманский лицей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946080" y="666720"/>
            <a:ext cx="2127240" cy="2160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7188120" y="561960"/>
            <a:ext cx="1933560" cy="2271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3"/>
          <a:stretch/>
        </p:blipFill>
        <p:spPr>
          <a:xfrm>
            <a:off x="3743280" y="4751280"/>
            <a:ext cx="2305080" cy="22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Чистота — залог здоровья!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1327320" y="2138400"/>
            <a:ext cx="74088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Правила закаливания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52974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Закалятся нужно постепенн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Нельзя начинать закаливание во время болезн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Начал закаливание — не бросай, не делай перерывов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Используй разные способы закаливания: воздух, солнце,вод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Перед сном обязательно проветривай свою комнат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Контрасные ванночки для ног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Утром выполняй зарядку при открытой форточк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6119640" y="3456000"/>
            <a:ext cx="31831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Вредные привычки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533600" y="2138400"/>
            <a:ext cx="69976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Занятия спортом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459080" y="2138400"/>
            <a:ext cx="71434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9320" y="-147780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822240" y="792000"/>
            <a:ext cx="8418600" cy="60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Спасибо за внимание!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822240" y="2592360"/>
            <a:ext cx="8248680" cy="41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20720" y="3239640"/>
            <a:ext cx="8607600" cy="182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Самое ценное у  </a:t>
            </a: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человека — это жизнь, </a:t>
            </a: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а самое ценное </a:t>
            </a: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в жизни — это здоровье!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576360" y="714240"/>
            <a:ext cx="309564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rmAutofit/>
          </a:bodyPr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  <a:ea typeface="Microsoft YaHei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Формирование у младших школьни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представлений о здоровом образе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  <a:ea typeface="Microsoft YaHei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Формировать убеждение о пользе здоров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  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образа жизни, негативное отношение к вред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привычк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Воспитывать бережное отношение к свое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здоровью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              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Желание вести здоровый образ жизни.             </a:t>
            </a:r>
            <a:r>
              <a:rPr b="0" lang="ru-RU" sz="2400" spc="-1" strike="noStrike">
                <a:solidFill>
                  <a:srgbClr val="cc0066"/>
                </a:solidFill>
                <a:latin typeface="Arial"/>
                <a:ea typeface="Microsoft YaHei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Что способствует сохранению</a:t>
            </a: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 и укреплению здоровья?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4000"/>
          </a:bodyPr>
          <a:p>
            <a:pPr marL="462240" indent="-3967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Соблюдение режима труда и отдых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62240" indent="-3967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Правильное питани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62240" indent="-3967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Личная гигиен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62240" indent="-3967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Закаливани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62240" indent="-3967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Двигательная активност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62240" indent="-3967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Безопасное поведение дома, на улице, в школ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62240" indent="-3967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Отказ от вредных превычек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6983280" y="4640400"/>
            <a:ext cx="2271960" cy="22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Режим дня школьника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698120"/>
            <a:ext cx="501012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7.00 — подъем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7.00-7.30 — утренняя зарядка, водные процедуры, туалет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7.30-8.00 — завтрак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8.00 — 8.15 — дорога в школу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8.30 — 12.30 — занятия в школе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12.45 — 13.00 — дорога домой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13.30 — обед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14.00 — 16.00 — отдых, прогулка или сон, занятия в кружках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16.00 — 17.30 — выполнение домашних заданий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17.30 — 19.00 — свободное время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19.00 — ужин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19.30 — 20.30 — свободное время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20.30 — вечерние процедуры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21.00 - сон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6119640" y="3816360"/>
            <a:ext cx="3122640" cy="27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Правильное питание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847800" y="3456000"/>
            <a:ext cx="3471840" cy="34448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92120" indent="-422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Есть необходимо в одно и то же врем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2120" indent="-422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Есть надо продукты, полезные для здоровь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2120" indent="-422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Есть не торпясь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2120" indent="-422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тщательно пережевывая пищ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2120" indent="-422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Главное — не переедат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2120" indent="-422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Сладости есть только после основной ед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81200" y="971640"/>
            <a:ext cx="860256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Что разрушает здоровье, </a:t>
            </a:r>
            <a:br>
              <a:rPr sz="3200"/>
            </a:b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а что укрепляет?</a:t>
            </a:r>
            <a:br>
              <a:rPr sz="3200"/>
            </a:br>
            <a:br>
              <a:rPr sz="3200"/>
            </a:b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 Полезные продукты                Вредные продукты                                      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80840" y="2874960"/>
            <a:ext cx="4105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1480" indent="-4302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Рыб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Кефир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Геркулес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Подсолнечное масл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Морков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Лук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Капуст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Яблок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Груши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95880" y="287316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Чипс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Пепс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Фант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Жирное мяс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Торт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Шоколадные конфет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Витамины</a:t>
            </a:r>
            <a:br>
              <a:rPr sz="3200"/>
            </a:b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Витамины помогают думать, двигаться, защищаться от токсинов и инфекций.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822240" y="2465280"/>
            <a:ext cx="4106880" cy="4106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5135400" y="2465280"/>
            <a:ext cx="4106880" cy="41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Витамины содержаться в овощах и фруктах.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820800" y="2463840"/>
            <a:ext cx="4106880" cy="4106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133960" y="2463840"/>
            <a:ext cx="4106880" cy="410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6T18:31:42Z</dcterms:created>
  <dc:creator/>
  <dc:description/>
  <dc:language>en-US</dc:language>
  <cp:lastModifiedBy>инна</cp:lastModifiedBy>
  <dcterms:modified xsi:type="dcterms:W3CDTF">2020-11-16T17:35:25Z</dcterms:modified>
  <cp:revision>6</cp:revision>
  <dc:subject/>
  <dc:title>Если хочешь быть здоров. Направление: здоровьесберегающее. Выполнила: воспитатель ГПД  Высоцкая Инна Васильевна МБОУ « Новоусманский лицей»</dc:title>
</cp:coreProperties>
</file>