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39C-27BA-4A44-943B-7BBFBBE1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F98-049C-44CD-B93C-6CED21F4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350-BC57-4ACD-9900-65EB72A0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DB3-C835-474B-872E-E141A04D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E659-3D7E-4386-A85F-3BF54442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6C85-FFC1-4CB1-8467-108BB0CE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00A-A239-462F-ADCA-0D2E3DF7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8679-3985-4E35-AE24-9875924C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33C2-D099-4A20-ACF5-F9E9732D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D677-EF9D-4542-A4D9-EB9429D6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0BD6-2E95-46B4-9B9D-9834F23D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448-7786-477E-AFA0-B24C72E4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8C30-823A-42E5-B93C-3481F5CE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13F3-079D-436F-9C7A-7A5F7F32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DD70-37FE-4D07-9C4F-8ACFC881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0E88-0271-4BAF-87C6-A20D7ED2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48E4-81C1-45F2-9971-7B8B8152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5FADE-51D7-4DF8-8331-150ADDAFA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D1261-6AB7-4AB1-B6F3-050B4AEE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B71BD-0CF1-4318-9430-CDCB411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8F17D-A501-4FD3-86F5-B3F24D57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14C64-1B28-4346-A767-5365CE7F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1DB-500B-455C-8A6B-C647B290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9757C-D07C-48DA-A096-EC94327C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B2225-938C-46F4-B792-8AC5EBB2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5AF33-A0EB-4393-8D7E-65BFBAD3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E02C1-1749-4ED6-AB90-3441207E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CC4A4-FC86-4FB6-9E85-F92DCAB6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48FD2-E4D8-4788-B1AD-917EC262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40C98-37F6-43B8-AD81-687C279D8D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46E-E94E-4F06-8A64-6D51D1B1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55A-3C7A-4598-BC72-2B1F9783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F08-10AF-499E-9C74-B0603E60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D3A-1D84-4E7B-9801-D1D8DF93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8A5-A709-492D-A304-2AA07DA7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81D-4907-426E-9E51-144FA31F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7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8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80880" y="6567120"/>
            <a:ext cx="2438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657240" y="655164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5884-BF22-421E-BAE0-588297D40D5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9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603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Rectangle 20"/>
          <p:cNvSpPr/>
          <p:nvPr/>
        </p:nvSpPr>
        <p:spPr>
          <a:xfrm>
            <a:off x="7772400" y="762120"/>
            <a:ext cx="137160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C86D-FEFE-410A-B186-19E1A035A2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17"/>
          <p:cNvGraphicFramePr/>
          <p:nvPr/>
        </p:nvGraphicFramePr>
        <p:xfrm>
          <a:off x="2114640" y="0"/>
          <a:ext cx="702936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0"/>
                    <a:ext cx="70293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8"/>
          <p:cNvSpPr/>
          <p:nvPr/>
        </p:nvSpPr>
        <p:spPr>
          <a:xfrm>
            <a:off x="0" y="0"/>
            <a:ext cx="2133720" cy="32004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0" y="32004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3352680"/>
            <a:ext cx="2133720" cy="35053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5720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580920" y="65084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F01B-AB3E-4C75-BC69-2CE537C02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85840" y="4221000"/>
            <a:ext cx="70581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Гласные в приставках 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пре-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при-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24000" y="981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ставка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жет обозначать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исоединение к чему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95280" y="30686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ить данные словосочетания одним слов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39640" y="3645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исоединить с помощью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1) веревки; 2) молотка и гвоздей; 3) иголки с ниткой; 4) клея; 5) винтов и шуру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95280" y="9810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как об этом пелось в «Радионяне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826920" y="155736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инт привинтил, прикрутил колес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риклеил, пришил умел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ишем мы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, говоря обо вс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Что добрые руки придел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79280" y="981000"/>
            <a:ext cx="741708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словам, имеющим смысл присоединения, относятся и такие, которые обозначают добавление к чему-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50920" y="2205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в тетрадь слова, определить, какие из них не имеют оттенка присоед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95280" y="2997360"/>
            <a:ext cx="727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винтить, пристрелить, прикрутить, прицеп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чесать, присовет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готовить, прилепить, причалить, пришвартоваться, прикрик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24000" y="981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ить словосочетания словами с приставкой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476360" y="1700280"/>
            <a:ext cx="583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Участок при шко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олоса около мо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Город на Волг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ть-чуть открыть ок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Умолкнуть на короткое врем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легка затворить д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24000" y="98100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словосочетания, объяснить написание гласной в при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68360" y="1989000"/>
            <a:ext cx="712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крыть кни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дорожный ку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ступить к дел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задуматься над задач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расти к дер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3880" y="1397160"/>
          <a:ext cx="6096240" cy="4792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лова с приставкой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начение приставки в этих слов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оеди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ж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бл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из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лное 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38"/>
          <p:cNvSpPr/>
          <p:nvPr/>
        </p:nvSpPr>
        <p:spPr>
          <a:xfrm>
            <a:off x="1619280" y="27082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>
            <a:off x="2124000" y="27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>
            <a:off x="1619280" y="4005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2"/>
          <p:cNvSpPr/>
          <p:nvPr/>
        </p:nvSpPr>
        <p:spPr>
          <a:xfrm>
            <a:off x="2124000" y="4005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7"/>
          <p:cNvSpPr/>
          <p:nvPr/>
        </p:nvSpPr>
        <p:spPr>
          <a:xfrm>
            <a:off x="1619280" y="5661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8"/>
          <p:cNvSpPr/>
          <p:nvPr/>
        </p:nvSpPr>
        <p:spPr>
          <a:xfrm>
            <a:off x="2124000" y="56610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9"/>
          <p:cNvSpPr/>
          <p:nvPr/>
        </p:nvSpPr>
        <p:spPr>
          <a:xfrm>
            <a:off x="1692360" y="4797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0"/>
          <p:cNvSpPr/>
          <p:nvPr/>
        </p:nvSpPr>
        <p:spPr>
          <a:xfrm>
            <a:off x="2197080" y="4797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692280"/>
          <a:ext cx="8353440" cy="5472000"/>
        </p:xfrm>
        <a:graphic>
          <a:graphicData uri="http://schemas.openxmlformats.org/drawingml/2006/table">
            <a:tbl>
              <a:tblPr/>
              <a:tblGrid>
                <a:gridCol w="3672000"/>
                <a:gridCol w="4681440"/>
              </a:tblGrid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лова с приставкой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начение приставки в этих слов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ав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слова о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кой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слова о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слова о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приставки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ер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приставки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ер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Line 18"/>
          <p:cNvSpPr/>
          <p:nvPr/>
        </p:nvSpPr>
        <p:spPr>
          <a:xfrm>
            <a:off x="611280" y="206064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114560" y="2060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84360" y="393372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5"/>
          <p:cNvSpPr/>
          <p:nvPr/>
        </p:nvSpPr>
        <p:spPr>
          <a:xfrm>
            <a:off x="1189080" y="393372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7"/>
          <p:cNvSpPr/>
          <p:nvPr/>
        </p:nvSpPr>
        <p:spPr>
          <a:xfrm>
            <a:off x="611280" y="5661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8"/>
          <p:cNvSpPr/>
          <p:nvPr/>
        </p:nvSpPr>
        <p:spPr>
          <a:xfrm>
            <a:off x="1116000" y="56610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9"/>
          <p:cNvSpPr/>
          <p:nvPr/>
        </p:nvSpPr>
        <p:spPr>
          <a:xfrm>
            <a:off x="611280" y="4797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0"/>
          <p:cNvSpPr/>
          <p:nvPr/>
        </p:nvSpPr>
        <p:spPr>
          <a:xfrm>
            <a:off x="1116000" y="4797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3"/>
          <p:cNvSpPr/>
          <p:nvPr/>
        </p:nvSpPr>
        <p:spPr>
          <a:xfrm>
            <a:off x="611280" y="2997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4"/>
          <p:cNvSpPr/>
          <p:nvPr/>
        </p:nvSpPr>
        <p:spPr>
          <a:xfrm>
            <a:off x="1114560" y="2997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1341360"/>
          <a:ext cx="8893080" cy="4064040"/>
        </p:xfrm>
        <a:graphic>
          <a:graphicData uri="http://schemas.openxmlformats.org/drawingml/2006/table">
            <a:tbl>
              <a:tblPr/>
              <a:tblGrid>
                <a:gridCol w="4716360"/>
                <a:gridCol w="417672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 прекрасном замке на г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ила-была приставка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-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соба преотважна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ажная-преваж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ордая-прегорда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обрая-предоб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Ее считали очень мудр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 называли все премудр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ыл у нее прелестный пуд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храбрый пес по кличке Дуд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н преспокойно спал у двер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огда вошла приставка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ере-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на сказала: «На за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Я уезжаю. Друг мой, пре-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ня не будет два-три дн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ы поработай за ме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заменяй меня, прошу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покойной ночи. Я спеш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47"/>
          <p:cNvSpPr/>
          <p:nvPr/>
        </p:nvSpPr>
        <p:spPr>
          <a:xfrm>
            <a:off x="6588000" y="4869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Каю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258920" y="189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яснитель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124000" y="765000"/>
            <a:ext cx="51847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морский кр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идел преспокой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Лес преобрази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красная музы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легка прихрамы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рвать расск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вести 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глушить 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рывистые зву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задуматься над пробл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вратить в чудови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клонить к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кратить раз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684360" y="26028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89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«Словарь трудных сл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11280" y="1413000"/>
            <a:ext cx="7057800" cy="1373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реимущество, препятствие, пренебрежение, предание, приключение, прия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оварный диктант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4000" y="934920"/>
          <a:ext cx="8229600" cy="5486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Сокровищ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сутств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 Сопер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п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. Иску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скус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. Би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пя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. Преиму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меня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.Знаки препи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неб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.Пораж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зиди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8.Ман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важ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9. Причудли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ерри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. Деко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ллюст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1. Приклю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дания стар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2. Привиле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способ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68360" y="189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упредительн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50920" y="981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еприятный разговор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бодрить товарищей, Василиса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удрая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кверный характер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дивительная история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ирить друзей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даватель, старинные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ания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утствовать на лекции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ращать разговор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ледовать ол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250920" y="9079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рать к данным словам антонимы с приставками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е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916360" y="1700280"/>
            <a:ext cx="3960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даля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бе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скак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Ленив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оз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бавл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л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ва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сутство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тал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24000" y="981000"/>
            <a:ext cx="69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ить слова и словосочетания словами-синонимами с приставками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е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68360" y="2060640"/>
            <a:ext cx="4897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оплотить в жиз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Затрудн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ервое представление спектак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Леген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Человек, нарушивший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211640" y="2060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492360" y="2060640"/>
            <a:ext cx="3311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творить в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556000" y="2492280"/>
            <a:ext cx="3528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пя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219640" y="2924280"/>
            <a:ext cx="223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мь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763640" y="350028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1763640" y="3429000"/>
            <a:ext cx="2376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356000" y="3860640"/>
            <a:ext cx="2592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50920" y="1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сать в «Словарь трудных сл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0" y="1125360"/>
            <a:ext cx="4392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бы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риезж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ёмн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аппарат для приёма сигн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зре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июти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ступи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ач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твор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закры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д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обави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ходя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то приход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643280" y="1125360"/>
            <a:ext cx="431964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быв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находиться где-нибуд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емн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родолжат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зир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е уваж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ступи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зак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твор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осуществи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д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редел, выд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ходяще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време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4356000" y="981000"/>
            <a:ext cx="0" cy="561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снительн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95280" y="1413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) Отец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рел сироту. 2) Не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ирай совета ничьего. (И.А. Крылов.) 3) Не хлопай дверью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вори её. 4) Очень важно суметь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ворить в жизнь свои планы. 5) Поезд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бывает вовремя. 6) Во время своего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бывания в городе мы посетили многие достопримечательности. 7) Он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авал большое значение к умению говорить то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250920" y="18900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сать в «Словарь трудных сл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611280" y="1700280"/>
            <a:ext cx="69850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чудливый, причина, приключение, приоритет , президент, привиле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116000" y="189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орочн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908000" y="1052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п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4284720" y="1125360"/>
            <a:ext cx="0" cy="525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724360" y="10526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500720" y="1844640"/>
            <a:ext cx="3240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беж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еприступ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стро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сутство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м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коснов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50920" y="1700280"/>
            <a:ext cx="39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8360" y="1700280"/>
            <a:ext cx="35290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рвать, преодолеть, препятствие, пренебрежительно, беспрекословно, пребогатый, преградить, претихий, предобрый, преспоко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835280" y="189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0" y="765000"/>
            <a:ext cx="8785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ледниковый период на Земле в пещерах жили пещерные медведи. Они часто опускались до больших глубин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вали в подземельях различные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ады. Они карабкались по отвесным стенам узких колодцев, проползали по узким коридорам пещер, в которых трудно было даже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няться. Бес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льная тьма пещер не пугала их. Здесь звери резвились, взбирались по склонам горок, скатывались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И. Акимушкин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24000" y="472428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ыпишите слова, строение которых соответствует схем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95280" y="522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Глагол -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24000" y="580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илагательное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2050920" y="5229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84328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9"/>
          <p:cNvSpPr/>
          <p:nvPr/>
        </p:nvSpPr>
        <p:spPr>
          <a:xfrm flipV="1" rot="13285800">
            <a:off x="3131640" y="5083920"/>
            <a:ext cx="57492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0"/>
          <p:cNvSpPr/>
          <p:nvPr/>
        </p:nvSpPr>
        <p:spPr>
          <a:xfrm flipV="1" rot="13285800">
            <a:off x="3131640" y="5804640"/>
            <a:ext cx="57492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V="1">
            <a:off x="3924360" y="515736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4284720" y="515772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V="1">
            <a:off x="4788000" y="515736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5148360" y="515772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 flipV="1">
            <a:off x="3995640" y="573372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>
            <a:off x="4356000" y="57340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V="1">
            <a:off x="4788000" y="573372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5148360" y="57340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5651640" y="5157720"/>
            <a:ext cx="50292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5651640" y="5734080"/>
            <a:ext cx="50292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0" y="18900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ставить пропущенную гласную в приста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907920"/>
          <a:ext cx="8642160" cy="4724640"/>
        </p:xfrm>
        <a:graphic>
          <a:graphicData uri="http://schemas.openxmlformats.org/drawingml/2006/table">
            <a:tbl>
              <a:tblPr/>
              <a:tblGrid>
                <a:gridCol w="2952720"/>
                <a:gridCol w="3105000"/>
                <a:gridCol w="258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..хорош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сыт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бы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воврем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стро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неб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близ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ветств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чудли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глад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твори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в жизн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кле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пр…язн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пя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одол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вознос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стра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св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пр…рыв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кл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да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ви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виле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зира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лож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быва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в г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ле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пр…одоли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спр…д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65"/>
          <p:cNvSpPr/>
          <p:nvPr/>
        </p:nvSpPr>
        <p:spPr>
          <a:xfrm>
            <a:off x="68436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6"/>
          <p:cNvSpPr/>
          <p:nvPr/>
        </p:nvSpPr>
        <p:spPr>
          <a:xfrm>
            <a:off x="684360" y="134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7"/>
          <p:cNvSpPr/>
          <p:nvPr/>
        </p:nvSpPr>
        <p:spPr>
          <a:xfrm>
            <a:off x="68436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8"/>
          <p:cNvSpPr/>
          <p:nvPr/>
        </p:nvSpPr>
        <p:spPr>
          <a:xfrm>
            <a:off x="684360" y="184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9"/>
          <p:cNvSpPr/>
          <p:nvPr/>
        </p:nvSpPr>
        <p:spPr>
          <a:xfrm>
            <a:off x="97164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0"/>
          <p:cNvSpPr/>
          <p:nvPr/>
        </p:nvSpPr>
        <p:spPr>
          <a:xfrm>
            <a:off x="684360" y="44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1"/>
          <p:cNvSpPr/>
          <p:nvPr/>
        </p:nvSpPr>
        <p:spPr>
          <a:xfrm>
            <a:off x="68436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2"/>
          <p:cNvSpPr/>
          <p:nvPr/>
        </p:nvSpPr>
        <p:spPr>
          <a:xfrm>
            <a:off x="3635280" y="134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3"/>
          <p:cNvSpPr/>
          <p:nvPr/>
        </p:nvSpPr>
        <p:spPr>
          <a:xfrm>
            <a:off x="673272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4"/>
          <p:cNvSpPr/>
          <p:nvPr/>
        </p:nvSpPr>
        <p:spPr>
          <a:xfrm>
            <a:off x="6732720" y="184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5"/>
          <p:cNvSpPr/>
          <p:nvPr/>
        </p:nvSpPr>
        <p:spPr>
          <a:xfrm>
            <a:off x="3564000" y="184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6"/>
          <p:cNvSpPr/>
          <p:nvPr/>
        </p:nvSpPr>
        <p:spPr>
          <a:xfrm>
            <a:off x="673272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7"/>
          <p:cNvSpPr/>
          <p:nvPr/>
        </p:nvSpPr>
        <p:spPr>
          <a:xfrm>
            <a:off x="673272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8"/>
          <p:cNvSpPr/>
          <p:nvPr/>
        </p:nvSpPr>
        <p:spPr>
          <a:xfrm>
            <a:off x="97164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9"/>
          <p:cNvSpPr/>
          <p:nvPr/>
        </p:nvSpPr>
        <p:spPr>
          <a:xfrm>
            <a:off x="68436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0"/>
          <p:cNvSpPr/>
          <p:nvPr/>
        </p:nvSpPr>
        <p:spPr>
          <a:xfrm>
            <a:off x="3635280" y="22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1"/>
          <p:cNvSpPr/>
          <p:nvPr/>
        </p:nvSpPr>
        <p:spPr>
          <a:xfrm>
            <a:off x="356400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2"/>
          <p:cNvSpPr/>
          <p:nvPr/>
        </p:nvSpPr>
        <p:spPr>
          <a:xfrm>
            <a:off x="363528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3"/>
          <p:cNvSpPr/>
          <p:nvPr/>
        </p:nvSpPr>
        <p:spPr>
          <a:xfrm>
            <a:off x="3635280" y="306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4"/>
          <p:cNvSpPr/>
          <p:nvPr/>
        </p:nvSpPr>
        <p:spPr>
          <a:xfrm>
            <a:off x="363528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5"/>
          <p:cNvSpPr/>
          <p:nvPr/>
        </p:nvSpPr>
        <p:spPr>
          <a:xfrm>
            <a:off x="392436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6"/>
          <p:cNvSpPr/>
          <p:nvPr/>
        </p:nvSpPr>
        <p:spPr>
          <a:xfrm>
            <a:off x="363528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7"/>
          <p:cNvSpPr/>
          <p:nvPr/>
        </p:nvSpPr>
        <p:spPr>
          <a:xfrm>
            <a:off x="673272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8"/>
          <p:cNvSpPr/>
          <p:nvPr/>
        </p:nvSpPr>
        <p:spPr>
          <a:xfrm>
            <a:off x="673272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9"/>
          <p:cNvSpPr/>
          <p:nvPr/>
        </p:nvSpPr>
        <p:spPr>
          <a:xfrm>
            <a:off x="6732720" y="44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0"/>
          <p:cNvSpPr/>
          <p:nvPr/>
        </p:nvSpPr>
        <p:spPr>
          <a:xfrm>
            <a:off x="673272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1"/>
          <p:cNvSpPr/>
          <p:nvPr/>
        </p:nvSpPr>
        <p:spPr>
          <a:xfrm>
            <a:off x="716436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258920" y="189000"/>
            <a:ext cx="56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908000" y="189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24000" y="98100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подаватель географии 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ложил нам изучать природу родного края. В нашем районе нет непр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ступных гор, непроходимых болот, но есть 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лестные уголки, бес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ельные дали, места, связанные с 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аниями о славном прошлом родной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Соприкосновение с природой всегда прекрасно! В лесу мы собираем растения, подбираем пр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чудливые корни деревьев, не 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небрегаем шишками, перышками, потому что это пр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годится нам для игрушек на е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(По А. Хазаново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979640" y="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397160"/>
          <a:ext cx="7417080" cy="4090680"/>
        </p:xfrm>
        <a:graphic>
          <a:graphicData uri="http://schemas.openxmlformats.org/drawingml/2006/table">
            <a:tbl>
              <a:tblPr/>
              <a:tblGrid>
                <a:gridCol w="3708360"/>
                <a:gridCol w="3708720"/>
              </a:tblGrid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3. Впечат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обр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4. Неприступ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зн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. Ровес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верст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6. Препод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здав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7. Раздраж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бъясн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8. Прибавл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зн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9. Преодол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зн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. Сожал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бвин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900000" y="189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ать, выделить приставки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пре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24000" y="1125360"/>
            <a:ext cx="8424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Осенью лес молчит. Прислушайся! Какая стоит тишь! В предчувствии холодов приумолкли птицы. Ветка слегка согнулась и прикоснулась к твоему лицу. Беспредельная радость охватывает тебя. В такую пору особую радость приносит рабочая музыка дят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Березки шелестят своими золотыми монетками. Природа зовет, манит к себе. Настроение приподнимается. Кажется, что преодолимы все препят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(По В. Песков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transition spd="med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1" lang="en-US" sz="16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24000" y="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йте текст, озаглавьте его. Перескажите, используя эпитеты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50920" y="765000"/>
            <a:ext cx="8424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Всю ночь шел дождь. На рассвете подул такой сильный ветер, что капли дождя замерзли на высоких деревь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Утром лесничий открыл двери своего домика, оглянулся и воскликнул: «Лес-то ледяной!». Мальчик высунул голову из дверей и проговорил: «Деревья стеклянны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арик и мальчик вышли из дома. Лес стоял причудливый, необычный. Все кругом обледенело. Даже самая тоненькая веточка была заключена в стеклянную трубочку. Деревья склонились под тяжелым ледяным грузом, словно задум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. Васильев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00000" y="5516640"/>
            <a:ext cx="7344000" cy="825480"/>
          </a:xfrm>
          <a:prstGeom prst="rect">
            <a:avLst/>
          </a:prstGeom>
          <a:noFill/>
          <a:ln w="2844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Monotype Corsiva"/>
              </a:rPr>
              <a:t>Выписать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из текста </a:t>
            </a:r>
            <a:r>
              <a:rPr b="1" lang="ru-RU" sz="2800" spc="-1" strike="noStrike">
                <a:solidFill>
                  <a:srgbClr val="008000"/>
                </a:solidFill>
                <a:latin typeface="Monotype Corsiva"/>
              </a:rPr>
              <a:t>слова с приставк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 графически их выдел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59280" y="76500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Monotype Corsiva"/>
              </a:rPr>
              <a:t>Пристав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76360" y="1916280"/>
          <a:ext cx="6095880" cy="1455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мен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еизмен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826920" y="1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шите в тетрад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39640" y="836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бежать, приехать, приплыть, приблиз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0920" y="1700280"/>
            <a:ext cx="7777080" cy="825480"/>
          </a:xfrm>
          <a:prstGeom prst="rect">
            <a:avLst/>
          </a:prstGeom>
          <a:noFill/>
          <a:ln w="2844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 вы думаете, какое значение придает этим словам приставка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50920" y="2924280"/>
            <a:ext cx="7777080" cy="2019960"/>
          </a:xfrm>
          <a:prstGeom prst="rect">
            <a:avLst/>
          </a:prstGeom>
          <a:noFill/>
          <a:ln w="2844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бавьте слова, обозначающие прибли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еловека, самолета, лод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оезда к станции, Луны к поверхности Земл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Зайца, черепа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981000"/>
            <a:ext cx="896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етской передаче «Радионяня» герои пели песню о том, как лучше запомнить правило о приставке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Есть там такой куп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476360" y="1916280"/>
            <a:ext cx="619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был ли поезд, приплыл тепло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смонавт прилетел из Вселенной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ловах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идет, прилетит, приплы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ишется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, несомн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39640" y="4365720"/>
            <a:ext cx="7345440" cy="520560"/>
          </a:xfrm>
          <a:prstGeom prst="rect">
            <a:avLst/>
          </a:prstGeom>
          <a:noFill/>
          <a:ln w="2844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пишите из четверостишия слова с приставкой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95280" y="189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овори правиль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843280" y="1197000"/>
            <a:ext cx="2808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б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4140360" y="1125360"/>
            <a:ext cx="72720" cy="2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 flipH="1">
            <a:off x="4140360" y="2565360"/>
            <a:ext cx="7272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642920" y="4005360"/>
            <a:ext cx="730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836640"/>
            <a:ext cx="79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е в тетрадь, найти грамматическую основу, составить схему предложения, дать его характерис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24000" y="1844640"/>
            <a:ext cx="748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Мы с нетерпением ждали, когда к нам в сад опять прилетят старые знако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(А. Купр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50920" y="3357720"/>
            <a:ext cx="741672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сать из второй части предложения глагол, разобрать его по соста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50920" y="4365720"/>
            <a:ext cx="741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акие морфологические признаки указывает его оконча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0920" y="5445000"/>
            <a:ext cx="74898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о значение приставки? Приведите примеры 2 – 3 слов с таким же значением при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6:37:20Z</dcterms:created>
  <dc:creator>Сергей Сергеевич</dc:creator>
  <dc:description/>
  <dc:language>en-US</dc:language>
  <cp:lastModifiedBy>Наташа</cp:lastModifiedBy>
  <dcterms:modified xsi:type="dcterms:W3CDTF">2019-10-16T13:33:51Z</dcterms:modified>
  <cp:revision>7</cp:revision>
  <dc:subject/>
  <dc:title>Гласные в приставках  пре- и при-</dc:title>
</cp:coreProperties>
</file>