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44BB-EDC3-48FC-89EE-F274A504B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3E41-7C66-441E-9CCB-799DE870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AEEA-0C75-465D-94E5-1498DD4F9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BA16-14D4-42F7-B4BC-7DD594891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AF7B-C360-4CF4-A1F4-0C47B9EE2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1E3A-CD1F-4C36-A26E-4FAFA303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B0B4-CF50-4F71-A960-66D48243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D96D-E5CD-4A5E-AD16-7755336D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06F9D-2247-4469-8E57-5B379A2A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E5B98-AE1A-4C05-9F34-1D1C94C1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707BC-B5D4-4CE1-96A6-1B6E7233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150D-3377-4AE2-A231-D3F68CC3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2E3C-D0DC-480D-BB47-BD27C9AE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98D2-F6F0-4A57-B950-D6359F0C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26B5-C395-4362-A879-3477CACF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9593-30D1-49F4-9604-4D86CD3F5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AC82-3C75-42CA-9B34-7C5EE6B0D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33FBC6-1A00-4CEF-9447-B792BCB78A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6A667D-3C9A-4850-A210-7DEB3776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9C9B64-85F5-4763-81C2-901B0431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B8A8F4-78FF-474E-8D9C-D58AFC65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9CD672-83F6-40C1-840F-2E2A5D8AA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4D25-2C96-4830-B028-3E92FA8B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F10652-A753-4FEE-AC1E-EEEA89266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4552E1-11A7-47CD-823C-8642788D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F21EAA-8A33-43BA-B3E2-947EA0F0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D3DED9-51EC-4313-843B-7F4C3337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7CF574-529B-4FC6-A476-78301AFD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003DF9-43CA-4D0C-87BD-19198217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00DEBA-1379-4DF3-87A0-C2A860CF96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50F7-E43D-47CC-91E9-9427068E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961D-7FC1-4207-B032-5406145D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1895-B9D8-47FB-8545-0E546534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6483-8929-4576-A02D-24153FB6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5D63-DE9B-4BCE-9120-4DB87729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5976-8981-4D76-A9DB-2023F88B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0"/>
            <a:ext cx="9144000" cy="766800"/>
          </a:xfrm>
          <a:prstGeom prst="rect">
            <a:avLst/>
          </a:prstGeom>
          <a:solidFill>
            <a:srgbClr val="328c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7"/>
          <p:cNvSpPr/>
          <p:nvPr/>
        </p:nvSpPr>
        <p:spPr>
          <a:xfrm>
            <a:off x="0" y="6562800"/>
            <a:ext cx="9144000" cy="304560"/>
          </a:xfrm>
          <a:prstGeom prst="rect">
            <a:avLst/>
          </a:prstGeom>
          <a:solidFill>
            <a:srgbClr val="1b4e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18"/>
          <p:cNvSpPr/>
          <p:nvPr/>
        </p:nvSpPr>
        <p:spPr>
          <a:xfrm>
            <a:off x="133200" y="6380280"/>
            <a:ext cx="304920" cy="334800"/>
          </a:xfrm>
          <a:prstGeom prst="diamond">
            <a:avLst/>
          </a:prstGeom>
          <a:solidFill>
            <a:srgbClr val="328c8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380880" y="6567120"/>
            <a:ext cx="243864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3657240" y="6551640"/>
            <a:ext cx="21337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5F41-8ACF-4571-8716-F3F5072FCEC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13"/>
          <p:cNvSpPr/>
          <p:nvPr/>
        </p:nvSpPr>
        <p:spPr>
          <a:xfrm>
            <a:off x="8153280" y="2620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14"/>
          <p:cNvSpPr/>
          <p:nvPr/>
        </p:nvSpPr>
        <p:spPr>
          <a:xfrm rot="5400000">
            <a:off x="8458200" y="-196920"/>
            <a:ext cx="272880" cy="86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091" y="822"/>
                  <a:pt x="4581" y="5080"/>
                  <a:pt x="4581" y="10800"/>
                </a:cubicBezTo>
                <a:cubicBezTo>
                  <a:pt x="4581" y="16520"/>
                  <a:pt x="13091" y="2077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dc8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9" descr=""/>
          <p:cNvPicPr/>
          <p:nvPr/>
        </p:nvPicPr>
        <p:blipFill>
          <a:blip r:embed="rId2"/>
          <a:stretch/>
        </p:blipFill>
        <p:spPr>
          <a:xfrm>
            <a:off x="7772400" y="0"/>
            <a:ext cx="1371600" cy="76032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Rectangle 20"/>
          <p:cNvSpPr/>
          <p:nvPr/>
        </p:nvSpPr>
        <p:spPr>
          <a:xfrm>
            <a:off x="7772400" y="762120"/>
            <a:ext cx="1371600" cy="4800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dc03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28c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52F0-CCA7-46A2-9343-14FF97841C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Object 17"/>
          <p:cNvGraphicFramePr/>
          <p:nvPr/>
        </p:nvGraphicFramePr>
        <p:xfrm>
          <a:off x="2114640" y="0"/>
          <a:ext cx="7029360" cy="327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14640" y="0"/>
                    <a:ext cx="702936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Rectangle 18"/>
          <p:cNvSpPr/>
          <p:nvPr/>
        </p:nvSpPr>
        <p:spPr>
          <a:xfrm>
            <a:off x="0" y="0"/>
            <a:ext cx="2133720" cy="3200400"/>
          </a:xfrm>
          <a:prstGeom prst="rect">
            <a:avLst/>
          </a:prstGeom>
          <a:solidFill>
            <a:srgbClr val="328c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0" y="32004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0" y="3352680"/>
            <a:ext cx="2133720" cy="3505320"/>
          </a:xfrm>
          <a:prstGeom prst="rect">
            <a:avLst/>
          </a:prstGeom>
          <a:solidFill>
            <a:srgbClr val="1b4e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457200" y="457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dc03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28c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8c83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328c83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3580920" y="650844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8"/>
          </p:nvPr>
        </p:nvSpPr>
        <p:spPr>
          <a:xfrm>
            <a:off x="655272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ADFD-7767-4F5A-8B7B-B87E18FD0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85840" y="4221000"/>
            <a:ext cx="705816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Гласные в приставках </a:t>
            </a:r>
            <a:br>
              <a:rPr sz="4000"/>
            </a:br>
            <a:r>
              <a:rPr b="1" i="1" lang="ru-RU" sz="4000" spc="-1" strike="noStrike">
                <a:solidFill>
                  <a:srgbClr val="000099"/>
                </a:solidFill>
                <a:latin typeface="Times New Roman"/>
              </a:rPr>
              <a:t>пре-</a:t>
            </a: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 и </a:t>
            </a:r>
            <a:r>
              <a:rPr b="1" i="1" lang="ru-RU" sz="4000" spc="-1" strike="noStrike">
                <a:solidFill>
                  <a:srgbClr val="000099"/>
                </a:solidFill>
                <a:latin typeface="Times New Roman"/>
              </a:rPr>
              <a:t>при-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over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Дата 1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Нижний колонтитул 2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324000" y="98100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ставка </a:t>
            </a: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при-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может обозначать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рисоединение к чему-либ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395280" y="306864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менить данные словосочетания одним слов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539640" y="364500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Присоединить с помощью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1) веревки; 2) молотка и гвоздей; 3) иголки с ниткой; 4) клея; 5) винтов и шуруп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Дата 1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Нижний колонтитул 2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395280" y="98100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т как об этом пелось в «Радионяне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826920" y="1557360"/>
            <a:ext cx="6985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Винт привинтил, прикрутил колес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Приклеил, пришил умело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Пишем мы </a:t>
            </a: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при-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, говоря обо все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Что добрые руки придел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Дата 1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Нижний колонтитул 2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"/>
          <p:cNvSpPr/>
          <p:nvPr/>
        </p:nvSpPr>
        <p:spPr>
          <a:xfrm>
            <a:off x="179280" y="981000"/>
            <a:ext cx="7417080" cy="703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словам, имеющим смысл присоединения, относятся и такие, которые обозначают добавление к чему-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250920" y="2205000"/>
            <a:ext cx="73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исать в тетрадь слова, определить, какие из них не имеют оттенка присоеди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395280" y="2997360"/>
            <a:ext cx="7273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Привинтить, пристрелить, прикрутить, прицепи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Причесать, присоветова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Приготовить, прилепить, причалить, пришвартоваться, прикрикну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Дата 1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Нижний колонтитул 2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324000" y="98100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менить словосочетания словами с приставкой </a:t>
            </a: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при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476360" y="1700280"/>
            <a:ext cx="5832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Участок при школ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Полоса около мор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Город на Волг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Чуть-чуть открыть ок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Умолкнуть на короткое врем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Слегка затворить двер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Дата 1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Нижний колонтитул 2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324000" y="981000"/>
            <a:ext cx="72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исать словосочетания, объяснить написание гласной в пристав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468360" y="1989000"/>
            <a:ext cx="7128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Прикрыть книг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Придорожный кус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Приступить к дел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Призадуматься над задач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Прирасти к дере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Дата 1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Нижний колонтитул 2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523880" y="1397160"/>
          <a:ext cx="6096240" cy="4792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лова с приставкой </a:t>
                      </a:r>
                      <a:r>
                        <a:rPr b="1" i="1" lang="ru-RU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при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Значение приставки в этих слов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При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соеди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При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ж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бли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При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ьны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лиз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При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кры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полное действ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Line 38"/>
          <p:cNvSpPr/>
          <p:nvPr/>
        </p:nvSpPr>
        <p:spPr>
          <a:xfrm>
            <a:off x="1619280" y="2708280"/>
            <a:ext cx="50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40"/>
          <p:cNvSpPr/>
          <p:nvPr/>
        </p:nvSpPr>
        <p:spPr>
          <a:xfrm>
            <a:off x="2124000" y="270828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1"/>
          <p:cNvSpPr/>
          <p:nvPr/>
        </p:nvSpPr>
        <p:spPr>
          <a:xfrm>
            <a:off x="1619280" y="4005360"/>
            <a:ext cx="50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2"/>
          <p:cNvSpPr/>
          <p:nvPr/>
        </p:nvSpPr>
        <p:spPr>
          <a:xfrm>
            <a:off x="2124000" y="400536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47"/>
          <p:cNvSpPr/>
          <p:nvPr/>
        </p:nvSpPr>
        <p:spPr>
          <a:xfrm>
            <a:off x="1619280" y="5661000"/>
            <a:ext cx="50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48"/>
          <p:cNvSpPr/>
          <p:nvPr/>
        </p:nvSpPr>
        <p:spPr>
          <a:xfrm>
            <a:off x="2124000" y="566100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49"/>
          <p:cNvSpPr/>
          <p:nvPr/>
        </p:nvSpPr>
        <p:spPr>
          <a:xfrm>
            <a:off x="1692360" y="4797360"/>
            <a:ext cx="50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50"/>
          <p:cNvSpPr/>
          <p:nvPr/>
        </p:nvSpPr>
        <p:spPr>
          <a:xfrm>
            <a:off x="2197080" y="479736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Дата 1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Нижний колонтитул 2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539640" y="692280"/>
          <a:ext cx="8353440" cy="5472000"/>
        </p:xfrm>
        <a:graphic>
          <a:graphicData uri="http://schemas.openxmlformats.org/drawingml/2006/table">
            <a:tbl>
              <a:tblPr/>
              <a:tblGrid>
                <a:gridCol w="3672000"/>
                <a:gridCol w="4681440"/>
              </a:tblGrid>
              <a:tr h="94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лова с приставкой </a:t>
                      </a:r>
                      <a:r>
                        <a:rPr b="1" i="1" lang="ru-RU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пре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Значение приставки в этих слов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Пре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бав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ходно со значением слова оч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Пре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кой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ходно со значением слова оч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Пре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велич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ходно со значением слова оч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Пре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в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ходно со значением приставки </a:t>
                      </a:r>
                      <a:r>
                        <a:rPr b="1" i="1" lang="ru-RU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пере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Пре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ад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ходно со значением приставки </a:t>
                      </a:r>
                      <a:r>
                        <a:rPr b="1" i="1" lang="ru-RU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пере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Line 18"/>
          <p:cNvSpPr/>
          <p:nvPr/>
        </p:nvSpPr>
        <p:spPr>
          <a:xfrm>
            <a:off x="611280" y="2060640"/>
            <a:ext cx="50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1114560" y="206064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44"/>
          <p:cNvSpPr/>
          <p:nvPr/>
        </p:nvSpPr>
        <p:spPr>
          <a:xfrm>
            <a:off x="684360" y="3933720"/>
            <a:ext cx="50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5"/>
          <p:cNvSpPr/>
          <p:nvPr/>
        </p:nvSpPr>
        <p:spPr>
          <a:xfrm>
            <a:off x="1189080" y="3933720"/>
            <a:ext cx="0" cy="14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47"/>
          <p:cNvSpPr/>
          <p:nvPr/>
        </p:nvSpPr>
        <p:spPr>
          <a:xfrm>
            <a:off x="611280" y="5661000"/>
            <a:ext cx="50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48"/>
          <p:cNvSpPr/>
          <p:nvPr/>
        </p:nvSpPr>
        <p:spPr>
          <a:xfrm>
            <a:off x="1116000" y="566100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49"/>
          <p:cNvSpPr/>
          <p:nvPr/>
        </p:nvSpPr>
        <p:spPr>
          <a:xfrm>
            <a:off x="611280" y="4797360"/>
            <a:ext cx="50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50"/>
          <p:cNvSpPr/>
          <p:nvPr/>
        </p:nvSpPr>
        <p:spPr>
          <a:xfrm>
            <a:off x="1116000" y="479736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53"/>
          <p:cNvSpPr/>
          <p:nvPr/>
        </p:nvSpPr>
        <p:spPr>
          <a:xfrm>
            <a:off x="611280" y="2997360"/>
            <a:ext cx="50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54"/>
          <p:cNvSpPr/>
          <p:nvPr/>
        </p:nvSpPr>
        <p:spPr>
          <a:xfrm>
            <a:off x="1114560" y="299736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Дата 1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Нижний колонтитул 2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250920" y="1341360"/>
          <a:ext cx="8893080" cy="4064040"/>
        </p:xfrm>
        <a:graphic>
          <a:graphicData uri="http://schemas.openxmlformats.org/drawingml/2006/table">
            <a:tbl>
              <a:tblPr/>
              <a:tblGrid>
                <a:gridCol w="4716360"/>
                <a:gridCol w="4176720"/>
              </a:tblGrid>
              <a:tr h="406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В прекрасном замке на го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Жила-была приставка </a:t>
                      </a:r>
                      <a:r>
                        <a:rPr b="1" i="1" lang="ru-RU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пре-</a:t>
                      </a: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Особа преотважная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Важная-преважна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Гордая-прегордая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Добрая-предобра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Ее считали очень мудрой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И называли все премудро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Был у нее прелестный пудел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рехрабрый пес по кличке Дудел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Он преспокойно спал у двери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Когда вошла приставка </a:t>
                      </a:r>
                      <a:r>
                        <a:rPr b="1" i="1" lang="ru-RU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пере-</a:t>
                      </a: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Она сказала: «На за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Я уезжаю. Друг мой, пре-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Меня не будет два-три дня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Ты поработай за мен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озаменяй меня, прошу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покойной ночи. Я спеш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Text Box 47"/>
          <p:cNvSpPr/>
          <p:nvPr/>
        </p:nvSpPr>
        <p:spPr>
          <a:xfrm>
            <a:off x="6588000" y="486900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 Кают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Дата 1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Нижний колонтитул 2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1258920" y="18900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ъяснительный 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2124000" y="765000"/>
            <a:ext cx="51847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риморский кра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Сидел преспокойн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Лес преобразил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рекрасная музы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Слегка прихрамыва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рервать рассказ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ривести пример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риглушить св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рерывистые зву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ризадуматься над пробле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ревратить в чудовищ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риклонить к земл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рекратить разгов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Дата 1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Нижний колонтитул 2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"/>
          <p:cNvSpPr/>
          <p:nvPr/>
        </p:nvSpPr>
        <p:spPr>
          <a:xfrm>
            <a:off x="684360" y="260280"/>
            <a:ext cx="626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95280" y="18900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«Словарь трудных сло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611280" y="1413000"/>
            <a:ext cx="7057800" cy="1373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Преимущество, препятствие, пренебрежение, предание, приключение, прият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Дата 3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ижний колонтитул 4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ловарный диктант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24000" y="934920"/>
          <a:ext cx="8229600" cy="5486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.Сокровищ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рисутствов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. Сопер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Вопре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. Искус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Искус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4. Биограф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репят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5. Преимуще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Изменя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6.Знаки препин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ренебреч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7.Поража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резидиу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8.Мане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Уважите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9. Причудлив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Террито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0. Декора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Иллюстра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1. Приключ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редания стари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2. Привиле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риспособи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Дата 1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Нижний колонтитул 2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468360" y="18900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упредительный дик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250920" y="981000"/>
            <a:ext cx="741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Пре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неприятный разговор,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при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ободрить товарищей, Василиса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Пре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мудрая,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пре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скверный характер,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пре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удивительная история,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при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мирить друзей,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пре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одаватель, старинные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пре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ания,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при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сутствовать на лекции,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пре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кращать разговор,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пре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следовать оле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Дата 1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Нижний колонтитул 2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250920" y="90792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обрать к данным словам антонимы с приставками </a:t>
            </a: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пре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 </a:t>
            </a: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при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2916360" y="1700280"/>
            <a:ext cx="3960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Удалять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Убежа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Ускака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Ленив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Отозва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Убавля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Отли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Уважа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Отсутствова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Отталки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Дата 1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Нижний колонтитул 2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324000" y="981000"/>
            <a:ext cx="69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менить слова и словосочетания словами-синонимами с приставками </a:t>
            </a: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пре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при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468360" y="2060640"/>
            <a:ext cx="48974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Воплотить в жизн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Затрудне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Первое представление спектакл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Леген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Человек, нарушивший зак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4211640" y="206064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3492360" y="2060640"/>
            <a:ext cx="331164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Претворить в жиз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2556000" y="2492280"/>
            <a:ext cx="352872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препят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5219640" y="2924280"/>
            <a:ext cx="223200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премь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763640" y="3500280"/>
            <a:ext cx="28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1763640" y="3429000"/>
            <a:ext cx="237672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пред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4356000" y="3860640"/>
            <a:ext cx="25923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преступ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Дата 1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Нижний колонтитул 2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"/>
          <p:cNvSpPr/>
          <p:nvPr/>
        </p:nvSpPr>
        <p:spPr>
          <a:xfrm>
            <a:off x="250920" y="18900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писать в «Словарь трудных сл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0" y="1125360"/>
            <a:ext cx="439272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Прибы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приезжа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Приёмни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аппарат для приёма сигнал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Призре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приюти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Приступи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нача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Притвори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закры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Прида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добави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Приходящи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кто приходи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4643280" y="1125360"/>
            <a:ext cx="431964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Пребыва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находиться где-нибуд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Преемни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продолжател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Презира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не уважа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Преступи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зако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Претвори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осуществи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Преда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предел, выда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Преходяще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временно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6"/>
          <p:cNvSpPr/>
          <p:nvPr/>
        </p:nvSpPr>
        <p:spPr>
          <a:xfrm>
            <a:off x="4356000" y="981000"/>
            <a:ext cx="0" cy="561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Дата 1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Нижний колонтитул 2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395280" y="18900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яснительный дик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395280" y="1413000"/>
            <a:ext cx="734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1) Отец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при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зрел сироту. 2) Не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пре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зирай совета ничьего. (И.А. Крылов.) 3) Не хлопай дверью,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при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вори её. 4) Очень важно суметь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пре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ворить в жизнь свои планы. 5) Поезд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при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бывает вовремя. 6) Во время своего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пре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бывания в городе мы посетили многие достопримечательности. 7) Он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при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авал большое значение к умению говорить точ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Дата 1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Нижний колонтитул 2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"/>
          <p:cNvSpPr/>
          <p:nvPr/>
        </p:nvSpPr>
        <p:spPr>
          <a:xfrm>
            <a:off x="250920" y="189000"/>
            <a:ext cx="76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писать в «Словарь трудных слов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611280" y="1700280"/>
            <a:ext cx="698508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ричудливый, причина, приключение, приоритет , президент, привилег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Дата 1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Нижний колонтитул 2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1116000" y="189000"/>
            <a:ext cx="55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борочный дик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1908000" y="105264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пре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4"/>
          <p:cNvSpPr/>
          <p:nvPr/>
        </p:nvSpPr>
        <p:spPr>
          <a:xfrm>
            <a:off x="4284720" y="1125360"/>
            <a:ext cx="0" cy="525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5724360" y="105264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при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4500720" y="1844640"/>
            <a:ext cx="3240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рибежа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неприступ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ристрои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рисутствова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риме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рикоснове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7"/>
          <p:cNvSpPr/>
          <p:nvPr/>
        </p:nvSpPr>
        <p:spPr>
          <a:xfrm>
            <a:off x="250920" y="1700280"/>
            <a:ext cx="39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468360" y="1700280"/>
            <a:ext cx="352908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рервать, преодолеть, препятствие, пренебрежительно, беспрекословно, пребогатый, преградить, претихий, предобрый, преспокой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Дата 1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Нижний колонтитул 2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1835280" y="18900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роверь себ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0" y="765000"/>
            <a:ext cx="87850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ледниковый период на Земле в пещерах жили пещерные медведи. Они часто опускались до больших глубин,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пре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долевали в подземельях различные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пре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рады. Они карабкались по отвесным стенам узких колодцев, проползали по узким коридорам пещер, в которых трудно было даже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пр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дняться. Бес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пре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ельная тьма пещер не пугала их. Здесь звери резвились, взбирались по склонам горок, скатывались вн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По И. Акимушкину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324000" y="4724280"/>
            <a:ext cx="88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ыпишите слова, строение которых соответствует схема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395280" y="5229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Глагол -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324000" y="580536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Прилагательное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7"/>
          <p:cNvSpPr/>
          <p:nvPr/>
        </p:nvSpPr>
        <p:spPr>
          <a:xfrm>
            <a:off x="2050920" y="522936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8"/>
          <p:cNvSpPr/>
          <p:nvPr/>
        </p:nvSpPr>
        <p:spPr>
          <a:xfrm>
            <a:off x="2843280" y="522936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rc 9"/>
          <p:cNvSpPr/>
          <p:nvPr/>
        </p:nvSpPr>
        <p:spPr>
          <a:xfrm flipV="1" rot="13285800">
            <a:off x="3131640" y="5083920"/>
            <a:ext cx="574920" cy="503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rc 10"/>
          <p:cNvSpPr/>
          <p:nvPr/>
        </p:nvSpPr>
        <p:spPr>
          <a:xfrm flipV="1" rot="13285800">
            <a:off x="3131640" y="5804640"/>
            <a:ext cx="574920" cy="503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1"/>
          <p:cNvSpPr/>
          <p:nvPr/>
        </p:nvSpPr>
        <p:spPr>
          <a:xfrm flipV="1">
            <a:off x="3924360" y="5157360"/>
            <a:ext cx="36036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2"/>
          <p:cNvSpPr/>
          <p:nvPr/>
        </p:nvSpPr>
        <p:spPr>
          <a:xfrm>
            <a:off x="4284720" y="5157720"/>
            <a:ext cx="36036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3"/>
          <p:cNvSpPr/>
          <p:nvPr/>
        </p:nvSpPr>
        <p:spPr>
          <a:xfrm flipV="1">
            <a:off x="4788000" y="5157360"/>
            <a:ext cx="36036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4"/>
          <p:cNvSpPr/>
          <p:nvPr/>
        </p:nvSpPr>
        <p:spPr>
          <a:xfrm>
            <a:off x="5148360" y="5157720"/>
            <a:ext cx="36036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5"/>
          <p:cNvSpPr/>
          <p:nvPr/>
        </p:nvSpPr>
        <p:spPr>
          <a:xfrm flipV="1">
            <a:off x="3995640" y="5733720"/>
            <a:ext cx="36036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6"/>
          <p:cNvSpPr/>
          <p:nvPr/>
        </p:nvSpPr>
        <p:spPr>
          <a:xfrm>
            <a:off x="4356000" y="5734080"/>
            <a:ext cx="36036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7"/>
          <p:cNvSpPr/>
          <p:nvPr/>
        </p:nvSpPr>
        <p:spPr>
          <a:xfrm flipV="1">
            <a:off x="4788000" y="5733720"/>
            <a:ext cx="36036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8"/>
          <p:cNvSpPr/>
          <p:nvPr/>
        </p:nvSpPr>
        <p:spPr>
          <a:xfrm>
            <a:off x="5148360" y="5734080"/>
            <a:ext cx="36036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9"/>
          <p:cNvSpPr/>
          <p:nvPr/>
        </p:nvSpPr>
        <p:spPr>
          <a:xfrm>
            <a:off x="5651640" y="5157720"/>
            <a:ext cx="502920" cy="43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0"/>
          <p:cNvSpPr/>
          <p:nvPr/>
        </p:nvSpPr>
        <p:spPr>
          <a:xfrm>
            <a:off x="5651640" y="5734080"/>
            <a:ext cx="502920" cy="433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4"/>
          <p:cNvSpPr/>
          <p:nvPr/>
        </p:nvSpPr>
        <p:spPr>
          <a:xfrm>
            <a:off x="0" y="189000"/>
            <a:ext cx="83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Вставить пропущенную гласную в пристав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250920" y="907920"/>
          <a:ext cx="8642160" cy="4724640"/>
        </p:xfrm>
        <a:graphic>
          <a:graphicData uri="http://schemas.openxmlformats.org/drawingml/2006/table">
            <a:tbl>
              <a:tblPr/>
              <a:tblGrid>
                <a:gridCol w="2952720"/>
                <a:gridCol w="3105000"/>
                <a:gridCol w="2584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…ех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..хорош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…сыти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…быть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воврем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…стро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…небреч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…близи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…ветствов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…чудлив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…глад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…творить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в жизнь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…кле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епр…язнен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…пят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…одоле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…вознос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…стран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…сво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епр…рыв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…клон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…дать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вид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…виле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…зирать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ложь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…бывать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в горах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…леж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епр…одолим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еспр…де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Text Box 65"/>
          <p:cNvSpPr/>
          <p:nvPr/>
        </p:nvSpPr>
        <p:spPr>
          <a:xfrm>
            <a:off x="684360" y="9079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6"/>
          <p:cNvSpPr/>
          <p:nvPr/>
        </p:nvSpPr>
        <p:spPr>
          <a:xfrm>
            <a:off x="684360" y="1341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67"/>
          <p:cNvSpPr/>
          <p:nvPr/>
        </p:nvSpPr>
        <p:spPr>
          <a:xfrm>
            <a:off x="684360" y="2276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68"/>
          <p:cNvSpPr/>
          <p:nvPr/>
        </p:nvSpPr>
        <p:spPr>
          <a:xfrm>
            <a:off x="684360" y="1844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9"/>
          <p:cNvSpPr/>
          <p:nvPr/>
        </p:nvSpPr>
        <p:spPr>
          <a:xfrm>
            <a:off x="971640" y="3068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0"/>
          <p:cNvSpPr/>
          <p:nvPr/>
        </p:nvSpPr>
        <p:spPr>
          <a:xfrm>
            <a:off x="684360" y="4437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1"/>
          <p:cNvSpPr/>
          <p:nvPr/>
        </p:nvSpPr>
        <p:spPr>
          <a:xfrm>
            <a:off x="684360" y="5157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2"/>
          <p:cNvSpPr/>
          <p:nvPr/>
        </p:nvSpPr>
        <p:spPr>
          <a:xfrm>
            <a:off x="3635280" y="1341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73"/>
          <p:cNvSpPr/>
          <p:nvPr/>
        </p:nvSpPr>
        <p:spPr>
          <a:xfrm>
            <a:off x="6732720" y="2276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74"/>
          <p:cNvSpPr/>
          <p:nvPr/>
        </p:nvSpPr>
        <p:spPr>
          <a:xfrm>
            <a:off x="6732720" y="1844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5"/>
          <p:cNvSpPr/>
          <p:nvPr/>
        </p:nvSpPr>
        <p:spPr>
          <a:xfrm>
            <a:off x="3564000" y="1844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6"/>
          <p:cNvSpPr/>
          <p:nvPr/>
        </p:nvSpPr>
        <p:spPr>
          <a:xfrm>
            <a:off x="6732720" y="3933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77"/>
          <p:cNvSpPr/>
          <p:nvPr/>
        </p:nvSpPr>
        <p:spPr>
          <a:xfrm>
            <a:off x="6732720" y="3500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78"/>
          <p:cNvSpPr/>
          <p:nvPr/>
        </p:nvSpPr>
        <p:spPr>
          <a:xfrm>
            <a:off x="971640" y="3933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9"/>
          <p:cNvSpPr/>
          <p:nvPr/>
        </p:nvSpPr>
        <p:spPr>
          <a:xfrm>
            <a:off x="684360" y="3500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80"/>
          <p:cNvSpPr/>
          <p:nvPr/>
        </p:nvSpPr>
        <p:spPr>
          <a:xfrm>
            <a:off x="3635280" y="2276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81"/>
          <p:cNvSpPr/>
          <p:nvPr/>
        </p:nvSpPr>
        <p:spPr>
          <a:xfrm>
            <a:off x="3564000" y="9079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82"/>
          <p:cNvSpPr/>
          <p:nvPr/>
        </p:nvSpPr>
        <p:spPr>
          <a:xfrm>
            <a:off x="3635280" y="3500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3"/>
          <p:cNvSpPr/>
          <p:nvPr/>
        </p:nvSpPr>
        <p:spPr>
          <a:xfrm>
            <a:off x="3635280" y="3068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84"/>
          <p:cNvSpPr/>
          <p:nvPr/>
        </p:nvSpPr>
        <p:spPr>
          <a:xfrm>
            <a:off x="3635280" y="3933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85"/>
          <p:cNvSpPr/>
          <p:nvPr/>
        </p:nvSpPr>
        <p:spPr>
          <a:xfrm>
            <a:off x="3924360" y="5157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86"/>
          <p:cNvSpPr/>
          <p:nvPr/>
        </p:nvSpPr>
        <p:spPr>
          <a:xfrm>
            <a:off x="3635280" y="4437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87"/>
          <p:cNvSpPr/>
          <p:nvPr/>
        </p:nvSpPr>
        <p:spPr>
          <a:xfrm>
            <a:off x="6732720" y="9079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8"/>
          <p:cNvSpPr/>
          <p:nvPr/>
        </p:nvSpPr>
        <p:spPr>
          <a:xfrm>
            <a:off x="6732720" y="1413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89"/>
          <p:cNvSpPr/>
          <p:nvPr/>
        </p:nvSpPr>
        <p:spPr>
          <a:xfrm>
            <a:off x="6732720" y="4437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90"/>
          <p:cNvSpPr/>
          <p:nvPr/>
        </p:nvSpPr>
        <p:spPr>
          <a:xfrm>
            <a:off x="6732720" y="3068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91"/>
          <p:cNvSpPr/>
          <p:nvPr/>
        </p:nvSpPr>
        <p:spPr>
          <a:xfrm>
            <a:off x="7164360" y="5157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Дата 1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Нижний колонтитул 2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1258920" y="189000"/>
            <a:ext cx="568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1908000" y="18900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верь себ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324000" y="981000"/>
            <a:ext cx="835164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        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Пр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е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подаватель географии пр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е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дложил нам изучать природу родного края. В нашем районе нет непр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и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ступных гор, непроходимых болот, но есть пр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е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лестные уголки, беспр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е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дельные дали, места, связанные с пр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е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даниями о славном прошлом родной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       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Соприкосновение с природой всегда прекрасно! В лесу мы собираем растения, подбираем пр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и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чудливые корни деревьев, не пр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е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небрегаем шишками, перышками, потому что это пр</a:t>
            </a:r>
            <a:r>
              <a:rPr b="1" i="1" lang="ru-RU" sz="2400" spc="-1" strike="noStrike">
                <a:solidFill>
                  <a:srgbClr val="008000"/>
                </a:solidFill>
                <a:latin typeface="Georgia"/>
              </a:rPr>
              <a:t>и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годится нам для игрушек на ел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                                                           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(По А. Хазановой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Дата 1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ижний колонтитул 2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979640" y="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арный 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39640" y="1397160"/>
          <a:ext cx="7417080" cy="4090680"/>
        </p:xfrm>
        <a:graphic>
          <a:graphicData uri="http://schemas.openxmlformats.org/drawingml/2006/table">
            <a:tbl>
              <a:tblPr/>
              <a:tblGrid>
                <a:gridCol w="3708360"/>
                <a:gridCol w="3708720"/>
              </a:tblGrid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3. Впечат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риобре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4. Неприступ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ознав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5. Ровес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верст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6. Преподав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Раздава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7. Раздраж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Объясн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8. Прибавля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ризнав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9. Преодоле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ознав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0. Сожале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Обвиня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4"/>
          <p:cNvSpPr/>
          <p:nvPr/>
        </p:nvSpPr>
        <p:spPr>
          <a:xfrm>
            <a:off x="900000" y="18900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исать, выделить приставки</a:t>
            </a: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 пре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при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324000" y="1125360"/>
            <a:ext cx="842472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        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Осенью лес молчит. Прислушайся! Какая стоит тишь! В предчувствии холодов приумолкли птицы. Ветка слегка согнулась и прикоснулась к твоему лицу. Беспредельная радость охватывает тебя. В такую пору особую радость приносит рабочая музыка дят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        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Березки шелестят своими золотыми монетками. Природа зовет, манит к себе. Настроение приподнимается. Кажется, что преодолимы все препят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                                                                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(По В. Пескову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Дата 3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Нижний колонтитул 4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328c83"/>
              </a:solidFill>
              <a:latin typeface="Verdana"/>
            </a:endParaRPr>
          </a:p>
        </p:txBody>
      </p:sp>
    </p:spTree>
  </p:cSld>
  <p:transition spd="med">
    <p:cover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2819160" y="4952520"/>
            <a:ext cx="5167080" cy="4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company slogan .</a:t>
            </a:r>
            <a:endParaRPr b="1" lang="en-US" sz="1600" spc="-1" strike="noStrike">
              <a:solidFill>
                <a:srgbClr val="328c83"/>
              </a:solidFill>
              <a:latin typeface="Verdana"/>
            </a:endParaRPr>
          </a:p>
        </p:txBody>
      </p:sp>
    </p:spTree>
  </p:cSld>
  <p:transition spd="med"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Дата 3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ижний колонтитул 4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324000" y="0"/>
            <a:ext cx="74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читайте текст, озаглавьте его. Перескажите, используя эпитеты тек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50920" y="765000"/>
            <a:ext cx="842472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Всю ночь шел дождь. На рассвете подул такой сильный ветер, что капли дождя замерзли на высоких деревь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Утром лесничий открыл двери своего домика, оглянулся и воскликнул: «Лес-то ледяной!». Мальчик высунул голову из дверей и проговорил: «Деревья стеклянные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Старик и мальчик вышли из дома. Лес стоял причудливый, необычный. Все кругом обледенело. Даже самая тоненькая веточка была заключена в стеклянную трубочку. Деревья склонились под тяжелым ледяным грузом, словно задумал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П. Васильева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900000" y="5516640"/>
            <a:ext cx="7344000" cy="825480"/>
          </a:xfrm>
          <a:prstGeom prst="rect">
            <a:avLst/>
          </a:prstGeom>
          <a:noFill/>
          <a:ln w="28440">
            <a:solidFill>
              <a:srgbClr val="1b4e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Monotype Corsiva"/>
              </a:rPr>
              <a:t>Выписать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из текста </a:t>
            </a:r>
            <a:r>
              <a:rPr b="1" lang="ru-RU" sz="2800" spc="-1" strike="noStrike">
                <a:solidFill>
                  <a:srgbClr val="008000"/>
                </a:solidFill>
                <a:latin typeface="Monotype Corsiva"/>
              </a:rPr>
              <a:t>слова с приставками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, графически их выдел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Дата 1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Нижний колонтитул 2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3059280" y="765000"/>
            <a:ext cx="287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8000"/>
                </a:solidFill>
                <a:latin typeface="Monotype Corsiva"/>
              </a:rPr>
              <a:t>Пристав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476360" y="1916280"/>
          <a:ext cx="6095880" cy="145548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Изменяем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неизменяем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Дата 1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Нижний колонтитул 2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826920" y="18900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пишите в тетрад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539640" y="836640"/>
            <a:ext cx="71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Прибежать, приехать, приплыть, приблиз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50920" y="1700280"/>
            <a:ext cx="7777080" cy="825480"/>
          </a:xfrm>
          <a:prstGeom prst="rect">
            <a:avLst/>
          </a:prstGeom>
          <a:noFill/>
          <a:ln w="28440">
            <a:solidFill>
              <a:srgbClr val="1b4e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ак вы думаете, какое значение придает этим словам приставка </a:t>
            </a: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при-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250920" y="2924280"/>
            <a:ext cx="7777080" cy="2019960"/>
          </a:xfrm>
          <a:prstGeom prst="rect">
            <a:avLst/>
          </a:prstGeom>
          <a:noFill/>
          <a:ln w="28440">
            <a:solidFill>
              <a:srgbClr val="1b4e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обавьте слова, обозначающие приближ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человека, самолета, лод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8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Times New Roman"/>
              </a:rPr>
              <a:t>Поезда к станции, Луны к поверхности Земли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Зайца, черепах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Дата 1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Нижний колонтитул 2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0" y="981000"/>
            <a:ext cx="8964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детской передаче «Радионяня» герои пели песню о том, как лучше запомнить правило о приставке </a:t>
            </a:r>
            <a:r>
              <a:rPr b="1" i="1" lang="ru-RU" sz="2400" spc="-1" strike="noStrike">
                <a:solidFill>
                  <a:srgbClr val="008000"/>
                </a:solidFill>
                <a:latin typeface="Times New Roman"/>
              </a:rPr>
              <a:t>при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Есть там такой купл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476360" y="1916280"/>
            <a:ext cx="6194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рибыл ли поезд, приплыл теплохо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Космонавт прилетел из Вселенной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 словах </a:t>
            </a:r>
            <a:r>
              <a:rPr b="1" i="1" lang="ru-RU" sz="2400" spc="-1" strike="noStrike">
                <a:solidFill>
                  <a:srgbClr val="008000"/>
                </a:solidFill>
                <a:latin typeface="Times New Roman"/>
              </a:rPr>
              <a:t>придет, прилетит, приплы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ишется </a:t>
            </a:r>
            <a:r>
              <a:rPr b="1" i="1" lang="ru-RU" sz="2400" spc="-1" strike="noStrike">
                <a:solidFill>
                  <a:srgbClr val="008000"/>
                </a:solidFill>
                <a:latin typeface="Times New Roman"/>
              </a:rPr>
              <a:t>при-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, несомне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539640" y="4365720"/>
            <a:ext cx="7345440" cy="520560"/>
          </a:xfrm>
          <a:prstGeom prst="rect">
            <a:avLst/>
          </a:prstGeom>
          <a:noFill/>
          <a:ln w="28440">
            <a:solidFill>
              <a:srgbClr val="1b4e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ыпишите из четверостишия слова с приставкой </a:t>
            </a:r>
            <a:r>
              <a:rPr b="1" i="1" lang="ru-RU" sz="2800" spc="-1" strike="noStrike">
                <a:solidFill>
                  <a:srgbClr val="008000"/>
                </a:solidFill>
                <a:latin typeface="Times New Roman"/>
              </a:rPr>
              <a:t>при-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Дата 1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Нижний колонтитул 2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395280" y="18900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Говори правильн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2843280" y="1197000"/>
            <a:ext cx="280836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Приб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Прибы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Прибы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При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"/>
          <p:cNvSpPr/>
          <p:nvPr/>
        </p:nvSpPr>
        <p:spPr>
          <a:xfrm flipH="1">
            <a:off x="4140360" y="1125360"/>
            <a:ext cx="72720" cy="28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6"/>
          <p:cNvSpPr/>
          <p:nvPr/>
        </p:nvSpPr>
        <p:spPr>
          <a:xfrm flipH="1">
            <a:off x="4140360" y="2565360"/>
            <a:ext cx="72720" cy="287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7"/>
          <p:cNvSpPr/>
          <p:nvPr/>
        </p:nvSpPr>
        <p:spPr>
          <a:xfrm flipH="1">
            <a:off x="4642920" y="4005360"/>
            <a:ext cx="73080" cy="287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Дата 1"/>
          <p:cNvSpPr/>
          <p:nvPr/>
        </p:nvSpPr>
        <p:spPr>
          <a:xfrm>
            <a:off x="380880" y="6567480"/>
            <a:ext cx="243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Нижний колонтитул 2"/>
          <p:cNvSpPr/>
          <p:nvPr/>
        </p:nvSpPr>
        <p:spPr>
          <a:xfrm>
            <a:off x="6400800" y="6551640"/>
            <a:ext cx="2362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611280" y="836640"/>
            <a:ext cx="79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исать предложение в тетрадь, найти грамматическую основу, составить схему предложения, дать его характеристи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324000" y="1844640"/>
            <a:ext cx="7488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Мы с нетерпением ждали, когда к нам в сад опять прилетят старые знаком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                                                           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(А. Куприн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250920" y="3357720"/>
            <a:ext cx="7416720" cy="703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исать из второй части предложения глагол, разобрать его по соста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250920" y="4365720"/>
            <a:ext cx="7416720" cy="70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какие морфологические признаки указывает его оконча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250920" y="5445000"/>
            <a:ext cx="7489800" cy="70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ово значение приставки? Приведите примеры 2 – 3 слов с таким же значением приста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3T16:37:20Z</dcterms:created>
  <dc:creator>Сергей Сергеевич</dc:creator>
  <dc:description/>
  <dc:language>en-US</dc:language>
  <cp:lastModifiedBy>Наташа</cp:lastModifiedBy>
  <dcterms:modified xsi:type="dcterms:W3CDTF">2019-10-16T13:33:51Z</dcterms:modified>
  <cp:revision>7</cp:revision>
  <dc:subject/>
  <dc:title>Гласные в приставках  пре- и при-</dc:title>
</cp:coreProperties>
</file>