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7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36.jpeg" ContentType="image/jpeg"/>
  <Override PartName="/ppt/media/image2.jpeg" ContentType="image/jpeg"/>
  <Override PartName="/ppt/media/image2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5.png" ContentType="image/png"/>
  <Override PartName="/ppt/media/applause.wav" ContentType="audio/x-wav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5DA-5841-41FF-BE62-99A79C39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ED4-7A1B-4808-A3BD-C7B7EC94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768-5F16-4E96-8CC5-DA5EEC54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AE5-65E7-4F9B-8C5A-042F788E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48A-656B-443A-9598-532DDD51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D66-AA3A-480A-896B-FAB509B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098-68F8-471B-8E59-C303DEB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14C-9325-48F0-83DF-C92AC718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DF5-A6B9-4B04-A736-F303F469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296-6E77-4872-B590-E6FDB9E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0AD-0791-4801-9850-717D839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F2D-0FB9-488C-B4D9-23393436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09ED-D9B6-482B-8FF4-149CCDDFD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35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18.png"/><Relationship Id="rId14" Type="http://schemas.openxmlformats.org/officeDocument/2006/relationships/image" Target="../media/image9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5.png"/><Relationship Id="rId23" Type="http://schemas.openxmlformats.org/officeDocument/2006/relationships/image" Target="../media/image10.png"/><Relationship Id="rId24" Type="http://schemas.openxmlformats.org/officeDocument/2006/relationships/image" Target="../media/image23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png"/><Relationship Id="rId3" Type="http://schemas.openxmlformats.org/officeDocument/2006/relationships/image" Target="../media/image17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8.png"/><Relationship Id="rId7" Type="http://schemas.openxmlformats.org/officeDocument/2006/relationships/image" Target="../media/image2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30.png"/><Relationship Id="rId18" Type="http://schemas.openxmlformats.org/officeDocument/2006/relationships/audio" Target="../media/applause.wav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4.png"/><Relationship Id="rId13" Type="http://schemas.openxmlformats.org/officeDocument/2006/relationships/image" Target="../media/image9.png"/><Relationship Id="rId14" Type="http://schemas.openxmlformats.org/officeDocument/2006/relationships/image" Target="../media/image5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34.png"/><Relationship Id="rId5" Type="http://schemas.openxmlformats.org/officeDocument/2006/relationships/image" Target="../media/image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ПОЛЬЗОВАТЕЛЬ\Desktop\умкаа\1c114b691c7902b636fa534f534a5b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гра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«На дач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тель: Гатиятуллина Р.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«ЦРР - де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д № 1 «Гуз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ящик1"/>
          <p:cNvPicPr/>
          <p:nvPr/>
        </p:nvPicPr>
        <p:blipFill>
          <a:blip r:embed="rId2"/>
          <a:srcRect l="0" t="-7636" r="0" b="0"/>
          <a:stretch/>
        </p:blipFill>
        <p:spPr>
          <a:xfrm>
            <a:off x="0" y="4357800"/>
            <a:ext cx="3095640" cy="2500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ите маме собрать  капусту. Сколько она капусты собра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8" descr=""/>
          <p:cNvPicPr/>
          <p:nvPr/>
        </p:nvPicPr>
        <p:blipFill>
          <a:blip r:embed="rId3"/>
          <a:stretch/>
        </p:blipFill>
        <p:spPr>
          <a:xfrm>
            <a:off x="2714760" y="4214880"/>
            <a:ext cx="4305240" cy="2643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429000" y="4143240"/>
            <a:ext cx="1500120" cy="138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5"/>
          <a:stretch/>
        </p:blipFill>
        <p:spPr>
          <a:xfrm>
            <a:off x="4643280" y="4714920"/>
            <a:ext cx="1500480" cy="1384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6"/>
          <a:stretch/>
        </p:blipFill>
        <p:spPr>
          <a:xfrm>
            <a:off x="6500880" y="2071800"/>
            <a:ext cx="2378160" cy="53197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1933560" y="200016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8.67052E-007 L -0.33871 0.05248 E">
                                      <p:cBhvr>
                                        <p:cTn id="29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1.32948E-006 L -0.36216 -0.02081 E">
                                      <p:cBhvr>
                                        <p:cTn id="3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мотрите на картинку и назовите, что собрали, а что ещё осталось собрать в ого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214200" y="2214720"/>
            <a:ext cx="2270160" cy="157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4572000" y="4110120"/>
            <a:ext cx="2214720" cy="204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4"/>
          <a:stretch/>
        </p:blipFill>
        <p:spPr>
          <a:xfrm>
            <a:off x="2357280" y="2143080"/>
            <a:ext cx="1551240" cy="1411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5"/>
          <a:srcRect l="57632" t="16382" r="8264" b="43080"/>
          <a:stretch/>
        </p:blipFill>
        <p:spPr>
          <a:xfrm>
            <a:off x="4214880" y="2357280"/>
            <a:ext cx="1884240" cy="1422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6"/>
          <a:srcRect l="8466" t="29462" r="61542" b="5488"/>
          <a:stretch/>
        </p:blipFill>
        <p:spPr>
          <a:xfrm>
            <a:off x="0" y="4643280"/>
            <a:ext cx="2000160" cy="1916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7"/>
          <a:srcRect l="45242" t="16671" r="9554" b="38900"/>
          <a:stretch/>
        </p:blipFill>
        <p:spPr>
          <a:xfrm>
            <a:off x="6786720" y="2571840"/>
            <a:ext cx="1643040" cy="12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8"/>
          <a:stretch/>
        </p:blipFill>
        <p:spPr>
          <a:xfrm>
            <a:off x="2357280" y="4000680"/>
            <a:ext cx="1713240" cy="2479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6786720" y="3857760"/>
            <a:ext cx="14619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ПОЛЬЗОВАТЕЛЬ\Desktop\умкаа\1c114b691c7902b636fa534f534a5b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Блок-схема: перфолента 4"/>
          <p:cNvSpPr/>
          <p:nvPr/>
        </p:nvSpPr>
        <p:spPr>
          <a:xfrm>
            <a:off x="2214720" y="2643120"/>
            <a:ext cx="5286240" cy="19288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ПОЛЬЗОВАТЕЛЬ\Desktop\умкаа\1c114b691c7902b636fa534f534a5b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г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ь детей порядковому счету в пределах пяти на двух язы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ть детей умению вести монологическую и диалогическую речь  на двух язы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еплять знания детей по темам:«Семья», «Овощи»,«Фрукты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Цвета», «Порядковый счет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оспитательные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итывать внимательность, умение точно следовать инструкции. Пробуждать интерес к обучению татарскому язы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вивающие 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звивать навыки порядкового счета,  обобщать, устанавливать причинно-следственные и логические связи. Развивать диалогическую речь и обращение друг другу на татарском язы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разовательные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ение речевого материала в игровой форм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годня мы с вами поедем на дач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7" descr=""/>
          <p:cNvPicPr/>
          <p:nvPr/>
        </p:nvPicPr>
        <p:blipFill>
          <a:blip r:embed="rId2"/>
          <a:stretch/>
        </p:blipFill>
        <p:spPr>
          <a:xfrm>
            <a:off x="6765840" y="2071800"/>
            <a:ext cx="2378160" cy="531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7000920" y="2309760"/>
            <a:ext cx="2143080" cy="454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4"/>
          <a:stretch/>
        </p:blipFill>
        <p:spPr>
          <a:xfrm>
            <a:off x="3000240" y="3571920"/>
            <a:ext cx="1901880" cy="295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5"/>
          <a:stretch/>
        </p:blipFill>
        <p:spPr>
          <a:xfrm>
            <a:off x="4286160" y="3500280"/>
            <a:ext cx="13543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12717E-006 L -0.70087 -0.0104 E">
                                      <p:cBhvr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ПОЛЬЗОВАТЕЛЬ\Desktop\картинки\Деревья\57102505_dandeli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6858000" y="1857240"/>
            <a:ext cx="571680" cy="55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гадав загадку вы узнаете, что пошёл собирать мальчи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7358040" y="4071960"/>
            <a:ext cx="1428840" cy="239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"/>
          <p:cNvPicPr/>
          <p:nvPr/>
        </p:nvPicPr>
        <p:blipFill>
          <a:blip r:embed="rId4"/>
          <a:stretch/>
        </p:blipFill>
        <p:spPr>
          <a:xfrm>
            <a:off x="7000920" y="4357800"/>
            <a:ext cx="1235160" cy="2766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5"/>
          <a:stretch/>
        </p:blipFill>
        <p:spPr>
          <a:xfrm>
            <a:off x="2643120" y="5002200"/>
            <a:ext cx="857160" cy="185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6"/>
          <a:stretch/>
        </p:blipFill>
        <p:spPr>
          <a:xfrm>
            <a:off x="1571760" y="4862520"/>
            <a:ext cx="1285920" cy="199548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ая прямоугольная выноска 8"/>
          <p:cNvSpPr/>
          <p:nvPr/>
        </p:nvSpPr>
        <p:spPr>
          <a:xfrm>
            <a:off x="5143680" y="3571920"/>
            <a:ext cx="1571400" cy="12142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571680" y="164304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Алсу бит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кыз ү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Тып” ите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сикереп төш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7"/>
          <a:stretch/>
        </p:blipFill>
        <p:spPr>
          <a:xfrm>
            <a:off x="5357880" y="3429000"/>
            <a:ext cx="1238040" cy="122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3214800" y="1785960"/>
            <a:ext cx="658800" cy="65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9"/>
          <a:stretch/>
        </p:blipFill>
        <p:spPr>
          <a:xfrm>
            <a:off x="6858000" y="2928960"/>
            <a:ext cx="639720" cy="633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10"/>
          <a:stretch/>
        </p:blipFill>
        <p:spPr>
          <a:xfrm>
            <a:off x="4429080" y="1357200"/>
            <a:ext cx="639720" cy="63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11"/>
          <a:stretch/>
        </p:blipFill>
        <p:spPr>
          <a:xfrm rot="20143200">
            <a:off x="4803480" y="2878200"/>
            <a:ext cx="571320" cy="55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12"/>
          <a:stretch/>
        </p:blipFill>
        <p:spPr>
          <a:xfrm>
            <a:off x="5500800" y="2143080"/>
            <a:ext cx="658800" cy="652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13"/>
          <a:stretch/>
        </p:blipFill>
        <p:spPr>
          <a:xfrm rot="20143200">
            <a:off x="1945800" y="3735000"/>
            <a:ext cx="571680" cy="55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14"/>
          <a:stretch/>
        </p:blipFill>
        <p:spPr>
          <a:xfrm>
            <a:off x="3429000" y="2857680"/>
            <a:ext cx="6397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6.12717E-006 L -0.70087 -0.0104 E">
                                      <p:cBhvr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:\Users\ПОЛЬЗОВАТЕЛЬ\Desktop\картинки\Деревья\57102505_dandeli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2"/>
          <a:stretch/>
        </p:blipFill>
        <p:spPr>
          <a:xfrm>
            <a:off x="7790040" y="2354400"/>
            <a:ext cx="1353960" cy="4503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929200" y="4214880"/>
            <a:ext cx="300060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могите мальчику сосчитать сколько яблок  он собрал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928960" y="3786120"/>
            <a:ext cx="639720" cy="63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5"/>
          <a:stretch/>
        </p:blipFill>
        <p:spPr>
          <a:xfrm>
            <a:off x="5500800" y="1285920"/>
            <a:ext cx="639720" cy="633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6"/>
          <a:stretch/>
        </p:blipFill>
        <p:spPr>
          <a:xfrm>
            <a:off x="5643720" y="2428920"/>
            <a:ext cx="5713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7"/>
          <a:stretch/>
        </p:blipFill>
        <p:spPr>
          <a:xfrm>
            <a:off x="2357280" y="1714680"/>
            <a:ext cx="57168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8"/>
          <a:stretch/>
        </p:blipFill>
        <p:spPr>
          <a:xfrm>
            <a:off x="3714840" y="2071800"/>
            <a:ext cx="658800" cy="652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6"/>
          <p:cNvSpPr/>
          <p:nvPr/>
        </p:nvSpPr>
        <p:spPr>
          <a:xfrm>
            <a:off x="1362240" y="478620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5185E-006 L 0.4125 0.22731 E">
                                      <p:cBhvr>
                                        <p:cTn id="89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4.62428E-006 L 0.22829 0.44046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0.26788 0.5348 E">
                                      <p:cBhvr>
                                        <p:cTn id="9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0.34132 0.43402 E">
                                      <p:cBhvr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7037E-006 L 0.41736 0.47245 E">
                                      <p:cBhvr>
                                        <p:cTn id="10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гадав загадку вы узнаете, что пошла собирать девочк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0" descr=""/>
          <p:cNvPicPr/>
          <p:nvPr/>
        </p:nvPicPr>
        <p:blipFill>
          <a:blip r:embed="rId2"/>
          <a:stretch/>
        </p:blipFill>
        <p:spPr>
          <a:xfrm>
            <a:off x="0" y="4429080"/>
            <a:ext cx="2873520" cy="192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7715160" y="4143240"/>
            <a:ext cx="1428840" cy="2398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2500200" y="5000760"/>
            <a:ext cx="1481400" cy="568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"/>
          <p:cNvPicPr/>
          <p:nvPr/>
        </p:nvPicPr>
        <p:blipFill>
          <a:blip r:embed="rId5"/>
          <a:stretch/>
        </p:blipFill>
        <p:spPr>
          <a:xfrm>
            <a:off x="2786040" y="4500720"/>
            <a:ext cx="3032280" cy="1428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6"/>
          <a:stretch/>
        </p:blipFill>
        <p:spPr>
          <a:xfrm>
            <a:off x="3286080" y="3714840"/>
            <a:ext cx="57168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8" descr=""/>
          <p:cNvPicPr/>
          <p:nvPr/>
        </p:nvPicPr>
        <p:blipFill>
          <a:blip r:embed="rId7"/>
          <a:stretch/>
        </p:blipFill>
        <p:spPr>
          <a:xfrm>
            <a:off x="5000760" y="4500720"/>
            <a:ext cx="2728800" cy="128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8"/>
          <a:stretch/>
        </p:blipFill>
        <p:spPr>
          <a:xfrm>
            <a:off x="3786120" y="3500280"/>
            <a:ext cx="57168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9"/>
          <a:stretch/>
        </p:blipFill>
        <p:spPr>
          <a:xfrm>
            <a:off x="4357800" y="3857760"/>
            <a:ext cx="571320" cy="142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"/>
          <p:cNvPicPr/>
          <p:nvPr/>
        </p:nvPicPr>
        <p:blipFill>
          <a:blip r:embed="rId10"/>
          <a:stretch/>
        </p:blipFill>
        <p:spPr>
          <a:xfrm>
            <a:off x="4000680" y="4000680"/>
            <a:ext cx="571320" cy="142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11"/>
          <a:stretch/>
        </p:blipFill>
        <p:spPr>
          <a:xfrm>
            <a:off x="4929120" y="4143240"/>
            <a:ext cx="5716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12"/>
          <a:stretch/>
        </p:blipFill>
        <p:spPr>
          <a:xfrm>
            <a:off x="4600440" y="4429080"/>
            <a:ext cx="543240" cy="13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13"/>
          <a:stretch/>
        </p:blipFill>
        <p:spPr>
          <a:xfrm>
            <a:off x="6286680" y="492912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"/>
          <p:cNvPicPr/>
          <p:nvPr/>
        </p:nvPicPr>
        <p:blipFill>
          <a:blip r:embed="rId14"/>
          <a:stretch/>
        </p:blipFill>
        <p:spPr>
          <a:xfrm>
            <a:off x="7072200" y="4500720"/>
            <a:ext cx="1235160" cy="2766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15"/>
          <a:stretch/>
        </p:blipFill>
        <p:spPr>
          <a:xfrm rot="19255200">
            <a:off x="6526080" y="4935240"/>
            <a:ext cx="498600" cy="711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16"/>
          <a:stretch/>
        </p:blipFill>
        <p:spPr>
          <a:xfrm>
            <a:off x="5857920" y="457200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17"/>
          <a:stretch/>
        </p:blipFill>
        <p:spPr>
          <a:xfrm>
            <a:off x="5357880" y="4357800"/>
            <a:ext cx="1481040" cy="56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18"/>
          <a:stretch/>
        </p:blipFill>
        <p:spPr>
          <a:xfrm rot="19255200">
            <a:off x="5979600" y="4731840"/>
            <a:ext cx="57168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19"/>
          <a:stretch/>
        </p:blipFill>
        <p:spPr>
          <a:xfrm rot="19255200">
            <a:off x="5462280" y="4366800"/>
            <a:ext cx="517320" cy="739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0"/>
          <a:stretch/>
        </p:blipFill>
        <p:spPr>
          <a:xfrm>
            <a:off x="357120" y="4429080"/>
            <a:ext cx="1160640" cy="107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21"/>
          <a:stretch/>
        </p:blipFill>
        <p:spPr>
          <a:xfrm>
            <a:off x="1357200" y="4929120"/>
            <a:ext cx="121464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2"/>
          <a:stretch/>
        </p:blipFill>
        <p:spPr>
          <a:xfrm>
            <a:off x="4214880" y="4862520"/>
            <a:ext cx="1285920" cy="199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23"/>
          <a:stretch/>
        </p:blipFill>
        <p:spPr>
          <a:xfrm>
            <a:off x="6572160" y="5002200"/>
            <a:ext cx="857520" cy="1855800"/>
          </a:xfrm>
          <a:prstGeom prst="rect">
            <a:avLst/>
          </a:prstGeom>
          <a:ln w="0">
            <a:noFill/>
          </a:ln>
        </p:spPr>
      </p:pic>
      <p:sp>
        <p:nvSpPr>
          <p:cNvPr id="102" name="Скругленная прямоугольная выноска 26"/>
          <p:cNvSpPr/>
          <p:nvPr/>
        </p:nvSpPr>
        <p:spPr>
          <a:xfrm>
            <a:off x="2643120" y="4143240"/>
            <a:ext cx="1643040" cy="928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24"/>
          <a:stretch/>
        </p:blipFill>
        <p:spPr>
          <a:xfrm>
            <a:off x="2928960" y="4143240"/>
            <a:ext cx="1041480" cy="9288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8"/>
          <p:cNvSpPr/>
          <p:nvPr/>
        </p:nvSpPr>
        <p:spPr>
          <a:xfrm>
            <a:off x="357120" y="20001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шеге-тәрәзәсе ю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Өй эче тулы кунакл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8 0.05139 L -0.02465 0.1456 L -0.03733 0.05139 L -0.05069 0.1456 L -0.06406 0.05139 L -0.07656 0.1456 L -0.08993 0.05139 L -0.1026 0.1456 L -0.1158 0.05139 L -0.12917 0.1456 L -0.14184 0.05139 L -0.15521 0.1456 L -0.16771 0.05139 L -0.18108 0.1456 L -0.19444 0.05139 L -0.20712 0.1456 L -0.22031 0.05139 E">
                                      <p:cBhvr>
                                        <p:cTn id="13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9809 0.00672 E">
                                      <p:cBhvr>
                                        <p:cTn id="13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огите девочке собрать  огурцы. Сколько она огурцов собра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1" descr="ящик1"/>
          <p:cNvPicPr/>
          <p:nvPr/>
        </p:nvPicPr>
        <p:blipFill>
          <a:blip r:embed="rId2"/>
          <a:stretch/>
        </p:blipFill>
        <p:spPr>
          <a:xfrm>
            <a:off x="285840" y="4535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0" descr=""/>
          <p:cNvPicPr/>
          <p:nvPr/>
        </p:nvPicPr>
        <p:blipFill>
          <a:blip r:embed="rId3"/>
          <a:stretch/>
        </p:blipFill>
        <p:spPr>
          <a:xfrm>
            <a:off x="3286080" y="4500720"/>
            <a:ext cx="3505320" cy="235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4"/>
          <a:stretch/>
        </p:blipFill>
        <p:spPr>
          <a:xfrm>
            <a:off x="3643200" y="3929040"/>
            <a:ext cx="148140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3714840" y="3857760"/>
            <a:ext cx="714240" cy="192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6"/>
          <a:stretch/>
        </p:blipFill>
        <p:spPr>
          <a:xfrm>
            <a:off x="5000760" y="607212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5357880" y="4429080"/>
            <a:ext cx="1481040" cy="192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8"/>
          <a:stretch/>
        </p:blipFill>
        <p:spPr>
          <a:xfrm>
            <a:off x="4357800" y="5715000"/>
            <a:ext cx="1481040" cy="5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9"/>
          <a:stretch/>
        </p:blipFill>
        <p:spPr>
          <a:xfrm>
            <a:off x="4000680" y="5357880"/>
            <a:ext cx="1481040" cy="56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10"/>
          <a:stretch/>
        </p:blipFill>
        <p:spPr>
          <a:xfrm>
            <a:off x="4071960" y="4857840"/>
            <a:ext cx="1481040" cy="56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11"/>
          <a:stretch/>
        </p:blipFill>
        <p:spPr>
          <a:xfrm>
            <a:off x="3929040" y="4286160"/>
            <a:ext cx="1481040" cy="642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12"/>
          <a:stretch/>
        </p:blipFill>
        <p:spPr>
          <a:xfrm>
            <a:off x="4786200" y="4643280"/>
            <a:ext cx="1481400" cy="642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13"/>
          <a:stretch/>
        </p:blipFill>
        <p:spPr>
          <a:xfrm rot="21314400">
            <a:off x="3677760" y="4595400"/>
            <a:ext cx="617760" cy="884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14"/>
          <a:stretch/>
        </p:blipFill>
        <p:spPr>
          <a:xfrm rot="20512800">
            <a:off x="5475240" y="5643360"/>
            <a:ext cx="592200" cy="84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15"/>
          <a:stretch/>
        </p:blipFill>
        <p:spPr>
          <a:xfrm rot="19255200">
            <a:off x="4427640" y="5229000"/>
            <a:ext cx="633240" cy="90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16"/>
          <a:stretch/>
        </p:blipFill>
        <p:spPr>
          <a:xfrm>
            <a:off x="5357880" y="5214960"/>
            <a:ext cx="1481040" cy="568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4"/>
          <p:cNvSpPr/>
          <p:nvPr/>
        </p:nvSpPr>
        <p:spPr>
          <a:xfrm>
            <a:off x="2791080" y="185724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7"/>
          <a:stretch/>
        </p:blipFill>
        <p:spPr>
          <a:xfrm>
            <a:off x="7000920" y="2643120"/>
            <a:ext cx="1901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5434E-006 L -0.29931 0.04185 E">
                                      <p:cBhvr>
                                        <p:cTn id="16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78035E-006 L -0.33854 -0.05248 E">
                                      <p:cBhvr>
                                        <p:cTn id="17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5.26012E-006 L -0.37796 -0.13642 E">
                                      <p:cBhvr>
                                        <p:cTn id="17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гадав загадки вы узнаете, что пошли собирать папа и ма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34005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Ормый, сукм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Үзе кешене ел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0" descr=""/>
          <p:cNvPicPr/>
          <p:nvPr/>
        </p:nvPicPr>
        <p:blipFill>
          <a:blip r:embed="rId2"/>
          <a:stretch/>
        </p:blipFill>
        <p:spPr>
          <a:xfrm>
            <a:off x="0" y="4929120"/>
            <a:ext cx="2448000" cy="16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"/>
          <p:cNvPicPr/>
          <p:nvPr/>
        </p:nvPicPr>
        <p:blipFill>
          <a:blip r:embed="rId3"/>
          <a:stretch/>
        </p:blipFill>
        <p:spPr>
          <a:xfrm>
            <a:off x="1285920" y="4643280"/>
            <a:ext cx="212868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4"/>
          <a:stretch/>
        </p:blipFill>
        <p:spPr>
          <a:xfrm>
            <a:off x="1071720" y="5429160"/>
            <a:ext cx="1083960" cy="1000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5"/>
          <a:stretch/>
        </p:blipFill>
        <p:spPr>
          <a:xfrm>
            <a:off x="285840" y="4857840"/>
            <a:ext cx="1084320" cy="100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4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7"/>
          <a:stretch/>
        </p:blipFill>
        <p:spPr>
          <a:xfrm>
            <a:off x="1857240" y="4286160"/>
            <a:ext cx="486000" cy="1214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8"/>
          <a:stretch/>
        </p:blipFill>
        <p:spPr>
          <a:xfrm>
            <a:off x="2214720" y="4214880"/>
            <a:ext cx="4572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9"/>
          <a:stretch/>
        </p:blipFill>
        <p:spPr>
          <a:xfrm>
            <a:off x="2643120" y="4572000"/>
            <a:ext cx="41760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0"/>
          <a:stretch/>
        </p:blipFill>
        <p:spPr>
          <a:xfrm>
            <a:off x="1785960" y="3714840"/>
            <a:ext cx="48564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11"/>
          <a:stretch/>
        </p:blipFill>
        <p:spPr>
          <a:xfrm>
            <a:off x="1428840" y="3929040"/>
            <a:ext cx="485640" cy="121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12"/>
          <a:stretch/>
        </p:blipFill>
        <p:spPr>
          <a:xfrm>
            <a:off x="4286160" y="4000680"/>
            <a:ext cx="1428840" cy="239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"/>
          <p:cNvPicPr/>
          <p:nvPr/>
        </p:nvPicPr>
        <p:blipFill>
          <a:blip r:embed="rId13"/>
          <a:stretch/>
        </p:blipFill>
        <p:spPr>
          <a:xfrm>
            <a:off x="7072200" y="4500720"/>
            <a:ext cx="1235160" cy="27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14"/>
          <a:stretch/>
        </p:blipFill>
        <p:spPr>
          <a:xfrm>
            <a:off x="4214880" y="4862520"/>
            <a:ext cx="1285920" cy="1995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15"/>
          <a:stretch/>
        </p:blipFill>
        <p:spPr>
          <a:xfrm>
            <a:off x="6572160" y="5002200"/>
            <a:ext cx="857520" cy="185580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ая прямоугольная выноска 19"/>
          <p:cNvSpPr/>
          <p:nvPr/>
        </p:nvSpPr>
        <p:spPr>
          <a:xfrm>
            <a:off x="4714920" y="2928960"/>
            <a:ext cx="135720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ая прямоугольная выноска 20"/>
          <p:cNvSpPr/>
          <p:nvPr/>
        </p:nvSpPr>
        <p:spPr>
          <a:xfrm>
            <a:off x="7358040" y="3286080"/>
            <a:ext cx="135720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6"/>
          <a:stretch/>
        </p:blipFill>
        <p:spPr>
          <a:xfrm>
            <a:off x="4857840" y="3000240"/>
            <a:ext cx="1093680" cy="1022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" descr=""/>
          <p:cNvPicPr/>
          <p:nvPr/>
        </p:nvPicPr>
        <p:blipFill>
          <a:blip r:embed="rId17"/>
          <a:stretch/>
        </p:blipFill>
        <p:spPr>
          <a:xfrm>
            <a:off x="7278840" y="3352680"/>
            <a:ext cx="1523880" cy="10861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25"/>
          <p:cNvSpPr/>
          <p:nvPr/>
        </p:nvSpPr>
        <p:spPr>
          <a:xfrm>
            <a:off x="428760" y="1785960"/>
            <a:ext cx="50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тыра бер ак чүлмә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Өстенә кигән йөз күлмә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01319 -0.09398 L 0.02604 -7.40741E-007 L 0.03923 -0.09421 L 0.0526 0.00023 L 0.0651 -0.09421 L 0.07847 -7.40741E-007 L 0.09114 -0.09421 L 0.10434 -7.40741E-007 L 0.11788 -0.09421 L 0.13038 -7.40741E-007 L 0.14375 -0.09421 L 0.15625 -7.40741E-007 L 0.16962 -0.09421 L 0.18298 -7.40741E-007 L 0.19566 -0.09421 L 0.20885 -7.40741E-007 E">
                                      <p:cBhvr>
                                        <p:cTn id="19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9809 0.00672 E">
                                      <p:cBhvr>
                                        <p:cTn id="20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C:\Users\ПОЛЬЗОВАТЕЛЬ\Desktop\картинки\Полянка\0_67853_594de3fd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4214880"/>
            <a:ext cx="300024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могите папе собрать  лук. Сколько он лука собра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8" descr=""/>
          <p:cNvPicPr/>
          <p:nvPr/>
        </p:nvPicPr>
        <p:blipFill>
          <a:blip r:embed="rId3"/>
          <a:stretch/>
        </p:blipFill>
        <p:spPr>
          <a:xfrm>
            <a:off x="2928960" y="4714920"/>
            <a:ext cx="3503520" cy="165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4"/>
          <a:stretch/>
        </p:blipFill>
        <p:spPr>
          <a:xfrm>
            <a:off x="5000760" y="4714920"/>
            <a:ext cx="603000" cy="15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5"/>
          <a:stretch/>
        </p:blipFill>
        <p:spPr>
          <a:xfrm>
            <a:off x="6545160" y="2073240"/>
            <a:ext cx="2598840" cy="478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6"/>
          <a:stretch/>
        </p:blipFill>
        <p:spPr>
          <a:xfrm>
            <a:off x="3357720" y="4071960"/>
            <a:ext cx="603000" cy="1500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7"/>
          <a:stretch/>
        </p:blipFill>
        <p:spPr>
          <a:xfrm>
            <a:off x="3786120" y="3714840"/>
            <a:ext cx="603360" cy="150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"/>
          <p:cNvPicPr/>
          <p:nvPr/>
        </p:nvPicPr>
        <p:blipFill>
          <a:blip r:embed="rId8"/>
          <a:stretch/>
        </p:blipFill>
        <p:spPr>
          <a:xfrm>
            <a:off x="4214880" y="4286160"/>
            <a:ext cx="603360" cy="15001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1505160" y="2071800"/>
            <a:ext cx="79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5434E-006 L -0.32517 0.04878 E">
                                      <p:cBhvr>
                                        <p:cTn id="25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72 0.08046 L -0.35643 0.00694 E">
                                      <p:cBhvr>
                                        <p:cTn id="26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2428E-006 L -0.32483 0.09018 E">
                                      <p:cBhvr>
                                        <p:cTn id="26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0.41059 -0.02384 E">
                                      <p:cBhvr>
                                        <p:cTn id="27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19:33:31Z</dcterms:created>
  <dc:creator>Шагитова Елена Дмитриевна</dc:creator>
  <dc:description/>
  <dc:language>en-US</dc:language>
  <cp:lastModifiedBy>Регина</cp:lastModifiedBy>
  <dcterms:modified xsi:type="dcterms:W3CDTF">2020-11-16T17:37:43Z</dcterms:modified>
  <cp:revision>44</cp:revision>
  <dc:subject/>
  <dc:title>Слайд 1</dc:title>
</cp:coreProperties>
</file>