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A85DF-352F-426C-B99B-2E0E2D39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D0DEF-1330-4B4A-9142-708B0373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81F0-DCEE-445E-928D-8FC0E4D1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229A9-92CC-496E-8843-7CD1CAC8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7549-84B1-41B8-A930-1F0A86F9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3660-3C81-4A73-9216-BA21C051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CDBE-B0A4-441D-AAE0-76A2FA28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6A55-AAF3-46F8-B1D1-33B46207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B507-6307-43BF-BA94-DDF304A6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A999-2DD5-4218-9EAD-D068F451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BC0E-482E-4B37-86B1-9E27A319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23FE3-B640-49BD-8E37-07EA3EBE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BDB4-525E-4E5A-91D2-22082E02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2D76-2370-4F8D-A248-91CD8211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2BC4-D029-4F7F-9DAF-9A251287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73E9-2D10-420B-80AA-F63D91B5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304A-D5FC-4D5B-ADBC-1AC6EF1B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67622-1392-484E-A31E-8C09E5E4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AD3CA-5220-4FC9-B628-E79C2E34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706C5-7655-4C90-BC85-B681A4F7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595FD-E641-41C6-9EB8-96C6FB14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FDDD6-2B36-47A7-9DE2-0A2745A6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0B541-DF62-4442-ABAF-117AD571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6D556-5544-4015-A05C-76BCE131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8EE9-50DE-439C-BAD8-7B001335FB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3926-1A3B-47E8-8875-4C86B1E504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cc00"/>
                </a:solidFill>
                <a:latin typeface="Arial"/>
              </a:rPr>
              <a:t>Кинезиологические упражнения в работе с детьми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3399ff"/>
                </a:solidFill>
                <a:latin typeface="Arial"/>
              </a:rPr>
              <a:t>Упражнения:</a:t>
            </a:r>
            <a:br>
              <a:rPr sz="35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зайчик-колечко-цепочка         флажок-рыбка-лодочка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4114800" cy="5029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4114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Желаю  успехов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5235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вание «кинезиология» происходит от греческого слова «кинезис»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esi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, что означает «движение». Имеется в виду мышечное движение. Греческое же происхождение имеет и слово «логос»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o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, которое обычно переводят как «наук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ается, что «кинезиология» - это наука о движении, о движении мыш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незиология — наука о развитии умственных способностей через определенные двигательные упражнения. Эти упражнения позволяют создать новые нейронные сети и улучшить межполушарное взаимодействие, которое является основой развития интелл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Кинезиологические упражнен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Развитие межполушарного взаимодействия, способствующее активизации мыслитель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тие межполушарной специал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нхронизация работы полуша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тие мелкой мотор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тие способ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тие памяти, внимания, ре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тие мыш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«Гимнастика мозга» - ключ к развитию способностей ребенк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80160" y="2666880"/>
            <a:ext cx="3363840" cy="3505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4724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зг человека представляет собой содружество функционально ассиметричных полушарий правого и лев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ждое из них является не зеркальным отображением другого, а необходимым дополне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53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3399ff"/>
                </a:solidFill>
                <a:latin typeface="Arial"/>
              </a:rPr>
              <a:t>условия: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нятия проводятся утром по 10-15 мин. 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нятия проводятся ежедневно, без пропус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нятия проводятся в доброжелательной обстанов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 детей требуется точное выполнение движений и прием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пражнения проводятся стоя или сидя за стол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пражнения проводятся по специально разработанным комплекс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99ff"/>
                </a:solidFill>
                <a:latin typeface="Arial"/>
              </a:rPr>
              <a:t>УСЛОВИ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67616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ей с раннего возраста учат выполнять пальчиковые игры от простого к сложно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пяти лет даем комплекс пальчиковых кинезиологических упражнений, состоящих из трех положений рук последовательно сменяющих друг дру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бенок выполняет вместе со взрослым, затем самостоятельно по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ражнение выполняется сначала правой рукой, затем левой, затем двумя руками вмес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затруднениях взрослый предлагает ребенку помогать себе командами произносимыми вслух или про себ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3399ff"/>
                </a:solidFill>
                <a:latin typeface="Arial"/>
              </a:rPr>
              <a:t>Упражнения:</a:t>
            </a:r>
            <a:br>
              <a:rPr sz="3500"/>
            </a:br>
            <a:r>
              <a:rPr b="1" i="1" lang="en-US" sz="35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колечко                     кулак-ребро-ладо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962520" cy="4952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4038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99ff"/>
                </a:solidFill>
                <a:latin typeface="Arial"/>
              </a:rPr>
              <a:t>Упражнения:</a:t>
            </a:r>
            <a:br>
              <a:rPr sz="39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фонарики                нос-ухо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962520" cy="4952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029200" y="1905120"/>
            <a:ext cx="4114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2-03-28T20:05:4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