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73B93-141F-4ACD-9FC4-4C501888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78BF-0D91-4F82-AEFE-89D909ED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1826-97A6-46BF-828E-F02B79DC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3890-4C77-4E57-8F64-9C6B2EFD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054B-77F8-43EF-B325-1B69892A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B603-0F5F-409A-BAEB-3F89482D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5CF2-857D-4F87-B8BF-E7B0741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66B-1CCC-4EFE-AC1B-F0A32B6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3AFD-9209-41DF-AF49-FD82EE68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9E23-74B8-409E-99CD-E3178361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CE3-D340-47E0-8C72-53D23EE1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36EA-8118-4392-8246-71026DC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AD56-7A8A-467B-A976-AED6507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1C35-FEAA-460B-B6BC-0F1FF0AF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D82-6057-42F4-8464-0A8A15B6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B1C-EB7E-410F-B1DC-65E4E56E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8162-0D71-4BFD-85F6-A879F7D2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39ECF-4058-4A5C-AAC0-4C1C6A69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0BF4-3729-4037-AB62-5AB6D69A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A6513-DF24-44AB-8794-14F3B9FA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5936-9E86-4C1A-A807-2174EB10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6322-5022-46FC-A326-D3D4A8A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B05DB-605B-4FE8-9855-6D94F868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A5BB-2353-40AD-81A4-AA624A3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0991-EB7C-46D2-BDB2-874A6DD72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2D0-D885-4203-A367-07076E3D6E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cc00"/>
                </a:solidFill>
                <a:latin typeface="Arial"/>
              </a:rPr>
              <a:t>Кинезиологические упражнения в работе с детьм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500"/>
            </a:b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зайчик-колечко-цепочка         флажок-рыбка-лодочка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Желаю  успехов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«кинезиология» происходит от греческого слова «кинезис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что означает «движение». Имеется в виду мышечное движение. Греческое же происхождение имеет и слово «логос»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, которое обычно переводят как «нау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ется, что «кинезиология» - это наука о движении, о движении мыш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незиология — наука о развитии умственных способностей через определенные двигательные упражнения. Эти упражнения позволяют создать новые нейронные сети и улучшить межполушарное взаимодействие, которое является основой развития интелл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Кинезиологические упражне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азвитие межполушарного взаимодействия, способствующее активизации мыслите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ежполушарной специ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нхронизация работы полуша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елкой мотор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способ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памяти, внимания,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тие мыш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«Гимнастика мозга» - ключ к развитию способностей ребен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780160" y="2666880"/>
            <a:ext cx="3363840" cy="3505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зг человека представляет собой содружество функционально ассиметричных полушарий правого и лев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ое из них является не зеркальным отображением другого, а необходимым дополн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условия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утром по 10-15 мин. 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ежедневно, без пропус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нятия проводятся в доброжелательной обстанов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 детей требуется точное выполнение движений и прием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роводятся стоя или сидя за сто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ажнения проводятся по специально разработанным комплек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Arial"/>
              </a:rPr>
              <a:t>УСЛОВ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ей с раннего возраста учат выполнять пальчиковые игры от простого к сложн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яти лет даем комплекс пальчиковых кинезиологических упражнений, состоящих из трех положений рук последовательно сменяющих друг дру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выполняет вместе со взрослым, затем самостоятельно по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жнение выполняется сначала правой рукой, затем левой, затем двумя руками вмес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затруднениях взрослый предлагает ребенку помогать себе командами произносимыми вслух или про себ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500"/>
            </a:br>
            <a:r>
              <a:rPr b="1" i="1" lang="en-US" sz="35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колечко                     кулак-ребро-ладо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962520" cy="49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99ff"/>
                </a:solidFill>
                <a:latin typeface="Arial"/>
              </a:rPr>
              <a:t>Упражнения:</a:t>
            </a:r>
            <a:br>
              <a:rPr sz="39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фонарики                нос-ухо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962520" cy="4952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2-03-28T20:05:4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