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DAF1-EE1E-44FD-8C9C-BBB40A292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FC82-A072-4D8A-9EED-CA6DDD306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E17F-FF53-4CAC-AE26-7C9882FBB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74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91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474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2491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4622-7BD0-4525-9ADF-03046C044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9D40-8528-4F14-BDCE-9DB6231C53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2AFB-A4D1-4FF8-B828-D86215AF9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F015-E26F-4F6D-BE4A-752CF179C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9FE0-2F46-44A7-BB23-1FA52D3582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731E-7BF4-46E0-8B59-C2B1CACD9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816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895A-AB83-4C1D-9436-B9EAA7C7A6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7D1E-8F10-4171-8215-335F1A626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7D5B-0F7C-4016-82A9-AB168AC05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AAB7-D9F6-41B2-8800-A4556FC5A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0BB7-C035-4179-838B-C75B38B5A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D0CA-2C98-4226-B962-CF5D31F9D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FD65-8BEA-4CFF-959F-A6E946C9BC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74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91560" y="15224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1474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2491560" y="3927240"/>
            <a:ext cx="96840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9FF4-AB4F-4D8F-91E3-D57C67693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6DD9-78E9-47B3-9C6C-746C5D3DA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56FE-C693-43CA-8758-25DDD7184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423A-087F-4BE7-8F43-986A4521A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300816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62DD-6CDB-435F-8657-1A7FC9312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1C5E-B451-476D-ADBB-754A9B963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98720" y="39272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53AD-747E-43B9-A4D5-0055A2F10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998720" y="1522440"/>
            <a:ext cx="146772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3008160" cy="21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3104-CF54-43BE-8575-C8DDCEE80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1e2a6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1e2a6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09760" indent="-411480">
              <a:spcBef>
                <a:spcPts val="700"/>
              </a:spcBef>
              <a:buClr>
                <a:srgbClr val="000000"/>
              </a:buClr>
              <a:buSzPct val="64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30160" indent="-2840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95480" indent="-228600">
              <a:spcBef>
                <a:spcPts val="700"/>
              </a:spcBef>
              <a:buClr>
                <a:srgbClr val="000000"/>
              </a:buClr>
              <a:buSzPct val="94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1436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0660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21200" y="6603840"/>
            <a:ext cx="1652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5AB9-52C1-48CD-A647-68B5ED0F4083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beaa7"/>
                </a:solidFill>
                <a:latin typeface="Lucida Sans"/>
              </a:rPr>
              <a:t>Click to edit the title text format</a:t>
            </a:r>
            <a:endParaRPr b="0" lang="en-US" sz="2200" spc="-1" strike="noStrike">
              <a:solidFill>
                <a:srgbClr val="fbeaa7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22440"/>
            <a:ext cx="3008160" cy="460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54612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2" marL="8668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3" marL="113184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1324080">
              <a:spcBef>
                <a:spcPts val="300"/>
              </a:spcBef>
              <a:buClr>
                <a:srgbClr val="000000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521200" y="6603840"/>
            <a:ext cx="1652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FC3-CEA4-4429-A896-EED3B197E311}" type="slidenum"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8880" y="428760"/>
            <a:ext cx="8164440" cy="56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12400" y="355320"/>
            <a:ext cx="3143160" cy="577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качестве чучела, которое приносится в жертву, изготавливали большую смешную и в то же время страшную куклу, олицетворяющую собой Масленицу. Делали куклу из тряпок и соломы. После чего её наряжали в женскую одежду и оставляли на главной улице деревни на время Масленичной недели. А в воскресенье торжественно несли за пределы селения. Там чучело сжигали. Ритуальное сжигание куклы имело глубокий смысл: уничтожить символ зимы необходимо для воскрешения его силы весной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397320" y="855720"/>
            <a:ext cx="554976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тмечают праздник с понедельника по воскресенье. На Масленой неделе каждый день принято проводить по-своему, соблюдая традиции наших предков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недельник</a:t>
            </a: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называют «Встреча Масленицы». В этот день начинают печь блины. Первый блин принято отдавать бедным и нуждающимся людям. В понедельник наши предки готовили чучело, одевали его в лохмотья и выставляли его на главной улице деревни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торник</a:t>
            </a:r>
            <a:r>
              <a:rPr b="0" lang="en-US" sz="16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прозвали «Заигрыш». Его посвящали молодежи. В этот день устраивали народные гуляния: катались на санях, ледяных горках, каруселях.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75160" y="1246320"/>
            <a:ext cx="5118120" cy="3911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реда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«Лакомка». В этот день звали в дом гостей (друзей, родных, соседей). Их угощали блинами, медовыми пряниками и пирогами. Также в этот день проводились конные бега и кулачные бо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Четверг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в народе прозвали «Разгуляй». С этого дня начинается Широкая Масленица, которая сопровождается играми в снежки, катанием на санках, веселыми хороводами и песнопения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ятницу</a:t>
            </a: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прозвали «Тещины вечерки», потому что в этот день зятья приглашали тещу в свой дом и угощали вкусными блина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75160" y="1620720"/>
            <a:ext cx="5118120" cy="3162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уббота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«Золовкины посиделки». Невестки приглашали в свой дом сестер мужа, беседовали с ними, угощали блинами и дарили подарки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оскресенье</a:t>
            </a: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– апофеоз Масленицы. Этот день получил название «Прощеное воскресенье». В воскресенье прощались с зимой, провожали Масленицу и символично сжигали её чучело. В этот день принято просить у знакомых и родных прощения за обиды, накопившиеся за весь год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395520" y="927000"/>
            <a:ext cx="5651640" cy="435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283680"/>
            <a:ext cx="7900920" cy="357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Дата Масленицы меняется каждый год в    зависимости от даты празднования Пасхи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Масленица в 2017 году начнется 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20 февраля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, а датой её окончания станет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26  февраля</a:t>
            </a: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8600" y="2784600"/>
            <a:ext cx="8432640" cy="278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55320"/>
            <a:ext cx="3008160" cy="577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Масленица – один из самых веселых и долгожданных праздников в году, празднование которого длиться семь дней. В это время люди веселятся, ходят в гости, устраивают гуляния, пекут и едят блины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86240" y="1069920"/>
            <a:ext cx="5194080" cy="4216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5680" y="283680"/>
            <a:ext cx="3109680" cy="6288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а самом деле Масленица является языческим праздником, который со временем несколько изменился.  В дохристианской Руси празднование называли «Проводы зимы»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Наши предки почитали солнце, как Бога. И с наступлением первых весенних деньков, радовались, что солнышко начинает прогревать землю. Поэтому и появилась традиция печь круглы, по форме напоминающие солнце, лепешки. Считалось, что съев такое кушанье, человек получит частичку солнечного света и тепла. Со временем лепешки заменили блинами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575160" y="1212840"/>
            <a:ext cx="5118120" cy="3924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первые три дня праздника шла активная подготовка к торжеству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ривозили дрова для костра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украшали избы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троили горы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Главное празднование проходило с четверга по воскресень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75160" y="1495440"/>
            <a:ext cx="5118120" cy="3403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12760" y="284040"/>
            <a:ext cx="29289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некоторых селениях молодёжь ходила по домам с бубнами, рожками, балалайками, распевая колядки. Городские жители участвовали в праздничных гуляньях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девались в лучшие наряды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шли на театральные представления;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осещали балаганы, чтобы посмотреть на потехи с медведем и скоморохов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149640" y="1069920"/>
            <a:ext cx="591804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Главным развлечением было катание детей и молодежи с ледяных горок, которые старались украсить фонариками и флажками. Для катания использовались: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рогож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ан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онь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шкуры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ледянки;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деревянные корыта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6320" y="272880"/>
            <a:ext cx="5087880" cy="5853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Ещё одним веселым событием было взятие ледяной крепости. Парни строили снежный городок с воротами, туда сажали стражу, а потом шли в атаку: врывались в ворота и лезли на стены. Осаждённые оборонялись. как могли: в ход шли снежки, мётлы и нагайк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75160" y="1282680"/>
            <a:ext cx="5118120" cy="383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12760"/>
            <a:ext cx="3008160" cy="5913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В Масленицу парни и молодые мужчины показывали свою прыть в кулачном бою. Участвовать в боях могли жители двух деревень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 бою серьёзно готовились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парились в банях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сытно ели;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обращались к колдунам с просьбой дать специальный заговор на победу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75160" y="1503360"/>
            <a:ext cx="5118120" cy="3390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84040"/>
            <a:ext cx="3008160" cy="584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  <a:ea typeface="Times New Roman"/>
              </a:rPr>
              <a:t>Как много лет назад, так и сегодня кульминацией Масленицы считается сжигание чучела. Это действие символизирует наступления весны и ухода зимы. Предваряют сожжение игры, хороводы, песни и пляски, сопровождающиеся угощением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75160" y="1301760"/>
            <a:ext cx="5118120" cy="379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Масленица</dc:title>
</cp:coreProperties>
</file>