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2BBF-87BD-4956-A72C-B0F9463EE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300816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300816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166A-DB30-43EB-B426-78ECF7DA7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9872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1998720" y="39272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25A3-7201-4A2E-A2AC-2A9E9E754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74560" y="15224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91560" y="15224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474560" y="39272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2491560" y="39272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DD23-7ADD-4293-B0D1-ACDBB3790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3D72D-E684-4A80-A148-DF51952CB5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22440"/>
            <a:ext cx="300816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F639-FE7C-4529-ABF2-0A23ED0941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300816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8F47D-30D9-4B93-B0C5-0EF68E863E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146772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998720" y="1522440"/>
            <a:ext cx="146772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23A39-C0FA-431A-BCE8-82384A2B89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327F-9B87-4066-9C8A-9149C17FB8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816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A662-6C23-4A84-A66F-938A4E5C88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998720" y="1522440"/>
            <a:ext cx="146772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E082D-249F-486F-93B7-BDC6214C78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22440"/>
            <a:ext cx="300816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91DD-3FA4-47FA-BA72-86884A8AB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146772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99872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98720" y="39272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DF14-801E-45E2-A948-E36D3467F4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99872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300816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EAF0F-7B99-486F-8F4F-4EE334205E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300816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300816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10335-19A3-47BC-B369-422C17174E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9872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998720" y="39272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3907C-D687-44DE-8044-A43B774646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74560" y="15224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91560" y="15224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1474560" y="39272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2491560" y="39272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2C0CC-2280-43C0-8015-E783194264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300816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5E38-995D-4431-AEB0-995EBDCFC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146772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1998720" y="1522440"/>
            <a:ext cx="146772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69E1-9CA6-42D5-8205-5ED1C1935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659B-27C6-472F-924A-8011764C7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816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3442-301C-46EB-8BB4-16E95D5E8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1998720" y="1522440"/>
            <a:ext cx="146772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336EE-BA0A-4D5E-BD21-D0844CEC0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146772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99872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98720" y="39272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7B72-08F8-4A43-83A0-18B78BAE9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99872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300816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732E-9557-4884-A728-BCB81577D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1e2a6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1e2a6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09760" indent="-411480">
              <a:spcBef>
                <a:spcPts val="700"/>
              </a:spcBef>
              <a:buClr>
                <a:srgbClr val="000000"/>
              </a:buClr>
              <a:buSzPct val="64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30160" indent="-28404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095480" indent="-228600">
              <a:spcBef>
                <a:spcPts val="700"/>
              </a:spcBef>
              <a:buClr>
                <a:srgbClr val="000000"/>
              </a:buClr>
              <a:buSzPct val="94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1436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0660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0660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0660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21200" y="6603840"/>
            <a:ext cx="16524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FF6B-9AE8-46F4-B629-8D658338A9ED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beaa7"/>
                </a:solidFill>
                <a:latin typeface="Lucida Sans"/>
              </a:rPr>
              <a:t>Click to edit the title text format</a:t>
            </a: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22440"/>
            <a:ext cx="300816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4612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2" marL="86688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3" marL="113184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4" marL="132408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5" marL="132408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6" marL="132408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521200" y="6603840"/>
            <a:ext cx="16524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3839-6078-49A8-BB83-4327E1F7059D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88880" y="428760"/>
            <a:ext cx="8164440" cy="56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12400" y="355320"/>
            <a:ext cx="3143160" cy="577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В качестве чучела, которое приносится в жертву, изготавливали большую смешную и в то же время страшную куклу, олицетворяющую собой Масленицу. Делали куклу из тряпок и соломы. После чего её наряжали в женскую одежду и оставляли на главной улице деревни на время Масленичной недели. А в воскресенье торжественно несли за пределы селения. Там чучело сжигали. Ритуальное сжигание куклы имело глубокий смысл: уничтожить символ зимы необходимо для воскрешения его силы весной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397320" y="855720"/>
            <a:ext cx="5549760" cy="4495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84040"/>
            <a:ext cx="3008160" cy="584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Отмечают праздник с понедельника по воскресенье. На Масленой неделе каждый день принято проводить по-своему, соблюдая традиции наших предков.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Понедельник</a:t>
            </a:r>
            <a:r>
              <a:rPr b="0" lang="en-US" sz="16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 называют «Встреча Масленицы». В этот день начинают печь блины. Первый блин принято отдавать бедным и нуждающимся людям. В понедельник наши предки готовили чучело, одевали его в лохмотья и выставляли его на главной улице деревни.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Вторник</a:t>
            </a:r>
            <a:r>
              <a:rPr b="0" lang="en-US" sz="16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 прозвали «Заигрыш». Его посвящали молодежи. В этот день устраивали народные гуляния: катались на санях, ледяных горках, каруселях.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575160" y="1246320"/>
            <a:ext cx="5118120" cy="3911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84040"/>
            <a:ext cx="3008160" cy="584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Среда</a:t>
            </a:r>
            <a:r>
              <a:rPr b="0" lang="en-US" sz="1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 – «Лакомка». В этот день звали в дом гостей (друзей, родных, соседей). Их угощали блинами, медовыми пряниками и пирогами. Также в этот день проводились конные бега и кулачные бои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Четверг</a:t>
            </a:r>
            <a:r>
              <a:rPr b="0" lang="en-US" sz="1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 в народе прозвали «Разгуляй». С этого дня начинается Широкая Масленица, которая сопровождается играми в снежки, катанием на санках, веселыми хороводами и песнопениями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Пятницу</a:t>
            </a:r>
            <a:r>
              <a:rPr b="0" lang="en-US" sz="1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 прозвали «Тещины вечерки», потому что в этот день зятья приглашали тещу в свой дом и угощали вкусными блинами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575160" y="1620720"/>
            <a:ext cx="5118120" cy="3162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84040"/>
            <a:ext cx="3008160" cy="584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Суббота</a:t>
            </a: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 – «Золовкины посиделки». Невестки приглашали в свой дом сестер мужа, беседовали с ними, угощали блинами и дарили подарки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Воскресенье</a:t>
            </a: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 – апофеоз Масленицы. Этот день получил название «Прощеное воскресенье». В воскресенье прощались с зимой, провожали Масленицу и символично сжигали её чучело. В этот день принято просить у знакомых и родных прощения за обиды, накопившиеся за весь год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395520" y="927000"/>
            <a:ext cx="5651640" cy="435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283680"/>
            <a:ext cx="7900920" cy="357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Дата Масленицы меняется каждый год в    зависимости от даты празднования Пасхи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Масленица в 2017 году начнется 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20 февраля</a:t>
            </a:r>
            <a:r>
              <a:rPr b="0" lang="en-US" sz="2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, а датой её окончания станет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26  февраля</a:t>
            </a:r>
            <a:r>
              <a:rPr b="0" lang="en-US" sz="2800" spc="-1" strike="noStrike">
                <a:solidFill>
                  <a:srgbClr val="00206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8600" y="2784600"/>
            <a:ext cx="8432640" cy="278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355320"/>
            <a:ext cx="3008160" cy="577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Масленица – один из самых веселых и долгожданных праздников в году, празднование которого длиться семь дней. В это время люди веселятся, ходят в гости, устраивают гуляния, пекут и едят блины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486240" y="1069920"/>
            <a:ext cx="5194080" cy="4216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55680" y="283680"/>
            <a:ext cx="3109680" cy="6288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На самом деле Масленица является языческим праздником, который со временем несколько изменился.  В дохристианской Руси празднование называли «Проводы зимы»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Наши предки почитали солнце, как Бога. И с наступлением первых весенних деньков, радовались, что солнышко начинает прогревать землю. Поэтому и появилась традиция печь круглы, по форме напоминающие солнце, лепешки. Считалось, что съев такое кушанье, человек получит частичку солнечного света и тепла. Со временем лепешки заменили блинами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575160" y="1212840"/>
            <a:ext cx="5118120" cy="3924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84040"/>
            <a:ext cx="3008160" cy="584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В первые три дня праздника шла активная подготовка к торжеству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привозили дрова для костра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украшали избы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строили горы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Главное празднование проходило с четверга по воскресенье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75160" y="1495440"/>
            <a:ext cx="5118120" cy="3403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12760" y="284040"/>
            <a:ext cx="2928960" cy="584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В некоторых селениях молодёжь ходила по домам с бубнами, рожками, балалайками, распевая колядки. Городские жители участвовали в праздничных гуляньях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одевались в лучшие наряды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шли на театральные представления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посещали балаганы, чтобы посмотреть на потехи с медведем и скоморохов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149640" y="1069920"/>
            <a:ext cx="5918040" cy="4648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284040"/>
            <a:ext cx="3008160" cy="584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Главным развлечением было катание детей и молодежи с ледяных горок, которые старались украсить фонариками и флажками. Для катания использовались: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рогожи;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санки;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коньки;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шкуры;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ледянки;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деревянные корыта.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86320" y="272880"/>
            <a:ext cx="5087880" cy="5853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284040"/>
            <a:ext cx="3008160" cy="584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Ещё одним веселым событием было взятие ледяной крепости. Парни строили снежный городок с воротами, туда сажали стражу, а потом шли в атаку: врывались в ворота и лезли на стены. Осаждённые оборонялись. как могли: в ход шли снежки, мётлы и нагайк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575160" y="1282680"/>
            <a:ext cx="5118120" cy="3835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12760"/>
            <a:ext cx="3008160" cy="5913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3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В Масленицу парни и молодые мужчины показывали свою прыть в кулачном бою. Участвовать в боях могли жители двух деревень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К бою серьёзно готовились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парились в банях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сытно ели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обращались к колдунам с просьбой дать специальный заговор на победу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575160" y="1503360"/>
            <a:ext cx="5118120" cy="3390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284040"/>
            <a:ext cx="3008160" cy="584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Как много лет назад, так и сегодня кульминацией Масленицы считается сжигание чучела. Это действие символизирует наступления весны и ухода зимы. Предваряют сожжение игры, хороводы, песни и пляски, сопровождающиеся угощением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575160" y="1301760"/>
            <a:ext cx="5118120" cy="3797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/>
  <cp:revision>0</cp:revision>
  <dc:subject/>
  <dc:title>Масленица</dc:title>
</cp:coreProperties>
</file>