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7C3-160B-49F4-8262-6BF6E10BB9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9D50-FAD7-4A94-9019-BEE7C63D69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C8FE-007B-4707-92D6-089313BD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83D-500B-4750-89A3-A83E07E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FD7-3B87-49A0-97C1-B452BB2B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BAF-0765-46AB-BC39-D5A953D5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2B38-A010-4170-A731-445F991D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CE7-4EA4-42FD-92FB-FD16BF2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2664-DAB1-4E42-9107-DE51E3B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1492-75ED-4CCB-9034-E63EF9E6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3AE-7921-4EF3-BE40-63A7C10F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CB72-3E9F-47A6-A583-D7F7F76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CDD2-91B7-4683-886E-A78C520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951-2C42-41B1-934D-AA90A8BD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D4CA-672A-447F-9EAB-ACEB838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6411-41CA-4A8C-AB3A-1364928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1506-1FA6-49C8-B281-49A52C0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364D-8642-4787-B3B3-61918CB6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063D-DB7E-4480-A5E8-B14F9942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273-C0A8-48AE-9690-7A6F1152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234-D198-42FA-884D-BDD0CA84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1C4-4F25-4B5A-8EDC-1C43003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89D-E100-420E-86DA-BDC32D9E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9203-F5CA-4D03-AB96-A9078E8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261-1DD0-4F89-9DB8-6EA34BEF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9B5-8955-46D7-A513-54537E9B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A19A-F944-43B7-9BEE-27A6EEDB95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2B4A-0C48-4829-A120-8F6BE3E6FC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-31644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99ff"/>
                </a:solidFill>
                <a:latin typeface="Arial"/>
              </a:rPr>
              <a:t>Решение уравнений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76360" y="83664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к-обобщения и систематизации зн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948360" y="6211800"/>
            <a:ext cx="2303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енко Татьяна Михайловна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БОУ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Ш № 5 с. Садовое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Расположите по порядку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 + х = 35 –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 + 2х = 35 – 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 =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3х = 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20907E-006 L 0.00139 -0.08141 E">
                                      <p:cBhvr>
                                        <p:cTn id="9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524E-007 L -0.00139 0.08141 E">
                                      <p:cBhvr>
                                        <p:cTn id="92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017E-007 L -8.33333E-007 0.11286 E">
                                      <p:cBhvr>
                                        <p:cTn id="94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0.02775 L -0.00972 -0.08372 E">
                                      <p:cBhvr>
                                        <p:cTn id="96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s://fs00.infourok.ru/images/doc/139/161882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Текстовая задач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08000" y="1125360"/>
            <a:ext cx="8928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первом альбоме в три раза больше марок о спорте, чем во втором. Когда из первого альбома взяли 8 марок, а во второй альбом добавили 14 марок, то в обоих альбомах марок о спорте стало поровну. Сколько марок о спорте было в каждом альбоме первоначальн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5" descr="https://im0-tub-ru.yandex.net/i?id=82322b1e8f11033c2c23695d391c408e&amp;n=13"/>
          <p:cNvPicPr/>
          <p:nvPr/>
        </p:nvPicPr>
        <p:blipFill>
          <a:blip r:embed="rId1"/>
          <a:stretch/>
        </p:blipFill>
        <p:spPr>
          <a:xfrm>
            <a:off x="324000" y="2997360"/>
            <a:ext cx="4752720" cy="1761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http://ukrafil.com/_mod_files/ce_images/MD2014/MD00569.jpg"/>
          <p:cNvPicPr/>
          <p:nvPr/>
        </p:nvPicPr>
        <p:blipFill>
          <a:blip r:embed="rId2"/>
          <a:stretch/>
        </p:blipFill>
        <p:spPr>
          <a:xfrm>
            <a:off x="293760" y="4941720"/>
            <a:ext cx="4775040" cy="142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https://sputnik-news.ee/images/869/13/8691324.jpg"/>
          <p:cNvPicPr/>
          <p:nvPr/>
        </p:nvPicPr>
        <p:blipFill>
          <a:blip r:embed="rId3"/>
          <a:stretch/>
        </p:blipFill>
        <p:spPr>
          <a:xfrm>
            <a:off x="5796000" y="2997360"/>
            <a:ext cx="25113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60200" y="1125360"/>
            <a:ext cx="35290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ешите уравн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4х=-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4х=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0,3х=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2х=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2х+4=х-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-х=2х-0,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0,4(6х-7)=0,5(3х+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5148360" y="1125360"/>
            <a:ext cx="36716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ешите уравн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5х=-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5х=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0,2х=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2х=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4х+7=3х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-х=3х-0,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0,3(5х-7)=3(0,2х+3,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5278320"/>
          <a:ext cx="3456000" cy="757440"/>
        </p:xfrm>
        <a:graphic>
          <a:graphicData uri="http://schemas.openxmlformats.org/drawingml/2006/table">
            <a:tbl>
              <a:tblPr/>
              <a:tblGrid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92720" y="5348160"/>
          <a:ext cx="3456000" cy="757440"/>
        </p:xfrm>
        <a:graphic>
          <a:graphicData uri="http://schemas.openxmlformats.org/drawingml/2006/table">
            <a:tbl>
              <a:tblPr/>
              <a:tblGrid>
                <a:gridCol w="493560"/>
                <a:gridCol w="493920"/>
                <a:gridCol w="493560"/>
                <a:gridCol w="493920"/>
                <a:gridCol w="493560"/>
                <a:gridCol w="493920"/>
                <a:gridCol w="493560"/>
              </a:tblGrid>
              <a:tr h="37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https://im0-tub-ru.yandex.net/i?id=8c086e69faead0a3433116aef76a5a15&amp;n=13"/>
          <p:cNvPicPr/>
          <p:nvPr/>
        </p:nvPicPr>
        <p:blipFill>
          <a:blip r:embed="rId1"/>
          <a:stretch/>
        </p:blipFill>
        <p:spPr>
          <a:xfrm>
            <a:off x="108000" y="115920"/>
            <a:ext cx="5040360" cy="2521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https://im0-tub-ru.yandex.net/i?id=3de2dc4c06c61ee669265c668b9c06ab&amp;n=13"/>
          <p:cNvPicPr/>
          <p:nvPr/>
        </p:nvPicPr>
        <p:blipFill>
          <a:blip r:embed="rId2"/>
          <a:stretch/>
        </p:blipFill>
        <p:spPr>
          <a:xfrm>
            <a:off x="3708360" y="4076640"/>
            <a:ext cx="52912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208" name="Picture 106" descr="https://img.huffingtonpost.com/asset/5a0eb6a0140000280050dfc8.jpg?ops=1910_1000"/>
          <p:cNvPicPr/>
          <p:nvPr/>
        </p:nvPicPr>
        <p:blipFill>
          <a:blip r:embed="rId1"/>
          <a:stretch/>
        </p:blipFill>
        <p:spPr>
          <a:xfrm>
            <a:off x="1763640" y="3429000"/>
            <a:ext cx="6145200" cy="3216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60200" y="1125360"/>
            <a:ext cx="83725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вторить п.18, №2-3, страница 17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https://stillmed.olympic.org/media/Videos/2017/02/27/PyeongChang-2018_Mascot-Animation_Soohorang_thumbna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пасибо за урок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44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Г.К. Муравин, О.В. Муравина Математика, 6 класс. - М.: ДРОФА, 2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585288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ешаем устно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2376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1) -50+30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) -8,3-7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3) -0,6*12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4) -0,4*(-1,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19280" y="4869000"/>
          <a:ext cx="6095880" cy="7426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0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3"/>
          <p:cNvSpPr/>
          <p:nvPr/>
        </p:nvSpPr>
        <p:spPr>
          <a:xfrm>
            <a:off x="2916360" y="1413000"/>
            <a:ext cx="2736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5) 5,4-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) 3,5*(-0,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7) -57: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s://avatars.mds.yandex.net/get-pdb/805160/5f6a8016-8bd4-4738-854d-efbd95998ad6/s1200?webp=false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36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хоран-талисман 23-й зимней олимпиады в Пхёнчхане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395280" y="115920"/>
            <a:ext cx="856944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 диаграмме представлены данные о высоте над уровнем моря нескольких столиц зимних Олимпийских иг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579680" y="1413000"/>
            <a:ext cx="6391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27000"/>
            <a:ext cx="8569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тоги лыжных гонок на дистанции 30 км.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836640"/>
          <a:ext cx="6503760" cy="1249200"/>
        </p:xfrm>
        <a:graphic>
          <a:graphicData uri="http://schemas.openxmlformats.org/drawingml/2006/table">
            <a:tbl>
              <a:tblPr/>
              <a:tblGrid>
                <a:gridCol w="1299960"/>
                <a:gridCol w="1301760"/>
                <a:gridCol w="1300320"/>
                <a:gridCol w="1301760"/>
                <a:gridCol w="1299960"/>
              </a:tblGrid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мен Крюг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ртин Сундб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нс Холун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Норвег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нис Спи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Росс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орис Маниф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Франци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0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8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29,9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32, 7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1 час 16 мин. 34,2 сек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de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" descr="https://pbs.twimg.com/media/DVv-dyYX0AAzxp6.jpg:large"/>
          <p:cNvPicPr/>
          <p:nvPr/>
        </p:nvPicPr>
        <p:blipFill>
          <a:blip r:embed="rId1"/>
          <a:stretch/>
        </p:blipFill>
        <p:spPr>
          <a:xfrm>
            <a:off x="1332000" y="2349360"/>
            <a:ext cx="66229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Arial"/>
              </a:rPr>
              <a:t>Решите устно уравнения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33940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х – 5 = 13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6 + х = 0,3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1,7 х = 17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х : 15 = 0,1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3х + 5х = 8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7х – х= 12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5х + х = 36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104000" y="1568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001760" y="2060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-5,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139640" y="2541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140000" y="30686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276440" y="3549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276440" y="4089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313160" y="459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662280" y="1484280"/>
            <a:ext cx="165744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Чтобы решить уравнение надо: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скрыть скобки (если они ес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еренести слагаемые с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 левую часть уравнения, без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 правую часть уравнения, поменяв знаки слагаемых на противополож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Привести подобные слагаем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Разделить на коэффициент перед 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х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бе</a:t>
            </a:r>
            <a:r>
              <a:rPr b="0" i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части урав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C:\Users\Михаил\Desktop\20248278_fb_1509427744.4245_updates.jpg"/>
          <p:cNvPicPr/>
          <p:nvPr/>
        </p:nvPicPr>
        <p:blipFill>
          <a:blip r:embed="rId1"/>
          <a:stretch/>
        </p:blipFill>
        <p:spPr>
          <a:xfrm>
            <a:off x="2627280" y="4221000"/>
            <a:ext cx="43210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Лови ошибку!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3+2х =3х –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+3х = -7 – 23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5х = -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 = -30: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= 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00000" y="2205000"/>
            <a:ext cx="3167280" cy="2531160"/>
          </a:xfrm>
          <a:prstGeom prst="rect">
            <a:avLst/>
          </a:prstGeom>
          <a:solidFill>
            <a:srgbClr val="b5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2х - 3х = -7-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-х = -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х=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шение уравнений</a:t>
            </a:r>
            <a:endParaRPr b="0" lang="en-US" sz="28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1) 5- 3,5х=11-2,3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2) 8+3,5х=5х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3) 2(х-3)-4(х+1)=5х-3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4) 2х:1,8=2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2,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5) 46,5:(2х)=7,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х=3,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C:\Users\Михаил\Desktop\66.jpg"/>
          <p:cNvPicPr/>
          <p:nvPr/>
        </p:nvPicPr>
        <p:blipFill>
          <a:blip r:embed="rId1"/>
          <a:stretch/>
        </p:blipFill>
        <p:spPr>
          <a:xfrm>
            <a:off x="6156360" y="4149720"/>
            <a:ext cx="2844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6:31:10Z</dcterms:created>
  <dc:creator>1</dc:creator>
  <dc:description/>
  <dc:language>en-US</dc:language>
  <cp:lastModifiedBy>Михаил</cp:lastModifiedBy>
  <dcterms:modified xsi:type="dcterms:W3CDTF">2018-02-15T20:12:37Z</dcterms:modified>
  <cp:revision>32</cp:revision>
  <dc:subject/>
  <dc:title>Решение уравнений</dc:title>
</cp:coreProperties>
</file>