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8E0F-E43B-4F88-A6F8-EE3B4A97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9E67-224C-40DA-8107-429A8205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82D-B193-4B9E-90C8-01E0B4F1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E4E5-5CA4-451B-B5B5-E9B45AE1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1A2A-2D17-492A-9B2B-EE6250658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12FA-E0AA-47D1-A65E-9EF46D6C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F6AE-B820-4077-B445-E191CF0F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85C3-4214-4669-A262-8535C505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9EA9-2B11-4FE5-BEFC-4BBD1B79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1DCB-8CDF-49F2-8449-27A1DE23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7032-40BF-4396-9267-81DE5438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70A2-BFEE-4878-8FE1-88E2770D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4ED5-9966-4C1C-AE2C-C0BB488B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6F74-87C8-42CD-B141-A2A5EB3C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0DE4-F114-4B2D-8A57-3F833E15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47B6-FB85-452E-96B1-1DD3D512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E644-7C80-4D8E-BDAC-DB51DB56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F06C-2756-4217-9E45-6E5960A7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6D30-BF42-4B09-8D85-A642C5B5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7CA3-D2B3-4663-B8A8-DC454AD7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A035-4ACF-4B3D-8446-573C809F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071-0752-4737-A994-C7B2F9F5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0CF0-962D-4B2F-89F0-A9B3AA24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2D36-8798-45FD-A01D-2FD7FC6A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B15D-2998-4AB2-8602-346DAF2EB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2435-9600-4F03-B286-B676685C4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719604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Arial Narrow"/>
              </a:rPr>
              <a:t>ПАМЯТЬ В БРОНЗЕ  И КАМНЕ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258920" y="184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Творческая  работа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«КОЛОКОЛА   ХАТЫНИ»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4635360" cy="3085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219640" y="3191040"/>
            <a:ext cx="3624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2b2b2"/>
                </a:solidFill>
                <a:latin typeface="Arial"/>
              </a:rPr>
              <a:t>                                                   </a:t>
            </a: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Работу  выполнили  ученики  5  класса  «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                                                     </a:t>
            </a: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Кравченко  Захар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                                                     </a:t>
            </a: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Лаукерт  Вик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Классный  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Чабан Валентина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6520" y="474840"/>
            <a:ext cx="62866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 Narrow"/>
              </a:rPr>
              <a:t>Хатынь – это символ великой трагедии</a:t>
            </a:r>
            <a:r>
              <a:rPr b="0" lang="en-US" sz="4400" spc="-1" strike="noStrike">
                <a:solidFill>
                  <a:srgbClr val="3018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35000" y="1828800"/>
            <a:ext cx="6032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5003640" cy="16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Слышали вы в Хатыни</a:t>
            </a:r>
            <a:br>
              <a:rPr sz="2400"/>
            </a:b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Траурный перезвон?</a:t>
            </a:r>
            <a:br>
              <a:rPr sz="2400"/>
            </a:b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Кровь от ужаса стынет,</a:t>
            </a:r>
            <a:br>
              <a:rPr sz="2400"/>
            </a:b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Только раздастся он…</a:t>
            </a:r>
            <a:br>
              <a:rPr sz="2400"/>
            </a:br>
            <a:endParaRPr b="0" lang="en-US" sz="24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49520" y="2982960"/>
            <a:ext cx="561168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920" y="695160"/>
            <a:ext cx="791064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Бронзовый исполин с мёртвым мальчиком на руках в скорбном молчании глядит на людей</a:t>
            </a:r>
            <a:r>
              <a:rPr b="0" lang="en-US" sz="4400" spc="-1" strike="noStrike">
                <a:solidFill>
                  <a:srgbClr val="3018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38480" y="1828800"/>
            <a:ext cx="5427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85360" y="333360"/>
            <a:ext cx="855828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Arial Narrow"/>
              </a:rPr>
              <a:t>Хатынский мемориал стал местом всенародного поклонения</a:t>
            </a:r>
            <a:r>
              <a:rPr b="0" lang="ru-RU" sz="4000" spc="-1" strike="noStrike">
                <a:solidFill>
                  <a:srgbClr val="996633"/>
                </a:solidFill>
                <a:latin typeface="Arial Narrow"/>
              </a:rPr>
              <a:t>.</a:t>
            </a: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158" name="" descr="Мемориальный комплекс "/>
          <p:cNvPicPr/>
          <p:nvPr/>
        </p:nvPicPr>
        <p:blipFill>
          <a:blip r:embed="rId1"/>
          <a:stretch/>
        </p:blipFill>
        <p:spPr>
          <a:xfrm>
            <a:off x="1566720" y="2354400"/>
            <a:ext cx="677088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Arial Narrow"/>
              </a:rPr>
              <a:t>Мы  помним…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6059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09:31:21Z</dcterms:created>
  <dc:creator>Чабан  Валентина Леонидовна</dc:creator>
  <dc:description/>
  <dc:language>en-US</dc:language>
  <cp:lastModifiedBy>Чабан  Валентина Леонидовна</cp:lastModifiedBy>
  <dcterms:modified xsi:type="dcterms:W3CDTF">2015-02-19T09:41:59Z</dcterms:modified>
  <cp:revision>6</cp:revision>
  <dc:subject/>
  <dc:title>ПАМЯТЬ В БРОНЗЕ  И КАМНЕ</dc:title>
</cp:coreProperties>
</file>