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90E3-7E38-41AB-BBF1-9F152422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B513-51FD-4DF2-8FAD-ADA54EFE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A3A3-4AD3-4669-8D5B-BC2DC477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FFAC-3552-429D-81B2-1AF4D210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0379-7898-4D13-B78B-87BDDDE5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5EE1-C059-4B5D-8407-904309C0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DD58-C842-47D4-BFB5-AA12CFEB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5E40-0875-4BB3-9365-B49C6A24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C10A-B2DB-4EDC-878C-47B12BE6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06AB-389D-4378-88C3-409ED035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04BA-7A26-4FED-B143-72DFE594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967B-C358-4523-BF11-8CD46A86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F4CD-2FDD-4CE4-B31C-A9565D89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7240-21DF-4F01-AF72-A04A9005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929E-957D-49B6-AAC6-C20A325C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2C3D-6700-4C10-A991-44A86951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DF21-DEAE-484D-8179-D52E84A3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2D48-D486-4BAA-9C99-78DC6BE4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3EAF-8313-40AD-84D6-849972AF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DED5-B565-484A-A273-92FEF804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4BFA-C8BE-4D3B-9A63-41A4346C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2A75-7573-4C71-A3E1-B31F2C5F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271A-B235-4FCB-BBCC-621774C3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39CD-2BA7-477D-A89C-CCCC54D8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8D62-2D8D-4898-96AE-912CB4C0C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343B-FD88-4406-98AC-D63C37FBB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719604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Arial Narrow"/>
              </a:rPr>
              <a:t>ПАМЯТЬ В БРОНЗЕ  И КАМНЕ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258920" y="184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Творческая  работа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«КОЛОКОЛА   ХАТЫНИ»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4635360" cy="3085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219640" y="3191040"/>
            <a:ext cx="3624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2b2b2"/>
                </a:solidFill>
                <a:latin typeface="Arial"/>
              </a:rPr>
              <a:t>                                                   </a:t>
            </a: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Работу  выполнили  ученики  5  класса  «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                                                     </a:t>
            </a: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Кравченко  Захар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                                                     </a:t>
            </a: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Лаукерт  Вик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Классный  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Чабан Валентина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6520" y="474840"/>
            <a:ext cx="62866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 Narrow"/>
              </a:rPr>
              <a:t>Хатынь – это символ великой трагедии</a:t>
            </a:r>
            <a:r>
              <a:rPr b="0" lang="en-US" sz="4400" spc="-1" strike="noStrike">
                <a:solidFill>
                  <a:srgbClr val="3018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35000" y="1828800"/>
            <a:ext cx="6032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5003640" cy="16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Слышали вы в Хатыни</a:t>
            </a:r>
            <a:br>
              <a:rPr sz="2400"/>
            </a:b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Траурный перезвон?</a:t>
            </a:r>
            <a:br>
              <a:rPr sz="2400"/>
            </a:b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Кровь от ужаса стынет,</a:t>
            </a:r>
            <a:br>
              <a:rPr sz="2400"/>
            </a:b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Только раздастся он…</a:t>
            </a:r>
            <a:br>
              <a:rPr sz="2400"/>
            </a:br>
            <a:endParaRPr b="0" lang="en-US" sz="24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49520" y="2982960"/>
            <a:ext cx="561168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920" y="695160"/>
            <a:ext cx="791064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Бронзовый исполин с мёртвым мальчиком на руках в скорбном молчании глядит на людей</a:t>
            </a:r>
            <a:r>
              <a:rPr b="0" lang="en-US" sz="4400" spc="-1" strike="noStrike">
                <a:solidFill>
                  <a:srgbClr val="3018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38480" y="1828800"/>
            <a:ext cx="5427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85360" y="333360"/>
            <a:ext cx="855828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Arial Narrow"/>
              </a:rPr>
              <a:t>Хатынский мемориал стал местом всенародного поклонения</a:t>
            </a:r>
            <a:r>
              <a:rPr b="0" lang="ru-RU" sz="4000" spc="-1" strike="noStrike">
                <a:solidFill>
                  <a:srgbClr val="996633"/>
                </a:solidFill>
                <a:latin typeface="Arial Narrow"/>
              </a:rPr>
              <a:t>.</a:t>
            </a: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158" name="" descr="Мемориальный комплекс "/>
          <p:cNvPicPr/>
          <p:nvPr/>
        </p:nvPicPr>
        <p:blipFill>
          <a:blip r:embed="rId1"/>
          <a:stretch/>
        </p:blipFill>
        <p:spPr>
          <a:xfrm>
            <a:off x="1566720" y="2354400"/>
            <a:ext cx="677088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Arial Narrow"/>
              </a:rPr>
              <a:t>Мы  помним…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6059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09:31:21Z</dcterms:created>
  <dc:creator>Чабан  Валентина Леонидовна</dc:creator>
  <dc:description/>
  <dc:language>en-US</dc:language>
  <cp:lastModifiedBy>Чабан  Валентина Леонидовна</cp:lastModifiedBy>
  <dcterms:modified xsi:type="dcterms:W3CDTF">2015-02-19T09:41:59Z</dcterms:modified>
  <cp:revision>6</cp:revision>
  <dc:subject/>
  <dc:title>ПАМЯТЬ В БРОНЗЕ  И КАМНЕ</dc:title>
</cp:coreProperties>
</file>