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366-2A0C-4FEB-9F57-81461B62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0AD-3BE4-4A82-985F-2F746FD4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63F-57EB-4FF1-817A-5412508B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F2E-EFB3-419B-981C-C10F9CDF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FAF-33E4-4227-B749-6715844B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1AE-6D94-40BB-B3E6-CF2E8089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E0E-E06C-4593-881C-59B338F1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927-6638-4867-9110-7C65BAC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E2E-10A8-4AF4-BC40-4B83A31D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549-7670-435D-85CE-AAEA349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93B-9382-4A46-9A83-DD281085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5B3-3D1E-49C9-A5F9-5C6CA421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C35-BBF9-4904-87C8-10E32BE1F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2880" y="917640"/>
            <a:ext cx="7772400" cy="12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«Атомы химических элементов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9760" y="298116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из урок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Знать – значит победит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академик Несмеян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Atom_bor2"/>
          <p:cNvPicPr/>
          <p:nvPr/>
        </p:nvPicPr>
        <p:blipFill>
          <a:blip r:embed="rId1"/>
          <a:stretch/>
        </p:blipFill>
        <p:spPr>
          <a:xfrm>
            <a:off x="365040" y="1450800"/>
            <a:ext cx="1586160" cy="158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mendel"/>
          <p:cNvPicPr/>
          <p:nvPr/>
        </p:nvPicPr>
        <p:blipFill>
          <a:blip r:embed="rId2"/>
          <a:stretch/>
        </p:blipFill>
        <p:spPr>
          <a:xfrm>
            <a:off x="681120" y="3857760"/>
            <a:ext cx="42307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7920" y="1336320"/>
            <a:ext cx="78865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61560" indent="-615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CaMgAlOCrSiBSZ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Среди перечисленных знаков эле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выберите только те, что находя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группе главной подгрупп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1560" indent="-61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период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61080" y="3718080"/>
            <a:ext cx="1135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, 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925720" y="481644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l, Si, 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7400" y="1312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е массовую долю кислорода ω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в кварцевом песк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l--chernozem_zemlya_picN13363321"/>
          <p:cNvPicPr/>
          <p:nvPr/>
        </p:nvPicPr>
        <p:blipFill>
          <a:blip r:embed="rId1"/>
          <a:stretch/>
        </p:blipFill>
        <p:spPr>
          <a:xfrm>
            <a:off x="5284800" y="2011320"/>
            <a:ext cx="2685960" cy="318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s://xn--b1agatbqgjneo2i.xn--p1ai/wp-content/uploads/2018/07/2018-07-18_9-48-43.jpg"/>
          <p:cNvPicPr/>
          <p:nvPr/>
        </p:nvPicPr>
        <p:blipFill>
          <a:blip r:embed="rId2"/>
          <a:stretch/>
        </p:blipFill>
        <p:spPr>
          <a:xfrm>
            <a:off x="868320" y="5310360"/>
            <a:ext cx="819144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43080" y="3459240"/>
            <a:ext cx="455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168840" indent="-16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ω (O) = 2 Ar(O)/Mr(SiO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8840" indent="-16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2×16/60 = 0,53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ли 5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11120" y="2332080"/>
            <a:ext cx="4416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r(SiO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=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r(Si) + 2Ar(O) = 28 + 2×16 = 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4157201100490057"/>
          <p:cNvPicPr/>
          <p:nvPr/>
        </p:nvPicPr>
        <p:blipFill>
          <a:blip r:embed="rId1"/>
          <a:stretch/>
        </p:blipFill>
        <p:spPr>
          <a:xfrm>
            <a:off x="665280" y="1231920"/>
            <a:ext cx="3089160" cy="435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006080" y="819000"/>
            <a:ext cx="4798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мокрит ( 460-370 г. до н.э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3c1"/>
                </a:solidFill>
                <a:latin typeface="Calibri"/>
              </a:rPr>
              <a:t>«Все тела состоят из мельчайш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63c1"/>
                </a:solidFill>
                <a:latin typeface="Calibri"/>
              </a:rPr>
              <a:t>неделимых частиц - атом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2444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4520" y="987120"/>
            <a:ext cx="84121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ьзуясь периодической системой, выбер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ко те элементы, которые имеют, по вашему мнению,  отношение к названиям географических объ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ьте готовы объяснить свой выб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40040" y="2914560"/>
            <a:ext cx="499428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000" y="1660320"/>
            <a:ext cx="7886520" cy="40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По электронным формулам определите элементы, которым они принадлежат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3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 Light"/>
              </a:rPr>
              <a:t>4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00160" y="2003400"/>
            <a:ext cx="7137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ергетический уровень, 1 электрон на внешнем слое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898640" y="2735280"/>
            <a:ext cx="642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2 энергетических уровня, 5 электронов на внешнем слое)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60720" y="3375000"/>
            <a:ext cx="598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4 энергетических уровня, 1 электрон на внешнем слое)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643120" y="4054320"/>
            <a:ext cx="6005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(3 энергетических уровня, 6 электронов на внешнем слое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3680" y="1204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563c1"/>
                </a:solidFill>
                <a:latin typeface="Calibri"/>
              </a:rPr>
              <a:t>Найдите ошибки в тек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мен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сположен в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е, побочной подгруппе, 3 периоде. В его атоме 2 энергетических уровня и 3 электрона на внешнем с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том алюминия содержит одинаковое число электронов, протонов и нейтронов равное 13. Относительная атомная масса алюминия равна 26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6240" y="5382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ссвор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кроссворд"/>
          <p:cNvPicPr/>
          <p:nvPr/>
        </p:nvPicPr>
        <p:blipFill>
          <a:blip r:embed="rId1"/>
          <a:stretch/>
        </p:blipFill>
        <p:spPr>
          <a:xfrm>
            <a:off x="981000" y="2473200"/>
            <a:ext cx="4438800" cy="3705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bush\Desktop\MeanMindlessGoitered-max-1mb.gif"/>
          <p:cNvPicPr/>
          <p:nvPr/>
        </p:nvPicPr>
        <p:blipFill>
          <a:blip r:embed="rId2"/>
          <a:stretch/>
        </p:blipFill>
        <p:spPr>
          <a:xfrm>
            <a:off x="5676840" y="306360"/>
            <a:ext cx="3200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С</a:t>
            </a:r>
            <a:r>
              <a:rPr b="1" lang="ru-RU" sz="4400" spc="-1" strike="noStrike">
                <a:solidFill>
                  <a:srgbClr val="c00000"/>
                </a:solidFill>
                <a:latin typeface="Calibri Light"/>
              </a:rPr>
              <a:t>па</a:t>
            </a:r>
            <a:r>
              <a:rPr b="1" lang="ru-RU" sz="4400" spc="-1" strike="noStrike">
                <a:solidFill>
                  <a:srgbClr val="ffff00"/>
                </a:solidFill>
                <a:latin typeface="Calibri Light"/>
              </a:rPr>
              <a:t>си</a:t>
            </a: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бо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за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ра</a:t>
            </a:r>
            <a:r>
              <a:rPr b="1" lang="ru-RU" sz="4400" spc="-1" strike="noStrike">
                <a:solidFill>
                  <a:srgbClr val="c00000"/>
                </a:solidFill>
                <a:latin typeface="Calibri Light"/>
              </a:rPr>
              <a:t>б</a:t>
            </a:r>
            <a:r>
              <a:rPr b="1" lang="ru-RU" sz="4400" spc="-1" strike="noStrike">
                <a:solidFill>
                  <a:srgbClr val="ffff00"/>
                </a:solidFill>
                <a:latin typeface="Calibri Light"/>
              </a:rPr>
              <a:t>о</a:t>
            </a:r>
            <a:r>
              <a:rPr b="1" lang="ru-RU" sz="4400" spc="-1" strike="noStrike">
                <a:solidFill>
                  <a:srgbClr val="00b050"/>
                </a:solidFill>
                <a:latin typeface="Calibri Light"/>
              </a:rPr>
              <a:t>т</a:t>
            </a: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у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Picture 3" descr="C:\Users\bush\Desktop\14a.gif"/>
          <p:cNvPicPr/>
          <p:nvPr/>
        </p:nvPicPr>
        <p:blipFill>
          <a:blip r:embed="rId1"/>
          <a:stretch/>
        </p:blipFill>
        <p:spPr>
          <a:xfrm>
            <a:off x="1208160" y="1932120"/>
            <a:ext cx="6710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bush</cp:lastModifiedBy>
  <dcterms:modified xsi:type="dcterms:W3CDTF">2020-11-15T18:24:14Z</dcterms:modified>
  <cp:revision>18</cp:revision>
  <dc:subject/>
  <dc:title>Презентация PowerPoint</dc:title>
</cp:coreProperties>
</file>