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58B4-9F5A-434D-A546-673C5376C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B82E-78A4-403B-9547-54B3C161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E3FD-ABBA-40B1-B209-FA07303F9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3AB6-DB95-44F5-8AD3-EF5F1F99A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B8B7-70F8-4B91-A2A2-043948BE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2489-7F6E-4085-BA78-2E9FCDB4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A5EC-1017-415D-8280-E3BBFB25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38FB-48FE-4485-9294-9A21F232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0809-8787-4CD5-ACCD-128BA896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6E3A-4209-4A85-8DDF-8353DFC7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7E43-7CDA-4DA2-B074-C3051692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154A-3273-44BA-AD95-2FD55F71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4BBD-08B6-4808-8A9D-6F52707318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12880" y="917640"/>
            <a:ext cx="7772400" cy="126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 Light"/>
              </a:rPr>
              <a:t>«Атомы химических элементов»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9760" y="2981160"/>
            <a:ext cx="6858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виз урока: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«Знать – значит победить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академик Несмеян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Atom_bor2"/>
          <p:cNvPicPr/>
          <p:nvPr/>
        </p:nvPicPr>
        <p:blipFill>
          <a:blip r:embed="rId1"/>
          <a:stretch/>
        </p:blipFill>
        <p:spPr>
          <a:xfrm>
            <a:off x="365040" y="1450800"/>
            <a:ext cx="1586160" cy="1586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mendel"/>
          <p:cNvPicPr/>
          <p:nvPr/>
        </p:nvPicPr>
        <p:blipFill>
          <a:blip r:embed="rId2"/>
          <a:stretch/>
        </p:blipFill>
        <p:spPr>
          <a:xfrm>
            <a:off x="681120" y="3857760"/>
            <a:ext cx="423072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 №1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37920" y="1336320"/>
            <a:ext cx="78865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7000"/>
          </a:bodyPr>
          <a:p>
            <a:pPr marL="61560" indent="-615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"/>
              </a:rPr>
              <a:t>CaMgAlOCrSiBSZ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61560" indent="-615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63c1"/>
                </a:solidFill>
                <a:latin typeface="Calibri"/>
              </a:rPr>
              <a:t>Среди перечисленных знаков элемен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1560" indent="-615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63c1"/>
                </a:solidFill>
                <a:latin typeface="Calibri"/>
              </a:rPr>
              <a:t>выберите только те, что находя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1560" indent="-615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1560" indent="-61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группе главной подгрупп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1560" indent="-61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1560" indent="-61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период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5761080" y="3718080"/>
            <a:ext cx="1135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, 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2925720" y="481644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l, Si, M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 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7400" y="131256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числите массовую долю кислорода ω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в кварцевом песк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O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l--chernozem_zemlya_picN13363321"/>
          <p:cNvPicPr/>
          <p:nvPr/>
        </p:nvPicPr>
        <p:blipFill>
          <a:blip r:embed="rId1"/>
          <a:stretch/>
        </p:blipFill>
        <p:spPr>
          <a:xfrm>
            <a:off x="5284800" y="2011320"/>
            <a:ext cx="2685960" cy="3184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https://xn--b1agatbqgjneo2i.xn--p1ai/wp-content/uploads/2018/07/2018-07-18_9-48-43.jpg"/>
          <p:cNvPicPr/>
          <p:nvPr/>
        </p:nvPicPr>
        <p:blipFill>
          <a:blip r:embed="rId2"/>
          <a:stretch/>
        </p:blipFill>
        <p:spPr>
          <a:xfrm>
            <a:off x="868320" y="5310360"/>
            <a:ext cx="8191440" cy="14572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343080" y="3459240"/>
            <a:ext cx="455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168840" indent="-1688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ω (O) = 2 Ar(O)/Mr(SiO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) 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8840" indent="-1688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2×16/60 = 0,53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или 53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411120" y="2332080"/>
            <a:ext cx="4416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Mr(SiO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)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 =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Ar(Si) + 2Ar(O) = 28 + 2×16 = 6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4157201100490057"/>
          <p:cNvPicPr/>
          <p:nvPr/>
        </p:nvPicPr>
        <p:blipFill>
          <a:blip r:embed="rId1"/>
          <a:stretch/>
        </p:blipFill>
        <p:spPr>
          <a:xfrm>
            <a:off x="665280" y="1231920"/>
            <a:ext cx="3089160" cy="43513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4006080" y="819000"/>
            <a:ext cx="47984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мокрит ( 460-370 г. до н.э.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63c1"/>
                </a:solidFill>
                <a:latin typeface="Calibri"/>
              </a:rPr>
              <a:t>«Все тела состоят из мельчайши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63c1"/>
                </a:solidFill>
                <a:latin typeface="Calibri"/>
              </a:rPr>
              <a:t>неделимых частиц - атомов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2444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 №4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4520" y="987120"/>
            <a:ext cx="84121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льзуясь периодической системой, выбери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лько те элементы, которые имеют, по вашему мнению,  отношение к названиям географических объекто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удьте готовы объяснить свой выбо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940040" y="2914560"/>
            <a:ext cx="499428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1000" y="1660320"/>
            <a:ext cx="7886520" cy="40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 №4</a:t>
            </a:r>
            <a:br>
              <a:rPr sz="2000"/>
            </a:br>
            <a:br>
              <a:rPr sz="2000"/>
            </a:br>
            <a:r>
              <a:rPr b="1" lang="ru-RU" sz="2800" spc="-1" strike="noStrike">
                <a:solidFill>
                  <a:srgbClr val="000000"/>
                </a:solidFill>
                <a:latin typeface="Calibri Light"/>
              </a:rPr>
              <a:t>По электронным формулам определите элементы, которым они принадлежат</a:t>
            </a:r>
            <a:br>
              <a:rPr sz="2800"/>
            </a:br>
            <a:br>
              <a:rPr sz="1600"/>
            </a:br>
            <a:r>
              <a:rPr b="1" lang="en-US" sz="2400" spc="-1" strike="noStrike">
                <a:solidFill>
                  <a:srgbClr val="000000"/>
                </a:solidFill>
                <a:latin typeface="Calibri Light"/>
              </a:rPr>
              <a:t>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 Light"/>
              </a:rPr>
              <a:t>1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 Light"/>
              </a:rPr>
              <a:t>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 Light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 Light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 Light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 Light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 Light"/>
              </a:rPr>
              <a:t>3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 Light"/>
              </a:rPr>
              <a:t>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 Light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 Light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 Light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 Light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 Light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Calibri Light"/>
              </a:rPr>
              <a:t>3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 Light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 Light"/>
              </a:rPr>
              <a:t>3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 Light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Calibri Light"/>
              </a:rPr>
              <a:t>4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 Light"/>
              </a:rPr>
              <a:t>1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 Light"/>
              </a:rPr>
              <a:t>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 Light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 Light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 Light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 Light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 Light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Calibri Light"/>
              </a:rPr>
              <a:t>3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 Light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 Light"/>
              </a:rPr>
              <a:t>3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 Light"/>
              </a:rPr>
              <a:t>4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1100160" y="2003400"/>
            <a:ext cx="7137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H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(1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энергетический уровень, 1 электрон на внешнем слое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898640" y="2735280"/>
            <a:ext cx="6429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N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(2 энергетических уровня, 5 электронов на внешнем слое)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060720" y="3375000"/>
            <a:ext cx="598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K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(4 энергетических уровня, 1 электрон на внешнем слое)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2643120" y="4054320"/>
            <a:ext cx="6005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(3 энергетических уровня, 6 электронов на внешнем слое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 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3680" y="12045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63c1"/>
                </a:solidFill>
                <a:latin typeface="Calibri"/>
              </a:rPr>
              <a:t>Найдите ошибки в текс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лемент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g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расположен в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I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руппе, побочной подгруппе, 3 периоде. В его атоме 2 энергетических уровня и 3 электрона на внешнем сло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том алюминия содержит одинаковое число электронов, протонов и нейтронов равное 13. Относительная атомная масса алюминия равна 26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6240" y="53820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 №7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оссворд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кроссворд"/>
          <p:cNvPicPr/>
          <p:nvPr/>
        </p:nvPicPr>
        <p:blipFill>
          <a:blip r:embed="rId1"/>
          <a:stretch/>
        </p:blipFill>
        <p:spPr>
          <a:xfrm>
            <a:off x="981000" y="2473200"/>
            <a:ext cx="4438800" cy="3705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C:\Users\bush\Desktop\MeanMindlessGoitered-max-1mb.gif"/>
          <p:cNvPicPr/>
          <p:nvPr/>
        </p:nvPicPr>
        <p:blipFill>
          <a:blip r:embed="rId2"/>
          <a:stretch/>
        </p:blipFill>
        <p:spPr>
          <a:xfrm>
            <a:off x="5676840" y="306360"/>
            <a:ext cx="32004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 Light"/>
              </a:rPr>
              <a:t>С</a:t>
            </a:r>
            <a:r>
              <a:rPr b="1" lang="ru-RU" sz="4400" spc="-1" strike="noStrike">
                <a:solidFill>
                  <a:srgbClr val="c00000"/>
                </a:solidFill>
                <a:latin typeface="Calibri Light"/>
              </a:rPr>
              <a:t>па</a:t>
            </a:r>
            <a:r>
              <a:rPr b="1" lang="ru-RU" sz="4400" spc="-1" strike="noStrike">
                <a:solidFill>
                  <a:srgbClr val="ffff00"/>
                </a:solidFill>
                <a:latin typeface="Calibri Light"/>
              </a:rPr>
              <a:t>си</a:t>
            </a:r>
            <a:r>
              <a:rPr b="1" lang="ru-RU" sz="4400" spc="-1" strike="noStrike">
                <a:solidFill>
                  <a:srgbClr val="00b050"/>
                </a:solidFill>
                <a:latin typeface="Calibri Light"/>
              </a:rPr>
              <a:t>бо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  </a:t>
            </a:r>
            <a:r>
              <a:rPr b="1" lang="ru-RU" sz="4400" spc="-1" strike="noStrike">
                <a:solidFill>
                  <a:srgbClr val="7030a0"/>
                </a:solidFill>
                <a:latin typeface="Calibri Light"/>
              </a:rPr>
              <a:t>за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  </a:t>
            </a:r>
            <a:r>
              <a:rPr b="1" lang="ru-RU" sz="4400" spc="-1" strike="noStrike">
                <a:solidFill>
                  <a:srgbClr val="ff0000"/>
                </a:solidFill>
                <a:latin typeface="Calibri Light"/>
              </a:rPr>
              <a:t>ра</a:t>
            </a:r>
            <a:r>
              <a:rPr b="1" lang="ru-RU" sz="4400" spc="-1" strike="noStrike">
                <a:solidFill>
                  <a:srgbClr val="c00000"/>
                </a:solidFill>
                <a:latin typeface="Calibri Light"/>
              </a:rPr>
              <a:t>б</a:t>
            </a:r>
            <a:r>
              <a:rPr b="1" lang="ru-RU" sz="4400" spc="-1" strike="noStrike">
                <a:solidFill>
                  <a:srgbClr val="ffff00"/>
                </a:solidFill>
                <a:latin typeface="Calibri Light"/>
              </a:rPr>
              <a:t>о</a:t>
            </a:r>
            <a:r>
              <a:rPr b="1" lang="ru-RU" sz="4400" spc="-1" strike="noStrike">
                <a:solidFill>
                  <a:srgbClr val="00b050"/>
                </a:solidFill>
                <a:latin typeface="Calibri Light"/>
              </a:rPr>
              <a:t>т</a:t>
            </a:r>
            <a:r>
              <a:rPr b="1" lang="ru-RU" sz="4400" spc="-1" strike="noStrike">
                <a:solidFill>
                  <a:srgbClr val="7030a0"/>
                </a:solidFill>
                <a:latin typeface="Calibri Light"/>
              </a:rPr>
              <a:t>у!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2" name="Picture 3" descr="C:\Users\bush\Desktop\14a.gif"/>
          <p:cNvPicPr/>
          <p:nvPr/>
        </p:nvPicPr>
        <p:blipFill>
          <a:blip r:embed="rId1"/>
          <a:stretch/>
        </p:blipFill>
        <p:spPr>
          <a:xfrm>
            <a:off x="1208160" y="1932120"/>
            <a:ext cx="67104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6T07:43:27Z</dcterms:created>
  <dc:creator>Инна</dc:creator>
  <dc:description/>
  <dc:language>en-US</dc:language>
  <cp:lastModifiedBy>bush</cp:lastModifiedBy>
  <dcterms:modified xsi:type="dcterms:W3CDTF">2020-11-15T18:24:14Z</dcterms:modified>
  <cp:revision>18</cp:revision>
  <dc:subject/>
  <dc:title>Презентация PowerPoint</dc:title>
</cp:coreProperties>
</file>