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12.png" ContentType="image/png"/>
  <Override PartName="/ppt/media/image19.jpeg" ContentType="image/jpeg"/>
  <Override PartName="/ppt/media/image18.jpeg" ContentType="image/jpeg"/>
  <Override PartName="/ppt/media/image1.jpeg" ContentType="image/jpeg"/>
  <Override PartName="/ppt/media/image7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6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9B66-64FE-4106-8E31-92FB71E45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BDD9-FE82-45E7-AD0E-A913C093A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23D5-ABC6-47CB-86AF-7F3543E06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38D6-9BE9-4DF2-A3D6-FB56CCDA1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0BD2-16DC-4EA1-B476-B046534A6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25C6-F0AE-417D-9191-9026074BF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B6D2-DE7A-460D-835D-196D70645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7CE5-FFC4-41DD-836E-D418686AB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8135-48DC-4ADE-89F1-C5742E26B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7B5C-5005-4BBA-8E21-A2F16AE4C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5119-2938-44D6-B218-5D930FC87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BAA7-6ABD-4CB1-AE7E-4F283717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ccffcc"/>
            </a:gs>
            <a:gs pos="100000">
              <a:srgbClr val="ff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003C2-4EBC-48EB-8A96-038C7F7992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304920" y="3352680"/>
            <a:ext cx="853416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66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"Мама , ты одна такая - любимая, родная"</a:t>
            </a:r>
            <a:endParaRPr b="1" i="1" lang="en-US" sz="1800" spc="1" strike="noStrike">
              <a:ln w="9360">
                <a:solidFill>
                  <a:srgbClr val="ff66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2" name="Picture 5" descr="м10"/>
          <p:cNvPicPr/>
          <p:nvPr/>
        </p:nvPicPr>
        <p:blipFill>
          <a:blip r:embed="rId2"/>
          <a:stretch/>
        </p:blipFill>
        <p:spPr>
          <a:xfrm>
            <a:off x="0" y="0"/>
            <a:ext cx="3200400" cy="24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4"/>
          <p:cNvSpPr/>
          <p:nvPr/>
        </p:nvSpPr>
        <p:spPr>
          <a:xfrm>
            <a:off x="5029200" y="4343400"/>
            <a:ext cx="4572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Книжки вечером чита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И всегда всё понима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Даже если я упрям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Знаю, любит меня МА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"/>
          <p:cNvPicPr/>
          <p:nvPr/>
        </p:nvPicPr>
        <p:blipFill>
          <a:blip r:embed="rId1"/>
          <a:stretch/>
        </p:blipFill>
        <p:spPr>
          <a:xfrm>
            <a:off x="6324480" y="0"/>
            <a:ext cx="2819520" cy="2819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C:\Users\123\Desktop\фото для презентации\6.jpg"/>
          <p:cNvPicPr/>
          <p:nvPr/>
        </p:nvPicPr>
        <p:blipFill>
          <a:blip r:embed="rId2"/>
          <a:srcRect l="0" t="9213" r="0" b="0"/>
          <a:stretch/>
        </p:blipFill>
        <p:spPr>
          <a:xfrm>
            <a:off x="533520" y="304920"/>
            <a:ext cx="43434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5943600" y="228600"/>
            <a:ext cx="2943360" cy="2674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C:\Users\123\Desktop\фото для презентации\8.jpg"/>
          <p:cNvPicPr/>
          <p:nvPr/>
        </p:nvPicPr>
        <p:blipFill>
          <a:blip r:embed="rId2"/>
          <a:stretch/>
        </p:blipFill>
        <p:spPr>
          <a:xfrm>
            <a:off x="609480" y="380880"/>
            <a:ext cx="4230720" cy="586764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5"/>
          <p:cNvSpPr/>
          <p:nvPr/>
        </p:nvSpPr>
        <p:spPr>
          <a:xfrm>
            <a:off x="4648320" y="3733920"/>
            <a:ext cx="4495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Подарок мамочке готов —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Большой-большой букет цветов.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Я рисовал его полдня…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Ну, поцелуй скорей меня!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5"/>
          <p:cNvSpPr/>
          <p:nvPr/>
        </p:nvSpPr>
        <p:spPr>
          <a:xfrm>
            <a:off x="3733920" y="4876920"/>
            <a:ext cx="45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Кто на свете самый чутки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Не сыскать ей лучшей слав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Самый добрый, самый мудры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- Ну, конечно, моя мам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C:\Users\123\Desktop\фото для презентации\5.jpg"/>
          <p:cNvPicPr/>
          <p:nvPr/>
        </p:nvPicPr>
        <p:blipFill>
          <a:blip r:embed="rId1"/>
          <a:srcRect l="0" t="30003" r="0" b="34001"/>
          <a:stretch/>
        </p:blipFill>
        <p:spPr>
          <a:xfrm>
            <a:off x="609480" y="304920"/>
            <a:ext cx="5639040" cy="42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WordArt 4"/>
          <p:cNvSpPr txBox="1"/>
          <p:nvPr/>
        </p:nvSpPr>
        <p:spPr>
          <a:xfrm>
            <a:off x="457200" y="914400"/>
            <a:ext cx="66294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66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ак можно чаще говорите</a:t>
            </a:r>
            <a:endParaRPr b="1" lang="en-US" sz="1800" spc="1" strike="noStrike">
              <a:ln w="9360">
                <a:solidFill>
                  <a:srgbClr val="ff66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8" name="WordArt 5"/>
          <p:cNvSpPr txBox="1"/>
          <p:nvPr/>
        </p:nvSpPr>
        <p:spPr>
          <a:xfrm>
            <a:off x="2743200" y="3581280"/>
            <a:ext cx="5715000" cy="149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друг другу добрые слова!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2438280" y="685800"/>
            <a:ext cx="4572000" cy="78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«Мама» — сколько в этом слов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Нежности, заботы и добра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Всю любовь и нежность, дорога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Ты нам, детям отда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И за это говорим спасибо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Кланяемся низко, до земл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И целуем руки трудовы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Ласковые, нежные тво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"/>
          <p:cNvPicPr/>
          <p:nvPr/>
        </p:nvPicPr>
        <p:blipFill>
          <a:blip r:embed="rId1"/>
          <a:stretch/>
        </p:blipFill>
        <p:spPr>
          <a:xfrm>
            <a:off x="6324480" y="0"/>
            <a:ext cx="2819520" cy="2819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C:\Users\123\Desktop\фото для презентации\1.jpg"/>
          <p:cNvPicPr/>
          <p:nvPr/>
        </p:nvPicPr>
        <p:blipFill>
          <a:blip r:embed="rId2"/>
          <a:stretch/>
        </p:blipFill>
        <p:spPr>
          <a:xfrm>
            <a:off x="838080" y="380880"/>
            <a:ext cx="4038840" cy="623592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6"/>
          <p:cNvSpPr/>
          <p:nvPr/>
        </p:nvSpPr>
        <p:spPr>
          <a:xfrm>
            <a:off x="3886200" y="4724280"/>
            <a:ext cx="4572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Кто на свете всех мил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И теплом своим согре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Любит больше, чем себ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Это МАМОЧКА мо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5"/>
          <p:cNvSpPr/>
          <p:nvPr/>
        </p:nvSpPr>
        <p:spPr>
          <a:xfrm>
            <a:off x="5867280" y="4419720"/>
            <a:ext cx="2743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Мама любит и жале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Мама поним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Мама всё моя уме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Всё на свете знае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6095880" y="304920"/>
            <a:ext cx="2536920" cy="2971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C:\Users\123\Desktop\фото для презентации\2.jpg"/>
          <p:cNvPicPr/>
          <p:nvPr/>
        </p:nvPicPr>
        <p:blipFill>
          <a:blip r:embed="rId2"/>
          <a:stretch/>
        </p:blipFill>
        <p:spPr>
          <a:xfrm>
            <a:off x="685800" y="533520"/>
            <a:ext cx="4495680" cy="59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5791320" y="380880"/>
            <a:ext cx="2971800" cy="18576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"/>
          <p:cNvSpPr/>
          <p:nvPr/>
        </p:nvSpPr>
        <p:spPr>
          <a:xfrm>
            <a:off x="5105520" y="3503160"/>
            <a:ext cx="3657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Маму я свою люблю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Ей подарок подар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Я подарок сделал с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Из бумаги с крас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Маме я его отда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Обнимая ласко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3" descr="C:\Users\123\Desktop\фото для презентации\WhatsApp Image 2020-11-06 at 21.52.38.jpeg"/>
          <p:cNvPicPr/>
          <p:nvPr/>
        </p:nvPicPr>
        <p:blipFill>
          <a:blip r:embed="rId2"/>
          <a:stretch/>
        </p:blipFill>
        <p:spPr>
          <a:xfrm>
            <a:off x="1143000" y="457200"/>
            <a:ext cx="33670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4876920" y="4419720"/>
            <a:ext cx="426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Я шагаю по дорожк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Но устали мои 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Перепрыгнуть через я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Кто поможет? Знаю – МАМ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6172200" y="228600"/>
            <a:ext cx="2724120" cy="2724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C:\Users\123\Desktop\фото для презентации\3.jpg"/>
          <p:cNvPicPr/>
          <p:nvPr/>
        </p:nvPicPr>
        <p:blipFill>
          <a:blip r:embed="rId2"/>
          <a:stretch/>
        </p:blipFill>
        <p:spPr>
          <a:xfrm>
            <a:off x="533520" y="609480"/>
            <a:ext cx="4181400" cy="55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5"/>
          <p:cNvSpPr/>
          <p:nvPr/>
        </p:nvSpPr>
        <p:spPr>
          <a:xfrm>
            <a:off x="5105520" y="4191120"/>
            <a:ext cx="40384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Кто нес меня в кроватк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Желал спокойной ноч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Шептал мне нежно, сладк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"Спи скорее, дочка!"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- Мамочка мо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"/>
          <p:cNvPicPr/>
          <p:nvPr/>
        </p:nvPicPr>
        <p:blipFill>
          <a:blip r:embed="rId1"/>
          <a:stretch/>
        </p:blipFill>
        <p:spPr>
          <a:xfrm>
            <a:off x="6629400" y="380880"/>
            <a:ext cx="2190600" cy="2190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C:\Users\123\Desktop\фото для презентации\4.jpg"/>
          <p:cNvPicPr/>
          <p:nvPr/>
        </p:nvPicPr>
        <p:blipFill>
          <a:blip r:embed="rId2"/>
          <a:stretch/>
        </p:blipFill>
        <p:spPr>
          <a:xfrm>
            <a:off x="533520" y="380880"/>
            <a:ext cx="440028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5791320" y="380880"/>
            <a:ext cx="2876400" cy="2598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C:\Users\123\Desktop\фото для презентации\7.jpg"/>
          <p:cNvPicPr/>
          <p:nvPr/>
        </p:nvPicPr>
        <p:blipFill>
          <a:blip r:embed="rId2"/>
          <a:stretch/>
        </p:blipFill>
        <p:spPr>
          <a:xfrm>
            <a:off x="380880" y="304920"/>
            <a:ext cx="4876920" cy="487656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5"/>
          <p:cNvSpPr/>
          <p:nvPr/>
        </p:nvSpPr>
        <p:spPr>
          <a:xfrm>
            <a:off x="4267080" y="434340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Кто советом помогал мн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Когда падаешь и больн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И слезинки утирал мн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Говорил: "Не плачь, довольно..."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- Мамочка мо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4572000" y="297180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Кто лелеял моих куко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Шил веселые одеж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Помогал мне их баюка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И играл со мной в игруш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- Мамочка мо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1"/>
          <a:stretch/>
        </p:blipFill>
        <p:spPr>
          <a:xfrm>
            <a:off x="7102440" y="0"/>
            <a:ext cx="2041560" cy="2286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C:\Users\123\Desktop\фото для презентации\9.jpg"/>
          <p:cNvPicPr/>
          <p:nvPr/>
        </p:nvPicPr>
        <p:blipFill>
          <a:blip r:embed="rId2"/>
          <a:srcRect l="0" t="18520" r="0" b="0"/>
          <a:stretch/>
        </p:blipFill>
        <p:spPr>
          <a:xfrm>
            <a:off x="609480" y="457200"/>
            <a:ext cx="388620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23</dc:creator>
  <dc:description/>
  <dc:language>en-US</dc:language>
  <cp:lastModifiedBy>123</cp:lastModifiedBy>
  <dcterms:modified xsi:type="dcterms:W3CDTF">2020-11-16T19:16:41Z</dcterms:modified>
  <cp:revision>17</cp:revision>
  <dc:subject/>
  <dc:title>"Мама - лучшая на свете"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