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13D-87BE-42A5-9D41-7278E4B1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D214-A148-4997-8682-C0376AC5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F49-C345-4718-B0C3-C6DBFBCD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236-3FCF-48DF-B8AF-788119AF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B215-9D31-426C-9437-356A029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A1B-64A0-469A-AB33-813034E4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E1F-A97E-42FE-9375-6179FC31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D27-2E2F-4BE9-9376-EFF99AD7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6B74-D462-44DB-B021-64B298EB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704-F439-4EB2-BC44-301544F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86D-ABF3-47A7-A494-5F24F49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16C-05A3-4F21-89E1-2F996878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cc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8DD1-8D92-4970-8C38-1898BA0D3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3352680"/>
            <a:ext cx="8534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ама , ты одна такая - любимая, родная"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м10"/>
          <p:cNvPicPr/>
          <p:nvPr/>
        </p:nvPicPr>
        <p:blipFill>
          <a:blip r:embed="rId2"/>
          <a:stretch/>
        </p:blipFill>
        <p:spPr>
          <a:xfrm>
            <a:off x="0" y="0"/>
            <a:ext cx="32004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5029200" y="434340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нижки вечером чи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 всегда всё пони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Даже если я упря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Знаю, любит меня М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123\Desktop\фото для презентации\6.jpg"/>
          <p:cNvPicPr/>
          <p:nvPr/>
        </p:nvPicPr>
        <p:blipFill>
          <a:blip r:embed="rId2"/>
          <a:srcRect l="0" t="9213" r="0" b="0"/>
          <a:stretch/>
        </p:blipFill>
        <p:spPr>
          <a:xfrm>
            <a:off x="533520" y="30492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43360" cy="26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Users\123\Desktop\фото для презентации\8.jpg"/>
          <p:cNvPicPr/>
          <p:nvPr/>
        </p:nvPicPr>
        <p:blipFill>
          <a:blip r:embed="rId2"/>
          <a:stretch/>
        </p:blipFill>
        <p:spPr>
          <a:xfrm>
            <a:off x="609480" y="380880"/>
            <a:ext cx="4230720" cy="58676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5"/>
          <p:cNvSpPr/>
          <p:nvPr/>
        </p:nvSpPr>
        <p:spPr>
          <a:xfrm>
            <a:off x="4648320" y="37339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дарок мамочке готов —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Большой-большой букет цветов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рисовал его полдня…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у, поцелуй скорей меня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733920" y="487692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на свете самый чут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е сыскать ей лучшей слав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амый добрый, самый мудр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Ну, конечно, моя м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123\Desktop\фото для презентации\5.jpg"/>
          <p:cNvPicPr/>
          <p:nvPr/>
        </p:nvPicPr>
        <p:blipFill>
          <a:blip r:embed="rId1"/>
          <a:srcRect l="0" t="30003" r="0" b="34001"/>
          <a:stretch/>
        </p:blipFill>
        <p:spPr>
          <a:xfrm>
            <a:off x="609480" y="304920"/>
            <a:ext cx="563904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57200" y="91440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можно чаще говорите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743200" y="3581280"/>
            <a:ext cx="5715000" cy="14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руг другу добрые слова!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438280" y="685800"/>
            <a:ext cx="457200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«Мама» — сколько в этом сл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ежности, заботы и добр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сю любовь и нежность, дорог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Ты нам, детям отд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И за это говорим спасиб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Кланяемся низко, до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И целуем руки трудов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Ласковые, нежные тв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123\Desktop\фото для презентации\1.jpg"/>
          <p:cNvPicPr/>
          <p:nvPr/>
        </p:nvPicPr>
        <p:blipFill>
          <a:blip r:embed="rId2"/>
          <a:stretch/>
        </p:blipFill>
        <p:spPr>
          <a:xfrm>
            <a:off x="838080" y="380880"/>
            <a:ext cx="4038840" cy="6235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3886200" y="47242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то на свете всех ми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 теплом своим согр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Любит больше, чем себ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то МАМОЧК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5867280" y="44197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любит и жал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а всё моя ум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сё на свете зна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536920" cy="297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Users\123\Desktop\фото для презентации\2.jpg"/>
          <p:cNvPicPr/>
          <p:nvPr/>
        </p:nvPicPr>
        <p:blipFill>
          <a:blip r:embed="rId2"/>
          <a:stretch/>
        </p:blipFill>
        <p:spPr>
          <a:xfrm>
            <a:off x="685800" y="533520"/>
            <a:ext cx="44956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105520" y="350316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у я свою люб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Ей подарок под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подарок сделал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з бумаги с кра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Маме я его отд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Обнимая лас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C:\Users\123\Desktop\фото для презентации\WhatsApp Image 2020-11-06 at 21.52.38.jpeg"/>
          <p:cNvPicPr/>
          <p:nvPr/>
        </p:nvPicPr>
        <p:blipFill>
          <a:blip r:embed="rId2"/>
          <a:stretch/>
        </p:blipFill>
        <p:spPr>
          <a:xfrm>
            <a:off x="1143000" y="457200"/>
            <a:ext cx="3367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876920" y="44197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Я шагаю по дорож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Но устали мои 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ерепрыгнуть через я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поможет? Знаю – МА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24120" cy="27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123\Desktop\фото для презентации\3.jpg"/>
          <p:cNvPicPr/>
          <p:nvPr/>
        </p:nvPicPr>
        <p:blipFill>
          <a:blip r:embed="rId2"/>
          <a:stretch/>
        </p:blipFill>
        <p:spPr>
          <a:xfrm>
            <a:off x="533520" y="609480"/>
            <a:ext cx="41814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5105520" y="4191120"/>
            <a:ext cx="403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то нес меня в кроватк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Желал спокойной н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Шептал мне нежно, слад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"Спи скорее, дочка!"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123\Desktop\фото для презентации\4.jpg"/>
          <p:cNvPicPr/>
          <p:nvPr/>
        </p:nvPicPr>
        <p:blipFill>
          <a:blip r:embed="rId2"/>
          <a:stretch/>
        </p:blipFill>
        <p:spPr>
          <a:xfrm>
            <a:off x="533520" y="380880"/>
            <a:ext cx="4400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876400" cy="259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123\Desktop\фото для презентации\7.jpg"/>
          <p:cNvPicPr/>
          <p:nvPr/>
        </p:nvPicPr>
        <p:blipFill>
          <a:blip r:embed="rId2"/>
          <a:stretch/>
        </p:blipFill>
        <p:spPr>
          <a:xfrm>
            <a:off x="380880" y="304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426708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советом помогал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огда падаешь и бо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 слезинки утирал м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Говорил: "Не плачь, довольно..."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0" y="2971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Кто лелеял моих куко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Шил веселые одеж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Помогал мне их баюк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И играл со мной в игр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- Мамочк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7102440" y="0"/>
            <a:ext cx="20415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123\Desktop\фото для презентации\9.jpg"/>
          <p:cNvPicPr/>
          <p:nvPr/>
        </p:nvPicPr>
        <p:blipFill>
          <a:blip r:embed="rId2"/>
          <a:srcRect l="0" t="18520" r="0" b="0"/>
          <a:stretch/>
        </p:blipFill>
        <p:spPr>
          <a:xfrm>
            <a:off x="609480" y="457200"/>
            <a:ext cx="38862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20-11-16T19:16:41Z</dcterms:modified>
  <cp:revision>17</cp:revision>
  <dc:subject/>
  <dc:title>"Мама - лучшая на свете"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